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8F712AE9-5906-4406-A676-38065FB7E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sk tommy to go forward the Java Virtual Machine will first check if the class Turtle has a method forward() and since it doesn’t it will check the class SimpleTurtle which does have this method.  When you ask bruce to go forward() the Java Virtual Machine will first check if the class ConfusedTurtle has the method forward() and since it doesn’t it will check the class Turtle and since that also doesn’t have that method it will check the class SimpleTurtle and find it.  When we ask bruce to turnLeft() it will execute the turnLeft() in ConfusedTurtle which executes super.turnLeft() which will check in Turtle (the parent class) for turnLeft() and then in SimpleTurt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323FD-1272-48C8-A0BB-23A9C0398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AF7F3-8339-4484-8FA2-145C287A4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E402B-A2C6-47A2-8530-E7B65BE76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4D1F7-BA60-4ACE-9CA1-C3DC19715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6B41F-0C1D-4F0B-9630-2A3BFC446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85CF9-4F6A-4D0A-8A31-AC9D83EFD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6ADBD-1E4A-49E1-B82A-F8E71C476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CF02F-9BC8-4AD7-9ABC-B8C0EBB47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11CAE-F39D-493B-B775-A6D1F6620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C98D-34D3-4FF5-A15C-EA9BBFCF9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ABD56-6233-4CDD-8037-E79D3FB5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1222-D910-4306-AF31-2913F2603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4C64-994C-436A-B997-5B4AC2EA5B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ore on Creating Classes</a:t>
            </a:r>
            <a:br>
              <a:rPr sz="4000"/>
            </a:br>
            <a:r>
              <a:rPr b="0" lang="en-US" sz="4000" spc="-1" strike="noStrike">
                <a:solidFill>
                  <a:srgbClr val="333399"/>
                </a:solidFill>
                <a:latin typeface="Arial"/>
              </a:rPr>
              <a:t>part 3</a:t>
            </a:r>
            <a:endParaRPr b="0" lang="en-US" sz="4000" spc="-1" strike="noStrike">
              <a:solidFill>
                <a:srgbClr val="333399"/>
              </a:solidFill>
              <a:latin typeface="Arial"/>
            </a:endParaRPr>
          </a:p>
        </p:txBody>
      </p:sp>
      <p:sp>
        <p:nvSpPr>
          <p:cNvPr id="50" name="PlaceHolder 2"/>
          <p:cNvSpPr>
            <a:spLocks noGrp="1"/>
          </p:cNvSpPr>
          <p:nvPr>
            <p:ph type="subTitle"/>
          </p:nvPr>
        </p:nvSpPr>
        <p:spPr>
          <a:xfrm>
            <a:off x="121932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this Out</a:t>
            </a:r>
            <a:endParaRPr b="0" lang="en-US" sz="3600" spc="-1" strike="noStrike">
              <a:solidFill>
                <a:srgbClr val="333399"/>
              </a:solidFill>
              <a:latin typeface="Arial"/>
            </a:endParaRPr>
          </a:p>
        </p:txBody>
      </p:sp>
      <p:sp>
        <p:nvSpPr>
          <p:cNvPr id="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ConfusedTurt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comp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it 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ask just like a Turtle ob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et it to turn left when asked to turn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when asked to turn lef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uper.turnLeft() and super.turnRigh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 is a keyword that means the parent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solving Methods </a:t>
            </a:r>
            <a:endParaRPr b="0" lang="en-US" sz="3600" spc="-1" strike="noStrike">
              <a:solidFill>
                <a:srgbClr val="333399"/>
              </a:solidFill>
              <a:latin typeface="Arial"/>
            </a:endParaRPr>
          </a:p>
        </p:txBody>
      </p:sp>
      <p:sp>
        <p:nvSpPr>
          <p:cNvPr id="70"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method is invoked (called) on an obje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 that created the object is checked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if it has the method defined in it</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o it is executed</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se the parent of the class that created the object is checked for the method</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so on until the method is found</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 means start checking with the parent of the class that created the object</a:t>
            </a:r>
            <a:endParaRPr b="0" lang="en-US" sz="2400" spc="-1" strike="noStrike">
              <a:solidFill>
                <a:srgbClr val="000000"/>
              </a:solidFill>
              <a:latin typeface="Arial"/>
            </a:endParaRPr>
          </a:p>
        </p:txBody>
      </p:sp>
      <p:sp>
        <p:nvSpPr>
          <p:cNvPr id="71" name=""/>
          <p:cNvSpPr/>
          <p:nvPr/>
        </p:nvSpPr>
        <p:spPr>
          <a:xfrm>
            <a:off x="6019920" y="3581280"/>
            <a:ext cx="1752480" cy="1202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Squ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String()</a:t>
            </a:r>
            <a:endParaRPr b="0" lang="en-US" sz="1800" spc="-1" strike="noStrike">
              <a:solidFill>
                <a:srgbClr val="000000"/>
              </a:solidFill>
              <a:latin typeface="Arial"/>
            </a:endParaRPr>
          </a:p>
        </p:txBody>
      </p:sp>
      <p:sp>
        <p:nvSpPr>
          <p:cNvPr id="72" name=""/>
          <p:cNvSpPr/>
          <p:nvPr/>
        </p:nvSpPr>
        <p:spPr>
          <a:xfrm>
            <a:off x="6019920" y="39625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486400" y="1066680"/>
            <a:ext cx="2590920" cy="2037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Le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R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String()</a:t>
            </a:r>
            <a:endParaRPr b="0" lang="en-US" sz="1800" spc="-1" strike="noStrike">
              <a:solidFill>
                <a:srgbClr val="000000"/>
              </a:solidFill>
              <a:latin typeface="Arial"/>
            </a:endParaRPr>
          </a:p>
        </p:txBody>
      </p:sp>
      <p:sp>
        <p:nvSpPr>
          <p:cNvPr id="74" name=""/>
          <p:cNvSpPr/>
          <p:nvPr/>
        </p:nvSpPr>
        <p:spPr>
          <a:xfrm>
            <a:off x="5486400" y="14479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943600" y="5181480"/>
            <a:ext cx="2590920" cy="1202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sed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Le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Right()</a:t>
            </a:r>
            <a:endParaRPr b="0" lang="en-US" sz="1800" spc="-1" strike="noStrike">
              <a:solidFill>
                <a:srgbClr val="000000"/>
              </a:solidFill>
              <a:latin typeface="Arial"/>
            </a:endParaRPr>
          </a:p>
        </p:txBody>
      </p:sp>
      <p:sp>
        <p:nvSpPr>
          <p:cNvPr id="76" name=""/>
          <p:cNvSpPr/>
          <p:nvPr/>
        </p:nvSpPr>
        <p:spPr>
          <a:xfrm>
            <a:off x="5943600" y="55627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6781680" y="335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53080" y="3124080"/>
            <a:ext cx="38124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9" name=""/>
          <p:cNvSpPr/>
          <p:nvPr/>
        </p:nvSpPr>
        <p:spPr>
          <a:xfrm flipV="1">
            <a:off x="6858000" y="5028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629400" y="4800600"/>
            <a:ext cx="38088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olymorphism</a:t>
            </a:r>
            <a:endParaRPr b="0" lang="en-US" sz="3600" spc="-1" strike="noStrike">
              <a:solidFill>
                <a:srgbClr val="333399"/>
              </a:solidFill>
              <a:latin typeface="Arial"/>
            </a:endParaRPr>
          </a:p>
        </p:txBody>
      </p:sp>
      <p:sp>
        <p:nvSpPr>
          <p:cNvPr id="8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s many f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for processing of an object based on the object’s ty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n be declared in a parent cla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edefined (overriden) by the subclass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or run-time binding will make sure the correct method gets ru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type of object it was called on at run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fused Turtle turnLeft and turnRight</a:t>
            </a:r>
            <a:endParaRPr b="0" lang="en-US" sz="3600" spc="-1" strike="noStrike">
              <a:solidFill>
                <a:srgbClr val="333399"/>
              </a:solidFill>
              <a:latin typeface="Arial"/>
            </a:endParaRPr>
          </a:p>
        </p:txBody>
      </p:sp>
      <p:sp>
        <p:nvSpPr>
          <p:cNvPr id="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turn left (but confused turt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urn rig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turnLef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turnRig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turn right (but confused turt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urn lef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turnRig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turnLef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out ConfusedTurtle</a:t>
            </a:r>
            <a:endParaRPr b="0" lang="en-US" sz="3600" spc="-1" strike="noStrike">
              <a:solidFill>
                <a:srgbClr val="333399"/>
              </a:solidFill>
              <a:latin typeface="Arial"/>
            </a:endParaRPr>
          </a:p>
        </p:txBody>
      </p:sp>
      <p:sp>
        <p:nvSpPr>
          <p:cNvPr id="8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urtle tommy = new Turtle(ear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ommy.for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ommy.turnLef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ConfusedTurtle bruce = new ConfusedTurtle(ear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bruce.back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bruce.turnLef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bruce.for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ommy.for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ommy.turnRig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bruce.turnRigh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verride Methods</a:t>
            </a:r>
            <a:endParaRPr b="0" lang="en-US" sz="3600" spc="-1" strike="noStrike">
              <a:solidFill>
                <a:srgbClr val="333399"/>
              </a:solidFill>
              <a:latin typeface="Arial"/>
            </a:endParaRPr>
          </a:p>
        </p:txBody>
      </p:sp>
      <p:sp>
        <p:nvSpPr>
          <p:cNvPr id="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lasses inherit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used turtle knows how to go forward and backwar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t inherits these from Turtl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an override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method with the same name and parameter list as a parent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will be called instead of the parent method</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turnLeft and turnR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Happening?</a:t>
            </a:r>
            <a:endParaRPr b="0" lang="en-US" sz="3600" spc="-1" strike="noStrike">
              <a:solidFill>
                <a:srgbClr val="333399"/>
              </a:solidFill>
              <a:latin typeface="Arial"/>
            </a:endParaRPr>
          </a:p>
        </p:txBody>
      </p:sp>
      <p:sp>
        <p:nvSpPr>
          <p:cNvPr id="9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an object is asked to execute a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irst checks the class that created the object to see if the method is defined in that cla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it will execute that meth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n’t, it will next check the parent class of the class that created i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execute that method if one if foun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method with that name and parameter list is found it will check that classes parent</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keep going till it finds the method</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thod Overloading</a:t>
            </a:r>
            <a:endParaRPr b="0" lang="en-US" sz="3600" spc="-1" strike="noStrike">
              <a:solidFill>
                <a:srgbClr val="333399"/>
              </a:solidFill>
              <a:latin typeface="Arial"/>
            </a:endParaRPr>
          </a:p>
        </p:txBody>
      </p:sp>
      <p:sp>
        <p:nvSpPr>
          <p:cNvPr id="92" name=""/>
          <p:cNvSpPr/>
          <p:nvPr/>
        </p:nvSpPr>
        <p:spPr>
          <a:xfrm>
            <a:off x="4267080" y="4952880"/>
            <a:ext cx="2895840" cy="1202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sed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Le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Right()</a:t>
            </a:r>
            <a:endParaRPr b="0" lang="en-US" sz="1800" spc="-1" strike="noStrike">
              <a:solidFill>
                <a:srgbClr val="000000"/>
              </a:solidFill>
              <a:latin typeface="Arial"/>
            </a:endParaRPr>
          </a:p>
        </p:txBody>
      </p:sp>
      <p:sp>
        <p:nvSpPr>
          <p:cNvPr id="93" name=""/>
          <p:cNvSpPr/>
          <p:nvPr/>
        </p:nvSpPr>
        <p:spPr>
          <a:xfrm>
            <a:off x="1891800" y="5522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ce</a:t>
            </a:r>
            <a:endParaRPr b="0" lang="en-US" sz="1800" spc="-1" strike="noStrike">
              <a:solidFill>
                <a:srgbClr val="000000"/>
              </a:solidFill>
              <a:latin typeface="Arial"/>
            </a:endParaRPr>
          </a:p>
        </p:txBody>
      </p:sp>
      <p:sp>
        <p:nvSpPr>
          <p:cNvPr id="94" name=""/>
          <p:cNvSpPr/>
          <p:nvPr/>
        </p:nvSpPr>
        <p:spPr>
          <a:xfrm flipH="1" flipV="1">
            <a:off x="2590560" y="54100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91120" y="3657600"/>
            <a:ext cx="2895480" cy="785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Square()</a:t>
            </a:r>
            <a:endParaRPr b="0" lang="en-US" sz="1800" spc="-1" strike="noStrike">
              <a:solidFill>
                <a:srgbClr val="000000"/>
              </a:solidFill>
              <a:latin typeface="Arial"/>
            </a:endParaRPr>
          </a:p>
        </p:txBody>
      </p:sp>
      <p:sp>
        <p:nvSpPr>
          <p:cNvPr id="96" name=""/>
          <p:cNvSpPr/>
          <p:nvPr/>
        </p:nvSpPr>
        <p:spPr>
          <a:xfrm>
            <a:off x="1814400" y="39225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my</a:t>
            </a:r>
            <a:endParaRPr b="0" lang="en-US" sz="1800" spc="-1" strike="noStrike">
              <a:solidFill>
                <a:srgbClr val="000000"/>
              </a:solidFill>
              <a:latin typeface="Arial"/>
            </a:endParaRPr>
          </a:p>
        </p:txBody>
      </p:sp>
      <p:sp>
        <p:nvSpPr>
          <p:cNvPr id="97" name=""/>
          <p:cNvSpPr/>
          <p:nvPr/>
        </p:nvSpPr>
        <p:spPr>
          <a:xfrm flipH="1" flipV="1">
            <a:off x="2514240" y="36576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594360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791320" y="4419720"/>
            <a:ext cx="304560" cy="3045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114800" y="1066680"/>
            <a:ext cx="2895480" cy="2037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Le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Right()</a:t>
            </a:r>
            <a:endParaRPr b="0" lang="en-US" sz="1800" spc="-1" strike="noStrike">
              <a:solidFill>
                <a:srgbClr val="000000"/>
              </a:solidFill>
              <a:latin typeface="Arial"/>
            </a:endParaRPr>
          </a:p>
        </p:txBody>
      </p:sp>
      <p:sp>
        <p:nvSpPr>
          <p:cNvPr id="101" name=""/>
          <p:cNvSpPr/>
          <p:nvPr/>
        </p:nvSpPr>
        <p:spPr>
          <a:xfrm>
            <a:off x="5486400" y="3048120"/>
            <a:ext cx="304920" cy="3045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638680" y="3352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454400" y="2743200"/>
            <a:ext cx="124740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04" name=""/>
          <p:cNvSpPr/>
          <p:nvPr/>
        </p:nvSpPr>
        <p:spPr>
          <a:xfrm>
            <a:off x="2209680" y="3505320"/>
            <a:ext cx="1981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2280" y="4495680"/>
            <a:ext cx="223812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Confused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06" name=""/>
          <p:cNvSpPr/>
          <p:nvPr/>
        </p:nvSpPr>
        <p:spPr>
          <a:xfrm>
            <a:off x="152388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114800" y="14479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191120" y="40384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267080" y="533412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s</a:t>
            </a:r>
            <a:endParaRPr b="0" lang="en-US" sz="3600" spc="-1" strike="noStrike">
              <a:solidFill>
                <a:srgbClr val="333399"/>
              </a:solidFill>
              <a:latin typeface="Arial"/>
            </a:endParaRPr>
          </a:p>
        </p:txBody>
      </p:sp>
      <p:sp>
        <p:nvSpPr>
          <p:cNvPr id="11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DizzyTurtle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urns a bit to the left and goes forward when asked to go forw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urns a bit to the right and goes backward when asked to go backwar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lowTurtle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only goes forward and backward by 50 instead of 100 if you don’t tell it how much to go forward or backwar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tubbornTurtle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50% chance of doing what you a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1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extends keyword to specify the parent clas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declare a cla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ConfusedTurtle extends Turt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inherits methods and fields from a parent clas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esn’t have direct access to private fields and method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mplicit call to the no-arg parent constructor will be add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n’t a call to super(paramList) as the first line of code in a child constructo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override a parent metho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lled instead of the parent method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method name and parameter list as a parent method</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can invoked a parent’s metho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methodName(paramList);</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concep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ing from a 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licit call to sup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ing parent constructors explicitl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riding a parent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ethods invocations are resolv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n Inherited Clas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lass ConfusedTurtle that inherits from the 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n a ConfusedTurtle object is asked to turn left, it should turn righ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hen a ConfusedTurtle object is asked to turn right, it should turn lef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ing from a Clas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herit from another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extends ClassName to the class decla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ConfusedTurtle extends Turt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in ConfusedTurtle.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compile i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ile Error?</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ry to compile ConfusedTurtle you will get a compiler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cannot resolve symb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 constructor Tur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class Turt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get this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ed Constructors</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one class inherits from another all constructors in the child class will have an implicit call to the no-argument parent constructor as the first line of code in the child construc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n explicit call to a parent constructor is there as the first line of cod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uper(paramLi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y is an Implicit Call to Super Added?</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are inherited from a parent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fields should be declared priv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ublic, protected, or package visibilit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e control over field at the class level the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n subclasses can’t access fields direc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initialize inherited fiel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alling the parent constructor that initializes them</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param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planation of the Compile Error</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constructors in ConfusedTurt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 no-argument one is added for you</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call to sup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Turtle class doesn’t have a no-argument construct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nstructors take a world to put the turtle i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e need to add a constructor to </a:t>
            </a:r>
            <a:br>
              <a:rPr sz="2800"/>
            </a:br>
            <a:r>
              <a:rPr b="0" lang="en-US" sz="2800" spc="-1" strike="noStrike">
                <a:solidFill>
                  <a:srgbClr val="000000"/>
                </a:solidFill>
                <a:latin typeface="Arial"/>
              </a:rPr>
              <a:t>ConfusedTurt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akes a world to add the turtle to</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all super(the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Constructor that takes a World</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ConfusedTurtle extends Turt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 that takes a world 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s the parent construc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theWorld the world to put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fused turtle 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ConfusedTurtle(World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er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5-11-15T14:12:03Z</dcterms:modified>
  <cp:revision>1293</cp:revision>
  <dc:subject/>
  <dc:title>Summer Institute for Computing Education</dc:title>
</cp:coreProperties>
</file>