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E86CBAF1-7A18-4742-B041-399F575D0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trying to find the method to be invoked on an object always start with the class that created the object.  If you don't find the method there check the parent class of the class that created the object.  It doesn't matter what the object is declared as it matters what class created it.  Objects always know what class created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39448-FB33-44AC-B8AC-B439DA8EB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176F3-9D5F-4D1B-93CD-1BBE81022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A9DD9-58CC-4ACF-8891-D2264ECB1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4B1DD-2C9B-4952-8FC3-D59C5721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3916-FFF2-462D-B7D2-8302616A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E3D28-0117-4C16-999F-8BACE604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26E2A-07E9-4F92-B4A4-651392C5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6B2A-69F3-4551-95CE-FF0B26AD9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0DFF-8778-4229-BCBF-6F2B787A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AA87-501A-4F94-8B29-580CF150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DBCAE-C729-4C55-952B-9DA83DBD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A83A-3950-437D-9B1F-597508F16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2192-D7D3-4FD1-BDF6-196F8FAABE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on Creating Classes</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n Import and a Field</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import statement before the class declaration</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ort java.util.Random;</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NumberGuessGa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new field for the random number generator</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t numGuesses = 0;</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Random randomNumGen = new Ra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Constructors</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ors actually initialize the new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set field values for the ob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user doesn’t specify a min and max nu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defaults and pick a random number between the min and 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nother constructor that let’s  the user specify the min and max</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Constructors</a:t>
            </a:r>
            <a:endParaRPr b="0" lang="en-US" sz="3600" spc="-1" strike="noStrike">
              <a:solidFill>
                <a:srgbClr val="333399"/>
              </a:solidFill>
              <a:latin typeface="Arial"/>
            </a:endParaRPr>
          </a:p>
        </p:txBody>
      </p:sp>
      <p:sp>
        <p:nvSpPr>
          <p:cNvPr id="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clare a constructor</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he visibility and the name of the class followed by a parameter list</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a:t>
            </a:r>
            <a:r>
              <a:rPr b="0" i="1" lang="en-US" sz="2800" spc="-1" strike="noStrike">
                <a:solidFill>
                  <a:srgbClr val="000000"/>
                </a:solidFill>
                <a:latin typeface="Arial"/>
              </a:rPr>
              <a:t>ClassName</a:t>
            </a:r>
            <a:r>
              <a:rPr b="0" lang="en-US" sz="2800" spc="-1" strike="noStrike">
                <a:solidFill>
                  <a:srgbClr val="000000"/>
                </a:solidFill>
                <a:latin typeface="Arial"/>
              </a:rPr>
              <a:t>(</a:t>
            </a:r>
            <a:r>
              <a:rPr b="0" i="1" lang="en-US" sz="2800" spc="-1" strike="noStrike">
                <a:solidFill>
                  <a:srgbClr val="000000"/>
                </a:solidFill>
                <a:latin typeface="Arial"/>
              </a:rPr>
              <a:t>parameterList</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eclare more than one constructor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long as the parameter lists are different</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NumberGuessGame()</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NumberGuessGame(int min, int m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o Argument Constructor</a:t>
            </a:r>
            <a:endParaRPr b="0" lang="en-US" sz="3600" spc="-1" strike="noStrike">
              <a:solidFill>
                <a:srgbClr val="333399"/>
              </a:solidFill>
              <a:latin typeface="Arial"/>
            </a:endParaRPr>
          </a:p>
        </p:txBody>
      </p:sp>
      <p:sp>
        <p:nvSpPr>
          <p:cNvPr id="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tructor that takes no paramet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t uses the default min and ma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NumberGuessG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Values = this.maxNumber - this.minNumber + 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pickedNumber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randomNumGen.nextInt(numValu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pickedNumber = this.pickedNumber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minNumb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structor with a Min and Max</a:t>
            </a:r>
            <a:endParaRPr b="0" lang="en-US" sz="3600" spc="-1" strike="noStrike">
              <a:solidFill>
                <a:srgbClr val="333399"/>
              </a:solidFill>
              <a:latin typeface="Arial"/>
            </a:endParaRPr>
          </a:p>
        </p:txBody>
      </p:sp>
      <p:sp>
        <p:nvSpPr>
          <p:cNvPr id="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min and max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t uses the passed min and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min the minimum number in the ran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max the maximum number in the ran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NumberGuessGame(int min, int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inNumber = m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axNumber =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umValues = this.maxNumber - this.minNumber +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randomNumGen.nextInt(numValu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pickedNumber + this.minNumb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ull out a Method</a:t>
            </a:r>
            <a:endParaRPr b="0" lang="en-US" sz="3600" spc="-1" strike="noStrike">
              <a:solidFill>
                <a:srgbClr val="333399"/>
              </a:solidFill>
              <a:latin typeface="Arial"/>
            </a:endParaRPr>
          </a:p>
        </p:txBody>
      </p:sp>
      <p:sp>
        <p:nvSpPr>
          <p:cNvPr id="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Constructors need to pick a random number using the minimum and maxim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pull out this common code and make a method for i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void pickNumb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n call the method in each constru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 a Number Method</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NumberGuessGame(int min, int m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inNumber = m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axNumber = m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Numb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public void pickNumb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umValues = this.maxNumber - this.minNumber +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randomNumGen.nextInt(numValu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pickedNumber + this.minNumb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method to play the game</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void playG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olean done = fa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loop till guess is corr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 (!do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eed to get a guess from the us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guess = SimpleInput.getIntNumber("Pick a numb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tween " + this.minNumber + " and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max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ment the number of gues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numGues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e need to check the guess (compare to pickedNu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guess == this.picked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ay </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ell the user she/he was righ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hat was righ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took you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numGuesses + " tr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ne = tr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if (guess &lt; this.picked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e need to tell the user too 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oo 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ell the user the guess is too hig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oo hig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main method</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GuessGame game = new NumberGuessGa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playGa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oncept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cla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fiel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number genera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construct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oading construc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ccessors and modifi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main metho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ing from a cla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parent construc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riding a parent method</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andom Sentence Generator Exercise</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class that can generate random sent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class SentenceGenera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as an array of nou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verb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 array of phras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method generate sentence which will return a String object that has a randomly selected noun, verb, and phrase appended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Slow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SlowTurtle object is asked to go forward (without any parameters) it will only go forward 50 instead of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you ask it to go forward with a passed amount it will go forward only half that am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low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Slow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Slow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constructors in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 no-argument one is added for you</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all to supe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Turtle class doesn’t have a no-argument construct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structors take a world to put the turtle i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e need to add a constructor to </a:t>
            </a:r>
            <a:br>
              <a:rPr sz="3200"/>
            </a:br>
            <a:r>
              <a:rPr b="0" lang="en-US" sz="3200" spc="-1" strike="noStrike">
                <a:solidFill>
                  <a:srgbClr val="000000"/>
                </a:solidFill>
                <a:latin typeface="Arial"/>
              </a:rPr>
              <a:t>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takes a world to add the turtle t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all super(the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1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low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low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low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ct just like a Turtle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go forward the correct amou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are overriding the forward(int amount) 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per.forward(amount); which calls the parent's forward(int amou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lowTurtle forward methods</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by a passed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will actually go forward by half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param amount the amount to go forward b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in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amount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without a 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  It will go forward by 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mulating a Number Guess Gam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played the pick a number from 1-10 or 1-100 g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son randomly picks a number in the specified 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person guesses a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 who picked the number repli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f the guess is too lo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if the guess is too hig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at is right if the guess is the picked numb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also track the number of gues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SlowTurtle</a:t>
            </a:r>
            <a:endParaRPr b="0" lang="en-US" sz="3600" spc="-1" strike="noStrike">
              <a:solidFill>
                <a:srgbClr val="333399"/>
              </a:solidFill>
              <a:latin typeface="Arial"/>
            </a:endParaRPr>
          </a:p>
        </p:txBody>
      </p:sp>
      <p:sp>
        <p:nvSpPr>
          <p:cNvPr id="10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World earth = new Worl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tasha = new 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sasha = new Slow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5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1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turtle knows how to turn righ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is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forward() and forward(int am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irst checks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it will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xecute that method if one if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it will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keep going till it finds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114" name=""/>
          <p:cNvSpPr/>
          <p:nvPr/>
        </p:nvSpPr>
        <p:spPr>
          <a:xfrm>
            <a:off x="4267080" y="4648320"/>
            <a:ext cx="289584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p:txBody>
      </p:sp>
      <p:sp>
        <p:nvSpPr>
          <p:cNvPr id="115" name=""/>
          <p:cNvSpPr/>
          <p:nvPr/>
        </p:nvSpPr>
        <p:spPr>
          <a:xfrm>
            <a:off x="1891440" y="55227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ha</a:t>
            </a:r>
            <a:endParaRPr b="0" lang="en-US" sz="1800" spc="-1" strike="noStrike">
              <a:solidFill>
                <a:srgbClr val="000000"/>
              </a:solidFill>
              <a:latin typeface="Arial"/>
            </a:endParaRPr>
          </a:p>
        </p:txBody>
      </p:sp>
      <p:sp>
        <p:nvSpPr>
          <p:cNvPr id="116"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191120" y="3276720"/>
            <a:ext cx="2895480" cy="84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Square()</a:t>
            </a:r>
            <a:endParaRPr b="0" lang="en-US" sz="1400" spc="-1" strike="noStrike">
              <a:solidFill>
                <a:srgbClr val="000000"/>
              </a:solidFill>
              <a:latin typeface="Arial"/>
            </a:endParaRPr>
          </a:p>
        </p:txBody>
      </p:sp>
      <p:sp>
        <p:nvSpPr>
          <p:cNvPr id="118" name=""/>
          <p:cNvSpPr/>
          <p:nvPr/>
        </p:nvSpPr>
        <p:spPr>
          <a:xfrm>
            <a:off x="1815120" y="39225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a:t>
            </a:r>
            <a:endParaRPr b="0" lang="en-US" sz="1800" spc="-1" strike="noStrike">
              <a:solidFill>
                <a:srgbClr val="000000"/>
              </a:solidFill>
              <a:latin typeface="Arial"/>
            </a:endParaRPr>
          </a:p>
        </p:txBody>
      </p:sp>
      <p:sp>
        <p:nvSpPr>
          <p:cNvPr id="119"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5943600" y="4419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791320" y="4114800"/>
            <a:ext cx="304560" cy="3049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114800" y="1143000"/>
            <a:ext cx="2895480" cy="181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Le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Right()</a:t>
            </a:r>
            <a:endParaRPr b="0" lang="en-US" sz="1400" spc="-1" strike="noStrike">
              <a:solidFill>
                <a:srgbClr val="000000"/>
              </a:solidFill>
              <a:latin typeface="Arial"/>
            </a:endParaRPr>
          </a:p>
        </p:txBody>
      </p:sp>
      <p:sp>
        <p:nvSpPr>
          <p:cNvPr id="123" name=""/>
          <p:cNvSpPr/>
          <p:nvPr/>
        </p:nvSpPr>
        <p:spPr>
          <a:xfrm>
            <a:off x="5257800" y="28954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4" name=""/>
          <p:cNvSpPr/>
          <p:nvPr/>
        </p:nvSpPr>
        <p:spPr>
          <a:xfrm>
            <a:off x="5410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6" name=""/>
          <p:cNvSpPr/>
          <p:nvPr/>
        </p:nvSpPr>
        <p:spPr>
          <a:xfrm>
            <a:off x="2209680" y="35053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93000" y="4495680"/>
            <a:ext cx="17413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Slow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8"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Stubborn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has a 50% chance of doing what you 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n object of the Random class from java.util to get a number between 0 and 1 us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Doub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eck if the random number is greater than .5 and if so call the parent method to do the 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progra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interacting objec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define and create obj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ain the fields, constructors, and method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ethods are called accessor and modifier methods since they give you access to private fields and let you modify private field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herits methods and fields from a parent clas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n’t have direct access to private fields and method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mplicit call to the no-arg parent constructor will be add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n’t a call to super(paramList) as the first line of code in a child constructo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override a parent meth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lled instead of the parent method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same method name and parameter list as a parent metho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invoke a parent meth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uper.methodName(paramLis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do we need?</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a new class.  For each game we will create a new object of this clas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now the minimum number that it can pick fr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now the maximum number that it can pick fr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pick a number in that rang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ask the user for a guess and compare the guess to the picked numbe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ply higher, lower, or  that is right when the guess matches the picked numbe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eep track of how many guesses have been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e the NumberGuessGame Class</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by creating a new class in DrJav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Untitled) in the Files pane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New” button in the menu b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the following in the definitions pane in DrJava</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NumberGuessGa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it in NumberGuessGame.ja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t using the “Compile All” butt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reates NumberGuessGame.cl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Field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are the data that each object of the class should ha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field should be priv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ssign a value to a field when you declare i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umber guess game should ha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nimum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minNumber = 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ximum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maxNumber = 100;</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ked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pickedNumbe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guesses so fa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numGuesses = 0;</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the Fields</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NumberGuessGame and add the field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NumberGuessGam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ields (data)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minNumber = 1;</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maxNumber = 1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pickedNumb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numGuesses = 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ing a Random Numbe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ass in Java that allows you to pick a pseudo random nu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util.Rand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want to import this class to use the short nam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java.util.Random; // before the class defini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an object of this class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randomNumGen = new Rando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random number from 0 to one less than a specified integer</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randomNum = randomNumGen.nextInt(specified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ing from a Min to a Max</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andom class returns from 0 to 1 less than a specified integ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pick from the minimum to the maximum?</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what the minimum and maximum ar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a number from 1 to 10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10 value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pick from 0 to 10 (returns 0 to 9)</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dd 1 to the result (results in 1 to 10)</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a number from 11 to 15</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5 value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pick from 0 to 5 (returns 0 to 4)</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11 to the result (results in 11 to 15)</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in any rang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int numValues = this.maxNumber – this.minNumber + 1;</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pickedNumber = this.randomNumGen(numValue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pickedNumber = this.pickedNumber + this.min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6-04T18:09:38Z</dcterms:modified>
  <cp:revision>1267</cp:revision>
  <dc:subject/>
  <dc:title>Summer Institute for Computing Education</dc:title>
</cp:coreProperties>
</file>