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55980882-AE40-4C88-88E9-F244AAEAA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L means Uniform Modeling Language.  This diagram shows that both the Student class and ClassPeriod class inherit from Object and that a ClassPeriod object has 0 to many Student objects associated with it.  It also shows that a Student object has 5 to 8 ClassPeriod objects associated wit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comments to constructors that are like the method comments.  Just realize the constructors don’t return any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95F-1C05-4032-9242-1C98B75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E47-8476-430D-B765-B78CD763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9DE-C6BD-4089-AD4E-CDE530BE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167-8864-41A7-BDB0-3858B4C2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BB9-A5FE-4AD5-9821-83BE687B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6F8-9876-423C-B809-3457C11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0F9-7635-4861-B8A2-A7FD41D8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071-C7C6-4CA3-9A61-F9DE2D9B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AD4-F4E0-4677-B221-7D0ABBD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79D-1511-4227-9148-7767636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0A6-19BB-427F-B415-433615C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E50-649E-4215-9B58-397A246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F51C-7C21-4F9F-AAE1-2D4AEBB6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4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ML Class Dia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standard way to diagram object-orient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UM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ws the classes as boxes and the relationships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533760" cy="169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09480" y="4419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24280" y="47242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2040" y="57513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or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419720" y="5334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a ClassPeriod cla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fields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’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in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should each of thes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me can be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iod number can be an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s in the period can be an array of Stude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max of 35 students in a class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Clas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e a new class ClassPeriod in the file ClassPeriod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f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tring teacher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periodNumb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tudent[] studentArray = new Student[35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Class Exercise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nstructors to Class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no argument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constructor that takes the teacher’s name and the perio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constructors are declared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Name(param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ccessors and Modifi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ethods to get and set the fields in the class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tring getTeacherNa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his.teacher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setTeacherName(String the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teacherName = the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ride toSt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following method to Class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ring toString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de to the method to return a String with the teacher’s name, the period number, and the number of students in the class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ngth of the array isn’t a count of the actual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out how many in the array are no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are added to make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read and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are ignored by the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ypes of comments i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end of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 multi lin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* java doc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doc is a utility that comes with the jd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HTML documentation from Javadoc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is a standard way to diagram object-oriente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ass diagram shows classes and the relationship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dd com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dd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eview HTML 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reate HTML for all classes in a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noth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UML to show classes and the relationships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add comments to your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t easier to read and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re ignored by the comp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dded to the byt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3 kinds of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 comment ends at the end of thi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comment ends with next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* Javadoc comment that ends with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by the javadoc utility to create HTML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doc Com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comment before the class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xplains the purpose of thi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ays who wrot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author Barb Eric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lass that describes a student.  A student h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ame and an array of grades.  You can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nformation about a student such as her/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ame and grad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@author Barb Eric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 Com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comment before eac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parameter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param nam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return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Method to set the name for this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@param theName the new name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@return true if success else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boolean setName(String the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viewing Javadoc HTM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Preview Javadoc for Current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generate the HTML from the javadoc comments and display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TML document will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ting all HTML for Directo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 click on the Javadoc but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the HTML 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Javadoc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generate HTML for all files in the same directory as all ope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n index.html as a 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doc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class javadoc comment and method javadoc comments to the Stud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Javadoc and check out the create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ClassPeri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acher has students in each class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iod can have different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lass period we might want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’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io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s in tha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9:05:09Z</dcterms:modified>
  <cp:revision>1149</cp:revision>
  <dc:subject/>
  <dc:title>Summer Institute for Computing Education</dc:title>
</cp:coreProperties>
</file>