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BB0-20FE-4320-9FFD-249DECD8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46A7-C01B-4425-A382-65E0B531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8862-6876-4A71-9DC2-B5064688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148-FFD0-4430-B794-B3AD3B71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96C-2BFB-4B05-A422-CF800A57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9F3-9D60-45C3-AB19-79190949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FED5-8E85-4A2F-AE8D-05E052D9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32B-017B-44B8-BE8A-7D3919AC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5539-D3E4-45D4-BCE4-5A212EE3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2CB8-8797-4EA8-B45E-93AD2CD3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CA1E-D898-4D60-B582-FBA94CA4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7D5-653B-4EF9-A9D1-9298E3E2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61DF-0CE0-4344-90A4-29987F445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re on Creating Classe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art 2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 a main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GuessGame game = new NumberGuessGa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me.playGa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andom Sentence Generator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class that can generate random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class Sentence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has an array of nou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rray of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n array of 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 method generate sentence which will return a String object that has a randomly selected noun, verb, and phrase append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ore than one constructor needs to do the same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out the common thing and put it in a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all the method in the constr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get input from the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imple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display output to the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imple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random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ling out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called by the constr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impleInput class from Georgia 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ing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impleOutput class from Georgia 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ng random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rrays of nouns, verbs, and 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ull out a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Constructors need to pick a random number using the minimum and max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pull out this common code and make a method for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void pickNumber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n call the method in each co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ick a Number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NumberGuessGame(int min, int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minNumber = mi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maxNumber = ma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pickNumber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pickNumb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numValues = this.maxNumber - this.minNumber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pickedNumber = this.randomNumGen.nextInt(numValue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pickedNumber = this.pickedNumber + this.minNumb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eed a Method to Play the Ga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 variable to not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while not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current gu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the number of gu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the guess was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o tell the user the guess was right and how many guesses it t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a variable (done) to stop 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the guess was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th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the guess was too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th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eed a Way to Interact with Us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SimpleInput class for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by Georgia 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method getIntNumber(String mess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will display the message in a pop-up window and return an integer number entered by th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SimpleOutput class for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by Georgia 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method showInformation(String message) which will display the output in a pop-up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ait for the user to push a button to show it has been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oing from Algorithm to Co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a variable to not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 while not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the current 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 the number of gu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if the guess was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o tell the user the guess was right and how many guesses it t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a variable (done) to stop th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check if the guess was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l the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the guess was too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l the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boolean done variable and set it to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while loop that loops as long as the done isn’t tr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!d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imple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 variable 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Guesses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guess == pickedNu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impleOutput and numGu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done to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if (guess &lt; pickedNu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886200" y="1371600"/>
            <a:ext cx="8380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1752480"/>
            <a:ext cx="121932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2057400"/>
            <a:ext cx="106704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2362320"/>
            <a:ext cx="9144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895480"/>
            <a:ext cx="53316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3581280"/>
            <a:ext cx="12193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4114800"/>
            <a:ext cx="12956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4495680"/>
            <a:ext cx="6094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5181480"/>
            <a:ext cx="6094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 a method to play the ga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void playGam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ean done 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loop till guess is cor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le (!d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need to get a guess from the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guess = SimpleInput.getIntNumber("Pick a number "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between " + this.minNumber + " and "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.maxNumb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increment the number of gu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.numGuesses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we need to check the guess (compare to pickedNu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guess == this.pickedNumb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lay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tell the user she/he wa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Output.showInformation("That was right! "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It took you "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.numGuesses + " tries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 if (guess &lt; this.pickedNumb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we need to tell the user too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Output.showInformation("Too low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tell the user the guess is too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Output.showInformation("Too high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10-25T19:51:44Z</dcterms:modified>
  <cp:revision>1279</cp:revision>
  <dc:subject/>
  <dc:title>Summer Institute for Computing Education</dc:title>
</cp:coreProperties>
</file>