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9E675B76-512C-456E-B348-65FBA405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reasons why we use DrJava is to let students use the interactions pane to try things out without having to use a main.  Many books start with a main method but don’t ever expla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E5C-904E-455E-BBA5-FA95635D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562-17C5-41F3-84E9-B9E5422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9FD-3EE7-436A-BA9E-8ACE7647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530-9E77-40D7-8FE3-90D40C8C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58C-AF61-46C6-9BC5-7AB6F54D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3B4-C16B-45AA-9B52-FF7F3F58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4EC-D9C9-4627-847F-CEAE69EE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897-AF0F-4CF4-A062-E0E16648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1C6-98E9-48DA-9375-529B5A61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DB5-4488-4EFE-ABDA-C5CD9BA4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E2B-ED89-49CA-B19B-4349BD98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B51-B91D-4236-8894-E24A4F2E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096E-7A12-4CA6-895A-BC5F8850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reating Class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3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ame Modifi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the name only if currently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setName(String the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result =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this.name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name = the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=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de Modifi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boolean setGrade(int index, double new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result =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newGrade &gt;= 0 |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gradeArray != null 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&lt; this.gradeArray.length 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&gt;=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gradeArray[index] = newGr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=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 Fiel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icture field to student that will hold a Picture object of a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 accessor to get the value of this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modifier to set the value of this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method (show)  that will show th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n’t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ing a Mai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been typing stuff in the interactions pane in Dr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ry out Java code and to t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evelopment environments make you write a main method to start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Java allows thi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lass can have a main method declared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ublic so that  it can be called by other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static because no object of the class exists when it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n’t return anything so the return type is 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pass several arguments to the main method and these are put in an array of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i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main method to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statements that you have been doing in the interactions pane i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tatic void main(String[] ar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1 = new Stude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student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2 = new Student(“Sue Clark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student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ecute the Mai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rJava you can run the main method in the class that is displayed in the definitions 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licking on Tools then Run Document’s Main Method (or press key F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Stu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executes the main in the Studen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 a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all the values and divide by the number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reful not to divide b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reful not to access an array if it is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s are usually declared to b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tect the data from misuse by oth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you need to provide public accessor (getter) and modifier (setter)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still protect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main method to begin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static void main(String[] args)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culate the average of the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ccessors and mod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protect the fields in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ing a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ecute the desired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lculating the Grade Aver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a student has an array of grades one of the things we probably would like i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e average when you print information about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 a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by the number of gr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ngth of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be careful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ll grade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0 length grade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 Metho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method (getAverage) that will calculate and return the average of the grades in the grad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return 0 if the grade array is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return 0 if the grade array length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it will return the sum of the grades / the number of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toString method to call the getAverage method and add the average to the returned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ebugger to check that this is working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in the getAverag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cessing Fields from Other Clas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s are usually declared to b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code in other classes can’t directly access and change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is 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tudent1 = new Student(“Sue Clark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ln(student1.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get an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for exceptional event –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classes can not use object.field to access the fiel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it is declared with public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cessors and Modifi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ublic methods that retur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a way as to protect the data for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fieldType getFieldNam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ring getName() { return this.name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ublic methods that modif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a way as to protect the data for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returnType setFieldName(type 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setName(String theNam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this.name = theName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aming Conven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ors – also called G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etFieldName for non boolean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sFieldName for boolean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rs – also called Setters and Mut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tField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turn a boolean value to indicate if the value was set success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Name and set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Student Access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method to get th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tring getName() { return this.name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a method to get the array of g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one gets the array they can directly change the grades in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afer to return the grade at an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other classes can’t directly change the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ouble getGrade(int inde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return this.gradeArray[index]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Student Modifi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public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let other classes ask for the grade to change or the nam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class is responsible for making sure this only happens in such a 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o keep the data valid and not cause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a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e must be &g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eArray must not be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ex must be &lt; the length of the array and &gt;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a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decide if this can be changed or not once it isn’t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5T15:09:04Z</dcterms:modified>
  <cp:revision>1153</cp:revision>
  <dc:subject/>
  <dc:title>Summer Institute for Computing Education</dc:title>
</cp:coreProperties>
</file>