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8526B13F-17EB-440F-B65B-6793683D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that an objects has is also called its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D74-3B7F-4114-87DA-5F6DBAE5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9B1-DA5E-4551-A743-01240CFC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84D-DC04-4D08-A09F-14B042F5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705-848A-40C7-A30F-8557F951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1AE-2240-411D-94C3-07FD067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358-8834-4D09-A2BD-1DB6AAAA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CFE-B59B-4FB7-85F3-5FE290FE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D2E-B20F-45A3-B950-D88F9AD2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027-B3AF-4CA4-A314-A0AF651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7D9-3F53-45B5-985E-72FC637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454-209D-4EBA-856D-F23A3D4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02D-FD45-40DE-87F3-6C2FED7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108-A4CE-4251-B0BD-D144A92E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re on 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ing a Random Numb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class in Java that allows you to pick a pseudo random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util.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want to import this class to use the sho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Random; // before the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eate an object of this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randomNumGen = new Rando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a random number from 0 to one less than a specified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randomNum = randomNumGen.nextInt(specified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ing from a Min to a Ma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andom class returns from 0 to 1 less than a specified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pick from the minimum to the maxim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hat the minimum and maximum 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a number from 1 to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0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ick from 0 to 10 (returns 0 to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dd 1 to the result (results in 1 to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a number from 11 to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5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ick from 0 to 5 (returns 0 to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11 to the result (results in 11 to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in any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umValues = this.maxNumber – this.minNumber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pickedNumber = this.randomNumGen(numValu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n Import and a Fiel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import statement before the class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ort java.util.Random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new field for the 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te Random randomNumGen = new Rando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actually initialize the new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set field values for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user doesn’t specify a min and max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faults and pick a random number between the min and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other constructor that let’s  the user specify the min and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visibility and the name of the class followed by a paramete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clare more than one constr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parameter lists ar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NumberGuessGam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Argument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onstructor that takes n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t uses the default min and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NumberGuessGa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pickedNumber =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randomNumGen.nextInt(numValu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pickedNumber = this.pickedNumber 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min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or with a Min and Ma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Constructor that takes a min and 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t uses the passed min an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@param min the minimum number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@param max the maximum number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inNumber = m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axNumber = 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randomNumGen.nextInt(numValu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ok fo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ine 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s with several pieces of data associated with them ar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termine the classes you will need and crea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the data each object of that class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lare fie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class in package java.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pick a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an impor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t you use a short name for a class that isn’t in java.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class that will simulate a numbe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going from requirements to class definitions and fields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import statement to allow you to use a shor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lasses in a package other than java.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ulating a Number Guess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played the pick a number from 1-10 or 1-100 g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son randomly picks a number in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guesses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who picked the number repl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if the guess is too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f the guess is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at is right if the guess is the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track the number of gu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 we nee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a new class.  For each game we will create a new object of this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now the minimum number that it can pick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now the maximum number that it can pick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pick a number in that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ask the user for a guess and compare the guess to the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ply higher, lower, or  that is right when the guess matches the picke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eep track of how many guesses have been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Specifications to a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the name of the clas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hould be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hould be an indicator of what objects of the class are for or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tart with an uppercase letter and uppercase the first letter of each new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the NumberGuessGame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 creating a new class 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(Untitled) in the Files pan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New” button i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the following in the definitions pane 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it in NumberGuessGam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it using the “Compile All”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reates NumberGuessGame.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Specifications to Fiel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ields (state) does each object of the NumberGuessGame need to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s should we use for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types be for the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that it can pick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number that it can pic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ed number for a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how many guesses have been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Field Decla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ield should b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ssign a value to a field when you decla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umber guess game sh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n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inNumber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x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axNumber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picked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guesses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the Fiel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NumberGuessGame and add the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///////// fields (data) ///////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minNumber =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maxNumber = 1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picked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24:03Z</dcterms:modified>
  <cp:revision>1279</cp:revision>
  <dc:subject/>
  <dc:title>Summer Institute for Computing Education</dc:title>
</cp:coreProperties>
</file>