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BFEE4DE1-D9DB-4527-BBCF-224013023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ebuggers let you set break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in DrJava if you type something without a semicolon at the end it will print the value of th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leave off the ‘this.’ on ‘this.name’ and the compiler will add it for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create student1 the no-argument constructor will be called since we haven’t passed any parameters.  When we create student2 the constructor will be called that takes a str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345-DCF5-472D-BAEC-720A32B7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290-F63C-479F-8746-7646F460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77B-8054-4127-9E0A-F7FE2934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667-E595-4D19-9B99-D1B7377C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27D-CC9C-4A7A-A52E-4D0F3B03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4C4-DBA2-40FC-96DD-11FBB0F1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B05-81A8-46CF-AB65-F47EB791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EFF-C3F1-4791-A1B6-28108E7B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2C6-3583-4A78-867A-725EC637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BA0-2CC0-4C5D-A05D-2346C340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B85-CBD5-49C9-BC5D-DF297075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5F9-3BB0-428C-9FEC-4A516F6C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B6F6-62C8-4A56-A40E-D3DBDB28E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reating Class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tting a Breakpoi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use a debugger you often want to set places to stop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lace to stop at is a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execution has stopp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heck the value of parameters and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a break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lick on a line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“Toggle 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highlighted in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howing a Breakpoi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with breakpoints are highlighted in red in Dr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a breakpoint at the line that sets the name in the constructor that takes a name as a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3486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a Breakpoi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the following in the interactions 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1 = new Student(“Sue Clark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should stop at the break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color change to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3908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ecking Val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stops before the breakpoint line is exec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name hasn’t been set to the passed value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is by printing out the value of it 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grade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lick on the Step Over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t the current line of code be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heck the values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ging Op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the current line of code and then stop again before you execute the next line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line of code that we are stopped at has a method call in it stop at the first line in the called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execution at the curren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 next break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program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the rest of the current method and stop at the first line after the call to this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quit debugging by clicking on the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ing a Constructor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other constructor in the Stude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akes both the name and an array of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n array of doubles for the grade array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[] gradeArray = {90.3, 85.2, 89.7, 95.3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ebugger to check what happens during execution of this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s initialize the fields i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clare a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tur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name as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verload con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meter lists must b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debug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what happens during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ing a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oading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 no-argument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debugger to step through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tart the debu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et a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heck the value of a variable o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truc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ed to initialize the fields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ther than the default values or assig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have more than one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the parameter lists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overloading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bility ClassName(paramList)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Student(String theNa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this.name = theName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 Constructo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following after the field declarations to Student.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Student(String theNa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name = the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 an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1 = new Stude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student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y did you get an Error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dn’t declared any constructors before we added thi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 constructor is called each time a new object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dn’t provide one so the compiler added a no-argument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hat takes no parameters and leaves the fields with their default or assig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once you add a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will not add any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ing a No-Argument Constructo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following constructor to the Student 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tudent()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est it again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1 = new Stude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student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2 = new Student(“Sue Clark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student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acing Exec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to trace what is happening in your program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 System.out.println()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se to print out the value of the current object’s name before and after the name is initialized in the constructor that takes a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this.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.name = the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this.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g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a debugger to find the cause of bugs (errors in your pro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th caused one 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jamesshuggins.com/h/tek1/first_computer_bug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o trace execution to see what is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nstructor is executed or what method is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values are in the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’s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Debugger in the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heck the Debug Mode check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4900680" cy="3570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3920" y="4419720"/>
            <a:ext cx="14486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724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74480" y="3618000"/>
            <a:ext cx="11955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10080" y="396252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66040" y="5370480"/>
            <a:ext cx="20689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valu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382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5T14:35:01Z</dcterms:modified>
  <cp:revision>1146</cp:revision>
  <dc:subject/>
  <dc:title>Summer Institute for Computing Education</dc:title>
</cp:coreProperties>
</file>