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and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 </a:t>
            </a:r>
            <a:fld id="{4F2E5381-203E-4B3B-8ADE-F6D79750D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hod is append(Shape shape, boolean connectFlag);  A Line2D.Double object is a Shape object.  Shape is an interface.  You want to pass true for the connect fla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FCE-71F6-4CDB-ADAA-D6BFCF3E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8B7E-7AF1-472D-BEA7-CCF25EA6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389-21F3-4683-A4D3-19875788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FCA-38CA-420D-88D5-FDF7D677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CB9D-BF0F-4EEC-ABCA-B9BF7C6F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69B0-E777-4F25-BBCD-F807A04E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DB3-9C1A-48FE-9F92-58528D9F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337-7F97-40A1-B70C-98D3034E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6A59-17AB-428C-952C-38842557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F03-AC74-4043-B0D7-D6E58DA0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A363-F251-4B17-BA91-7BCB8151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C01-562F-4B42-96AA-883767B8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23F6-14AC-4D2B-B5A6-5822A94F0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in Java – part 3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aint is an Interfac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up the API for Graphics2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setPain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that it takes a Paint object as a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me we can pass this method a java.awt.Color object or a java.awt.GradientPaint o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both implement the Pain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can be passed to a method that requires an object of an interfac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the object is from a class that implements tha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herits from a class that implements th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y Use an Interface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SB interface lets you plug in differen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, disk drive, key driv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uter doesn’t care what the device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that it uses the USB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interfaces are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let you plug in different classes as long as they implement the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the implementing class must include all the methods defined in th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pping to a Shap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specify a shape to clip the image to when you dra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ipse2D.Double ellips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llipse2D.Double(0,0,width,heigh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2.setClip(ellips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nly the portion of the image that is inside that shape will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2.drawImage(this.getImage(),0,0,wid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,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pping to an Ellipse Metho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Picture clipToEllips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width = this.getWidth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height = this.getHeigh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result = new Picture(width,heigh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get the graphics2D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 g = result.getGraphic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2D g2 = (Graphics2D) 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19360" y="1219320"/>
            <a:ext cx="47242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create an ellipse for cli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2D.Double ellips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llipse2D.Double(0,0,width,heigh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use the ellipse for cli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.setClip(ellip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draw th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.drawImage(this.getImag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0,wid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,nul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return the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esting clipToEllip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thod creates a new picture and returns it so in order to see if we will need to save a reference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file = FileChooser.getMediaPath(“beach.jpg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2 = p.clipToEllips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2.sho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pping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that will clip a picture to a tri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use the java.awt.geom.GeneralPath class to create the path to clip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reate a new GeneralPath passing it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2D.Doubl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ppe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2D.Double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495680" y="35053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ance means that the child class gets all the fields and methods of the parent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is in the API for Graphics2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use a class to do general scaling and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.awt.geom.AffineTrans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raw with a gradient 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changes from one color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of classes that implement an interface can be said to be of tha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an be passed as parameters to methods that take tha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lip a picture to a geometric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nheritance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o a general scale method using the java.awt.geom.AffineTransform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raw with a gradient 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 that changes from one color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n interface is us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lip a picture to a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heritanc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Graphics2D inherits from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nherits field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 has a drawImag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2D inherits this method from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I shows the paren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inherite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in package java.awt and then at the class Graphics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java.sun.com/j2se/1.5.0/docs/api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neral Scaling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caled a picture up or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hat if we want to scale to a specified s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what if we want to scale up in x and down in 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the class AffineTransform in the java.awt.geom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object of the class Affine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the scaling using the method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AffineTransform  object when you draw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eneral Scale Metho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Picture scale(double xFactor, double yFac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set up the scale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ineTransform scaleTransform = new AffineTransform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Transform.scale(xFactor,yFacto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create a new picture object that is the right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ture result = new Picture((int) (getWidth() * xFactor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t) (getHeight() * yFactor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get the graphics 2d object to draw on the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 graphics = result.getGraphic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2D g2 = (Graphics2D) graphic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draw the current image onto the result image sca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2.drawImage(this.getImage(),scaleTransform,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esting General Scale Metho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at the general scale method creates and returns a new picture of the appropriat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o see the result we need to save a reference to it in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file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Chooser.getMediaPath("mattDoor.jpg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1 = p.scale(2.0,0.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with a Gradient Pain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filling with one color you can fill with a paint that changes from one color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.awt.GradientP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by specifying a point and the color at that point and then a second point and the color at that poi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ill be a change from one color to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81480" y="3733920"/>
            <a:ext cx="2886120" cy="2124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943600" y="1600200"/>
            <a:ext cx="137160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6120" y="114300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1, Colo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1447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3840" y="31240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2, Colo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629400" y="297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drawSun Metho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drawSun(int x, int y, int width, int he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get the graphics2D object for this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 g = this.getGraphic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2D g2 = (Graphics2D) 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create the gradient for painting from yellow to red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yellow at the top of the sun and red at the bot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 xMid = (float) (width / 0.5 + 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ientPaint gPaint = new GradientPaint(xMid, 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.yellow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id, y + heigh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.re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set the gradient and draw the ellip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2.setPaint(gPa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2.fill(new Ellipse2D.Double(x,y,width,height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esting drawSu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file = FileChooser.getMediaPath(“beach.jpg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drawSun(201,80,40,4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8-01T09:42:26Z</dcterms:modified>
  <cp:revision>1934</cp:revision>
  <dc:subject/>
  <dc:title>Summer Institute for Computing Education</dc:title>
</cp:coreProperties>
</file>