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71B-03D3-4C05-9037-050DC280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6E1-6206-4014-91C4-581CDF19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DB3-C932-451A-A81C-6815292C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A04-2C81-428C-BDEC-92A3D5CA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4AD-7E67-4388-AABD-1AE610BB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01F-4E11-4944-9F58-FC3E599C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588-B59D-4E2A-A87C-6FF673CC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4D8-1EA5-4459-B6D5-5F9CE889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DC3-484F-43DA-A657-9045E7D5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7F7-42B0-4478-9FE7-8C657093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500-1301-4E97-9498-BDB8ADF7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5A8-0E15-423D-A230-5B152CEA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838A-6FC4-4710-9F74-720B0A80F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5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FileChooser.getMediaPath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inX95in.jpg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copyKatieLeftRotation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repain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igh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419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copy one picture onto another so that the first picture is rotated to the right 90 degr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140148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4120" y="4038480"/>
            <a:ext cx="251460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igh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each pixel holds on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result of a right rotation on this 2-d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create an algorithm for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38680" y="1523880"/>
          <a:ext cx="2667240" cy="153828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9200"/>
              </a:tblGrid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248520" y="3809880"/>
          <a:ext cx="2057400" cy="2163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586728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4648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igh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your algorithm on anothe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ranslate it into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52880" y="1676520"/>
          <a:ext cx="3556080" cy="1538280"/>
        </p:xfrm>
        <a:graphic>
          <a:graphicData uri="http://schemas.openxmlformats.org/drawingml/2006/table">
            <a:tbl>
              <a:tblPr/>
              <a:tblGrid>
                <a:gridCol w="889200"/>
                <a:gridCol w="888840"/>
                <a:gridCol w="889200"/>
                <a:gridCol w="8888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172200" y="3657600"/>
          <a:ext cx="2057400" cy="288612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10552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2590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3276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388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3276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5334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724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019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igh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otate an image right 90 degrees still copy all the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y go to different locations in th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 values become ro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y = sourc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x = source height  – 1 – sourc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638680" y="1523880"/>
          <a:ext cx="2667240" cy="153828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9200"/>
              </a:tblGrid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248520" y="3809880"/>
          <a:ext cx="2057400" cy="2163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586728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648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ight Rotation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ethod to rotate the picture of Katie to the right instead of to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file = FileChooser.getMediaPath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inX95in.jpg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copyKatieRIghtRotatio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repa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make the method more gene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ork on any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py one picture to another with the first picture rot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change the targetX and targ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simplify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ry to solve it by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ome up with an algorithm for solv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n try it on anothe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py one picture to another so that the first picture is rotated 90 degrees left or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implify a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e up with an algorithm to 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est th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copy one picture onto another so that the first picture is rotated to the left 90 degr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1401840" cy="2438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19920" y="2438280"/>
            <a:ext cx="2287440" cy="3105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implify the problem by thinking about how to copy when each pixel has a number a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come up with an algorithm for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638680" y="1523880"/>
          <a:ext cx="2667240" cy="153828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9200"/>
              </a:tblGrid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248520" y="3809880"/>
          <a:ext cx="2057400" cy="2163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586728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01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4648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your algorithm on anothe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ranslate it into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952880" y="1676520"/>
          <a:ext cx="3556080" cy="1538280"/>
        </p:xfrm>
        <a:graphic>
          <a:graphicData uri="http://schemas.openxmlformats.org/drawingml/2006/table">
            <a:tbl>
              <a:tblPr/>
              <a:tblGrid>
                <a:gridCol w="889200"/>
                <a:gridCol w="888840"/>
                <a:gridCol w="889200"/>
                <a:gridCol w="88884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6172200" y="3657600"/>
          <a:ext cx="2057400" cy="288612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510552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2590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3276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388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3276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5334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1295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6019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otate an image left 90 degrees still copy all the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y go to different locations in th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 values become row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x = sourc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y = source width -1 – sourc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638680" y="1523880"/>
          <a:ext cx="2667240" cy="153828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9200"/>
              </a:tblGrid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248520" y="3809880"/>
          <a:ext cx="2057400" cy="21639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586728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3962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1320" y="4648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913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target picture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the method on the target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he source pictur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through the source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through the source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source pixel at the x and 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target pixel with the x equal the source y value and the y equal the source picture width – 1 minus the source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color from the source pixel to the targe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ft Rotatio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copyKatieLeftRotatio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sourceFil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"KatieFancy.jpg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sourcePicture = new Picture(source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source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targe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targetX, targetY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X 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 &lt; sourcePicture.getWidth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Katie Left R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Y 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Y &lt; sourcePicture.getHeight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he target pixel color to the source pixel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Pixe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Picture.getPixel(sourceX,source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X = source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Y = sourcePicture.getWidth() – 1 – source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Pixel = this.getPixel(targetX,target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6-27T13:07:41Z</dcterms:modified>
  <cp:revision>2174</cp:revision>
  <dc:subject/>
  <dc:title>Summer Institute for Computing Education</dc:title>
</cp:coreProperties>
</file>