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Media Computation Java, and 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3 - </a:t>
            </a:r>
            <a:fld id="{A48B5F44-5539-4A78-AD11-DD21393AB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class object that represents the class use object.getClass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heck if an object is an instance of a class use instanceof(class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n array of Method objects that holds the methods for a class.  There is also an array of Field objects which describes the field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vention is the usual way of doing something.  Java code will compile if you don’t follow these conventions but it will be hard for other programmers to understand you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the two is that println will print the value of the variable or expression and then move to the next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 is a way to access the class variable called “out” in the System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.println() is sending the println() message to the “out”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oes matter in Java.  System.out.println must start with an uppercase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the console tab and see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same above with a semicolon at the end.  In Java a semicolon shows the end of a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compiler sees double quotes it recognizes the characters as part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methods can also be invoked by sending them as a message to an object since an object has a link to its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acter class is a wrapper class for char values.  It also contains some static (class)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B64-D06A-4839-9F44-90E3C998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5A5-D164-4BC5-8F74-CB967C5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CE4-36E5-4D83-BF79-2F044F7F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81A-5438-4BF9-B893-8CD9B00E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6BA-B35A-4F0D-9E73-E4A3DA8E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740-5A06-4F99-BC05-F115354F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C1C-8089-4726-92F4-68A2CF93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EF9-2DA8-4259-98E4-696DD19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0B8-0C2A-4731-8BC9-DFF2611E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D9E-BE21-4921-8443-51682FB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0D5-3DF8-4689-AC1F-A85BE772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029-150F-4BCF-803E-A96798C8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668-67E2-4330-9CD6-724F37F2F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roduction to Java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 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ssage Always Have Parenthesi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tell that out.println() is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 always have 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there are no parameters (argu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ending data along with a message it goes inside the parenth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d by co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mon Erro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make any mistakes when you typed in the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use the wrong case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h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misspell something it won’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.abs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Undefined class 'Mat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Math.ab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: No 'ab' method in 'java.lang.Math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up arrow key in DrJava to bring up the previous statement and fix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"Hi" is a String Objec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turns literal strings into str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f the String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ckage 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ethods are invoked by sending a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same name as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ype, number, and order of inpu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PI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es defined as part of the Java language are documented in the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java.sun.com/j2se/1.5.0/docs/ap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cumentation for the following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and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documentation for the methods used in the previou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some other methods for thes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Packag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groups related classes into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classes for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, Math, Object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lasses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basic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more advanced user interfac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ass Methods versus Object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PI documentation how can you tell which are class methods and which are object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the keywor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has the keyword static then it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no keyword static then it is an 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do Objects Look Lik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created with space for thei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a reference to the object that represent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f the class “Cla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657600"/>
            <a:ext cx="3048120" cy="213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13336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6002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3886200"/>
            <a:ext cx="2895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= Name,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= getName, setName, getPrice, setPrice, getCal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 :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“Fri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1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219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ffles: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190512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“Waff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.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is Case Sensitiv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rogramming languages are case 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n’t the same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primitive types are all lower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, float, i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tring and System are the names of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Java Naming Conven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names start with an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, BufferedImage,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ther names start with lowercase letters but uppercase the first letter of each additional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, fileName, thisIsALong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dentifying Classes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are primitive types, and which are the names of cla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rint out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represent 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invoke object and class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know what methods a class h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print out things using System.out.println(expression);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(express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represent text using Str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irs of double qu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i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ckage java.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look up methods in the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voke methods on a str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i".toLowerCa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ethods can be executed using the class name “dot” metho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.min(3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hod is a class method if it has keyword “stati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rinting Output to the Consol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things you often want to do in a program is output the value of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 the way to print to the console is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print out the value of the thing in the parentheses and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int just the thing in the parentheses without a new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 Semicolon (;) ends a State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grams are made up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sentence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statements end in a semicolon not a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 is used to send a message to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print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ccess data in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printl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Java’s interaction pane prints the result of statements without a semi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the result of statements with a semi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ystem.out.println(); to for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unctuation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se was difficult it required five different tex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that is is that that is not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s so happy, I could have jumped for jo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uds were slowly gathering, the leaves were shaking as the wind blew strong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ole Output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ln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int the results of expression to the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3 * 28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4 – 7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0 / 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128 + 23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Hi" + "There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.out.println("128 + 234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.out.print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a type called: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an object that has a sequence of characters in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no characters (the null string "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have many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is is one long string with spaces in it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n a string will be printed out as it was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th operations “128 + 234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knows how to add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turns a new string with the characters of the second string after the characters of the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o add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in Java defin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or functions 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tak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produce a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passed the curren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as a message to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ethod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rJava’s interaction pane try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HI".toLowerCa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is is a string".indexOf("i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  This is ".trim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abs(-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.min(3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.getNumericValue('A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4:27:36Z</dcterms:modified>
  <cp:revision>1485</cp:revision>
  <dc:subject/>
  <dc:title>Summer Institute for Computing Education</dc:title>
</cp:coreProperties>
</file>