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Arrays and Neste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 - </a:t>
            </a:r>
            <a:fld id="{EC5BC1A8-FCEA-4862-857D-604E4A8D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x and y will need to be double variables.  Cast them to int to lose the fractional part to get the pixel x and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coweb.cc.gatech.edu/cs1315/916 for some examples from Georgia Tech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Y+= 2 means the same as sourceY = sourceY + 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add to source x and source y so that it is 0 twice, then 1 twice, then 2 twi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0.5 is 0 when you cast to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B5A-B4C9-4A82-849A-F84265B9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89E-682F-496D-AC13-0A6048B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835-1A81-4BC3-B75D-AA8C8468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01B-325C-443D-8073-893DFD43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2C7-0C45-4E8E-9ED6-F817C2E6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621-D919-4586-81F6-BAFC6631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DC9-A70A-47B4-AE3F-32B5D792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617-4898-4CF2-B6FA-731C3CDE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000-87B3-442B-A4D2-4E2B35F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7E5-7A8E-429A-A668-B6A3302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213-127B-4D10-9756-16E4E4BA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ADD-7A5A-41AA-80B2-1E237E2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5B37-B908-4EE1-A81C-CC2214ACD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6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Up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source x starting at 0 and target x starting at 0 as long as &lt; sourc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by 0.5 each time through the loop, increment the target x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ith source y starting at 0 and target y starting at 0 as long as &lt; sour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source y by 0.5 each time through the loop, increment the target y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to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Up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method copyFlowerBigger to scale up the picture flower1.jpg when you copy it to 640x480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he result to a fil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Obj.write(“fil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a Coll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things that you can do with pictures is create a col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pictures of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ictures are 100 pixels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rget picture is created from file 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8006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cture’s bottom left is at x = 0 y = height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647960" y="4419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4906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03848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640x480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flower picture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wer1.jpg as source1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lower2.jpg as source2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argetBottomY to the targetPicture height –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pixels from bottom of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Algorithm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0, y=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2Picture to the current picture starting at x=100, y = targetBottomY – source2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e source1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200, y= 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the blue from source2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2Picture to the current picture starting at x=300, y= targetBottomY – source2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ll of source1Picture to the current picture starting at x=400, y=targetBottomY – source1Picture’s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Flower Collag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void createFlowerCollag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source1Picture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icture(FileChooser.getMediaPath("flower1.jpg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 source2Pictur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icture(FileChooser.getMediaPath("flower2.jpg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 targetBottomY = this.getHeight() -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opy source1Picture to 0, targetBottomY -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targetBottomY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opy source2Picture to 100, targetBottomY - h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.copy(source2Picture,0,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Width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Height(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,targetBottomY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2Picture.getHeigh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Flower Collage Method -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negate the source1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negat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negated source1Picture to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lear the blue from source 2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clearBlue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source2Picture to 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2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2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py negated source1Picture to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.copy(source1Picture,0,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Width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,targetBottomY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1Picture.getHeight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reateFlowerColl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“640x480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createFlowerCollag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eate Collag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reating a coll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4 copies of an image i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image and 3 changes to the origina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, rotate, crop, change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mirror the whole picture horizo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your collage 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Obj.write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59280" y="1219320"/>
            <a:ext cx="36165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cale a picture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not copying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index by a number 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cale a pictur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pying the source pixels more than on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rement the source index by 0.5 and then cast it to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n image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methods we have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a picture 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a picture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it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create a coll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a picture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to download on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and y by a number larger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use all the source pixels in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ake a picture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the same source x and y to more than one target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urce pixels more than once in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a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onFlower.jpg is 640pixels wide and 480 pixel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opy every other pixel we will have a new picture with width (640 / 2 = 320) and height (480 / 2 = 2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0" y="3429000"/>
          <a:ext cx="2590920" cy="207000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238880" y="3733920"/>
          <a:ext cx="1371600" cy="1076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066680"/>
            <a:ext cx="2819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with source x starting at 0 and target x starting at 0 as long as &lt; source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source x by 2 each time through the loop, increment the target x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ith source y starting at 0 and target y starting at 0 as long as &lt; source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source y by 2 each time through the loop, increment the target y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to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copyFlowerSmal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flowerPictur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ictur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passionFlower.jpg"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X = 0, targetX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 &lt; flowerPicture.getWid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+=2, target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aling Down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Y=0, targetY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 &lt; flowerPicture.getHeigh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+=2, targetY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Copy Flower Small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icture half the size of the original picture (+ 1 if odd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 p1 = new Picture(320,2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the flower to the new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copyFlowerSmaller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e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Scaling U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each pixel in the source multiple times to the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 (0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1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1,0) Target(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1,0) Target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2,0) Target(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2,0) Target(5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(0,0) Target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4120" y="3429000"/>
          <a:ext cx="2895480" cy="223992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715000" y="1752480"/>
          <a:ext cx="1981080" cy="103500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79132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2362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4114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181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2-25T21:53:33Z</dcterms:modified>
  <cp:revision>2165</cp:revision>
  <dc:subject/>
  <dc:title>Summer Institute for Computing Education</dc:title>
</cp:coreProperties>
</file>