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47ECA7DB-488A-45B5-8D3D-F95807D10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itive types in Java are not objects.  Java left some simple data types as primitives to speed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oating-point type (float or double) stores both the digits and the ex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petebecker.com/js200006.html for more information on floating-point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tissa is stored in positive binary.  The exponent is stored as positive binary but with the addition of the stored value to -126 for float and -1023 for a double.  So an exponent value of 0 for a float is actually an exponent of -12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world.com/javaworld/jw-10-1996/jw-10-hood.html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mbol ‘=‘ does not test for equal in Java.  It is used as an assignment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relational.html for the Java tutorial section on relational oper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 are represented as numbers with letters that we think of as coming first in alphabetizing schemes having lower numbers than the later le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rJava expressions entered into the interactions pane are evaluated and the result is displayed on the nex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DrJava see http://www.drjava.org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shows the code (on the right) is called the definitions p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e that allows you to type Java expressions and see the result is called the interactions p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interprets 3.0 as a double (floating point number) and 3 and 4 as integers.  The result of an operation is in the same type as the values being operated on so the result of 3 / 4 is 0 since and integer can’t represent 0.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java.sun.com/docs/books/tutorial/java/nutsandbolts/arithmetic.html for arithmetic operators in the Java tuto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pen DrJava double click on the DrJava icon.   You will see a small window which will show while it loads.  It can take a few minutes to l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point means that the number is stored in two parts.  The digits are stored (without the period) and the location of the period is stored as a power of 10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FDD-71DB-4E4E-9BC0-A99650AF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1EF-FC21-4EB2-B1C0-A6D57C3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661-735A-4237-8900-6173C08D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476-4C1A-46C5-8642-2375E73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B38-E2D2-4F40-A393-989A1C1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90F-10A1-4E37-B2E3-9A794EC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732-3255-4CFF-9710-F9CE5EB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630-CB72-4BF9-BEF1-FFA05CBB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B0E-C020-471E-8E69-0B2081F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161-B814-4F51-AC6E-E53185F0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DF8-20AE-474D-B3C0-72A9A7D3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742-A87C-4C84-BB5B-834769A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C0E5-749F-4925-A543-5C20E56C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, and Dr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s (numbers without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 int or short o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5, -2, 33992093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numbers (numbers with fractional parts)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: double or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233038983 -423.9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haracter is re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‘b’ ‘A’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and false values are re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:  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so Many Different Types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ake up different amounts of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different pr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int, double, and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uses 8 bits (1 byte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uses 16 bits (2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uses 32 bits (4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uses 64 bits (8 bytes) 2’s compl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uses 32 bits (4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uses 64 bits (8 bytes) IEEE 7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uses 16 bits (2 bytes) Unicod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izes of Primitive Typ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447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1371600"/>
            <a:ext cx="838080" cy="457200"/>
            <a:chOff x="1371600" y="1371600"/>
            <a:chExt cx="838080" cy="457200"/>
          </a:xfrm>
        </p:grpSpPr>
        <p:sp>
          <p:nvSpPr>
            <p:cNvPr id="78" name=""/>
            <p:cNvSpPr/>
            <p:nvPr/>
          </p:nvSpPr>
          <p:spPr>
            <a:xfrm>
              <a:off x="1371600" y="1371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02920" y="1371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600" y="2133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114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71600" y="2057400"/>
            <a:ext cx="838080" cy="457200"/>
            <a:chOff x="1371600" y="2057400"/>
            <a:chExt cx="838080" cy="457200"/>
          </a:xfrm>
        </p:grpSpPr>
        <p:sp>
          <p:nvSpPr>
            <p:cNvPr id="85" name=""/>
            <p:cNvSpPr/>
            <p:nvPr/>
          </p:nvSpPr>
          <p:spPr>
            <a:xfrm>
              <a:off x="13716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029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286000" y="2057400"/>
            <a:ext cx="838080" cy="457200"/>
            <a:chOff x="2286000" y="2057400"/>
            <a:chExt cx="838080" cy="457200"/>
          </a:xfrm>
        </p:grpSpPr>
        <p:sp>
          <p:nvSpPr>
            <p:cNvPr id="88" name=""/>
            <p:cNvSpPr/>
            <p:nvPr/>
          </p:nvSpPr>
          <p:spPr>
            <a:xfrm>
              <a:off x="2286000" y="2057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7320" y="2057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2743200"/>
            <a:ext cx="838080" cy="457200"/>
            <a:chOff x="1371600" y="2743200"/>
            <a:chExt cx="838080" cy="457200"/>
          </a:xfrm>
        </p:grpSpPr>
        <p:sp>
          <p:nvSpPr>
            <p:cNvPr id="91" name=""/>
            <p:cNvSpPr/>
            <p:nvPr/>
          </p:nvSpPr>
          <p:spPr>
            <a:xfrm>
              <a:off x="13716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29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743200"/>
            <a:ext cx="838080" cy="457200"/>
            <a:chOff x="2286000" y="2743200"/>
            <a:chExt cx="838080" cy="457200"/>
          </a:xfrm>
        </p:grpSpPr>
        <p:sp>
          <p:nvSpPr>
            <p:cNvPr id="94" name=""/>
            <p:cNvSpPr/>
            <p:nvPr/>
          </p:nvSpPr>
          <p:spPr>
            <a:xfrm>
              <a:off x="22860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173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200400" y="2743200"/>
            <a:ext cx="838080" cy="457200"/>
            <a:chOff x="3200400" y="2743200"/>
            <a:chExt cx="838080" cy="457200"/>
          </a:xfrm>
        </p:grpSpPr>
        <p:sp>
          <p:nvSpPr>
            <p:cNvPr id="97" name=""/>
            <p:cNvSpPr/>
            <p:nvPr/>
          </p:nvSpPr>
          <p:spPr>
            <a:xfrm>
              <a:off x="32004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317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114800" y="2743200"/>
            <a:ext cx="838080" cy="457200"/>
            <a:chOff x="4114800" y="2743200"/>
            <a:chExt cx="838080" cy="457200"/>
          </a:xfrm>
        </p:grpSpPr>
        <p:sp>
          <p:nvSpPr>
            <p:cNvPr id="100" name=""/>
            <p:cNvSpPr/>
            <p:nvPr/>
          </p:nvSpPr>
          <p:spPr>
            <a:xfrm>
              <a:off x="4114800" y="27432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46120" y="27432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71600" y="4114800"/>
            <a:ext cx="838080" cy="457200"/>
            <a:chOff x="1371600" y="4114800"/>
            <a:chExt cx="838080" cy="457200"/>
          </a:xfrm>
        </p:grpSpPr>
        <p:sp>
          <p:nvSpPr>
            <p:cNvPr id="103" name=""/>
            <p:cNvSpPr/>
            <p:nvPr/>
          </p:nvSpPr>
          <p:spPr>
            <a:xfrm>
              <a:off x="13716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29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86000" y="4114800"/>
            <a:ext cx="838080" cy="457200"/>
            <a:chOff x="2286000" y="4114800"/>
            <a:chExt cx="838080" cy="457200"/>
          </a:xfrm>
        </p:grpSpPr>
        <p:sp>
          <p:nvSpPr>
            <p:cNvPr id="106" name=""/>
            <p:cNvSpPr/>
            <p:nvPr/>
          </p:nvSpPr>
          <p:spPr>
            <a:xfrm>
              <a:off x="22860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173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200400" y="4114800"/>
            <a:ext cx="838080" cy="457200"/>
            <a:chOff x="3200400" y="4114800"/>
            <a:chExt cx="838080" cy="457200"/>
          </a:xfrm>
        </p:grpSpPr>
        <p:sp>
          <p:nvSpPr>
            <p:cNvPr id="109" name=""/>
            <p:cNvSpPr/>
            <p:nvPr/>
          </p:nvSpPr>
          <p:spPr>
            <a:xfrm>
              <a:off x="32004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17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14800" y="4114800"/>
            <a:ext cx="838080" cy="457200"/>
            <a:chOff x="4114800" y="4114800"/>
            <a:chExt cx="838080" cy="457200"/>
          </a:xfrm>
        </p:grpSpPr>
        <p:sp>
          <p:nvSpPr>
            <p:cNvPr id="112" name=""/>
            <p:cNvSpPr/>
            <p:nvPr/>
          </p:nvSpPr>
          <p:spPr>
            <a:xfrm>
              <a:off x="4114800" y="41148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46120" y="41148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371600" y="3429000"/>
            <a:ext cx="838080" cy="457200"/>
            <a:chOff x="1371600" y="3429000"/>
            <a:chExt cx="838080" cy="457200"/>
          </a:xfrm>
        </p:grpSpPr>
        <p:sp>
          <p:nvSpPr>
            <p:cNvPr id="115" name=""/>
            <p:cNvSpPr/>
            <p:nvPr/>
          </p:nvSpPr>
          <p:spPr>
            <a:xfrm>
              <a:off x="1371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2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3429000"/>
            <a:ext cx="838080" cy="457200"/>
            <a:chOff x="2286000" y="3429000"/>
            <a:chExt cx="838080" cy="457200"/>
          </a:xfrm>
        </p:grpSpPr>
        <p:sp>
          <p:nvSpPr>
            <p:cNvPr id="118" name=""/>
            <p:cNvSpPr/>
            <p:nvPr/>
          </p:nvSpPr>
          <p:spPr>
            <a:xfrm>
              <a:off x="2286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17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0400" y="3429000"/>
            <a:ext cx="838080" cy="457200"/>
            <a:chOff x="3200400" y="3429000"/>
            <a:chExt cx="838080" cy="457200"/>
          </a:xfrm>
        </p:grpSpPr>
        <p:sp>
          <p:nvSpPr>
            <p:cNvPr id="121" name=""/>
            <p:cNvSpPr/>
            <p:nvPr/>
          </p:nvSpPr>
          <p:spPr>
            <a:xfrm>
              <a:off x="3200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31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114800" y="3429000"/>
            <a:ext cx="838080" cy="457200"/>
            <a:chOff x="4114800" y="3429000"/>
            <a:chExt cx="838080" cy="457200"/>
          </a:xfrm>
        </p:grpSpPr>
        <p:sp>
          <p:nvSpPr>
            <p:cNvPr id="124" name=""/>
            <p:cNvSpPr/>
            <p:nvPr/>
          </p:nvSpPr>
          <p:spPr>
            <a:xfrm>
              <a:off x="41148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61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29200" y="3429000"/>
            <a:ext cx="838080" cy="457200"/>
            <a:chOff x="5029200" y="3429000"/>
            <a:chExt cx="838080" cy="457200"/>
          </a:xfrm>
        </p:grpSpPr>
        <p:sp>
          <p:nvSpPr>
            <p:cNvPr id="127" name=""/>
            <p:cNvSpPr/>
            <p:nvPr/>
          </p:nvSpPr>
          <p:spPr>
            <a:xfrm>
              <a:off x="50292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5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29000"/>
            <a:ext cx="838080" cy="457200"/>
            <a:chOff x="5943600" y="3429000"/>
            <a:chExt cx="838080" cy="457200"/>
          </a:xfrm>
        </p:grpSpPr>
        <p:sp>
          <p:nvSpPr>
            <p:cNvPr id="130" name=""/>
            <p:cNvSpPr/>
            <p:nvPr/>
          </p:nvSpPr>
          <p:spPr>
            <a:xfrm>
              <a:off x="59436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749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858000" y="3429000"/>
            <a:ext cx="838080" cy="457200"/>
            <a:chOff x="6858000" y="3429000"/>
            <a:chExt cx="838080" cy="457200"/>
          </a:xfrm>
        </p:grpSpPr>
        <p:sp>
          <p:nvSpPr>
            <p:cNvPr id="133" name=""/>
            <p:cNvSpPr/>
            <p:nvPr/>
          </p:nvSpPr>
          <p:spPr>
            <a:xfrm>
              <a:off x="68580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93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772400" y="3429000"/>
            <a:ext cx="838080" cy="457200"/>
            <a:chOff x="7772400" y="3429000"/>
            <a:chExt cx="838080" cy="457200"/>
          </a:xfrm>
        </p:grpSpPr>
        <p:sp>
          <p:nvSpPr>
            <p:cNvPr id="136" name=""/>
            <p:cNvSpPr/>
            <p:nvPr/>
          </p:nvSpPr>
          <p:spPr>
            <a:xfrm>
              <a:off x="7772400" y="34290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03720" y="34290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4876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4800600"/>
            <a:ext cx="838080" cy="457200"/>
            <a:chOff x="1371600" y="4800600"/>
            <a:chExt cx="838080" cy="457200"/>
          </a:xfrm>
        </p:grpSpPr>
        <p:sp>
          <p:nvSpPr>
            <p:cNvPr id="140" name=""/>
            <p:cNvSpPr/>
            <p:nvPr/>
          </p:nvSpPr>
          <p:spPr>
            <a:xfrm>
              <a:off x="1371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2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4800600"/>
            <a:ext cx="838080" cy="457200"/>
            <a:chOff x="2286000" y="4800600"/>
            <a:chExt cx="838080" cy="457200"/>
          </a:xfrm>
        </p:grpSpPr>
        <p:sp>
          <p:nvSpPr>
            <p:cNvPr id="143" name=""/>
            <p:cNvSpPr/>
            <p:nvPr/>
          </p:nvSpPr>
          <p:spPr>
            <a:xfrm>
              <a:off x="2286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17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00400" y="4800600"/>
            <a:ext cx="838080" cy="457200"/>
            <a:chOff x="3200400" y="4800600"/>
            <a:chExt cx="838080" cy="457200"/>
          </a:xfrm>
        </p:grpSpPr>
        <p:sp>
          <p:nvSpPr>
            <p:cNvPr id="146" name=""/>
            <p:cNvSpPr/>
            <p:nvPr/>
          </p:nvSpPr>
          <p:spPr>
            <a:xfrm>
              <a:off x="3200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31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14800" y="4800600"/>
            <a:ext cx="838080" cy="457200"/>
            <a:chOff x="4114800" y="4800600"/>
            <a:chExt cx="838080" cy="457200"/>
          </a:xfrm>
        </p:grpSpPr>
        <p:sp>
          <p:nvSpPr>
            <p:cNvPr id="149" name=""/>
            <p:cNvSpPr/>
            <p:nvPr/>
          </p:nvSpPr>
          <p:spPr>
            <a:xfrm>
              <a:off x="41148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461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029200" y="4800600"/>
            <a:ext cx="838080" cy="457200"/>
            <a:chOff x="5029200" y="4800600"/>
            <a:chExt cx="838080" cy="457200"/>
          </a:xfrm>
        </p:grpSpPr>
        <p:sp>
          <p:nvSpPr>
            <p:cNvPr id="152" name=""/>
            <p:cNvSpPr/>
            <p:nvPr/>
          </p:nvSpPr>
          <p:spPr>
            <a:xfrm>
              <a:off x="50292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605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943600" y="4800600"/>
            <a:ext cx="838080" cy="457200"/>
            <a:chOff x="5943600" y="4800600"/>
            <a:chExt cx="838080" cy="457200"/>
          </a:xfrm>
        </p:grpSpPr>
        <p:sp>
          <p:nvSpPr>
            <p:cNvPr id="155" name=""/>
            <p:cNvSpPr/>
            <p:nvPr/>
          </p:nvSpPr>
          <p:spPr>
            <a:xfrm>
              <a:off x="59436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749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8000" y="4800600"/>
            <a:ext cx="838080" cy="457200"/>
            <a:chOff x="6858000" y="4800600"/>
            <a:chExt cx="838080" cy="457200"/>
          </a:xfrm>
        </p:grpSpPr>
        <p:sp>
          <p:nvSpPr>
            <p:cNvPr id="158" name=""/>
            <p:cNvSpPr/>
            <p:nvPr/>
          </p:nvSpPr>
          <p:spPr>
            <a:xfrm>
              <a:off x="68580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893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772400" y="4800600"/>
            <a:ext cx="838080" cy="457200"/>
            <a:chOff x="7772400" y="4800600"/>
            <a:chExt cx="838080" cy="457200"/>
          </a:xfrm>
        </p:grpSpPr>
        <p:sp>
          <p:nvSpPr>
            <p:cNvPr id="161" name=""/>
            <p:cNvSpPr/>
            <p:nvPr/>
          </p:nvSpPr>
          <p:spPr>
            <a:xfrm>
              <a:off x="7772400" y="48006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03720" y="48006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28600" y="5562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5486400"/>
            <a:ext cx="838080" cy="457200"/>
            <a:chOff x="1371600" y="5486400"/>
            <a:chExt cx="838080" cy="457200"/>
          </a:xfrm>
        </p:grpSpPr>
        <p:sp>
          <p:nvSpPr>
            <p:cNvPr id="165" name=""/>
            <p:cNvSpPr/>
            <p:nvPr/>
          </p:nvSpPr>
          <p:spPr>
            <a:xfrm>
              <a:off x="13716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029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86000" y="5486400"/>
            <a:ext cx="838080" cy="457200"/>
            <a:chOff x="2286000" y="5486400"/>
            <a:chExt cx="838080" cy="457200"/>
          </a:xfrm>
        </p:grpSpPr>
        <p:sp>
          <p:nvSpPr>
            <p:cNvPr id="168" name=""/>
            <p:cNvSpPr/>
            <p:nvPr/>
          </p:nvSpPr>
          <p:spPr>
            <a:xfrm>
              <a:off x="2286000" y="5486400"/>
              <a:ext cx="838080" cy="45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17320" y="5486400"/>
              <a:ext cx="7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yp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mo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(s) take up the least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would you us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 people in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ce of an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swer to do you have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ople in you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loating Point Numb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with a fractional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70.20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as binary numbers in scientific notation -52.202 is -.522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 (1 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gits in the number (mantis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onent (8 b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 – 6-7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– 14-15 significant digits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(Relational) Operat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00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gt;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 4 is fa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&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 3 is true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2 is 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== 4 is fa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!= 3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33920" y="1219320"/>
            <a:ext cx="4952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 or equal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4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g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gt;= 4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or equal 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3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&lt;= 2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2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arison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the comparison operators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&lt;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&lt;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== 6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haracters (single alphabet 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single quote around a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&lt; ‘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&lt;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== ‘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perator Ord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evaluation orde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ault order can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pare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 + 4) * 2 versus 3 + 4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 Order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2 + 3 * 4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arentheses to make it clear what is happening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2 + 3 happens fir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hange it so that it multiplies the result of 2 + 3 and the result of 4 +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o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execute billions of instruction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getting faster, smaller, and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typical math and relational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s a strongly typ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lead to odd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division gives a 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casting to solve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has primitive types to represent integer and floating poi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 operations have a defaul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specify the order with paren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computer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do math and relational operations in Ja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asting and why might you ne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Java primitive types and how do they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order of math operations in Ja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chang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Can Computers Do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ally they 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, subtract, multiply,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mazingly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to billions of instruction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store a huge amou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movies, photo albums, dictionaries, encyclopedias, complex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eep getting faster, cheaper, and sm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DrJava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Java is a free integrated development environment for doing Java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ritten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several window panes 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reating programs (defini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ying out Java code (interaction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ing of open files (files p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3429000" y="327636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380952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91120" y="2362320"/>
            <a:ext cx="5331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in Java (+ * / - %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*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4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o (Remai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% 2 and 11 %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th Operator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DrJava and do the following in the interaction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7 from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7 t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3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4.6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5 by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emainder when you divide 10 b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2101680"/>
            <a:ext cx="40384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y is the result of 3 / 2 = 1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ly typ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lue has a type associated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uter how to interpret th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integer, floating point, letter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the type if it isn’t specified (liter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is a floating point number (has a fractional p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of an operation is in the same type as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nd 2 are integers so the answer is an integ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ways to solve the problem of 3 / 2 has a result of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one of the values floating point by adding 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 type will then be floa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can cast one of the values to the primitive types: float or 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uble) 3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/ (float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asting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ting to get the values right for splitting up a bill for 3 people of 19 dol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first with a calc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out ca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in DrJava with 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55Z</dcterms:modified>
  <cp:revision>1465</cp:revision>
  <dc:subject/>
  <dc:title>Summer Institute for Computing Education</dc:title>
</cp:coreProperties>
</file>