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pulating Pictures, Arrays, and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5 - </a:t>
            </a:r>
            <a:fld id="{8A04A3D7-1F8C-4D14-9B53-A2417AFF8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verage x numbers get the sum of all the numbers and then divide by 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8838-6C6E-4010-8634-A51AF425B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591D-71D2-4391-B398-EED91B32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4D80-F4E3-40A4-97F2-7A3057F4E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7DD2-7188-42A7-8F57-7981D96F8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CED5-5AB9-4002-8E24-73F3A5C5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177D-0C6C-46EC-B59A-99B4100D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F257-D961-4C7F-BE3A-09D34BEF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D59B-3A2B-4339-80B9-FE1D65B0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F364-E1A9-4686-A473-E3114B7D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354B-9C79-4261-B114-2ABC673A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D556-A8EE-4C01-B33F-EF2BB4D1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C7A2-9CEA-4185-81A3-139DD1BE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C777-F9D0-4209-9CB7-7AF33552E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nipulating Pictures, Arrays, and Loops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art 6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rayscale Resul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048280" y="2319480"/>
            <a:ext cx="3238560" cy="27050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57160" y="2319480"/>
            <a:ext cx="32385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uminanc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erceive blue to be darker than red, and gr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when the same amount of light is ref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etter grayscale model should take this into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 green the highest (* 0.587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 less (* 0.299)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 the very least (* 0.1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rayscale with Luminance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new metho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yscaleWithLum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new algorithm for calculating int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ity = (int) (red * 0.299 + green * 0.587 + blue * 0.1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105520" y="3733920"/>
            <a:ext cx="3209760" cy="1752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105520" y="1676520"/>
            <a:ext cx="3209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sting Grayscale with Luminanc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fil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:/intro-prog-java/mediasources/caterpillar.jpg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pictureObj = new Picture(fil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Obj.explor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Obj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yscaleWithLumin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Obj.explor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change all the colors in a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reating a new color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negate a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reating a new color with (255 - red, 255 - green, 255 - b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create a grayscale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setting the red, green, and blue to the same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improve this by weighting the colors based on how we perceiv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a conceptual and practi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hange all the colors in a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a for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negate a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turn a picture into gray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adjust the grayscale based on how we perceive col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egating an Imag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you turn a picture into a negat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 should become 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5,255,255 becomes 0,0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 should become 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0,0 becomes 255,255,2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29200" y="1371600"/>
            <a:ext cx="3209760" cy="1752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029200" y="4114800"/>
            <a:ext cx="3209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egate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current value from 255 for red, green, and 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he array of pixels from the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e variables to hold the current pixel and the red, green, and blu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starting an index at 0 and incrementing by 1 and loop while the index is less than the length of the 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the pixel at the current index from the array of pix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t the red value to 255 – current red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t the blue value to 255 – current blu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t the green value to 255 – current green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 the index and go back to ste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egate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2670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Method to negate the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void negat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xel[] pixelArray = this.getPixels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xel pixelObj = nul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redValue, blueValue, greenValue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loop through all the pi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(int i = 0; i &lt; pixelArray.length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get the current pi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xelObj = pixelArray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get the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Value = pixelObj.getRe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nValue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xelObj.getGre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Value = pixelObj.getBlu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set the pixel's color pixelObj.setColor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Color(255 - redValu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5 - greenValu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5 - blueValue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hanging to Grayscal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yscale ranges from black to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d, green, and blue values are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change any color to gr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number can we use for all three valu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nsity of the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average the co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d + green + blue) /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5 + 25 + 230) / 3 = 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486400" y="4419720"/>
            <a:ext cx="447840" cy="228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486400" y="5334120"/>
            <a:ext cx="41904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rayscale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color values to the average of the original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he array of pixels from the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e variables to hold the current pixel and the red, green, and blu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starting an index at 0 and incrementing by 1 and loop while the index is less than the length of the 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the pixel at the current index from the array of pix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alculate the average of the current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redValue + greenValue + blueValue )/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t the red value to the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t the blue value to the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t the green value to the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 the index and go to ste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rayscale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Method to change the picture to gray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void grayscal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xel[] pixelArray = this.getPixels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xel pixelObj = nul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intensity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loop through all the pi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(int i = 0; i &lt; pixelArray.length;         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get the current pi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xelObj = pixelArray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compute the average int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nsity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ixelObj.getRed() 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xelObj.getGreen()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xelObj.getBlue()) /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set the pixel co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xelObj.setColor(new Color(intensity,intensity,intensity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esting Grayscal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fil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:/intro-prog-java/mediasources/caterpillar.jpg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pictureObj = new Picture(fil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Obj.explor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Obj.grayscal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Obj.explor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5-25T14:57:11Z</dcterms:modified>
  <cp:revision>2132</cp:revision>
  <dc:subject/>
  <dc:title>Summer Institute for Computing Education</dc:title>
</cp:coreProperties>
</file>