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-Dimensional Arrays and Nested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6 - </a:t>
            </a:r>
            <a:fld id="{CEB34CB3-401F-4B29-A99E-A60E488E3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hod getMediaPath is a class method in the Picture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’t need to calculate the midpoint every time through the loop so calculate it once before the loo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9E23-CC2F-4758-B71A-F7C7F6206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8ACD-2580-4015-B34C-9618D378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4564-E2AF-4402-9826-D05F3981F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B236-19A9-45A4-9091-694E72CED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7EB4-C813-4E51-B779-7B532622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122F-FF16-40D5-842A-03C85758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9DA3-949A-4682-8D29-B2737E9C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F5D8-00E7-4CC0-B052-E62F5C6C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48B2-6B77-46C8-9AC8-3603CD94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8546-F710-45FB-B383-4407DBEE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5876-1B80-4CC4-A724-870443E0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B0D4-8449-4839-853A-0BB941F3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198A-A519-429A-A924-EFEB9EC98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wo-Dimensional Arrays and Nested Loops – part 2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Using Picture.getMediaPath(fileName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s the full path name for the file with the passed short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Motorcycle.jp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aults to using the dire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:\intro-prog-java\mediasources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it to a directory us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ture.setMediaPath(“c:/book/media/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write out the directory name to a file and remember it till you chang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rying Mirror Vertical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h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p1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Picture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Chooser.getMediaPath(“caterpillar.jpg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ke the method on th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.mirrorVertical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th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.show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105520" y="4191120"/>
            <a:ext cx="31334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irror Horizontal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mirroring around a mirror held horizontally in the vertical center of the pi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a reflection in a la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952880" y="3505320"/>
            <a:ext cx="3133800" cy="1428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952880" y="1447920"/>
            <a:ext cx="31338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inking Through Mirror Horizontal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6483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in think of a number at each x and y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a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ry it with a small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we write a nested for loop to do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410080" y="1600200"/>
          <a:ext cx="3276720" cy="1919160"/>
        </p:xfrm>
        <a:graphic>
          <a:graphicData uri="http://schemas.openxmlformats.org/drawingml/2006/table">
            <a:tbl>
              <a:tblPr/>
              <a:tblGrid>
                <a:gridCol w="1091880"/>
                <a:gridCol w="1092600"/>
                <a:gridCol w="1092240"/>
              </a:tblGrid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5410080" y="3962520"/>
          <a:ext cx="3276720" cy="1904760"/>
        </p:xfrm>
        <a:graphic>
          <a:graphicData uri="http://schemas.openxmlformats.org/drawingml/2006/table">
            <a:tbl>
              <a:tblPr/>
              <a:tblGrid>
                <a:gridCol w="1091880"/>
                <a:gridCol w="1092600"/>
                <a:gridCol w="1092240"/>
              </a:tblGrid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5793120" y="1219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9800" y="1219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26840" y="1219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0732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0732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07320" y="3048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3120" y="3581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9800" y="3581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926840" y="3581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07320" y="4038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07320" y="4648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07320" y="5334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at is the Horizontal Mirror for this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35053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o solve the problem for several small samples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if you can come up with the algorithm to solv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it more smal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648320" y="1219320"/>
          <a:ext cx="4038480" cy="2376360"/>
        </p:xfrm>
        <a:graphic>
          <a:graphicData uri="http://schemas.openxmlformats.org/drawingml/2006/table">
            <a:tbl>
              <a:tblPr/>
              <a:tblGrid>
                <a:gridCol w="807840"/>
                <a:gridCol w="808200"/>
                <a:gridCol w="806400"/>
                <a:gridCol w="807840"/>
                <a:gridCol w="808200"/>
              </a:tblGrid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4648320" y="3657600"/>
          <a:ext cx="4038480" cy="2378160"/>
        </p:xfrm>
        <a:graphic>
          <a:graphicData uri="http://schemas.openxmlformats.org/drawingml/2006/table">
            <a:tbl>
              <a:tblPr/>
              <a:tblGrid>
                <a:gridCol w="807480"/>
                <a:gridCol w="807840"/>
                <a:gridCol w="807480"/>
                <a:gridCol w="807840"/>
                <a:gridCol w="80784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4878720" y="914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40840" y="914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78920" y="914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241040" y="914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02800" y="914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92920" y="144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9292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929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irror Horizontal Algorith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6483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he vertical mid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height /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p through all the x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 from y=0 to y &lt; vertical mid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the top 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x an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the bottom 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 - 1 -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bottom pixel’s color to the top pixel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410080" y="1676520"/>
          <a:ext cx="3276720" cy="1919160"/>
        </p:xfrm>
        <a:graphic>
          <a:graphicData uri="http://schemas.openxmlformats.org/drawingml/2006/table">
            <a:tbl>
              <a:tblPr/>
              <a:tblGrid>
                <a:gridCol w="1091880"/>
                <a:gridCol w="1092600"/>
                <a:gridCol w="1092240"/>
              </a:tblGrid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5410080" y="3733920"/>
          <a:ext cx="3276720" cy="1904760"/>
        </p:xfrm>
        <a:graphic>
          <a:graphicData uri="http://schemas.openxmlformats.org/drawingml/2006/table">
            <a:tbl>
              <a:tblPr/>
              <a:tblGrid>
                <a:gridCol w="1091880"/>
                <a:gridCol w="1092600"/>
                <a:gridCol w="1092240"/>
              </a:tblGrid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irror Horizontal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method to mirror the top half of the picture to the bottom ha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motorcycle redMotorcycle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bout mirroring bottom to t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0" y="114300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572000" y="367668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several small versions of a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olve those before you try to code a programming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determine the general algorithm from the concrete small ver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e the algorithm into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mirror by changing how you loop and how you get the source and target pix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a conceptual and practic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reate a simpler version of a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reate an algorithm by solving several concrete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figuring out what is common i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translate the algorithm into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mirror a picture vertically and horizontall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Vertical Mirroring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we want to pretend to place a mirror in the middle of th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ould see the left side of the picture mirrored on the righ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105520" y="1676520"/>
            <a:ext cx="3133440" cy="1428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05520" y="4191120"/>
            <a:ext cx="31334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inking Through Vertical Mirroring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35053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just think of a number at each x and y location instead of a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irroring would look like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find the algorithm to do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648320" y="1219320"/>
          <a:ext cx="4038480" cy="2376360"/>
        </p:xfrm>
        <a:graphic>
          <a:graphicData uri="http://schemas.openxmlformats.org/drawingml/2006/table">
            <a:tbl>
              <a:tblPr/>
              <a:tblGrid>
                <a:gridCol w="807840"/>
                <a:gridCol w="808200"/>
                <a:gridCol w="806400"/>
                <a:gridCol w="807840"/>
                <a:gridCol w="808200"/>
              </a:tblGrid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4648320" y="3657600"/>
          <a:ext cx="4038480" cy="2378160"/>
        </p:xfrm>
        <a:graphic>
          <a:graphicData uri="http://schemas.openxmlformats.org/drawingml/2006/table">
            <a:tbl>
              <a:tblPr/>
              <a:tblGrid>
                <a:gridCol w="807480"/>
                <a:gridCol w="807840"/>
                <a:gridCol w="807480"/>
                <a:gridCol w="807840"/>
                <a:gridCol w="80784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4878720" y="914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40840" y="914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78920" y="914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41040" y="914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02800" y="914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92920" y="144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9292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929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at is the Vertical Mirror for this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38098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he solve the problem for small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can’t solve it on a small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’t write a program to solv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181480" y="1600200"/>
          <a:ext cx="3276720" cy="1919160"/>
        </p:xfrm>
        <a:graphic>
          <a:graphicData uri="http://schemas.openxmlformats.org/drawingml/2006/table">
            <a:tbl>
              <a:tblPr/>
              <a:tblGrid>
                <a:gridCol w="1091880"/>
                <a:gridCol w="1092600"/>
                <a:gridCol w="1092240"/>
              </a:tblGrid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5564520" y="1219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31200" y="1219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98240" y="1219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7872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7872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78720" y="3048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5181480" y="4038480"/>
          <a:ext cx="3276720" cy="1919520"/>
        </p:xfrm>
        <a:graphic>
          <a:graphicData uri="http://schemas.openxmlformats.org/drawingml/2006/table">
            <a:tbl>
              <a:tblPr/>
              <a:tblGrid>
                <a:gridCol w="1091880"/>
                <a:gridCol w="1092600"/>
                <a:gridCol w="109224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556452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3120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9824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02400" y="4191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02400" y="4800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02400" y="548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irror Vertical Algorith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 through all the rows (y starts at 0, increments by 1, and is less than the picture heigh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p with x starting at 0 and x less than the midpoint (mirror point) val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the left pixel at x and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the right pixel at width – 1 - 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color for the right pixel to be the color of the left pix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648320" y="1219320"/>
          <a:ext cx="4038480" cy="2376360"/>
        </p:xfrm>
        <a:graphic>
          <a:graphicData uri="http://schemas.openxmlformats.org/drawingml/2006/table">
            <a:tbl>
              <a:tblPr/>
              <a:tblGrid>
                <a:gridCol w="807840"/>
                <a:gridCol w="808200"/>
                <a:gridCol w="806400"/>
                <a:gridCol w="807840"/>
                <a:gridCol w="808200"/>
              </a:tblGrid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4648320" y="3747960"/>
          <a:ext cx="4038480" cy="2378160"/>
        </p:xfrm>
        <a:graphic>
          <a:graphicData uri="http://schemas.openxmlformats.org/drawingml/2006/table">
            <a:tbl>
              <a:tblPr/>
              <a:tblGrid>
                <a:gridCol w="807480"/>
                <a:gridCol w="807840"/>
                <a:gridCol w="807480"/>
                <a:gridCol w="807840"/>
                <a:gridCol w="80784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irror Vertical Algorithm to Co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going to need the mid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midpoint = this.getWidth() / 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 through the rows (y valu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int y = 0; y &lt; this.getHeight(); y++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p through x values (starting at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int x = 0; x &lt; midpoint; x++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right pixel color to left pixel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 leftPixel = this.getPixel(x, 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 rightPixel = this.getPixel(this.getWidth() - 1 - x, 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Pixel.setColor(leftPixel.getColor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irror Vertical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001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mirrorVertical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mirrorPoint = this.getWidth() / 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 leftPixel =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 rightPixel =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oop through the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y = 0; y &lt; this.getHeight(); y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oop from 0 to just before the mirror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x = 0; x &lt; mirrorPoint; x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irror Vertical Method - Continue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Pixel = this.getPixel(x, 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Pixel = this.getPixel(this.getWidth() – 1 – x, 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Pixel.setColor(leftPixel.getColor(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5-08-16T19:15:08Z</dcterms:modified>
  <cp:revision>2174</cp:revision>
  <dc:subject/>
  <dc:title>Summer Institute for Computing Education</dc:title>
</cp:coreProperties>
</file>