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7A1C-D12A-459A-A9CF-3ADA2479A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304A-75B7-4C15-8408-1865B725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BAF0-8435-4A02-B4C0-BFDD40FF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8B48-0EF1-48AD-A2D1-09FFE327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7DC9-F75A-4D73-9415-D3AC87DE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C4F1-3E17-4CD4-B79B-D0E183F5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563E-CB28-4E14-BB6A-97A8D4FC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F7CF-EFA8-417D-AB88-26CD1E02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480C-6202-4969-919A-628B52AD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60B4-52EE-4F58-8E5B-4CE66C56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CC4D-9501-4565-9A28-EF90064D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E831-E982-49C3-B7FF-0F497DB3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056D-11BC-4656-8F38-9C6279E2C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wo-Dimensional Arrays and Nested Loops – part 1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ust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ighten the Color with a Nested Loop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773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void lighte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 pixelObj = nul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colorObj = nul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loop through the columns (x dir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x = 0; x &lt; this.getWidth(); x++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loop through the rows (y dir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int y = 0; y &lt; this.getHeight(); y++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ighten - Continue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get pixel at the x and y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Obj = this.getPixel(x,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get the current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Obj = pixelObj.getColo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get a lighter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Obj = colorObj.brighte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set the pixel color to the lighter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Obj.setColor(colorObj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rying the Lighten Metho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486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interactions pa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file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:/intro-prog-java/mediasources/caterpillar.jpg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p1 = new Picture(f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.explor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.lighten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.explor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486400" y="1219320"/>
            <a:ext cx="2895480" cy="2359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28954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hanging to Nested Loop Exercis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method clearBlue() to use a nested for loop to loop through all the pix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the method again to check that it still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hat the blue values are all 0 using pictureObj.explore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105520" y="2438280"/>
            <a:ext cx="31334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wo-dimensional array has columns and 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nested loops to work with 2-d arr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loop for the x direction and one for the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nt x = 0; x &lt; this.getWidth(); x++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loop through the rows (y dir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(int y = 0; y &lt; this.getHeight(); y++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a conceptual and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two-dimensional arr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get the pixel for a x and y lo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use nested loo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onvert a single for loop to a nested for lo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at is a two-dimensional array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191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ixels in a picture are really stored in a two-dimensional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ixel has a x value (horizontal lo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ixel has a y value (vertical lo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Obj.getPixel(x,y) returns the pixel at that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2327400"/>
            <a:ext cx="4038480" cy="2689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091120" y="1941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21337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97120" y="2743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33526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xample Two-Dimensional Array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street is in D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tle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I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t or mi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irs at a theater or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w C seat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275440" y="3747960"/>
            <a:ext cx="2784240" cy="2378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595840" y="1219320"/>
            <a:ext cx="2143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ested Loop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get all the pixels in a picture using their x and y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left to right and top to bot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0 and y=0, x=1 and y=0, x=2 and y=0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0 and y=1, x=1 and y=1, x=2 and y=1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0 and y=2, x=1 and y=2, x=2 and y=2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have one loop insid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uter loop counts y from 0 to height 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ner loop counts x from 0 to width 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lternative Nested Loop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get all the pixels in a picture using their x and y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op to bottom and left to r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0 and y=0, x=0 and y=1, x=0 and y=2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1 and y=0, x=1 and y=1, x=1 and y=2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2 and y=0, x=2 and y=1, x=2 and y=2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have one loop insid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uter loop counts x to width 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ner loop counts y from 0 to height 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ested Loop Templat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y = 0; y &lt; this.getHeight(); y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x = 0; x &lt; this.getWidth(); x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get the current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Obj = this.getPixel(x,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do something to the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set the new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Obj.setColor(colorObj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lternative Nested Loop Templat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columns (x dir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x = 0; x &lt; this.getWidth(); x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loop through the rows (y dir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y = 0; y &lt; this.getHeight(); y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get the current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Obj = this.getPixel(x,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do something to the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set the new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Obj.setColor(colorObj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ighten the Color Algorith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x at 0 and loop while x &lt; the picture width (add 1 to x at the end of each loo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y at 0 and loop while y &lt; the picture height (add 1 to y at the end of each lo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he pixel at this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he color at the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en (brighten) the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he color for the pixel to the lighter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5-08-16T18:18:08Z</dcterms:modified>
  <cp:revision>2163</cp:revision>
  <dc:subject/>
  <dc:title>Summer Institute for Computing Education</dc:title>
</cp:coreProperties>
</file>