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- </a:t>
            </a:r>
            <a:fld id="{68AD1077-1396-4935-B789-F8CE36534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here is part of market.jpg after doing poste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C60-EE09-424A-AF49-95CD8F04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4FD-2983-43F3-BD40-5628BD98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F3B-F982-4B35-8142-FE0B7C99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002-C732-4326-AB3D-765A4E5B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CFF-C311-4C15-B05A-229D8D8C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29E-0639-48F9-A4B4-C6960E5A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BEC3-5527-462A-B997-9647FABA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30C-2DD3-4A3E-B7D5-62A2B0BF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813-6C85-49F0-95F2-6A968664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BE8-CFBE-4B64-ABC1-882E6E0E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BDE-E4A1-42D1-A3C5-9786858B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088-82CF-441F-BB19-D984BB2C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0574-0AA4-4D67-9A41-5B35D20BD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– part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Metho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tint the shadows d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redValue &lt; 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Value = redValue * 0.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Value = greenValue * 0.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Value = blueValue * 0.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tint the midtones a light brown by reducing the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(redValue &lt; 1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Value = blueValue * 0.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Metho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tint the highlights a light 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by reducing the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Value = blueValue * 0.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set the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Red((int) red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Green((int) green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Blue((int) blue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sepiaTi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FileChooser.getMediaPath(“gorge.jpg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sepiaTi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steriz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the number of different colors in an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ll values in a range to one value (the midpoint of the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&lt; 64 to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&lt;128 to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&lt; 192 to 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rest to 2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2911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steriz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all the pixels in a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red value for the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ight range and set the new r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green value for the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ight range and set the new green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blue value for the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ight range and set the new blu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sterize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method posterize() in the Picture.jav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will reduce the number of colors by changing color values to 1 of 4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0 to 63 to 31 (&lt; 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64 to 127 to 95 (&lt; 1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128 to 191 to 159 (&lt; 1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l 192 to 255 to 2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with tammy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f, else if, and else for &gt; 2 possib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dditional else if’s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pia-tint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t to gray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shadows d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middle grays b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lightest grays 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osterize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each color to the center of a range of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conditionals with &gt; 2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epia-tint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est for values in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osterize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Pic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yellowish tint, used to make things look old and 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327636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make the picture graysc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pixels in th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shadows (darkest grays) to be even darker (0 &lt;= red &lt; 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middle grays a brown color (60 &lt;= red &lt; 1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highlights (lightest grays) a bit yellow (190 &lt;= 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red and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ecrease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Multiple If State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re doing different things based on a set of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= x &lt;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&lt; x &lt;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&lt;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0 &lt;= x &amp;&amp; x &lt;=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5 &lt; x &amp;&amp; x &lt;=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10 &lt;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“else if” for &gt; 2 Op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are doing different things based on a set of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= x &lt;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&lt; x &lt;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&lt;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n’t need to check if x &gt; 5 since the first if block would have executed if it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0 &lt;= x &amp;&amp; x &lt;=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if (x &lt;=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with &gt; 2 Choic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0 &lt;= x &amp;&amp; x &lt;= 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if (x &lt;=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// what is 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1277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sepiaTi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redValue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greenValue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blueValue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first change the current picture to gray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.graysca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pia-toned Metho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x = 0; x &lt; this.getWidth(); x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y = 0; y &lt; this.getHeight(); y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the current pixel and colo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 = this.getPixel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Value = pixelObj.getRe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Value = pixelObj.getGree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Value = pixelObj.getBlu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22T17:59:53Z</dcterms:modified>
  <cp:revision>1856</cp:revision>
  <dc:subject/>
  <dc:title>Summer Institute for Computing Education</dc:title>
</cp:coreProperties>
</file>