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 and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8 - </a:t>
            </a:r>
            <a:fld id="{F1DD5AEF-86E5-47A2-9AA7-A1D3B9A71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more reusable method add parameters for the top left x, top left y, and width of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690480" y="324000"/>
            <a:ext cx="5500800" cy="41256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35040" y="4865400"/>
            <a:ext cx="56023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nt names are guaranteed to exi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R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ve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log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currStyle = g.getStyle()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get the current font style as 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currSize = g.getSize()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get the current font size as 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ng currName = g.getName()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get font name as a st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ng currFamily = g.getFamily()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get font’s family name as a st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ers often do this for copyright.  To make this method more reusable add the color, font, and y position as parameters to this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690480" y="324000"/>
            <a:ext cx="5500800" cy="41256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5040" y="4865400"/>
            <a:ext cx="56023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polygon wi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on currPolygon = new Polygo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Polygon.addPoint(x,y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on currPolygon = new Polygon(xArray, yArray, numPoint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closed polygon make sure the first and last points ar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690480" y="324000"/>
            <a:ext cx="5500800" cy="41256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35040" y="4865400"/>
            <a:ext cx="56023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ixels that can be displayed is the resolution of the display.  Common resolutions are 1024 by 768, and 1280 by 102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397D-074E-4976-AFC7-42994B6B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B34D-F028-44FF-AF0C-8985F4F0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BC0F-591B-476C-95C1-5DF94081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9B75-F92E-4FB2-B316-EA9A9A97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54F6-B7C0-4DE8-B0AD-E2982F4D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679D-3A1C-4022-8ADB-DFB83B35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B7EE-19DB-4E1D-A242-C833CD3F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D3EA-04F1-44D5-9890-C2B6FA24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195F-BC7F-41FA-831F-18F8063C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CC4B-B763-4CAB-BFE1-AC87B29B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9722-E198-4BA1-B055-7CC161AD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8586-54A6-4D46-9FC4-510FA4B0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13AF-8D07-42FF-AD1C-A209E2CC1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in Java – part 1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 Circle Exercis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00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method to add a yellow sun to a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with beach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file = FileChooser.getMediaPath(“beach.jpg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drawSu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show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the new image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ctureOb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write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0" y="3200400"/>
            <a:ext cx="4038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orking with Font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font object with the font name, style, and point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labelFont = new Font(“TimesRoman”, Font.BOLD, 2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normalFont = new Font(“Helvetica”,Font.PLAIN, 1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current 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bj.setFont(labelFon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fo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bj.getStyle(), g.getSize(), g.getName(), g.get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orking with String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raw a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bj.drawString(“test”,leftX,baseline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FontMetrics class for drawing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Metrics currFontMetrics = g.getFontMetric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baselineY = currFontMetrics.getHeight()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FontMetrics.getDesce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width = currFontMetrics.stringWidth(“test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76400" y="5105520"/>
            <a:ext cx="3048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76400" y="5533920"/>
            <a:ext cx="5181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76400" y="5640480"/>
            <a:ext cx="3048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57680" y="4992840"/>
            <a:ext cx="3047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86280" y="45266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ft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95520" y="4924440"/>
            <a:ext cx="38088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8520" y="565848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i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495520" y="5533560"/>
            <a:ext cx="38088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77880" y="502992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83520" y="4923360"/>
            <a:ext cx="260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t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905440" y="4973760"/>
            <a:ext cx="0" cy="66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14760" y="56584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5654520" y="5579640"/>
            <a:ext cx="689040" cy="258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35440" y="436644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7400" y="4676760"/>
            <a:ext cx="244440" cy="63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1280" y="45108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555880" y="4632480"/>
            <a:ext cx="879480" cy="44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dd a String to a Picture Exercis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257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method drawString that will add some text to a 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color to draw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font to use when drawing the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a string near the bottom left of the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have time create another method that takes a string and y value and centers the string in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file = FileChooser.getMediaPath(“kitten2.jpg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drawString(“Barbara Ericso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show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15000" y="3581280"/>
            <a:ext cx="260028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Lines and Polygon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drawLine(x1,y1,x2,y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d Poly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bj.drawPolygon(xArray,yArray,numPoint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bj.drawPolygon(currPolygo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ed Poly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bj.fillPolygon(xArray, yArray, numPoint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bj.fillPolygon(currPolygo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97640" y="1509840"/>
            <a:ext cx="1573200" cy="62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15200" y="2666880"/>
            <a:ext cx="706320" cy="966960"/>
          </a:xfrm>
          <a:prstGeom prst="plus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4060800"/>
            <a:ext cx="706320" cy="9669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70520" y="15638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,y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40680" y="19051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2,y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Lines Exercis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method (drawX) for adding two crossed lines to a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a passed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one line at the top left corner of the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it at the bottom right corner of the 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the other line at the bottom left of the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it at the top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test it with barbara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610240" y="2271600"/>
            <a:ext cx="211464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draw by changing the color of the 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you can use java.awt.Graphics to do dra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Graphics object from a Pictur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 graphic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pictureOb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getGraphic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col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.setColor(Color.RE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some simple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.drawLine(x1,y1,x2,y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.drawOval(x1,y1,width,heigh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.drawString(“string to draw”,leftX,baselin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change pixel colors to draw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the java.awt.Graphics class to do simple dra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draw simple sh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set the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set the f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draw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on a Pictur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we want to draw something on a pi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bout drawing a grid of lines on top of the pictu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uld just set the pixels to black to make up the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ould add vertical lines every 20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x = 20, x &lt; width, x +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y= 0, y &lt; height, y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ould add horizontal lines every 20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y = 20, y &lt; height, y+=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x=0, x &lt; width, x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Lines Exercise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58672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method drawGrid to draw horizontal and vertical lines on the current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s every 20 pixels in x an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est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file = FileChooser.getMediaPath(“barbara.jpg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drawGri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show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324480" y="1143000"/>
            <a:ext cx="211464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Other Shap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draw a circle on a pi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draw a string of charac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till would need to set the pixel colors of certain 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pixe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has a way of doing these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Graphics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knows how to draw and fill simple shapes and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draw on a pictur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getting the graphics object from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ictureO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getGraphic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WT Graphics Clas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of the Graphics class in the java.awt package let you pa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 a color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some sh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les, Rectangles, Lines, Polygons,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pes drawn on top of other shapes will cover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font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some letters (str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75120" y="1219320"/>
            <a:ext cx="358452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orking with Color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reate a new color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olor(redValue,greenValue,blue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predefined 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, green, blue, black, yellow, gray, magenta, cyan, pink, 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these do: Color.red or Color.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 to import java.awt.*; or java.awt.Col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current drawing color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aphicsOb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setColor(colorObj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current drawing color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currColor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aphicsOb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getColo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raphics Environmen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92160" y="25902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3124080"/>
            <a:ext cx="5562720" cy="2590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 0 is at the top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increases to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increases going down the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70040" y="2851200"/>
            <a:ext cx="5264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57160" y="2590200"/>
            <a:ext cx="6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28880" y="3110040"/>
            <a:ext cx="0" cy="2300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960" y="5409360"/>
            <a:ext cx="6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 are often positioned by their top left co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 units are measured in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1320" y="568728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,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883120" y="1865160"/>
            <a:ext cx="18288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rawing Circles and Ellips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4956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b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drawOval(x,y,width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b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fillOval(x,y,wid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he x and y of the upper left corner of the enclosing rec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point on the circle or el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he width and height of the enclosing rect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a circle use the same value for the width and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83120" y="1865160"/>
            <a:ext cx="182880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39760" y="1371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02240" y="171288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3320" y="32734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78760" y="34653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883120" y="3465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31720" y="243828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349960" y="18651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49960" y="2855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3886200"/>
            <a:ext cx="18288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6-03T12:18:21Z</dcterms:modified>
  <cp:revision>1932</cp:revision>
  <dc:subject/>
  <dc:title>Summer Institute for Computing Education</dc:title>
</cp:coreProperties>
</file>