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00400" y="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itio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7 - </a:t>
            </a:r>
            <a:fld id="{77B49899-0733-43C6-8994-49BCABB76A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don’t have to enclose the pixelObj.setColor statement in a block since it is just one statement but it makes the good easier to read and maint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http://science.howstuffworks.com/question51.htm for more information on red-ey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indentation to make your code easier for other people to read.  It doesn’t matter to the compil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hat a block of statements in Java is inside {}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06E9-B530-4828-9576-3AAFEA025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A855-A56C-4478-BA31-49287FE85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1DA9-6137-48F3-97A5-BE6BDCAD2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18CD-C8B1-488E-9726-B16019FC2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E64D-56D9-497F-AB10-146888929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DF27-86B1-48FC-BC89-CBF5F90E6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1EFE-AF2B-464A-8534-B3CEF0824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9D9C-90CD-4F71-AEA6-A34318710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8274-3841-4B02-AB16-F28239263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899F-5B77-4857-A774-141566A1E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12E0-710B-47F4-926E-FD803102B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886F-D2AA-45E8-A619-5BF7C1F85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86E45-96D9-47E9-B1F3-EED3BAC6C2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990720"/>
            <a:ext cx="8001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nditionals - part 1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b Eric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Remove Red Eye Method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void removeRedEye(int startX, int startY, int endX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endY, Color newCol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el pixelObj = nul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/ loop through the pixels in the rectangle defined by the // startX, startY, and endX and en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int x = startX; x &lt; endX; x++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int y = startY; y &lt; endY; y++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/ get the current pix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elObj = getPixel(x,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Remove Red Eye Method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/ if the color is near red then change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xelObj.colorDistance(Color.red) &lt; 16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elObj.setColor(newColor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esting removeRedEye 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picture explorer to find the values for start x, start y, end x, and end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the following to test removeRedE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 file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Chooser.getMediaPath(“jenny-red.jpg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ture p = new Picture(fil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explor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removeRedEye(startX,startY,endX,endY, Color.awt.BLACK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explor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halleng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a picture of a frie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try to change their eye col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to change their hair col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to change their clothing col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you write one method to do th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call it several times with different paramet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if statement to conditionally execute another statement or a block of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boolean te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boolean te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/ statements to execute if the test is 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Learning Goal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at a conceptual and practical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conditionally execute a statement or a block of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remove red-eye from a pi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Remove Red Eye 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 eye is when the flash from the camera is reflected from the subject’s ey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ant to change the red color in the eyes to another col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not change the red of her 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181480" y="3657600"/>
            <a:ext cx="2371680" cy="23781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105520" y="1143000"/>
            <a:ext cx="305100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Red Eye Algorithm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find the area around the eyes to limit where we change the col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pictureObj.explore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we still just want to change the pixels that are “close to” re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find the distance between the current color and our definition of 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ange the color of the current pixel only if the current color is within some distance to the desired 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Detailed Red Eye Algorithm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p with x staring at some passed start value and while it is less than some passed end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p with y starting at some passed start value and while it is less than some passed end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the pixel at this x and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the distance between the pixel color and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distance is less than some value (167) change the color to some passed new 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nditional Execution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imes we want a statement or block of statements executed only if some expression is 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use the “if” statement in 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colorDistance &lt; valu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ate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loc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exec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ext state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1676520"/>
            <a:ext cx="2514600" cy="1523880"/>
          </a:xfrm>
          <a:prstGeom prst="diamon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943600" y="3505320"/>
            <a:ext cx="16765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943600" y="4724280"/>
            <a:ext cx="167652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19920" y="22860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(expres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781680" y="4343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781680" y="3200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10280" y="3124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15328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458200" y="25146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7620120" y="51055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95880" y="35812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ment or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077320" y="24382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Using if Exercis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DrJava and try this in the interactions p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 x = 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(x &gt; 1) System.out.println(“X is &gt; 1”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.out.println(“X is “ + x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= 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(x &gt; 1) System.out.println(“X is &gt; 1”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.out.println(“X is “ + x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Blocks of Statement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f statement will conditionally execu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llowing statement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lock of statem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test is 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nditionally execute a block of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lose them in ‘{‘ and ‘}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nt the following statement or block of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make it easier to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good practice to always enclose conditional statements in a b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likely to cause an error if the code is mod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lor Distanc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istance between two points is computed 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are root of (( x1 – x2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(y1 – y2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istance between two colors can be compu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are root of ((red1 – red2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(green1-green2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(blue1 – blue2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a method in the Pixel class to do t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uble dist = pixelObj.colorDistance(color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19:23:22Z</dcterms:created>
  <dc:creator>Barbara Jane Ericson</dc:creator>
  <dc:description/>
  <dc:language>en-US</dc:language>
  <cp:lastModifiedBy>Barbara J. Ericson</cp:lastModifiedBy>
  <dcterms:modified xsi:type="dcterms:W3CDTF">2006-05-25T15:19:02Z</dcterms:modified>
  <cp:revision>1867</cp:revision>
  <dc:subject/>
  <dc:title>Summer Institute for Computing Education</dc:title>
</cp:coreProperties>
</file>