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B8E-1029-4116-9A14-00ED42B2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F85-8504-4014-BA84-D82B7779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6A9-93DD-41D1-B528-B5B1BD02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3BC-902F-42E5-BE5A-C8067BB0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E44-F76F-46CA-BADB-FE692418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18D-B201-42D8-B2FF-0CF629E2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9A9-B197-4000-B9E3-8B482974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3AF-E2B1-4379-BCBA-B16A37AD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76B-C3D0-4AF9-AC08-1FE40203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7D5-38E3-452D-8180-2A376DBC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1F8-FDCB-44BA-80C2-2DE2A910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AC0-CC1B-45EA-8F4F-F7DEE954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9A02-2EDA-473A-9D36-EA8A5FA33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3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ult of copyKati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37051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ing Pixels to a New Pict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we want to copy the target to a different location in th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startX and st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algorithm that will do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257800" y="1828800"/>
          <a:ext cx="1600200" cy="108108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105520" y="4038480"/>
          <a:ext cx="3581280" cy="2087640"/>
        </p:xfrm>
        <a:graphic>
          <a:graphicData uri="http://schemas.openxmlformats.org/drawingml/2006/table">
            <a:tbl>
              <a:tblPr/>
              <a:tblGrid>
                <a:gridCol w="895320"/>
                <a:gridCol w="895320"/>
                <a:gridCol w="895320"/>
                <a:gridCol w="89532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541224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872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87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5032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1224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503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7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28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240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240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240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24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to Position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method copyRobot to cop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ot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, 100 in 7inx95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ile = FileChooser.getMediaPath(“7inx95in.jpg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p = new Picture(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copyRobo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show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3593880" cy="48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py pixels from one pictur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rack of the sourceX, sourceY and targetX and targ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eclare, initialize, and change more than one variable in a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X = 0, targetX = 0; sourceX &lt;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Picture.getWidth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++, target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py one picture to a location in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change the start values for targetX and targ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py pixels from one pictur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clare, initialize and change several variables in a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py pixels from one picture to a specified location in another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ing Pixels to a New Pictur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rack the source picture x and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target picture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a blank pi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target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blank pictures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0x480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inX95in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257800" y="1828800"/>
          <a:ext cx="1600200" cy="108108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105520" y="4038480"/>
          <a:ext cx="3581280" cy="2087640"/>
        </p:xfrm>
        <a:graphic>
          <a:graphicData uri="http://schemas.openxmlformats.org/drawingml/2006/table">
            <a:tbl>
              <a:tblPr/>
              <a:tblGrid>
                <a:gridCol w="895320"/>
                <a:gridCol w="895320"/>
                <a:gridCol w="895320"/>
                <a:gridCol w="89532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Pictur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 picture to the 7 by 9.5 inch blank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target pictur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on the target pi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the source pictur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the source picture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source and target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olor of the target pixel to the color of the sourc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Algorithm to Co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source 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ourceX = 0, targetX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X &lt; sourcePicture.getWidth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X++, targetX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sourceY = 0, targetY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Y &lt; sourcePicture.getHeigh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Y++, targetY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Algorithm to Code – Co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 the source and target pix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Pixel = sourcePicture.getPixel(sourceX,source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 = this.getPixel(targetX,target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 the color of the target pixel to the color of the source pix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copyKati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sourceFil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Chooser.getMediaPath("KatieFancy.jpg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sourcePicture = new Picture(sourceFi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source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targe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X = 0, target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 &lt; sourcePicture.getWidt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X++, targetX++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py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sourceY = 0, targetY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 &lt; sourcePicture.getHeigh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Y++, targetY++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target pixel color to the source pixel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Pixel = sourcePicture.getPixel(sourceX,source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Pixel = this.getPixel(targetX,target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Pixel.setColor(sourcePixel.getColor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ing the copyKati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icture object using the 7inX95in.jpg file in the mediasources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new Picture(FileChooser.getMediaPath(“7inX95in.jpg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on this picture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copyKati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nt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repain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16T20:12:31Z</dcterms:modified>
  <cp:revision>2163</cp:revision>
  <dc:subject/>
  <dc:title>Summer Institute for Computing Education</dc:title>
</cp:coreProperties>
</file>