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5FB-5C41-478F-97F6-05A7DF69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655-20A2-47C0-A078-577DA66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9E4-594E-430F-A41C-38294988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DD5-8AC3-44AD-A64C-30E5E30B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ECC-E8E8-4528-853E-D8F8E164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479-D3AF-4815-BD7C-2EE9E46E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E77-8EA9-4D90-A80E-E29679D0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75F-7891-47A3-9210-D9A39875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228-0B34-497C-A909-4993D7ED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E7A-6ABE-4A23-A3FE-8817F8EA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D80-80A6-44BD-B6DA-D7689F0C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C9E-A888-47D1-8436-DA37D941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C78-33C6-4E47-B16E-CA51EE94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x values between xStart and x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y values between yStart and y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pixel from the source picture for the current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from the target picture for the targetStartX + x and targetStartY + 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in the target pixel to the color in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(Picture sourcePicture, int startX, int st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endX, int endY, int targetStartX, int targetSt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x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startX, tx = targetStart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&lt; end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+, 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y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startY, ty = targetStar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&lt; end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++, ty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opy the source color to the targe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x,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write Method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the copy method in Pictur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copyKatie() and copyKatiesFace() methods to use the new cop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s to make sure they stil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7480" y="1461960"/>
            <a:ext cx="2540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art of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start and end conditions in the 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meters to make methods more re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opy code from one metho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general method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all the general method from oth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art of one picture to an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good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more gener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dding parameters to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rewrite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copi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ropping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copy just part of a picture to a new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hange the start and end source x and y values to the desir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ictureObj.explore() to find the x and 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x and y values to get the face of the girl in KatieFancy.jp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69608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sFac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70, targetX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135; 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3, targetY = 1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80; sourceY++, target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Face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Copy Katie’s Fa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sFac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2552760" cy="34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makes a Good Method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do one and only on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 som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should tell you what it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 call other methods to do some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n’t copy code betwee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make general methods that are reus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be in the class that has the data the method is work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he last two methods general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pecified the file to copy from in 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we would need to change the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ke another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a diffe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eral Copy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method that copies pixels from a passed sourc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a start x and y and end x and y for the sourc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cover the entire picture then the whole picture will be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nd end x and y are part of the picture then cropping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urrent picture object with a target start x and target start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rt x and y are 0 then it copies to the upper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25:11Z</dcterms:modified>
  <cp:revision>2161</cp:revision>
  <dc:subject/>
  <dc:title>Summer Institute for Computing Education</dc:title>
</cp:coreProperties>
</file>