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- </a:t>
            </a:r>
            <a:fld id="{668A0E57-4215-48BB-96CE-473987FAE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entertainment.howstuffworks.com/blue-screen.htm for mor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picture is blue-mark.jpg.  The blue background is blue-empty.jpg.  The moon picture is moon-surface.jp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type all of the first bullet on one line in DrJava (it just didn’t fit on the slide 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picture was kid-in-frame.jpg in mediasources.  The old background was in bgframe.jpg.  The new background was in moon-surface.jp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B5D-B7B0-43D2-B02D-FFAADBA8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55C-5949-4650-A7B3-920F4D53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B83B-AB11-40EA-A5B4-DA56AA2E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BA0-A754-43B5-B45A-57E31787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E456-E794-474D-AABB-2FAFC95C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EDE7-0FFA-49B6-924A-399F090B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0C6-0036-4C77-9F3D-347BCCCE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5FB-A643-4EC5-AC7B-0B01A049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F70C-834B-4000-9B77-691119BC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89B-ACD2-4404-977B-93CEE271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1FB0-7C6B-4182-9EA3-B3EF675E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E49-9E08-4074-911B-6224CC6B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86D2-4B01-4114-B3E4-1C290E213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s – part 4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roma Key – Blue Scree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V and movie special effects they use a blue or green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just a blue sheet wa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ly you need an evenly lit, bright, pure blue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othing blue in the sc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21574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roma Key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method chromakey that takes a new background picture as an input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loop through all the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ixel color is blue (red + green &lt; b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the pixel color with the color from the new background pixel (at the same lo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8320" y="21574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chromake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markP = new Picture(FileChooser.getMediaPath(“blue-mark.jpg”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newBack = new Picture(FileChooser.getMediaPath(“moon-surface.jpg”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P.chromakey(newBack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P.show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wap the background of a pi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picture with a person in the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 picture without the person in the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pixel color to the new background co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distance from the current pixel is within a distance to the old background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romak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picture of a person in front of a blue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pixel color to the new background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blue value is greater than the red + green (for blue scr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hange the background on a pi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o chroma k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ackground Replaceme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a picture of a person in front of some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 picture of the background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replace the pixel colors for the background to be from another im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83200" y="121932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81760" y="3747960"/>
            <a:ext cx="31701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place Backgroun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the colors at all the pixels in the source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are within some range of the background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ixels from another background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83200" y="121932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081760" y="3747960"/>
            <a:ext cx="31701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place Background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on the source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 in the original background and the new background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hrough all the pixels in the sourc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if the distance from the source pixel color is within 15.0 of the background picture pixel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 replace it with the color at the new background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place Background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wapBackground(Picture oldBackgroun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newBackgr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curr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old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new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x=0; x&lt;this.getWidth(); 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y=0; y&lt;this.getHeight(); y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wap Background - Co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get the current pixel and old background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Pixel = this.getPixel(x,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Pixel = oldBackground.getPixel(x,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if the distance between the current pixel c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and the old background pixel color is less than the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then swap in the new background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currPixel.colorDistance(oldPixel.getColor()) &lt; 15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Pixel = newBackground.getPixel(x,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Pixel.setColor(newPixel.getColor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swapBackgroun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p1 = new Picture(FileChooser.getMediaPath(“kid-in-frame.jpg”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oldBack = new Picture(FileChooser.getMediaPath(“bgframe.jpg”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newBack = new Picture(FileChooser.getMediaPath(“moon-surface.jpg”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.swapBackground(oldBack,newBack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.show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place Background Resul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ckground color was too close to the shirt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2-25T22:15:08Z</dcterms:modified>
  <cp:revision>1857</cp:revision>
  <dc:subject/>
  <dc:title>Summer Institute for Computing Education</dc:title>
</cp:coreProperties>
</file>