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Pictures, Arrays, and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 - </a:t>
            </a:r>
            <a:fld id="{2C73EDA1-2338-400D-9007-78C9E7E3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icture explorer to check that the red values where reduced by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licking on an error in the Compiler Output pane will highlight the statement that caused the error and change the definitions pane to show you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use x += y as a shortcut for x = x + y, x-=y for x = x – y, x*=y for x=x*y, and x/=y for x = x /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ems in blue are what is different from the for-each loop 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clare items that we will need in the loop before the loop so that new ones don't get created each time through the l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doc is a utility that comes with the JDK for creating html documentation from your source code (*.java fi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207-14A5-4150-B9A6-7B793F6E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86D-01E3-4B1C-823C-57F7456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CE7-924D-49EC-B1C8-AF52BF6A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9EF-C34B-4DDF-9E26-23D23482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325-DBF6-48DC-98AF-ADCE2AEB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F82-4C64-483C-B05F-D5104339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3DB5-CC65-4DF7-B06F-09794DE0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201-7696-4689-B7EA-2A7F0520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A3D-04F0-430E-B84D-B84BD577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E20-69B6-47AC-956A-5C0AAF8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7EC-06B5-4D55-BD58-F6A9113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B6E-8D6C-428B-B7A2-4978659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E61-2BAA-4508-8846-A516133A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nipulating Pictures, Arrays, and Loop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rt 3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Re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method decreaseRed() to Picture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last } which ends the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th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mpile All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t by doing the following in the 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String fileName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C:/intro-prog-java/mediasources/caterpillar.jpg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 picture1 = new Picture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decreaseRe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picture1.explor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Red Method Resul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13380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31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Using Multiplication by 0.5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have also multiplied the red value by 0.5 and then cast back to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= value * 0.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line that divided by 2 and try to compil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creaseRe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ss of Precis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try the code on the previous slide you will get a compile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loss of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mplaining about putting a double value into a in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fractiona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1098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4363920"/>
            <a:ext cx="403848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sting to Solve Loss of Precision Erro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compile if we tell the compiler we know about the possible los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at it is inte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a cast to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(int) (value * 0.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we cast the result of the multiplication back to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is forcing a value into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t Declarations Outside Loop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need a variable in a loop it is best to declare it before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you are declaring a new variable each time through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slower than just changing the value associated with the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languages you must declare all variables at the beginning of a method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you can declare variables anywhere in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you declare them before you us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known in the block they are declar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hortcuts for Common Oper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gramming you often need to add one to a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 short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++; or ++ind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subtract 1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= index –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--; or -- inde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gorithm is a description of how to solv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implements an algorithm in 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ent is an explanation of your code to help people understan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are ignored by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multiply by a floating point number you can’t put this in an integer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you cast to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declare variables before the 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you will need in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gorith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translate an algorithm t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if you multiply by 0.5 instead of divide by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mprove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from For-each to Whi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or-each loop something needs to keep track of the current pix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hange each time through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re that we have gone through all of the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loop through all elements in an array by starting with index 0, then index 1, and so on till index (length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get the pixel at the current index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duce Red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rray of Pixel objects from the current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 variable to hold the r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index variable and set it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a variable to refer to the current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op while index is less than the length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t the pixel at the index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red value from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urrent red value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red for the current pixel to the chang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crement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op Algorithm to Co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write (code)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while loop with a counter for the index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variable to refer to the current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while the index is less than the length of the arr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index &lt; pixel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urrent pixel from the array of pixels for the curren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pixelArray[inde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oop Algorithm to Code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d value at the pix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pixelObj.getRe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red value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= value /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pixel r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.setRed(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to (increment) th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rease Red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648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decreaseRe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[] pixelArray = this.getPixel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valu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all the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(index &lt; pixelArray.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pixelArray[index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52520" y="1219320"/>
            <a:ext cx="3505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pixelObj.getRe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ecrease the 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value /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pixel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Red(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increment th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= index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Nam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add this new method to Picture.java and compile will we get an err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wo methods with the same name and both take n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have two methods with the same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 parameter list is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name one of them diffe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me the first one to decreaseRedFo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re explanations of your code to help people understand you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gnored by th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kinds in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a comment that lasts to the end of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a comment that can take up sever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a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* a Javadoc comment that is used to cre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tml documentation of your cod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56:31Z</dcterms:modified>
  <cp:revision>2173</cp:revision>
  <dc:subject/>
  <dc:title>Summer Institute for Computing Education</dc:title>
</cp:coreProperties>
</file>