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3"/>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
          <p:cNvSpPr/>
          <p:nvPr/>
        </p:nvSpPr>
        <p:spPr>
          <a:xfrm>
            <a:off x="2514600" y="0"/>
            <a:ext cx="43434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Media Computation Java, and DrJava</a:t>
            </a:r>
            <a:endParaRPr b="0" lang="en-US" sz="1200" spc="-1" strike="noStrike">
              <a:solidFill>
                <a:srgbClr val="000000"/>
              </a:solidFill>
              <a:latin typeface="Arial"/>
            </a:endParaRPr>
          </a:p>
        </p:txBody>
      </p:sp>
      <p:sp>
        <p:nvSpPr>
          <p:cNvPr id="47" name="PlaceHolder 4"/>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 - </a:t>
            </a:r>
            <a:fld id="{389DCE8B-8FD3-479E-ABD2-45179580F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don’t need to declare a variable each time we use it.  We only need to give the type the first time we mention the name.  In fact, the code won’t compile if you try to declare two variables with the same nam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howing the picture tammy.jpg.  Tammy is a Computer Science student at Georgia Te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stem.out.println(expression) to see the value of the thing referred to by the varia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cyh.com/cyh/kids/detail.html?topic_id=1484 and http://library.thinkquest.org/C001464/cgi-bin/view.cgi?show_item=eye_function_slight for an explanation of vi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phys.ufl.edu/~avery/course/3400/vision/rod_cone_microscope.gif for a picture of rods and co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harmsy.freeuk.com/headless.html and http://www.exploratorium.edu/seeing/exhibits/index.html for some optical illu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library.thinkquest.org/C001464/cgi-bin/main.cgi? Fo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lite.bu.edu/lite1/color/mix/mixmac.html for an applet that lets you mix col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sciencenetlinks.com/tools.cfm?DocID=41&amp;Grade=6-8 for an explanation of why paint primary colors are different that light primary colo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figure out why the colors range from 0 to 255?  If I tell you that each color is stored in 8 bits does that hel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up a CD and change the angle of it with the light.  What colors do you se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think pickAColor is an object method or a class method?  How can you t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on how digital camera work see http://travel.howstuffworks.com/digital-camera.ht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computer.howstuffworks.com/monitor.htm for more information on how computer monitors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entertainment.howstuffworks.com/tv3.htm for information on CRT de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electronics.howstuffworks.com/lcd.htm for information on LCD dev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s are often digitized as 24 bits per pixel, 8 bits for red, 8 for green, and 8 for blue.  Thus the intensity of the red can be from 0 to 255 since 8 bits are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C7223-133F-4F3B-B07D-A900FEE94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70769-189D-4A35-A210-3A6C204C7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03217-47FC-4F35-A8E2-66D402110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9F902-FB25-4282-942D-F11F8852B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E3329-4CFA-4298-9E6D-152122424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FCCA7-FE87-4559-A48A-55427E039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DD4EC-D274-4C88-8457-738723F76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C861C-96B9-4026-9F3A-6740C5CA0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C3158-F29B-4644-8C5C-D066AE07C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1B159-918F-4D07-9B59-5F5B9044E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E6706-86E1-4FA1-AE85-449EA2D4F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02BA3-8CC5-4187-920C-9BD51E9DD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909C-2A14-46D2-85B8-A4FFAD88CE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troduction to Media Computation</a:t>
            </a:r>
            <a:endParaRPr b="0" lang="en-US" sz="3600" spc="-1" strike="noStrike">
              <a:solidFill>
                <a:srgbClr val="333399"/>
              </a:solidFill>
              <a:latin typeface="Arial"/>
            </a:endParaRPr>
          </a:p>
        </p:txBody>
      </p:sp>
      <p:sp>
        <p:nvSpPr>
          <p:cNvPr id="49"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b Ericso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Institute of Technolog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06</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igital Pictures</a:t>
            </a:r>
            <a:endParaRPr b="0" lang="en-US" sz="3600" spc="-1" strike="noStrike">
              <a:solidFill>
                <a:srgbClr val="333399"/>
              </a:solidFill>
              <a:latin typeface="Arial"/>
            </a:endParaRPr>
          </a:p>
        </p:txBody>
      </p:sp>
      <p:sp>
        <p:nvSpPr>
          <p:cNvPr id="79" name="PlaceHolder 2"/>
          <p:cNvSpPr>
            <a:spLocks noGrp="1"/>
          </p:cNvSpPr>
          <p:nvPr>
            <p:ph/>
          </p:nvPr>
        </p:nvSpPr>
        <p:spPr>
          <a:xfrm>
            <a:off x="456840" y="1219320"/>
            <a:ext cx="4343400" cy="490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e the intensity of the red, green, and blue colors at each pix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d as a bunch of number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bits for red, 8 bits for green, 8 bits for blu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nearly 1 million bytes to store a 640 x 480 pictur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3 million bytes to store an image from a 1 megapixel (million pixel) camera</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ed as red, green, and blue colors on the computer displa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them close togethe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brain sees a smooth color image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 descr=""/>
          <p:cNvPicPr/>
          <p:nvPr/>
        </p:nvPicPr>
        <p:blipFill>
          <a:blip r:embed="rId1"/>
          <a:stretch/>
        </p:blipFill>
        <p:spPr>
          <a:xfrm>
            <a:off x="4881600" y="1219320"/>
            <a:ext cx="3570120" cy="2376360"/>
          </a:xfrm>
          <a:prstGeom prst="rect">
            <a:avLst/>
          </a:prstGeom>
          <a:ln w="0">
            <a:noFill/>
          </a:ln>
        </p:spPr>
      </p:pic>
      <p:pic>
        <p:nvPicPr>
          <p:cNvPr id="81" name="" descr=""/>
          <p:cNvPicPr/>
          <p:nvPr/>
        </p:nvPicPr>
        <p:blipFill>
          <a:blip r:embed="rId2"/>
          <a:stretch/>
        </p:blipFill>
        <p:spPr>
          <a:xfrm>
            <a:off x="5533920" y="3747960"/>
            <a:ext cx="2266920" cy="237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Getting Started</a:t>
            </a:r>
            <a:endParaRPr b="0" lang="en-US" sz="3600" spc="-1" strike="noStrike">
              <a:solidFill>
                <a:srgbClr val="333399"/>
              </a:solidFill>
              <a:latin typeface="Arial"/>
            </a:endParaRPr>
          </a:p>
        </p:txBody>
      </p:sp>
      <p:sp>
        <p:nvSpPr>
          <p:cNvPr id="8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start with modifying and creating pict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colors in the pictu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pictures we will work with soun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ing volume, pitch, reversing, etc</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1219320" y="2971800"/>
            <a:ext cx="3209760" cy="1752480"/>
          </a:xfrm>
          <a:prstGeom prst="rect">
            <a:avLst/>
          </a:prstGeom>
          <a:ln w="0">
            <a:noFill/>
          </a:ln>
        </p:spPr>
      </p:pic>
      <p:pic>
        <p:nvPicPr>
          <p:cNvPr id="85" name="" descr=""/>
          <p:cNvPicPr/>
          <p:nvPr/>
        </p:nvPicPr>
        <p:blipFill>
          <a:blip r:embed="rId2"/>
          <a:stretch/>
        </p:blipFill>
        <p:spPr>
          <a:xfrm>
            <a:off x="4572000" y="2971800"/>
            <a:ext cx="320976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Picture Class</a:t>
            </a:r>
            <a:endParaRPr b="0" lang="en-US" sz="3600" spc="-1" strike="noStrike">
              <a:solidFill>
                <a:srgbClr val="333399"/>
              </a:solidFill>
              <a:latin typeface="Arial"/>
            </a:endParaRPr>
          </a:p>
        </p:txBody>
      </p:sp>
      <p:sp>
        <p:nvSpPr>
          <p:cNvPr id="8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ke doing media manipulation easier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created a set of classes for you to us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ColorChooser, FileChooser, Pixel, etc</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not part of the Java langua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ere created at Georgia Tech</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have added the directory that has these classes to your classpat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 when we worked with Turt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ells Java where to find the cla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a Picture Object</a:t>
            </a:r>
            <a:endParaRPr b="0" lang="en-US" sz="3600" spc="-1" strike="noStrike">
              <a:solidFill>
                <a:srgbClr val="333399"/>
              </a:solidFill>
              <a:latin typeface="Arial"/>
            </a:endParaRPr>
          </a:p>
        </p:txBody>
      </p:sp>
      <p:sp>
        <p:nvSpPr>
          <p:cNvPr id="8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reate a picture object from a fi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he full name of the fil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use FilePicker.pickAFile() to get tha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method that returns the full file name as a String</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ask the Picture class to create the picture objec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data from the specified file</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icture(fileName)</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want to see the picture we have creat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ask the picture object to show itsel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Naming each Piece</a:t>
            </a:r>
            <a:endParaRPr b="0" lang="en-US" sz="3600" spc="-1" strike="noStrike">
              <a:solidFill>
                <a:srgbClr val="333399"/>
              </a:solidFill>
              <a:latin typeface="Arial"/>
            </a:endParaRPr>
          </a:p>
        </p:txBody>
      </p:sp>
      <p:sp>
        <p:nvSpPr>
          <p:cNvPr id="9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let’s pick a file name and save a reference to the resulting String object in a variable called fileNa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fileName = FileChooser.pickAFil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let’s create a Picture object and save a reference to it in a variable called pictureObj</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pictureObj = new Picture(fileNa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send the show() message to the picture objec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Obj.s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Naming Each Part</a:t>
            </a:r>
            <a:endParaRPr b="0" lang="en-US" sz="3600" spc="-1" strike="noStrike">
              <a:solidFill>
                <a:srgbClr val="333399"/>
              </a:solidFill>
              <a:latin typeface="Arial"/>
            </a:endParaRPr>
          </a:p>
        </p:txBody>
      </p:sp>
      <p:pic>
        <p:nvPicPr>
          <p:cNvPr id="93" name="" descr=""/>
          <p:cNvPicPr/>
          <p:nvPr/>
        </p:nvPicPr>
        <p:blipFill>
          <a:blip r:embed="rId1"/>
          <a:stretch/>
        </p:blipFill>
        <p:spPr>
          <a:xfrm>
            <a:off x="1300320" y="1219320"/>
            <a:ext cx="6543360" cy="4906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oing it all at Once</a:t>
            </a:r>
            <a:endParaRPr b="0" lang="en-US" sz="3600" spc="-1" strike="noStrike">
              <a:solidFill>
                <a:srgbClr val="333399"/>
              </a:solidFill>
              <a:latin typeface="Arial"/>
            </a:endParaRPr>
          </a:p>
        </p:txBody>
      </p:sp>
      <p:sp>
        <p:nvSpPr>
          <p:cNvPr id="9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reate a picture objec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passing it the result of using the FileChooser to pick a fil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n tell that picture object to show itsel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n one lin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icture(FileChooser.pickAFile()).show()</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n you don’t have a way to refer to the file or picture agai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how Picture Exercise</a:t>
            </a:r>
            <a:endParaRPr b="0" lang="en-US" sz="3600" spc="-1" strike="noStrike">
              <a:solidFill>
                <a:srgbClr val="333399"/>
              </a:solidFill>
              <a:latin typeface="Arial"/>
            </a:endParaRPr>
          </a:p>
        </p:txBody>
      </p:sp>
      <p:sp>
        <p:nvSpPr>
          <p:cNvPr id="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both ways of creating a picture object and showing 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icture(FileChooser.pickAFile()).sh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do each piece one step at a time naming the result of each metho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fileName = FileChooser.pickAFi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fileNam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picture = new Picture(fileNam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out.println(pictu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show();</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bstitution and Evaluation</a:t>
            </a:r>
            <a:endParaRPr b="0" lang="en-US" sz="3600" spc="-1" strike="noStrike">
              <a:solidFill>
                <a:srgbClr val="333399"/>
              </a:solidFill>
              <a:latin typeface="Arial"/>
            </a:endParaRPr>
          </a:p>
        </p:txBody>
      </p:sp>
      <p:sp>
        <p:nvSpPr>
          <p:cNvPr id="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rogramming you ca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literal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name = “Barb”;</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variable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myName = “Barb”;</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name2 = myNam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n expression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n3 = “Ba” + “rb”;</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result of a method invocatio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n4 = student1.getNam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s get substituted for variable names when expressions are evalu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computation can mean processing millions to billions of by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ed of modern computers makes media computation possible even for beginn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ee combinations of red, green, and blue li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ixel is a picture el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pictures store red, green, and blue values from 0 to 255 for each pixel in a pic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ick a file, create a picture object, and show it using:</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file = FileChooser.pickAFil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pictObj = new Picture(fil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Obj.show();</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at a conceptual lev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media comput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color vision 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you make colors with red, green, and blue ligh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digital cameras and computer displays 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ixe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you show a picture from a file in Java?</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 is Media Computation?</a:t>
            </a:r>
            <a:endParaRPr b="0" lang="en-US" sz="3600" spc="-1" strike="noStrike">
              <a:solidFill>
                <a:srgbClr val="333399"/>
              </a:solidFill>
              <a:latin typeface="Arial"/>
            </a:endParaRPr>
          </a:p>
        </p:txBody>
      </p:sp>
      <p:sp>
        <p:nvSpPr>
          <p:cNvPr id="5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 el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 frag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ie fram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files and HTML pag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ed and storage capacity of modern computers makes this possi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for beginning students just learning to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Does Color Vision Work?</a:t>
            </a:r>
            <a:endParaRPr b="0" lang="en-US" sz="3600" spc="-1" strike="noStrike">
              <a:solidFill>
                <a:srgbClr val="333399"/>
              </a:solidFill>
              <a:latin typeface="Arial"/>
            </a:endParaRPr>
          </a:p>
        </p:txBody>
      </p:sp>
      <p:sp>
        <p:nvSpPr>
          <p:cNvPr id="55"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eyes and brain work together to make sense of what we se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es in our eyes are what allow us to see in col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ods allow us to see black, white, and shades of gr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cones are sensitive to red, green, and blue ligh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ther colors are combinations of these</a:t>
            </a:r>
            <a:endParaRPr b="0" lang="en-US" sz="2000" spc="-1" strike="noStrike">
              <a:solidFill>
                <a:srgbClr val="000000"/>
              </a:solidFill>
              <a:latin typeface="Arial"/>
            </a:endParaRPr>
          </a:p>
        </p:txBody>
      </p:sp>
      <p:pic>
        <p:nvPicPr>
          <p:cNvPr id="56" name="" descr=""/>
          <p:cNvPicPr/>
          <p:nvPr/>
        </p:nvPicPr>
        <p:blipFill>
          <a:blip r:embed="rId1"/>
          <a:stretch/>
        </p:blipFill>
        <p:spPr>
          <a:xfrm>
            <a:off x="5715000" y="1219320"/>
            <a:ext cx="2070000" cy="1968480"/>
          </a:xfrm>
          <a:prstGeom prst="rect">
            <a:avLst/>
          </a:prstGeom>
          <a:ln w="0">
            <a:noFill/>
          </a:ln>
        </p:spPr>
      </p:pic>
      <p:pic>
        <p:nvPicPr>
          <p:cNvPr id="57" name="" descr=""/>
          <p:cNvPicPr/>
          <p:nvPr/>
        </p:nvPicPr>
        <p:blipFill>
          <a:blip r:embed="rId2"/>
          <a:stretch/>
        </p:blipFill>
        <p:spPr>
          <a:xfrm>
            <a:off x="5486400" y="3352680"/>
            <a:ext cx="2616120" cy="23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ed, Green and Blue Light</a:t>
            </a:r>
            <a:endParaRPr b="0" lang="en-US" sz="3600" spc="-1" strike="noStrike">
              <a:solidFill>
                <a:srgbClr val="333399"/>
              </a:solidFill>
              <a:latin typeface="Arial"/>
            </a:endParaRPr>
          </a:p>
        </p:txBody>
      </p:sp>
      <p:sp>
        <p:nvSpPr>
          <p:cNvPr id="5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light is a combination of red, green, and blu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intensity red, green, and blue combin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 is the absence of all ligh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ed, green or blue ligh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ther colors are combinat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red, green, and blu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 different intens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lor Exercise</a:t>
            </a:r>
            <a:endParaRPr b="0" lang="en-US" sz="3600" spc="-1" strike="noStrike">
              <a:solidFill>
                <a:srgbClr val="333399"/>
              </a:solidFill>
              <a:latin typeface="Arial"/>
            </a:endParaRPr>
          </a:p>
        </p:txBody>
      </p:sp>
      <p:sp>
        <p:nvSpPr>
          <p:cNvPr id="61" name="PlaceHolder 2"/>
          <p:cNvSpPr>
            <a:spLocks noGrp="1"/>
          </p:cNvSpPr>
          <p:nvPr>
            <p:ph/>
          </p:nvPr>
        </p:nvSpPr>
        <p:spPr>
          <a:xfrm>
            <a:off x="457200" y="1219320"/>
            <a:ext cx="44956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DrJav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interactions pane typ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Chooser.pickACol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RGB tab and move the sliders to change the intensity of red, green, and bl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white, black, red, blue, green, yellow, violet, and orange</a:t>
            </a:r>
            <a:endParaRPr b="0" lang="en-US" sz="2400" spc="-1" strike="noStrike">
              <a:solidFill>
                <a:srgbClr val="000000"/>
              </a:solidFill>
              <a:latin typeface="Arial"/>
            </a:endParaRPr>
          </a:p>
        </p:txBody>
      </p:sp>
      <p:pic>
        <p:nvPicPr>
          <p:cNvPr id="62" name="" descr=""/>
          <p:cNvPicPr/>
          <p:nvPr/>
        </p:nvPicPr>
        <p:blipFill>
          <a:blip r:embed="rId1"/>
          <a:stretch/>
        </p:blipFill>
        <p:spPr>
          <a:xfrm>
            <a:off x="4952880" y="1523880"/>
            <a:ext cx="3581640" cy="331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do Digital Cameras Work?</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510552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red, green, and blue filters that capture the amount of each color at a pos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 of a gri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position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element or pix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40 x 480 is low resolu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 x 1200 is high resolu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pixels the better the pictu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enlarge it without it looking grainy</a:t>
            </a:r>
            <a:endParaRPr b="0" lang="en-US" sz="2000" spc="-1" strike="noStrike">
              <a:solidFill>
                <a:srgbClr val="000000"/>
              </a:solidFill>
              <a:latin typeface="Arial"/>
            </a:endParaRPr>
          </a:p>
        </p:txBody>
      </p:sp>
      <p:pic>
        <p:nvPicPr>
          <p:cNvPr id="65" name="" descr=""/>
          <p:cNvPicPr/>
          <p:nvPr/>
        </p:nvPicPr>
        <p:blipFill>
          <a:blip r:embed="rId1"/>
          <a:stretch/>
        </p:blipFill>
        <p:spPr>
          <a:xfrm>
            <a:off x="6248520" y="1295280"/>
            <a:ext cx="1671480" cy="889200"/>
          </a:xfrm>
          <a:prstGeom prst="rect">
            <a:avLst/>
          </a:prstGeom>
          <a:ln w="0">
            <a:noFill/>
          </a:ln>
        </p:spPr>
      </p:pic>
      <p:pic>
        <p:nvPicPr>
          <p:cNvPr id="66" name="" descr=""/>
          <p:cNvPicPr/>
          <p:nvPr/>
        </p:nvPicPr>
        <p:blipFill>
          <a:blip r:embed="rId2"/>
          <a:stretch/>
        </p:blipFill>
        <p:spPr>
          <a:xfrm>
            <a:off x="6248520" y="4495680"/>
            <a:ext cx="1866960" cy="1228680"/>
          </a:xfrm>
          <a:prstGeom prst="rect">
            <a:avLst/>
          </a:prstGeom>
          <a:ln w="0">
            <a:noFill/>
          </a:ln>
        </p:spPr>
      </p:pic>
      <p:sp>
        <p:nvSpPr>
          <p:cNvPr id="67" name=""/>
          <p:cNvSpPr/>
          <p:nvPr/>
        </p:nvSpPr>
        <p:spPr>
          <a:xfrm>
            <a:off x="6172200" y="2438280"/>
            <a:ext cx="83808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391520" y="2438280"/>
            <a:ext cx="838080" cy="7621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6781680" y="3429000"/>
            <a:ext cx="838440" cy="762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do Computer Displays Work?</a:t>
            </a:r>
            <a:endParaRPr b="0" lang="en-US" sz="3600" spc="-1" strike="noStrike">
              <a:solidFill>
                <a:srgbClr val="333399"/>
              </a:solidFill>
              <a:latin typeface="Arial"/>
            </a:endParaRPr>
          </a:p>
        </p:txBody>
      </p:sp>
      <p:sp>
        <p:nvSpPr>
          <p:cNvPr id="7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splay has pixels (picture elem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ixel has a red, green, and blue compon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ations of red, green, and blue give the resulting col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is 0 red, 0 green and 0 bl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is 255 red, 255 green, 255 blu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1"/>
          <a:stretch/>
        </p:blipFill>
        <p:spPr>
          <a:xfrm>
            <a:off x="5533920" y="1219320"/>
            <a:ext cx="2265480" cy="2376360"/>
          </a:xfrm>
          <a:prstGeom prst="rect">
            <a:avLst/>
          </a:prstGeom>
          <a:ln w="0">
            <a:noFill/>
          </a:ln>
        </p:spPr>
      </p:pic>
      <p:pic>
        <p:nvPicPr>
          <p:cNvPr id="73" name="" descr=""/>
          <p:cNvPicPr/>
          <p:nvPr/>
        </p:nvPicPr>
        <p:blipFill>
          <a:blip r:embed="rId2"/>
          <a:stretch/>
        </p:blipFill>
        <p:spPr>
          <a:xfrm>
            <a:off x="5499000" y="4056120"/>
            <a:ext cx="2335320" cy="17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ictures are made up of Pixels</a:t>
            </a:r>
            <a:endParaRPr b="0" lang="en-US" sz="3600" spc="-1" strike="noStrike">
              <a:solidFill>
                <a:srgbClr val="333399"/>
              </a:solidFill>
              <a:latin typeface="Arial"/>
            </a:endParaRPr>
          </a:p>
        </p:txBody>
      </p:sp>
      <p:sp>
        <p:nvSpPr>
          <p:cNvPr id="75"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cameras record light at pix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s display pictures using pix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limited vision acuity helps us to see the discrete pixels as a smooth pict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blow up the picture we can see the pixel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 descr=""/>
          <p:cNvPicPr/>
          <p:nvPr/>
        </p:nvPicPr>
        <p:blipFill>
          <a:blip r:embed="rId1"/>
          <a:stretch/>
        </p:blipFill>
        <p:spPr>
          <a:xfrm>
            <a:off x="4648320" y="1704960"/>
            <a:ext cx="4038480" cy="1403280"/>
          </a:xfrm>
          <a:prstGeom prst="rect">
            <a:avLst/>
          </a:prstGeom>
          <a:ln w="0">
            <a:noFill/>
          </a:ln>
        </p:spPr>
      </p:pic>
      <p:pic>
        <p:nvPicPr>
          <p:cNvPr id="77" name="" descr=""/>
          <p:cNvPicPr/>
          <p:nvPr/>
        </p:nvPicPr>
        <p:blipFill>
          <a:blip r:embed="rId2"/>
          <a:stretch/>
        </p:blipFill>
        <p:spPr>
          <a:xfrm>
            <a:off x="5359320" y="3747960"/>
            <a:ext cx="2616120" cy="237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3T17:08:57Z</dcterms:modified>
  <cp:revision>1466</cp:revision>
  <dc:subject/>
  <dc:title>Summer Institute for Computing Education</dc:title>
</cp:coreProperties>
</file>