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514600" y="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ion to Media Computation Java, and DrJa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3 - </a:t>
            </a:r>
            <a:fld id="{F05E92DB-5921-4D43-81A7-E0782001A0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ing methods do not change the current string.  They return a new string obj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 that we don’t capitalize Tommy and Mary even though they are names.  This is because we don’t capitalize variable names in Java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primitive types are all lowercase.  Class names start with an upper case le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reated the classes Picture, Sound, and FileChooser.  These are not part of the Java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lass JFrame is a main window in Sw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lass BufferedImage is what really holds the picture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http://www.javaranch.com/campfire/StoryCups.jsp for a discussion of the sizes of primitives and the differences between primitive variables and object variab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int type takes 4 bytes (32 bits) of sp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82F7-E53E-415E-B402-F9CCCDC93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E616-5CA6-4A6F-B35F-B297A353A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BBC3-4E11-4B94-A0E1-328A760FF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10AB-F17D-416E-BF1D-ACB3C214A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83E1-5FBA-43B4-A526-755566692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5986-045B-49C3-A4B5-A8873AE8F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AE60-CA0C-4AC3-A89F-B5F44B785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B1DB-816F-465D-B4F3-9CF3C321C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E8CB-F87B-425E-9780-1CE43913D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974B-7AB8-4F7F-B2D0-F95B17129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6202-7488-4DAF-B5D7-EC22705FD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ED39-67E2-4F52-9BD9-D2573EC2B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orgia Institute of Techn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678B5-C236-43C7-B7B4-1966D854CC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990720"/>
            <a:ext cx="8001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Declaring Variables – Mod 4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895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b Eric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orgia Institute of 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gust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Variable Practic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value of str1 at each ste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ing str1 = “Hello World”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1.toLowerCase(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1 = str1.toUpperCase(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1 = “Goodbye World”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any variables where decla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any objects were creat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any can be garbage collect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Variable Practic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value of string1 after the following code has execut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 string1 = “HELLO”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.out.println(string1.toLowerCase(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type of variable is string1 (primitive or object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can you tel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value of string2 and string3 after the following code has execut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 string2 = “Mary”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 string3 = “Clark”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2 = string2 + string3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Variable Practic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e variables for each of the foll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umber of kids in a fam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st of a pair of sho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ame of a p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core of a soccer g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hourly wage of a wor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 to do you want insurance on a purch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lor of your e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 weigh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istance you drive on a tr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 test s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umber on a lottery b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Variable Practic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turtle does turtle1 refer to after the following cod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ld myWorld = new World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tle tommy = new Turtle(myWorld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tle mary = new Turtle(myWorld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tle turtle1 = tommy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tle1.forward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tle1 = mary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tle1.turnLeft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turtle will go forwar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turtle will turn lef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Variable Practic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of these statements will cause an error in the interactions pane and 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ld1 world = new World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ld world2 = new World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ld world3 = newWorld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ld world1 = new World1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ld world5 = new Worl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ld world2 = new World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ld my World = new World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ld earth = new World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Allowed Types in Java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ype for a variable declaration can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rimitive type: int, double, char, or bool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ame of a Cla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Java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ing, JFrame, BufferedImage, e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the name of a class created by you or someone 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cture, Sound, FileChoo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 names start with an uppercase lette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declare variables by specifying a type and a 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also assign a value to the variable when you declare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itive variables reserve space based on the 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 variables reserve space for a reference to an 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object can be garbage collected if there is no reference to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Learning Goal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at a conceptual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ing variables: what is allowed and what isn’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variables can be garbage coll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change the value of a vari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ifference between primitive and object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Working with Variable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must declare a variable before you can use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e a variable once and only o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will get an error if you declare it more than o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reuse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t you have decla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952880" y="2514600"/>
            <a:ext cx="2800440" cy="19051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952880" y="4648320"/>
            <a:ext cx="2495520" cy="13618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4952880" y="1143000"/>
            <a:ext cx="2524320" cy="13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Declaring Variable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declare a vari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fy the type and a 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ing nam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ld world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rtle turtle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 x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also assign a value to the variable when you declare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ing fullName = “Susan Dorda”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ld world1 = new World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rtle turtle1 = new Turtle(world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 x =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Object and Primitive Variable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mitive variables allocate space based on their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ontents of the space is set to the variable’s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 type variables cause space allocation for a reference to an 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ontents of the space is a way to calculate the  address of the 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null if it isn’t referring to an object y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334480" y="121932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a =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876920" y="3429000"/>
            <a:ext cx="224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 str =“Hi”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791320" y="1828800"/>
            <a:ext cx="26668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335920" y="1828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715000" y="4038480"/>
            <a:ext cx="26668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876920" y="4038480"/>
            <a:ext cx="65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800600" y="4724280"/>
            <a:ext cx="388620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715000" y="4419720"/>
            <a:ext cx="8380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615720" y="4078440"/>
            <a:ext cx="14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Memory Exercis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w the memory used for the follow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x = 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y = 7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z = x + y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w the memory used for the follow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ing fullName = null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ing firstName = “James”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ing lastName = “Clark”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llName = firstName + lastNam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Variables are Temporary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ld values unt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ssig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x = 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= 3;  // read ‘=‘ as takes on the value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Java is exi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nteractions pane is re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can force this by clicking the “Reset” but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by right click and choose “Reset Interaction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ppens automatically when you comp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Objects can be Garbage Collected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objects that have been created have no more references to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can be garbage coll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means the memory they are using can be freed and re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ing name1 = “Bill”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ing name1 = new String(“Mary”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tring object created by “Bill” can be garbage coll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Variable Practic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the following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value of z at each ste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z = 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x = 3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y = 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 = x * y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 = z + 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 = z – y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any variables where declar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space do they tak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5T19:23:22Z</dcterms:created>
  <dc:creator>Barbara Jane Ericson</dc:creator>
  <dc:description/>
  <dc:language>en-US</dc:language>
  <cp:lastModifiedBy>Barbara J. Ericson</cp:lastModifiedBy>
  <dcterms:modified xsi:type="dcterms:W3CDTF">2006-05-23T17:07:07Z</dcterms:modified>
  <cp:revision>1478</cp:revision>
  <dc:subject/>
  <dc:title>Summer Institute for Computing Education</dc:title>
</cp:coreProperties>
</file>