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ECBF7DA1-B017-4980-9113-8DB47AE1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use System.out.println(expression) to see what is happening in your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sound file “thisisatest.wav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00A-3152-4D98-966D-C0818BA3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38E-D59E-4985-9C3F-25004ED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6EF-2E95-4A65-BFB3-2E2A98BA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765-DB4C-4647-B8BD-EBF689DC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AB2-CD08-42D7-8EEE-763E5AD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287-07F3-46B6-97BB-106F56C2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15B-E5B8-4E97-A7CC-5D2CACBF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392-EDB2-46EB-A2AE-50AEF2FF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0FD-A02C-44DB-8D43-FEE28F6F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8C8-E65A-4725-88B0-AC240BC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C9B-D81A-440D-AF9B-9EDF2812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D2B-C6DC-4395-9CCC-862D884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8896-52A1-49FB-95B1-A45835D5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Processing Digital Sound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rmalize Method – Revis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normaliz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Sample sample = sampleArray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ax = soundSample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ax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comparing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o the current lar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 sampleArray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= sample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sample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Math.abs(value) 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.abs(ma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= 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ndex =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out.println(“largest “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 + “ at index “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nde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alculate the multipl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multiplier = 32767.0 / 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hange the volu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.changeVolume(multipli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Normaliz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Norm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Norm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3557880" cy="2322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5578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ce to Extrem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want to make all values in a sound the maximum positive or negative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is positive make it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is negative make it -32,7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a way to execute code based on if a test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a conditional (if and e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you to only execute statements if an expression is tr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(optionally) only if it is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ean you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160020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648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72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4160" y="2627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tting Values to Extrem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forceToExtreme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all positive values (including 0) to the max positive value 327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ange all the negative values to -327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ond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d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preamble.wav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oundObj = new Sound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Obj.forceToExtreme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rmaliz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as loud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argest value in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largest to the first value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from second value to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urrent value is greater than the largest save that value in larg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force all values to extr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itive set to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set to -32,7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und as loud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largest value in an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ystem.out.println to check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sure the method is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nditional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f and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all values to extr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aximum positive and negativ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rmalize Sou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whole sound as loud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ud can it b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 positive value is 32767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x negative value is -3276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we need to find the largest value (positive or negative) in the current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ariable to hold the m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t it to the first value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oop through the array and if the absolute value of the current value is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that one inst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 the Largest Value in an Arra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first value in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at index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ax = valueArray[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the rest of the items in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he absolute value of the value at current index in the array to the absolute value of the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 is bigger store it in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1; i &lt; valueArray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Math.abs(valueArray[i]) &gt; Math.abs(ma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= valueArray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 the Largest Value in an Arra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 = first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= valueArray[0] = 200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1; i &lt; valueArray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Math.abs(valueArray[i]) 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.abs(ma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= valueArray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1371600"/>
            <a:ext cx="35812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| 1000 | -2344 | 100 |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ind the Largest Value in an Arra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max each time through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48320" y="1219320"/>
          <a:ext cx="4038480" cy="49035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33520" y="3048120"/>
            <a:ext cx="35812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| 1000 | -2344 | 100 |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3840" y="2627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1          2         3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rmalize Soun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e find the maximum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factor that we can multiply all value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go over the maximum allow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multiplier = 32767.0 / 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 method changeVolume with the multi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double preamble.wav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soundObj = new Sound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normaliz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rmaliz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normaliz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Sample sample = sampleArray[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ax = soundSample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comparing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to the current lar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1; i &lt; sampleArray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= sample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sample.getVa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Math.abs(value)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.abs(ma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= valu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alculate the multipl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multiplier = 32767.0 / m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hange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.changeVolume(multipli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Normaliz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if it work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play the sound but it may not sound all that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explorer to view the sound wave before and after we normalize the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e if the values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more than on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System.out.println to print out the largest value and the index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save the index of the maximum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use the explorer to check the value at tha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9-22T19:42:36Z</dcterms:modified>
  <cp:revision>879</cp:revision>
  <dc:subject/>
  <dc:title>Summer Institute for Computing Education</dc:title>
</cp:coreProperties>
</file>