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04864275-0C88-4101-A881-92BB073D5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explorer to check the sound sample values and be sure that they have been decreased by ha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o remember to cast the resulting sample value to int using (int) since the factor is of type double or we will get a compiler error about the loss of precision (the throwing away of the fractional pa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1C4-2FFA-4489-9E51-1B4EB2A6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25B-2CDD-4B90-8803-67BED7B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886-6F32-45B7-A507-681DA0C1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B0C-15A7-470C-B865-810698A1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A78-0A2B-4BB8-90DE-263349B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C1A-A58A-4BAC-91FF-0EFD42AE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4A-D40F-4826-B99D-8B7C762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D0E-395E-49D9-9FBB-D757B5D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A8A-8CBE-42F9-982D-02109702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548-7850-4FA8-99D6-E0C5973A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B25-C036-4B38-A44A-9D8A1591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895-7A5B-4D61-A7CC-A334FA8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8A63-4A15-43AF-8A00-2737D528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Processing Digital Sound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ile Loop versus For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asy to make mistakes when you use a while loop for looping a se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et to declare variables befor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get to increment the variables in the loop before the nex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use a For loop when the number of times to loop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while loop when you don’t 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3809880"/>
            <a:ext cx="594360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 loop allows you to declare and initialize variables, specify the test, and specify the way the variabl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 on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they still happen in the usual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(int index 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&lt; sampleArray.lengt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crease Volume with a For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increaseVolu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 sample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all the samples in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ndex = 0; index &lt; sampleArray.length; 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= sampleArray[index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sample.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.setValue(value *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odify decreaseVolum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decreaseVolume to use a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ut declaration of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ut the increment of the index at the end of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ut the while and put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t to make sure it still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gettysburg10.wav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soundObj = new Sound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decreaseVolu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hange Volum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s increaseVolume and decreaseVolume are very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ltiply the current sound values by a given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nge this you would need to modify the method and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ould be more reusable if we pass in the amount to multiply the current sound value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arameter to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hangeVolum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hangeVolume(double fa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ample sample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all the samples in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 = 0; i &lt; sampleArray.length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= sampleArray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sample.getValu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.setValue((int) (value * facto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s calling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method can call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decreaseVolume and increaseVolume to call changeVolu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.change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oke the method on the curr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s is implicit and will be added by the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while loop to execute a statement or block of statements while a boolean tes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eclare and initialize variables before th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dify variables in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for loop to execute a statement or block of statements while a boolean tes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pecify how to initialize loop variables and change them after each loop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meters to make methods more re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nd decrease the volume of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for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method more reusable by passing in a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048120"/>
            <a:ext cx="693432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s while a boolean (true or false) test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est is false execution continues with the first statement after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(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tatements to be done while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a while loop you may need to declare variables before the loop and change them in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ile Loop to Process Sound Samp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index = 0;                            // starting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ample sample = null;  // current sample ob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value = 0;                           // value at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index &lt; sampleArray.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= sampleArray[index]; // get current ob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= sample.getValue();     // get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.setValue(value * 2);    // set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++;                                  // incremen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crease Volume with While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increaseVolum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ample[] sampleArray = this.getSamples(); // get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                            // starting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ample sample = null;  // current sample 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value = 0;                           // value a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SoundSampl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dex &lt; sample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= sampleArray[index]; // get current 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sample.getValue();     // get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.setValue(value * 2);    // set th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++;                                  // incremen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increaseVol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gettysburg10.wav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oundObj = new Sound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pl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increaseVolum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pl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cing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is se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set to the value in the array at that index (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value at the current index is set to 2 *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changes to the next index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heck if the index is less than the length of the arra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o do the loop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jump to the first statement after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592280"/>
            <a:ext cx="3557520" cy="1882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4160880"/>
            <a:ext cx="34005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mory versus Disk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read from a file we read from disk into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only do calculations o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hange the valu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 on the disk hasn’t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 our new sound we need to write a file to the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Obj.write(file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Volume Exercis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decrease the volume of th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Volu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each value by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s need to change from the last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calculation of the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s = new Sound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 gettysburg10.wav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decreaseVolul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9-22T18:34:23Z</dcterms:modified>
  <cp:revision>830</cp:revision>
  <dc:subject/>
  <dc:title>Summer Institute for Computing Education</dc:title>
</cp:coreProperties>
</file>