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Object-Oriente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- </a:t>
            </a:r>
            <a:fld id="{B33A8240-0374-4049-920E-6D1F5AB26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reverse the sound in memory and it won’t change on the disk.  If we want to save the reversed sound we can write it out using s.write(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98B-6740-4219-BE65-E0133D9E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655-E3CF-4B81-8DE6-C9BE78B8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691-0B4B-419B-9C84-04C2EBD6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B6F-AFD7-4685-AB10-A6A6580D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D0B-1A0B-4EF9-86D6-654C341C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3F5-7A08-4CD8-8BFA-A26D23A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81B-18A3-42BE-B02E-909A426D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DC9-0180-43D4-9BCF-B63D618F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24C-6B44-486F-8F8B-9C767E6C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58D-053A-4002-BB72-E9D69706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D70-D8E2-41C6-84D5-E8B35F74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989-9B59-4ECA-9F85-E4AD1E9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95AE-3FF8-4123-9B40-95F5948F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cessing Sound Ranges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art 2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Mirror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 = new Sound(FileChooser.getMediaPath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croak.wav"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mirrorFrontToBack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Back to Front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method to mirror from the back to the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the back half of the sound reversed to the fro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88620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| 200 | 300 | 400 |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41972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| 400 | 300 | 400 |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8560" y="34290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038480" y="36576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lend Soun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blending pictures we can blend two s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the first 20,000 values of soun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from both by adding .5 * sound1 value and .5 * sound2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the next 20,000 values of soun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lend Sounds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blendSounds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sound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ound(FileChooser.getMediaPath("aah.wav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sound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ound(FileChooser.getMediaPath("bassoon-c4.wav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copy the first 20,000 samples from sound1 in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index=0; index &lt; 20000; inde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setSampleValueAt(index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1.getSampleValueAt(inde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lend Sounds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opy the next 20,000 samples from sound1 and ble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with the first 20,000 samples from soun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index = 0; index &lt; 20000; index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(int) ((sound1.getSampleValueAt(index + 20000)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)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und2.getSampleValueAt(index) * 0.5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setSampleValueAt(index + 20000,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opy the next 20,000 samples from sound2 into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index=20000; index &lt; 40000; inde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.setSampleValueAt(index + 20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2.getSampleValueAt(inde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Blend Soun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Name = FileChooser.getMediaPath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c3silence.wav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target = new Sound(fil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.blendSounds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plice sounds together using more than one loop in 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irror sounds just like you mirrored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blend sounds just like you blended 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ranges of Sou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cing sounds together to create a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ing a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ing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ing through a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ing a value from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more than one variable in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gorithms that cross media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n Audio Sentenc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method that splices 3 sounds together to finish the sentence, “Guzdial i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 don’t copy past the end of the current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include silence betwee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make this method more gene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a method to splice a sound into the middle of another 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starting point in target for sp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versing a S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verse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copy of the original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orig = new Sound(this.getFileNam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loop starting the sourceIndex at the last index in the source and the targetIndex at the first index in th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ment the sourceIndex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targetIndex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556272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| 400 | 300 | 200 |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502920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| 200 | 300 | 400 |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16440" y="49896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0195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34240" y="56754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versing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rever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orig = new Sound(this.getFileName(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length = this.getLengt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targetIndex = 0, sourceIndex = length - 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dex &lt; length &amp;&amp; sourceIndex &gt;= 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dex++, sourceIndex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setSampleValueAt(targetInde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.getSampleValueAt(sourceInde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the Revers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isatest.wav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 = new Sound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revers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verse Part of a Soun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just the second half of a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e targetIndex at the length /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the sourceIndex at the length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hile the targetIndex &lt;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1840" y="499284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| 200 | 500 | 400 |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1840" y="445932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| 200 | 300 | 400 |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7880" y="4419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121000" y="4611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3080" y="57150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21160" y="53737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a S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he first half of the sound to the second ha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verse the sounds in the second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very similar to mirroring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midpoint (length /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the source index at 0 and copy from index to length – index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index &lt; mi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525780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| 200 | 300 | 400 |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5791320"/>
            <a:ext cx="29718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| 200 | 300 | 200 |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7160" y="4800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67080" y="50292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Sound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mirrorFrontToB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length = this.getLength(); // save th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mirrorPoint = length / 2; // mirror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value = 0; // hold the curre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from 1 to mirro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i = 0; i &lt; mirrorPoint; i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= this.getSampleValueAt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setSampleValueAt(length – i - 1,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10-24T19:49:00Z</dcterms:modified>
  <cp:revision>938</cp:revision>
  <dc:subject/>
  <dc:title>Summer Institute for Computing Education</dc:title>
</cp:coreProperties>
</file>