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BE3E1FA5-D952-4532-91AD-F108125F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ray of objects is an array of object references.  The value in the array is a reference to the actual object (a way to calculate where it i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use this if you are using Java 5.0 (1.5) or greater!  It is not part of Java 1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4E2-C132-4C22-ACA0-176C207F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281-1B48-4AAC-8F38-03819E71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118-9802-44E1-92C3-7A586AB0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19B-15BF-4BC0-9877-2506D9D6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2ED-01B7-4314-A0A9-6F8564C9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9E7-39A2-4034-B412-A5EB95A4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FDA-DA46-4406-9C0F-5C9094D6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57A-6822-47F9-B276-813058B4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870-BC03-40D6-AFCB-985A6BD3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014-0EE1-4CFF-BEBF-2115336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573-3CC4-40A9-B694-C3F5C45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0A9-639D-480B-8240-06618FEC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003C-66F1-4F1A-900D-12E123C7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Processing Digital Sound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crease Volume with For-Each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increaseVolu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ample[] sampleArray = this.getSamples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0;                           // value at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SoundSampl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SoundSample sample : sampleArr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sample.getValue();     // get th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.setValue(value * 2);    // set th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increaseVol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gettysburg10.wav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oundObj = new Sound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pl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increaseVolum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pl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Volume Exercis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o decrease the volume of the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Volu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valu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s need to change from the last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calculation of the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s = new Sound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“ gettysburg10.wav”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decreaseVolul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es For-Each Do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eeds to use each element in the array one and onl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needs to keep track of the curren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needs to check that the current index is less than the length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op when they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needs to increment the index after the loop body has execu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xplicit in a 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amples are stored in an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ample[] sampleArray = this.getSample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et the SoundSample from an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ample sample = sampleArray[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get and set the value of a Sound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sample.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.setValue(value *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-Ea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for-each loop to repeat a statement or block of statements for each element in an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Sound manipulation as a way to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object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on (Lo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tting the Sound Sample Val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nd has many values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 that represent the sound at that time in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t an array of SoundSampl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ample[] sampleArray = sound1.getSample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5029200"/>
            <a:ext cx="7086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715000"/>
            <a:ext cx="45720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5715000"/>
            <a:ext cx="45720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715000"/>
            <a:ext cx="45720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715000"/>
            <a:ext cx="45720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plore the Sound Sample Val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m in to see all the sou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905360" cy="3232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31160" y="5105520"/>
            <a:ext cx="46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go to the nex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24852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5720" y="4572000"/>
            <a:ext cx="2414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a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24080" y="4495320"/>
            <a:ext cx="9144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4560" y="3657600"/>
            <a:ext cx="20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th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90960" y="411480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120" y="2743200"/>
            <a:ext cx="373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pick a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nt the Sound Sample Valu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et the SoundSample object from the array at an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ample sample = sampleArray[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get the value from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sample.getValue(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irst 10 values of the Sound created from the file croak.wa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4648320"/>
            <a:ext cx="62485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he Value of a Sound Samp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t the value of a Sound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.setValue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change the value in the Sound objec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ow would you change the value to the original value *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ample sample = sampleArray[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.setValue(sample.getValue() * 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ing all the Sound Valu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change each SoundSample 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8808 SoundSamples in croak.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really want to do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would it tak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t the computer do it in a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3276720"/>
            <a:ext cx="7315200" cy="23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or-Each Loop (Java 5.0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of the elements in a collection of objects do the body of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ime through the loop the variableName will refer to a different object in th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type variableName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stateme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-Each Loop to Process Sound Sampl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ample[] sampleArray = this.getSample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SoundSample sample : sampleAr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= sample.getValue();     // get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.setValue(value * 2);    // set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9-22T18:25:42Z</dcterms:modified>
  <cp:revision>836</cp:revision>
  <dc:subject/>
  <dc:title>Summer Institute for Computing Education</dc:title>
</cp:coreProperties>
</file>