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B55-006D-41A0-A0A9-600AFDBB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73E-DB97-4E86-B56A-C9EF0B73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848-C8E8-40DD-B4A6-9FF59502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432-E407-411A-9943-3AB31159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04C-9AC8-4829-B9AC-9CF7181B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915-78BD-44E5-8720-95CBC8EA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E18-5E8F-4256-AC9F-6E278604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411-D0EC-4619-AFD6-581D8B31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541-5CF2-4DB7-81A3-8051CF84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D5A-0765-4EE6-BF7D-0AAFEA6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D92-2E58-4E13-AA64-22210978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74D-0510-4D3B-A1ED-B904C6E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44E7-44FE-43E7-94A4-609D93420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reating Sounds and MIDI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ss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thods are compiled and the code for the methods is stored in the object that defines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bject of the class calle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methods must be called on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object is implicitly passed to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ethods can be called using the class name or on an object of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always have a reference to thei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1828800"/>
            <a:ext cx="2362320" cy="120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Class :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for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3962520"/>
            <a:ext cx="1447560" cy="78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79132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962520"/>
            <a:ext cx="1447920" cy="78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7696080" y="327636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Square Wa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square shaped wave we can use positive and negative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witch between them at the halfway point in th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in the desired frequency and maximum 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interval (1 / fre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sample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al * sampl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half of the sample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the whole s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 a sampleCounter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ampleCounter &lt; the halfSamplesPer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axAmplit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-1 * max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ampleCounter is &gt;= samplesPerCycle reset it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Square Wav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class (static)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quareWave(int freq, int maxAmplitud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generate and return a s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length of 1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comprised of square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to gen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freq = 440 and maxAmplitude =  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freq = 440 and maxAmplitude =  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freq = 880 and maxAmplitude =  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freq = 880 and maxAmplitude =  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 square waves and sine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reate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desired frequency and ampl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ethods must be called on an object of th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ork with the fields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methods can be called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method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be called on an object of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New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ne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ectangular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(static)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methods versus clas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a S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s ha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positive and negativ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create a new 1 second sound by using a sin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plitude will affect the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quency of the cycle will affect the 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want to get 440 Hz we will need to finish the cycle in 1/440 seconds (called the inter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s per cycle is the interval * sampling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bject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far we have created objec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ethods must be invoked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y work on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implicitly passed to an objec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an be referenced using the ‘this’ key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Obj.show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Obj.pla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tleObj.forward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ss (Static)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invoked using the clas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voked on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ed for gener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Math.abs(nu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used to create objects of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s = Sound.createSineWav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work with class (static)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bjec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eclared with the keyword 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the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Sine Wave Class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tatic Sound createSineWave(int freq, int maxAmplitu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FileChooser.getMediaPath("sec1silence.wav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s = new Sound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samplingRate = s.getSamplingRat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raw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interval = 1.0 / freq; // length of cycle in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samplesPerCycle = interval * samplingRa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maxValue = 2 * Math.P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Sine Wave Class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length of the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i = 0; i &lt; s.getLength()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alculate the value between -1 a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Value = Math.sin((i / samplesPerCycle) * max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multiply by the desired max 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(int) (maxAmplitude * raw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value at this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setSampleValueAt(i,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Create a Sine Wav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sound with 880 Hz and a maximum amplitude of 4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s = Sound.createSineWave(880,40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333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voking a Class Metho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lass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ineWave(freq,maxAmplitu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4 sounds and save each to a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freq = 440 and maxAmplitude =  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freq = 440 and maxAmplitude = 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freq = 880 and maxAmplitude =  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freq = 880 and maxAmplitude = 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nvoking the method on a sound 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4T20:05:22Z</dcterms:modified>
  <cp:revision>1004</cp:revision>
  <dc:subject/>
  <dc:title>Summer Institute for Computing Education</dc:title>
</cp:coreProperties>
</file>