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1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Object-Oriente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- </a:t>
            </a:r>
            <a:fld id="{0B7BE138-7FD2-4D18-8DD4-DD737417D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http://entertainment.howstuffworks.com/analog-digital.htm for more information on analog and digital sound recor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http://entertainment.howstuffworks.com/analog-digital1.htm for how an analog signal is recor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http://entertainment.howstuffworks.com/analog-digital3.htm for information on how a CD is recor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sure to pick a file that holds a digital sound.  These will have the extension .wa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in italics will be replaced by actual values when you use the constructor and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nd explorer shows a graphical representation of a sound.  Note that not all the values may be visible since there are many samples in even a short sound.  The number of samples between points tells you how many samples are skipped in the visual re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lso type in the number of samples between pix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http://entertainment.howstuffworks.com/hearing.htm for more information on how hearing wo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http://www.dsokids.com/2001/dso.asp?PageID=132 for how hearing wo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information on Squeak see http://www.squeakland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A952-7CBF-4BC7-9B9A-7378FD3F9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2009-8CF6-4196-BCF4-0343A9AE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09E6-C34C-4915-8084-6BAF4A8F2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0C67-0951-45D8-AEC9-09E92B00D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FBB1-D328-47F3-8E8C-8A5E761D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004D-FE0B-411B-8109-9A9B382A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B38B-9E91-445F-A9D0-E40DFD18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AFA5-F0F0-416E-BC01-492F4334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FB5E-860C-4826-BF89-A556BF60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0CF2-B2C0-4205-8992-8B423464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0467-67F5-44FD-8134-E7884790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B376-F1E4-4D75-A686-2B03DDE7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908C-33D4-42E5-B7F0-0773BEFE5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tertainment.howstuffworks.com/analog-digital1.htm" TargetMode="External"/><Relationship Id="rId2" Type="http://schemas.openxmlformats.org/officeDocument/2006/relationships/hyperlink" Target="http://entertainment.howstuffworks.com/analog-digital3.htm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health.howstuffworks.com/hearing1.htm" TargetMode="Externa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ntroduction to Processing Digital Sounds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art 1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932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ry I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a friend on a phone and play some music over the 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it sou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s only transmit 8,000 samples per 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ighest frequency you can transmit by phone is 4000 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fine for voice but what does it do to mus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does Recorded Sound Work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honograph recording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apture sound continuously, as an analog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D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 and DVDs sample sounds and record numbers that represent the sound at the time of the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4,100 samples per secon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367240" y="1219320"/>
            <a:ext cx="2600280" cy="2376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5715000" y="4114800"/>
            <a:ext cx="169236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y Digitize Sound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fide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oduced sound is very similar to the orig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ect rep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s the same every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trans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a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er to manipulate on a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ough there are billions of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laying a Soun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create a Sound object just as we created a Picture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 file name and save a reference to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fileName = FileChooser.pickAFil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k a file that ends in .wa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he sound object by asking the class to create a new Sound object and initialize it by reading data from the given file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 sound1 = new Sound(fileNam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 the 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1.play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lay Sound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creating a Sound object and playing it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ing it in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ing it all a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you play the same sound tw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0" y="25909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72000" y="1219320"/>
            <a:ext cx="39146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igitizing Sound in the Compute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ample is stored as a number (two by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’s the range of available combin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bits,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65,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e want both positive and negativ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ndicate compressions and rarefa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we use one bit to indicate positive (0) or negative (1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leaves us with 15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bits,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2,7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those combinations will stand for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’ll use a “positive” one, so that’s one less pattern for positives so the range is from -32,768 to 32,7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ound Basic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Sound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le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create a new Sound object from the data in the file with the passed file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undOb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play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start the sound pla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undOb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explore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open a sound explorer on the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undOb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blockingPlay(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play the sound and wait to return until the sound is fin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undOb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write(Str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le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write out the sound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lay and Explore a Soun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6572160" cy="5133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302240" y="2021040"/>
            <a:ext cx="131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48160" y="22860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26600" y="526104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51460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e Sound Explorer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ll of the sound is shown when you explore a 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ps values to fit in the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zoom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ee all sampl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zoom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fit the sound in the window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48320" y="1143000"/>
            <a:ext cx="3762360" cy="2479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48320" y="3733920"/>
            <a:ext cx="3709800" cy="24447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191120" y="2819520"/>
            <a:ext cx="304776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809880" y="3504960"/>
            <a:ext cx="236232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5029200"/>
            <a:ext cx="220968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s are made by changes in air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ssion followed by ref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itch is based on th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between cy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olume is based on the amplitude (height of the w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ing the value by &gt; 1increases the vol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create Sound objects, play them, explore them, and write them back out to a f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ound sample is a value from -32,768 to 32,7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capture 2x the max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,000 samples per second on a CD for a max frequency of 22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about sou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h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digitize sou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we digitize sou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digitized sound represen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play a sound in 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reate Sound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play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explor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does Hearing Work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uter ear “catches” sou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ardrum vib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ner ear translates the vibrations to nerve impulses for the brain to interpr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480" y="3352680"/>
            <a:ext cx="784872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coustics, the physics of soun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s ar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aves of air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 comes in cy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requen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 wave is the number of cycles per second (cps), 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er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plex sounds have more than one frequency in the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plitude is the maximum height of the wa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267080" y="1752480"/>
            <a:ext cx="457200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Volume and Pitch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perception of volume is related (logarithmically) to changes in ampl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amplitude doubles, it’s about a 3 decibel (dB) 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b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ratio between two intensities: 10 *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n absolute measure, it’s in comparison to threshold of aud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dB can’t be hear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 speech is 60 d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hout is about 80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perception of pitch is related (logarithmically) to changes in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frequencies are perceived as higher p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hear between 5 Hz and 20,000 Hz (20 k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above middle C is 44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ry I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h a microphone to your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the Windows-MediaTools f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g the mediatools-v5-sa.image file and drop it on SqueakVM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start Squeak with the media tools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Sound Tools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ill exp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Record Viewer and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do high and low sounds in the micro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ce that high sounds have more cycles per seco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Quit to exit Squ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ound Tools in Squeak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670572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igitizing Soun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alculus you learn to estimate a curve by creating rectang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do the same to estimate the sound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og-to-digital conversion (ADC) will give us the amplitude at an instant as a number: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samples do we ne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0" y="1411200"/>
          <a:ext cx="4038480" cy="257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411200"/>
                    <a:ext cx="4038480" cy="25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yquist Theore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wice as many samples as the maximum frequency in order to represent (and recreate, later) the original sou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samples recorded per second i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mpling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capture 8000 samples per second, the highest frequency we can capture is 4000 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’s how phones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capture more than 44,000 samples per second, we capture everything that we can hear (max 22,000 H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 quality is 44,100 samples per sec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5-09-20T20:10:54Z</dcterms:modified>
  <cp:revision>815</cp:revision>
  <dc:subject/>
  <dc:title>Summer Institute for Computing Education</dc:title>
</cp:coreProperties>
</file>