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76A-15B3-4B47-98DD-3B667BE9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F43-F085-4E02-B202-D8340F09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445-43CA-498C-912E-4ECD48F2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A7-FF07-42C3-BDEB-C67B6C61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4D2-6083-4939-9226-942013CA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9D0-AF3F-4A85-95DD-66DB83A0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100-A5A6-4B75-BEF6-C92AB0F1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C3A-E625-4B5E-B172-39A81674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983-C5BB-45BF-AD9D-790D58D6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ADF-45D6-4B41-BA75-4967DE1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37A4-10A7-4631-A9BF-1A4C75E3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D99-8850-4F67-B981-F4BC076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35A6-A7DC-47D7-B190-A9CB598AB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cessing Sound Rang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cing Sounds Togeth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meant cutting the sound tape into segments and then assembling them in the righ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do digi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more then one sound into a target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the source index and targe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c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plic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sound1 = new Sound(FileChooser.getMediaPath(“guzdial.wav”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sound2 = new Sound(FileChooser.getMediaPath("is.wav"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targetIndex = 0; // the starting place on the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value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py all of sound 1 into the current sound (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&lt; sound1.getLength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++, targetIndex++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sound1.getSampleValueAt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setSampleValueAt(targetIndex,value);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plice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reate silence between words by setting values to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&lt; (int) (this.getSamplingRate() * 0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++, targetIndex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setSampleValueAt(targetIndex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py all of sound 2 into the current sound (tar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&lt; sound2.getLeng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++, targetIndex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sound2.getSampleValueAt(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setSampleValueAt(targetIndex,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the Splic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silenc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c3silence.wav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target = new Sound(silenc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.splic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work with ranges by changing the start and end value of an index in a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turn a value from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the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retur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not required to change a variable in a for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you can change more tha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ranges of Sou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sound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cing sound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ing through a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a value from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re than one variable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ing a Sound Cli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lip the “This” out of “This is a tes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re it starts and s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sound explor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FileChooser.getMediaPath(“thisisatest.wav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 = new Sound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ing the End of the Th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58200" cy="434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63560" y="3998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 the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200040"/>
            <a:ext cx="228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62840" y="53704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0" y="495252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8160" y="10270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before bar to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114440" y="12193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 Create a Sound Cli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ound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appropria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 value – starting value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from start to end (inclu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start; x &lt;= end; x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etSampleValueAt(ind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tSampleValueAt(index,valu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he new sound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p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352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ound clip(int sta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alc the num s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umSample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- start + 1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target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ound(numSample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value 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targetIndex = 0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952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py from start to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start; i &lt;= end;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++, targetIndex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this.getSampleValueAt(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.setSampleValueAt(targetIndex,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arg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the Clip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isatest.wav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 = new Sound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2 = s.clip(0,850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.write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Chooser.getMediaPath(“this.wav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.pl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lip of “is” from thisisatest.w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re to start and end the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t to a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turning a Value from a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turn a value from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return statement in the body of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the thing being returned must match the declared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p method declared that it returned a Soun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statement returned the target Soun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ypes don’t match you will get a compil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4T19:49:10Z</dcterms:modified>
  <cp:revision>938</cp:revision>
  <dc:subject/>
  <dc:title>Summer Institute for Computing Education</dc:title>
</cp:coreProperties>
</file>