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099DF0EB-09D4-49F3-A12C-B39DDDD3E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called procedural abstraction.  The procedure of playing a song is to play verse1 and then the refrain and then verse2 and then the refrain.  Then we can break down what that means into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original version first published in 1859 by James Pierpont which is in the public dom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s in the MidiPlayer class before the last } and compil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constants can be referenced using Class.Constant where Class is the name of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beginning of the MidiPlayer class to see all the instrument cons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B12-3E8B-46AF-9BA8-E7724E40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37C-F32D-47A1-BB50-D36C4E21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3A3-7A14-4AFC-86F6-414BAD1C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926-49EE-46C6-B201-7BBB5AA8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082-760B-423E-B5F1-DC54166F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780-8D56-4D4E-B7D5-330991F0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2F1-3F6F-4215-8F4E-65AF1E6E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C94-D0E7-401A-BBCC-0BAF56EE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493-60B4-4FC7-A439-E88894C5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087-8502-455C-8242-F16437BF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2EC-733C-435E-B4FB-DA75FB66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94E-0684-41A8-93DB-A1E34F0D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856D-8E74-4A11-BA9D-5ECA72474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eetmusic1.com/NEW.GREAT.MUSIC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armony-central.com/MIDI/Doc/table2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reating Sounds and MIDI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lay a Song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 play at least 4 measures of a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ublic domain sheet music of classical pian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heetmusic1.com/NEW.GREAT.MUSIC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ublic domain American popular music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levysheetmusic.mse.jhu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reaking up Long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often has verses and a 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play a verse and then the 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n play the next verse and then the 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put all of this in one bi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it would be more work and harder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tter approach is to break the playing of a song into sever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reate one method that calls the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laying Jingle Bells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layJingleBell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play ver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JingleBellsV1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play ref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JingleBellsRefrai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play ver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JingleBellsV2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play ref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JingleBellsRefrai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ivate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code in another class to be able to invoke a method in you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visibility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want code in another class to be able to invoke a method in you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visibility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methods can only be invoked by code in the sam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y can be changed without worrying about affecting anoth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llocated space in the object that defines the class (an object of the class 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bject has a reference to the object that defines a class and can access Clas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eclared using the static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eclared using the final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nly be invoked by code in the sam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formats used to create digital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3, WAV, A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(static)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und Forma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include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PEG-3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s difference from one sample to the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ws away sounds you can’t h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sound with a loud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es (makes smaller) the sound file but without losing any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WAV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DI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save sou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how to play something, not the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key X on instrument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key X on instrument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files than MP3, WAV, or A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karaok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the quality of the music is dependant on the synthes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diPlayer Cla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 object of this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iPlayer player = new MidiPlaye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to play a note (with a du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er.playNote(62,25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62 is the key on the piano (d in fourth oct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0 is the length of time to play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of 1000 milliseconds so if a measure is played in 1 second this is a quarter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armony-central.com/MIDI/Doc/table2.h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not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rest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er.rest(int duration) in milli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ethod to Play Jingle Bells (4 measures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playJingleBells4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measu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Note(52,250); // e eighth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Note(60,250); // c eighth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Note(58,250); // b flat eighth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Note(56,250); // a flat eighth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measu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Note(52,500); // e quarter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(250);        //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Note(52,125); // e sixteenth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Note(52,125); // e sixteenth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532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measur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Note(52,500); // e eighth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Note(60,250); // c eighth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Note(58,250); // b flat eighth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Note(56,250); // a flat eighth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measur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Note(53,1000); // f half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tting the Instrume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Instrument(int numb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t the instrument to make the sound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playJingleBells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iPlayer player = new MidiPlayer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.setInstrument(MidiPlayer.FLUT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.playJingleBells4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sta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numbers are represented with class cons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idiPlay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tant is something that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d with the keyword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try to change it after the constructor is called you will get a compil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constants are variables that have space in the object that defines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d with the keywords static and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naming convention is to use all uppercase letters for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_ betwee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me Instrument Consta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iPlayer.P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iPlayer.MUSIC_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iPlayer.GU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iPlayer.H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iPlayer.TROM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iPlayer.TRUM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iPlayer.ALTO_S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iPlayer.TENOR_S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4T20:14:00Z</dcterms:modified>
  <cp:revision>1009</cp:revision>
  <dc:subject/>
  <dc:title>Summer Institute for Computing Education</dc:title>
</cp:coreProperties>
</file>