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Object-Oriente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- </a:t>
            </a:r>
            <a:fld id="{ACFB479F-096E-44A6-B5CB-2E88F6ADF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0.5 and 0.25 and the (int) of that will work fine.  But, you can have trouble with things like 1/3 which is .3333333 (and so on).  Computers can’t do infinite numbers.  So, they have to approximate them.  So adding .33 each time will not get over 1 the way it shou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ypes are the important thing.  The  compiler will figure out which method you want based on th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le c4.wav is the note C played on a piano in the fourth oct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2D1-E11B-4DDD-804A-7C812ED4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F24-7D25-4035-9699-99A5A687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B92-F96F-4BF8-88AA-0DF775FC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B1E-CA57-4995-AD80-27A4AA18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071-8B1F-42FF-B250-83B26D35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9A25-8E8B-47A1-8EC1-41A5DF57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520-D945-433C-9AC6-74D60C83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669-2819-4579-A5A1-2155414D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7F7-3DF6-4580-BA4F-6E198AC7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EB8-4992-4C04-8276-0D8116AC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A8D-2954-4675-88D3-BECDA781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D8D-E8AA-4F26-903F-B64B4E19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ED21-BE62-4AD3-834C-5B1E4247C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cessing Sound Rang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t 3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llen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method that will take every third s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this sound higher or lo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make this method more gene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passing in the amount to add to the source index each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alving the Frequenc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copy each source value twice to half the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get through half a cycle in the same time we used to get through a full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sound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same algorithm that we used to scale up a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5029200"/>
            <a:ext cx="29718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| 200 | 300 | 400 |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5029200"/>
            <a:ext cx="29718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| 100 | 200 | 200 |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alve Frequency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halveFreq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make a copy of the original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s = new Sound(this.getFileName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loop through the sound and increment target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y one but source index by 0.5 and set targe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to the copy of the original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double sourceIndex=0, targetIndex 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Index &lt; this.getLength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Index=sourceIndex+0.5, targetIndex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setSampleValueAt((int) targetInd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getSampleValueAt((int) sourceIndex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Halve Frequenc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s = new Sound(FileChooser.getMediaPath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c4.wav"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halveFreq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nge Frequency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hat will copy each sound value 4 times to the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the new sound be higher or lo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make this more gene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passing in the number of times to copy the sourc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it with 3 times and check the index values to make sure that you are doing it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have more than one method with the same name: method over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the parameter list is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number of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types of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increment or decrement loop variables by numbers other th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make methods more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passing i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lgorithms are the same for pictures and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a picture down and doubling the frequency of a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ranges of Sou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ing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sound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over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a for loop to increment by a value other th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ing a method to be more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odify Blend Sound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other blendSounds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takes the file name of the sounds to bl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value to start the blend at and another to stop the blend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original blendSounds method to call this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verloading 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have several methods with the sam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ong as the parameter list is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umber of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/or types of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Sound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Sound(String name1, String name2, int startBlend, int endBl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nging the Sound Frequenc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wave is the number of cycles per second (cps),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rtz (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plex sounds have more than one frequency in them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erception of pitch is related (logarithmically) to changes in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frequencies are perceived as higher p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hear between 5 Hz and 20,000 Hz (20 k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above middle C is 44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9144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uble the Frequenc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take every other sample we double the frequency of the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s two cycles instead of one in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sound hig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57400" y="3962520"/>
            <a:ext cx="2209680" cy="1438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3962520"/>
            <a:ext cx="2229120" cy="1438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5638680"/>
            <a:ext cx="29718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| 200 | 300 | 400 |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5638680"/>
            <a:ext cx="29718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| 300 | 500 | 0 |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uble Frequency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void doubleFreq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make a copy of the original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s = new Sound(this.getFileName(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* loop and increment target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by one but source index by 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and set targe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to the copy of the original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uble Frequency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sourceIndex=0, targetIndex = 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Index &lt; this.getLength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Index=sourceIndex+2, targetIndex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setSampleValueAt(targetIndex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getSampleValueAt(sourceInde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clear out the rest of this sound to silence 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i = this.getLength() / 2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&lt; this.getLength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setSampleValueAt(i,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 Double Frequenc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s = new Sound(FileChooser.getMediaPath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c4.wav"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doubleFreq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10-24T19:48:49Z</dcterms:modified>
  <cp:revision>941</cp:revision>
  <dc:subject/>
  <dc:title>Summer Institute for Computing Education</dc:title>
</cp:coreProperties>
</file>