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1.wmf" ContentType="image/x-wmf"/>
  <Override PartName="/ppt/media/image26.png" ContentType="image/png"/>
  <Override PartName="/ppt/media/image16.wmf" ContentType="image/x-wmf"/>
  <Override PartName="/ppt/media/image3.png" ContentType="image/png"/>
  <Override PartName="/ppt/media/image33.png" ContentType="image/png"/>
  <Override PartName="/ppt/media/image8.png" ContentType="image/png"/>
  <Override PartName="/ppt/media/image27.png" ContentType="image/png"/>
  <Override PartName="/ppt/media/image4.png" ContentType="image/png"/>
  <Override PartName="/ppt/media/image12.wmf" ContentType="image/x-wmf"/>
  <Override PartName="/ppt/media/image17.wmf" ContentType="image/x-wmf"/>
  <Override PartName="/ppt/media/image9.png" ContentType="image/png"/>
  <Override PartName="/ppt/media/image28.png" ContentType="image/png"/>
  <Override PartName="/ppt/media/image5.png" ContentType="image/png"/>
  <Override PartName="/ppt/media/image13.wmf" ContentType="image/x-wmf"/>
  <Override PartName="/ppt/media/image30.png" ContentType="image/png"/>
  <Override PartName="/ppt/media/image7.png" ContentType="image/png"/>
  <Override PartName="/ppt/media/image15.wmf" ContentType="image/x-wmf"/>
  <Override PartName="/ppt/media/image6.png" ContentType="image/png"/>
  <Override PartName="/ppt/media/image14.wmf" ContentType="image/x-wmf"/>
  <Override PartName="/ppt/media/image29.png" ContentType="image/png"/>
  <Override PartName="/ppt/media/image32.wmf" ContentType="image/x-wmf"/>
  <Override PartName="/ppt/media/image10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8.png" ContentType="image/png"/>
  <Override PartName="/ppt/media/image20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25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27D90-8B66-4964-AB1B-087208E37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A2E71-18D0-4284-B0ED-4ABA78130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6FF9F-EF79-48AD-AFEE-C23BCC322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61AF6-9BF5-40E1-9501-B147E929A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152DD-BB40-4D89-AFAA-F8AD95405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817DE-2C8F-41BB-B7D5-25629B5AF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E8B23-0556-4140-A136-D56487763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64BFD-0C6B-419A-B89D-78BEEBC30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6B7B8-77BD-4E09-A93B-A63C1F407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8B5E7-DFF2-48D7-BA71-130F1D205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6BAE0-44B9-402E-B402-8C2FCC45A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F2EB1-60A3-4510-A6DB-12E25CAD2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1E8B2-6735-4B2A-BA6A-C81E8C203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37AAB-71A2-4E51-A1F1-AEA200AD6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8F302-F164-4C79-ADD6-0643BB045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D4D9F-B70C-47A1-A8C4-66E8AA779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CB714-9248-487E-B17A-413C3BCAC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D72CB-7B76-4F4F-A6D0-98012C1F7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6DE97-9796-48A4-ACED-14BA34FC6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9E09E-B8DE-4713-82F5-A8E35F41E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ED6C7-6C23-41E5-B708-4EBC5D608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0FF9D-1A2B-489E-9388-3CC4CE10C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35F22-7B03-463D-B938-4EAC0A946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F3521-852D-46B4-8569-6ACA03C61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4AABA-6958-4DEF-B37A-E325BBFD17FF}" type="slidenum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6"/>
          <p:cNvSpPr/>
          <p:nvPr/>
        </p:nvSpPr>
        <p:spPr>
          <a:xfrm>
            <a:off x="685800" y="6400800"/>
            <a:ext cx="82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JAVA: An Introduction to Problem Solving &amp; Programming, 7</a:t>
            </a:r>
            <a:r>
              <a:rPr b="0" lang="en-US" sz="9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Ed. By Walter Savitch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SBN 0133862119 © 2015 Pearson Education, Inc., Upper Saddle River, NJ. All Rights Reserv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6"/>
          <p:cNvSpPr/>
          <p:nvPr/>
        </p:nvSpPr>
        <p:spPr>
          <a:xfrm>
            <a:off x="685800" y="6400800"/>
            <a:ext cx="82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JAVA: An Introduction to Problem Solving &amp; Programming, 7</a:t>
            </a:r>
            <a:r>
              <a:rPr b="0" lang="en-US" sz="9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Ed. By Walter Savitch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SBN 0133862119 © 2015 Pearson Education, Inc., Upper Saddle River, NJ. All Rights Reserv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7" descr=""/>
          <p:cNvPicPr/>
          <p:nvPr/>
        </p:nvPicPr>
        <p:blipFill>
          <a:blip r:embed="rId2"/>
          <a:stretch/>
        </p:blipFill>
        <p:spPr>
          <a:xfrm>
            <a:off x="2195640" y="525600"/>
            <a:ext cx="4505040" cy="17906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"/>
          <p:cNvPicPr/>
          <p:nvPr/>
        </p:nvPicPr>
        <p:blipFill>
          <a:blip r:embed="rId3"/>
          <a:stretch/>
        </p:blipFill>
        <p:spPr>
          <a:xfrm>
            <a:off x="5653080" y="2313000"/>
            <a:ext cx="1609560" cy="39996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3B1E6-903C-42D0-A9BC-DB36F6E1730E}" type="slidenum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/CodeSamples2.htm#Listing 5.1" TargetMode="Externa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file:///CodeSamples2.htm#Listing 5.2" TargetMode="Externa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file:///CodeSamples2.htm#Listing 5.3" TargetMode="External"/><Relationship Id="rId2" Type="http://schemas.openxmlformats.org/officeDocument/2006/relationships/hyperlink" Target="file:///CodeSamples2.htm#Listing 5.4" TargetMode="External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43000" y="1992240"/>
            <a:ext cx="6858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Calibri Light"/>
              </a:rPr>
              <a:t>Defining Classes</a:t>
            </a:r>
            <a:br>
              <a:rPr sz="4500"/>
            </a:br>
            <a:r>
              <a:rPr b="0" lang="en-US" sz="4500" spc="-1" strike="noStrike">
                <a:solidFill>
                  <a:srgbClr val="000000"/>
                </a:solidFill>
                <a:latin typeface="Calibri Light"/>
              </a:rPr>
              <a:t>and Methods</a:t>
            </a:r>
            <a:endParaRPr b="0" lang="en-US" sz="45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143000" y="4471920"/>
            <a:ext cx="6858000" cy="16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hapter 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300" spc="-1" strike="noStrike">
                <a:solidFill>
                  <a:srgbClr val="ff0000"/>
                </a:solidFill>
                <a:latin typeface="Courier New"/>
                <a:ea typeface="Courier New"/>
              </a:rPr>
              <a:t>Dog</a:t>
            </a:r>
            <a:r>
              <a:rPr b="0" lang="en-US" sz="3300" spc="-1" strike="noStrike">
                <a:solidFill>
                  <a:srgbClr val="ff0000"/>
                </a:solidFill>
                <a:latin typeface="Calibri Light"/>
              </a:rPr>
              <a:t> </a:t>
            </a: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ass and Instance Variable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66560" y="1573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View </a:t>
            </a:r>
            <a:r>
              <a:rPr b="0" lang="en-US" sz="21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sample program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, listing 5.1</a:t>
            </a:r>
            <a:br>
              <a:rPr sz="2100"/>
            </a:br>
            <a:r>
              <a:rPr b="1" lang="en-US" sz="2100" spc="-1" strike="noStrike">
                <a:solidFill>
                  <a:srgbClr val="ed7d31"/>
                </a:solidFill>
                <a:latin typeface="Courier New"/>
              </a:rPr>
              <a:t>class Dog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Note class ha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ree pieces of data (instance variable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wo behavio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Each instance of this type has its own copies of the data item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Use of </a:t>
            </a:r>
            <a:r>
              <a:rPr b="1" lang="en-US" sz="2100" spc="-1" strike="noStrike">
                <a:solidFill>
                  <a:srgbClr val="ed7d31"/>
                </a:solidFill>
                <a:latin typeface="Courier New"/>
              </a:rPr>
              <a:t>public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 restrictions on how variables us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ter will replace with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priva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Using a Class and Its Method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View </a:t>
            </a:r>
            <a:r>
              <a:rPr b="0" lang="en-US" sz="21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sample program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, listing 5.2</a:t>
            </a:r>
            <a:br>
              <a:rPr sz="2100"/>
            </a:br>
            <a:r>
              <a:rPr b="1" lang="en-US" sz="2100" spc="-1" strike="noStrike">
                <a:solidFill>
                  <a:srgbClr val="ed7d31"/>
                </a:solidFill>
                <a:latin typeface="Courier New"/>
              </a:rPr>
              <a:t>class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100" spc="-1" strike="noStrike">
                <a:solidFill>
                  <a:srgbClr val="ed7d31"/>
                </a:solidFill>
                <a:latin typeface="Courier New"/>
              </a:rPr>
              <a:t>DogDemo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6" descr=""/>
          <p:cNvPicPr/>
          <p:nvPr/>
        </p:nvPicPr>
        <p:blipFill>
          <a:blip r:embed="rId2"/>
          <a:stretch/>
        </p:blipFill>
        <p:spPr>
          <a:xfrm>
            <a:off x="1403280" y="3143160"/>
            <a:ext cx="5916600" cy="223200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7"/>
          <p:cNvSpPr/>
          <p:nvPr/>
        </p:nvSpPr>
        <p:spPr>
          <a:xfrm>
            <a:off x="6431040" y="3683160"/>
            <a:ext cx="1523880" cy="1008720"/>
          </a:xfrm>
          <a:prstGeom prst="rect">
            <a:avLst/>
          </a:prstGeom>
          <a:solidFill>
            <a:srgbClr val="5b9bd5"/>
          </a:solidFill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mpl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reen out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Method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When you use a method you "invoke" or "call" i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wo kinds of Java method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turn a single ite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erform some other action – a </a:t>
            </a:r>
            <a:r>
              <a:rPr b="1" lang="en-US" sz="3200" spc="-1" strike="noStrike">
                <a:solidFill>
                  <a:srgbClr val="ed7d31"/>
                </a:solidFill>
                <a:latin typeface="Courier New"/>
              </a:rPr>
              <a:t>void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metho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e method </a:t>
            </a:r>
            <a:r>
              <a:rPr b="1" lang="en-US" sz="3600" spc="-1" strike="noStrike">
                <a:solidFill>
                  <a:srgbClr val="ed7d31"/>
                </a:solidFill>
                <a:latin typeface="Courier New"/>
              </a:rPr>
              <a:t>main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is a </a:t>
            </a:r>
            <a:r>
              <a:rPr b="1" lang="en-US" sz="3600" spc="-1" strike="noStrike">
                <a:solidFill>
                  <a:srgbClr val="ed7d31"/>
                </a:solidFill>
                <a:latin typeface="Courier New"/>
              </a:rPr>
              <a:t>void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method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voked by the syste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t by the application progra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Method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alling a method that returns a quantity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e anywhere a value can be us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alling a void method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rite the invocation followed by a semicol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sulting statement performs the action defined by the metho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Defining </a:t>
            </a:r>
            <a:r>
              <a:rPr b="1" lang="en-US" sz="3300" spc="-1" strike="noStrike">
                <a:solidFill>
                  <a:srgbClr val="ed7d31"/>
                </a:solidFill>
                <a:latin typeface="Courier New"/>
              </a:rPr>
              <a:t>void</a:t>
            </a: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 Method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onsider method </a:t>
            </a:r>
            <a:r>
              <a:rPr b="1" lang="en-US" sz="3600" spc="-1" strike="noStrike">
                <a:solidFill>
                  <a:srgbClr val="ed7d31"/>
                </a:solidFill>
                <a:latin typeface="Courier New"/>
              </a:rPr>
              <a:t>writeOutput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from 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Listing 5.1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Method definitions appear inside class definition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an be used only with objects of that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Picture 5" descr=""/>
          <p:cNvPicPr/>
          <p:nvPr/>
        </p:nvPicPr>
        <p:blipFill>
          <a:blip r:embed="rId1"/>
          <a:stretch/>
        </p:blipFill>
        <p:spPr>
          <a:xfrm>
            <a:off x="2903400" y="2457360"/>
            <a:ext cx="5181840" cy="21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Defining </a:t>
            </a:r>
            <a:r>
              <a:rPr b="1" lang="en-US" sz="3300" spc="-1" strike="noStrike">
                <a:solidFill>
                  <a:srgbClr val="ed7d31"/>
                </a:solidFill>
                <a:latin typeface="Courier New"/>
              </a:rPr>
              <a:t>void</a:t>
            </a: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 Method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Most method definitions we will see as </a:t>
            </a:r>
            <a:r>
              <a:rPr b="1" lang="en-US" sz="3600" spc="-1" strike="noStrike">
                <a:solidFill>
                  <a:srgbClr val="ed7d31"/>
                </a:solidFill>
                <a:latin typeface="Courier New"/>
              </a:rPr>
              <a:t>public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Method does not return a valu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pecified as a </a:t>
            </a:r>
            <a:r>
              <a:rPr b="1" lang="en-US" sz="3200" spc="-1" strike="noStrike">
                <a:solidFill>
                  <a:srgbClr val="ed7d31"/>
                </a:solidFill>
                <a:latin typeface="Courier New"/>
              </a:rPr>
              <a:t>void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metho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Heading includes parameter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Body enclosed in braces  </a:t>
            </a:r>
            <a:r>
              <a:rPr b="1" lang="en-US" sz="3600" spc="-1" strike="noStrike">
                <a:solidFill>
                  <a:srgbClr val="ed7d31"/>
                </a:solidFill>
                <a:latin typeface="Courier New"/>
              </a:rPr>
              <a:t>{  }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nk of method as defining an action to be taken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Methods That Return a Valu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387080"/>
            <a:ext cx="8686800" cy="483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onsider method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getAgeInHumanYears( )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Heading declares type of value to be returned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Last statement executed is </a:t>
            </a:r>
            <a:r>
              <a:rPr b="1" lang="en-US" sz="3600" spc="-1" strike="noStrike">
                <a:solidFill>
                  <a:srgbClr val="ed7d31"/>
                </a:solidFill>
                <a:latin typeface="Courier New"/>
              </a:rPr>
              <a:t>retur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Picture 9" descr=""/>
          <p:cNvPicPr/>
          <p:nvPr/>
        </p:nvPicPr>
        <p:blipFill>
          <a:blip r:embed="rId1"/>
          <a:stretch/>
        </p:blipFill>
        <p:spPr>
          <a:xfrm>
            <a:off x="2289240" y="1905120"/>
            <a:ext cx="3895560" cy="2828880"/>
          </a:xfrm>
          <a:prstGeom prst="rect">
            <a:avLst/>
          </a:prstGeom>
          <a:ln w="0">
            <a:noFill/>
          </a:ln>
        </p:spPr>
      </p:pic>
      <p:sp>
        <p:nvSpPr>
          <p:cNvPr id="128" name="Line 13"/>
          <p:cNvSpPr/>
          <p:nvPr/>
        </p:nvSpPr>
        <p:spPr>
          <a:xfrm flipV="1">
            <a:off x="1906560" y="2170080"/>
            <a:ext cx="827280" cy="2563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14"/>
          <p:cNvSpPr/>
          <p:nvPr/>
        </p:nvSpPr>
        <p:spPr>
          <a:xfrm flipH="1" flipV="1">
            <a:off x="3620880" y="4506480"/>
            <a:ext cx="817560" cy="76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Second Example – Species Clas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ass designed to hold records of endangered specie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View </a:t>
            </a:r>
            <a:r>
              <a:rPr b="0" lang="en-US" sz="21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the class 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listing 5.3</a:t>
            </a:r>
            <a:br>
              <a:rPr sz="2100"/>
            </a:br>
            <a:r>
              <a:rPr b="1" lang="en-US" sz="2100" spc="-1" strike="noStrike">
                <a:solidFill>
                  <a:srgbClr val="ed7d31"/>
                </a:solidFill>
                <a:latin typeface="Courier New"/>
              </a:rPr>
              <a:t>class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100" spc="-1" strike="noStrike">
                <a:solidFill>
                  <a:srgbClr val="ed7d31"/>
                </a:solidFill>
                <a:latin typeface="Courier New"/>
              </a:rPr>
              <a:t>SpeciesFirstTry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ree instance variables, three method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ill expand this class in the rest of the chapt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View </a:t>
            </a:r>
            <a:r>
              <a:rPr b="0" lang="en-US" sz="21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demo class 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listing 5.4</a:t>
            </a:r>
            <a:br>
              <a:rPr sz="2100"/>
            </a:br>
            <a:r>
              <a:rPr b="1" lang="en-US" sz="2100" spc="-1" strike="noStrike">
                <a:solidFill>
                  <a:srgbClr val="ed7d31"/>
                </a:solidFill>
                <a:latin typeface="Courier New"/>
              </a:rPr>
              <a:t>class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100" spc="-1" strike="noStrike">
                <a:solidFill>
                  <a:srgbClr val="ed7d31"/>
                </a:solidFill>
                <a:latin typeface="Courier New"/>
              </a:rPr>
              <a:t>SpeciesFirstTryDemo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ed7d31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ed7d31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The Keyword </a:t>
            </a:r>
            <a:r>
              <a:rPr b="1" lang="en-US" sz="3300" spc="-1" strike="noStrike">
                <a:solidFill>
                  <a:srgbClr val="ed7d31"/>
                </a:solidFill>
                <a:latin typeface="Courier New"/>
              </a:rPr>
              <a:t>thi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599840"/>
            <a:ext cx="8229600" cy="47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Referring to instance variables outside the class – must us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ame of an object of the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llowed by a do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ame of instance variab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Inside the class,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e name of variable alon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object (unnamed) is understood to be t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The Keyword </a:t>
            </a:r>
            <a:r>
              <a:rPr b="1" lang="en-US" sz="3300" spc="-1" strike="noStrike">
                <a:solidFill>
                  <a:srgbClr val="ed7d31"/>
                </a:solidFill>
                <a:latin typeface="Courier New"/>
              </a:rPr>
              <a:t>thi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Inside the class the unnamed object can be referred to with the name </a:t>
            </a:r>
            <a:r>
              <a:rPr b="1" lang="en-US" sz="3600" spc="-1" strike="noStrike">
                <a:solidFill>
                  <a:srgbClr val="ed7d31"/>
                </a:solidFill>
                <a:latin typeface="Courier New"/>
              </a:rPr>
              <a:t>thi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Example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this.name = keyboard.nextLine(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e keyword </a:t>
            </a:r>
            <a:r>
              <a:rPr b="1" lang="en-US" sz="3600" spc="-1" strike="noStrike">
                <a:solidFill>
                  <a:srgbClr val="ed7d31"/>
                </a:solidFill>
                <a:latin typeface="Courier New"/>
              </a:rPr>
              <a:t>this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stands for the receiving objec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We will seem some situations later that require the </a:t>
            </a:r>
            <a:r>
              <a:rPr b="1" lang="en-US" sz="3600" spc="-1" strike="noStrike">
                <a:solidFill>
                  <a:srgbClr val="ed7d31"/>
                </a:solidFill>
                <a:latin typeface="Courier New"/>
              </a:rPr>
              <a:t>thi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Objective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Describe concepts of class, class objec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reate class object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Define a Java class, its method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Describe use of parameters in a method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Use modifiers </a:t>
            </a:r>
            <a:r>
              <a:rPr b="1" lang="en-US" sz="2100" spc="-1" strike="noStrike">
                <a:solidFill>
                  <a:srgbClr val="ed7d31"/>
                </a:solidFill>
                <a:latin typeface="Courier New"/>
              </a:rPr>
              <a:t>public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2100" spc="-1" strike="noStrike">
                <a:solidFill>
                  <a:srgbClr val="ed7d31"/>
                </a:solidFill>
                <a:latin typeface="Courier New"/>
              </a:rPr>
              <a:t>privat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Define accessor, mutator class method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Describe information hiding, encapsulation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Write method pre- and postcondition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Local Variable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793520"/>
            <a:ext cx="8229600" cy="47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Variables declared inside a method are called </a:t>
            </a:r>
            <a:r>
              <a:rPr b="0" i="1" lang="en-US" sz="2100" spc="-1" strike="noStrike">
                <a:solidFill>
                  <a:srgbClr val="000000"/>
                </a:solidFill>
                <a:latin typeface="Calibri"/>
              </a:rPr>
              <a:t>local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variable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y be used only inside the metho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ll variables declared in method </a:t>
            </a:r>
            <a:r>
              <a:rPr b="1" lang="en-US" sz="3200" spc="-1" strike="noStrike">
                <a:solidFill>
                  <a:srgbClr val="ed7d31"/>
                </a:solidFill>
                <a:latin typeface="Courier New"/>
              </a:rPr>
              <a:t>main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are local to </a:t>
            </a:r>
            <a:r>
              <a:rPr b="1" lang="en-US" sz="3200" spc="-1" strike="noStrike">
                <a:solidFill>
                  <a:srgbClr val="ed7d31"/>
                </a:solidFill>
                <a:latin typeface="Courier New"/>
              </a:rPr>
              <a:t>main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Local variables having the same name and declared in different methods are different variable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Local Variable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View sample file, listing 5.5A</a:t>
            </a:r>
            <a:br>
              <a:rPr sz="2100"/>
            </a:br>
            <a:r>
              <a:rPr b="1" lang="en-US" sz="2100" spc="-1" strike="noStrike">
                <a:solidFill>
                  <a:srgbClr val="ed7d31"/>
                </a:solidFill>
                <a:latin typeface="Courier New"/>
              </a:rPr>
              <a:t>class BankAccoun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View sample file, listing 5.5B</a:t>
            </a:r>
            <a:br>
              <a:rPr sz="2100"/>
            </a:br>
            <a:r>
              <a:rPr b="1" lang="en-US" sz="2100" spc="-1" strike="noStrike">
                <a:solidFill>
                  <a:srgbClr val="ed7d31"/>
                </a:solidFill>
                <a:latin typeface="Courier New"/>
              </a:rPr>
              <a:t>class LocalVariablesDemoProgram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Note two different variables </a:t>
            </a:r>
            <a:r>
              <a:rPr b="1" lang="en-US" sz="2100" spc="-1" strike="noStrike">
                <a:solidFill>
                  <a:srgbClr val="ed7d31"/>
                </a:solidFill>
                <a:latin typeface="Courier New"/>
              </a:rPr>
              <a:t>newAmoun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te different values outpu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Picture 4" descr=""/>
          <p:cNvPicPr/>
          <p:nvPr/>
        </p:nvPicPr>
        <p:blipFill>
          <a:blip r:embed="rId1"/>
          <a:stretch/>
        </p:blipFill>
        <p:spPr>
          <a:xfrm>
            <a:off x="1028880" y="5126040"/>
            <a:ext cx="6424560" cy="10126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  <p:sp>
        <p:nvSpPr>
          <p:cNvPr id="141" name="Text Box 7"/>
          <p:cNvSpPr/>
          <p:nvPr/>
        </p:nvSpPr>
        <p:spPr>
          <a:xfrm>
            <a:off x="7149960" y="4773600"/>
            <a:ext cx="1524240" cy="1008720"/>
          </a:xfrm>
          <a:prstGeom prst="rect">
            <a:avLst/>
          </a:prstGeom>
          <a:solidFill>
            <a:srgbClr val="5b9bd5"/>
          </a:solidFill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mpl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reen out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Block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599840"/>
            <a:ext cx="8229600" cy="46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Recall compound statement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nclosed in braces </a:t>
            </a:r>
            <a:r>
              <a:rPr b="1" lang="en-US" sz="3200" spc="-1" strike="noStrike">
                <a:solidFill>
                  <a:srgbClr val="ed7d31"/>
                </a:solidFill>
                <a:latin typeface="Courier New"/>
              </a:rPr>
              <a:t>{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3200" spc="-1" strike="noStrike">
                <a:solidFill>
                  <a:srgbClr val="ed7d31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When you declare a variable within a compound statemen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compound statement is called a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blo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scope of the variable is from its declaration to the end of the blo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Variable declared outside the block usable both outside and inside the block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Parameters of Primitive Typ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Recall method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declaration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in listing 5.3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te it only works for 10 yea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e can make it more versatile by giving the method a parameter to specify how many yea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Note sample program, listing 5.6</a:t>
            </a:r>
            <a:br>
              <a:rPr sz="2100"/>
            </a:br>
            <a:r>
              <a:rPr b="1" lang="en-US" sz="2100" spc="-1" strike="noStrike">
                <a:solidFill>
                  <a:srgbClr val="ed7d31"/>
                </a:solidFill>
                <a:latin typeface="Courier New"/>
              </a:rPr>
              <a:t>class SpeciesSecondTry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" name="Picture 4" descr=""/>
          <p:cNvPicPr/>
          <p:nvPr/>
        </p:nvPicPr>
        <p:blipFill>
          <a:blip r:embed="rId1"/>
          <a:stretch/>
        </p:blipFill>
        <p:spPr>
          <a:xfrm>
            <a:off x="3776760" y="1397160"/>
            <a:ext cx="4938480" cy="11919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Parameters of Primitive Typ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425240"/>
            <a:ext cx="8686800" cy="479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Note the declaration</a:t>
            </a:r>
            <a:br>
              <a:rPr sz="2100"/>
            </a:br>
            <a:r>
              <a:rPr b="1" lang="en-US" sz="2600" spc="-1" strike="noStrike">
                <a:solidFill>
                  <a:srgbClr val="ed7d31"/>
                </a:solidFill>
                <a:latin typeface="Courier New"/>
              </a:rPr>
              <a:t>public int predictPopulation(int year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formal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parameter is </a:t>
            </a:r>
            <a:r>
              <a:rPr b="1" lang="en-US" sz="2600" spc="-1" strike="noStrike">
                <a:solidFill>
                  <a:srgbClr val="ed7d31"/>
                </a:solidFill>
                <a:latin typeface="Courier New"/>
              </a:rPr>
              <a:t>yea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alling the method</a:t>
            </a:r>
            <a:br>
              <a:rPr sz="2100"/>
            </a:br>
            <a:r>
              <a:rPr b="1" lang="en-US" sz="2600" spc="-1" strike="noStrike">
                <a:solidFill>
                  <a:srgbClr val="ed7d31"/>
                </a:solidFill>
                <a:latin typeface="Courier New"/>
              </a:rPr>
              <a:t>int futurePopulation =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 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2600" spc="-1" strike="noStrike">
                <a:solidFill>
                  <a:srgbClr val="ed7d31"/>
                </a:solidFill>
                <a:latin typeface="Courier New"/>
              </a:rPr>
              <a:t>speciesOfTheMonth.predictPopulation(10)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actual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parameter is the integer 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View sample program, listing 5.7</a:t>
            </a:r>
            <a:br>
              <a:rPr sz="2100"/>
            </a:br>
            <a:r>
              <a:rPr b="1" lang="en-US" sz="3400" spc="-1" strike="noStrike">
                <a:solidFill>
                  <a:srgbClr val="ed7d31"/>
                </a:solidFill>
                <a:latin typeface="Courier New"/>
              </a:rPr>
              <a:t>class SpeciesSecondClassDemo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Parameters of Primitive Typ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Parameter names are local to the method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When method invoked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ach parameter initialized to value in corresponding actual paramet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imitive actual parameter cannot be altered by invocation of the metho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Automatic type conversion performed</a:t>
            </a:r>
            <a:br>
              <a:rPr sz="2100"/>
            </a:br>
            <a:r>
              <a:rPr b="1" lang="en-US" sz="2600" spc="-1" strike="noStrike">
                <a:solidFill>
                  <a:srgbClr val="ed7d31"/>
                </a:solidFill>
                <a:latin typeface="Courier New"/>
              </a:rPr>
              <a:t>byte -&gt; short -&gt; int -&gt; </a:t>
            </a:r>
            <a:br>
              <a:rPr sz="2600"/>
            </a:br>
            <a:r>
              <a:rPr b="1" lang="en-US" sz="2600" spc="-1" strike="noStrike">
                <a:solidFill>
                  <a:srgbClr val="ed7d31"/>
                </a:solidFill>
                <a:latin typeface="Courier New"/>
              </a:rPr>
              <a:t>      long -&gt; float -&gt; doubl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 Light"/>
              </a:rPr>
              <a:t>Information Hiding,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 Light"/>
              </a:rPr>
              <a:t>Encapsulation: Outline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001520" y="1600200"/>
            <a:ext cx="7684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Information Hiding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Pre- and Postcondition Comment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e public and private Modifier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Methods Calling Method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Encapsulation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Automatic Documentation with </a:t>
            </a:r>
            <a:r>
              <a:rPr b="1" lang="en-US" sz="3400" spc="-1" strike="noStrike">
                <a:solidFill>
                  <a:srgbClr val="ed7d31"/>
                </a:solidFill>
                <a:latin typeface="Courier New"/>
              </a:rPr>
              <a:t>javadoc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UML Class Diagram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Information Hiding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Programmer using a class method need </a:t>
            </a:r>
            <a:r>
              <a:rPr b="0" lang="en-US" sz="2100" spc="-1" strike="noStrike" u="sng">
                <a:solidFill>
                  <a:srgbClr val="000000"/>
                </a:solidFill>
                <a:uFillTx/>
                <a:latin typeface="Calibri"/>
              </a:rPr>
              <a:t>not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know details of implementation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nly needs to know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what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the method do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Information hiding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esigning a method so it can be used without knowing detail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Also referred to as </a:t>
            </a:r>
            <a:r>
              <a:rPr b="0" i="1" lang="en-US" sz="2100" spc="-1" strike="noStrike">
                <a:solidFill>
                  <a:srgbClr val="000000"/>
                </a:solidFill>
                <a:latin typeface="Calibri"/>
              </a:rPr>
              <a:t>abstraction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Method design should separate </a:t>
            </a:r>
            <a:r>
              <a:rPr b="0" i="1" lang="en-US" sz="2100" spc="-1" strike="noStrike">
                <a:solidFill>
                  <a:srgbClr val="000000"/>
                </a:solidFill>
                <a:latin typeface="Calibri"/>
              </a:rPr>
              <a:t>what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from </a:t>
            </a:r>
            <a:r>
              <a:rPr b="0" i="1" lang="en-US" sz="2100" spc="-1" strike="noStrike">
                <a:solidFill>
                  <a:srgbClr val="000000"/>
                </a:solidFill>
                <a:latin typeface="Calibri"/>
              </a:rPr>
              <a:t>how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93640" y="371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 Light"/>
              </a:rPr>
              <a:t>Pre- and Postcondition Comments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Precondition commen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ates conditions that must be true before method is invok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Exampl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7" name="Picture 4" descr=""/>
          <p:cNvPicPr/>
          <p:nvPr/>
        </p:nvPicPr>
        <p:blipFill>
          <a:blip r:embed="rId1"/>
          <a:stretch/>
        </p:blipFill>
        <p:spPr>
          <a:xfrm>
            <a:off x="1209600" y="3876840"/>
            <a:ext cx="7188120" cy="17557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3180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 Light"/>
              </a:rPr>
              <a:t>Pre- and Postcondition Comments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Postcondition commen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lls what will be true after method execut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Exampl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0" name="Picture 4" descr=""/>
          <p:cNvPicPr/>
          <p:nvPr/>
        </p:nvPicPr>
        <p:blipFill>
          <a:blip r:embed="rId1"/>
          <a:stretch/>
        </p:blipFill>
        <p:spPr>
          <a:xfrm>
            <a:off x="1131840" y="3562200"/>
            <a:ext cx="7427880" cy="16909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Objective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493120" cy="484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Describe purpose of </a:t>
            </a:r>
            <a:r>
              <a:rPr b="1" lang="en-US" sz="3600" spc="-1" strike="noStrike">
                <a:solidFill>
                  <a:srgbClr val="ed7d31"/>
                </a:solidFill>
                <a:latin typeface="Courier New"/>
              </a:rPr>
              <a:t>javadoc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Draw simple UML diagram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Describe references, variables, parameters of a class typ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Define boolean-valued methods such as </a:t>
            </a:r>
            <a:r>
              <a:rPr b="1" lang="en-US" sz="3600" spc="-1" strike="noStrike">
                <a:solidFill>
                  <a:srgbClr val="ed7d31"/>
                </a:solidFill>
                <a:latin typeface="Courier New"/>
              </a:rPr>
              <a:t>equal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In applets use class </a:t>
            </a:r>
            <a:r>
              <a:rPr b="1" lang="en-US" sz="3600" spc="-1" strike="noStrike">
                <a:solidFill>
                  <a:srgbClr val="ed7d31"/>
                </a:solidFill>
                <a:latin typeface="Courier New"/>
              </a:rPr>
              <a:t>Graphics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, labels, </a:t>
            </a:r>
            <a:r>
              <a:rPr b="1" lang="en-US" sz="3600" spc="-1" strike="noStrike">
                <a:solidFill>
                  <a:srgbClr val="ed7d31"/>
                </a:solidFill>
                <a:latin typeface="Courier New"/>
              </a:rPr>
              <a:t>init 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method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50640" y="410760"/>
            <a:ext cx="8793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 Light"/>
              </a:rPr>
              <a:t>The </a:t>
            </a:r>
            <a:r>
              <a:rPr b="1" lang="en-US" sz="3600" spc="-1" strike="noStrike">
                <a:solidFill>
                  <a:srgbClr val="ed7d31"/>
                </a:solidFill>
                <a:latin typeface="Courier New"/>
              </a:rPr>
              <a:t>public</a:t>
            </a:r>
            <a:r>
              <a:rPr b="0" lang="en-US" sz="4000" spc="-1" strike="noStrike">
                <a:solidFill>
                  <a:srgbClr val="000000"/>
                </a:solidFill>
                <a:latin typeface="Calibri Light"/>
              </a:rPr>
              <a:t> and </a:t>
            </a:r>
            <a:r>
              <a:rPr b="1" lang="en-US" sz="3600" spc="-1" strike="noStrike">
                <a:solidFill>
                  <a:srgbClr val="ed7d31"/>
                </a:solidFill>
                <a:latin typeface="Courier New"/>
              </a:rPr>
              <a:t>private</a:t>
            </a:r>
            <a:r>
              <a:rPr b="0" lang="en-US" sz="4000" spc="-1" strike="noStrike">
                <a:solidFill>
                  <a:srgbClr val="000000"/>
                </a:solidFill>
                <a:latin typeface="Calibri Light"/>
              </a:rPr>
              <a:t> Modifiers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ype specified as </a:t>
            </a:r>
            <a:r>
              <a:rPr b="1" lang="en-US" sz="3400" spc="-1" strike="noStrike">
                <a:solidFill>
                  <a:srgbClr val="ed7d31"/>
                </a:solidFill>
                <a:latin typeface="Courier New"/>
              </a:rPr>
              <a:t>public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ny other class can directly access that object by na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asses generally specified as </a:t>
            </a:r>
            <a:r>
              <a:rPr b="1" lang="en-US" sz="3400" spc="-1" strike="noStrike">
                <a:solidFill>
                  <a:srgbClr val="ed7d31"/>
                </a:solidFill>
                <a:latin typeface="Courier New"/>
              </a:rPr>
              <a:t>public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Instance variables usually </a:t>
            </a:r>
            <a:r>
              <a:rPr b="0" lang="en-US" sz="2100" spc="-1" strike="noStrike" u="sng">
                <a:solidFill>
                  <a:srgbClr val="000000"/>
                </a:solidFill>
                <a:uFillTx/>
                <a:latin typeface="Calibri"/>
              </a:rPr>
              <a:t>not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400" spc="-1" strike="noStrike">
                <a:solidFill>
                  <a:srgbClr val="ed7d31"/>
                </a:solidFill>
                <a:latin typeface="Courier New"/>
              </a:rPr>
              <a:t>public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stead specify as </a:t>
            </a: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privat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View sample code, listing 5.8</a:t>
            </a:r>
            <a:br>
              <a:rPr sz="2100"/>
            </a:b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class SpeciesThirdTr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Programming Exampl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Demonstration of need for private variable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View sample code, listing 5.9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tatement such as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400" spc="-1" strike="noStrike">
                <a:solidFill>
                  <a:srgbClr val="ed7d31"/>
                </a:solidFill>
                <a:latin typeface="Courier New"/>
              </a:rPr>
              <a:t>box.width = 6;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  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is </a:t>
            </a:r>
            <a:r>
              <a:rPr b="0" lang="en-US" sz="2100" spc="-1" strike="noStrike" u="sng">
                <a:solidFill>
                  <a:srgbClr val="000000"/>
                </a:solidFill>
                <a:uFillTx/>
                <a:latin typeface="Calibri"/>
              </a:rPr>
              <a:t>illegal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since width is</a:t>
            </a:r>
            <a:r>
              <a:rPr b="1" lang="en-US" sz="3400" spc="-1" strike="noStrike">
                <a:solidFill>
                  <a:srgbClr val="ed7d31"/>
                </a:solidFill>
                <a:latin typeface="Courier New"/>
              </a:rPr>
              <a:t> private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Keeps remaining elements of the class consistent in this example</a:t>
            </a: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Programming Exampl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Another implementation of a Rectangle clas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View sample code, listing 5.10</a:t>
            </a:r>
            <a:br>
              <a:rPr sz="2100"/>
            </a:br>
            <a:r>
              <a:rPr b="1" lang="en-US" sz="3400" spc="-1" strike="noStrike">
                <a:solidFill>
                  <a:srgbClr val="ed7d31"/>
                </a:solidFill>
                <a:latin typeface="Courier New"/>
              </a:rPr>
              <a:t>class Rectangle2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Note </a:t>
            </a:r>
            <a:r>
              <a:rPr b="1" lang="en-US" sz="3400" spc="-1" strike="noStrike">
                <a:solidFill>
                  <a:srgbClr val="ed7d31"/>
                </a:solidFill>
                <a:latin typeface="Courier New"/>
              </a:rPr>
              <a:t>setDimensions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method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s is the only way the </a:t>
            </a: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width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height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may be altered outside the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Accessor and Mutator Method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When instance variables are private must provide methods to access values stored ther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ypically named </a:t>
            </a: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get</a:t>
            </a:r>
            <a:r>
              <a:rPr b="1" i="1" lang="en-US" sz="3000" spc="-1" strike="noStrike">
                <a:solidFill>
                  <a:srgbClr val="ed7d31"/>
                </a:solidFill>
                <a:latin typeface="Courier New"/>
              </a:rPr>
              <a:t>SomeValu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ferred to as an accessor metho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Must also provide methods to change the values of the private instance variabl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ypically named </a:t>
            </a: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set</a:t>
            </a:r>
            <a:r>
              <a:rPr b="1" i="1" lang="en-US" sz="3000" spc="-1" strike="noStrike">
                <a:solidFill>
                  <a:srgbClr val="ed7d31"/>
                </a:solidFill>
                <a:latin typeface="Courier New"/>
              </a:rPr>
              <a:t>SomeValu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ferred to as a mutator metho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Accessor and Mutator Method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onsider an example class with accessor and mutator method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View sample code, listing 5.11</a:t>
            </a:r>
            <a:br>
              <a:rPr sz="2100"/>
            </a:br>
            <a:r>
              <a:rPr b="1" lang="en-US" sz="3400" spc="-1" strike="noStrike">
                <a:solidFill>
                  <a:srgbClr val="ed7d31"/>
                </a:solidFill>
                <a:latin typeface="Courier New"/>
              </a:rPr>
              <a:t>class SpeciesFourthTry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Note the mutator method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ed7d31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setSpeci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Note accessor method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ed7d31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getNam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getPopulation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getGrowthRat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Accessor and Mutator Method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Using a mutator method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View sample program, listing 5.12</a:t>
            </a:r>
            <a:br>
              <a:rPr sz="2100"/>
            </a:b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classSpeciesFourthTryDem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ed7d31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3" name="Picture 4" descr=""/>
          <p:cNvPicPr/>
          <p:nvPr/>
        </p:nvPicPr>
        <p:blipFill>
          <a:blip r:embed="rId1"/>
          <a:srcRect l="0" t="0" r="0" b="50729"/>
          <a:stretch/>
        </p:blipFill>
        <p:spPr>
          <a:xfrm>
            <a:off x="885960" y="3354480"/>
            <a:ext cx="7683480" cy="29098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  <p:pic>
        <p:nvPicPr>
          <p:cNvPr id="174" name="Picture 5" descr=""/>
          <p:cNvPicPr/>
          <p:nvPr/>
        </p:nvPicPr>
        <p:blipFill>
          <a:blip r:embed="rId2"/>
          <a:srcRect l="0" t="50085" r="0" b="0"/>
          <a:stretch/>
        </p:blipFill>
        <p:spPr>
          <a:xfrm>
            <a:off x="835200" y="3290760"/>
            <a:ext cx="7683480" cy="29480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  <p:sp>
        <p:nvSpPr>
          <p:cNvPr id="175" name="Text Box 7"/>
          <p:cNvSpPr/>
          <p:nvPr/>
        </p:nvSpPr>
        <p:spPr>
          <a:xfrm>
            <a:off x="7394400" y="4322880"/>
            <a:ext cx="1524240" cy="1008720"/>
          </a:xfrm>
          <a:prstGeom prst="rect">
            <a:avLst/>
          </a:prstGeom>
          <a:solidFill>
            <a:srgbClr val="5b9bd5"/>
          </a:solidFill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mpl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reen out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Programming Exampl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A Purchase clas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View sample code, listing 5.13</a:t>
            </a:r>
            <a:br>
              <a:rPr sz="2100"/>
            </a:b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class Purchas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te use of private instance variabl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te also how mutator methods check for invalid valu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View demo program, listing 5.14</a:t>
            </a:r>
            <a:br>
              <a:rPr sz="2100"/>
            </a:b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class purchaseDem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ed7d31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Programming Exampl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79" name="Picture 4" descr=""/>
          <p:cNvPicPr/>
          <p:nvPr/>
        </p:nvPicPr>
        <p:blipFill>
          <a:blip r:embed="rId1"/>
          <a:stretch/>
        </p:blipFill>
        <p:spPr>
          <a:xfrm>
            <a:off x="1116000" y="1343160"/>
            <a:ext cx="7245360" cy="51451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  <p:sp>
        <p:nvSpPr>
          <p:cNvPr id="180" name="Text Box 7"/>
          <p:cNvSpPr/>
          <p:nvPr/>
        </p:nvSpPr>
        <p:spPr>
          <a:xfrm>
            <a:off x="7394400" y="4322880"/>
            <a:ext cx="1524240" cy="1008720"/>
          </a:xfrm>
          <a:prstGeom prst="rect">
            <a:avLst/>
          </a:prstGeom>
          <a:solidFill>
            <a:srgbClr val="5b9bd5"/>
          </a:solidFill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mpl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reen out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Methods Calling Method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A method body may call any other method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If the invoked method is within the same clas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eed not use prefix of receiving objec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View sample code, listing 5.15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ass Oracl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View demo program, listing 5.16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ass OracleDemo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Methods Calling Method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84" name="Picture 5" descr=""/>
          <p:cNvPicPr/>
          <p:nvPr/>
        </p:nvPicPr>
        <p:blipFill>
          <a:blip r:embed="rId1"/>
          <a:srcRect l="0" t="47188" r="0" b="0"/>
          <a:stretch/>
        </p:blipFill>
        <p:spPr>
          <a:xfrm>
            <a:off x="731880" y="1623960"/>
            <a:ext cx="7638840" cy="43671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  <p:pic>
        <p:nvPicPr>
          <p:cNvPr id="185" name="Picture 6" descr=""/>
          <p:cNvPicPr/>
          <p:nvPr/>
        </p:nvPicPr>
        <p:blipFill>
          <a:blip r:embed="rId2"/>
          <a:srcRect l="0" t="0" r="0" b="52486"/>
          <a:stretch/>
        </p:blipFill>
        <p:spPr>
          <a:xfrm>
            <a:off x="738360" y="1871640"/>
            <a:ext cx="7638840" cy="39290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  <p:sp>
        <p:nvSpPr>
          <p:cNvPr id="186" name="Text Box 7"/>
          <p:cNvSpPr/>
          <p:nvPr/>
        </p:nvSpPr>
        <p:spPr>
          <a:xfrm>
            <a:off x="7240680" y="3692520"/>
            <a:ext cx="1523880" cy="1008720"/>
          </a:xfrm>
          <a:prstGeom prst="rect">
            <a:avLst/>
          </a:prstGeom>
          <a:solidFill>
            <a:srgbClr val="5b9bd5"/>
          </a:solidFill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mpl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reen out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39840" y="317160"/>
            <a:ext cx="8889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 Light"/>
              </a:rPr>
              <a:t>Class and Method Definitions: Outline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831600" y="1600200"/>
            <a:ext cx="7854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ass Files and Separate Compilation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Instance Variables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Method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e Keyword thi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Local Variable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Block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Parameters of a Primitive Typ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Encapsulation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onsider example of driving a car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e see and use break pedal, accelerator pedal, steering wheel – know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what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they d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e do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not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see mechanical details of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how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they do their job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Encapsulation divides class definition into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ass 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ass implement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Encapsulation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i="1" lang="en-US" sz="2100" spc="-1" strike="noStrike">
                <a:solidFill>
                  <a:srgbClr val="000000"/>
                </a:solidFill>
                <a:latin typeface="Calibri"/>
              </a:rPr>
              <a:t>class interfac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lls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what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the class do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ives headings for public methods and comments about the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i="1" lang="en-US" sz="2100" spc="-1" strike="noStrike">
                <a:solidFill>
                  <a:srgbClr val="000000"/>
                </a:solidFill>
                <a:latin typeface="Calibri"/>
              </a:rPr>
              <a:t>class implementation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tains private variabl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cludes definitions of public and private method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Encapsulation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225080"/>
            <a:ext cx="822960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gure 5.3  A well encapsulated class definition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Text Box 5"/>
          <p:cNvSpPr/>
          <p:nvPr/>
        </p:nvSpPr>
        <p:spPr>
          <a:xfrm>
            <a:off x="6541920" y="4068720"/>
            <a:ext cx="1636920" cy="520200"/>
          </a:xfrm>
          <a:prstGeom prst="rect">
            <a:avLst/>
          </a:prstGeom>
          <a:solidFill>
            <a:srgbClr val="ffe4c9"/>
          </a:solidFill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ogrammer who uses the cl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6"/>
          <p:cNvSpPr/>
          <p:nvPr/>
        </p:nvSpPr>
        <p:spPr>
          <a:xfrm>
            <a:off x="5743440" y="4352760"/>
            <a:ext cx="73512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10" descr=""/>
          <p:cNvPicPr/>
          <p:nvPr/>
        </p:nvPicPr>
        <p:blipFill>
          <a:blip r:embed="rId1"/>
          <a:stretch/>
        </p:blipFill>
        <p:spPr>
          <a:xfrm>
            <a:off x="1058760" y="2265480"/>
            <a:ext cx="4515120" cy="39909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Encapsulation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reface class definition with comment on how to use clas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eclare all instance variables in the class as private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rovide public accessor methods to retrieve data Provide public methods manipulating dat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uch methods could include public mutator method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lace a comment before each public method heading that fully specifies how to use method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ake any helping methods private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rite comments within class definition to describe implementation detail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4640" y="337680"/>
            <a:ext cx="8739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 Light"/>
              </a:rPr>
              <a:t>Automatic Documentation  </a:t>
            </a:r>
            <a:r>
              <a:rPr b="1" lang="en-US" sz="3600" spc="-1" strike="noStrike">
                <a:solidFill>
                  <a:srgbClr val="ed7d31"/>
                </a:solidFill>
                <a:latin typeface="Courier New"/>
              </a:rPr>
              <a:t>javadoc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Generates documentation for class interfac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omments in source code must be enclosed in   </a:t>
            </a: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/**  */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Utility </a:t>
            </a: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javadoc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will includ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se comme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eadings of public method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Output of </a:t>
            </a: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javadoc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is HTML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UML Class Diagram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Recall Figure 5.2  A class outline as a UML class diagram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2" name="Picture 7" descr=""/>
          <p:cNvPicPr/>
          <p:nvPr/>
        </p:nvPicPr>
        <p:blipFill>
          <a:blip r:embed="rId1"/>
          <a:stretch/>
        </p:blipFill>
        <p:spPr>
          <a:xfrm>
            <a:off x="1808280" y="2855880"/>
            <a:ext cx="5686200" cy="26845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15" descr=""/>
          <p:cNvPicPr/>
          <p:nvPr/>
        </p:nvPicPr>
        <p:blipFill>
          <a:blip r:embed="rId1"/>
          <a:stretch/>
        </p:blipFill>
        <p:spPr>
          <a:xfrm>
            <a:off x="3521160" y="1347840"/>
            <a:ext cx="5346720" cy="41209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UML Class Diagram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Note 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gure 5.4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r the </a:t>
            </a:r>
            <a:br>
              <a:rPr sz="2100"/>
            </a:b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Purchase</a:t>
            </a:r>
            <a:br>
              <a:rPr sz="3000"/>
            </a:b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ass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06" name="Group 11"/>
          <p:cNvGrpSpPr/>
          <p:nvPr/>
        </p:nvGrpSpPr>
        <p:grpSpPr>
          <a:xfrm>
            <a:off x="990720" y="3276720"/>
            <a:ext cx="2971800" cy="1965240"/>
            <a:chOff x="990720" y="3276720"/>
            <a:chExt cx="2971800" cy="1965240"/>
          </a:xfrm>
        </p:grpSpPr>
        <p:sp>
          <p:nvSpPr>
            <p:cNvPr id="207" name="Rounded Rectangle 5"/>
            <p:cNvSpPr/>
            <p:nvPr/>
          </p:nvSpPr>
          <p:spPr>
            <a:xfrm>
              <a:off x="3581640" y="3276720"/>
              <a:ext cx="380880" cy="1965240"/>
            </a:xfrm>
            <a:custGeom>
              <a:avLst/>
              <a:gdLst>
                <a:gd name="textAreaLeft" fmla="*/ 18360 w 380880"/>
                <a:gd name="textAreaRight" fmla="*/ 362520 w 380880"/>
                <a:gd name="textAreaTop" fmla="*/ 18360 h 1965240"/>
                <a:gd name="textAreaBottom" fmla="*/ 1946880 h 1965240"/>
              </a:gdLst>
              <a:ahLst/>
              <a:rect l="textAreaLeft" t="textAreaTop" r="textAreaRight" b="textAreaBottom"/>
              <a:pathLst>
                <a:path w="21600" h="111365">
                  <a:moveTo>
                    <a:pt x="3600" y="0"/>
                  </a:moveTo>
                  <a:arcTo wR="3600" hR="3600" stAng="16200000" swAng="-5400000"/>
                  <a:lnTo>
                    <a:pt x="0" y="107765"/>
                  </a:lnTo>
                  <a:arcTo wR="3600" hR="3600" stAng="10800000" swAng="-5400000"/>
                  <a:lnTo>
                    <a:pt x="18000" y="11136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TextBox 6"/>
            <p:cNvSpPr/>
            <p:nvPr/>
          </p:nvSpPr>
          <p:spPr>
            <a:xfrm>
              <a:off x="990720" y="4586400"/>
              <a:ext cx="2027160" cy="642600"/>
            </a:xfrm>
            <a:prstGeom prst="rect">
              <a:avLst/>
            </a:prstGeom>
            <a:solidFill>
              <a:srgbClr val="d3ebe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e7e6e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lus signs imply public acc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09" name="Straight Arrow Connector 10"/>
            <p:cNvCxnSpPr/>
            <p:nvPr/>
          </p:nvCxnSpPr>
          <p:spPr>
            <a:xfrm flipV="1">
              <a:off x="2544840" y="3869640"/>
              <a:ext cx="991440" cy="672120"/>
            </a:xfrm>
            <a:prstGeom prst="straightConnector1">
              <a:avLst/>
            </a:prstGeom>
            <a:ln w="6480">
              <a:solidFill>
                <a:srgbClr val="ff0000"/>
              </a:solidFill>
              <a:miter/>
              <a:tailEnd len="med" type="arrow" w="med"/>
            </a:ln>
          </p:spPr>
        </p:cxnSp>
      </p:grpSp>
      <p:grpSp>
        <p:nvGrpSpPr>
          <p:cNvPr id="210" name="Group 16"/>
          <p:cNvGrpSpPr/>
          <p:nvPr/>
        </p:nvGrpSpPr>
        <p:grpSpPr>
          <a:xfrm>
            <a:off x="3611520" y="2103480"/>
            <a:ext cx="4998960" cy="1206000"/>
            <a:chOff x="3611520" y="2103480"/>
            <a:chExt cx="4998960" cy="1206000"/>
          </a:xfrm>
        </p:grpSpPr>
        <p:sp>
          <p:nvSpPr>
            <p:cNvPr id="211" name="Rounded Rectangle 12"/>
            <p:cNvSpPr/>
            <p:nvPr/>
          </p:nvSpPr>
          <p:spPr>
            <a:xfrm>
              <a:off x="3611520" y="2103480"/>
              <a:ext cx="350640" cy="822240"/>
            </a:xfrm>
            <a:custGeom>
              <a:avLst/>
              <a:gdLst>
                <a:gd name="textAreaLeft" fmla="*/ 16920 w 350640"/>
                <a:gd name="textAreaRight" fmla="*/ 333720 w 350640"/>
                <a:gd name="textAreaTop" fmla="*/ 16920 h 822240"/>
                <a:gd name="textAreaBottom" fmla="*/ 805320 h 822240"/>
              </a:gdLst>
              <a:ahLst/>
              <a:rect l="textAreaLeft" t="textAreaTop" r="textAreaRight" b="textAreaBottom"/>
              <a:pathLst>
                <a:path w="21600" h="50622">
                  <a:moveTo>
                    <a:pt x="3600" y="0"/>
                  </a:moveTo>
                  <a:arcTo wR="3600" hR="3600" stAng="16200000" swAng="-5400000"/>
                  <a:lnTo>
                    <a:pt x="0" y="47022"/>
                  </a:lnTo>
                  <a:arcTo wR="3600" hR="3600" stAng="10800000" swAng="-5400000"/>
                  <a:lnTo>
                    <a:pt x="18000" y="5062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TextBox 13"/>
            <p:cNvSpPr/>
            <p:nvPr/>
          </p:nvSpPr>
          <p:spPr>
            <a:xfrm>
              <a:off x="6583320" y="2666880"/>
              <a:ext cx="2027160" cy="642600"/>
            </a:xfrm>
            <a:prstGeom prst="rect">
              <a:avLst/>
            </a:prstGeom>
            <a:solidFill>
              <a:srgbClr val="d3ebe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e7e6e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inus signs imply private acc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13" name="Straight Arrow Connector 15"/>
            <p:cNvCxnSpPr>
              <a:endCxn id="211" idx="3"/>
            </p:cNvCxnSpPr>
            <p:nvPr/>
          </p:nvCxnSpPr>
          <p:spPr>
            <a:xfrm flipH="1" flipV="1">
              <a:off x="3961440" y="2514240"/>
              <a:ext cx="2607480" cy="335520"/>
            </a:xfrm>
            <a:prstGeom prst="straightConnector1">
              <a:avLst/>
            </a:prstGeom>
            <a:ln w="6480">
              <a:solidFill>
                <a:srgbClr val="ff0000"/>
              </a:solidFill>
              <a:miter/>
              <a:tailEnd len="med" type="arrow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UML Class Diagram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ontains more than interface, less than full implementation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Usually written </a:t>
            </a:r>
            <a:r>
              <a:rPr b="0" i="1" lang="en-US" sz="2100" spc="-1" strike="noStrike">
                <a:solidFill>
                  <a:srgbClr val="000000"/>
                </a:solidFill>
                <a:latin typeface="Calibri"/>
              </a:rPr>
              <a:t>before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class is defined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Used by the programmer defining the clas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trast with the interface used by programmer who uses the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77720" y="628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 Light"/>
              </a:rPr>
              <a:t>Objects and References: Outline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603360" y="2160360"/>
            <a:ext cx="8083440" cy="396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Variables of a Class Typ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Defining an equals Method for a Clas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Boolean-Valued Method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Parameters of a Class Typ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Variables of a Class Typ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All variables are implemented as a memory location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Data of </a:t>
            </a:r>
            <a:r>
              <a:rPr b="0" i="1" lang="en-US" sz="2100" spc="-1" strike="noStrike">
                <a:solidFill>
                  <a:srgbClr val="000000"/>
                </a:solidFill>
                <a:latin typeface="Calibri"/>
              </a:rPr>
              <a:t>primitive type 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tored in the memory location assigned to the variabl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Variable of </a:t>
            </a:r>
            <a:r>
              <a:rPr b="0" i="1" lang="en-US" sz="2100" spc="-1" strike="noStrike">
                <a:solidFill>
                  <a:srgbClr val="000000"/>
                </a:solidFill>
                <a:latin typeface="Calibri"/>
              </a:rPr>
              <a:t>class type 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ontains memory address of object named by the variabl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ass and Method Definition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Java program consists of object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bjects of class ty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bjects that interact with one anoth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Program objects can represen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bjects in real worl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Variables of a Class Typ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Object itself not stored in the variabl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ored elsewhere in memo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contains address of where it is stor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Address called the </a:t>
            </a:r>
            <a:r>
              <a:rPr b="0" i="1" lang="en-US" sz="2100" spc="-1" strike="noStrike">
                <a:solidFill>
                  <a:srgbClr val="000000"/>
                </a:solidFill>
                <a:latin typeface="Calibri"/>
              </a:rPr>
              <a:t>reference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to the variabl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i="1" lang="en-US" sz="2100" spc="-1" strike="noStrike">
                <a:solidFill>
                  <a:srgbClr val="000000"/>
                </a:solidFill>
                <a:latin typeface="Calibri"/>
              </a:rPr>
              <a:t>reference type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variable holds references (memory addresses)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s makes memory management of class types more effici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Variables of a Class Typ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gure 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5.5a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Behavior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of class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variable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4" name="Picture 8" descr=""/>
          <p:cNvPicPr/>
          <p:nvPr/>
        </p:nvPicPr>
        <p:blipFill>
          <a:blip r:embed="rId1"/>
          <a:stretch/>
        </p:blipFill>
        <p:spPr>
          <a:xfrm>
            <a:off x="2962440" y="1419120"/>
            <a:ext cx="5321160" cy="467676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Variables of a Class Typ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gure 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5.5b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Behavior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of class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variable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7" name="Picture 8" descr=""/>
          <p:cNvPicPr/>
          <p:nvPr/>
        </p:nvPicPr>
        <p:blipFill>
          <a:blip r:embed="rId1"/>
          <a:stretch/>
        </p:blipFill>
        <p:spPr>
          <a:xfrm>
            <a:off x="3187800" y="1744560"/>
            <a:ext cx="5479920" cy="41785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Variables of a Class Typ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gure 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5.5c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Behavior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of class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variable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0" name="Picture 8" descr=""/>
          <p:cNvPicPr/>
          <p:nvPr/>
        </p:nvPicPr>
        <p:blipFill>
          <a:blip r:embed="rId1"/>
          <a:stretch/>
        </p:blipFill>
        <p:spPr>
          <a:xfrm>
            <a:off x="2703600" y="1870200"/>
            <a:ext cx="6008760" cy="373536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Variables of a Class Typ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gure 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5.5d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Behavior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of class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variable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3" name="Picture 8" descr=""/>
          <p:cNvPicPr/>
          <p:nvPr/>
        </p:nvPicPr>
        <p:blipFill>
          <a:blip r:embed="rId1"/>
          <a:stretch/>
        </p:blipFill>
        <p:spPr>
          <a:xfrm>
            <a:off x="2801880" y="1855800"/>
            <a:ext cx="5919840" cy="38178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Variables of a Class Typ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gure 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5.6a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Dangers of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using </a:t>
            </a: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==</a:t>
            </a:r>
            <a:br>
              <a:rPr sz="3000"/>
            </a:b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with object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6" name="Picture 8" descr=""/>
          <p:cNvPicPr/>
          <p:nvPr/>
        </p:nvPicPr>
        <p:blipFill>
          <a:blip r:embed="rId1"/>
          <a:stretch/>
        </p:blipFill>
        <p:spPr>
          <a:xfrm>
            <a:off x="3097080" y="1855800"/>
            <a:ext cx="5742000" cy="346536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Variables of a Class Typ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gure 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5.6b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Dangers of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using </a:t>
            </a: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==</a:t>
            </a:r>
            <a:br>
              <a:rPr sz="3000"/>
            </a:b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with object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9" name="Picture 8" descr=""/>
          <p:cNvPicPr/>
          <p:nvPr/>
        </p:nvPicPr>
        <p:blipFill>
          <a:blip r:embed="rId1"/>
          <a:stretch/>
        </p:blipFill>
        <p:spPr>
          <a:xfrm>
            <a:off x="3244680" y="1241280"/>
            <a:ext cx="5516640" cy="493884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Defining an </a:t>
            </a:r>
            <a:r>
              <a:rPr b="1" lang="en-US" sz="3300" spc="-1" strike="noStrike">
                <a:solidFill>
                  <a:srgbClr val="ed7d31"/>
                </a:solidFill>
                <a:latin typeface="Courier New"/>
              </a:rPr>
              <a:t>equals</a:t>
            </a: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 Method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As demonstrated by previous figure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e cannot use == to compare two objec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e must write a method for a given class which will make the comparison as need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View sample code, listing 5.17</a:t>
            </a:r>
            <a:br>
              <a:rPr sz="2100"/>
            </a:b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class Speci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equals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for this class method used same way as </a:t>
            </a: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equals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method for </a:t>
            </a: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Strin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469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 Light"/>
              </a:rPr>
              <a:t>Demonstrating an </a:t>
            </a:r>
            <a:r>
              <a:rPr b="1" lang="en-US" sz="4000" spc="-1" strike="noStrike">
                <a:solidFill>
                  <a:srgbClr val="ed7d31"/>
                </a:solidFill>
                <a:latin typeface="Courier New"/>
              </a:rPr>
              <a:t>equals</a:t>
            </a:r>
            <a:r>
              <a:rPr b="0" lang="en-US" sz="4000" spc="-1" strike="noStrike">
                <a:solidFill>
                  <a:srgbClr val="000000"/>
                </a:solidFill>
                <a:latin typeface="Calibri Light"/>
              </a:rPr>
              <a:t> Method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View sample program, listing 5.18</a:t>
            </a:r>
            <a:br>
              <a:rPr sz="2100"/>
            </a:b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class SpeciesEqualsDem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Note difference in the two comparison methods </a:t>
            </a: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==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versus  </a:t>
            </a: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.equals( 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4" name="Picture 3" descr=""/>
          <p:cNvPicPr/>
          <p:nvPr/>
        </p:nvPicPr>
        <p:blipFill>
          <a:blip r:embed="rId1"/>
          <a:stretch/>
        </p:blipFill>
        <p:spPr>
          <a:xfrm>
            <a:off x="1547640" y="4203720"/>
            <a:ext cx="5835960" cy="15588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  <p:sp>
        <p:nvSpPr>
          <p:cNvPr id="245" name="Text Box 7"/>
          <p:cNvSpPr/>
          <p:nvPr/>
        </p:nvSpPr>
        <p:spPr>
          <a:xfrm>
            <a:off x="6770520" y="3916440"/>
            <a:ext cx="1524240" cy="1008720"/>
          </a:xfrm>
          <a:prstGeom prst="rect">
            <a:avLst/>
          </a:prstGeom>
          <a:solidFill>
            <a:srgbClr val="5b9bd5"/>
          </a:solidFill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mpl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reen out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omplete Programming Exampl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8564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View sample code, listing 5.19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ass </a:t>
            </a: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Speci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gure 5.7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ass Diagram 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r the class </a:t>
            </a:r>
            <a:br>
              <a:rPr sz="2100"/>
            </a:b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Species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in listing 5.19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8" name="Picture 7" descr=""/>
          <p:cNvPicPr/>
          <p:nvPr/>
        </p:nvPicPr>
        <p:blipFill>
          <a:blip r:embed="rId1"/>
          <a:stretch/>
        </p:blipFill>
        <p:spPr>
          <a:xfrm>
            <a:off x="3760920" y="2529000"/>
            <a:ext cx="5114880" cy="3657600"/>
          </a:xfrm>
          <a:prstGeom prst="rect">
            <a:avLst/>
          </a:prstGeom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ass and Method Definition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gure 5.1  A class as a blueprin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7" descr=""/>
          <p:cNvPicPr/>
          <p:nvPr/>
        </p:nvPicPr>
        <p:blipFill>
          <a:blip r:embed="rId1"/>
          <a:stretch/>
        </p:blipFill>
        <p:spPr>
          <a:xfrm>
            <a:off x="2343240" y="2577960"/>
            <a:ext cx="4581360" cy="29624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Boolean-Valued Method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Methods can return a value of type </a:t>
            </a: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boolea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Use a </a:t>
            </a: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boolean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value in the </a:t>
            </a: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return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statemen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Note method from listing 5.19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1" name="Picture 2" descr=""/>
          <p:cNvPicPr/>
          <p:nvPr/>
        </p:nvPicPr>
        <p:blipFill>
          <a:blip r:embed="rId1"/>
          <a:stretch/>
        </p:blipFill>
        <p:spPr>
          <a:xfrm>
            <a:off x="1646280" y="3922560"/>
            <a:ext cx="6234120" cy="20210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Unit Testing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57200" y="144252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A methodology to test correctness of individual units of cod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ypically methods, class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ollection of unit tests is the 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</a:rPr>
              <a:t>test suit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e process of running tests repeatedly after changes are make sure everything still works is 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</a:rPr>
              <a:t>regression testing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Rectangle 3"/>
          <p:cNvSpPr/>
          <p:nvPr/>
        </p:nvSpPr>
        <p:spPr>
          <a:xfrm>
            <a:off x="650880" y="5322960"/>
            <a:ext cx="6756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iew sample code, listing 5.20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ass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SpeciesT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Parameters of a Class Typ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en assignment operator used with objects of class typ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nly memory address is copi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milar to use of parameter of class typ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emory address of actual parameter passed to formal parame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rmal parameter may access public elements of the cla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ctual parameter thus can be  changed by class metho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Programming Exampl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View sample code, listing 5.21</a:t>
            </a:r>
            <a:br>
              <a:rPr sz="2100"/>
            </a:b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class DemoSpeci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te different parameter types and resul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View sample program, listing 5.22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rameters of a class type versus parameters of a primitive type</a:t>
            </a:r>
            <a:br>
              <a:rPr sz="1800"/>
            </a:b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class ParametersDem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Programming Exampl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260" name="Picture 7" descr=""/>
          <p:cNvPicPr/>
          <p:nvPr/>
        </p:nvPicPr>
        <p:blipFill>
          <a:blip r:embed="rId1"/>
          <a:srcRect l="0" t="1433" r="1446" b="2676"/>
          <a:stretch/>
        </p:blipFill>
        <p:spPr>
          <a:xfrm>
            <a:off x="1500120" y="1405080"/>
            <a:ext cx="6429600" cy="47228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  <p:sp>
        <p:nvSpPr>
          <p:cNvPr id="261" name="Text Box 7"/>
          <p:cNvSpPr/>
          <p:nvPr/>
        </p:nvSpPr>
        <p:spPr>
          <a:xfrm>
            <a:off x="6770520" y="3916440"/>
            <a:ext cx="1524240" cy="1008720"/>
          </a:xfrm>
          <a:prstGeom prst="rect">
            <a:avLst/>
          </a:prstGeom>
          <a:solidFill>
            <a:srgbClr val="5b9bd5"/>
          </a:solidFill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mpl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reen out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Graphics Supplement: Outlin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884240" y="2292120"/>
            <a:ext cx="6802560" cy="383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e Graphics Clas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3400" spc="-1" strike="noStrike">
                <a:solidFill>
                  <a:srgbClr val="ed7d31"/>
                </a:solidFill>
                <a:latin typeface="Courier New"/>
              </a:rPr>
              <a:t>init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Method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Adding Labels to an Apple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The </a:t>
            </a:r>
            <a:r>
              <a:rPr b="1" lang="en-US" sz="4600" spc="-1" strike="noStrike">
                <a:solidFill>
                  <a:srgbClr val="ed7d31"/>
                </a:solidFill>
                <a:latin typeface="Courier New"/>
              </a:rPr>
              <a:t>Graphics</a:t>
            </a: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 Clas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An object of the </a:t>
            </a:r>
            <a:r>
              <a:rPr b="1" lang="en-US" sz="3400" spc="-1" strike="noStrike">
                <a:solidFill>
                  <a:srgbClr val="ed7d31"/>
                </a:solidFill>
                <a:latin typeface="Courier New"/>
              </a:rPr>
              <a:t>Graphics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class represents an area of the screen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Instance variables specify area of screen represented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When you run an Apple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uitable </a:t>
            </a: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Graphic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object created automaticall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s object used as an argument in the </a:t>
            </a: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paint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metho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The </a:t>
            </a:r>
            <a:r>
              <a:rPr b="1" lang="en-US" sz="4600" spc="-1" strike="noStrike">
                <a:solidFill>
                  <a:srgbClr val="ed7d31"/>
                </a:solidFill>
                <a:latin typeface="Courier New"/>
              </a:rPr>
              <a:t>Graphics</a:t>
            </a: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 Clas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gure 5.8a  Some methods in class </a:t>
            </a:r>
            <a:r>
              <a:rPr b="1" lang="en-US" sz="3400" spc="-1" strike="noStrike">
                <a:solidFill>
                  <a:srgbClr val="ed7d31"/>
                </a:solidFill>
                <a:latin typeface="Courier New"/>
              </a:rPr>
              <a:t>Graphics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8" name="Picture 5" descr=""/>
          <p:cNvPicPr/>
          <p:nvPr/>
        </p:nvPicPr>
        <p:blipFill>
          <a:blip r:embed="rId1"/>
          <a:stretch/>
        </p:blipFill>
        <p:spPr>
          <a:xfrm>
            <a:off x="1135080" y="2984400"/>
            <a:ext cx="7103880" cy="266544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The </a:t>
            </a:r>
            <a:r>
              <a:rPr b="1" lang="en-US" sz="4600" spc="-1" strike="noStrike">
                <a:solidFill>
                  <a:srgbClr val="ed7d31"/>
                </a:solidFill>
                <a:latin typeface="Courier New"/>
              </a:rPr>
              <a:t>Graphics</a:t>
            </a: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 Clas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gure 5.8b  Some methods in class </a:t>
            </a:r>
            <a:r>
              <a:rPr b="1" lang="en-US" sz="3400" spc="-1" strike="noStrike">
                <a:solidFill>
                  <a:srgbClr val="ed7d31"/>
                </a:solidFill>
                <a:latin typeface="Courier New"/>
              </a:rPr>
              <a:t>Graphics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1" name="Picture 5" descr=""/>
          <p:cNvPicPr/>
          <p:nvPr/>
        </p:nvPicPr>
        <p:blipFill>
          <a:blip r:embed="rId1"/>
          <a:stretch/>
        </p:blipFill>
        <p:spPr>
          <a:xfrm>
            <a:off x="1077840" y="2725560"/>
            <a:ext cx="7365960" cy="34434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Programming Exampl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Multiple faces – using a Helping method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View sample code, listing 5.23</a:t>
            </a:r>
            <a:br>
              <a:rPr sz="2100"/>
            </a:b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class MultipleFa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4" name="Picture 5" descr=""/>
          <p:cNvPicPr/>
          <p:nvPr/>
        </p:nvPicPr>
        <p:blipFill>
          <a:blip r:embed="rId1"/>
          <a:stretch/>
        </p:blipFill>
        <p:spPr>
          <a:xfrm>
            <a:off x="2678040" y="3203640"/>
            <a:ext cx="3797280" cy="29066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  <p:sp>
        <p:nvSpPr>
          <p:cNvPr id="275" name="Text Box 7"/>
          <p:cNvSpPr/>
          <p:nvPr/>
        </p:nvSpPr>
        <p:spPr>
          <a:xfrm>
            <a:off x="5718240" y="3916440"/>
            <a:ext cx="1523880" cy="916920"/>
          </a:xfrm>
          <a:prstGeom prst="rect">
            <a:avLst/>
          </a:prstGeom>
          <a:solidFill>
            <a:srgbClr val="5b9bd5"/>
          </a:solidFill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mple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reen 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ass and Method Definition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366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gure 5.1 ctd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5129280" y="4897440"/>
            <a:ext cx="33289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cts that are instantiations of the class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Automob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10" descr=""/>
          <p:cNvPicPr/>
          <p:nvPr/>
        </p:nvPicPr>
        <p:blipFill>
          <a:blip r:embed="rId1"/>
          <a:stretch/>
        </p:blipFill>
        <p:spPr>
          <a:xfrm>
            <a:off x="360360" y="4362480"/>
            <a:ext cx="3600360" cy="14508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  <p:pic>
        <p:nvPicPr>
          <p:cNvPr id="103" name="Picture 12" descr=""/>
          <p:cNvPicPr/>
          <p:nvPr/>
        </p:nvPicPr>
        <p:blipFill>
          <a:blip r:embed="rId2"/>
          <a:stretch/>
        </p:blipFill>
        <p:spPr>
          <a:xfrm>
            <a:off x="2978280" y="3179880"/>
            <a:ext cx="3247920" cy="15541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  <p:pic>
        <p:nvPicPr>
          <p:cNvPr id="104" name="Picture 11" descr=""/>
          <p:cNvPicPr/>
          <p:nvPr/>
        </p:nvPicPr>
        <p:blipFill>
          <a:blip r:embed="rId3"/>
          <a:stretch/>
        </p:blipFill>
        <p:spPr>
          <a:xfrm>
            <a:off x="4983120" y="1760400"/>
            <a:ext cx="3699000" cy="16480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alibri Light"/>
              </a:rPr>
              <a:t>Graphics2D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Java includes a Graphics2D class with more functionality than the Graphics clas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ds AW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upport for more geometric sha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ur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radie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nt and shape propert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lter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mposit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ransform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eatures that would be useful for rich media applications or video game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View sample program, listing 5.24, for reading an image file and drawing it with transparency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The </a:t>
            </a:r>
            <a:r>
              <a:rPr b="1" lang="en-US" sz="4600" spc="-1" strike="noStrike">
                <a:solidFill>
                  <a:srgbClr val="ed7d31"/>
                </a:solidFill>
                <a:latin typeface="Courier New"/>
              </a:rPr>
              <a:t>init</a:t>
            </a: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 Method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Method </a:t>
            </a:r>
            <a:r>
              <a:rPr b="1" lang="en-US" sz="3400" spc="-1" strike="noStrike">
                <a:solidFill>
                  <a:srgbClr val="ed7d31"/>
                </a:solidFill>
                <a:latin typeface="Courier New"/>
              </a:rPr>
              <a:t>init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may be defined for any apple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Like </a:t>
            </a:r>
            <a:r>
              <a:rPr b="1" lang="en-US" sz="3400" spc="-1" strike="noStrike">
                <a:solidFill>
                  <a:srgbClr val="ed7d31"/>
                </a:solidFill>
                <a:latin typeface="Courier New"/>
              </a:rPr>
              <a:t>paint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, method </a:t>
            </a: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i</a:t>
            </a:r>
            <a:r>
              <a:rPr b="1" lang="en-US" sz="3400" spc="-1" strike="noStrike">
                <a:solidFill>
                  <a:srgbClr val="ed7d31"/>
                </a:solidFill>
                <a:latin typeface="Courier New"/>
              </a:rPr>
              <a:t>n</a:t>
            </a: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it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called automatically when applet is run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Method </a:t>
            </a:r>
            <a:r>
              <a:rPr b="1" lang="en-US" sz="3400" spc="-1" strike="noStrike">
                <a:solidFill>
                  <a:srgbClr val="ed7d31"/>
                </a:solidFill>
                <a:latin typeface="Courier New"/>
              </a:rPr>
              <a:t>init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similar to method </a:t>
            </a:r>
            <a:r>
              <a:rPr b="1" lang="en-US" sz="3400" spc="-1" strike="noStrike">
                <a:solidFill>
                  <a:srgbClr val="ed7d31"/>
                </a:solidFill>
                <a:latin typeface="Courier New"/>
              </a:rPr>
              <a:t>main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in an application program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Adding Labels to Apple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Provides a way to add text to an apple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When component (such as a label) added to an apple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e method </a:t>
            </a: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ini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o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not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use method </a:t>
            </a: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pain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Adding Labels to Apple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View sample applet, listing 5.25</a:t>
            </a:r>
            <a:br>
              <a:rPr sz="2100"/>
            </a:b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class LabelDem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4" name="Picture 4" descr=""/>
          <p:cNvPicPr/>
          <p:nvPr/>
        </p:nvPicPr>
        <p:blipFill>
          <a:blip r:embed="rId1"/>
          <a:stretch/>
        </p:blipFill>
        <p:spPr>
          <a:xfrm>
            <a:off x="1538280" y="3384720"/>
            <a:ext cx="5568840" cy="23731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  <p:sp>
        <p:nvSpPr>
          <p:cNvPr id="285" name="Text Box 7"/>
          <p:cNvSpPr/>
          <p:nvPr/>
        </p:nvSpPr>
        <p:spPr>
          <a:xfrm>
            <a:off x="6195960" y="4413240"/>
            <a:ext cx="1523880" cy="916920"/>
          </a:xfrm>
          <a:prstGeom prst="rect">
            <a:avLst/>
          </a:prstGeom>
          <a:solidFill>
            <a:srgbClr val="5b9bd5"/>
          </a:solidFill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mple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reen 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Summary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asses have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stance variables to store dat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ethod definitions to perform ac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Instance variables should be privat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ass needs accessor, mutator method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Methods may b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lue returning method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oid methods that do not return a valu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Summary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Keyword this used within method definition represents invoking objec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Local variables defined within method definition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rmal arguments must match actual parameters with respect to number, order, and data typ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rmal parameters act like local variable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Summary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rameter of primitive type initialized with value of actual parame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alue of actual parameter not altered by metho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rameter of class type initialized with address of actual parameter obje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alue of actual parameter may be altered by method cal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method definition can include call to another method in same or different cla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Summary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econdition comment states conditions that must be true before method invok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ostcondition comment describes resulting effects of method execu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tility program </a:t>
            </a: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javadoc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creates document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ass designers use UML notation to describe clas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perators </a:t>
            </a: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==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behave differently with objects of class types (vs. primitive typ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Summary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signer of class should include an </a:t>
            </a: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equal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metho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raphics drawn by applet normally done from within </a:t>
            </a: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pain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ther applet instructions placed in </a:t>
            </a:r>
            <a:r>
              <a:rPr b="1" lang="en-US" sz="2600" spc="-1" strike="noStrike">
                <a:solidFill>
                  <a:srgbClr val="ed7d31"/>
                </a:solidFill>
                <a:latin typeface="Courier New"/>
              </a:rPr>
              <a:t>in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rameter of </a:t>
            </a: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pain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s of type </a:t>
            </a: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Graphic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thod </a:t>
            </a: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setBackground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sets color of applet pa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abels added to content pane within the init metho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ass and Method Definition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gure 5.2  A class outline as a UML class diagram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7" descr=""/>
          <p:cNvPicPr/>
          <p:nvPr/>
        </p:nvPicPr>
        <p:blipFill>
          <a:blip r:embed="rId1"/>
          <a:stretch/>
        </p:blipFill>
        <p:spPr>
          <a:xfrm>
            <a:off x="1808280" y="2855880"/>
            <a:ext cx="5686200" cy="26845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09520" y="302760"/>
            <a:ext cx="8934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 Light"/>
              </a:rPr>
              <a:t>Class Files and Separate Compilation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Each </a:t>
            </a:r>
            <a:r>
              <a:rPr b="1" lang="en-US" sz="2100" spc="-1" strike="noStrike">
                <a:solidFill>
                  <a:srgbClr val="ed7d31"/>
                </a:solidFill>
                <a:latin typeface="Courier New"/>
              </a:rPr>
              <a:t>Java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class definition usually in a file by itself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le begins with name of the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nds with .</a:t>
            </a:r>
            <a:r>
              <a:rPr b="1" lang="en-US" sz="3200" spc="-1" strike="noStrike">
                <a:solidFill>
                  <a:srgbClr val="ed7d31"/>
                </a:solidFill>
                <a:latin typeface="Courier New"/>
              </a:rPr>
              <a:t>jav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ass can be compiled separately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Helpful to keep all class files used by a program in the same directory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3T00:21:45Z</dcterms:created>
  <dc:creator>Steve Armstrong</dc:creator>
  <dc:description/>
  <dc:language>en-US</dc:language>
  <cp:lastModifiedBy>Kenrick Mock</cp:lastModifiedBy>
  <cp:lastPrinted>2009-02-22T23:27:07Z</cp:lastPrinted>
  <dcterms:modified xsi:type="dcterms:W3CDTF">2014-04-06T10:52:56Z</dcterms:modified>
  <cp:revision>88</cp:revision>
  <dc:subject/>
  <dc:title>Defining Classes and Methods</dc:title>
</cp:coreProperties>
</file>