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CE6D-88F2-4E82-83B3-D7DBC9DC6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14AF-3832-46B1-A9B9-B9F379D8A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BD81-CBCF-4D78-82E0-C1D905EC9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7838-0D91-413D-AF66-4633E381F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A84D-3E94-4223-820C-30BE9EEA0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255E-7982-44B4-AFE1-8C7922F60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97EB-E872-4E7A-A2F0-A53DD472C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ED47-841F-479D-8E34-33759039E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F86F-1192-41A0-8A32-E7F287675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59AA-DA46-4C52-8AEC-D9D869B95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8B10-76F0-4394-BF7E-D405EABA0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5DCD-F837-44FC-BC98-BCDF6484A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B4C38-3344-44E6-8000-2254F8F374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029200"/>
            <a:ext cx="5029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738080" y="4724280"/>
            <a:ext cx="632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3803760"/>
            <a:ext cx="8380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4108320"/>
            <a:ext cx="8380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4413240"/>
            <a:ext cx="8380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4840" y="762120"/>
            <a:ext cx="634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. Hardware: Three-stage pipeline, nonuniform stage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61160" y="3214800"/>
            <a:ext cx="22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. Pipeline dia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11240" y="1552680"/>
            <a:ext cx="216000" cy="128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2155680"/>
            <a:ext cx="45720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47920" y="2155680"/>
            <a:ext cx="45720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057400" y="2841480"/>
            <a:ext cx="0" cy="20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245280" y="3200400"/>
            <a:ext cx="690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25840" y="1552680"/>
            <a:ext cx="216000" cy="128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133720" y="2155680"/>
            <a:ext cx="45720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962520" y="2155680"/>
            <a:ext cx="45720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2841480"/>
            <a:ext cx="0" cy="20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90920" y="1552680"/>
            <a:ext cx="1365120" cy="12826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483240" y="1552680"/>
            <a:ext cx="216000" cy="128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48320" y="2155680"/>
            <a:ext cx="45720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19920" y="2155680"/>
            <a:ext cx="45720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629400" y="2841480"/>
            <a:ext cx="0" cy="43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111640" y="1552680"/>
            <a:ext cx="901800" cy="12826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1143000"/>
            <a:ext cx="762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0 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62120" y="1143000"/>
            <a:ext cx="678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 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666880" y="1143000"/>
            <a:ext cx="1166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0 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176720" y="1143000"/>
            <a:ext cx="678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 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86520" y="1143000"/>
            <a:ext cx="790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 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234120" y="1143000"/>
            <a:ext cx="678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 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57400" y="3048120"/>
            <a:ext cx="457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770880" y="1905120"/>
            <a:ext cx="24858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ay = 510 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roughput = 5.88 GO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90720" y="1523880"/>
            <a:ext cx="457200" cy="12826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219320" y="3809880"/>
            <a:ext cx="2743200" cy="304920"/>
            <a:chOff x="1219320" y="3809880"/>
            <a:chExt cx="2743200" cy="304920"/>
          </a:xfrm>
        </p:grpSpPr>
        <p:sp>
          <p:nvSpPr>
            <p:cNvPr id="73" name=""/>
            <p:cNvSpPr/>
            <p:nvPr/>
          </p:nvSpPr>
          <p:spPr>
            <a:xfrm>
              <a:off x="1219320" y="3809880"/>
              <a:ext cx="304560" cy="3049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133720" y="3809880"/>
              <a:ext cx="914400" cy="3049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048120" y="3809880"/>
              <a:ext cx="609480" cy="3049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219320" y="3809880"/>
              <a:ext cx="9144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048120" y="3809880"/>
              <a:ext cx="9144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2133720" y="4114800"/>
            <a:ext cx="2743200" cy="304920"/>
            <a:chOff x="2133720" y="4114800"/>
            <a:chExt cx="2743200" cy="304920"/>
          </a:xfrm>
        </p:grpSpPr>
        <p:sp>
          <p:nvSpPr>
            <p:cNvPr id="79" name=""/>
            <p:cNvSpPr/>
            <p:nvPr/>
          </p:nvSpPr>
          <p:spPr>
            <a:xfrm>
              <a:off x="2133720" y="4114800"/>
              <a:ext cx="304560" cy="3049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048120" y="4114800"/>
              <a:ext cx="914400" cy="3049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962520" y="4114800"/>
              <a:ext cx="609480" cy="3049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133720" y="4114800"/>
              <a:ext cx="9144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962520" y="4114800"/>
              <a:ext cx="9144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3048120" y="4419720"/>
            <a:ext cx="2743200" cy="304560"/>
            <a:chOff x="3048120" y="4419720"/>
            <a:chExt cx="2743200" cy="304560"/>
          </a:xfrm>
        </p:grpSpPr>
        <p:sp>
          <p:nvSpPr>
            <p:cNvPr id="85" name=""/>
            <p:cNvSpPr/>
            <p:nvPr/>
          </p:nvSpPr>
          <p:spPr>
            <a:xfrm>
              <a:off x="3048120" y="4419720"/>
              <a:ext cx="304560" cy="3045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962520" y="4419720"/>
              <a:ext cx="914400" cy="3045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876920" y="4419720"/>
              <a:ext cx="609480" cy="3045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048120" y="4419720"/>
              <a:ext cx="9144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876920" y="4419720"/>
              <a:ext cx="9144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4T13:45:25Z</dcterms:created>
  <dc:creator>Randal E. Bryant</dc:creator>
  <dc:description/>
  <dc:language>en-US</dc:language>
  <cp:lastModifiedBy>Randal E. Bryant</cp:lastModifiedBy>
  <dcterms:modified xsi:type="dcterms:W3CDTF">2002-03-03T19:54:25Z</dcterms:modified>
  <cp:revision>11</cp:revision>
  <dc:subject/>
  <dc:title>PowerPoint Presentation</dc:title>
</cp:coreProperties>
</file>