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466-2AEF-4133-A68C-2A8F4AEF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EDC-C54B-447A-B0F3-3E14FF02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683-1914-41AA-9936-4C0CEE6F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5A3-51D1-48EC-91A2-A1B675D6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015-E4DF-4943-A398-8F7CE1D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858-E834-4431-8BEB-4FBEEF3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52B-FB77-420C-8910-3168CF5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DB7-098C-40A0-9851-FBA1221B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AF2-4218-44A1-B4ED-CB8820D5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E1F-372C-46A7-80A5-BEB9E97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103-FE31-402E-9308-01962FD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68-FA56-4825-B898-E099260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DBC-02FC-4A95-B9C7-EEB0B27A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28440" y="1371600"/>
            <a:ext cx="4551480" cy="4180680"/>
            <a:chOff x="928440" y="1371600"/>
            <a:chExt cx="4551480" cy="4180680"/>
          </a:xfrm>
        </p:grpSpPr>
        <p:sp>
          <p:nvSpPr>
            <p:cNvPr id="42" name=""/>
            <p:cNvSpPr/>
            <p:nvPr/>
          </p:nvSpPr>
          <p:spPr>
            <a:xfrm>
              <a:off x="2670120" y="3581280"/>
              <a:ext cx="1371600" cy="152352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28440" y="1371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9400" y="137160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4840" y="1523880"/>
              <a:ext cx="303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4840" y="19810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8440" y="182844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440" y="13716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1320" y="213336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9400" y="213336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4840" y="228564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4840" y="274284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31320" y="259056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9320" y="213336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2960" y="39621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9400" y="396216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74840" y="411444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4840" y="45716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02960" y="44193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9320" y="396216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2960" y="4724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9400" y="4724280"/>
              <a:ext cx="990720" cy="761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4840" y="4876560"/>
              <a:ext cx="303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4840" y="533376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2960" y="51814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9320" y="47242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060640" y="3124080"/>
              <a:ext cx="152280" cy="608760"/>
              <a:chOff x="2060640" y="3124080"/>
              <a:chExt cx="152280" cy="60876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2060640" y="3124080"/>
                <a:ext cx="152280" cy="151920"/>
                <a:chOff x="2060640" y="3124080"/>
                <a:chExt cx="152280" cy="1519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098800" y="316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60640" y="312408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060640" y="3352320"/>
                <a:ext cx="152280" cy="151920"/>
                <a:chOff x="2060640" y="3352320"/>
                <a:chExt cx="152280" cy="151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098800" y="3390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060640" y="33523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060640" y="3580920"/>
                <a:ext cx="152280" cy="151920"/>
                <a:chOff x="2060640" y="3580920"/>
                <a:chExt cx="152280" cy="151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098800" y="361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060640" y="35809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4653000" y="3422520"/>
              <a:ext cx="1508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46400" y="320004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6400" y="320004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000" y="1752480"/>
              <a:ext cx="838440" cy="152352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670120" y="1752480"/>
              <a:ext cx="1371600" cy="152352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0120" y="251424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70120" y="3504240"/>
              <a:ext cx="1371600" cy="83772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279600" y="3124080"/>
              <a:ext cx="152280" cy="608760"/>
              <a:chOff x="3279600" y="3124080"/>
              <a:chExt cx="152280" cy="6087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279600" y="3124080"/>
                <a:ext cx="152280" cy="151920"/>
                <a:chOff x="3279600" y="3124080"/>
                <a:chExt cx="152280" cy="151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317760" y="316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279600" y="312408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279600" y="3352320"/>
                <a:ext cx="152280" cy="151920"/>
                <a:chOff x="3279600" y="3352320"/>
                <a:chExt cx="152280" cy="151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317760" y="3390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279600" y="33523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79600" y="3580920"/>
                <a:ext cx="152280" cy="151920"/>
                <a:chOff x="3279600" y="3580920"/>
                <a:chExt cx="152280" cy="1519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17760" y="361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79600" y="3580920"/>
                  <a:ext cx="15228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4879800" y="3276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87120" y="9144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Bit-leve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320" y="91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Word-leve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4160" y="2971800"/>
            <a:ext cx="2899440" cy="1029960"/>
            <a:chOff x="5564160" y="2971800"/>
            <a:chExt cx="2899440" cy="1029960"/>
          </a:xfrm>
        </p:grpSpPr>
        <p:sp>
          <p:nvSpPr>
            <p:cNvPr id="98" name=""/>
            <p:cNvSpPr/>
            <p:nvPr/>
          </p:nvSpPr>
          <p:spPr>
            <a:xfrm>
              <a:off x="6340320" y="300960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83120" y="3162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3120" y="3771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83320" y="3466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4160" y="29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80360" y="3633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3000" y="31003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4:04:12Z</dcterms:modified>
  <cp:revision>8</cp:revision>
  <dc:subject/>
  <dc:title>PowerPoint Presentation</dc:title>
</cp:coreProperties>
</file>