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9E5-99A9-4AEE-9CAE-B42A8E4A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E0E-2AA5-4A31-A7FA-5AB4EB84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8D7-7407-4F40-9941-93F37CB0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D07-0266-4033-8ECE-BCE54246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8B07-0DC2-46A1-9C61-5CDEE0B0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822-0CFB-45CD-B978-E95E2ED7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2B9-9A6E-486C-8050-C8724677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010-6735-412A-A9E3-A9929F92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71E-2AC4-4455-B3D4-549301A4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87C6-87FC-40FA-9D75-7FC0F2BE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C11-6E4D-4A60-9CAE-B72212BC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44AF-574D-4C83-9CBB-EBD5598A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2599-C35E-428A-9620-DCA329340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00400" y="1073160"/>
            <a:ext cx="825480" cy="439560"/>
            <a:chOff x="3200400" y="1073160"/>
            <a:chExt cx="825480" cy="439560"/>
          </a:xfrm>
        </p:grpSpPr>
        <p:sp>
          <p:nvSpPr>
            <p:cNvPr id="42" name=""/>
            <p:cNvSpPr/>
            <p:nvPr/>
          </p:nvSpPr>
          <p:spPr>
            <a:xfrm>
              <a:off x="3875040" y="1295280"/>
              <a:ext cx="150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200400" y="144144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00400" y="114948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73480" y="107316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73480" y="107316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181480" y="1143000"/>
            <a:ext cx="603000" cy="291960"/>
            <a:chOff x="5181480" y="1143000"/>
            <a:chExt cx="603000" cy="291960"/>
          </a:xfrm>
        </p:grpSpPr>
        <p:sp>
          <p:nvSpPr>
            <p:cNvPr id="48" name=""/>
            <p:cNvSpPr/>
            <p:nvPr/>
          </p:nvSpPr>
          <p:spPr>
            <a:xfrm>
              <a:off x="5633640" y="128916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2320" y="114300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2320" y="114300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40120" y="124776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40120" y="124776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81480" y="128916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447920" y="1073160"/>
            <a:ext cx="907920" cy="439560"/>
            <a:chOff x="1447920" y="1073160"/>
            <a:chExt cx="907920" cy="439560"/>
          </a:xfrm>
        </p:grpSpPr>
        <p:sp>
          <p:nvSpPr>
            <p:cNvPr id="55" name=""/>
            <p:cNvSpPr/>
            <p:nvPr/>
          </p:nvSpPr>
          <p:spPr>
            <a:xfrm>
              <a:off x="1447920" y="114948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47920" y="144144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05000" y="1295280"/>
              <a:ext cx="150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98760" y="107316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98760" y="107316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144800" y="958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4800" y="1219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4120" y="111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7280" y="92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7280" y="1187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6600" y="1079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8360" y="1066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3120" y="1066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1523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=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1523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=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15238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609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609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6094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5:59:25Z</dcterms:created>
  <dc:creator>Randal E. Bryant</dc:creator>
  <dc:description/>
  <dc:language>en-US</dc:language>
  <cp:lastModifiedBy>Randal E. Bryant</cp:lastModifiedBy>
  <dcterms:modified xsi:type="dcterms:W3CDTF">2002-02-15T16:25:42Z</dcterms:modified>
  <cp:revision>2</cp:revision>
  <dc:subject/>
  <dc:title>PowerPoint Presentation</dc:title>
</cp:coreProperties>
</file>