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716-24DF-43C8-8D3F-02A6C069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62164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6608520"/>
            <a:ext cx="62164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287-1EB4-41F9-8C17-F8515F60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316980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660852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660852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21A-A27E-4E27-BDF6-2FD13BD3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20016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3169800"/>
            <a:ext cx="20016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3169800"/>
            <a:ext cx="20016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6608520"/>
            <a:ext cx="20016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6608520"/>
            <a:ext cx="20016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6608520"/>
            <a:ext cx="20016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388-7C39-478E-A44A-25E0B28E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3169800"/>
            <a:ext cx="6216480" cy="65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35C-7361-4D29-A541-27455399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62164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364-169D-4C5F-8E23-FFA10240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303336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3169800"/>
            <a:ext cx="303336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46E-B69C-49D1-8086-0E892F37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1F1-8E2A-4671-923B-610882A5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974880"/>
            <a:ext cx="621648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B7F-9B92-48C5-9D6E-15A278A2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3169800"/>
            <a:ext cx="303336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660852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95B-03B9-444F-8772-F68994D2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303336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316980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660852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0E2-511B-4AF9-B02B-DEA862F6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316980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3169800"/>
            <a:ext cx="30333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6608520"/>
            <a:ext cx="62164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C2F-9871-4C54-AEA6-2FC5DF5E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974880"/>
            <a:ext cx="621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3169800"/>
            <a:ext cx="62164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9997560"/>
            <a:ext cx="15238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9997560"/>
            <a:ext cx="23176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9997560"/>
            <a:ext cx="15238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D871-8FF4-489C-AE95-6A09DF305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0272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996804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874224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04716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35208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9240" y="548640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. Hardware: Three-stage pipeline with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5200" y="815328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. Pipelin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2480" y="6491160"/>
            <a:ext cx="21564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70945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70945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7780320"/>
            <a:ext cx="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69320" y="813924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20880" y="6491160"/>
            <a:ext cx="90144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9880" y="6491160"/>
            <a:ext cx="21564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70945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70945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7780320"/>
            <a:ext cx="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8280" y="6491160"/>
            <a:ext cx="90144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7280" y="6491160"/>
            <a:ext cx="21564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70945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70945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7780320"/>
            <a:ext cx="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35680" y="6491160"/>
            <a:ext cx="90144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798660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43000" y="8748720"/>
            <a:ext cx="1828800" cy="304920"/>
            <a:chOff x="1143000" y="8748720"/>
            <a:chExt cx="1828800" cy="304920"/>
          </a:xfrm>
        </p:grpSpPr>
        <p:sp>
          <p:nvSpPr>
            <p:cNvPr id="66" name=""/>
            <p:cNvSpPr/>
            <p:nvPr/>
          </p:nvSpPr>
          <p:spPr>
            <a:xfrm>
              <a:off x="1143000" y="874872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52480" y="874872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61960" y="8748720"/>
              <a:ext cx="609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752480" y="9053640"/>
            <a:ext cx="1828800" cy="304560"/>
            <a:chOff x="1752480" y="9053640"/>
            <a:chExt cx="1828800" cy="304560"/>
          </a:xfrm>
        </p:grpSpPr>
        <p:sp>
          <p:nvSpPr>
            <p:cNvPr id="70" name=""/>
            <p:cNvSpPr/>
            <p:nvPr/>
          </p:nvSpPr>
          <p:spPr>
            <a:xfrm>
              <a:off x="1752480" y="9053640"/>
              <a:ext cx="609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1960" y="9053640"/>
              <a:ext cx="609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440" y="9053640"/>
              <a:ext cx="60984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9358200"/>
            <a:ext cx="1828800" cy="304920"/>
            <a:chOff x="2362320" y="9358200"/>
            <a:chExt cx="1828800" cy="304920"/>
          </a:xfrm>
        </p:grpSpPr>
        <p:sp>
          <p:nvSpPr>
            <p:cNvPr id="74" name=""/>
            <p:cNvSpPr/>
            <p:nvPr/>
          </p:nvSpPr>
          <p:spPr>
            <a:xfrm>
              <a:off x="2362320" y="935820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71800" y="935820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81280" y="9358200"/>
              <a:ext cx="609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33520" y="5929200"/>
            <a:ext cx="6553080" cy="762120"/>
          </a:xfrm>
          <a:custGeom>
            <a:avLst/>
            <a:gdLst/>
            <a:ahLst/>
            <a:rect l="l" t="t" r="r" b="b"/>
            <a:pathLst>
              <a:path w="4128" h="480">
                <a:moveTo>
                  <a:pt x="3840" y="480"/>
                </a:moveTo>
                <a:lnTo>
                  <a:pt x="4128" y="480"/>
                </a:lnTo>
                <a:lnTo>
                  <a:pt x="4128" y="0"/>
                </a:lnTo>
                <a:lnTo>
                  <a:pt x="0" y="0"/>
                </a:lnTo>
                <a:lnTo>
                  <a:pt x="0" y="480"/>
                </a:lnTo>
                <a:lnTo>
                  <a:pt x="240" y="48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965664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971800" y="9663120"/>
            <a:ext cx="1828800" cy="304920"/>
            <a:chOff x="2971800" y="9663120"/>
            <a:chExt cx="1828800" cy="304920"/>
          </a:xfrm>
        </p:grpSpPr>
        <p:sp>
          <p:nvSpPr>
            <p:cNvPr id="80" name=""/>
            <p:cNvSpPr/>
            <p:nvPr/>
          </p:nvSpPr>
          <p:spPr>
            <a:xfrm>
              <a:off x="2971800" y="966312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81280" y="966312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0760" y="9663120"/>
              <a:ext cx="609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38520" y="8886960"/>
            <a:ext cx="419040" cy="952200"/>
          </a:xfrm>
          <a:custGeom>
            <a:avLst/>
            <a:gdLst/>
            <a:ahLst/>
            <a:rect l="l" t="t" r="r" b="b"/>
            <a:pathLst>
              <a:path w="264" h="600">
                <a:moveTo>
                  <a:pt x="144" y="0"/>
                </a:moveTo>
                <a:cubicBezTo>
                  <a:pt x="185" y="5"/>
                  <a:pt x="169" y="8"/>
                  <a:pt x="198" y="18"/>
                </a:cubicBezTo>
                <a:cubicBezTo>
                  <a:pt x="240" y="30"/>
                  <a:pt x="252" y="62"/>
                  <a:pt x="264" y="99"/>
                </a:cubicBezTo>
                <a:cubicBezTo>
                  <a:pt x="260" y="139"/>
                  <a:pt x="192" y="230"/>
                  <a:pt x="171" y="261"/>
                </a:cubicBezTo>
                <a:cubicBezTo>
                  <a:pt x="162" y="274"/>
                  <a:pt x="142" y="287"/>
                  <a:pt x="129" y="297"/>
                </a:cubicBezTo>
                <a:cubicBezTo>
                  <a:pt x="113" y="311"/>
                  <a:pt x="97" y="317"/>
                  <a:pt x="78" y="342"/>
                </a:cubicBezTo>
                <a:cubicBezTo>
                  <a:pt x="59" y="363"/>
                  <a:pt x="31" y="400"/>
                  <a:pt x="15" y="423"/>
                </a:cubicBezTo>
                <a:cubicBezTo>
                  <a:pt x="3" y="445"/>
                  <a:pt x="0" y="459"/>
                  <a:pt x="3" y="477"/>
                </a:cubicBezTo>
                <a:cubicBezTo>
                  <a:pt x="6" y="495"/>
                  <a:pt x="11" y="511"/>
                  <a:pt x="33" y="531"/>
                </a:cubicBezTo>
                <a:cubicBezTo>
                  <a:pt x="55" y="551"/>
                  <a:pt x="117" y="589"/>
                  <a:pt x="135" y="600"/>
                </a:cubicBezTo>
                <a:cubicBezTo>
                  <a:pt x="145" y="597"/>
                  <a:pt x="144" y="594"/>
                  <a:pt x="144" y="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87692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14040" y="45576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63708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94164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24656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" y="38088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. Hardware: Unpipelined with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4840" y="30481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. Pipelin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9890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05440" y="301932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9480" y="1386000"/>
            <a:ext cx="273672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37160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79720" y="197496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89560" y="2660760"/>
            <a:ext cx="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643200"/>
            <a:ext cx="182880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38520" y="3781440"/>
            <a:ext cx="419040" cy="333360"/>
          </a:xfrm>
          <a:custGeom>
            <a:avLst/>
            <a:gdLst/>
            <a:ahLst/>
            <a:rect l="l" t="t" r="r" b="b"/>
            <a:pathLst>
              <a:path w="264" h="600">
                <a:moveTo>
                  <a:pt x="144" y="0"/>
                </a:moveTo>
                <a:cubicBezTo>
                  <a:pt x="185" y="5"/>
                  <a:pt x="169" y="8"/>
                  <a:pt x="198" y="18"/>
                </a:cubicBezTo>
                <a:cubicBezTo>
                  <a:pt x="240" y="30"/>
                  <a:pt x="252" y="62"/>
                  <a:pt x="264" y="99"/>
                </a:cubicBezTo>
                <a:cubicBezTo>
                  <a:pt x="260" y="139"/>
                  <a:pt x="192" y="230"/>
                  <a:pt x="171" y="261"/>
                </a:cubicBezTo>
                <a:cubicBezTo>
                  <a:pt x="162" y="274"/>
                  <a:pt x="142" y="287"/>
                  <a:pt x="129" y="297"/>
                </a:cubicBezTo>
                <a:cubicBezTo>
                  <a:pt x="113" y="311"/>
                  <a:pt x="97" y="317"/>
                  <a:pt x="78" y="342"/>
                </a:cubicBezTo>
                <a:cubicBezTo>
                  <a:pt x="59" y="363"/>
                  <a:pt x="31" y="400"/>
                  <a:pt x="15" y="423"/>
                </a:cubicBezTo>
                <a:cubicBezTo>
                  <a:pt x="3" y="445"/>
                  <a:pt x="0" y="459"/>
                  <a:pt x="3" y="477"/>
                </a:cubicBezTo>
                <a:cubicBezTo>
                  <a:pt x="6" y="495"/>
                  <a:pt x="11" y="511"/>
                  <a:pt x="33" y="531"/>
                </a:cubicBezTo>
                <a:cubicBezTo>
                  <a:pt x="55" y="551"/>
                  <a:pt x="117" y="589"/>
                  <a:pt x="135" y="600"/>
                </a:cubicBezTo>
                <a:cubicBezTo>
                  <a:pt x="145" y="597"/>
                  <a:pt x="144" y="594"/>
                  <a:pt x="144" y="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838080"/>
            <a:ext cx="4267440" cy="762120"/>
          </a:xfrm>
          <a:custGeom>
            <a:avLst/>
            <a:gdLst/>
            <a:ahLst/>
            <a:rect l="l" t="t" r="r" b="b"/>
            <a:pathLst>
              <a:path w="2688" h="480">
                <a:moveTo>
                  <a:pt x="2496" y="432"/>
                </a:moveTo>
                <a:lnTo>
                  <a:pt x="2688" y="432"/>
                </a:lnTo>
                <a:lnTo>
                  <a:pt x="2688" y="0"/>
                </a:lnTo>
                <a:lnTo>
                  <a:pt x="0" y="0"/>
                </a:lnTo>
                <a:lnTo>
                  <a:pt x="0" y="480"/>
                </a:lnTo>
                <a:lnTo>
                  <a:pt x="336" y="480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3962520"/>
            <a:ext cx="182880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81480"/>
            <a:ext cx="182880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4114800"/>
            <a:ext cx="419040" cy="333360"/>
          </a:xfrm>
          <a:custGeom>
            <a:avLst/>
            <a:gdLst/>
            <a:ahLst/>
            <a:rect l="l" t="t" r="r" b="b"/>
            <a:pathLst>
              <a:path w="264" h="600">
                <a:moveTo>
                  <a:pt x="144" y="0"/>
                </a:moveTo>
                <a:cubicBezTo>
                  <a:pt x="185" y="5"/>
                  <a:pt x="169" y="8"/>
                  <a:pt x="198" y="18"/>
                </a:cubicBezTo>
                <a:cubicBezTo>
                  <a:pt x="240" y="30"/>
                  <a:pt x="252" y="62"/>
                  <a:pt x="264" y="99"/>
                </a:cubicBezTo>
                <a:cubicBezTo>
                  <a:pt x="260" y="139"/>
                  <a:pt x="192" y="230"/>
                  <a:pt x="171" y="261"/>
                </a:cubicBezTo>
                <a:cubicBezTo>
                  <a:pt x="162" y="274"/>
                  <a:pt x="142" y="287"/>
                  <a:pt x="129" y="297"/>
                </a:cubicBezTo>
                <a:cubicBezTo>
                  <a:pt x="113" y="311"/>
                  <a:pt x="97" y="317"/>
                  <a:pt x="78" y="342"/>
                </a:cubicBezTo>
                <a:cubicBezTo>
                  <a:pt x="59" y="363"/>
                  <a:pt x="31" y="400"/>
                  <a:pt x="15" y="423"/>
                </a:cubicBezTo>
                <a:cubicBezTo>
                  <a:pt x="3" y="445"/>
                  <a:pt x="0" y="459"/>
                  <a:pt x="3" y="477"/>
                </a:cubicBezTo>
                <a:cubicBezTo>
                  <a:pt x="6" y="495"/>
                  <a:pt x="11" y="511"/>
                  <a:pt x="33" y="531"/>
                </a:cubicBezTo>
                <a:cubicBezTo>
                  <a:pt x="55" y="551"/>
                  <a:pt x="117" y="589"/>
                  <a:pt x="135" y="600"/>
                </a:cubicBezTo>
                <a:cubicBezTo>
                  <a:pt x="145" y="597"/>
                  <a:pt x="144" y="594"/>
                  <a:pt x="144" y="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2:51:24Z</dcterms:created>
  <dc:creator>Randal E. Bryant</dc:creator>
  <dc:description/>
  <dc:language>en-US</dc:language>
  <cp:lastModifiedBy>Randal E. Bryant</cp:lastModifiedBy>
  <dcterms:modified xsi:type="dcterms:W3CDTF">2002-03-03T20:55:28Z</dcterms:modified>
  <cp:revision>2</cp:revision>
  <dc:subject/>
  <dc:title>PowerPoint Presentation</dc:title>
</cp:coreProperties>
</file>