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632C-35EC-4894-B6FD-089C98AD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92EB-E6CD-4B15-821A-3FAE1059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72DF-B7D7-4244-AA13-E9425321E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F749-D72A-4902-9665-ADF1A5A8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4C7C-FC2A-4048-AECE-DCCF5333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7D64-8A54-49EC-8859-D147B0AE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75F9-6391-4A31-BB79-C49EBD50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DD94-BFBD-4400-9862-12B2099A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006E-B447-47AF-8692-B907A6ED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2900-71DB-4015-9FF2-680D77AF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7587-A046-484B-998C-6A863A77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D960-88BA-4A17-867C-791281DF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6CA6-3BBD-4977-AC18-4B94C13E3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1600200"/>
            <a:ext cx="2819160" cy="2133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2819520" y="2666880"/>
            <a:ext cx="533160" cy="152640"/>
          </a:xfrm>
          <a:custGeom>
            <a:avLst/>
            <a:gdLst/>
            <a:ahLst/>
            <a:rect l="l" t="t" r="r" b="b"/>
            <a:pathLst>
              <a:path w="336" h="96">
                <a:moveTo>
                  <a:pt x="0" y="96"/>
                </a:moveTo>
                <a:lnTo>
                  <a:pt x="144" y="96"/>
                </a:lnTo>
                <a:lnTo>
                  <a:pt x="144" y="0"/>
                </a:lnTo>
                <a:lnTo>
                  <a:pt x="33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124080"/>
            <a:ext cx="533160" cy="152640"/>
          </a:xfrm>
          <a:custGeom>
            <a:avLst/>
            <a:gdLst/>
            <a:ahLst/>
            <a:rect l="l" t="t" r="r" b="b"/>
            <a:pathLst>
              <a:path w="336" h="96">
                <a:moveTo>
                  <a:pt x="0" y="96"/>
                </a:moveTo>
                <a:lnTo>
                  <a:pt x="144" y="96"/>
                </a:lnTo>
                <a:lnTo>
                  <a:pt x="144" y="0"/>
                </a:lnTo>
                <a:lnTo>
                  <a:pt x="33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75040" y="2965320"/>
            <a:ext cx="39204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3480" y="2743200"/>
            <a:ext cx="650880" cy="43956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3480" y="2743200"/>
            <a:ext cx="650880" cy="43956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752480" y="1752480"/>
            <a:ext cx="292320" cy="609840"/>
            <a:chOff x="1752480" y="1752480"/>
            <a:chExt cx="292320" cy="609840"/>
          </a:xfrm>
        </p:grpSpPr>
        <p:sp>
          <p:nvSpPr>
            <p:cNvPr id="48" name=""/>
            <p:cNvSpPr/>
            <p:nvPr/>
          </p:nvSpPr>
          <p:spPr>
            <a:xfrm flipH="1">
              <a:off x="1905120" y="2211480"/>
              <a:ext cx="1440" cy="15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5400000">
              <a:off x="1747800" y="1909440"/>
              <a:ext cx="301320" cy="29232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5400000">
              <a:off x="1747800" y="1909440"/>
              <a:ext cx="301320" cy="29232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rot="5400000">
              <a:off x="1860840" y="2212200"/>
              <a:ext cx="7776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5400000">
              <a:off x="1860840" y="2212200"/>
              <a:ext cx="7776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1893960" y="1752480"/>
              <a:ext cx="1440" cy="15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057400" y="2514600"/>
            <a:ext cx="150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2819520"/>
            <a:ext cx="1293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8240" y="2438280"/>
            <a:ext cx="606240" cy="43992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08240" y="2438280"/>
            <a:ext cx="606240" cy="43992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2720" y="2590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0920" y="1600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3124080"/>
            <a:ext cx="1508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914400" y="3417480"/>
            <a:ext cx="129384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08240" y="3048120"/>
            <a:ext cx="60624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08240" y="3048120"/>
            <a:ext cx="60624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2720" y="3244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1752480"/>
            <a:ext cx="533520" cy="1371600"/>
          </a:xfrm>
          <a:custGeom>
            <a:avLst/>
            <a:gdLst/>
            <a:ahLst/>
            <a:rect l="l" t="t" r="r" b="b"/>
            <a:pathLst>
              <a:path w="336" h="1056">
                <a:moveTo>
                  <a:pt x="336" y="1056"/>
                </a:moveTo>
                <a:lnTo>
                  <a:pt x="0" y="105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75248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2362320"/>
            <a:ext cx="152280" cy="152280"/>
          </a:xfrm>
          <a:custGeom>
            <a:avLst/>
            <a:gdLst/>
            <a:ahLst/>
            <a:rect l="l" t="t" r="r" b="b"/>
            <a:pathLst>
              <a:path w="336" h="1056">
                <a:moveTo>
                  <a:pt x="336" y="1056"/>
                </a:moveTo>
                <a:lnTo>
                  <a:pt x="0" y="105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43400" y="2819520"/>
            <a:ext cx="6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447920" y="1676520"/>
            <a:ext cx="152280" cy="152280"/>
            <a:chOff x="1447920" y="1676520"/>
            <a:chExt cx="152280" cy="152280"/>
          </a:xfrm>
        </p:grpSpPr>
        <p:sp>
          <p:nvSpPr>
            <p:cNvPr id="70" name=""/>
            <p:cNvSpPr/>
            <p:nvPr/>
          </p:nvSpPr>
          <p:spPr>
            <a:xfrm>
              <a:off x="1486080" y="17146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447920" y="167652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5:59:25Z</dcterms:created>
  <dc:creator>Randal E. Bryant</dc:creator>
  <dc:description/>
  <dc:language>en-US</dc:language>
  <cp:lastModifiedBy>Randal E. Bryant</cp:lastModifiedBy>
  <dcterms:modified xsi:type="dcterms:W3CDTF">2002-02-15T20:25:20Z</dcterms:modified>
  <cp:revision>5</cp:revision>
  <dc:subject/>
  <dc:title>PowerPoint Presentation</dc:title>
</cp:coreProperties>
</file>