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1828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1B9B-4CF1-4C55-9A77-1D034DBC0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110145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D1F9-E6CC-4740-8728-1330B4C3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2D5A-5D89-4A41-9C55-3D5DF4670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9274-91CF-4635-A177-F9093C45B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50E3-408E-400D-BC49-82FEEB32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2A14-E685-450E-8354-FEF2F28B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D794-3FB9-4F79-832F-6604F0D4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922E-6431-49ED-92FD-2690AD47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25760"/>
            <a:ext cx="7772400" cy="14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F90B-647B-46FB-BE8A-90DB92E9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9855-6111-4323-BEC9-42BE6FAF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E283-B6A2-4F19-81E2-02412779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7368-0C12-435D-A466-8D37541C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16661880"/>
            <a:ext cx="1905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16661880"/>
            <a:ext cx="28958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16661880"/>
            <a:ext cx="1905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6FBD-6D62-451A-9C3A-27C993188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2743200" y="914400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419720" y="74674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13868280"/>
            <a:ext cx="205740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13868280"/>
            <a:ext cx="91440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09680" y="8991720"/>
            <a:ext cx="53352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8991720"/>
            <a:ext cx="1295280" cy="457200"/>
          </a:xfrm>
          <a:custGeom>
            <a:avLst/>
            <a:gdLst>
              <a:gd name="textAreaLeft" fmla="*/ 284760 w 1295280"/>
              <a:gd name="textAreaRight" fmla="*/ 1010520 w 12952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6781680"/>
            <a:ext cx="10666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10058400"/>
            <a:ext cx="1218960" cy="91440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0" y="0"/>
                </a:moveTo>
                <a:lnTo>
                  <a:pt x="0" y="96"/>
                </a:lnTo>
                <a:lnTo>
                  <a:pt x="576" y="96"/>
                </a:lnTo>
                <a:lnTo>
                  <a:pt x="576" y="2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15316200"/>
            <a:ext cx="3657600" cy="5335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743200" y="150872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286000" y="13487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43200" y="13487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200400" y="13487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419720" y="13487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828800" y="13487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71800" y="1310652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638680" y="11353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095880" y="11353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10080" y="11582280"/>
            <a:ext cx="457200" cy="3049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11582280"/>
            <a:ext cx="457200" cy="3049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181480" y="1135332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9601200"/>
            <a:ext cx="6858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81280" y="9601200"/>
            <a:ext cx="6858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429000" y="8762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971800" y="9448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962520" y="9448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438280" y="8762760"/>
            <a:ext cx="0" cy="2286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962520" y="7467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8001000"/>
            <a:ext cx="685800" cy="152280"/>
          </a:xfrm>
          <a:custGeom>
            <a:avLst/>
            <a:gdLst/>
            <a:ahLst/>
            <a:rect l="l" t="t" r="r" b="b"/>
            <a:pathLst>
              <a:path w="384" h="48">
                <a:moveTo>
                  <a:pt x="384" y="48"/>
                </a:moveTo>
                <a:lnTo>
                  <a:pt x="0" y="48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6858000"/>
            <a:ext cx="685800" cy="5335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65527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429000" y="8001000"/>
            <a:ext cx="380880" cy="3049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384" y="48"/>
                </a:moveTo>
                <a:lnTo>
                  <a:pt x="0" y="48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971440" y="701028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971440" y="723888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76201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7010280" y="11353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553080" y="11353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24480" y="11582280"/>
            <a:ext cx="457200" cy="3049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r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81680" y="11582280"/>
            <a:ext cx="457200" cy="3049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r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86040" y="122680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648320" y="8077320"/>
            <a:ext cx="152280" cy="152280"/>
            <a:chOff x="4648320" y="8077320"/>
            <a:chExt cx="152280" cy="152280"/>
          </a:xfrm>
        </p:grpSpPr>
        <p:sp>
          <p:nvSpPr>
            <p:cNvPr id="82" name=""/>
            <p:cNvSpPr/>
            <p:nvPr/>
          </p:nvSpPr>
          <p:spPr>
            <a:xfrm>
              <a:off x="4686480" y="81154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648320" y="807732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648320" y="10744200"/>
            <a:ext cx="152280" cy="152280"/>
            <a:chOff x="4648320" y="10744200"/>
            <a:chExt cx="152280" cy="152280"/>
          </a:xfrm>
        </p:grpSpPr>
        <p:sp>
          <p:nvSpPr>
            <p:cNvPr id="85" name=""/>
            <p:cNvSpPr/>
            <p:nvPr/>
          </p:nvSpPr>
          <p:spPr>
            <a:xfrm>
              <a:off x="4686480" y="1078236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648320" y="1074420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7391520" y="12192120"/>
            <a:ext cx="152280" cy="152280"/>
            <a:chOff x="7391520" y="12192120"/>
            <a:chExt cx="152280" cy="152280"/>
          </a:xfrm>
        </p:grpSpPr>
        <p:sp>
          <p:nvSpPr>
            <p:cNvPr id="88" name=""/>
            <p:cNvSpPr/>
            <p:nvPr/>
          </p:nvSpPr>
          <p:spPr>
            <a:xfrm>
              <a:off x="7429680" y="122302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391520" y="1219212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971800" y="67816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71800" y="723888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8915400"/>
            <a:ext cx="685800" cy="5335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886200" y="9144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048120" y="158493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4800" y="13944600"/>
            <a:ext cx="72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4080" y="120650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4440" y="906768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3360" y="701028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46840" y="1272528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 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43400" y="653724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495680" y="12099960"/>
            <a:ext cx="1066680" cy="719280"/>
            <a:chOff x="4495680" y="12099960"/>
            <a:chExt cx="1066680" cy="719280"/>
          </a:xfrm>
        </p:grpSpPr>
        <p:sp>
          <p:nvSpPr>
            <p:cNvPr id="102" name=""/>
            <p:cNvSpPr/>
            <p:nvPr/>
          </p:nvSpPr>
          <p:spPr>
            <a:xfrm>
              <a:off x="4495680" y="12115800"/>
              <a:ext cx="990360" cy="685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47960" y="1209996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028840" y="1209996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57440" y="1219212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257440" y="1257300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209680" y="8381880"/>
            <a:ext cx="45720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1097280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1097280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24480" y="1097280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r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81680" y="1097280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r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1310652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1310652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1310652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1607832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733920" y="8229600"/>
            <a:ext cx="152280" cy="152280"/>
            <a:chOff x="3733920" y="8229600"/>
            <a:chExt cx="152280" cy="152280"/>
          </a:xfrm>
        </p:grpSpPr>
        <p:sp>
          <p:nvSpPr>
            <p:cNvPr id="117" name=""/>
            <p:cNvSpPr/>
            <p:nvPr/>
          </p:nvSpPr>
          <p:spPr>
            <a:xfrm>
              <a:off x="3772080" y="826776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33920" y="822960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90920" y="1607832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Va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05320" y="1607832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Va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19720" y="1607832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Va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1607832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743200" y="14477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14478120"/>
            <a:ext cx="1676520" cy="152280"/>
          </a:xfrm>
          <a:custGeom>
            <a:avLst/>
            <a:gdLst/>
            <a:ahLst/>
            <a:rect l="l" t="t" r="r" b="b"/>
            <a:pathLst>
              <a:path w="1200" h="96">
                <a:moveTo>
                  <a:pt x="0" y="96"/>
                </a:moveTo>
                <a:lnTo>
                  <a:pt x="1200" y="96"/>
                </a:lnTo>
                <a:lnTo>
                  <a:pt x="120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666880" y="14554080"/>
            <a:ext cx="152640" cy="152640"/>
            <a:chOff x="2666880" y="14554080"/>
            <a:chExt cx="152640" cy="152640"/>
          </a:xfrm>
        </p:grpSpPr>
        <p:sp>
          <p:nvSpPr>
            <p:cNvPr id="126" name=""/>
            <p:cNvSpPr/>
            <p:nvPr/>
          </p:nvSpPr>
          <p:spPr>
            <a:xfrm>
              <a:off x="2705040" y="145922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66880" y="14554080"/>
              <a:ext cx="152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 flipV="1">
            <a:off x="3886200" y="158493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724280" y="158493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905120" y="1584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362320" y="158493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1470672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1310652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91120" y="1310652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657600" y="13487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1097280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724280" y="1135332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1097280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67080" y="76201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724280" y="8000640"/>
            <a:ext cx="0" cy="297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419720" y="8001000"/>
            <a:ext cx="0" cy="5105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8381880"/>
            <a:ext cx="45720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29000" y="8305920"/>
            <a:ext cx="3886200" cy="4343400"/>
          </a:xfrm>
          <a:custGeom>
            <a:avLst/>
            <a:gdLst/>
            <a:ahLst/>
            <a:rect l="l" t="t" r="r" b="b"/>
            <a:pathLst>
              <a:path w="2448" h="2736">
                <a:moveTo>
                  <a:pt x="0" y="48"/>
                </a:moveTo>
                <a:lnTo>
                  <a:pt x="0" y="0"/>
                </a:lnTo>
                <a:lnTo>
                  <a:pt x="2448" y="0"/>
                </a:lnTo>
                <a:lnTo>
                  <a:pt x="2448" y="2736"/>
                </a:lnTo>
                <a:lnTo>
                  <a:pt x="1296" y="2736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00400" y="10058400"/>
            <a:ext cx="1523880" cy="7621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384" y="48"/>
                </a:moveTo>
                <a:lnTo>
                  <a:pt x="0" y="48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617220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19720" y="13030200"/>
            <a:ext cx="1066680" cy="3581280"/>
          </a:xfrm>
          <a:custGeom>
            <a:avLst/>
            <a:gdLst/>
            <a:ahLst/>
            <a:rect l="l" t="t" r="r" b="b"/>
            <a:pathLst>
              <a:path w="672" h="2256">
                <a:moveTo>
                  <a:pt x="0" y="0"/>
                </a:moveTo>
                <a:lnTo>
                  <a:pt x="672" y="0"/>
                </a:lnTo>
                <a:lnTo>
                  <a:pt x="672" y="2256"/>
                </a:lnTo>
                <a:lnTo>
                  <a:pt x="192" y="2256"/>
                </a:lnTo>
                <a:lnTo>
                  <a:pt x="192" y="21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343400" y="12953880"/>
            <a:ext cx="152280" cy="152640"/>
            <a:chOff x="4343400" y="12953880"/>
            <a:chExt cx="152280" cy="152640"/>
          </a:xfrm>
        </p:grpSpPr>
        <p:sp>
          <p:nvSpPr>
            <p:cNvPr id="148" name=""/>
            <p:cNvSpPr/>
            <p:nvPr/>
          </p:nvSpPr>
          <p:spPr>
            <a:xfrm>
              <a:off x="4381560" y="129920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43400" y="12953880"/>
              <a:ext cx="152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2895480" y="10058400"/>
            <a:ext cx="762120" cy="2895480"/>
          </a:xfrm>
          <a:custGeom>
            <a:avLst/>
            <a:gdLst/>
            <a:ahLst/>
            <a:rect l="l" t="t" r="r" b="b"/>
            <a:pathLst>
              <a:path w="480" h="1824">
                <a:moveTo>
                  <a:pt x="480" y="1824"/>
                </a:moveTo>
                <a:lnTo>
                  <a:pt x="0" y="1824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581280" y="12877920"/>
            <a:ext cx="152640" cy="152280"/>
            <a:chOff x="3581280" y="12877920"/>
            <a:chExt cx="152640" cy="152280"/>
          </a:xfrm>
        </p:grpSpPr>
        <p:sp>
          <p:nvSpPr>
            <p:cNvPr id="152" name=""/>
            <p:cNvSpPr/>
            <p:nvPr/>
          </p:nvSpPr>
          <p:spPr>
            <a:xfrm>
              <a:off x="3619440" y="129160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81280" y="12877920"/>
              <a:ext cx="1526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153360" y="154368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12877920"/>
            <a:ext cx="533520" cy="3809880"/>
          </a:xfrm>
          <a:custGeom>
            <a:avLst/>
            <a:gdLst/>
            <a:ahLst/>
            <a:rect l="l" t="t" r="r" b="b"/>
            <a:pathLst>
              <a:path w="336" h="2400">
                <a:moveTo>
                  <a:pt x="288" y="144"/>
                </a:moveTo>
                <a:lnTo>
                  <a:pt x="288" y="0"/>
                </a:lnTo>
                <a:lnTo>
                  <a:pt x="0" y="0"/>
                </a:lnTo>
                <a:lnTo>
                  <a:pt x="0" y="2400"/>
                </a:lnTo>
                <a:lnTo>
                  <a:pt x="336" y="2400"/>
                </a:lnTo>
                <a:lnTo>
                  <a:pt x="336" y="2256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0" y="12953880"/>
            <a:ext cx="1905120" cy="3810240"/>
          </a:xfrm>
          <a:custGeom>
            <a:avLst/>
            <a:gdLst/>
            <a:ahLst/>
            <a:rect l="l" t="t" r="r" b="b"/>
            <a:pathLst>
              <a:path w="1200" h="2400">
                <a:moveTo>
                  <a:pt x="0" y="96"/>
                </a:moveTo>
                <a:lnTo>
                  <a:pt x="0" y="0"/>
                </a:lnTo>
                <a:lnTo>
                  <a:pt x="1200" y="0"/>
                </a:lnTo>
                <a:lnTo>
                  <a:pt x="1200" y="2400"/>
                </a:lnTo>
                <a:lnTo>
                  <a:pt x="144" y="2400"/>
                </a:lnTo>
                <a:lnTo>
                  <a:pt x="144" y="2208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8120" y="6019920"/>
            <a:ext cx="4419360" cy="10896480"/>
          </a:xfrm>
          <a:custGeom>
            <a:avLst/>
            <a:gdLst/>
            <a:ahLst/>
            <a:rect l="l" t="t" r="r" b="b"/>
            <a:pathLst>
              <a:path w="2784" h="6864">
                <a:moveTo>
                  <a:pt x="816" y="96"/>
                </a:moveTo>
                <a:lnTo>
                  <a:pt x="816" y="0"/>
                </a:lnTo>
                <a:lnTo>
                  <a:pt x="2784" y="0"/>
                </a:lnTo>
                <a:lnTo>
                  <a:pt x="2784" y="6864"/>
                </a:lnTo>
                <a:lnTo>
                  <a:pt x="0" y="6864"/>
                </a:lnTo>
                <a:lnTo>
                  <a:pt x="0" y="6576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8229600"/>
            <a:ext cx="1295280" cy="8610480"/>
          </a:xfrm>
          <a:custGeom>
            <a:avLst/>
            <a:gdLst/>
            <a:ahLst/>
            <a:rect l="l" t="t" r="r" b="b"/>
            <a:pathLst>
              <a:path w="816" h="5424">
                <a:moveTo>
                  <a:pt x="816" y="96"/>
                </a:moveTo>
                <a:lnTo>
                  <a:pt x="816" y="0"/>
                </a:lnTo>
                <a:lnTo>
                  <a:pt x="0" y="0"/>
                </a:lnTo>
                <a:lnTo>
                  <a:pt x="0" y="5424"/>
                </a:lnTo>
                <a:lnTo>
                  <a:pt x="768" y="5424"/>
                </a:lnTo>
                <a:lnTo>
                  <a:pt x="768" y="5184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0T15:11:49Z</dcterms:created>
  <dc:creator>Randal E. Bryant</dc:creator>
  <dc:description/>
  <dc:language>en-US</dc:language>
  <cp:lastModifiedBy>Randal E. Bryant</cp:lastModifiedBy>
  <dcterms:modified xsi:type="dcterms:W3CDTF">2002-05-13T13:03:47Z</dcterms:modified>
  <cp:revision>31</cp:revision>
  <dc:subject/>
  <dc:title>PowerPoint Presentation</dc:title>
</cp:coreProperties>
</file>