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1828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7E8D-C97D-406B-86D0-948295AFA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62576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5283360"/>
            <a:ext cx="777240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11014560"/>
            <a:ext cx="777240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DB82-41AA-47E8-BB26-D11D955E6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62576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5283360"/>
            <a:ext cx="379260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5283360"/>
            <a:ext cx="379260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11014560"/>
            <a:ext cx="379260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11014560"/>
            <a:ext cx="379260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6147-D8BF-425A-AD32-C5B2057D8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62576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5283360"/>
            <a:ext cx="250236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5283360"/>
            <a:ext cx="250236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5283360"/>
            <a:ext cx="250236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11014560"/>
            <a:ext cx="250236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11014560"/>
            <a:ext cx="250236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11014560"/>
            <a:ext cx="250236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F4D3-FEBD-4410-BCF7-217AE1914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62576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5283360"/>
            <a:ext cx="7772400" cy="1097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B852-AF31-4DBA-ABE7-627849914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62576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5283360"/>
            <a:ext cx="7772400" cy="1097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6EA1-13C6-42EB-AD88-62FCF31D1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62576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5283360"/>
            <a:ext cx="3792600" cy="1097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5283360"/>
            <a:ext cx="3792600" cy="1097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1D5B-E8E8-4A58-BA44-D822E30C6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62576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5AD4-3799-41B0-B0E3-E12F6AD6E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625760"/>
            <a:ext cx="7772400" cy="14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046F-213C-48CE-966A-4E1E42F62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62576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5283360"/>
            <a:ext cx="379260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5283360"/>
            <a:ext cx="3792600" cy="1097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11014560"/>
            <a:ext cx="379260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1350-7103-4839-B16F-99D84704E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62576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5283360"/>
            <a:ext cx="3792600" cy="1097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5283360"/>
            <a:ext cx="379260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11014560"/>
            <a:ext cx="379260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0EE1-0F1F-4B06-BA4D-E829E5CF3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62576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5283360"/>
            <a:ext cx="379260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5283360"/>
            <a:ext cx="379260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11014560"/>
            <a:ext cx="777240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CCF3-3E36-4595-B3BD-E442FB725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62576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5283360"/>
            <a:ext cx="7772400" cy="1097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16661880"/>
            <a:ext cx="1905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16661880"/>
            <a:ext cx="28958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16661880"/>
            <a:ext cx="1905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5A54B-6EEF-4164-A3B2-58A2C33A8B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14600" y="14478120"/>
            <a:ext cx="457200" cy="304560"/>
          </a:xfrm>
          <a:custGeom>
            <a:avLst/>
            <a:gdLst/>
            <a:ahLst/>
            <a:rect l="l" t="t" r="r" b="b"/>
            <a:pathLst>
              <a:path w="384" h="192">
                <a:moveTo>
                  <a:pt x="0" y="192"/>
                </a:moveTo>
                <a:lnTo>
                  <a:pt x="192" y="0"/>
                </a:lnTo>
                <a:lnTo>
                  <a:pt x="384" y="192"/>
                </a:lnTo>
                <a:lnTo>
                  <a:pt x="0" y="192"/>
                </a:lnTo>
                <a:close/>
              </a:path>
            </a:pathLst>
          </a:custGeom>
          <a:solidFill>
            <a:srgbClr val="00000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14478120"/>
            <a:ext cx="457200" cy="304560"/>
          </a:xfrm>
          <a:custGeom>
            <a:avLst/>
            <a:gdLst/>
            <a:ahLst/>
            <a:rect l="l" t="t" r="r" b="b"/>
            <a:pathLst>
              <a:path w="384" h="192">
                <a:moveTo>
                  <a:pt x="0" y="192"/>
                </a:moveTo>
                <a:lnTo>
                  <a:pt x="192" y="0"/>
                </a:lnTo>
                <a:lnTo>
                  <a:pt x="384" y="192"/>
                </a:lnTo>
                <a:lnTo>
                  <a:pt x="0" y="192"/>
                </a:lnTo>
                <a:close/>
              </a:path>
            </a:pathLst>
          </a:custGeom>
          <a:solidFill>
            <a:srgbClr val="00000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590920" y="4800600"/>
            <a:ext cx="304560" cy="906768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676520" y="13868280"/>
            <a:ext cx="2057400" cy="6098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886200" y="13868280"/>
            <a:ext cx="914400" cy="6098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505320" y="9296280"/>
            <a:ext cx="533160" cy="3812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4114800" y="9372600"/>
            <a:ext cx="1295280" cy="457200"/>
          </a:xfrm>
          <a:custGeom>
            <a:avLst/>
            <a:gdLst>
              <a:gd name="textAreaLeft" fmla="*/ 284760 w 1295280"/>
              <a:gd name="textAreaRight" fmla="*/ 1010520 w 129528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57600" y="6781680"/>
            <a:ext cx="1066680" cy="685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4038480" y="9448920"/>
            <a:ext cx="355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12000" y="14096880"/>
            <a:ext cx="72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et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11280" y="1203948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11640" y="9448920"/>
            <a:ext cx="95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ec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10560" y="7010280"/>
            <a:ext cx="95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12720" y="5562720"/>
            <a:ext cx="120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rite b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447920" y="13030200"/>
            <a:ext cx="1066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code, ifu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A, r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4495680" y="12099960"/>
            <a:ext cx="1066680" cy="719280"/>
            <a:chOff x="4495680" y="12099960"/>
            <a:chExt cx="1066680" cy="719280"/>
          </a:xfrm>
        </p:grpSpPr>
        <p:sp>
          <p:nvSpPr>
            <p:cNvPr id="57" name=""/>
            <p:cNvSpPr/>
            <p:nvPr/>
          </p:nvSpPr>
          <p:spPr>
            <a:xfrm>
              <a:off x="4495680" y="12115800"/>
              <a:ext cx="990360" cy="6858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gist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i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647960" y="12099960"/>
              <a:ext cx="304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028840" y="12099960"/>
              <a:ext cx="304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257440" y="12192120"/>
              <a:ext cx="304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257440" y="12573000"/>
              <a:ext cx="304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2362320" y="15239880"/>
            <a:ext cx="7617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895480" y="9448920"/>
            <a:ext cx="60984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267080" y="13335120"/>
            <a:ext cx="152640" cy="53316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rot="16200000">
            <a:off x="3657600" y="12724920"/>
            <a:ext cx="152280" cy="137160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rot="16200000">
            <a:off x="2819160" y="13258440"/>
            <a:ext cx="457200" cy="304920"/>
          </a:xfrm>
          <a:custGeom>
            <a:avLst/>
            <a:gdLst/>
            <a:ahLst/>
            <a:rect l="l" t="t" r="r" b="b"/>
            <a:pathLst>
              <a:path w="384" h="192">
                <a:moveTo>
                  <a:pt x="0" y="192"/>
                </a:moveTo>
                <a:lnTo>
                  <a:pt x="192" y="0"/>
                </a:lnTo>
                <a:lnTo>
                  <a:pt x="384" y="192"/>
                </a:lnTo>
                <a:lnTo>
                  <a:pt x="0" y="192"/>
                </a:lnTo>
                <a:close/>
              </a:path>
            </a:pathLst>
          </a:custGeom>
          <a:solidFill>
            <a:srgbClr val="00000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200400" y="1303020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 rot="5400000">
            <a:off x="3504960" y="11810520"/>
            <a:ext cx="152280" cy="137160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 rot="5400000">
            <a:off x="4114800" y="12344400"/>
            <a:ext cx="457200" cy="304560"/>
          </a:xfrm>
          <a:custGeom>
            <a:avLst/>
            <a:gdLst/>
            <a:ahLst/>
            <a:rect l="l" t="t" r="r" b="b"/>
            <a:pathLst>
              <a:path w="384" h="192">
                <a:moveTo>
                  <a:pt x="0" y="192"/>
                </a:moveTo>
                <a:lnTo>
                  <a:pt x="192" y="0"/>
                </a:lnTo>
                <a:lnTo>
                  <a:pt x="384" y="192"/>
                </a:lnTo>
                <a:lnTo>
                  <a:pt x="0" y="192"/>
                </a:lnTo>
                <a:close/>
              </a:path>
            </a:pathLst>
          </a:custGeom>
          <a:solidFill>
            <a:srgbClr val="00000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971800" y="11887200"/>
            <a:ext cx="1066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rcA, src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stA, dst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876920" y="11506320"/>
            <a:ext cx="152280" cy="60948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rot="16200000">
            <a:off x="4038480" y="10667520"/>
            <a:ext cx="152280" cy="182880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6200000">
            <a:off x="2819160" y="11429640"/>
            <a:ext cx="457200" cy="304920"/>
          </a:xfrm>
          <a:custGeom>
            <a:avLst/>
            <a:gdLst/>
            <a:ahLst/>
            <a:rect l="l" t="t" r="r" b="b"/>
            <a:pathLst>
              <a:path w="384" h="192">
                <a:moveTo>
                  <a:pt x="0" y="192"/>
                </a:moveTo>
                <a:lnTo>
                  <a:pt x="192" y="0"/>
                </a:lnTo>
                <a:lnTo>
                  <a:pt x="384" y="192"/>
                </a:lnTo>
                <a:lnTo>
                  <a:pt x="0" y="192"/>
                </a:lnTo>
                <a:close/>
              </a:path>
            </a:pathLst>
          </a:custGeom>
          <a:solidFill>
            <a:srgbClr val="00000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809880" y="1112508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A, val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5400000">
            <a:off x="3771720" y="9410400"/>
            <a:ext cx="152280" cy="190512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648320" y="10134720"/>
            <a:ext cx="152280" cy="30456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495680" y="9829800"/>
            <a:ext cx="457200" cy="304920"/>
          </a:xfrm>
          <a:custGeom>
            <a:avLst/>
            <a:gdLst/>
            <a:ahLst/>
            <a:rect l="l" t="t" r="r" b="b"/>
            <a:pathLst>
              <a:path w="384" h="192">
                <a:moveTo>
                  <a:pt x="0" y="192"/>
                </a:moveTo>
                <a:lnTo>
                  <a:pt x="192" y="0"/>
                </a:lnTo>
                <a:lnTo>
                  <a:pt x="384" y="192"/>
                </a:lnTo>
                <a:lnTo>
                  <a:pt x="0" y="192"/>
                </a:lnTo>
                <a:close/>
              </a:path>
            </a:pathLst>
          </a:custGeom>
          <a:solidFill>
            <a:srgbClr val="00000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971800" y="990612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uA, alu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952488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648320" y="8839080"/>
            <a:ext cx="152280" cy="53352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6200000">
            <a:off x="3885840" y="8076960"/>
            <a:ext cx="152640" cy="167652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rot="16200000">
            <a:off x="2819160" y="8762760"/>
            <a:ext cx="457200" cy="304920"/>
          </a:xfrm>
          <a:custGeom>
            <a:avLst/>
            <a:gdLst/>
            <a:ahLst/>
            <a:rect l="l" t="t" r="r" b="b"/>
            <a:pathLst>
              <a:path w="384" h="192">
                <a:moveTo>
                  <a:pt x="0" y="192"/>
                </a:moveTo>
                <a:lnTo>
                  <a:pt x="192" y="0"/>
                </a:lnTo>
                <a:lnTo>
                  <a:pt x="384" y="192"/>
                </a:lnTo>
                <a:lnTo>
                  <a:pt x="0" y="192"/>
                </a:lnTo>
                <a:close/>
              </a:path>
            </a:pathLst>
          </a:custGeom>
          <a:solidFill>
            <a:srgbClr val="00000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581280" y="845820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rot="16200000">
            <a:off x="6134040" y="12077280"/>
            <a:ext cx="152280" cy="83808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rot="16200000">
            <a:off x="5410080" y="12344040"/>
            <a:ext cx="457200" cy="304920"/>
          </a:xfrm>
          <a:custGeom>
            <a:avLst/>
            <a:gdLst/>
            <a:ahLst/>
            <a:rect l="l" t="t" r="r" b="b"/>
            <a:pathLst>
              <a:path w="384" h="192">
                <a:moveTo>
                  <a:pt x="0" y="192"/>
                </a:moveTo>
                <a:lnTo>
                  <a:pt x="192" y="0"/>
                </a:lnTo>
                <a:lnTo>
                  <a:pt x="384" y="192"/>
                </a:lnTo>
                <a:lnTo>
                  <a:pt x="0" y="192"/>
                </a:lnTo>
                <a:close/>
              </a:path>
            </a:pathLst>
          </a:custGeom>
          <a:solidFill>
            <a:srgbClr val="00000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324480" y="5791320"/>
            <a:ext cx="304920" cy="678168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rot="16200000">
            <a:off x="4457880" y="3695760"/>
            <a:ext cx="304560" cy="403848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rot="16200000">
            <a:off x="4876920" y="13944240"/>
            <a:ext cx="152280" cy="441972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666880" y="15925680"/>
            <a:ext cx="152640" cy="30492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514600" y="15621120"/>
            <a:ext cx="457200" cy="304560"/>
          </a:xfrm>
          <a:custGeom>
            <a:avLst/>
            <a:gdLst/>
            <a:ahLst/>
            <a:rect l="l" t="t" r="r" b="b"/>
            <a:pathLst>
              <a:path w="384" h="192">
                <a:moveTo>
                  <a:pt x="0" y="192"/>
                </a:moveTo>
                <a:lnTo>
                  <a:pt x="192" y="0"/>
                </a:lnTo>
                <a:lnTo>
                  <a:pt x="384" y="192"/>
                </a:lnTo>
                <a:lnTo>
                  <a:pt x="0" y="192"/>
                </a:lnTo>
                <a:close/>
              </a:path>
            </a:pathLst>
          </a:custGeom>
          <a:solidFill>
            <a:srgbClr val="00000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rot="5400000">
            <a:off x="3543120" y="7353000"/>
            <a:ext cx="152280" cy="144792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191120" y="7772400"/>
            <a:ext cx="152280" cy="30492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038480" y="7467480"/>
            <a:ext cx="457200" cy="304920"/>
          </a:xfrm>
          <a:custGeom>
            <a:avLst/>
            <a:gdLst/>
            <a:ahLst/>
            <a:rect l="l" t="t" r="r" b="b"/>
            <a:pathLst>
              <a:path w="384" h="192">
                <a:moveTo>
                  <a:pt x="0" y="192"/>
                </a:moveTo>
                <a:lnTo>
                  <a:pt x="192" y="0"/>
                </a:lnTo>
                <a:lnTo>
                  <a:pt x="384" y="192"/>
                </a:lnTo>
                <a:lnTo>
                  <a:pt x="0" y="192"/>
                </a:lnTo>
                <a:close/>
              </a:path>
            </a:pathLst>
          </a:custGeom>
          <a:solidFill>
            <a:srgbClr val="00000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5480" y="762012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,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91120" y="6248520"/>
            <a:ext cx="152280" cy="53316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rot="16200000">
            <a:off x="3695760" y="5752800"/>
            <a:ext cx="152280" cy="114300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6200000">
            <a:off x="2819160" y="6171840"/>
            <a:ext cx="457200" cy="304920"/>
          </a:xfrm>
          <a:custGeom>
            <a:avLst/>
            <a:gdLst/>
            <a:ahLst/>
            <a:rect l="l" t="t" r="r" b="b"/>
            <a:pathLst>
              <a:path w="384" h="192">
                <a:moveTo>
                  <a:pt x="0" y="192"/>
                </a:moveTo>
                <a:lnTo>
                  <a:pt x="192" y="0"/>
                </a:lnTo>
                <a:lnTo>
                  <a:pt x="384" y="192"/>
                </a:lnTo>
                <a:lnTo>
                  <a:pt x="0" y="192"/>
                </a:lnTo>
                <a:close/>
              </a:path>
            </a:pathLst>
          </a:custGeom>
          <a:solidFill>
            <a:srgbClr val="00000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124080" y="586728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10280" y="4800600"/>
            <a:ext cx="152640" cy="1143000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2286000" y="7086600"/>
            <a:ext cx="914400" cy="304920"/>
            <a:chOff x="2286000" y="7086600"/>
            <a:chExt cx="914400" cy="304920"/>
          </a:xfrm>
        </p:grpSpPr>
        <p:sp>
          <p:nvSpPr>
            <p:cNvPr id="101" name=""/>
            <p:cNvSpPr/>
            <p:nvPr/>
          </p:nvSpPr>
          <p:spPr>
            <a:xfrm>
              <a:off x="2286000" y="7086600"/>
              <a:ext cx="609480" cy="304920"/>
            </a:xfrm>
            <a:custGeom>
              <a:avLst/>
              <a:gdLst/>
              <a:ahLst/>
              <a:rect l="l" t="t" r="r" b="b"/>
              <a:pathLst>
                <a:path w="384" h="192">
                  <a:moveTo>
                    <a:pt x="0" y="192"/>
                  </a:moveTo>
                  <a:lnTo>
                    <a:pt x="192" y="0"/>
                  </a:lnTo>
                  <a:lnTo>
                    <a:pt x="384" y="192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590920" y="7086600"/>
              <a:ext cx="609480" cy="304920"/>
            </a:xfrm>
            <a:custGeom>
              <a:avLst/>
              <a:gdLst/>
              <a:ahLst/>
              <a:rect l="l" t="t" r="r" b="b"/>
              <a:pathLst>
                <a:path w="384" h="192">
                  <a:moveTo>
                    <a:pt x="0" y="192"/>
                  </a:moveTo>
                  <a:lnTo>
                    <a:pt x="192" y="0"/>
                  </a:lnTo>
                  <a:lnTo>
                    <a:pt x="384" y="192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6019920" y="8534520"/>
            <a:ext cx="914400" cy="304560"/>
            <a:chOff x="6019920" y="8534520"/>
            <a:chExt cx="914400" cy="304560"/>
          </a:xfrm>
        </p:grpSpPr>
        <p:sp>
          <p:nvSpPr>
            <p:cNvPr id="104" name=""/>
            <p:cNvSpPr/>
            <p:nvPr/>
          </p:nvSpPr>
          <p:spPr>
            <a:xfrm flipV="1">
              <a:off x="6019920" y="8534520"/>
              <a:ext cx="609480" cy="304560"/>
            </a:xfrm>
            <a:custGeom>
              <a:avLst/>
              <a:gdLst/>
              <a:ahLst/>
              <a:rect l="l" t="t" r="r" b="b"/>
              <a:pathLst>
                <a:path w="384" h="192">
                  <a:moveTo>
                    <a:pt x="0" y="192"/>
                  </a:moveTo>
                  <a:lnTo>
                    <a:pt x="192" y="0"/>
                  </a:lnTo>
                  <a:lnTo>
                    <a:pt x="384" y="192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6324840" y="8534520"/>
              <a:ext cx="609480" cy="304560"/>
            </a:xfrm>
            <a:custGeom>
              <a:avLst/>
              <a:gdLst/>
              <a:ahLst/>
              <a:rect l="l" t="t" r="r" b="b"/>
              <a:pathLst>
                <a:path w="384" h="192">
                  <a:moveTo>
                    <a:pt x="0" y="192"/>
                  </a:moveTo>
                  <a:lnTo>
                    <a:pt x="192" y="0"/>
                  </a:lnTo>
                  <a:lnTo>
                    <a:pt x="384" y="192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2666880" y="14782680"/>
            <a:ext cx="152640" cy="45720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5400000">
            <a:off x="3542760" y="14287320"/>
            <a:ext cx="152640" cy="160020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267080" y="14782680"/>
            <a:ext cx="152640" cy="38124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10560" y="46483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895480" y="5257800"/>
            <a:ext cx="266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E, val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6200000">
            <a:off x="4800600" y="2590200"/>
            <a:ext cx="152280" cy="457200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rot="10800000">
            <a:off x="6781680" y="10667520"/>
            <a:ext cx="457200" cy="304920"/>
          </a:xfrm>
          <a:custGeom>
            <a:avLst/>
            <a:gdLst/>
            <a:ahLst/>
            <a:rect l="l" t="t" r="r" b="b"/>
            <a:pathLst>
              <a:path w="384" h="192">
                <a:moveTo>
                  <a:pt x="0" y="192"/>
                </a:moveTo>
                <a:lnTo>
                  <a:pt x="192" y="0"/>
                </a:lnTo>
                <a:lnTo>
                  <a:pt x="384" y="192"/>
                </a:lnTo>
                <a:lnTo>
                  <a:pt x="0" y="192"/>
                </a:lnTo>
                <a:close/>
              </a:path>
            </a:pathLst>
          </a:custGeom>
          <a:solidFill>
            <a:srgbClr val="00000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6934320" y="10667520"/>
            <a:ext cx="457200" cy="304920"/>
          </a:xfrm>
          <a:custGeom>
            <a:avLst/>
            <a:gdLst/>
            <a:ahLst/>
            <a:rect l="l" t="t" r="r" b="b"/>
            <a:pathLst>
              <a:path w="384" h="192">
                <a:moveTo>
                  <a:pt x="0" y="192"/>
                </a:moveTo>
                <a:lnTo>
                  <a:pt x="192" y="0"/>
                </a:lnTo>
                <a:lnTo>
                  <a:pt x="384" y="192"/>
                </a:lnTo>
                <a:lnTo>
                  <a:pt x="0" y="192"/>
                </a:lnTo>
                <a:close/>
              </a:path>
            </a:pathLst>
          </a:custGeom>
          <a:solidFill>
            <a:srgbClr val="00000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895480" y="4495680"/>
            <a:ext cx="266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20T15:11:49Z</dcterms:created>
  <dc:creator>Randal E. Bryant</dc:creator>
  <dc:description/>
  <dc:language>en-US</dc:language>
  <cp:lastModifiedBy>Randal E. Bryant</cp:lastModifiedBy>
  <dcterms:modified xsi:type="dcterms:W3CDTF">2002-03-08T03:45:55Z</dcterms:modified>
  <cp:revision>40</cp:revision>
  <dc:subject/>
  <dc:title>PowerPoint Presentation</dc:title>
</cp:coreProperties>
</file>