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B97-884E-43CA-AE73-0F481EBE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70D-677D-4994-9DDD-32773C3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219-6006-409D-B920-19175AD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74E-30F5-4088-97E1-B0232BC9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444-C6DF-4CDF-A093-47666D6E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5B9-34A1-447B-857B-A4DFE03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962-42FD-434A-A3FB-9E91E19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600-AB71-4108-A457-AE3A9D3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735-DDC3-4137-AA3E-16EF13C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895-41AA-4A0A-89CA-1F5EC31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971-4D72-40E3-AC4F-5B1582A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EEC-A957-4521-81DD-A1AB921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FEB-6978-4474-BCE4-10777C45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98108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95480" y="228528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7432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1360" y="25844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980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980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440" y="1371600"/>
            <a:ext cx="291960" cy="609120"/>
            <a:chOff x="1828440" y="1371600"/>
            <a:chExt cx="291960" cy="609120"/>
          </a:xfrm>
        </p:grpSpPr>
        <p:sp>
          <p:nvSpPr>
            <p:cNvPr id="48" name=""/>
            <p:cNvSpPr/>
            <p:nvPr/>
          </p:nvSpPr>
          <p:spPr>
            <a:xfrm flipH="1">
              <a:off x="1980720" y="1830240"/>
              <a:ext cx="108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1823760" y="1528200"/>
              <a:ext cx="30096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1823760" y="1528200"/>
              <a:ext cx="30096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1937160" y="1830960"/>
              <a:ext cx="77400" cy="75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1937160" y="1830960"/>
              <a:ext cx="77400" cy="75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969560" y="1371600"/>
              <a:ext cx="108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213372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4382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4560" y="20574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4560" y="20574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5760" y="220968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114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743200"/>
            <a:ext cx="6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0481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4560" y="26668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26668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5760" y="28638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371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981080"/>
            <a:ext cx="152640" cy="15264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4382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35046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96252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1360" y="3803760"/>
            <a:ext cx="39204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9800" y="35812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9800" y="35812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3526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65760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4560" y="3276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4560" y="3276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5760" y="34290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962520"/>
            <a:ext cx="6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4560" y="38862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4560" y="38862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760" y="408312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200400"/>
            <a:ext cx="15264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57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638680"/>
            <a:ext cx="281952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95480" y="594288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40080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1360" y="62420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9800" y="60199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9800" y="60199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79132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0958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4560" y="57150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4560" y="571500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400" y="586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64008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67057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4560" y="63244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560" y="63244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521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133720"/>
            <a:ext cx="228600" cy="3657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095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371600"/>
            <a:ext cx="533520" cy="50292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05120" y="2057400"/>
            <a:ext cx="152280" cy="152280"/>
            <a:chOff x="1905120" y="2057400"/>
            <a:chExt cx="152280" cy="152280"/>
          </a:xfrm>
        </p:grpSpPr>
        <p:sp>
          <p:nvSpPr>
            <p:cNvPr id="106" name=""/>
            <p:cNvSpPr/>
            <p:nvPr/>
          </p:nvSpPr>
          <p:spPr>
            <a:xfrm>
              <a:off x="1943280" y="2095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0574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05120" y="3276720"/>
            <a:ext cx="152280" cy="152280"/>
            <a:chOff x="1905120" y="3276720"/>
            <a:chExt cx="152280" cy="152280"/>
          </a:xfrm>
        </p:grpSpPr>
        <p:sp>
          <p:nvSpPr>
            <p:cNvPr id="109" name=""/>
            <p:cNvSpPr/>
            <p:nvPr/>
          </p:nvSpPr>
          <p:spPr>
            <a:xfrm>
              <a:off x="1943280" y="33148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512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3880" y="2666880"/>
            <a:ext cx="152640" cy="152640"/>
            <a:chOff x="1523880" y="2666880"/>
            <a:chExt cx="152640" cy="152640"/>
          </a:xfrm>
        </p:grpSpPr>
        <p:sp>
          <p:nvSpPr>
            <p:cNvPr id="112" name=""/>
            <p:cNvSpPr/>
            <p:nvPr/>
          </p:nvSpPr>
          <p:spPr>
            <a:xfrm>
              <a:off x="1562040" y="270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26668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3886200"/>
            <a:ext cx="152640" cy="152280"/>
            <a:chOff x="1523880" y="3886200"/>
            <a:chExt cx="152640" cy="152280"/>
          </a:xfrm>
        </p:grpSpPr>
        <p:sp>
          <p:nvSpPr>
            <p:cNvPr id="115" name=""/>
            <p:cNvSpPr/>
            <p:nvPr/>
          </p:nvSpPr>
          <p:spPr>
            <a:xfrm>
              <a:off x="1562040" y="3924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38862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14600" y="4724280"/>
            <a:ext cx="152280" cy="609840"/>
            <a:chOff x="2514600" y="4724280"/>
            <a:chExt cx="152280" cy="609840"/>
          </a:xfrm>
        </p:grpSpPr>
        <p:grpSp>
          <p:nvGrpSpPr>
            <p:cNvPr id="118" name=""/>
            <p:cNvGrpSpPr/>
            <p:nvPr/>
          </p:nvGrpSpPr>
          <p:grpSpPr>
            <a:xfrm>
              <a:off x="2514600" y="4724280"/>
              <a:ext cx="152280" cy="152640"/>
              <a:chOff x="2514600" y="4724280"/>
              <a:chExt cx="152280" cy="152640"/>
            </a:xfrm>
          </p:grpSpPr>
          <p:sp>
            <p:nvSpPr>
              <p:cNvPr id="119" name=""/>
              <p:cNvSpPr/>
              <p:nvPr/>
            </p:nvSpPr>
            <p:spPr>
              <a:xfrm>
                <a:off x="2552760" y="4762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14600" y="47242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4952880"/>
              <a:ext cx="152280" cy="152640"/>
              <a:chOff x="2514600" y="4952880"/>
              <a:chExt cx="152280" cy="1526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52760" y="4991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49528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514600" y="5181480"/>
              <a:ext cx="152280" cy="152640"/>
              <a:chOff x="2514600" y="5181480"/>
              <a:chExt cx="152280" cy="1526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52760" y="5219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4600" y="51814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5867280" y="3962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343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3800" y="377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380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1760" y="3946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9480" y="4648320"/>
            <a:ext cx="152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ut =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 :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: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380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0800" y="8524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Bit-leve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360" y="85248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Word-leve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3880" y="1295280"/>
            <a:ext cx="152640" cy="152640"/>
            <a:chOff x="1523880" y="1295280"/>
            <a:chExt cx="152640" cy="152640"/>
          </a:xfrm>
        </p:grpSpPr>
        <p:sp>
          <p:nvSpPr>
            <p:cNvPr id="138" name=""/>
            <p:cNvSpPr/>
            <p:nvPr/>
          </p:nvSpPr>
          <p:spPr>
            <a:xfrm>
              <a:off x="1562040" y="13334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12952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867280" y="35053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432" y="144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695760"/>
            <a:ext cx="671400" cy="838080"/>
          </a:xfrm>
          <a:custGeom>
            <a:avLst/>
            <a:gdLst>
              <a:gd name="textAreaLeft" fmla="*/ 32760 w 671400"/>
              <a:gd name="textAreaRight" fmla="*/ 638640 w 67140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26959">
                <a:moveTo>
                  <a:pt x="3600" y="0"/>
                </a:moveTo>
                <a:arcTo wR="3600" hR="3600" stAng="16200000" swAng="-5400000"/>
                <a:lnTo>
                  <a:pt x="0" y="23359"/>
                </a:lnTo>
                <a:arcTo wR="3600" hR="3600" stAng="10800000" swAng="-5400000"/>
                <a:lnTo>
                  <a:pt x="18000" y="26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4:05:09Z</dcterms:modified>
  <cp:revision>5</cp:revision>
  <dc:subject/>
  <dc:title>PowerPoint Presentation</dc:title>
</cp:coreProperties>
</file>