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374-05B1-4CAA-A52A-AAFB17F8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6B1-5E03-4C2C-80B1-17231265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C4F-1622-4EAB-8F37-98271ED5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3C7-550F-4F61-94D1-3B13726A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787-63D8-4B63-9B48-716DD9B6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3A1-95C3-47F5-80A8-CD5267D1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DB1-6582-4183-9235-E8E9051E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BED-1DEF-486F-9607-228CAB89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311-42D2-4B06-B458-8B657E27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A00-8CFD-4D52-9923-C3761B4A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384-113F-43E1-A5E2-D2718B8E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4CD-554E-400F-9465-BE59A515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B1D8-1118-4861-A7C8-FFE5CD080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62320" y="2057400"/>
            <a:ext cx="1676160" cy="914400"/>
            <a:chOff x="2362320" y="2057400"/>
            <a:chExt cx="1676160" cy="914400"/>
          </a:xfrm>
        </p:grpSpPr>
        <p:sp>
          <p:nvSpPr>
            <p:cNvPr id="42" name=""/>
            <p:cNvSpPr/>
            <p:nvPr/>
          </p:nvSpPr>
          <p:spPr>
            <a:xfrm>
              <a:off x="2362320" y="20574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2320" y="22860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c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62320" y="25146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7432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00400" y="20574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2860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25146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00400" y="27432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62320" y="2057400"/>
              <a:ext cx="167616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362320" y="17827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343400" y="2255760"/>
            <a:ext cx="685800" cy="228600"/>
            <a:chOff x="4343400" y="2255760"/>
            <a:chExt cx="685800" cy="228600"/>
          </a:xfrm>
        </p:grpSpPr>
        <p:sp>
          <p:nvSpPr>
            <p:cNvPr id="53" name=""/>
            <p:cNvSpPr/>
            <p:nvPr/>
          </p:nvSpPr>
          <p:spPr>
            <a:xfrm>
              <a:off x="4343400" y="225576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Z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72000" y="225576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225576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255760"/>
              <a:ext cx="6858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267080" y="18288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7432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24685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057400"/>
            <a:ext cx="167616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17827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21:13:07Z</dcterms:created>
  <dc:creator>Randal E. Bryant</dc:creator>
  <dc:description/>
  <dc:language>en-US</dc:language>
  <cp:lastModifiedBy>Randal E. Bryant</cp:lastModifiedBy>
  <dcterms:modified xsi:type="dcterms:W3CDTF">2002-07-02T17:51:15Z</dcterms:modified>
  <cp:revision>2</cp:revision>
  <dc:subject/>
  <dc:title>PowerPoint Presentation</dc:title>
</cp:coreProperties>
</file>