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1828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FA7D-0304-4C27-B69B-9C8D50954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110145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9DF7-48E7-4A88-9FA2-B02DBC22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21FC-F836-49D8-9104-D2DDCDBBA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E3B6-7B1E-42A8-AA5C-5D077E9EC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42A4-CC3A-4500-BA69-6F1EB4C7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81A3-75DA-426F-B549-80E5F140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2B8D-F033-412D-BFD3-7C7563F7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028E-E9D0-4B4B-A2EA-C66C60C4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25760"/>
            <a:ext cx="7772400" cy="14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DD70-2EC3-4A1D-8EA9-B778B6CB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A327-7093-4300-A172-011693CB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D21C-AA39-400E-B282-1BB028BC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3580-7581-43BB-9892-5CF8DCB3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16661880"/>
            <a:ext cx="1905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16661880"/>
            <a:ext cx="28958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16661880"/>
            <a:ext cx="1905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7BDB-C1A8-49DB-8527-4B9BE0683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4952880"/>
            <a:ext cx="2819520" cy="5335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09680" y="5791320"/>
            <a:ext cx="45720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5791320"/>
            <a:ext cx="45720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4267080" y="54860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5791320"/>
            <a:ext cx="45720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5791320"/>
            <a:ext cx="45720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5791320"/>
            <a:ext cx="45720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38280" y="5486040"/>
            <a:ext cx="0" cy="30492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3124080" y="4648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657600" y="54860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048120" y="54860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828800" y="54860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4267080"/>
            <a:ext cx="457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0T15:11:49Z</dcterms:created>
  <dc:creator>Randal E. Bryant</dc:creator>
  <dc:description/>
  <dc:language>en-US</dc:language>
  <cp:lastModifiedBy>Randal E. Bryant</cp:lastModifiedBy>
  <dcterms:modified xsi:type="dcterms:W3CDTF">2002-05-13T12:46:19Z</dcterms:modified>
  <cp:revision>30</cp:revision>
  <dc:subject/>
  <dc:title>PowerPoint Presentation</dc:title>
</cp:coreProperties>
</file>