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46E-CF58-4D29-9E06-1F9C1EFE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0D6-2F1D-451E-B90E-14C3AD19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7AD-6051-4FF6-BF72-A5061490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4FA-2318-4176-8B77-9D61D044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591-5550-4EAC-AD50-B53BBB3C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D80-A82E-498F-997C-776E4590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0D9-4CE1-4AC8-97DD-CF0FD253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63A-24A0-436E-9790-D1CD038C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866-8E3B-4290-AFD7-7521D3ED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F4C-CEEB-4CF2-8F15-6E675F10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CFF-0F8A-44DB-AD87-471B613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2BB-F31A-4482-8A79-93B492FD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E8EF-AF39-44D0-B9F7-7EE392EE9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343400"/>
            <a:ext cx="1600200" cy="304812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3048120"/>
              <a:gd name="textAreaBottom" fmla="*/ 2970000 h 3048120"/>
            </a:gdLst>
            <a:ahLst/>
            <a:rect l="textAreaLeft" t="textAreaTop" r="textAreaRight" b="textAreaBottom"/>
            <a:pathLst>
              <a:path w="21600" h="41140">
                <a:moveTo>
                  <a:pt x="3600" y="0"/>
                </a:moveTo>
                <a:arcTo wR="3600" hR="3600" stAng="16200000" swAng="-5400000"/>
                <a:lnTo>
                  <a:pt x="0" y="37540"/>
                </a:lnTo>
                <a:arcTo wR="3600" hR="3600" stAng="10800000" swAng="-5400000"/>
                <a:lnTo>
                  <a:pt x="18000" y="4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410080"/>
            <a:ext cx="9907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5400000">
            <a:off x="3656160" y="632196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678168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208960" y="640080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33412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208960" y="495288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rot="5400000">
            <a:off x="1218960" y="609552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rot="5400000">
            <a:off x="1218960" y="540972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5400000">
            <a:off x="1294560" y="7391160"/>
            <a:ext cx="30456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572000"/>
            <a:ext cx="2209680" cy="3505320"/>
          </a:xfrm>
          <a:custGeom>
            <a:avLst/>
            <a:gdLst/>
            <a:ahLst/>
            <a:rect l="l" t="t" r="r" b="b"/>
            <a:pathLst>
              <a:path w="1392" h="2208">
                <a:moveTo>
                  <a:pt x="240" y="0"/>
                </a:moveTo>
                <a:lnTo>
                  <a:pt x="1392" y="0"/>
                </a:lnTo>
                <a:lnTo>
                  <a:pt x="1392" y="2160"/>
                </a:lnTo>
                <a:lnTo>
                  <a:pt x="144" y="2160"/>
                </a:lnTo>
                <a:lnTo>
                  <a:pt x="144" y="2208"/>
                </a:lnTo>
                <a:lnTo>
                  <a:pt x="0" y="2112"/>
                </a:lnTo>
                <a:lnTo>
                  <a:pt x="144" y="2016"/>
                </a:lnTo>
                <a:lnTo>
                  <a:pt x="144" y="2064"/>
                </a:lnTo>
                <a:lnTo>
                  <a:pt x="1296" y="2064"/>
                </a:lnTo>
                <a:lnTo>
                  <a:pt x="1296" y="1440"/>
                </a:lnTo>
                <a:lnTo>
                  <a:pt x="1200" y="1440"/>
                </a:lnTo>
                <a:lnTo>
                  <a:pt x="1200" y="1488"/>
                </a:lnTo>
                <a:lnTo>
                  <a:pt x="1056" y="1392"/>
                </a:lnTo>
                <a:lnTo>
                  <a:pt x="1200" y="1296"/>
                </a:lnTo>
                <a:lnTo>
                  <a:pt x="1200" y="1344"/>
                </a:lnTo>
                <a:lnTo>
                  <a:pt x="1296" y="1344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28"/>
                </a:lnTo>
                <a:lnTo>
                  <a:pt x="1104" y="432"/>
                </a:lnTo>
                <a:lnTo>
                  <a:pt x="1248" y="336"/>
                </a:lnTo>
                <a:lnTo>
                  <a:pt x="1248" y="384"/>
                </a:lnTo>
                <a:lnTo>
                  <a:pt x="1296" y="384"/>
                </a:lnTo>
                <a:lnTo>
                  <a:pt x="1296" y="96"/>
                </a:lnTo>
                <a:lnTo>
                  <a:pt x="240" y="96"/>
                </a:lnTo>
                <a:lnTo>
                  <a:pt x="24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4952880"/>
            <a:ext cx="10666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6416640"/>
            <a:ext cx="9907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%ebx = 0x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7696080"/>
            <a:ext cx="76212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x0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715000"/>
            <a:ext cx="60984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1480" y="6019920"/>
            <a:ext cx="48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33680" y="6019920"/>
            <a:ext cx="47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8763120"/>
            <a:ext cx="1600200" cy="304776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3047760"/>
              <a:gd name="textAreaBottom" fmla="*/ 2969640 h 3047760"/>
            </a:gdLst>
            <a:ahLst/>
            <a:rect l="textAreaLeft" t="textAreaTop" r="textAreaRight" b="textAreaBottom"/>
            <a:pathLst>
              <a:path w="21600" h="41135">
                <a:moveTo>
                  <a:pt x="3600" y="0"/>
                </a:moveTo>
                <a:arcTo wR="3600" hR="3600" stAng="16200000" swAng="-5400000"/>
                <a:lnTo>
                  <a:pt x="0" y="37535"/>
                </a:lnTo>
                <a:arcTo wR="3600" hR="3600" stAng="10800000" swAng="-5400000"/>
                <a:lnTo>
                  <a:pt x="18000" y="411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9829800"/>
            <a:ext cx="9907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5400000">
            <a:off x="3656160" y="1074168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120140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08960" y="1082052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975348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08960" y="937260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rot="5400000">
            <a:off x="1218960" y="1051524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rot="5400000">
            <a:off x="1218960" y="982944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1294560" y="1181052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8991720"/>
            <a:ext cx="2209680" cy="3504960"/>
          </a:xfrm>
          <a:custGeom>
            <a:avLst/>
            <a:gdLst/>
            <a:ahLst/>
            <a:rect l="l" t="t" r="r" b="b"/>
            <a:pathLst>
              <a:path w="1392" h="2208">
                <a:moveTo>
                  <a:pt x="240" y="0"/>
                </a:moveTo>
                <a:lnTo>
                  <a:pt x="1392" y="0"/>
                </a:lnTo>
                <a:lnTo>
                  <a:pt x="1392" y="2160"/>
                </a:lnTo>
                <a:lnTo>
                  <a:pt x="144" y="2160"/>
                </a:lnTo>
                <a:lnTo>
                  <a:pt x="144" y="2208"/>
                </a:lnTo>
                <a:lnTo>
                  <a:pt x="0" y="2112"/>
                </a:lnTo>
                <a:lnTo>
                  <a:pt x="144" y="2016"/>
                </a:lnTo>
                <a:lnTo>
                  <a:pt x="144" y="2064"/>
                </a:lnTo>
                <a:lnTo>
                  <a:pt x="1296" y="2064"/>
                </a:lnTo>
                <a:lnTo>
                  <a:pt x="1296" y="1440"/>
                </a:lnTo>
                <a:lnTo>
                  <a:pt x="1200" y="1440"/>
                </a:lnTo>
                <a:lnTo>
                  <a:pt x="1200" y="1488"/>
                </a:lnTo>
                <a:lnTo>
                  <a:pt x="1056" y="1392"/>
                </a:lnTo>
                <a:lnTo>
                  <a:pt x="1200" y="1296"/>
                </a:lnTo>
                <a:lnTo>
                  <a:pt x="1200" y="1344"/>
                </a:lnTo>
                <a:lnTo>
                  <a:pt x="1296" y="1344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28"/>
                </a:lnTo>
                <a:lnTo>
                  <a:pt x="1104" y="432"/>
                </a:lnTo>
                <a:lnTo>
                  <a:pt x="1248" y="336"/>
                </a:lnTo>
                <a:lnTo>
                  <a:pt x="1248" y="384"/>
                </a:lnTo>
                <a:lnTo>
                  <a:pt x="1296" y="384"/>
                </a:lnTo>
                <a:lnTo>
                  <a:pt x="1296" y="96"/>
                </a:lnTo>
                <a:lnTo>
                  <a:pt x="240" y="96"/>
                </a:lnTo>
                <a:lnTo>
                  <a:pt x="24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9372600"/>
            <a:ext cx="10666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10836360"/>
            <a:ext cx="99072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%ebx = 0x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2115800"/>
            <a:ext cx="76212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x0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0134720"/>
            <a:ext cx="60984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1480" y="10439280"/>
            <a:ext cx="48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3680" y="10439280"/>
            <a:ext cx="47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640" y="391176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of cyc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2160" y="39117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cyc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7120" y="833112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of cyc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800600" y="8763120"/>
            <a:ext cx="3429000" cy="3733200"/>
            <a:chOff x="4800600" y="8763120"/>
            <a:chExt cx="3429000" cy="3733200"/>
          </a:xfrm>
        </p:grpSpPr>
        <p:sp>
          <p:nvSpPr>
            <p:cNvPr id="79" name=""/>
            <p:cNvSpPr/>
            <p:nvPr/>
          </p:nvSpPr>
          <p:spPr>
            <a:xfrm>
              <a:off x="4800600" y="8763120"/>
              <a:ext cx="1600200" cy="3047760"/>
            </a:xfrm>
            <a:custGeom>
              <a:avLst/>
              <a:gdLst>
                <a:gd name="textAreaLeft" fmla="*/ 78120 w 1600200"/>
                <a:gd name="textAreaRight" fmla="*/ 1522080 w 1600200"/>
                <a:gd name="textAreaTop" fmla="*/ 78120 h 3047760"/>
                <a:gd name="textAreaBottom" fmla="*/ 2969640 h 3047760"/>
              </a:gdLst>
              <a:ahLst/>
              <a:rect l="textAreaLeft" t="textAreaTop" r="textAreaRight" b="textAreaBottom"/>
              <a:pathLst>
                <a:path w="21600" h="41135">
                  <a:moveTo>
                    <a:pt x="3600" y="0"/>
                  </a:moveTo>
                  <a:arcTo wR="3600" hR="3600" stAng="16200000" swAng="-5400000"/>
                  <a:lnTo>
                    <a:pt x="0" y="37535"/>
                  </a:lnTo>
                  <a:arcTo wR="3600" hR="3600" stAng="10800000" swAng="-5400000"/>
                  <a:lnTo>
                    <a:pt x="18000" y="41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72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bina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05520" y="9829440"/>
              <a:ext cx="99036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5400000">
              <a:off x="7847280" y="10742040"/>
              <a:ext cx="60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00800" y="11201040"/>
              <a:ext cx="304920" cy="304560"/>
            </a:xfrm>
            <a:prstGeom prst="rightArrow">
              <a:avLst>
                <a:gd name="adj1" fmla="val 37500"/>
                <a:gd name="adj2" fmla="val 58402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400080" y="10820160"/>
              <a:ext cx="304920" cy="304560"/>
            </a:xfrm>
            <a:prstGeom prst="rightArrow">
              <a:avLst>
                <a:gd name="adj1" fmla="val 37500"/>
                <a:gd name="adj2" fmla="val 58402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0800" y="9753480"/>
              <a:ext cx="304920" cy="304200"/>
            </a:xfrm>
            <a:prstGeom prst="rightArrow">
              <a:avLst>
                <a:gd name="adj1" fmla="val 37500"/>
                <a:gd name="adj2" fmla="val 58471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400080" y="9372240"/>
              <a:ext cx="304920" cy="304560"/>
            </a:xfrm>
            <a:prstGeom prst="rightArrow">
              <a:avLst>
                <a:gd name="adj1" fmla="val 37500"/>
                <a:gd name="adj2" fmla="val 58402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5400000">
              <a:off x="5409360" y="10514880"/>
              <a:ext cx="304560" cy="304920"/>
            </a:xfrm>
            <a:prstGeom prst="rightArrow">
              <a:avLst>
                <a:gd name="adj1" fmla="val 37500"/>
                <a:gd name="adj2" fmla="val 58333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400000">
              <a:off x="5409360" y="9829080"/>
              <a:ext cx="304560" cy="304920"/>
            </a:xfrm>
            <a:prstGeom prst="rightArrow">
              <a:avLst>
                <a:gd name="adj1" fmla="val 37500"/>
                <a:gd name="adj2" fmla="val 58333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5400000">
              <a:off x="5486040" y="11810160"/>
              <a:ext cx="304200" cy="304920"/>
            </a:xfrm>
            <a:prstGeom prst="rightArrow">
              <a:avLst>
                <a:gd name="adj1" fmla="val 37500"/>
                <a:gd name="adj2" fmla="val 58333"/>
              </a:avLst>
            </a:prstGeom>
            <a:solidFill>
              <a:srgbClr val="77777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8991360"/>
              <a:ext cx="2209680" cy="3504960"/>
            </a:xfrm>
            <a:custGeom>
              <a:avLst/>
              <a:gdLst/>
              <a:ahLst/>
              <a:rect l="l" t="t" r="r" b="b"/>
              <a:pathLst>
                <a:path w="1392" h="2208">
                  <a:moveTo>
                    <a:pt x="240" y="0"/>
                  </a:moveTo>
                  <a:lnTo>
                    <a:pt x="1392" y="0"/>
                  </a:lnTo>
                  <a:lnTo>
                    <a:pt x="1392" y="2160"/>
                  </a:lnTo>
                  <a:lnTo>
                    <a:pt x="144" y="2160"/>
                  </a:lnTo>
                  <a:lnTo>
                    <a:pt x="144" y="2208"/>
                  </a:lnTo>
                  <a:lnTo>
                    <a:pt x="0" y="2112"/>
                  </a:lnTo>
                  <a:lnTo>
                    <a:pt x="144" y="2016"/>
                  </a:lnTo>
                  <a:lnTo>
                    <a:pt x="144" y="2064"/>
                  </a:lnTo>
                  <a:lnTo>
                    <a:pt x="1296" y="2064"/>
                  </a:lnTo>
                  <a:lnTo>
                    <a:pt x="1296" y="1440"/>
                  </a:lnTo>
                  <a:lnTo>
                    <a:pt x="1200" y="1440"/>
                  </a:lnTo>
                  <a:lnTo>
                    <a:pt x="1200" y="1488"/>
                  </a:lnTo>
                  <a:lnTo>
                    <a:pt x="1056" y="1392"/>
                  </a:lnTo>
                  <a:lnTo>
                    <a:pt x="1200" y="1296"/>
                  </a:lnTo>
                  <a:lnTo>
                    <a:pt x="1200" y="1344"/>
                  </a:lnTo>
                  <a:lnTo>
                    <a:pt x="1296" y="1344"/>
                  </a:lnTo>
                  <a:lnTo>
                    <a:pt x="1296" y="480"/>
                  </a:lnTo>
                  <a:lnTo>
                    <a:pt x="1248" y="480"/>
                  </a:lnTo>
                  <a:lnTo>
                    <a:pt x="1248" y="528"/>
                  </a:lnTo>
                  <a:lnTo>
                    <a:pt x="1104" y="432"/>
                  </a:lnTo>
                  <a:lnTo>
                    <a:pt x="1248" y="336"/>
                  </a:lnTo>
                  <a:lnTo>
                    <a:pt x="1248" y="384"/>
                  </a:lnTo>
                  <a:lnTo>
                    <a:pt x="1296" y="384"/>
                  </a:lnTo>
                  <a:lnTo>
                    <a:pt x="1296" y="96"/>
                  </a:lnTo>
                  <a:lnTo>
                    <a:pt x="240" y="96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777777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5720" y="9372240"/>
              <a:ext cx="1066680" cy="6854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10836000"/>
              <a:ext cx="990360" cy="6854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%ebx = 0x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12115440"/>
              <a:ext cx="762120" cy="3808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x00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7800" y="10134360"/>
              <a:ext cx="609480" cy="3805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2240" y="10439280"/>
              <a:ext cx="48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4800" y="10439280"/>
              <a:ext cx="47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23160" y="1191708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x0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680720" y="83311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cycl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4343400"/>
            <a:ext cx="1600200" cy="304812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3048120"/>
              <a:gd name="textAreaBottom" fmla="*/ 2970000 h 3048120"/>
            </a:gdLst>
            <a:ahLst/>
            <a:rect l="textAreaLeft" t="textAreaTop" r="textAreaRight" b="textAreaBottom"/>
            <a:pathLst>
              <a:path w="21600" h="41140">
                <a:moveTo>
                  <a:pt x="3600" y="0"/>
                </a:moveTo>
                <a:arcTo wR="3600" hR="3600" stAng="16200000" swAng="-5400000"/>
                <a:lnTo>
                  <a:pt x="0" y="37540"/>
                </a:lnTo>
                <a:arcTo wR="3600" hR="3600" stAng="10800000" swAng="-5400000"/>
                <a:lnTo>
                  <a:pt x="18000" y="4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72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5410080"/>
            <a:ext cx="990360" cy="9907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990720"/>
              <a:gd name="textAreaBottom" fmla="*/ 942480 h 99072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 rot="5400000">
            <a:off x="7846920" y="632160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678168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400080" y="640080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5334120"/>
            <a:ext cx="304920" cy="304560"/>
          </a:xfrm>
          <a:prstGeom prst="rightArrow">
            <a:avLst>
              <a:gd name="adj1" fmla="val 37500"/>
              <a:gd name="adj2" fmla="val 58402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400080" y="495288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rot="5400000">
            <a:off x="5409360" y="609552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rot="5400000">
            <a:off x="5409360" y="5409720"/>
            <a:ext cx="30492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5400000">
            <a:off x="5485680" y="7391160"/>
            <a:ext cx="304560" cy="304920"/>
          </a:xfrm>
          <a:prstGeom prst="rightArrow">
            <a:avLst>
              <a:gd name="adj1" fmla="val 37500"/>
              <a:gd name="adj2" fmla="val 58333"/>
            </a:avLst>
          </a:prstGeom>
          <a:solidFill>
            <a:srgbClr val="99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4572000"/>
            <a:ext cx="2209680" cy="3505320"/>
          </a:xfrm>
          <a:custGeom>
            <a:avLst/>
            <a:gdLst/>
            <a:ahLst/>
            <a:rect l="l" t="t" r="r" b="b"/>
            <a:pathLst>
              <a:path w="1392" h="2208">
                <a:moveTo>
                  <a:pt x="240" y="0"/>
                </a:moveTo>
                <a:lnTo>
                  <a:pt x="1392" y="0"/>
                </a:lnTo>
                <a:lnTo>
                  <a:pt x="1392" y="2160"/>
                </a:lnTo>
                <a:lnTo>
                  <a:pt x="144" y="2160"/>
                </a:lnTo>
                <a:lnTo>
                  <a:pt x="144" y="2208"/>
                </a:lnTo>
                <a:lnTo>
                  <a:pt x="0" y="2112"/>
                </a:lnTo>
                <a:lnTo>
                  <a:pt x="144" y="2016"/>
                </a:lnTo>
                <a:lnTo>
                  <a:pt x="144" y="2064"/>
                </a:lnTo>
                <a:lnTo>
                  <a:pt x="1296" y="2064"/>
                </a:lnTo>
                <a:lnTo>
                  <a:pt x="1296" y="1440"/>
                </a:lnTo>
                <a:lnTo>
                  <a:pt x="1200" y="1440"/>
                </a:lnTo>
                <a:lnTo>
                  <a:pt x="1200" y="1488"/>
                </a:lnTo>
                <a:lnTo>
                  <a:pt x="1056" y="1392"/>
                </a:lnTo>
                <a:lnTo>
                  <a:pt x="1200" y="1296"/>
                </a:lnTo>
                <a:lnTo>
                  <a:pt x="1200" y="1344"/>
                </a:lnTo>
                <a:lnTo>
                  <a:pt x="1296" y="1344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28"/>
                </a:lnTo>
                <a:lnTo>
                  <a:pt x="1104" y="432"/>
                </a:lnTo>
                <a:lnTo>
                  <a:pt x="1248" y="336"/>
                </a:lnTo>
                <a:lnTo>
                  <a:pt x="1248" y="384"/>
                </a:lnTo>
                <a:lnTo>
                  <a:pt x="1296" y="384"/>
                </a:lnTo>
                <a:lnTo>
                  <a:pt x="1296" y="96"/>
                </a:lnTo>
                <a:lnTo>
                  <a:pt x="240" y="96"/>
                </a:lnTo>
                <a:lnTo>
                  <a:pt x="240" y="0"/>
                </a:lnTo>
                <a:close/>
              </a:path>
            </a:pathLst>
          </a:custGeom>
          <a:solidFill>
            <a:srgbClr val="99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4952880"/>
            <a:ext cx="10666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6416640"/>
            <a:ext cx="99036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%ebx = 0x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7696080"/>
            <a:ext cx="76212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x0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5715000"/>
            <a:ext cx="60948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2240" y="6019920"/>
            <a:ext cx="48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4800" y="6019920"/>
            <a:ext cx="47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23160" y="74977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x0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70000" y="60958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94680" y="64468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x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666880"/>
            <a:ext cx="6248160" cy="3812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c:   addl %edx,%ebx      # %ebx &lt;-- 0x300 CC &lt;-- 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048120"/>
            <a:ext cx="6248160" cy="3808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e:   je dest             # Not ta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429000"/>
            <a:ext cx="6248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13:   rmmovl %ebx,0(%edx) # M[0x200] &lt;-- 0x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5200" y="266688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 3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" y="304812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 4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5200" y="34290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 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2286000"/>
            <a:ext cx="6248160" cy="380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6:   irmovl $0x200,%edx  # %edx &lt;-- 0x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5200" y="22860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 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5120"/>
            <a:ext cx="6248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0:   irmovl $0x100,%ebx  # %ebx &lt;-- 0x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200" y="190512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cle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02240" y="4724280"/>
            <a:ext cx="1698120" cy="246240"/>
            <a:chOff x="6402240" y="4724280"/>
            <a:chExt cx="1698120" cy="246240"/>
          </a:xfrm>
        </p:grpSpPr>
        <p:sp>
          <p:nvSpPr>
            <p:cNvPr id="129" name=""/>
            <p:cNvSpPr/>
            <p:nvPr/>
          </p:nvSpPr>
          <p:spPr>
            <a:xfrm>
              <a:off x="6402240" y="472428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5520" y="472428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11120" y="4724280"/>
            <a:ext cx="1698120" cy="246240"/>
            <a:chOff x="2211120" y="4724280"/>
            <a:chExt cx="1698120" cy="246240"/>
          </a:xfrm>
        </p:grpSpPr>
        <p:sp>
          <p:nvSpPr>
            <p:cNvPr id="132" name=""/>
            <p:cNvSpPr/>
            <p:nvPr/>
          </p:nvSpPr>
          <p:spPr>
            <a:xfrm>
              <a:off x="2211120" y="472428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34400" y="472428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402240" y="9128160"/>
            <a:ext cx="1698120" cy="246240"/>
            <a:chOff x="6402240" y="9128160"/>
            <a:chExt cx="1698120" cy="246240"/>
          </a:xfrm>
        </p:grpSpPr>
        <p:sp>
          <p:nvSpPr>
            <p:cNvPr id="135" name=""/>
            <p:cNvSpPr/>
            <p:nvPr/>
          </p:nvSpPr>
          <p:spPr>
            <a:xfrm>
              <a:off x="6402240" y="912816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5520" y="912816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11120" y="9128160"/>
            <a:ext cx="1698120" cy="246240"/>
            <a:chOff x="2211120" y="9128160"/>
            <a:chExt cx="1698120" cy="246240"/>
          </a:xfrm>
        </p:grpSpPr>
        <p:sp>
          <p:nvSpPr>
            <p:cNvPr id="138" name=""/>
            <p:cNvSpPr/>
            <p:nvPr/>
          </p:nvSpPr>
          <p:spPr>
            <a:xfrm>
              <a:off x="2211120" y="912816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34400" y="912816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62120" y="115740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0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928800"/>
            <a:ext cx="762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10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10810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10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489200" y="1461960"/>
            <a:ext cx="82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20800" y="1538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702040" y="1461960"/>
            <a:ext cx="82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1480" y="15382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1461960"/>
            <a:ext cx="82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480" y="15382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86400" y="1461960"/>
            <a:ext cx="82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9600" y="1538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928800"/>
            <a:ext cx="762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928800"/>
            <a:ext cx="761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928800"/>
            <a:ext cx="762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81080" y="1004760"/>
            <a:ext cx="4876920" cy="595440"/>
            <a:chOff x="1981080" y="1004760"/>
            <a:chExt cx="4876920" cy="595440"/>
          </a:xfrm>
        </p:grpSpPr>
        <p:sp>
          <p:nvSpPr>
            <p:cNvPr id="158" name=""/>
            <p:cNvSpPr/>
            <p:nvPr/>
          </p:nvSpPr>
          <p:spPr>
            <a:xfrm flipV="1">
              <a:off x="1981080" y="1004760"/>
              <a:ext cx="0" cy="59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200400" y="1004760"/>
              <a:ext cx="0" cy="59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419720" y="1004760"/>
              <a:ext cx="0" cy="59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638680" y="1004760"/>
              <a:ext cx="0" cy="59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858000" y="1004760"/>
              <a:ext cx="0" cy="59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76520" y="1233360"/>
            <a:ext cx="18288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lnTo>
                  <a:pt x="96" y="144"/>
                </a:lnTo>
                <a:lnTo>
                  <a:pt x="96" y="0"/>
                </a:lnTo>
                <a:lnTo>
                  <a:pt x="288" y="0"/>
                </a:lnTo>
                <a:lnTo>
                  <a:pt x="288" y="144"/>
                </a:lnTo>
                <a:lnTo>
                  <a:pt x="480" y="144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1233360"/>
            <a:ext cx="18288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lnTo>
                  <a:pt x="96" y="144"/>
                </a:lnTo>
                <a:lnTo>
                  <a:pt x="96" y="0"/>
                </a:lnTo>
                <a:lnTo>
                  <a:pt x="288" y="0"/>
                </a:lnTo>
                <a:lnTo>
                  <a:pt x="288" y="144"/>
                </a:lnTo>
                <a:lnTo>
                  <a:pt x="480" y="144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1233360"/>
            <a:ext cx="18288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lnTo>
                  <a:pt x="96" y="144"/>
                </a:lnTo>
                <a:lnTo>
                  <a:pt x="96" y="0"/>
                </a:lnTo>
                <a:lnTo>
                  <a:pt x="288" y="0"/>
                </a:lnTo>
                <a:lnTo>
                  <a:pt x="288" y="144"/>
                </a:lnTo>
                <a:lnTo>
                  <a:pt x="480" y="144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1233360"/>
            <a:ext cx="18288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lnTo>
                  <a:pt x="96" y="144"/>
                </a:lnTo>
                <a:lnTo>
                  <a:pt x="96" y="0"/>
                </a:lnTo>
                <a:lnTo>
                  <a:pt x="288" y="0"/>
                </a:lnTo>
                <a:lnTo>
                  <a:pt x="288" y="144"/>
                </a:lnTo>
                <a:lnTo>
                  <a:pt x="480" y="144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4-10T17:15:23Z</dcterms:modified>
  <cp:revision>43</cp:revision>
  <dc:subject/>
  <dc:title>PowerPoint Presentation</dc:title>
</cp:coreProperties>
</file>