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CE8-83DE-4545-9290-6BEBCF89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AEF-051B-4458-8404-CA6C01F4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CCA-3E8C-4173-99FE-0AB141BE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224-2C12-4F52-B18A-4D9E0EB2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F36-8E4F-47E3-B7D2-D2A76956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3E9-4D53-4342-8B95-0D6A95E2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D15-A74D-488B-A252-5625CE61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6E9-276A-408D-BDC9-53AC5522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D02-A78F-44CD-A3F7-40341465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43E-FA4C-4652-AD27-16F3CDDC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AB5-E90F-4B34-88A8-D13DFC2F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114-9077-41A7-B663-7EC93DA3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A049-45FE-41E7-B2F5-2A16EA9DF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040" y="351144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05740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2362320"/>
            <a:ext cx="838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66688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81080" y="2063880"/>
            <a:ext cx="1828800" cy="304560"/>
            <a:chOff x="1981080" y="2063880"/>
            <a:chExt cx="1828800" cy="304560"/>
          </a:xfrm>
        </p:grpSpPr>
        <p:sp>
          <p:nvSpPr>
            <p:cNvPr id="46" name=""/>
            <p:cNvSpPr/>
            <p:nvPr/>
          </p:nvSpPr>
          <p:spPr>
            <a:xfrm>
              <a:off x="1981080" y="2063880"/>
              <a:ext cx="609480" cy="3045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90560" y="2063880"/>
              <a:ext cx="609480" cy="3045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040" y="2063880"/>
              <a:ext cx="609840" cy="3045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2368440"/>
            <a:ext cx="1828800" cy="304920"/>
            <a:chOff x="2590920" y="2368440"/>
            <a:chExt cx="1828800" cy="304920"/>
          </a:xfrm>
        </p:grpSpPr>
        <p:sp>
          <p:nvSpPr>
            <p:cNvPr id="50" name=""/>
            <p:cNvSpPr/>
            <p:nvPr/>
          </p:nvSpPr>
          <p:spPr>
            <a:xfrm>
              <a:off x="2590920" y="236844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00400" y="236844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9880" y="2368440"/>
              <a:ext cx="60984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200400" y="2673360"/>
            <a:ext cx="1828800" cy="304920"/>
            <a:chOff x="3200400" y="2673360"/>
            <a:chExt cx="1828800" cy="304920"/>
          </a:xfrm>
        </p:grpSpPr>
        <p:sp>
          <p:nvSpPr>
            <p:cNvPr id="54" name=""/>
            <p:cNvSpPr/>
            <p:nvPr/>
          </p:nvSpPr>
          <p:spPr>
            <a:xfrm>
              <a:off x="3200400" y="2673360"/>
              <a:ext cx="609480" cy="304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9880" y="2673360"/>
              <a:ext cx="609480" cy="304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19360" y="2673360"/>
              <a:ext cx="609840" cy="304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981080" y="3130560"/>
            <a:ext cx="3047760" cy="152280"/>
            <a:chOff x="1981080" y="3130560"/>
            <a:chExt cx="3047760" cy="152280"/>
          </a:xfrm>
        </p:grpSpPr>
        <p:sp>
          <p:nvSpPr>
            <p:cNvPr id="58" name=""/>
            <p:cNvSpPr/>
            <p:nvPr/>
          </p:nvSpPr>
          <p:spPr>
            <a:xfrm>
              <a:off x="1981080" y="320652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1080" y="313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560" y="313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0040" y="313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9880" y="313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9360" y="313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28840" y="313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752480" y="3282840"/>
            <a:ext cx="3581640" cy="307080"/>
            <a:chOff x="1752480" y="3282840"/>
            <a:chExt cx="3581640" cy="307080"/>
          </a:xfrm>
        </p:grpSpPr>
        <p:sp>
          <p:nvSpPr>
            <p:cNvPr id="66" name=""/>
            <p:cNvSpPr/>
            <p:nvPr/>
          </p:nvSpPr>
          <p:spPr>
            <a:xfrm>
              <a:off x="1752480" y="328284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62320" y="328284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1800" y="328284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81280" y="328284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1120" y="328284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00600" y="328284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981080" y="1676520"/>
            <a:ext cx="3171960" cy="228600"/>
          </a:xfrm>
          <a:custGeom>
            <a:avLst/>
            <a:gdLst/>
            <a:ahLst/>
            <a:rect l="l" t="t" r="r" b="b"/>
            <a:pathLst>
              <a:path w="1998" h="192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  <a:lnTo>
                  <a:pt x="384" y="192"/>
                </a:lnTo>
                <a:lnTo>
                  <a:pt x="384" y="0"/>
                </a:lnTo>
                <a:lnTo>
                  <a:pt x="576" y="0"/>
                </a:lnTo>
                <a:lnTo>
                  <a:pt x="576" y="192"/>
                </a:lnTo>
                <a:lnTo>
                  <a:pt x="768" y="192"/>
                </a:lnTo>
                <a:lnTo>
                  <a:pt x="768" y="0"/>
                </a:lnTo>
                <a:lnTo>
                  <a:pt x="960" y="0"/>
                </a:lnTo>
                <a:lnTo>
                  <a:pt x="960" y="192"/>
                </a:lnTo>
                <a:lnTo>
                  <a:pt x="1152" y="192"/>
                </a:lnTo>
                <a:lnTo>
                  <a:pt x="1152" y="0"/>
                </a:lnTo>
                <a:lnTo>
                  <a:pt x="1344" y="0"/>
                </a:lnTo>
                <a:lnTo>
                  <a:pt x="1344" y="192"/>
                </a:lnTo>
                <a:lnTo>
                  <a:pt x="1536" y="192"/>
                </a:lnTo>
                <a:lnTo>
                  <a:pt x="1536" y="0"/>
                </a:lnTo>
                <a:lnTo>
                  <a:pt x="1728" y="0"/>
                </a:lnTo>
                <a:lnTo>
                  <a:pt x="1728" y="192"/>
                </a:lnTo>
                <a:lnTo>
                  <a:pt x="1920" y="192"/>
                </a:lnTo>
                <a:cubicBezTo>
                  <a:pt x="1920" y="128"/>
                  <a:pt x="1920" y="64"/>
                  <a:pt x="1920" y="0"/>
                </a:cubicBezTo>
                <a:cubicBezTo>
                  <a:pt x="1992" y="0"/>
                  <a:pt x="1982" y="0"/>
                  <a:pt x="199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1676520"/>
            <a:ext cx="838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21:42:46Z</dcterms:created>
  <dc:creator>Randal E. Bryant</dc:creator>
  <dc:description/>
  <dc:language>en-US</dc:language>
  <cp:lastModifiedBy>Randal E. Bryant</cp:lastModifiedBy>
  <dcterms:modified xsi:type="dcterms:W3CDTF">2003-05-27T13:16:54Z</dcterms:modified>
  <cp:revision>6</cp:revision>
  <dc:subject/>
  <dc:title>PowerPoint Presentation</dc:title>
</cp:coreProperties>
</file>