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C471-4AF8-4940-8E9D-05EE85C7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2794-B544-4BF3-9130-3CA9DE9D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68C5-1246-4A23-9410-A689AA84F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AD18-DE36-4854-902E-EC188379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F0A8-67A5-4519-86D0-EF3DC415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F3F7-EE51-4EDA-870F-F553506B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9686-7FCB-4341-9252-A5053CF5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2014-2051-461E-8BA5-7D74DC36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09B1-F74D-4FB8-B254-2A873DB8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EBDB-A3CF-4C95-A2F4-3B29629B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F6AD-2393-4C47-B554-C25128F5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BCBC-8FF0-4159-8D20-D8361912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A37B-84AC-42AA-B981-BF1F411A9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1676520"/>
            <a:ext cx="228600" cy="1295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10280" y="1676520"/>
            <a:ext cx="228600" cy="12952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3200" y="121932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419720" y="1600200"/>
            <a:ext cx="1371600" cy="1143000"/>
            <a:chOff x="4419720" y="1600200"/>
            <a:chExt cx="1371600" cy="1143000"/>
          </a:xfrm>
        </p:grpSpPr>
        <p:sp>
          <p:nvSpPr>
            <p:cNvPr id="45" name=""/>
            <p:cNvSpPr/>
            <p:nvPr/>
          </p:nvSpPr>
          <p:spPr>
            <a:xfrm>
              <a:off x="4724640" y="2286000"/>
              <a:ext cx="685800" cy="457200"/>
            </a:xfrm>
            <a:custGeom>
              <a:avLst/>
              <a:gdLst/>
              <a:ahLst/>
              <a:rect l="l" t="t" r="r" b="b"/>
              <a:pathLst>
                <a:path w="432" h="288">
                  <a:moveTo>
                    <a:pt x="0" y="288"/>
                  </a:moveTo>
                  <a:lnTo>
                    <a:pt x="240" y="288"/>
                  </a:lnTo>
                  <a:lnTo>
                    <a:pt x="240" y="0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19720" y="16002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is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014360" y="1797120"/>
            <a:ext cx="34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Wingdings 3"/>
                <a:ea typeface="Wingdings 3"/>
              </a:rPr>
              <a:t>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19120" y="1797120"/>
            <a:ext cx="34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Wingdings 3"/>
                <a:ea typeface="Wingdings 3"/>
              </a:rPr>
              <a:t>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89760" y="175248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=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6600" y="175248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=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51640" y="121932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88200" y="175248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=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220968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20968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53080" y="220968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38880" y="220968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0T21:42:46Z</dcterms:created>
  <dc:creator>Randal E. Bryant</dc:creator>
  <dc:description/>
  <dc:language>en-US</dc:language>
  <cp:lastModifiedBy>Randal E. Bryant</cp:lastModifiedBy>
  <dcterms:modified xsi:type="dcterms:W3CDTF">2002-03-14T21:36:06Z</dcterms:modified>
  <cp:revision>10</cp:revision>
  <dc:subject/>
  <dc:title>PowerPoint Presentation</dc:title>
</cp:coreProperties>
</file>