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F6F-37A9-4A7B-9477-FC7B0BE3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FE1-C811-4A42-A1EE-79D0677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9A6-AD66-4802-9CAE-17DFEE46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155-084D-4341-B9E5-E6E5144C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DE8-38D5-4ECD-8AAD-C2587DA4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FEF-4F95-450A-9AAF-C730F71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043-572A-4066-BC92-48F67E9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6D3-DDC2-4EFA-A49E-4D259AC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FF9-071E-49A5-AC9F-A04EF41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4EE-FCEF-43BF-AD33-31B98DD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C33-C87E-4E6C-92C8-0C43E55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8F4-1294-46EF-B2C6-F612BDD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7B76-DB60-4E15-8EF9-5615B453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1424952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8862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81480" y="11581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3335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1963520"/>
            <a:ext cx="18288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1947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1947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2039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24207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2496680"/>
            <a:ext cx="4572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424952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424952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62520" y="11581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11582280"/>
            <a:ext cx="1143000" cy="914400"/>
          </a:xfrm>
          <a:custGeom>
            <a:avLst/>
            <a:gdLst/>
            <a:ahLst/>
            <a:rect l="l" t="t" r="r" b="b"/>
            <a:pathLst>
              <a:path w="1152" h="2736">
                <a:moveTo>
                  <a:pt x="1152" y="0"/>
                </a:moveTo>
                <a:lnTo>
                  <a:pt x="1152" y="2736"/>
                </a:lnTo>
                <a:lnTo>
                  <a:pt x="0" y="27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1582280"/>
            <a:ext cx="685800" cy="533520"/>
          </a:xfrm>
          <a:custGeom>
            <a:avLst/>
            <a:gdLst/>
            <a:ahLst/>
            <a:rect l="l" t="t" r="r" b="b"/>
            <a:pathLst>
              <a:path w="1248" h="3936">
                <a:moveTo>
                  <a:pt x="1248" y="0"/>
                </a:moveTo>
                <a:lnTo>
                  <a:pt x="1248" y="3936"/>
                </a:lnTo>
                <a:lnTo>
                  <a:pt x="0" y="39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3434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57800" y="1279656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00600" y="13639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257800" y="13639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3639680"/>
            <a:ext cx="457200" cy="3812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288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3639680"/>
            <a:ext cx="1371600" cy="53352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86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724280" y="13944600"/>
            <a:ext cx="152640" cy="152280"/>
            <a:chOff x="4724280" y="13944600"/>
            <a:chExt cx="152640" cy="152280"/>
          </a:xfrm>
        </p:grpSpPr>
        <p:sp>
          <p:nvSpPr>
            <p:cNvPr id="72" name=""/>
            <p:cNvSpPr/>
            <p:nvPr/>
          </p:nvSpPr>
          <p:spPr>
            <a:xfrm>
              <a:off x="4762440" y="13982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139446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81480" y="14096880"/>
            <a:ext cx="152640" cy="152640"/>
            <a:chOff x="5181480" y="14096880"/>
            <a:chExt cx="152640" cy="152640"/>
          </a:xfrm>
        </p:grpSpPr>
        <p:sp>
          <p:nvSpPr>
            <p:cNvPr id="75" name=""/>
            <p:cNvSpPr/>
            <p:nvPr/>
          </p:nvSpPr>
          <p:spPr>
            <a:xfrm>
              <a:off x="5219640" y="1413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4096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200400" y="13639680"/>
            <a:ext cx="1905120" cy="685800"/>
          </a:xfrm>
          <a:custGeom>
            <a:avLst/>
            <a:gdLst/>
            <a:ahLst/>
            <a:rect l="l" t="t" r="r" b="b"/>
            <a:pathLst>
              <a:path w="1200" h="432">
                <a:moveTo>
                  <a:pt x="0" y="432"/>
                </a:moveTo>
                <a:lnTo>
                  <a:pt x="0" y="144"/>
                </a:lnTo>
                <a:lnTo>
                  <a:pt x="1200" y="144"/>
                </a:lnTo>
                <a:lnTo>
                  <a:pt x="12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648320" y="1363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0" y="13792320"/>
            <a:ext cx="152280" cy="152280"/>
            <a:chOff x="4572000" y="13792320"/>
            <a:chExt cx="152280" cy="152280"/>
          </a:xfrm>
        </p:grpSpPr>
        <p:sp>
          <p:nvSpPr>
            <p:cNvPr id="80" name=""/>
            <p:cNvSpPr/>
            <p:nvPr/>
          </p:nvSpPr>
          <p:spPr>
            <a:xfrm>
              <a:off x="4610160" y="13830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13792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4191120" y="1363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14800" y="13792320"/>
            <a:ext cx="152280" cy="152280"/>
            <a:chOff x="4114800" y="13792320"/>
            <a:chExt cx="152280" cy="152280"/>
          </a:xfrm>
        </p:grpSpPr>
        <p:sp>
          <p:nvSpPr>
            <p:cNvPr id="84" name=""/>
            <p:cNvSpPr/>
            <p:nvPr/>
          </p:nvSpPr>
          <p:spPr>
            <a:xfrm>
              <a:off x="4152960" y="13830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13792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3733920" y="1363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657600" y="13792320"/>
            <a:ext cx="152280" cy="152280"/>
            <a:chOff x="3657600" y="13792320"/>
            <a:chExt cx="152280" cy="152280"/>
          </a:xfrm>
        </p:grpSpPr>
        <p:sp>
          <p:nvSpPr>
            <p:cNvPr id="88" name=""/>
            <p:cNvSpPr/>
            <p:nvPr/>
          </p:nvSpPr>
          <p:spPr>
            <a:xfrm>
              <a:off x="3695760" y="13830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3792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40080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1201400"/>
            <a:ext cx="4572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40:23Z</dcterms:modified>
  <cp:revision>31</cp:revision>
  <dc:subject/>
  <dc:title>PowerPoint Presentation</dc:title>
</cp:coreProperties>
</file>