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1DA-D4CC-4B4B-B7CD-F2E7651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E66-E1F2-427F-8290-4EFEEDF7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6C1-C9F5-442D-B433-5AC01B6E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179-A55D-4557-95E2-6786A443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DC2-A651-4206-9158-E069E96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EB4-5CBA-4E55-AE98-F1B6289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A93-50D3-44F1-8703-32A2FD6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3EA-BDC3-4BAB-BCE8-FFFAB5F1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0C3-0C7F-47AE-80FA-5B6909D5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0D6-AC48-4CC5-8DF3-97B9391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8E7-CB24-4F0C-9662-5B68C5E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446-F852-4E44-B038-2996E89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2AB2-1290-407F-B8D3-E94AA207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715000"/>
            <a:ext cx="304560" cy="81532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9296280"/>
            <a:ext cx="5331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486400" y="937260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94489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04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5320" y="12039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320" y="9372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460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5334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31382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i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, 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67280" y="12099960"/>
            <a:ext cx="1066680" cy="719280"/>
            <a:chOff x="5867280" y="12099960"/>
            <a:chExt cx="1066680" cy="719280"/>
          </a:xfrm>
        </p:grpSpPr>
        <p:sp>
          <p:nvSpPr>
            <p:cNvPr id="57" name=""/>
            <p:cNvSpPr/>
            <p:nvPr/>
          </p:nvSpPr>
          <p:spPr>
            <a:xfrm>
              <a:off x="58672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95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04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90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0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33920" y="15239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85640" y="9448920"/>
            <a:ext cx="2590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3335120"/>
            <a:ext cx="15264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29200" y="127249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190760" y="132584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303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4876560" y="118105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5486400" y="1234440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188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cA, sr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A, d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11506320"/>
            <a:ext cx="152280" cy="609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5410080" y="10667520"/>
            <a:ext cx="152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190760" y="114296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1125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A, va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143320" y="9410400"/>
            <a:ext cx="152280" cy="1905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0134720"/>
            <a:ext cx="1522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982980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9906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A, al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9067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8839080"/>
            <a:ext cx="152280" cy="533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257440" y="8076960"/>
            <a:ext cx="152640" cy="1676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90760" y="876276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8458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7620120" y="11963160"/>
            <a:ext cx="152280" cy="1066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81680" y="123440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5791320"/>
            <a:ext cx="304920" cy="678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095880" y="3352320"/>
            <a:ext cx="304920" cy="4572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2971440" y="15163200"/>
            <a:ext cx="30492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5925680"/>
            <a:ext cx="30456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5621120"/>
            <a:ext cx="60984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914720" y="7353000"/>
            <a:ext cx="152280" cy="1447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7772400"/>
            <a:ext cx="15228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74674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0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,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6248520"/>
            <a:ext cx="15228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067360" y="5752800"/>
            <a:ext cx="152280" cy="114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90760" y="61718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7086600"/>
            <a:ext cx="914400" cy="304920"/>
            <a:chOff x="3657600" y="7086600"/>
            <a:chExt cx="914400" cy="304920"/>
          </a:xfrm>
        </p:grpSpPr>
        <p:sp>
          <p:nvSpPr>
            <p:cNvPr id="100" name=""/>
            <p:cNvSpPr/>
            <p:nvPr/>
          </p:nvSpPr>
          <p:spPr>
            <a:xfrm>
              <a:off x="365760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924680" y="8534520"/>
            <a:ext cx="914400" cy="304560"/>
            <a:chOff x="7924680" y="8534520"/>
            <a:chExt cx="914400" cy="304560"/>
          </a:xfrm>
        </p:grpSpPr>
        <p:sp>
          <p:nvSpPr>
            <p:cNvPr id="103" name=""/>
            <p:cNvSpPr/>
            <p:nvPr/>
          </p:nvSpPr>
          <p:spPr>
            <a:xfrm flipV="1">
              <a:off x="792468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22960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038480" y="14782680"/>
            <a:ext cx="15264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914360" y="14287320"/>
            <a:ext cx="15264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14782680"/>
            <a:ext cx="152640" cy="38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600" y="152398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, 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6019920"/>
            <a:ext cx="304920" cy="10210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76520" y="9981720"/>
            <a:ext cx="914400" cy="304920"/>
            <a:chOff x="1676520" y="9981720"/>
            <a:chExt cx="914400" cy="304920"/>
          </a:xfrm>
        </p:grpSpPr>
        <p:sp>
          <p:nvSpPr>
            <p:cNvPr id="112" name=""/>
            <p:cNvSpPr/>
            <p:nvPr/>
          </p:nvSpPr>
          <p:spPr>
            <a:xfrm flipV="1">
              <a:off x="1676520" y="99813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981440" y="99813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2933640" y="5067000"/>
            <a:ext cx="152280" cy="20574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15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314880" y="12077280"/>
            <a:ext cx="15228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209680" y="127252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22079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4859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17720" y="4044960"/>
            <a:ext cx="3555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3-11T17:12:34Z</dcterms:modified>
  <cp:revision>40</cp:revision>
  <dc:subject/>
  <dc:title>PowerPoint Presentation</dc:title>
</cp:coreProperties>
</file>