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93D-04DB-49C3-B016-C06D8B24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032-6060-48A0-B64B-B2C0FACA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AEE-60FB-4FDB-B565-7CC1FFA2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FB8-0E9E-4921-B28C-00E5DC20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5BD-56E2-43B3-9526-EA34E4CC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9E6-6300-4C3E-88B7-0B7D8FD5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BEB-44BA-42F2-BC85-43F1A9B1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7E8-3A12-4CB1-AB0B-DA859283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304920"/>
            <a:ext cx="3809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621-408F-480F-AD9D-890CEC2B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BAC-C9FD-4555-A6D3-5C3AC1D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EF9-AE2A-46DE-A13E-756DAEE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DC3-66CC-42AE-926C-FB3D0F42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809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BB8A-2AD4-4CD9-A588-5577FB2C6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52480" y="838080"/>
            <a:ext cx="5562720" cy="304920"/>
            <a:chOff x="1752480" y="838080"/>
            <a:chExt cx="5562720" cy="304920"/>
          </a:xfrm>
        </p:grpSpPr>
        <p:sp>
          <p:nvSpPr>
            <p:cNvPr id="42" name=""/>
            <p:cNvSpPr/>
            <p:nvPr/>
          </p:nvSpPr>
          <p:spPr>
            <a:xfrm>
              <a:off x="1752480" y="838080"/>
              <a:ext cx="1905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y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657600" y="838080"/>
              <a:ext cx="3657600" cy="304920"/>
              <a:chOff x="3657600" y="838080"/>
              <a:chExt cx="3657600" cy="304920"/>
            </a:xfrm>
          </p:grpSpPr>
          <p:sp>
            <p:nvSpPr>
              <p:cNvPr id="44" name=""/>
              <p:cNvSpPr/>
              <p:nvPr/>
            </p:nvSpPr>
            <p:spPr>
              <a:xfrm>
                <a:off x="36576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2670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8769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864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58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057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1752480" y="5791320"/>
            <a:ext cx="3124440" cy="304560"/>
            <a:chOff x="1752480" y="5791320"/>
            <a:chExt cx="3124440" cy="304560"/>
          </a:xfrm>
        </p:grpSpPr>
        <p:sp>
          <p:nvSpPr>
            <p:cNvPr id="51" name=""/>
            <p:cNvSpPr/>
            <p:nvPr/>
          </p:nvSpPr>
          <p:spPr>
            <a:xfrm>
              <a:off x="1752480" y="57913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sh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3657600" y="5791320"/>
              <a:ext cx="609480" cy="304560"/>
              <a:chOff x="3657600" y="5791320"/>
              <a:chExt cx="60948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3657600" y="5791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62520" y="5791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57600" y="5791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267080" y="5791320"/>
              <a:ext cx="609840" cy="304560"/>
              <a:chOff x="4267080" y="5791320"/>
              <a:chExt cx="609840" cy="304560"/>
            </a:xfrm>
          </p:grpSpPr>
          <p:sp>
            <p:nvSpPr>
              <p:cNvPr id="57" name=""/>
              <p:cNvSpPr/>
              <p:nvPr/>
            </p:nvSpPr>
            <p:spPr>
              <a:xfrm>
                <a:off x="4267080" y="5791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0" y="5791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267080" y="5791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1752480" y="4419720"/>
            <a:ext cx="4953240" cy="304560"/>
            <a:chOff x="1752480" y="4419720"/>
            <a:chExt cx="4953240" cy="304560"/>
          </a:xfrm>
        </p:grpSpPr>
        <p:sp>
          <p:nvSpPr>
            <p:cNvPr id="61" name=""/>
            <p:cNvSpPr/>
            <p:nvPr/>
          </p:nvSpPr>
          <p:spPr>
            <a:xfrm>
              <a:off x="1752480" y="44197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jXX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657600" y="4419720"/>
              <a:ext cx="609480" cy="304560"/>
              <a:chOff x="3657600" y="4419720"/>
              <a:chExt cx="609480" cy="304560"/>
            </a:xfrm>
          </p:grpSpPr>
          <p:sp>
            <p:nvSpPr>
              <p:cNvPr id="63" name=""/>
              <p:cNvSpPr/>
              <p:nvPr/>
            </p:nvSpPr>
            <p:spPr>
              <a:xfrm>
                <a:off x="3657600" y="4419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62520" y="44197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657600" y="4419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267080" y="4419720"/>
              <a:ext cx="243864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752480" y="6248520"/>
            <a:ext cx="3124440" cy="304560"/>
            <a:chOff x="1752480" y="6248520"/>
            <a:chExt cx="3124440" cy="30456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op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657600" y="6248520"/>
              <a:ext cx="609480" cy="304560"/>
              <a:chOff x="3657600" y="6248520"/>
              <a:chExt cx="609480" cy="304560"/>
            </a:xfrm>
          </p:grpSpPr>
          <p:sp>
            <p:nvSpPr>
              <p:cNvPr id="70" name=""/>
              <p:cNvSpPr/>
              <p:nvPr/>
            </p:nvSpPr>
            <p:spPr>
              <a:xfrm>
                <a:off x="3657600" y="6248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62520" y="6248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57600" y="6248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4267080" y="6248520"/>
              <a:ext cx="609840" cy="304560"/>
              <a:chOff x="4267080" y="6248520"/>
              <a:chExt cx="609840" cy="304560"/>
            </a:xfrm>
          </p:grpSpPr>
          <p:sp>
            <p:nvSpPr>
              <p:cNvPr id="74" name=""/>
              <p:cNvSpPr/>
              <p:nvPr/>
            </p:nvSpPr>
            <p:spPr>
              <a:xfrm>
                <a:off x="4267080" y="6248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72000" y="6248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67080" y="6248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1752480" y="4876920"/>
            <a:ext cx="4953240" cy="304560"/>
            <a:chOff x="1752480" y="4876920"/>
            <a:chExt cx="4953240" cy="304560"/>
          </a:xfrm>
        </p:grpSpPr>
        <p:sp>
          <p:nvSpPr>
            <p:cNvPr id="78" name=""/>
            <p:cNvSpPr/>
            <p:nvPr/>
          </p:nvSpPr>
          <p:spPr>
            <a:xfrm>
              <a:off x="1752480" y="48769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l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657600" y="4876920"/>
              <a:ext cx="609480" cy="304560"/>
              <a:chOff x="3657600" y="4876920"/>
              <a:chExt cx="609480" cy="304560"/>
            </a:xfrm>
          </p:grpSpPr>
          <p:sp>
            <p:nvSpPr>
              <p:cNvPr id="80" name=""/>
              <p:cNvSpPr/>
              <p:nvPr/>
            </p:nvSpPr>
            <p:spPr>
              <a:xfrm>
                <a:off x="3657600" y="4876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62520" y="4876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57600" y="4876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267080" y="4876920"/>
              <a:ext cx="243864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52480" y="2133720"/>
            <a:ext cx="3124440" cy="304560"/>
            <a:chOff x="1752480" y="2133720"/>
            <a:chExt cx="3124440" cy="304560"/>
          </a:xfrm>
        </p:grpSpPr>
        <p:sp>
          <p:nvSpPr>
            <p:cNvPr id="85" name=""/>
            <p:cNvSpPr/>
            <p:nvPr/>
          </p:nvSpPr>
          <p:spPr>
            <a:xfrm>
              <a:off x="1752480" y="21337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rmov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657600" y="2133720"/>
              <a:ext cx="609480" cy="304560"/>
              <a:chOff x="3657600" y="2133720"/>
              <a:chExt cx="609480" cy="304560"/>
            </a:xfrm>
          </p:grpSpPr>
          <p:sp>
            <p:nvSpPr>
              <p:cNvPr id="87" name=""/>
              <p:cNvSpPr/>
              <p:nvPr/>
            </p:nvSpPr>
            <p:spPr>
              <a:xfrm>
                <a:off x="3657600" y="2133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62520" y="21337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57600" y="2133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267080" y="2133720"/>
              <a:ext cx="609840" cy="304560"/>
              <a:chOff x="4267080" y="2133720"/>
              <a:chExt cx="609840" cy="304560"/>
            </a:xfrm>
          </p:grpSpPr>
          <p:sp>
            <p:nvSpPr>
              <p:cNvPr id="91" name=""/>
              <p:cNvSpPr/>
              <p:nvPr/>
            </p:nvSpPr>
            <p:spPr>
              <a:xfrm>
                <a:off x="4267080" y="2133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72000" y="2133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267080" y="2133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752480" y="2590920"/>
            <a:ext cx="5562720" cy="304560"/>
            <a:chOff x="1752480" y="2590920"/>
            <a:chExt cx="5562720" cy="304560"/>
          </a:xfrm>
        </p:grpSpPr>
        <p:sp>
          <p:nvSpPr>
            <p:cNvPr id="95" name=""/>
            <p:cNvSpPr/>
            <p:nvPr/>
          </p:nvSpPr>
          <p:spPr>
            <a:xfrm>
              <a:off x="1752480" y="25909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657600" y="2590920"/>
              <a:ext cx="609480" cy="304560"/>
              <a:chOff x="3657600" y="2590920"/>
              <a:chExt cx="609480" cy="304560"/>
            </a:xfrm>
          </p:grpSpPr>
          <p:sp>
            <p:nvSpPr>
              <p:cNvPr id="97" name=""/>
              <p:cNvSpPr/>
              <p:nvPr/>
            </p:nvSpPr>
            <p:spPr>
              <a:xfrm>
                <a:off x="3657600" y="2590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962520" y="2590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57600" y="2590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267080" y="2590920"/>
              <a:ext cx="609840" cy="304560"/>
              <a:chOff x="4267080" y="2590920"/>
              <a:chExt cx="609840" cy="304560"/>
            </a:xfrm>
          </p:grpSpPr>
          <p:sp>
            <p:nvSpPr>
              <p:cNvPr id="101" name=""/>
              <p:cNvSpPr/>
              <p:nvPr/>
            </p:nvSpPr>
            <p:spPr>
              <a:xfrm>
                <a:off x="4267080" y="2590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2590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2590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4876920" y="2590920"/>
              <a:ext cx="24382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752480" y="3048120"/>
            <a:ext cx="5562720" cy="304560"/>
            <a:chOff x="1752480" y="3048120"/>
            <a:chExt cx="5562720" cy="304560"/>
          </a:xfrm>
        </p:grpSpPr>
        <p:sp>
          <p:nvSpPr>
            <p:cNvPr id="106" name=""/>
            <p:cNvSpPr/>
            <p:nvPr/>
          </p:nvSpPr>
          <p:spPr>
            <a:xfrm>
              <a:off x="1752480" y="30481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mmov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657600" y="3048120"/>
              <a:ext cx="609480" cy="304560"/>
              <a:chOff x="3657600" y="3048120"/>
              <a:chExt cx="609480" cy="304560"/>
            </a:xfrm>
          </p:grpSpPr>
          <p:sp>
            <p:nvSpPr>
              <p:cNvPr id="108" name=""/>
              <p:cNvSpPr/>
              <p:nvPr/>
            </p:nvSpPr>
            <p:spPr>
              <a:xfrm>
                <a:off x="3657600" y="3048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2520" y="30481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57600" y="30481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267080" y="3048120"/>
              <a:ext cx="609840" cy="304560"/>
              <a:chOff x="4267080" y="3048120"/>
              <a:chExt cx="609840" cy="304560"/>
            </a:xfrm>
          </p:grpSpPr>
          <p:sp>
            <p:nvSpPr>
              <p:cNvPr id="112" name=""/>
              <p:cNvSpPr/>
              <p:nvPr/>
            </p:nvSpPr>
            <p:spPr>
              <a:xfrm>
                <a:off x="4267080" y="3048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72000" y="3048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67080" y="3048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876920" y="3048120"/>
              <a:ext cx="24382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752480" y="3505320"/>
            <a:ext cx="5562720" cy="304560"/>
            <a:chOff x="1752480" y="3505320"/>
            <a:chExt cx="5562720" cy="304560"/>
          </a:xfrm>
        </p:grpSpPr>
        <p:sp>
          <p:nvSpPr>
            <p:cNvPr id="117" name=""/>
            <p:cNvSpPr/>
            <p:nvPr/>
          </p:nvSpPr>
          <p:spPr>
            <a:xfrm>
              <a:off x="1752480" y="35053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rmov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657600" y="3505320"/>
              <a:ext cx="609480" cy="304560"/>
              <a:chOff x="3657600" y="3505320"/>
              <a:chExt cx="6094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365760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6252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5760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267080" y="3505320"/>
              <a:ext cx="609840" cy="304560"/>
              <a:chOff x="4267080" y="3505320"/>
              <a:chExt cx="609840" cy="304560"/>
            </a:xfrm>
          </p:grpSpPr>
          <p:sp>
            <p:nvSpPr>
              <p:cNvPr id="123" name=""/>
              <p:cNvSpPr/>
              <p:nvPr/>
            </p:nvSpPr>
            <p:spPr>
              <a:xfrm>
                <a:off x="426708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7200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67080" y="3505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876920" y="3505320"/>
              <a:ext cx="243828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752480" y="3962520"/>
            <a:ext cx="3124440" cy="304560"/>
            <a:chOff x="1752480" y="3962520"/>
            <a:chExt cx="3124440" cy="304560"/>
          </a:xfrm>
        </p:grpSpPr>
        <p:sp>
          <p:nvSpPr>
            <p:cNvPr id="128" name=""/>
            <p:cNvSpPr/>
            <p:nvPr/>
          </p:nvSpPr>
          <p:spPr>
            <a:xfrm>
              <a:off x="1752480" y="39625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P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657600" y="3962520"/>
              <a:ext cx="609480" cy="304560"/>
              <a:chOff x="3657600" y="3962520"/>
              <a:chExt cx="60948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3657600" y="3962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62520" y="3962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657600" y="3962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267080" y="3962520"/>
              <a:ext cx="609840" cy="304560"/>
              <a:chOff x="4267080" y="3962520"/>
              <a:chExt cx="609840" cy="30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4267080" y="3962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72000" y="3962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7080" y="3962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752480" y="5334120"/>
            <a:ext cx="2514600" cy="304560"/>
            <a:chOff x="1752480" y="5334120"/>
            <a:chExt cx="2514600" cy="304560"/>
          </a:xfrm>
        </p:grpSpPr>
        <p:sp>
          <p:nvSpPr>
            <p:cNvPr id="138" name=""/>
            <p:cNvSpPr/>
            <p:nvPr/>
          </p:nvSpPr>
          <p:spPr>
            <a:xfrm>
              <a:off x="1752480" y="53341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657600" y="5334120"/>
              <a:ext cx="609480" cy="304560"/>
              <a:chOff x="3657600" y="5334120"/>
              <a:chExt cx="609480" cy="304560"/>
            </a:xfrm>
          </p:grpSpPr>
          <p:sp>
            <p:nvSpPr>
              <p:cNvPr id="140" name=""/>
              <p:cNvSpPr/>
              <p:nvPr/>
            </p:nvSpPr>
            <p:spPr>
              <a:xfrm>
                <a:off x="3657600" y="5334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62520" y="53341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57600" y="53341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752480" y="1219320"/>
            <a:ext cx="2514600" cy="304560"/>
            <a:chOff x="1752480" y="1219320"/>
            <a:chExt cx="2514600" cy="304560"/>
          </a:xfrm>
        </p:grpSpPr>
        <p:sp>
          <p:nvSpPr>
            <p:cNvPr id="144" name=""/>
            <p:cNvSpPr/>
            <p:nvPr/>
          </p:nvSpPr>
          <p:spPr>
            <a:xfrm>
              <a:off x="1752480" y="12193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657600" y="1219320"/>
              <a:ext cx="609480" cy="304560"/>
              <a:chOff x="3657600" y="1219320"/>
              <a:chExt cx="609480" cy="304560"/>
            </a:xfrm>
          </p:grpSpPr>
          <p:sp>
            <p:nvSpPr>
              <p:cNvPr id="146" name=""/>
              <p:cNvSpPr/>
              <p:nvPr/>
            </p:nvSpPr>
            <p:spPr>
              <a:xfrm>
                <a:off x="365760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6252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5760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1752480" y="1676520"/>
            <a:ext cx="2514600" cy="304560"/>
            <a:chOff x="1752480" y="1676520"/>
            <a:chExt cx="2514600" cy="304560"/>
          </a:xfrm>
        </p:grpSpPr>
        <p:sp>
          <p:nvSpPr>
            <p:cNvPr id="150" name=""/>
            <p:cNvSpPr/>
            <p:nvPr/>
          </p:nvSpPr>
          <p:spPr>
            <a:xfrm>
              <a:off x="1752480" y="1676520"/>
              <a:ext cx="1905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657600" y="1676520"/>
              <a:ext cx="609480" cy="304560"/>
              <a:chOff x="3657600" y="1676520"/>
              <a:chExt cx="609480" cy="304560"/>
            </a:xfrm>
          </p:grpSpPr>
          <p:sp>
            <p:nvSpPr>
              <p:cNvPr id="152" name=""/>
              <p:cNvSpPr/>
              <p:nvPr/>
            </p:nvSpPr>
            <p:spPr>
              <a:xfrm>
                <a:off x="3657600" y="1676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62520" y="1676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57600" y="1676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2:02:01Z</dcterms:created>
  <dc:creator>Randal E. Bryant</dc:creator>
  <dc:description/>
  <dc:language>en-US</dc:language>
  <cp:lastModifiedBy>Randal E. Bryant</cp:lastModifiedBy>
  <dcterms:modified xsi:type="dcterms:W3CDTF">2002-02-04T01:55:46Z</dcterms:modified>
  <cp:revision>32</cp:revision>
  <dc:subject/>
  <dc:title>PowerPoint Presentation</dc:title>
</cp:coreProperties>
</file>