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1A5-8CE5-49FD-BB07-F4BEEA01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182-47C4-48A6-A54A-C8AB0B9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942-CA16-4CE2-BCF9-0A063570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DA4-52E4-4029-8304-0C2843A3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B09-22D2-451D-A9C0-C8EF356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A71-81A0-4249-B88F-F19D40A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702-11D4-4748-8EF5-0A52B9E6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D52-1FEA-4DAA-B898-0B8C8189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383-7943-4616-B2AE-730E559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C73-DB6D-454D-B621-70371B8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7F4-81B4-4F21-9CCC-CD8162E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850-4C67-4D4D-832D-DB7205B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7A9-8C15-40CB-8630-116C5D3A8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5029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360" y="472428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200" y="7621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Three-stage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84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5280" y="3200400"/>
            <a:ext cx="69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4148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42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3240" y="1552680"/>
            <a:ext cx="2160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1556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84148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11640" y="1552680"/>
            <a:ext cx="901800" cy="128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17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93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91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767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6520" y="114300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4120" y="1143000"/>
            <a:ext cx="6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0481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0880" y="1905120"/>
            <a:ext cx="2485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= 36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 = 8.33 G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3809880"/>
            <a:ext cx="1828800" cy="304920"/>
            <a:chOff x="1219320" y="3809880"/>
            <a:chExt cx="1828800" cy="304920"/>
          </a:xfrm>
        </p:grpSpPr>
        <p:sp>
          <p:nvSpPr>
            <p:cNvPr id="73" name=""/>
            <p:cNvSpPr/>
            <p:nvPr/>
          </p:nvSpPr>
          <p:spPr>
            <a:xfrm>
              <a:off x="121932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8800" y="380988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280" y="380988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28800" y="4114800"/>
            <a:ext cx="1828800" cy="304920"/>
            <a:chOff x="1828800" y="4114800"/>
            <a:chExt cx="1828800" cy="304920"/>
          </a:xfrm>
        </p:grpSpPr>
        <p:sp>
          <p:nvSpPr>
            <p:cNvPr id="77" name=""/>
            <p:cNvSpPr/>
            <p:nvPr/>
          </p:nvSpPr>
          <p:spPr>
            <a:xfrm>
              <a:off x="182880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114800"/>
              <a:ext cx="609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7760" y="4114800"/>
              <a:ext cx="609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438280" y="4419720"/>
            <a:ext cx="1828800" cy="304560"/>
            <a:chOff x="2438280" y="4419720"/>
            <a:chExt cx="1828800" cy="304560"/>
          </a:xfrm>
        </p:grpSpPr>
        <p:sp>
          <p:nvSpPr>
            <p:cNvPr id="81" name=""/>
            <p:cNvSpPr/>
            <p:nvPr/>
          </p:nvSpPr>
          <p:spPr>
            <a:xfrm>
              <a:off x="243828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7760" y="4419720"/>
              <a:ext cx="609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7240" y="4419720"/>
              <a:ext cx="60984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10T20:01:33Z</dcterms:modified>
  <cp:revision>11</cp:revision>
  <dc:subject/>
  <dc:title>PowerPoint Presentation</dc:title>
</cp:coreProperties>
</file>