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E13-9E8F-44DE-BB0E-D895AA3C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F9A-33EB-46C7-AC89-036B795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401-EA78-4A27-A36E-FE1E6BE6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E1A-0EE5-4940-A198-A6DE9947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A8B-B102-4C8D-982E-C514BEA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A71-DC5C-4523-8903-9A62127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BD8-7DFE-42EA-92CA-E6BEB79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797-BB40-48B0-BBAB-C3819E6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93F-593D-4654-8E4A-4582DAD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822-E39D-4322-9F47-568DFC7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752-F9CA-4FCE-A5CC-B92843C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575-1EC6-47B0-887A-542B3E5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32C-04A5-4387-8B98-2014B6340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539800" y="92203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9067680"/>
            <a:ext cx="4827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97534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975348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29000" y="8305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71800" y="9448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83059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43200" y="10363320"/>
            <a:ext cx="152280" cy="152280"/>
            <a:chOff x="2743200" y="10363320"/>
            <a:chExt cx="152280" cy="152280"/>
          </a:xfrm>
        </p:grpSpPr>
        <p:sp>
          <p:nvSpPr>
            <p:cNvPr id="50" name=""/>
            <p:cNvSpPr/>
            <p:nvPr/>
          </p:nvSpPr>
          <p:spPr>
            <a:xfrm>
              <a:off x="278136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10363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419720" y="8915400"/>
            <a:ext cx="76176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86200" y="9144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7924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28800" y="5486040"/>
            <a:ext cx="0" cy="762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78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7924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57600" y="10363320"/>
            <a:ext cx="152280" cy="152280"/>
            <a:chOff x="3657600" y="10363320"/>
            <a:chExt cx="152280" cy="152280"/>
          </a:xfrm>
        </p:grpSpPr>
        <p:sp>
          <p:nvSpPr>
            <p:cNvPr id="63" name=""/>
            <p:cNvSpPr/>
            <p:nvPr/>
          </p:nvSpPr>
          <p:spPr>
            <a:xfrm>
              <a:off x="369576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10363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327672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10210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9448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71600" y="8991360"/>
            <a:ext cx="380880" cy="1752120"/>
            <a:chOff x="1371600" y="8991360"/>
            <a:chExt cx="380880" cy="1752120"/>
          </a:xfrm>
        </p:grpSpPr>
        <p:sp>
          <p:nvSpPr>
            <p:cNvPr id="70" name=""/>
            <p:cNvSpPr/>
            <p:nvPr/>
          </p:nvSpPr>
          <p:spPr>
            <a:xfrm flipV="1">
              <a:off x="1371600" y="899136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52480" y="899136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373392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95280" y="10363320"/>
            <a:ext cx="152640" cy="152280"/>
            <a:chOff x="1295280" y="10363320"/>
            <a:chExt cx="152640" cy="152280"/>
          </a:xfrm>
        </p:grpSpPr>
        <p:sp>
          <p:nvSpPr>
            <p:cNvPr id="74" name=""/>
            <p:cNvSpPr/>
            <p:nvPr/>
          </p:nvSpPr>
          <p:spPr>
            <a:xfrm>
              <a:off x="133344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03633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1371600" y="9448920"/>
            <a:ext cx="3276720" cy="99036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158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09680" y="10363320"/>
            <a:ext cx="152640" cy="152280"/>
            <a:chOff x="2209680" y="10363320"/>
            <a:chExt cx="152640" cy="152280"/>
          </a:xfrm>
        </p:grpSpPr>
        <p:sp>
          <p:nvSpPr>
            <p:cNvPr id="78" name=""/>
            <p:cNvSpPr/>
            <p:nvPr/>
          </p:nvSpPr>
          <p:spPr>
            <a:xfrm>
              <a:off x="2247840" y="1040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09680" y="103633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057400" y="9753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86000" y="94489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8610480"/>
            <a:ext cx="6094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76520" y="10526760"/>
            <a:ext cx="149040" cy="141120"/>
            <a:chOff x="1676520" y="10526760"/>
            <a:chExt cx="149040" cy="141120"/>
          </a:xfrm>
        </p:grpSpPr>
        <p:sp>
          <p:nvSpPr>
            <p:cNvPr id="84" name=""/>
            <p:cNvSpPr/>
            <p:nvPr/>
          </p:nvSpPr>
          <p:spPr>
            <a:xfrm>
              <a:off x="1713600" y="10562040"/>
              <a:ext cx="74520" cy="70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6520" y="10526760"/>
              <a:ext cx="1490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1752480" y="9448920"/>
            <a:ext cx="3200400" cy="11430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1584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286000" y="1021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88390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2:10Z</dcterms:modified>
  <cp:revision>32</cp:revision>
  <dc:subject/>
  <dc:title>PowerPoint Presentation</dc:title>
</cp:coreProperties>
</file>