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8E4-D252-4164-8DFD-EF3F62AD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6EE-1314-4F7C-8296-1E0D9F87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1796-C458-4A9B-A79B-899BCAF4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1C9-14BA-4621-9971-8CCFF89B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89F-3313-49E6-A834-12BD30C7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E68-08F0-438C-A401-AFC2E37B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573-478B-48E2-A723-AAD76EBA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F86-EA08-40A3-AEF1-588564C4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233-5E3F-4D0F-A16B-A4F5B297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40B-ED61-412F-9380-CB9096A3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370-2F94-41F6-A5A3-8257631A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15C-8499-41BB-ABFA-6E69552E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377B-61A6-419C-A7CB-5ADD4DE92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523880"/>
            <a:ext cx="2819160" cy="198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820960" y="2133720"/>
            <a:ext cx="533520" cy="30456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20960" y="2743200"/>
            <a:ext cx="533520" cy="30492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76840" y="2584440"/>
            <a:ext cx="3920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8160" y="236232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8160" y="236232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982880" y="2744640"/>
            <a:ext cx="144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825560" y="2446200"/>
            <a:ext cx="301680" cy="29232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1825560" y="2442960"/>
            <a:ext cx="301680" cy="29232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1938600" y="274536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1938600" y="274536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982880" y="2286000"/>
            <a:ext cx="144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8840" y="19810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5840" y="1981080"/>
            <a:ext cx="1293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190512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190512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520" y="1752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1640" y="2286000"/>
            <a:ext cx="608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917640" y="3188880"/>
            <a:ext cx="12938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11480" y="28195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11480" y="28195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5960" y="3016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01640" y="22860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43828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601640" y="3047760"/>
            <a:ext cx="608040" cy="291960"/>
            <a:chOff x="1601640" y="3047760"/>
            <a:chExt cx="608040" cy="291960"/>
          </a:xfrm>
        </p:grpSpPr>
        <p:sp>
          <p:nvSpPr>
            <p:cNvPr id="66" name=""/>
            <p:cNvSpPr/>
            <p:nvPr/>
          </p:nvSpPr>
          <p:spPr>
            <a:xfrm flipV="1">
              <a:off x="2058840" y="320040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752120" y="3047400"/>
              <a:ext cx="30168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752120" y="3047400"/>
              <a:ext cx="30168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58480" y="315756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058480" y="315756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01640" y="320040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982880" y="2895480"/>
            <a:ext cx="226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2880" y="1981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906560" y="1905120"/>
            <a:ext cx="152280" cy="152280"/>
            <a:chOff x="1906560" y="1905120"/>
            <a:chExt cx="152280" cy="152280"/>
          </a:xfrm>
        </p:grpSpPr>
        <p:sp>
          <p:nvSpPr>
            <p:cNvPr id="75" name=""/>
            <p:cNvSpPr/>
            <p:nvPr/>
          </p:nvSpPr>
          <p:spPr>
            <a:xfrm>
              <a:off x="1944720" y="19432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6560" y="19051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525680" y="3124080"/>
            <a:ext cx="152280" cy="152640"/>
            <a:chOff x="1525680" y="3124080"/>
            <a:chExt cx="152280" cy="152640"/>
          </a:xfrm>
        </p:grpSpPr>
        <p:sp>
          <p:nvSpPr>
            <p:cNvPr id="78" name=""/>
            <p:cNvSpPr/>
            <p:nvPr/>
          </p:nvSpPr>
          <p:spPr>
            <a:xfrm>
              <a:off x="1563840" y="3162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5680" y="312408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59:25Z</dcterms:created>
  <dc:creator>Randal E. Bryant</dc:creator>
  <dc:description/>
  <dc:language>en-US</dc:language>
  <cp:lastModifiedBy>Randal E. Bryant</cp:lastModifiedBy>
  <dcterms:modified xsi:type="dcterms:W3CDTF">2002-02-21T03:57:19Z</dcterms:modified>
  <cp:revision>5</cp:revision>
  <dc:subject/>
  <dc:title>PowerPoint Presentation</dc:title>
</cp:coreProperties>
</file>