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3AC-E2BB-4BB8-A966-0718257A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77724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7710840"/>
            <a:ext cx="77724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7F9-8CAB-4BA7-807D-7C8CD92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E72-14B1-495C-B8E5-64A21EA7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69900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69900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771084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771084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7710840"/>
            <a:ext cx="250236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22C-31C5-435A-91FE-95D2BC6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699000"/>
            <a:ext cx="777240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626-FE1B-43E5-9BFD-2F0B62E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77724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00B-11B5-4269-8E1B-478807C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1A7-4946-4142-B167-9F6F4162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2AF-D1F3-4F05-A693-0B39D8BF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38320"/>
            <a:ext cx="777240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CAF-C737-4043-8305-8510571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335-BB4A-40C8-8F28-7D55C3F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771084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55D-23AB-4873-BD71-9B2EE6C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699000"/>
            <a:ext cx="37926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7710840"/>
            <a:ext cx="7772400" cy="36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88E-F153-4E1A-9518-6CAF8552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38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699000"/>
            <a:ext cx="7772400" cy="76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1662920"/>
            <a:ext cx="19051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1662920"/>
            <a:ext cx="2895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1662920"/>
            <a:ext cx="19051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418-0C44-4681-998F-03F97C6A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051560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327672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6200" y="24382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2767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78800" y="487692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76720"/>
            <a:ext cx="901800" cy="12826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32767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901800" cy="12826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32767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457200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27672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4880" y="281952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52840" y="281952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2280" y="281952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10240" y="281952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9680" y="281952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67640" y="281952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800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68656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568656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6200" y="484812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568656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698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8800" y="728676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568656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68656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698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568656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568656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698184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68656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4880" y="522936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52840" y="522936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2280" y="522936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10240" y="522936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9680" y="522936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67640" y="522936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721044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807732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807732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6200" y="725796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80773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939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807732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939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809640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939168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76392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2840" y="76392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2280" y="76392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0240" y="76392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9680" y="76392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67640" y="76392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8077320"/>
            <a:ext cx="9018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8077320"/>
            <a:ext cx="609840" cy="1295280"/>
          </a:xfrm>
          <a:custGeom>
            <a:avLst/>
            <a:gdLst/>
            <a:ahLst/>
            <a:rect l="l" t="t" r="r" b="b"/>
            <a:pathLst>
              <a:path w="464" h="816">
                <a:moveTo>
                  <a:pt x="0" y="0"/>
                </a:moveTo>
                <a:lnTo>
                  <a:pt x="0" y="816"/>
                </a:lnTo>
                <a:lnTo>
                  <a:pt x="240" y="816"/>
                </a:lnTo>
                <a:cubicBezTo>
                  <a:pt x="312" y="776"/>
                  <a:pt x="400" y="672"/>
                  <a:pt x="432" y="576"/>
                </a:cubicBezTo>
                <a:cubicBezTo>
                  <a:pt x="464" y="480"/>
                  <a:pt x="464" y="336"/>
                  <a:pt x="432" y="240"/>
                </a:cubicBezTo>
                <a:cubicBezTo>
                  <a:pt x="400" y="144"/>
                  <a:pt x="312" y="40"/>
                  <a:pt x="24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8077320"/>
            <a:ext cx="9018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8077320"/>
            <a:ext cx="901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8077320"/>
            <a:ext cx="698760" cy="1295280"/>
          </a:xfrm>
          <a:custGeom>
            <a:avLst/>
            <a:gdLst/>
            <a:ahLst/>
            <a:rect l="l" t="t" r="r" b="b"/>
            <a:pathLst>
              <a:path w="440" h="816">
                <a:moveTo>
                  <a:pt x="0" y="0"/>
                </a:moveTo>
                <a:lnTo>
                  <a:pt x="0" y="816"/>
                </a:lnTo>
                <a:lnTo>
                  <a:pt x="199" y="816"/>
                </a:lnTo>
                <a:cubicBezTo>
                  <a:pt x="260" y="783"/>
                  <a:pt x="332" y="726"/>
                  <a:pt x="368" y="617"/>
                </a:cubicBezTo>
                <a:cubicBezTo>
                  <a:pt x="394" y="521"/>
                  <a:pt x="440" y="256"/>
                  <a:pt x="414" y="160"/>
                </a:cubicBezTo>
                <a:cubicBezTo>
                  <a:pt x="387" y="64"/>
                  <a:pt x="258" y="40"/>
                  <a:pt x="1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8077320"/>
            <a:ext cx="9018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8077320"/>
            <a:ext cx="9014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8077320"/>
            <a:ext cx="609480" cy="1295280"/>
          </a:xfrm>
          <a:custGeom>
            <a:avLst/>
            <a:gdLst/>
            <a:ahLst/>
            <a:rect l="l" t="t" r="r" b="b"/>
            <a:pathLst>
              <a:path w="384" h="816">
                <a:moveTo>
                  <a:pt x="0" y="0"/>
                </a:moveTo>
                <a:lnTo>
                  <a:pt x="0" y="816"/>
                </a:lnTo>
                <a:lnTo>
                  <a:pt x="199" y="816"/>
                </a:lnTo>
                <a:cubicBezTo>
                  <a:pt x="258" y="776"/>
                  <a:pt x="349" y="667"/>
                  <a:pt x="358" y="576"/>
                </a:cubicBezTo>
                <a:cubicBezTo>
                  <a:pt x="384" y="480"/>
                  <a:pt x="279" y="366"/>
                  <a:pt x="253" y="270"/>
                </a:cubicBezTo>
                <a:cubicBezTo>
                  <a:pt x="226" y="174"/>
                  <a:pt x="258" y="40"/>
                  <a:pt x="1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8077320"/>
            <a:ext cx="90144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78800" y="969660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9620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0515600"/>
            <a:ext cx="228600" cy="1295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0515600"/>
            <a:ext cx="228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6200" y="96678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0506240"/>
            <a:ext cx="216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1180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78800" y="1210644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0506240"/>
            <a:ext cx="901800" cy="1282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0506240"/>
            <a:ext cx="216000" cy="130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0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0506240"/>
            <a:ext cx="901800" cy="12826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10506240"/>
            <a:ext cx="216000" cy="130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11801520"/>
            <a:ext cx="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0506240"/>
            <a:ext cx="901800" cy="128268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4880" y="100490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51040" y="1004904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62280" y="100490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0240" y="1004904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9680" y="100490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7640" y="1004904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1203012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15960"/>
            <a:ext cx="121896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920880"/>
            <a:ext cx="121896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615960"/>
            <a:ext cx="121932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920880"/>
            <a:ext cx="12193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225440"/>
            <a:ext cx="12193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17524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1682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1682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835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835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2860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61596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920880"/>
            <a:ext cx="838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22544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1280" y="17589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85840" y="17589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00600" y="17589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19720" y="1758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21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1520" y="21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8288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828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3640" y="24526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3640" y="48769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640" y="7253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640" y="96915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286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098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86104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09728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21:18:43Z</dcterms:created>
  <dc:creator>Randal E. Bryant</dc:creator>
  <dc:description/>
  <dc:language>en-US</dc:language>
  <cp:lastModifiedBy>Randal E. Bryant</cp:lastModifiedBy>
  <dcterms:modified xsi:type="dcterms:W3CDTF">2002-03-14T21:49:51Z</dcterms:modified>
  <cp:revision>6</cp:revision>
  <dc:subject/>
  <dc:title>PowerPoint Presentation</dc:title>
</cp:coreProperties>
</file>