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AFA-A865-4DA0-A21B-1CDF425C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AEF-495A-412E-A285-3151C049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5BC-5DA9-46E0-A7A4-04672430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38B-8F48-48C9-9975-D82CA8C8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CBF-529A-4F20-9145-1EB89019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47B-CC9D-4D0F-B194-BC60BC90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963-7725-48C8-BFBF-7FFC676D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A0B-8A3E-4A59-B7B1-D5F2BE8F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8E9-8F5E-4DBF-8EE7-240F336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72F-1566-4F1A-A3D4-96623054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C12-6F07-4B2E-BF13-1A77B7E2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19D-9B9C-457B-98E7-47F56214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18C4-BE21-4356-A763-436FBDF20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4495680" y="8229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6629400"/>
            <a:ext cx="10666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809880" y="8229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886200" y="74671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8229600"/>
            <a:ext cx="457200" cy="38088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655308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91120" y="6248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08960" y="8229600"/>
            <a:ext cx="2133720" cy="22860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200400" y="6781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00400" y="7315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7772400"/>
            <a:ext cx="60984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65530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729936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63849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419720" y="8534520"/>
            <a:ext cx="152280" cy="152280"/>
            <a:chOff x="4419720" y="8534520"/>
            <a:chExt cx="152280" cy="152280"/>
          </a:xfrm>
        </p:grpSpPr>
        <p:sp>
          <p:nvSpPr>
            <p:cNvPr id="56" name=""/>
            <p:cNvSpPr/>
            <p:nvPr/>
          </p:nvSpPr>
          <p:spPr>
            <a:xfrm>
              <a:off x="4457880" y="8572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9720" y="8534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267080" y="7772400"/>
            <a:ext cx="60984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86868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59436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86868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86868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572000" y="74671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70866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7467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86868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6781680"/>
            <a:ext cx="304920" cy="1981440"/>
          </a:xfrm>
          <a:custGeom>
            <a:avLst/>
            <a:gdLst/>
            <a:ahLst/>
            <a:rect l="l" t="t" r="r" b="b"/>
            <a:pathLst>
              <a:path w="192" h="1248">
                <a:moveTo>
                  <a:pt x="0" y="1248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7315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57600" y="822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8229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81280" y="8381880"/>
            <a:ext cx="152640" cy="152640"/>
            <a:chOff x="3581280" y="8381880"/>
            <a:chExt cx="152640" cy="152640"/>
          </a:xfrm>
        </p:grpSpPr>
        <p:sp>
          <p:nvSpPr>
            <p:cNvPr id="72" name=""/>
            <p:cNvSpPr/>
            <p:nvPr/>
          </p:nvSpPr>
          <p:spPr>
            <a:xfrm>
              <a:off x="3619440" y="8420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81280" y="83818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133720" y="7238880"/>
            <a:ext cx="152280" cy="152640"/>
            <a:chOff x="2133720" y="7238880"/>
            <a:chExt cx="152280" cy="152640"/>
          </a:xfrm>
        </p:grpSpPr>
        <p:sp>
          <p:nvSpPr>
            <p:cNvPr id="75" name=""/>
            <p:cNvSpPr/>
            <p:nvPr/>
          </p:nvSpPr>
          <p:spPr>
            <a:xfrm>
              <a:off x="2171880" y="7277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723888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133720" y="8381880"/>
            <a:ext cx="152280" cy="152640"/>
            <a:chOff x="2133720" y="8381880"/>
            <a:chExt cx="152280" cy="152640"/>
          </a:xfrm>
        </p:grpSpPr>
        <p:sp>
          <p:nvSpPr>
            <p:cNvPr id="78" name=""/>
            <p:cNvSpPr/>
            <p:nvPr/>
          </p:nvSpPr>
          <p:spPr>
            <a:xfrm>
              <a:off x="2171880" y="8420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33720" y="838188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44:20Z</dcterms:modified>
  <cp:revision>31</cp:revision>
  <dc:subject/>
  <dc:title>PowerPoint Presentation</dc:title>
</cp:coreProperties>
</file>