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385-C3C3-42C3-BBED-CF1CCC7A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9BC-5177-4BD6-88E9-1438C5AC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803-220E-4E9A-846F-8EA934D1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7319-8483-4AD2-AA51-D737DB2E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EE2-3097-4995-BA82-9BF06BFC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6EF-780A-4D0B-B012-180D02FE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9FF-E2AE-4D43-A1FC-7D97E223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630-68B7-4B38-9B71-63FE1C12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6BA-A405-4A9A-A1D0-361F1BAB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7DC-15EB-4C04-9780-0D32E13B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6260-4340-480A-9CB1-B0FB545C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C3B-4659-474B-BDED-BEC94C6C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3445-D062-45AD-A254-6DFA40AE4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76520" y="1219320"/>
            <a:ext cx="6273360" cy="2237040"/>
            <a:chOff x="1676520" y="1219320"/>
            <a:chExt cx="6273360" cy="2237040"/>
          </a:xfrm>
        </p:grpSpPr>
        <p:sp>
          <p:nvSpPr>
            <p:cNvPr id="42" name=""/>
            <p:cNvSpPr/>
            <p:nvPr/>
          </p:nvSpPr>
          <p:spPr>
            <a:xfrm>
              <a:off x="2139840" y="1552320"/>
              <a:ext cx="250200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bina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11640" y="1552320"/>
              <a:ext cx="21600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5280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6252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2155680"/>
              <a:ext cx="45720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8320" y="2155680"/>
              <a:ext cx="45720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7800" y="28414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92760" y="312408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64080" y="190476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ay = 32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roughput = 3.12 G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752480" y="487044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3880" y="454356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803760"/>
            <a:ext cx="175248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80376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410832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4108320"/>
            <a:ext cx="175284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413240"/>
            <a:ext cx="175248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441324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7320" y="76212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. Hardware: Unpipel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6960" y="32148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. Pipelin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3:45:25Z</dcterms:created>
  <dc:creator>Randal E. Bryant</dc:creator>
  <dc:description/>
  <dc:language>en-US</dc:language>
  <cp:lastModifiedBy>Randal E. Bryant</cp:lastModifiedBy>
  <dcterms:modified xsi:type="dcterms:W3CDTF">2002-03-03T19:39:15Z</dcterms:modified>
  <cp:revision>6</cp:revision>
  <dc:subject/>
  <dc:title>PowerPoint Presentation</dc:title>
</cp:coreProperties>
</file>