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73C-8F04-4475-9A36-6BC275C7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17C-2E1D-468A-9D3A-917DD010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C43-63B1-4EC8-9146-53C84ADD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491-93A3-4D75-8BF0-6CB35587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27C-1629-41E7-BB55-F7CAD44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767-6981-4470-B257-FEFC8257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2FE-6A9A-4181-B5EE-C4502B2B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1E7-A67C-4A00-9401-21E7F62C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D22-497F-409B-BFF9-1DA33473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540-1DEC-44EB-9B4A-B35E73F9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E85-61C1-4993-B560-3861FE9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E41-67CB-45D7-9C9B-7AE8E2A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659C-756E-4D77-B8B4-AD860B505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7880" y="3124080"/>
            <a:ext cx="4072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= 420 ps, Throughput = 14.29 G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61800" y="1173240"/>
            <a:ext cx="8447760" cy="2283120"/>
            <a:chOff x="361800" y="1173240"/>
            <a:chExt cx="8447760" cy="2283120"/>
          </a:xfrm>
        </p:grpSpPr>
        <p:sp>
          <p:nvSpPr>
            <p:cNvPr id="43" name=""/>
            <p:cNvSpPr/>
            <p:nvPr/>
          </p:nvSpPr>
          <p:spPr>
            <a:xfrm>
              <a:off x="1670040" y="2084040"/>
              <a:ext cx="4129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1800" y="2084040"/>
              <a:ext cx="411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224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164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940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1324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656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8484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372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644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08880" y="2084040"/>
              <a:ext cx="4111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78680" y="2084040"/>
              <a:ext cx="41292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6800" y="312408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39720" y="1541160"/>
              <a:ext cx="19368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0040" y="270180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7480" y="1541160"/>
              <a:ext cx="46692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33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891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13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16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89080" y="1541160"/>
              <a:ext cx="46692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49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07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829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32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59240" y="1541160"/>
              <a:ext cx="46836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465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05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45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848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0840" y="1541160"/>
              <a:ext cx="46836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181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039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261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564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02440" y="1541160"/>
              <a:ext cx="46836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897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755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97720" y="1541160"/>
              <a:ext cx="192240" cy="11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528040" y="27018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4040" y="1541160"/>
              <a:ext cx="468360" cy="1153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613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47160" y="1173240"/>
              <a:ext cx="662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0040" y="2976480"/>
              <a:ext cx="687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3:45:25Z</dcterms:created>
  <dc:creator>Randal E. Bryant</dc:creator>
  <dc:description/>
  <dc:language>en-US</dc:language>
  <cp:lastModifiedBy>Randal E. Bryant</cp:lastModifiedBy>
  <dcterms:modified xsi:type="dcterms:W3CDTF">2002-03-03T19:57:06Z</dcterms:modified>
  <cp:revision>10</cp:revision>
  <dc:subject/>
  <dc:title>PowerPoint Presentation</dc:title>
</cp:coreProperties>
</file>