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BF9-C4D8-495C-8AF6-6417147A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079-34BE-4909-80D9-947ECE94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3B7-1FD4-4226-ABFC-6C9415F0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269-6622-45A9-BFAB-634CC5D0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E22-06F4-4BBB-A60A-A2DA85B0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427-75F9-4BF0-8143-657834AF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890-40A4-4BB0-8E90-BE8C8EAE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9E3-BC4C-4164-8238-50062EFE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304920"/>
            <a:ext cx="38098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949-ACF7-4D7F-9134-0657F3FB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5FF-C420-4AE9-8615-CBDDADA9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BE4-D505-4224-9C9F-C765A01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A0A-9F36-4DBE-8D30-C6B6E560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43A7-8C6F-4506-B121-2A87FD63D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2193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438280" y="1219320"/>
            <a:ext cx="609480" cy="304560"/>
            <a:chOff x="2438280" y="1219320"/>
            <a:chExt cx="609480" cy="304560"/>
          </a:xfrm>
        </p:grpSpPr>
        <p:sp>
          <p:nvSpPr>
            <p:cNvPr id="43" name=""/>
            <p:cNvSpPr/>
            <p:nvPr/>
          </p:nvSpPr>
          <p:spPr>
            <a:xfrm>
              <a:off x="2438280" y="12193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12193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38280" y="12193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2480" y="16765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438280" y="1676520"/>
            <a:ext cx="609480" cy="304560"/>
            <a:chOff x="2438280" y="1676520"/>
            <a:chExt cx="609480" cy="304560"/>
          </a:xfrm>
        </p:grpSpPr>
        <p:sp>
          <p:nvSpPr>
            <p:cNvPr id="48" name=""/>
            <p:cNvSpPr/>
            <p:nvPr/>
          </p:nvSpPr>
          <p:spPr>
            <a:xfrm>
              <a:off x="2438280" y="16765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3200" y="16765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16765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752480" y="21337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n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38280" y="2133720"/>
            <a:ext cx="609480" cy="304560"/>
            <a:chOff x="2438280" y="2133720"/>
            <a:chExt cx="609480" cy="304560"/>
          </a:xfrm>
        </p:grpSpPr>
        <p:sp>
          <p:nvSpPr>
            <p:cNvPr id="53" name=""/>
            <p:cNvSpPr/>
            <p:nvPr/>
          </p:nvSpPr>
          <p:spPr>
            <a:xfrm>
              <a:off x="2438280" y="21337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3200" y="21337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21337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752480" y="25909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o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38280" y="2590920"/>
            <a:ext cx="609480" cy="304560"/>
            <a:chOff x="2438280" y="2590920"/>
            <a:chExt cx="609480" cy="304560"/>
          </a:xfrm>
        </p:grpSpPr>
        <p:sp>
          <p:nvSpPr>
            <p:cNvPr id="58" name=""/>
            <p:cNvSpPr/>
            <p:nvPr/>
          </p:nvSpPr>
          <p:spPr>
            <a:xfrm>
              <a:off x="2438280" y="25909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43200" y="25909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38280" y="25909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114800" y="12193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800600" y="1219320"/>
            <a:ext cx="609480" cy="304560"/>
            <a:chOff x="4800600" y="1219320"/>
            <a:chExt cx="609480" cy="304560"/>
          </a:xfrm>
        </p:grpSpPr>
        <p:sp>
          <p:nvSpPr>
            <p:cNvPr id="63" name=""/>
            <p:cNvSpPr/>
            <p:nvPr/>
          </p:nvSpPr>
          <p:spPr>
            <a:xfrm>
              <a:off x="4800600" y="12193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05520" y="12193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2193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114800" y="16765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800600" y="1676520"/>
            <a:ext cx="609480" cy="304560"/>
            <a:chOff x="4800600" y="1676520"/>
            <a:chExt cx="609480" cy="304560"/>
          </a:xfrm>
        </p:grpSpPr>
        <p:sp>
          <p:nvSpPr>
            <p:cNvPr id="68" name=""/>
            <p:cNvSpPr/>
            <p:nvPr/>
          </p:nvSpPr>
          <p:spPr>
            <a:xfrm>
              <a:off x="4800600" y="16765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05520" y="16765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16765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114800" y="21337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800600" y="2133720"/>
            <a:ext cx="609480" cy="304560"/>
            <a:chOff x="4800600" y="2133720"/>
            <a:chExt cx="609480" cy="304560"/>
          </a:xfrm>
        </p:grpSpPr>
        <p:sp>
          <p:nvSpPr>
            <p:cNvPr id="73" name=""/>
            <p:cNvSpPr/>
            <p:nvPr/>
          </p:nvSpPr>
          <p:spPr>
            <a:xfrm>
              <a:off x="4800600" y="21337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05520" y="21337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00600" y="21337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114800" y="259092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800600" y="2590920"/>
            <a:ext cx="609480" cy="304560"/>
            <a:chOff x="4800600" y="2590920"/>
            <a:chExt cx="609480" cy="304560"/>
          </a:xfrm>
        </p:grpSpPr>
        <p:sp>
          <p:nvSpPr>
            <p:cNvPr id="78" name=""/>
            <p:cNvSpPr/>
            <p:nvPr/>
          </p:nvSpPr>
          <p:spPr>
            <a:xfrm>
              <a:off x="4800600" y="25909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05520" y="25909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00600" y="25909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5791320" y="1219320"/>
            <a:ext cx="1904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477120" y="1219320"/>
            <a:ext cx="609480" cy="304560"/>
            <a:chOff x="6477120" y="1219320"/>
            <a:chExt cx="609480" cy="304560"/>
          </a:xfrm>
        </p:grpSpPr>
        <p:sp>
          <p:nvSpPr>
            <p:cNvPr id="83" name=""/>
            <p:cNvSpPr/>
            <p:nvPr/>
          </p:nvSpPr>
          <p:spPr>
            <a:xfrm>
              <a:off x="6477120" y="12193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82040" y="12193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7120" y="12193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791320" y="1676520"/>
            <a:ext cx="1904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477120" y="1676520"/>
            <a:ext cx="609480" cy="304560"/>
            <a:chOff x="6477120" y="1676520"/>
            <a:chExt cx="609480" cy="304560"/>
          </a:xfrm>
        </p:grpSpPr>
        <p:sp>
          <p:nvSpPr>
            <p:cNvPr id="88" name=""/>
            <p:cNvSpPr/>
            <p:nvPr/>
          </p:nvSpPr>
          <p:spPr>
            <a:xfrm>
              <a:off x="6477120" y="16765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2040" y="16765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16765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791320" y="2133720"/>
            <a:ext cx="1904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477120" y="2133720"/>
            <a:ext cx="609480" cy="304560"/>
            <a:chOff x="6477120" y="2133720"/>
            <a:chExt cx="609480" cy="304560"/>
          </a:xfrm>
        </p:grpSpPr>
        <p:sp>
          <p:nvSpPr>
            <p:cNvPr id="93" name=""/>
            <p:cNvSpPr/>
            <p:nvPr/>
          </p:nvSpPr>
          <p:spPr>
            <a:xfrm>
              <a:off x="6477120" y="21337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2040" y="21337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77120" y="21337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681560" y="68580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er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3120" y="685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a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2:02:01Z</dcterms:created>
  <dc:creator>Randal E. Bryant</dc:creator>
  <dc:description/>
  <dc:language>en-US</dc:language>
  <cp:lastModifiedBy>Randal E. Bryant</cp:lastModifiedBy>
  <dcterms:modified xsi:type="dcterms:W3CDTF">2002-01-11T20:40:22Z</dcterms:modified>
  <cp:revision>33</cp:revision>
  <dc:subject/>
  <dc:title>PowerPoint Presentation</dc:title>
</cp:coreProperties>
</file>