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78D-03E9-4A6E-B5DD-6AC33DB8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4B8-40A6-4931-9CB3-6B79684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A91-56A2-4C3A-91BE-29025001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03F-B449-4327-B506-0C65DF69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C37-AF30-497C-B9B2-7F5B58F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1F4-FE9B-483B-A728-C48EA8B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0A9-D59C-421C-9FD3-AA81440E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D43-FA47-4864-AFF0-25CC5801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016-D3AB-4EA6-8BBC-7560FC1B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450-265D-4FBD-8A32-7BC9B95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FEE-F1DC-4FBF-A938-2485518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5A5-265E-4C6E-A6DA-4F390ACE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5C2-5277-4608-AEF9-B6183E900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9680" y="914400"/>
            <a:ext cx="2058120" cy="1752120"/>
            <a:chOff x="229680" y="914400"/>
            <a:chExt cx="2058120" cy="1752120"/>
          </a:xfrm>
        </p:grpSpPr>
        <p:grpSp>
          <p:nvGrpSpPr>
            <p:cNvPr id="42" name=""/>
            <p:cNvGrpSpPr/>
            <p:nvPr/>
          </p:nvGrpSpPr>
          <p:grpSpPr>
            <a:xfrm>
              <a:off x="533160" y="1219320"/>
              <a:ext cx="1066680" cy="1447200"/>
              <a:chOff x="533160" y="1219320"/>
              <a:chExt cx="1066680" cy="1447200"/>
            </a:xfrm>
          </p:grpSpPr>
          <p:sp>
            <p:nvSpPr>
              <p:cNvPr id="43" name=""/>
              <p:cNvSpPr/>
              <p:nvPr/>
            </p:nvSpPr>
            <p:spPr>
              <a:xfrm>
                <a:off x="53316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32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837720" y="1371240"/>
                <a:ext cx="457200" cy="1295280"/>
                <a:chOff x="837720" y="1371240"/>
                <a:chExt cx="457200" cy="129528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3772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91404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53316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9492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22968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68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128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84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360160" y="914400"/>
            <a:ext cx="2058120" cy="1752120"/>
            <a:chOff x="2360160" y="914400"/>
            <a:chExt cx="2058120" cy="1752120"/>
          </a:xfrm>
        </p:grpSpPr>
        <p:grpSp>
          <p:nvGrpSpPr>
            <p:cNvPr id="55" name=""/>
            <p:cNvGrpSpPr/>
            <p:nvPr/>
          </p:nvGrpSpPr>
          <p:grpSpPr>
            <a:xfrm>
              <a:off x="2663640" y="1219320"/>
              <a:ext cx="1066680" cy="1447200"/>
              <a:chOff x="2663640" y="1219320"/>
              <a:chExt cx="1066680" cy="1447200"/>
            </a:xfrm>
          </p:grpSpPr>
          <p:sp>
            <p:nvSpPr>
              <p:cNvPr id="56" name=""/>
              <p:cNvSpPr/>
              <p:nvPr/>
            </p:nvSpPr>
            <p:spPr>
              <a:xfrm>
                <a:off x="266364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9680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2968200" y="1371240"/>
                <a:ext cx="457200" cy="1295280"/>
                <a:chOff x="2968200" y="1371240"/>
                <a:chExt cx="457200" cy="12952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96820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04452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66364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2540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36016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016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176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632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490640" y="914400"/>
            <a:ext cx="2058120" cy="1752120"/>
            <a:chOff x="4490640" y="914400"/>
            <a:chExt cx="2058120" cy="1752120"/>
          </a:xfrm>
        </p:grpSpPr>
        <p:grpSp>
          <p:nvGrpSpPr>
            <p:cNvPr id="68" name=""/>
            <p:cNvGrpSpPr/>
            <p:nvPr/>
          </p:nvGrpSpPr>
          <p:grpSpPr>
            <a:xfrm>
              <a:off x="4794120" y="1219320"/>
              <a:ext cx="1066680" cy="1447200"/>
              <a:chOff x="4794120" y="1219320"/>
              <a:chExt cx="1066680" cy="1447200"/>
            </a:xfrm>
          </p:grpSpPr>
          <p:sp>
            <p:nvSpPr>
              <p:cNvPr id="69" name=""/>
              <p:cNvSpPr/>
              <p:nvPr/>
            </p:nvSpPr>
            <p:spPr>
              <a:xfrm>
                <a:off x="479412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2728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5098680" y="1371240"/>
                <a:ext cx="457200" cy="1295280"/>
                <a:chOff x="5098680" y="1371240"/>
                <a:chExt cx="457200" cy="12952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09868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17500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479412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5588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49064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064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224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7680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621120" y="914400"/>
            <a:ext cx="2058120" cy="1752120"/>
            <a:chOff x="6621120" y="914400"/>
            <a:chExt cx="2058120" cy="1752120"/>
          </a:xfrm>
        </p:grpSpPr>
        <p:grpSp>
          <p:nvGrpSpPr>
            <p:cNvPr id="81" name=""/>
            <p:cNvGrpSpPr/>
            <p:nvPr/>
          </p:nvGrpSpPr>
          <p:grpSpPr>
            <a:xfrm>
              <a:off x="6924600" y="1219320"/>
              <a:ext cx="1066680" cy="1447200"/>
              <a:chOff x="6924600" y="1219320"/>
              <a:chExt cx="1066680" cy="1447200"/>
            </a:xfrm>
          </p:grpSpPr>
          <p:sp>
            <p:nvSpPr>
              <p:cNvPr id="82" name=""/>
              <p:cNvSpPr/>
              <p:nvPr/>
            </p:nvSpPr>
            <p:spPr>
              <a:xfrm>
                <a:off x="6924600" y="1599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7760" y="1219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7229160" y="1371240"/>
                <a:ext cx="457200" cy="1295280"/>
                <a:chOff x="7229160" y="1371240"/>
                <a:chExt cx="457200" cy="1295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229160" y="137124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05480" y="159948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6924600" y="2438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86360" y="19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621120" y="141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112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92720" y="18414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^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7280" y="91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01000" y="1523880"/>
            <a:ext cx="264600" cy="1068840"/>
            <a:chOff x="801000" y="1523880"/>
            <a:chExt cx="264600" cy="1068840"/>
          </a:xfrm>
        </p:grpSpPr>
        <p:sp>
          <p:nvSpPr>
            <p:cNvPr id="94" name=""/>
            <p:cNvSpPr/>
            <p:nvPr/>
          </p:nvSpPr>
          <p:spPr>
            <a:xfrm>
              <a:off x="80100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100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934360" y="1523880"/>
            <a:ext cx="264600" cy="1068840"/>
            <a:chOff x="2934360" y="1523880"/>
            <a:chExt cx="264600" cy="1068840"/>
          </a:xfrm>
        </p:grpSpPr>
        <p:sp>
          <p:nvSpPr>
            <p:cNvPr id="97" name=""/>
            <p:cNvSpPr/>
            <p:nvPr/>
          </p:nvSpPr>
          <p:spPr>
            <a:xfrm>
              <a:off x="293436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3436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068080" y="1523880"/>
            <a:ext cx="264600" cy="1068840"/>
            <a:chOff x="5068080" y="1523880"/>
            <a:chExt cx="264600" cy="1068840"/>
          </a:xfrm>
        </p:grpSpPr>
        <p:sp>
          <p:nvSpPr>
            <p:cNvPr id="100" name=""/>
            <p:cNvSpPr/>
            <p:nvPr/>
          </p:nvSpPr>
          <p:spPr>
            <a:xfrm>
              <a:off x="506808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6808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201800" y="1523880"/>
            <a:ext cx="264600" cy="1068840"/>
            <a:chOff x="7201800" y="1523880"/>
            <a:chExt cx="264600" cy="1068840"/>
          </a:xfrm>
        </p:grpSpPr>
        <p:sp>
          <p:nvSpPr>
            <p:cNvPr id="103" name=""/>
            <p:cNvSpPr/>
            <p:nvPr/>
          </p:nvSpPr>
          <p:spPr>
            <a:xfrm>
              <a:off x="7201800" y="1523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1800" y="2346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22:59:26Z</dcterms:created>
  <dc:creator>Randal E. Bryant</dc:creator>
  <dc:description/>
  <dc:language>en-US</dc:language>
  <cp:lastModifiedBy>Randal E. Bryant</cp:lastModifiedBy>
  <dcterms:modified xsi:type="dcterms:W3CDTF">2002-02-17T03:57:23Z</dcterms:modified>
  <cp:revision>2</cp:revision>
  <dc:subject/>
  <dc:title>PowerPoint Presentation</dc:title>
</cp:coreProperties>
</file>