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C54-6386-40FF-8A2B-3E26CAE4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98D-6F78-4205-94E1-A06705CB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4CC-87DA-48B6-9D6F-5B3AF442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FD9-DC48-48DE-ADCF-2CF86D86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023-56F5-4A9B-B7E3-7877B50C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EF1-F975-43DE-9029-AED09509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0610-0DE2-4A8E-91DF-7F845386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BDF-887A-4CA9-B4DE-615C417A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4CA-22D6-4AD4-ADB2-961CA346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7A8-FBBA-4590-801B-092B16E6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284-175C-48EA-A1FC-5C3A345A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D9A-79AC-4B42-91B5-F4EB75E2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C665-BA3B-4B20-96EB-3D6EC33A6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2692440" y="922032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4191120"/>
            <a:ext cx="4876920" cy="11201400"/>
          </a:xfrm>
          <a:custGeom>
            <a:avLst/>
            <a:gdLst/>
            <a:ahLst/>
            <a:rect l="l" t="t" r="r" b="b"/>
            <a:pathLst>
              <a:path w="3072" h="7056">
                <a:moveTo>
                  <a:pt x="240" y="144"/>
                </a:moveTo>
                <a:lnTo>
                  <a:pt x="240" y="0"/>
                </a:lnTo>
                <a:lnTo>
                  <a:pt x="3072" y="0"/>
                </a:lnTo>
                <a:lnTo>
                  <a:pt x="3072" y="7056"/>
                </a:lnTo>
                <a:lnTo>
                  <a:pt x="0" y="7056"/>
                </a:lnTo>
                <a:lnTo>
                  <a:pt x="0" y="6864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419720" y="7467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13868280"/>
            <a:ext cx="2057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138682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58920" y="9067680"/>
            <a:ext cx="53352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8991720"/>
            <a:ext cx="1295280" cy="457200"/>
          </a:xfrm>
          <a:custGeom>
            <a:avLst/>
            <a:gdLst>
              <a:gd name="textAreaLeft" fmla="*/ 284760 w 1295280"/>
              <a:gd name="textAreaRight" fmla="*/ 1010520 w 12952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6781680"/>
            <a:ext cx="10666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0058400"/>
            <a:ext cx="1218960" cy="91440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0"/>
                </a:moveTo>
                <a:lnTo>
                  <a:pt x="0" y="96"/>
                </a:lnTo>
                <a:lnTo>
                  <a:pt x="576" y="96"/>
                </a:lnTo>
                <a:lnTo>
                  <a:pt x="576" y="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4952880"/>
            <a:ext cx="396216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286000" y="1348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43200" y="1348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00400" y="1348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419720" y="1348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28800" y="1348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38680" y="11353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095880" y="11353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115822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115822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81480" y="11353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96012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96012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29000" y="8762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971800" y="9448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62520" y="9448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438280" y="8763120"/>
            <a:ext cx="0" cy="3045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962520" y="7467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8001000"/>
            <a:ext cx="685800" cy="152280"/>
          </a:xfrm>
          <a:custGeom>
            <a:avLst/>
            <a:gdLst/>
            <a:ahLst/>
            <a:rect l="l" t="t" r="r" b="b"/>
            <a:pathLst>
              <a:path w="384" h="48">
                <a:moveTo>
                  <a:pt x="384" y="48"/>
                </a:move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685800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655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29000" y="8001000"/>
            <a:ext cx="380880" cy="3049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384" y="48"/>
                </a:move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200400" y="7010280"/>
            <a:ext cx="457200" cy="228600"/>
            <a:chOff x="3200400" y="7010280"/>
            <a:chExt cx="457200" cy="228600"/>
          </a:xfrm>
        </p:grpSpPr>
        <p:sp>
          <p:nvSpPr>
            <p:cNvPr id="74" name=""/>
            <p:cNvSpPr/>
            <p:nvPr/>
          </p:nvSpPr>
          <p:spPr>
            <a:xfrm flipH="1">
              <a:off x="3200400" y="70102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200400" y="72388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657600" y="76201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010280" y="11353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553080" y="11353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115822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15822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648320" y="8077320"/>
            <a:ext cx="152280" cy="152280"/>
            <a:chOff x="4648320" y="8077320"/>
            <a:chExt cx="152280" cy="152280"/>
          </a:xfrm>
        </p:grpSpPr>
        <p:sp>
          <p:nvSpPr>
            <p:cNvPr id="82" name=""/>
            <p:cNvSpPr/>
            <p:nvPr/>
          </p:nvSpPr>
          <p:spPr>
            <a:xfrm>
              <a:off x="4686480" y="8115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48320" y="80773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591920"/>
            <a:ext cx="152280" cy="152280"/>
            <a:chOff x="4648320" y="10591920"/>
            <a:chExt cx="152280" cy="152280"/>
          </a:xfrm>
        </p:grpSpPr>
        <p:sp>
          <p:nvSpPr>
            <p:cNvPr id="85" name=""/>
            <p:cNvSpPr/>
            <p:nvPr/>
          </p:nvSpPr>
          <p:spPr>
            <a:xfrm>
              <a:off x="4686480" y="106300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48320" y="105919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200400" y="67816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72388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891540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886200" y="9144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1394460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120" y="120650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120" y="90676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400" y="70102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6840" y="1272528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65372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495680" y="12099960"/>
            <a:ext cx="1066680" cy="719280"/>
            <a:chOff x="4495680" y="12099960"/>
            <a:chExt cx="1066680" cy="719280"/>
          </a:xfrm>
        </p:grpSpPr>
        <p:sp>
          <p:nvSpPr>
            <p:cNvPr id="98" name=""/>
            <p:cNvSpPr/>
            <p:nvPr/>
          </p:nvSpPr>
          <p:spPr>
            <a:xfrm>
              <a:off x="4495680" y="12115800"/>
              <a:ext cx="9903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47960" y="12099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8840" y="12099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21921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57440" y="125730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09680" y="8381880"/>
            <a:ext cx="4572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733920" y="8229600"/>
            <a:ext cx="152280" cy="152280"/>
            <a:chOff x="3733920" y="8229600"/>
            <a:chExt cx="152280" cy="152280"/>
          </a:xfrm>
        </p:grpSpPr>
        <p:sp>
          <p:nvSpPr>
            <p:cNvPr id="112" name=""/>
            <p:cNvSpPr/>
            <p:nvPr/>
          </p:nvSpPr>
          <p:spPr>
            <a:xfrm>
              <a:off x="3772080" y="8267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33920" y="822960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V="1">
            <a:off x="2743200" y="14477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14478120"/>
            <a:ext cx="1676520" cy="152280"/>
          </a:xfrm>
          <a:custGeom>
            <a:avLst/>
            <a:gdLst/>
            <a:ahLst/>
            <a:rect l="l" t="t" r="r" b="b"/>
            <a:pathLst>
              <a:path w="1200" h="96">
                <a:moveTo>
                  <a:pt x="0" y="96"/>
                </a:moveTo>
                <a:lnTo>
                  <a:pt x="1200" y="96"/>
                </a:lnTo>
                <a:lnTo>
                  <a:pt x="12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666880" y="14554080"/>
            <a:ext cx="152640" cy="152640"/>
            <a:chOff x="2666880" y="14554080"/>
            <a:chExt cx="152640" cy="152640"/>
          </a:xfrm>
        </p:grpSpPr>
        <p:sp>
          <p:nvSpPr>
            <p:cNvPr id="117" name=""/>
            <p:cNvSpPr/>
            <p:nvPr/>
          </p:nvSpPr>
          <p:spPr>
            <a:xfrm>
              <a:off x="2705040" y="145922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66880" y="145540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V="1">
            <a:off x="4343400" y="54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828800" y="5486040"/>
            <a:ext cx="0" cy="762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147067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131065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657600" y="1348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724280" y="11353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109728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76201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724280" y="80006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19720" y="80010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8381880"/>
            <a:ext cx="4572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8305920"/>
            <a:ext cx="3886200" cy="4343400"/>
          </a:xfrm>
          <a:custGeom>
            <a:avLst/>
            <a:gdLst/>
            <a:ahLst/>
            <a:rect l="l" t="t" r="r" b="b"/>
            <a:pathLst>
              <a:path w="2448" h="2736">
                <a:moveTo>
                  <a:pt x="0" y="48"/>
                </a:moveTo>
                <a:lnTo>
                  <a:pt x="0" y="0"/>
                </a:lnTo>
                <a:lnTo>
                  <a:pt x="2448" y="0"/>
                </a:lnTo>
                <a:lnTo>
                  <a:pt x="2448" y="2736"/>
                </a:lnTo>
                <a:lnTo>
                  <a:pt x="1296" y="27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0058400"/>
            <a:ext cx="1523880" cy="609480"/>
          </a:xfrm>
          <a:custGeom>
            <a:avLst/>
            <a:gdLst/>
            <a:ahLst/>
            <a:rect l="l" t="t" r="r" b="b"/>
            <a:pathLst>
              <a:path w="384" h="48">
                <a:moveTo>
                  <a:pt x="384" y="48"/>
                </a:move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61722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400" y="5073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6019920"/>
            <a:ext cx="3124080" cy="6248160"/>
          </a:xfrm>
          <a:custGeom>
            <a:avLst/>
            <a:gdLst/>
            <a:ahLst/>
            <a:rect l="l" t="t" r="r" b="b"/>
            <a:pathLst>
              <a:path w="1968" h="3936">
                <a:moveTo>
                  <a:pt x="0" y="0"/>
                </a:moveTo>
                <a:lnTo>
                  <a:pt x="1968" y="0"/>
                </a:lnTo>
                <a:lnTo>
                  <a:pt x="1968" y="3936"/>
                </a:lnTo>
                <a:lnTo>
                  <a:pt x="720" y="39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438280" y="5486040"/>
            <a:ext cx="0" cy="28954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5486400"/>
            <a:ext cx="1600200" cy="7620120"/>
          </a:xfrm>
          <a:custGeom>
            <a:avLst/>
            <a:gdLst/>
            <a:ahLst/>
            <a:rect l="l" t="t" r="r" b="b"/>
            <a:pathLst>
              <a:path w="1056" h="4800">
                <a:moveTo>
                  <a:pt x="1056" y="4800"/>
                </a:moveTo>
                <a:lnTo>
                  <a:pt x="1056" y="3408"/>
                </a:lnTo>
                <a:lnTo>
                  <a:pt x="0" y="340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19520" y="10820520"/>
            <a:ext cx="152280" cy="152280"/>
            <a:chOff x="2819520" y="10820520"/>
            <a:chExt cx="152280" cy="152280"/>
          </a:xfrm>
        </p:grpSpPr>
        <p:sp>
          <p:nvSpPr>
            <p:cNvPr id="140" name=""/>
            <p:cNvSpPr/>
            <p:nvPr/>
          </p:nvSpPr>
          <p:spPr>
            <a:xfrm>
              <a:off x="2857680" y="10858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19520" y="108205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 flipV="1">
            <a:off x="2895480" y="100584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267080" y="5943600"/>
            <a:ext cx="152640" cy="152280"/>
            <a:chOff x="4267080" y="5943600"/>
            <a:chExt cx="152640" cy="152280"/>
          </a:xfrm>
        </p:grpSpPr>
        <p:sp>
          <p:nvSpPr>
            <p:cNvPr id="144" name=""/>
            <p:cNvSpPr/>
            <p:nvPr/>
          </p:nvSpPr>
          <p:spPr>
            <a:xfrm>
              <a:off x="4305240" y="5981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67080" y="594360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419720" y="5486400"/>
            <a:ext cx="609480" cy="3124080"/>
          </a:xfrm>
          <a:custGeom>
            <a:avLst/>
            <a:gdLst/>
            <a:ahLst/>
            <a:rect l="l" t="t" r="r" b="b"/>
            <a:pathLst>
              <a:path w="384" h="1968">
                <a:moveTo>
                  <a:pt x="0" y="1968"/>
                </a:moveTo>
                <a:lnTo>
                  <a:pt x="384" y="1968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343400" y="8534520"/>
            <a:ext cx="152280" cy="152280"/>
            <a:chOff x="4343400" y="8534520"/>
            <a:chExt cx="152280" cy="152280"/>
          </a:xfrm>
        </p:grpSpPr>
        <p:sp>
          <p:nvSpPr>
            <p:cNvPr id="148" name=""/>
            <p:cNvSpPr/>
            <p:nvPr/>
          </p:nvSpPr>
          <p:spPr>
            <a:xfrm>
              <a:off x="4381560" y="8572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85345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743200" y="434340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24080" y="4723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5-13T12:06:08Z</dcterms:modified>
  <cp:revision>32</cp:revision>
  <dc:subject/>
  <dc:title>PowerPoint Presentation</dc:title>
</cp:coreProperties>
</file>