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F85-9C59-4B23-B526-F0855931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911-5C60-4FD4-90AD-DD261672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84F-A7D3-439B-AD52-879765C0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6A5-AD7B-4524-A8AF-62CE8133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F8B-EEED-4614-B4A0-6AB97B00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444-414E-4EB5-8E90-359CBC85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B13-45E7-4476-A21A-20B15EC9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A55-C6B4-4145-B107-5F9ABDEF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F6C-C7C8-410A-A8B7-2B64FAA9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866-65B3-46AD-AE85-1A231DFA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A5E-4875-48F6-A418-1406E32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7EB-846F-4D78-8FC8-1DA92B17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8A35-38AB-4FB1-8768-6D0C276B2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45540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1287792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410080" y="124963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51635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3792320"/>
            <a:ext cx="2666880" cy="167616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96"/>
                </a:moveTo>
                <a:lnTo>
                  <a:pt x="1200" y="96"/>
                </a:lnTo>
                <a:lnTo>
                  <a:pt x="12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52480" y="13563720"/>
            <a:ext cx="152640" cy="152280"/>
            <a:chOff x="1752480" y="13563720"/>
            <a:chExt cx="152640" cy="152280"/>
          </a:xfrm>
        </p:grpSpPr>
        <p:sp>
          <p:nvSpPr>
            <p:cNvPr id="51" name=""/>
            <p:cNvSpPr/>
            <p:nvPr/>
          </p:nvSpPr>
          <p:spPr>
            <a:xfrm>
              <a:off x="1790640" y="136018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52480" y="135637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362320" y="15773400"/>
            <a:ext cx="761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121158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57600" y="1249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860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004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28800" y="12496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3335120"/>
            <a:ext cx="685800" cy="5331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1272528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3639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52480" y="12953880"/>
            <a:ext cx="152640" cy="152640"/>
            <a:chOff x="1752480" y="12953880"/>
            <a:chExt cx="152640" cy="152640"/>
          </a:xfrm>
        </p:grpSpPr>
        <p:sp>
          <p:nvSpPr>
            <p:cNvPr id="65" name=""/>
            <p:cNvSpPr/>
            <p:nvPr/>
          </p:nvSpPr>
          <p:spPr>
            <a:xfrm>
              <a:off x="1790640" y="12992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52480" y="12953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828800" y="13030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3030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3639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15392520"/>
            <a:ext cx="152640" cy="152280"/>
            <a:chOff x="2666880" y="15392520"/>
            <a:chExt cx="152640" cy="152280"/>
          </a:xfrm>
        </p:grpSpPr>
        <p:sp>
          <p:nvSpPr>
            <p:cNvPr id="71" name=""/>
            <p:cNvSpPr/>
            <p:nvPr/>
          </p:nvSpPr>
          <p:spPr>
            <a:xfrm>
              <a:off x="2705040" y="15430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153925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2120" y="130302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447920" y="1333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13258800"/>
            <a:ext cx="152640" cy="152280"/>
            <a:chOff x="1752480" y="13258800"/>
            <a:chExt cx="152640" cy="152280"/>
          </a:xfrm>
        </p:grpSpPr>
        <p:sp>
          <p:nvSpPr>
            <p:cNvPr id="76" name=""/>
            <p:cNvSpPr/>
            <p:nvPr/>
          </p:nvSpPr>
          <p:spPr>
            <a:xfrm>
              <a:off x="1790640" y="132969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2480" y="132588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>
            <a:off x="456840" y="1333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3868280"/>
            <a:ext cx="10670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13639680"/>
            <a:ext cx="990360" cy="45720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720" y="0"/>
                </a:moveTo>
                <a:lnTo>
                  <a:pt x="720" y="240"/>
                </a:lnTo>
                <a:lnTo>
                  <a:pt x="0" y="24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48320" y="13563720"/>
            <a:ext cx="152280" cy="152280"/>
            <a:chOff x="4648320" y="13563720"/>
            <a:chExt cx="152280" cy="152280"/>
          </a:xfrm>
        </p:grpSpPr>
        <p:sp>
          <p:nvSpPr>
            <p:cNvPr id="82" name=""/>
            <p:cNvSpPr/>
            <p:nvPr/>
          </p:nvSpPr>
          <p:spPr>
            <a:xfrm>
              <a:off x="4686480" y="136018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8320" y="13563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3200400" y="1424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3868280"/>
            <a:ext cx="6098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057400" y="1424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99680" y="1427940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te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9640" y="142794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39:48Z</dcterms:modified>
  <cp:revision>32</cp:revision>
  <dc:subject/>
  <dc:title>PowerPoint Presentation</dc:title>
</cp:coreProperties>
</file>