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556240" y="222120"/>
            <a:ext cx="1571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A314-17F3-48FD-B6B5-56BBA9491DF4}" type="slidenum">
              <a:rPr b="0" lang="en-US" sz="2400" spc="-1" strike="noStrike">
                <a:solidFill>
                  <a:srgbClr val="e0e0e0"/>
                </a:solidFill>
                <a:latin typeface="Arial"/>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ntroduces Collection classes from Chapter 3. Before this lecture, students should know about these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to implement simple classes, such as those in Chapter 2.</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 to use Java array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presents Collection classes using an example: the Bag class.  After this lecture, it would be a good idea to give further coverage of some issues from Section 3.2. In particular, you should cover the techniques used to ensure sufficient capacity of the bag’s array, and the addAll and union methods, which are not covered in this presentation.</a:t>
            </a:r>
            <a:endParaRPr b="0" lang="en-US" sz="1200" spc="-1" strike="noStrike">
              <a:solidFill>
                <a:srgbClr val="000000"/>
              </a:solidFill>
              <a:latin typeface="Arial"/>
            </a:endParaRPr>
          </a:p>
        </p:txBody>
      </p:sp>
      <p:sp>
        <p:nvSpPr>
          <p:cNvPr id="706"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have two fours and one eight in the bag of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make a small point on the side: A bag’s behavior is a bit different than a </a:t>
            </a:r>
            <a:r>
              <a:rPr b="0" lang="en-US" sz="1200" spc="-1" strike="noStrike" u="sng">
                <a:solidFill>
                  <a:srgbClr val="000000"/>
                </a:solidFill>
                <a:uFillTx/>
                <a:latin typeface="Arial"/>
              </a:rPr>
              <a:t>set of numbers</a:t>
            </a:r>
            <a:r>
              <a:rPr b="0" lang="en-US" sz="1200" spc="-1" strike="noStrike">
                <a:solidFill>
                  <a:srgbClr val="000000"/>
                </a:solidFill>
                <a:latin typeface="Arial"/>
              </a:rPr>
              <a:t>.  A set is not allowed to have two copies of the same number.  But a bag can have many copies of the same number.</a:t>
            </a:r>
            <a:endParaRPr b="0" lang="en-US" sz="1200" spc="-1" strike="noStrike">
              <a:solidFill>
                <a:srgbClr val="000000"/>
              </a:solidFill>
              <a:latin typeface="Arial"/>
            </a:endParaRPr>
          </a:p>
        </p:txBody>
      </p:sp>
      <p:sp>
        <p:nvSpPr>
          <p:cNvPr id="724"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know the initial state of a bag (it is empty) and we also have one operation (adding a number).  Here is our second bag operation: an ability to query a bag about its contents.  In particular, we can ask the bag how many copies does it contain of a given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hat would the bag respond if I asked for eights instead of fours.  (“Yes, I have one eight.”)  What if I ask for tens instead of fours.  (“No, I have no tens.”).</a:t>
            </a:r>
            <a:endParaRPr b="0" lang="en-US" sz="1200" spc="-1" strike="noStrike">
              <a:solidFill>
                <a:srgbClr val="000000"/>
              </a:solidFill>
              <a:latin typeface="Arial"/>
            </a:endParaRPr>
          </a:p>
        </p:txBody>
      </p:sp>
      <p:sp>
        <p:nvSpPr>
          <p:cNvPr id="726"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ur third bag operation: removing a number from a bag.</a:t>
            </a:r>
            <a:endParaRPr b="0" lang="en-US" sz="1200" spc="-1" strike="noStrike">
              <a:solidFill>
                <a:srgbClr val="000000"/>
              </a:solidFill>
              <a:latin typeface="Arial"/>
            </a:endParaRPr>
          </a:p>
        </p:txBody>
      </p:sp>
      <p:sp>
        <p:nvSpPr>
          <p:cNvPr id="728"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I removed one of the fours, but the other four remains intact.  Numbers are removed one at a time, so that if there are many fours, and I remove one of them, other fours can remain in the bag.</a:t>
            </a:r>
            <a:endParaRPr b="0" lang="en-US" sz="1200" spc="-1" strike="noStrike">
              <a:solidFill>
                <a:srgbClr val="000000"/>
              </a:solidFill>
              <a:latin typeface="Arial"/>
            </a:endParaRPr>
          </a:p>
        </p:txBody>
      </p:sp>
      <p:sp>
        <p:nvSpPr>
          <p:cNvPr id="730"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peration allows us to find out how many numbers are in the bag at the moment.</a:t>
            </a:r>
            <a:endParaRPr b="0" lang="en-US" sz="1200" spc="-1" strike="noStrike">
              <a:solidFill>
                <a:srgbClr val="000000"/>
              </a:solidFill>
              <a:latin typeface="Arial"/>
            </a:endParaRPr>
          </a:p>
        </p:txBody>
      </p:sp>
      <p:sp>
        <p:nvSpPr>
          <p:cNvPr id="732"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alked about four bag operations, but we actually have five since the process of putting a bag into its initial state counts as an operation.  This slide just summarizes the five bag operations. By the way, which of these five operations is likely to be implemented via the bag constructor?</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the bag is truly abstract, since we haven’t decided how the bag will be implemented. Nevertheless, we still have a good idea of how a bag might be used to solve various problem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this point, you might pause the lecture to demonstrate how a paper bag can be used to remember the ages of several students in the class.  Start by initializing the bag, then insert several students’ ages, make a few queries about the bag, and finally remove the ages.  This is a good place to point out that additional bag operations might be useful, such as an operation of combining two bags. The example bag in Section 3.2 does have some additional operations.</a:t>
            </a:r>
            <a:endParaRPr b="0" lang="en-US" sz="1200" spc="-1" strike="noStrike">
              <a:solidFill>
                <a:srgbClr val="000000"/>
              </a:solidFill>
              <a:latin typeface="Arial"/>
            </a:endParaRPr>
          </a:p>
        </p:txBody>
      </p:sp>
      <p:sp>
        <p:nvSpPr>
          <p:cNvPr id="734"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to look at the implementation of a bag as a Java class. The class definition begins as shown in this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estion: Suppose this class definition has been completed.  How would a program declare reference variables for three different bags that the program uses, and create two bags for those vari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a,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a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b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ublic part of the Bag class definition, we begin by implementing the constructor...</a:t>
            </a:r>
            <a:endParaRPr b="0" lang="en-US" sz="1200" spc="-1" strike="noStrike">
              <a:solidFill>
                <a:srgbClr val="000000"/>
              </a:solidFill>
              <a:latin typeface="Arial"/>
            </a:endParaRPr>
          </a:p>
        </p:txBody>
      </p:sp>
      <p:sp>
        <p:nvSpPr>
          <p:cNvPr id="738"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ublic part of the Bag class definition, we begin by implementing the constructor... and then we implement the other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example, we have at least four methods to implement, plus the constructor. </a:t>
            </a:r>
            <a:endParaRPr b="0" lang="en-US" sz="1200" spc="-1" strike="noStrike">
              <a:solidFill>
                <a:srgbClr val="000000"/>
              </a:solidFill>
              <a:latin typeface="Arial"/>
            </a:endParaRPr>
          </a:p>
        </p:txBody>
      </p:sp>
      <p:sp>
        <p:nvSpPr>
          <p:cNvPr id="740"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note: The intention with a class is that the </a:t>
            </a:r>
            <a:r>
              <a:rPr b="0" lang="en-US" sz="1200" spc="-1" strike="noStrike" u="sng">
                <a:solidFill>
                  <a:srgbClr val="000000"/>
                </a:solidFill>
                <a:uFillTx/>
                <a:latin typeface="Arial"/>
              </a:rPr>
              <a:t>only</a:t>
            </a:r>
            <a:r>
              <a:rPr b="0" lang="en-US" sz="1200" spc="-1" strike="noStrike">
                <a:solidFill>
                  <a:srgbClr val="000000"/>
                </a:solidFill>
                <a:latin typeface="Arial"/>
              </a:rPr>
              <a:t> way that an object is manipulated is through its public operations.  Even if we have “inside information” about the private instance variables, we don’t want our programs to use that information.  Instead, the only ways that our programs will manipulate a bag is through the public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is called </a:t>
            </a:r>
            <a:r>
              <a:rPr b="0" lang="en-US" sz="1200" spc="-1" strike="noStrike" u="sng">
                <a:solidFill>
                  <a:srgbClr val="000000"/>
                </a:solidFill>
                <a:uFillTx/>
                <a:latin typeface="Arial"/>
              </a:rPr>
              <a:t>information hiding</a:t>
            </a:r>
            <a:r>
              <a:rPr b="0" lang="en-US" sz="1200" spc="-1" strike="noStrike">
                <a:solidFill>
                  <a:srgbClr val="000000"/>
                </a:solidFill>
                <a:latin typeface="Arial"/>
              </a:rPr>
              <a:t>.  What advantages do you see to the approach?  1. The programmer who </a:t>
            </a:r>
            <a:r>
              <a:rPr b="0" lang="en-US" sz="1200" spc="-1" strike="noStrike" u="sng">
                <a:solidFill>
                  <a:srgbClr val="000000"/>
                </a:solidFill>
                <a:uFillTx/>
                <a:latin typeface="Arial"/>
              </a:rPr>
              <a:t>uses</a:t>
            </a:r>
            <a:r>
              <a:rPr b="0" lang="en-US" sz="1200" spc="-1" strike="noStrike">
                <a:solidFill>
                  <a:srgbClr val="000000"/>
                </a:solidFill>
                <a:latin typeface="Arial"/>
              </a:rPr>
              <a:t> the class does not need to clutter his or her thinking with details of the implementation.            2. At a later point, we can decide to implement the class in a different way, and programs which use the class will stil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uld sound familiar: They are the same reasons that we use preconditions and postconditions to specify what a method does without indicating how the method does its work.</a:t>
            </a:r>
            <a:endParaRPr b="0" lang="en-US" sz="1200" spc="-1" strike="noStrike">
              <a:solidFill>
                <a:srgbClr val="000000"/>
              </a:solidFill>
              <a:latin typeface="Arial"/>
            </a:endParaRPr>
          </a:p>
        </p:txBody>
      </p:sp>
      <p:sp>
        <p:nvSpPr>
          <p:cNvPr id="742"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thinking about a bag -- a gym bag, a grocery bag, whatever your favorite bag is.</a:t>
            </a:r>
            <a:endParaRPr b="0" lang="en-US" sz="1200" spc="-1" strike="noStrike">
              <a:solidFill>
                <a:srgbClr val="000000"/>
              </a:solidFill>
              <a:latin typeface="Arial"/>
            </a:endParaRPr>
          </a:p>
        </p:txBody>
      </p:sp>
      <p:sp>
        <p:nvSpPr>
          <p:cNvPr id="708"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s a good idea to provide a precondition/postcondition specification with each of the class’s operations.  Here’s an example of what the specification looks like for the bag’s constructor. Note that there is no precondition, so we have omitted it from the listing.</a:t>
            </a:r>
            <a:endParaRPr b="0" lang="en-US" sz="1200" spc="-1" strike="noStrike">
              <a:solidFill>
                <a:srgbClr val="000000"/>
              </a:solidFill>
              <a:latin typeface="Arial"/>
            </a:endParaRPr>
          </a:p>
        </p:txBody>
      </p:sp>
      <p:sp>
        <p:nvSpPr>
          <p:cNvPr id="744"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add method is shown here.</a:t>
            </a:r>
            <a:endParaRPr b="0" lang="en-US" sz="1200" spc="-1" strike="noStrike">
              <a:solidFill>
                <a:srgbClr val="000000"/>
              </a:solidFill>
              <a:latin typeface="Arial"/>
            </a:endParaRPr>
          </a:p>
        </p:txBody>
      </p:sp>
      <p:sp>
        <p:nvSpPr>
          <p:cNvPr id="746"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size method is shown here. Notice that the method returns an integer telling how many items are in the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coutOccurrences method is shown here. </a:t>
            </a:r>
            <a:endParaRPr b="0" lang="en-US" sz="1200" spc="-1" strike="noStrike">
              <a:solidFill>
                <a:srgbClr val="000000"/>
              </a:solidFill>
              <a:latin typeface="Arial"/>
            </a:endParaRPr>
          </a:p>
        </p:txBody>
      </p:sp>
      <p:sp>
        <p:nvSpPr>
          <p:cNvPr id="750"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remove method is shown here.</a:t>
            </a:r>
            <a:endParaRPr b="0" lang="en-US" sz="1200" spc="-1" strike="noStrike">
              <a:solidFill>
                <a:srgbClr val="000000"/>
              </a:solidFill>
              <a:latin typeface="Arial"/>
            </a:endParaRPr>
          </a:p>
        </p:txBody>
      </p:sp>
      <p:sp>
        <p:nvSpPr>
          <p:cNvPr id="752"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quick look at how a program might use a bag. In this example, the program creates a bag called ages, and inserts the three numbers 4, 8, and 4 into the ages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mport statement would be needed for this program to declare and use a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new Bag class should be placed in a package, perhaps edu.colorado.collections. The program that uses the bag can then have the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edu.colorado.collections.Bag;</a:t>
            </a:r>
            <a:endParaRPr b="0" lang="en-US" sz="1200" spc="-1" strike="noStrike">
              <a:solidFill>
                <a:srgbClr val="000000"/>
              </a:solidFill>
              <a:latin typeface="Arial"/>
            </a:endParaRPr>
          </a:p>
        </p:txBody>
      </p:sp>
      <p:sp>
        <p:nvSpPr>
          <p:cNvPr id="754"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the bag’s documentation should list the specifications for all of the bag’s methods.</a:t>
            </a:r>
            <a:endParaRPr b="0" lang="en-US" sz="1200" spc="-1" strike="noStrike">
              <a:solidFill>
                <a:srgbClr val="000000"/>
              </a:solidFill>
              <a:latin typeface="Arial"/>
            </a:endParaRPr>
          </a:p>
        </p:txBody>
      </p:sp>
      <p:sp>
        <p:nvSpPr>
          <p:cNvPr id="756"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for a quiz . . .</a:t>
            </a:r>
            <a:endParaRPr b="0" lang="en-US" sz="1200" spc="-1" strike="noStrike">
              <a:solidFill>
                <a:srgbClr val="000000"/>
              </a:solidFill>
              <a:latin typeface="Arial"/>
            </a:endParaRPr>
          </a:p>
        </p:txBody>
      </p:sp>
      <p:sp>
        <p:nvSpPr>
          <p:cNvPr id="758"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ee this concept over and over again.  In order to use something, you don’t need to know implementation details -- and, in fact, your thinking is usually clearer if implementation details remain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a sample program using a bag is given in Section 3.2 of the text, and this program actually appears before the implementation details of the Bag class.</a:t>
            </a:r>
            <a:endParaRPr b="0" lang="en-US" sz="1200" spc="-1" strike="noStrike">
              <a:solidFill>
                <a:srgbClr val="000000"/>
              </a:solidFill>
              <a:latin typeface="Arial"/>
            </a:endParaRPr>
          </a:p>
        </p:txBody>
      </p:sp>
      <p:sp>
        <p:nvSpPr>
          <p:cNvPr id="760"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finish things off, let’s look at some details of how the Bag class could be implemented.  This isn’t the only way to implement the class, but it is a simple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n is to store the entries of a bag in the front part of an array, sometimes called a </a:t>
            </a:r>
            <a:r>
              <a:rPr b="0" lang="en-US" sz="1200" spc="-1" strike="noStrike" u="sng">
                <a:solidFill>
                  <a:srgbClr val="000000"/>
                </a:solidFill>
                <a:uFillTx/>
                <a:latin typeface="Arial"/>
              </a:rPr>
              <a:t>partially-filled arra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we have an array that contains two fours and an eight, then we would place those three numbers in the first three components of an array.  We don’t care what appears beyond those first three components.</a:t>
            </a:r>
            <a:endParaRPr b="0" lang="en-US" sz="1200" spc="-1" strike="noStrike">
              <a:solidFill>
                <a:srgbClr val="000000"/>
              </a:solidFill>
              <a:latin typeface="Arial"/>
            </a:endParaRPr>
          </a:p>
        </p:txBody>
      </p:sp>
      <p:sp>
        <p:nvSpPr>
          <p:cNvPr id="762"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ag, is a collection of numbers, such as the collection of two fours and an eight shown here.</a:t>
            </a:r>
            <a:endParaRPr b="0" lang="en-US" sz="1200" spc="-1" strike="noStrike">
              <a:solidFill>
                <a:srgbClr val="000000"/>
              </a:solidFill>
              <a:latin typeface="Arial"/>
            </a:endParaRPr>
          </a:p>
        </p:txBody>
      </p:sp>
      <p:sp>
        <p:nvSpPr>
          <p:cNvPr id="710"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don’t care what order the entries appear in.  We might have both fours first . . .</a:t>
            </a:r>
            <a:endParaRPr b="0" lang="en-US" sz="1200" spc="-1" strike="noStrike">
              <a:solidFill>
                <a:srgbClr val="000000"/>
              </a:solidFill>
              <a:latin typeface="Arial"/>
            </a:endParaRPr>
          </a:p>
        </p:txBody>
      </p:sp>
      <p:sp>
        <p:nvSpPr>
          <p:cNvPr id="764"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or we might have the eight first.</a:t>
            </a:r>
            <a:endParaRPr b="0" lang="en-US" sz="1200" spc="-1" strike="noStrike">
              <a:solidFill>
                <a:srgbClr val="000000"/>
              </a:solidFill>
              <a:latin typeface="Arial"/>
            </a:endParaRPr>
          </a:p>
        </p:txBody>
      </p:sp>
      <p:sp>
        <p:nvSpPr>
          <p:cNvPr id="766"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e more item that we do need to keep track of, and that’s the total number of entries in the bag.  For this example, the total number of entries in the bag is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go wrong if we didn’t keep track of this number?  Answer: We wouldn’t know what part of the array was being used, and what part of the array was just garb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estion: How would an empty bag be represented?  Answer: The bag’s size is zero, and the entire array may be garbage since we are not using any of the array.</a:t>
            </a:r>
            <a:endParaRPr b="0" lang="en-US" sz="1200" spc="-1" strike="noStrike">
              <a:solidFill>
                <a:srgbClr val="000000"/>
              </a:solidFill>
              <a:latin typeface="Arial"/>
            </a:endParaRPr>
          </a:p>
        </p:txBody>
      </p:sp>
      <p:sp>
        <p:nvSpPr>
          <p:cNvPr id="768"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for another quiz . . .</a:t>
            </a:r>
            <a:endParaRPr b="0" lang="en-US" sz="1200" spc="-1" strike="noStrike">
              <a:solidFill>
                <a:srgbClr val="000000"/>
              </a:solidFill>
              <a:latin typeface="Arial"/>
            </a:endParaRPr>
          </a:p>
        </p:txBody>
      </p:sp>
      <p:sp>
        <p:nvSpPr>
          <p:cNvPr id="770"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the only solution.  You might have used different names for the two private instance variables. The important idea is that a private instance variable can be an a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t least one other facet that I should methion. The data array must be allocated as part of the constructor’s work. The initial size of the array is not too important, but the add method must keep an eye on this size and increase the size of the array as needed. This is accomplished through several methods in Section 3.2.</a:t>
            </a:r>
            <a:endParaRPr b="0" lang="en-US" sz="1200" spc="-1" strike="noStrike">
              <a:solidFill>
                <a:srgbClr val="000000"/>
              </a:solidFill>
              <a:latin typeface="Arial"/>
            </a:endParaRPr>
          </a:p>
        </p:txBody>
      </p:sp>
      <p:sp>
        <p:nvSpPr>
          <p:cNvPr id="772"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know about the implementation details of the bag instance variables, let’s look at an example of calling add.  In the example, we start with the bag shown here . . .</a:t>
            </a:r>
            <a:endParaRPr b="0" lang="en-US" sz="1200" spc="-1" strike="noStrike">
              <a:solidFill>
                <a:srgbClr val="000000"/>
              </a:solidFill>
              <a:latin typeface="Arial"/>
            </a:endParaRPr>
          </a:p>
        </p:txBody>
      </p:sp>
      <p:sp>
        <p:nvSpPr>
          <p:cNvPr id="774"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and we call add to insert the number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be the values of b.data and b.manyItems after the insertion?</a:t>
            </a:r>
            <a:endParaRPr b="0" lang="en-US" sz="1200" spc="-1" strike="noStrike">
              <a:solidFill>
                <a:srgbClr val="000000"/>
              </a:solidFill>
              <a:latin typeface="Arial"/>
            </a:endParaRPr>
          </a:p>
        </p:txBody>
      </p:sp>
      <p:sp>
        <p:nvSpPr>
          <p:cNvPr id="776" name="PlaceHolder 2"/>
          <p:cNvSpPr>
            <a:spLocks noGrp="1"/>
          </p:cNvSpPr>
          <p:nvPr>
            <p:ph type="sldImg"/>
          </p:nvPr>
        </p:nvSpPr>
        <p:spPr>
          <a:xfrm>
            <a:off x="1149480" y="692280"/>
            <a:ext cx="455904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dded the new number, 17, to the next spot in the array; and we have incremented b.manyItems by one to indicate that we are now using one more spot in the array.</a:t>
            </a:r>
            <a:endParaRPr b="0" lang="en-US" sz="1200" spc="-1" strike="noStrike">
              <a:solidFill>
                <a:srgbClr val="000000"/>
              </a:solidFill>
              <a:latin typeface="Arial"/>
            </a:endParaRPr>
          </a:p>
        </p:txBody>
      </p:sp>
      <p:sp>
        <p:nvSpPr>
          <p:cNvPr id="778" name="PlaceHolder 2"/>
          <p:cNvSpPr>
            <a:spLocks noGrp="1"/>
          </p:cNvSpPr>
          <p:nvPr>
            <p:ph type="sldImg"/>
          </p:nvPr>
        </p:nvSpPr>
        <p:spPr>
          <a:xfrm>
            <a:off x="1149480" y="692280"/>
            <a:ext cx="4559040" cy="34160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pseudocode for implementing add.  We start by checking that the bag has room for another entry. If not, then we’ll arrange for the array to grow to a larger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place the newEntry in the a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add one to the many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the Java code look like for Steps 2 and 3?</a:t>
            </a:r>
            <a:endParaRPr b="0" lang="en-US" sz="1200" spc="-1" strike="noStrike">
              <a:solidFill>
                <a:srgbClr val="000000"/>
              </a:solidFill>
              <a:latin typeface="Arial"/>
            </a:endParaRPr>
          </a:p>
        </p:txBody>
      </p:sp>
      <p:sp>
        <p:nvSpPr>
          <p:cNvPr id="780" name="PlaceHolder 2"/>
          <p:cNvSpPr>
            <a:spLocks noGrp="1"/>
          </p:cNvSpPr>
          <p:nvPr>
            <p:ph type="sldImg"/>
          </p:nvPr>
        </p:nvSpPr>
        <p:spPr>
          <a:xfrm>
            <a:off x="1149480" y="692280"/>
            <a:ext cx="455904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ne solution for Steps 2 and 3. In our example, this would cause the newEntry (17) to be added at index [2] of the array b.data, and then manyItems is incremented to 3.</a:t>
            </a:r>
            <a:endParaRPr b="0" lang="en-US" sz="1200" spc="-1" strike="noStrike">
              <a:solidFill>
                <a:srgbClr val="000000"/>
              </a:solidFill>
              <a:latin typeface="Arial"/>
            </a:endParaRPr>
          </a:p>
        </p:txBody>
      </p:sp>
      <p:sp>
        <p:nvSpPr>
          <p:cNvPr id="782"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ag will be our first example of a Collection class, which is a class where each object can contain a collection of items (such as numbers).  One of the important facets of a Collection class is that each object begins in a known configuration.  In the case of a bag, we will count on each bag being initially empty.  This is called the initial state of a bag.</a:t>
            </a:r>
            <a:endParaRPr b="0" lang="en-US" sz="1200" spc="-1" strike="noStrike">
              <a:solidFill>
                <a:srgbClr val="000000"/>
              </a:solidFill>
              <a:latin typeface="Arial"/>
            </a:endParaRPr>
          </a:p>
        </p:txBody>
      </p:sp>
      <p:sp>
        <p:nvSpPr>
          <p:cNvPr id="712" name="PlaceHolder 2"/>
          <p:cNvSpPr>
            <a:spLocks noGrp="1"/>
          </p:cNvSpPr>
          <p:nvPr>
            <p:ph type="sldImg"/>
          </p:nvPr>
        </p:nvSpPr>
        <p:spPr>
          <a:xfrm>
            <a:off x="1149480" y="692280"/>
            <a:ext cx="455904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alternative that combines Steps 2 and 3. In this alternative, the index [manyItems++] is evaluated and used before manyItems is incremented. If we wanted the incrementing to occur before evaluation, we would write ++manyItems instead.</a:t>
            </a:r>
            <a:endParaRPr b="0" lang="en-US" sz="1200" spc="-1" strike="noStrike">
              <a:solidFill>
                <a:srgbClr val="000000"/>
              </a:solidFill>
              <a:latin typeface="Arial"/>
            </a:endParaRPr>
          </a:p>
        </p:txBody>
      </p:sp>
      <p:sp>
        <p:nvSpPr>
          <p:cNvPr id="784" name="PlaceHolder 2"/>
          <p:cNvSpPr>
            <a:spLocks noGrp="1"/>
          </p:cNvSpPr>
          <p:nvPr>
            <p:ph type="sldImg"/>
          </p:nvPr>
        </p:nvSpPr>
        <p:spPr>
          <a:xfrm>
            <a:off x="1149480" y="692280"/>
            <a:ext cx="4559040" cy="34160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read Section 3.1 for the complete bag implementation.  However, the bag class itself is not particularly important; the important point is the concept of a Collection class, and the advantages that classes pro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we will reimplement this same bag in more efficient ways.</a:t>
            </a:r>
            <a:endParaRPr b="0" lang="en-US" sz="1200" spc="-1" strike="noStrike">
              <a:solidFill>
                <a:srgbClr val="000000"/>
              </a:solidFill>
              <a:latin typeface="Arial"/>
            </a:endParaRPr>
          </a:p>
        </p:txBody>
      </p:sp>
      <p:sp>
        <p:nvSpPr>
          <p:cNvPr id="786" name="PlaceHolder 2"/>
          <p:cNvSpPr>
            <a:spLocks noGrp="1"/>
          </p:cNvSpPr>
          <p:nvPr>
            <p:ph type="sldImg"/>
          </p:nvPr>
        </p:nvSpPr>
        <p:spPr>
          <a:xfrm>
            <a:off x="1149480" y="692280"/>
            <a:ext cx="455904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one last question for you to think about.   Of course, the answer is that there is very little difference between a bag of integers and a bag of any other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PlaceHolder 2"/>
          <p:cNvSpPr>
            <a:spLocks noGrp="1"/>
          </p:cNvSpPr>
          <p:nvPr>
            <p:ph type="sldImg"/>
          </p:nvPr>
        </p:nvSpPr>
        <p:spPr>
          <a:xfrm>
            <a:off x="1149480" y="692280"/>
            <a:ext cx="4559040" cy="34160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790" name="PlaceHolder 2"/>
          <p:cNvSpPr>
            <a:spLocks noGrp="1"/>
          </p:cNvSpPr>
          <p:nvPr>
            <p:ph type="sldImg"/>
          </p:nvPr>
        </p:nvSpPr>
        <p:spPr>
          <a:xfrm>
            <a:off x="1149480" y="692280"/>
            <a:ext cx="4559040" cy="34160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92"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a fixed collection of operations to manipulate bags.  One of the simplest operations that we permit is the action of adding a new number into a bag.  </a:t>
            </a:r>
            <a:endParaRPr b="0" lang="en-US" sz="1200" spc="-1" strike="noStrike">
              <a:solidFill>
                <a:srgbClr val="000000"/>
              </a:solidFill>
              <a:latin typeface="Arial"/>
            </a:endParaRPr>
          </a:p>
        </p:txBody>
      </p:sp>
      <p:sp>
        <p:nvSpPr>
          <p:cNvPr id="714"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have added the first number -- a four -- into a bag that was previously empty.</a:t>
            </a:r>
            <a:endParaRPr b="0" lang="en-US" sz="1200" spc="-1" strike="noStrike">
              <a:solidFill>
                <a:srgbClr val="000000"/>
              </a:solidFill>
              <a:latin typeface="Arial"/>
            </a:endParaRPr>
          </a:p>
        </p:txBody>
      </p:sp>
      <p:sp>
        <p:nvSpPr>
          <p:cNvPr id="716"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ontinue adding new numbers into the bag.</a:t>
            </a:r>
            <a:endParaRPr b="0" lang="en-US" sz="1200" spc="-1" strike="noStrike">
              <a:solidFill>
                <a:srgbClr val="000000"/>
              </a:solidFill>
              <a:latin typeface="Arial"/>
            </a:endParaRPr>
          </a:p>
        </p:txBody>
      </p:sp>
      <p:sp>
        <p:nvSpPr>
          <p:cNvPr id="718"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have a four and an eight in the bag.</a:t>
            </a:r>
            <a:endParaRPr b="0" lang="en-US" sz="1200" spc="-1" strike="noStrike">
              <a:solidFill>
                <a:srgbClr val="000000"/>
              </a:solidFill>
              <a:latin typeface="Arial"/>
            </a:endParaRPr>
          </a:p>
        </p:txBody>
      </p:sp>
      <p:sp>
        <p:nvSpPr>
          <p:cNvPr id="720"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ven add a second four into the same bag, as shown here.</a:t>
            </a:r>
            <a:endParaRPr b="0" lang="en-US" sz="1200" spc="-1" strike="noStrike">
              <a:solidFill>
                <a:srgbClr val="000000"/>
              </a:solidFill>
              <a:latin typeface="Arial"/>
            </a:endParaRPr>
          </a:p>
        </p:txBody>
      </p:sp>
      <p:sp>
        <p:nvSpPr>
          <p:cNvPr id="722"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image" Target="../media/image4.wmf"/><Relationship Id="rId4" Type="http://schemas.openxmlformats.org/officeDocument/2006/relationships/image" Target="../media/image3.wmf"/><Relationship Id="rId5" Type="http://schemas.openxmlformats.org/officeDocument/2006/relationships/slideLayout" Target="../slideLayouts/slideLayout4.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8.wmf"/><Relationship Id="rId5" Type="http://schemas.openxmlformats.org/officeDocument/2006/relationships/slideLayout" Target="../slideLayouts/slideLayout4.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4.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wmf"/><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image" Target="../media/image4.wmf"/><Relationship Id="rId4" Type="http://schemas.openxmlformats.org/officeDocument/2006/relationships/slideLayout" Target="../slideLayouts/slideLayout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a:t>
            </a:r>
            <a:r>
              <a:rPr b="1" lang="en-US" sz="2800" spc="-1" strike="noStrike" u="sng">
                <a:solidFill>
                  <a:srgbClr val="fc0128"/>
                </a:solidFill>
                <a:uFillTx/>
                <a:latin typeface="Times New Roman"/>
              </a:rPr>
              <a:t>Collection class </a:t>
            </a:r>
            <a:r>
              <a:rPr b="0" lang="en-US" sz="2800" spc="-1" strike="noStrike">
                <a:solidFill>
                  <a:srgbClr val="e0e0e0"/>
                </a:solidFill>
                <a:latin typeface="Times New Roman"/>
              </a:rPr>
              <a:t>is a data type that is capable of holding a group of item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Java, Collection classes can be implemented as a class, along with methods to add, remove, and examine items.</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988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llection Classes</a:t>
            </a:r>
            <a:endParaRPr b="0" lang="en-US" sz="4400" spc="-1" strike="noStrike">
              <a:solidFill>
                <a:srgbClr val="00cece"/>
              </a:solidFill>
              <a:latin typeface="Times New Roman"/>
            </a:endParaRPr>
          </a:p>
        </p:txBody>
      </p:sp>
      <p:sp>
        <p:nvSpPr>
          <p:cNvPr id="48" name=""/>
          <p:cNvSpPr/>
          <p:nvPr/>
        </p:nvSpPr>
        <p:spPr>
          <a:xfrm>
            <a:off x="365040" y="547056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49" name=""/>
          <p:cNvGrpSpPr/>
          <p:nvPr/>
        </p:nvGrpSpPr>
        <p:grpSpPr>
          <a:xfrm>
            <a:off x="4896000" y="363600"/>
            <a:ext cx="1164960" cy="1609560"/>
            <a:chOff x="4896000" y="363600"/>
            <a:chExt cx="1164960" cy="1609560"/>
          </a:xfrm>
        </p:grpSpPr>
        <p:grpSp>
          <p:nvGrpSpPr>
            <p:cNvPr id="50" name=""/>
            <p:cNvGrpSpPr/>
            <p:nvPr/>
          </p:nvGrpSpPr>
          <p:grpSpPr>
            <a:xfrm>
              <a:off x="4896000" y="409680"/>
              <a:ext cx="1164960" cy="1563480"/>
              <a:chOff x="4896000" y="409680"/>
              <a:chExt cx="1164960" cy="1563480"/>
            </a:xfrm>
          </p:grpSpPr>
          <p:grpSp>
            <p:nvGrpSpPr>
              <p:cNvPr id="51" name=""/>
              <p:cNvGrpSpPr/>
              <p:nvPr/>
            </p:nvGrpSpPr>
            <p:grpSpPr>
              <a:xfrm>
                <a:off x="4896000" y="409680"/>
                <a:ext cx="1164960" cy="1563480"/>
                <a:chOff x="4896000" y="409680"/>
                <a:chExt cx="1164960" cy="1563480"/>
              </a:xfrm>
            </p:grpSpPr>
            <p:sp>
              <p:nvSpPr>
                <p:cNvPr id="52" name=""/>
                <p:cNvSpPr/>
                <p:nvPr/>
              </p:nvSpPr>
              <p:spPr>
                <a:xfrm>
                  <a:off x="4896000" y="409680"/>
                  <a:ext cx="1093680" cy="1558800"/>
                </a:xfrm>
                <a:custGeom>
                  <a:avLst/>
                  <a:gdLst/>
                  <a:ahLst/>
                  <a:rect l="l" t="t" r="r" b="b"/>
                  <a:pathLst>
                    <a:path w="689" h="982">
                      <a:moveTo>
                        <a:pt x="385" y="0"/>
                      </a:moveTo>
                      <a:lnTo>
                        <a:pt x="457" y="52"/>
                      </a:lnTo>
                      <a:lnTo>
                        <a:pt x="467" y="84"/>
                      </a:lnTo>
                      <a:lnTo>
                        <a:pt x="442" y="117"/>
                      </a:lnTo>
                      <a:lnTo>
                        <a:pt x="351" y="196"/>
                      </a:lnTo>
                      <a:lnTo>
                        <a:pt x="423" y="178"/>
                      </a:lnTo>
                      <a:lnTo>
                        <a:pt x="467" y="168"/>
                      </a:lnTo>
                      <a:lnTo>
                        <a:pt x="572" y="33"/>
                      </a:lnTo>
                      <a:lnTo>
                        <a:pt x="630" y="19"/>
                      </a:lnTo>
                      <a:lnTo>
                        <a:pt x="688" y="19"/>
                      </a:lnTo>
                      <a:lnTo>
                        <a:pt x="664" y="89"/>
                      </a:lnTo>
                      <a:lnTo>
                        <a:pt x="592" y="98"/>
                      </a:lnTo>
                      <a:lnTo>
                        <a:pt x="462" y="201"/>
                      </a:lnTo>
                      <a:lnTo>
                        <a:pt x="390" y="229"/>
                      </a:lnTo>
                      <a:lnTo>
                        <a:pt x="664" y="664"/>
                      </a:lnTo>
                      <a:lnTo>
                        <a:pt x="678" y="748"/>
                      </a:lnTo>
                      <a:lnTo>
                        <a:pt x="587" y="906"/>
                      </a:lnTo>
                      <a:lnTo>
                        <a:pt x="500" y="962"/>
                      </a:lnTo>
                      <a:lnTo>
                        <a:pt x="437" y="981"/>
                      </a:lnTo>
                      <a:lnTo>
                        <a:pt x="327" y="962"/>
                      </a:lnTo>
                      <a:lnTo>
                        <a:pt x="182" y="953"/>
                      </a:lnTo>
                      <a:lnTo>
                        <a:pt x="96" y="892"/>
                      </a:lnTo>
                      <a:lnTo>
                        <a:pt x="48" y="864"/>
                      </a:lnTo>
                      <a:lnTo>
                        <a:pt x="0" y="733"/>
                      </a:lnTo>
                      <a:lnTo>
                        <a:pt x="33" y="664"/>
                      </a:lnTo>
                      <a:lnTo>
                        <a:pt x="322" y="266"/>
                      </a:lnTo>
                      <a:lnTo>
                        <a:pt x="288" y="210"/>
                      </a:lnTo>
                      <a:lnTo>
                        <a:pt x="308" y="164"/>
                      </a:lnTo>
                      <a:lnTo>
                        <a:pt x="385" y="94"/>
                      </a:lnTo>
                      <a:lnTo>
                        <a:pt x="370" y="56"/>
                      </a:lnTo>
                      <a:lnTo>
                        <a:pt x="341" y="33"/>
                      </a:lnTo>
                      <a:lnTo>
                        <a:pt x="361" y="9"/>
                      </a:lnTo>
                      <a:lnTo>
                        <a:pt x="385"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 name=""/>
                <p:cNvSpPr/>
                <p:nvPr/>
              </p:nvSpPr>
              <p:spPr>
                <a:xfrm>
                  <a:off x="5514840" y="1011240"/>
                  <a:ext cx="200160" cy="852480"/>
                </a:xfrm>
                <a:custGeom>
                  <a:avLst/>
                  <a:gdLst/>
                  <a:ahLst/>
                  <a:rect l="l" t="t" r="r" b="b"/>
                  <a:pathLst>
                    <a:path w="126" h="537">
                      <a:moveTo>
                        <a:pt x="29" y="373"/>
                      </a:moveTo>
                      <a:lnTo>
                        <a:pt x="29" y="462"/>
                      </a:lnTo>
                      <a:lnTo>
                        <a:pt x="19" y="513"/>
                      </a:lnTo>
                      <a:lnTo>
                        <a:pt x="10" y="536"/>
                      </a:lnTo>
                      <a:lnTo>
                        <a:pt x="62" y="532"/>
                      </a:lnTo>
                      <a:lnTo>
                        <a:pt x="110" y="508"/>
                      </a:lnTo>
                      <a:lnTo>
                        <a:pt x="86" y="499"/>
                      </a:lnTo>
                      <a:lnTo>
                        <a:pt x="125" y="475"/>
                      </a:lnTo>
                      <a:lnTo>
                        <a:pt x="86" y="475"/>
                      </a:lnTo>
                      <a:lnTo>
                        <a:pt x="120" y="443"/>
                      </a:lnTo>
                      <a:lnTo>
                        <a:pt x="82" y="443"/>
                      </a:lnTo>
                      <a:lnTo>
                        <a:pt x="110" y="410"/>
                      </a:lnTo>
                      <a:lnTo>
                        <a:pt x="77" y="406"/>
                      </a:lnTo>
                      <a:lnTo>
                        <a:pt x="96" y="378"/>
                      </a:lnTo>
                      <a:lnTo>
                        <a:pt x="67" y="368"/>
                      </a:lnTo>
                      <a:lnTo>
                        <a:pt x="77" y="335"/>
                      </a:lnTo>
                      <a:lnTo>
                        <a:pt x="58" y="326"/>
                      </a:lnTo>
                      <a:lnTo>
                        <a:pt x="53" y="289"/>
                      </a:lnTo>
                      <a:lnTo>
                        <a:pt x="0" y="0"/>
                      </a:lnTo>
                      <a:lnTo>
                        <a:pt x="14" y="322"/>
                      </a:lnTo>
                      <a:lnTo>
                        <a:pt x="29" y="373"/>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 name=""/>
                <p:cNvSpPr/>
                <p:nvPr/>
              </p:nvSpPr>
              <p:spPr>
                <a:xfrm>
                  <a:off x="4925880" y="892080"/>
                  <a:ext cx="505080" cy="1030320"/>
                </a:xfrm>
                <a:custGeom>
                  <a:avLst/>
                  <a:gdLst/>
                  <a:ahLst/>
                  <a:rect l="l" t="t" r="r" b="b"/>
                  <a:pathLst>
                    <a:path w="318" h="649">
                      <a:moveTo>
                        <a:pt x="269" y="0"/>
                      </a:moveTo>
                      <a:lnTo>
                        <a:pt x="58" y="285"/>
                      </a:lnTo>
                      <a:lnTo>
                        <a:pt x="29" y="354"/>
                      </a:lnTo>
                      <a:lnTo>
                        <a:pt x="0" y="396"/>
                      </a:lnTo>
                      <a:lnTo>
                        <a:pt x="0" y="504"/>
                      </a:lnTo>
                      <a:lnTo>
                        <a:pt x="43" y="564"/>
                      </a:lnTo>
                      <a:lnTo>
                        <a:pt x="111" y="611"/>
                      </a:lnTo>
                      <a:lnTo>
                        <a:pt x="154" y="644"/>
                      </a:lnTo>
                      <a:lnTo>
                        <a:pt x="221" y="648"/>
                      </a:lnTo>
                      <a:lnTo>
                        <a:pt x="178" y="625"/>
                      </a:lnTo>
                      <a:lnTo>
                        <a:pt x="241" y="620"/>
                      </a:lnTo>
                      <a:lnTo>
                        <a:pt x="188" y="606"/>
                      </a:lnTo>
                      <a:lnTo>
                        <a:pt x="279" y="597"/>
                      </a:lnTo>
                      <a:lnTo>
                        <a:pt x="192" y="583"/>
                      </a:lnTo>
                      <a:lnTo>
                        <a:pt x="269" y="560"/>
                      </a:lnTo>
                      <a:lnTo>
                        <a:pt x="226" y="536"/>
                      </a:lnTo>
                      <a:lnTo>
                        <a:pt x="279" y="522"/>
                      </a:lnTo>
                      <a:lnTo>
                        <a:pt x="221" y="504"/>
                      </a:lnTo>
                      <a:lnTo>
                        <a:pt x="274" y="462"/>
                      </a:lnTo>
                      <a:lnTo>
                        <a:pt x="226" y="452"/>
                      </a:lnTo>
                      <a:lnTo>
                        <a:pt x="260" y="429"/>
                      </a:lnTo>
                      <a:lnTo>
                        <a:pt x="226" y="420"/>
                      </a:lnTo>
                      <a:lnTo>
                        <a:pt x="245" y="373"/>
                      </a:lnTo>
                      <a:lnTo>
                        <a:pt x="317" y="42"/>
                      </a:lnTo>
                      <a:lnTo>
                        <a:pt x="211" y="364"/>
                      </a:lnTo>
                      <a:lnTo>
                        <a:pt x="197" y="345"/>
                      </a:lnTo>
                      <a:lnTo>
                        <a:pt x="298" y="4"/>
                      </a:lnTo>
                      <a:lnTo>
                        <a:pt x="149" y="392"/>
                      </a:lnTo>
                      <a:lnTo>
                        <a:pt x="58" y="415"/>
                      </a:lnTo>
                      <a:lnTo>
                        <a:pt x="115" y="382"/>
                      </a:lnTo>
                      <a:lnTo>
                        <a:pt x="58" y="382"/>
                      </a:lnTo>
                      <a:lnTo>
                        <a:pt x="111" y="354"/>
                      </a:lnTo>
                      <a:lnTo>
                        <a:pt x="86" y="340"/>
                      </a:lnTo>
                      <a:lnTo>
                        <a:pt x="115" y="322"/>
                      </a:lnTo>
                      <a:lnTo>
                        <a:pt x="91" y="303"/>
                      </a:lnTo>
                      <a:lnTo>
                        <a:pt x="111" y="261"/>
                      </a:lnTo>
                      <a:lnTo>
                        <a:pt x="284" y="0"/>
                      </a:lnTo>
                      <a:lnTo>
                        <a:pt x="26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 name=""/>
                <p:cNvSpPr/>
                <p:nvPr/>
              </p:nvSpPr>
              <p:spPr>
                <a:xfrm>
                  <a:off x="5673600" y="447840"/>
                  <a:ext cx="200160" cy="237960"/>
                </a:xfrm>
                <a:custGeom>
                  <a:avLst/>
                  <a:gdLst/>
                  <a:ahLst/>
                  <a:rect l="l" t="t" r="r" b="b"/>
                  <a:pathLst>
                    <a:path w="126" h="150">
                      <a:moveTo>
                        <a:pt x="82" y="19"/>
                      </a:moveTo>
                      <a:lnTo>
                        <a:pt x="106" y="0"/>
                      </a:lnTo>
                      <a:lnTo>
                        <a:pt x="86" y="32"/>
                      </a:lnTo>
                      <a:lnTo>
                        <a:pt x="121" y="23"/>
                      </a:lnTo>
                      <a:lnTo>
                        <a:pt x="96" y="46"/>
                      </a:lnTo>
                      <a:lnTo>
                        <a:pt x="121" y="42"/>
                      </a:lnTo>
                      <a:lnTo>
                        <a:pt x="106" y="65"/>
                      </a:lnTo>
                      <a:lnTo>
                        <a:pt x="125" y="60"/>
                      </a:lnTo>
                      <a:lnTo>
                        <a:pt x="58" y="116"/>
                      </a:lnTo>
                      <a:lnTo>
                        <a:pt x="5" y="149"/>
                      </a:lnTo>
                      <a:lnTo>
                        <a:pt x="0" y="107"/>
                      </a:lnTo>
                      <a:lnTo>
                        <a:pt x="43" y="42"/>
                      </a:lnTo>
                      <a:lnTo>
                        <a:pt x="82" y="19"/>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 name=""/>
                <p:cNvSpPr/>
                <p:nvPr/>
              </p:nvSpPr>
              <p:spPr>
                <a:xfrm>
                  <a:off x="5445000" y="433440"/>
                  <a:ext cx="101880" cy="149040"/>
                </a:xfrm>
                <a:custGeom>
                  <a:avLst/>
                  <a:gdLst/>
                  <a:ahLst/>
                  <a:rect l="l" t="t" r="r" b="b"/>
                  <a:pathLst>
                    <a:path w="64" h="94">
                      <a:moveTo>
                        <a:pt x="0" y="0"/>
                      </a:moveTo>
                      <a:lnTo>
                        <a:pt x="0" y="23"/>
                      </a:lnTo>
                      <a:lnTo>
                        <a:pt x="44" y="51"/>
                      </a:lnTo>
                      <a:lnTo>
                        <a:pt x="39" y="93"/>
                      </a:lnTo>
                      <a:lnTo>
                        <a:pt x="63" y="51"/>
                      </a:lnTo>
                      <a:lnTo>
                        <a:pt x="53" y="28"/>
                      </a:lnTo>
                      <a:lnTo>
                        <a:pt x="29" y="14"/>
                      </a:lnTo>
                      <a:lnTo>
                        <a:pt x="39"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 name=""/>
                <p:cNvSpPr/>
                <p:nvPr/>
              </p:nvSpPr>
              <p:spPr>
                <a:xfrm>
                  <a:off x="5353200" y="676440"/>
                  <a:ext cx="93600" cy="128520"/>
                </a:xfrm>
                <a:custGeom>
                  <a:avLst/>
                  <a:gdLst/>
                  <a:ahLst/>
                  <a:rect l="l" t="t" r="r" b="b"/>
                  <a:pathLst>
                    <a:path w="59" h="81">
                      <a:moveTo>
                        <a:pt x="14" y="0"/>
                      </a:moveTo>
                      <a:lnTo>
                        <a:pt x="58" y="75"/>
                      </a:lnTo>
                      <a:lnTo>
                        <a:pt x="34" y="80"/>
                      </a:lnTo>
                      <a:lnTo>
                        <a:pt x="0" y="42"/>
                      </a:lnTo>
                      <a:lnTo>
                        <a:pt x="14"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 name=""/>
                <p:cNvSpPr/>
                <p:nvPr/>
              </p:nvSpPr>
              <p:spPr>
                <a:xfrm>
                  <a:off x="4896000" y="858960"/>
                  <a:ext cx="1100160" cy="1114200"/>
                </a:xfrm>
                <a:custGeom>
                  <a:avLst/>
                  <a:gdLst/>
                  <a:ahLst/>
                  <a:rect l="l" t="t" r="r" b="b"/>
                  <a:pathLst>
                    <a:path w="693" h="702">
                      <a:moveTo>
                        <a:pt x="428" y="0"/>
                      </a:moveTo>
                      <a:lnTo>
                        <a:pt x="666" y="347"/>
                      </a:lnTo>
                      <a:lnTo>
                        <a:pt x="684" y="387"/>
                      </a:lnTo>
                      <a:lnTo>
                        <a:pt x="692" y="419"/>
                      </a:lnTo>
                      <a:lnTo>
                        <a:pt x="692" y="452"/>
                      </a:lnTo>
                      <a:lnTo>
                        <a:pt x="688" y="484"/>
                      </a:lnTo>
                      <a:lnTo>
                        <a:pt x="677" y="517"/>
                      </a:lnTo>
                      <a:lnTo>
                        <a:pt x="666" y="546"/>
                      </a:lnTo>
                      <a:lnTo>
                        <a:pt x="647" y="575"/>
                      </a:lnTo>
                      <a:lnTo>
                        <a:pt x="629" y="592"/>
                      </a:lnTo>
                      <a:lnTo>
                        <a:pt x="618" y="611"/>
                      </a:lnTo>
                      <a:lnTo>
                        <a:pt x="595" y="636"/>
                      </a:lnTo>
                      <a:lnTo>
                        <a:pt x="554" y="661"/>
                      </a:lnTo>
                      <a:lnTo>
                        <a:pt x="521" y="679"/>
                      </a:lnTo>
                      <a:lnTo>
                        <a:pt x="469" y="697"/>
                      </a:lnTo>
                      <a:lnTo>
                        <a:pt x="417" y="701"/>
                      </a:lnTo>
                      <a:lnTo>
                        <a:pt x="387" y="697"/>
                      </a:lnTo>
                      <a:lnTo>
                        <a:pt x="365" y="690"/>
                      </a:lnTo>
                      <a:lnTo>
                        <a:pt x="323" y="701"/>
                      </a:lnTo>
                      <a:lnTo>
                        <a:pt x="272" y="701"/>
                      </a:lnTo>
                      <a:lnTo>
                        <a:pt x="220" y="694"/>
                      </a:lnTo>
                      <a:lnTo>
                        <a:pt x="175" y="679"/>
                      </a:lnTo>
                      <a:lnTo>
                        <a:pt x="141" y="657"/>
                      </a:lnTo>
                      <a:lnTo>
                        <a:pt x="119" y="636"/>
                      </a:lnTo>
                      <a:lnTo>
                        <a:pt x="78" y="618"/>
                      </a:lnTo>
                      <a:lnTo>
                        <a:pt x="45" y="600"/>
                      </a:lnTo>
                      <a:lnTo>
                        <a:pt x="26" y="571"/>
                      </a:lnTo>
                      <a:lnTo>
                        <a:pt x="8" y="531"/>
                      </a:lnTo>
                      <a:lnTo>
                        <a:pt x="0" y="499"/>
                      </a:lnTo>
                      <a:lnTo>
                        <a:pt x="0" y="444"/>
                      </a:lnTo>
                      <a:lnTo>
                        <a:pt x="8" y="408"/>
                      </a:lnTo>
                      <a:lnTo>
                        <a:pt x="22" y="379"/>
                      </a:lnTo>
                      <a:lnTo>
                        <a:pt x="56" y="332"/>
                      </a:lnTo>
                      <a:lnTo>
                        <a:pt x="86" y="289"/>
                      </a:lnTo>
                      <a:lnTo>
                        <a:pt x="283" y="14"/>
                      </a:lnTo>
                      <a:lnTo>
                        <a:pt x="316" y="4"/>
                      </a:lnTo>
                      <a:lnTo>
                        <a:pt x="231" y="119"/>
                      </a:lnTo>
                      <a:lnTo>
                        <a:pt x="137" y="238"/>
                      </a:lnTo>
                      <a:lnTo>
                        <a:pt x="86" y="307"/>
                      </a:lnTo>
                      <a:lnTo>
                        <a:pt x="59" y="354"/>
                      </a:lnTo>
                      <a:lnTo>
                        <a:pt x="33" y="397"/>
                      </a:lnTo>
                      <a:lnTo>
                        <a:pt x="29" y="419"/>
                      </a:lnTo>
                      <a:lnTo>
                        <a:pt x="29" y="434"/>
                      </a:lnTo>
                      <a:lnTo>
                        <a:pt x="26" y="477"/>
                      </a:lnTo>
                      <a:lnTo>
                        <a:pt x="33" y="513"/>
                      </a:lnTo>
                      <a:lnTo>
                        <a:pt x="41" y="538"/>
                      </a:lnTo>
                      <a:lnTo>
                        <a:pt x="56" y="571"/>
                      </a:lnTo>
                      <a:lnTo>
                        <a:pt x="74" y="596"/>
                      </a:lnTo>
                      <a:lnTo>
                        <a:pt x="100" y="611"/>
                      </a:lnTo>
                      <a:lnTo>
                        <a:pt x="119" y="618"/>
                      </a:lnTo>
                      <a:lnTo>
                        <a:pt x="137" y="625"/>
                      </a:lnTo>
                      <a:lnTo>
                        <a:pt x="175" y="657"/>
                      </a:lnTo>
                      <a:lnTo>
                        <a:pt x="212" y="666"/>
                      </a:lnTo>
                      <a:lnTo>
                        <a:pt x="264" y="666"/>
                      </a:lnTo>
                      <a:lnTo>
                        <a:pt x="312" y="663"/>
                      </a:lnTo>
                      <a:lnTo>
                        <a:pt x="361" y="676"/>
                      </a:lnTo>
                      <a:lnTo>
                        <a:pt x="413" y="686"/>
                      </a:lnTo>
                      <a:lnTo>
                        <a:pt x="457" y="683"/>
                      </a:lnTo>
                      <a:lnTo>
                        <a:pt x="547" y="644"/>
                      </a:lnTo>
                      <a:lnTo>
                        <a:pt x="579" y="600"/>
                      </a:lnTo>
                      <a:lnTo>
                        <a:pt x="592" y="549"/>
                      </a:lnTo>
                      <a:lnTo>
                        <a:pt x="614" y="535"/>
                      </a:lnTo>
                      <a:lnTo>
                        <a:pt x="584" y="535"/>
                      </a:lnTo>
                      <a:lnTo>
                        <a:pt x="606" y="520"/>
                      </a:lnTo>
                      <a:lnTo>
                        <a:pt x="576" y="524"/>
                      </a:lnTo>
                      <a:lnTo>
                        <a:pt x="592" y="506"/>
                      </a:lnTo>
                      <a:lnTo>
                        <a:pt x="576" y="502"/>
                      </a:lnTo>
                      <a:lnTo>
                        <a:pt x="588" y="484"/>
                      </a:lnTo>
                      <a:lnTo>
                        <a:pt x="573" y="481"/>
                      </a:lnTo>
                      <a:lnTo>
                        <a:pt x="580" y="459"/>
                      </a:lnTo>
                      <a:lnTo>
                        <a:pt x="548" y="306"/>
                      </a:lnTo>
                      <a:lnTo>
                        <a:pt x="614" y="488"/>
                      </a:lnTo>
                      <a:lnTo>
                        <a:pt x="636" y="491"/>
                      </a:lnTo>
                      <a:lnTo>
                        <a:pt x="640" y="470"/>
                      </a:lnTo>
                      <a:lnTo>
                        <a:pt x="659" y="466"/>
                      </a:lnTo>
                      <a:lnTo>
                        <a:pt x="644" y="452"/>
                      </a:lnTo>
                      <a:lnTo>
                        <a:pt x="655" y="444"/>
                      </a:lnTo>
                      <a:lnTo>
                        <a:pt x="636" y="434"/>
                      </a:lnTo>
                      <a:lnTo>
                        <a:pt x="651" y="419"/>
                      </a:lnTo>
                      <a:lnTo>
                        <a:pt x="633" y="412"/>
                      </a:lnTo>
                      <a:lnTo>
                        <a:pt x="640" y="394"/>
                      </a:lnTo>
                      <a:lnTo>
                        <a:pt x="625" y="390"/>
                      </a:lnTo>
                      <a:lnTo>
                        <a:pt x="636" y="372"/>
                      </a:lnTo>
                      <a:lnTo>
                        <a:pt x="614" y="365"/>
                      </a:lnTo>
                      <a:lnTo>
                        <a:pt x="618" y="343"/>
                      </a:lnTo>
                      <a:lnTo>
                        <a:pt x="603" y="332"/>
                      </a:lnTo>
                      <a:lnTo>
                        <a:pt x="603" y="314"/>
                      </a:lnTo>
                      <a:lnTo>
                        <a:pt x="584" y="293"/>
                      </a:lnTo>
                      <a:lnTo>
                        <a:pt x="514" y="186"/>
                      </a:lnTo>
                      <a:lnTo>
                        <a:pt x="494" y="170"/>
                      </a:lnTo>
                      <a:lnTo>
                        <a:pt x="498" y="156"/>
                      </a:lnTo>
                      <a:lnTo>
                        <a:pt x="481" y="154"/>
                      </a:lnTo>
                      <a:lnTo>
                        <a:pt x="484" y="141"/>
                      </a:lnTo>
                      <a:lnTo>
                        <a:pt x="472" y="137"/>
                      </a:lnTo>
                      <a:lnTo>
                        <a:pt x="472" y="123"/>
                      </a:lnTo>
                      <a:lnTo>
                        <a:pt x="459" y="110"/>
                      </a:lnTo>
                      <a:lnTo>
                        <a:pt x="431" y="69"/>
                      </a:lnTo>
                      <a:lnTo>
                        <a:pt x="524" y="357"/>
                      </a:lnTo>
                      <a:lnTo>
                        <a:pt x="510" y="387"/>
                      </a:lnTo>
                      <a:lnTo>
                        <a:pt x="511" y="350"/>
                      </a:lnTo>
                      <a:lnTo>
                        <a:pt x="501" y="353"/>
                      </a:lnTo>
                      <a:lnTo>
                        <a:pt x="502" y="336"/>
                      </a:lnTo>
                      <a:lnTo>
                        <a:pt x="487" y="332"/>
                      </a:lnTo>
                      <a:lnTo>
                        <a:pt x="495" y="307"/>
                      </a:lnTo>
                      <a:lnTo>
                        <a:pt x="476" y="307"/>
                      </a:lnTo>
                      <a:lnTo>
                        <a:pt x="484" y="289"/>
                      </a:lnTo>
                      <a:lnTo>
                        <a:pt x="465" y="285"/>
                      </a:lnTo>
                      <a:lnTo>
                        <a:pt x="476" y="267"/>
                      </a:lnTo>
                      <a:lnTo>
                        <a:pt x="457" y="264"/>
                      </a:lnTo>
                      <a:lnTo>
                        <a:pt x="469" y="246"/>
                      </a:lnTo>
                      <a:lnTo>
                        <a:pt x="454" y="242"/>
                      </a:lnTo>
                      <a:lnTo>
                        <a:pt x="461" y="220"/>
                      </a:lnTo>
                      <a:lnTo>
                        <a:pt x="447" y="217"/>
                      </a:lnTo>
                      <a:lnTo>
                        <a:pt x="450" y="199"/>
                      </a:lnTo>
                      <a:lnTo>
                        <a:pt x="431" y="191"/>
                      </a:lnTo>
                      <a:lnTo>
                        <a:pt x="435" y="173"/>
                      </a:lnTo>
                      <a:lnTo>
                        <a:pt x="420" y="164"/>
                      </a:lnTo>
                      <a:lnTo>
                        <a:pt x="428" y="144"/>
                      </a:lnTo>
                      <a:lnTo>
                        <a:pt x="413" y="135"/>
                      </a:lnTo>
                      <a:lnTo>
                        <a:pt x="420" y="112"/>
                      </a:lnTo>
                      <a:lnTo>
                        <a:pt x="406" y="112"/>
                      </a:lnTo>
                      <a:lnTo>
                        <a:pt x="402" y="90"/>
                      </a:lnTo>
                      <a:lnTo>
                        <a:pt x="403" y="82"/>
                      </a:lnTo>
                      <a:lnTo>
                        <a:pt x="384" y="82"/>
                      </a:lnTo>
                      <a:lnTo>
                        <a:pt x="397" y="391"/>
                      </a:lnTo>
                      <a:lnTo>
                        <a:pt x="376" y="372"/>
                      </a:lnTo>
                      <a:lnTo>
                        <a:pt x="387" y="336"/>
                      </a:lnTo>
                      <a:lnTo>
                        <a:pt x="369" y="340"/>
                      </a:lnTo>
                      <a:lnTo>
                        <a:pt x="387" y="304"/>
                      </a:lnTo>
                      <a:lnTo>
                        <a:pt x="369" y="304"/>
                      </a:lnTo>
                      <a:lnTo>
                        <a:pt x="378" y="281"/>
                      </a:lnTo>
                      <a:lnTo>
                        <a:pt x="353" y="282"/>
                      </a:lnTo>
                      <a:lnTo>
                        <a:pt x="378" y="252"/>
                      </a:lnTo>
                      <a:lnTo>
                        <a:pt x="345" y="255"/>
                      </a:lnTo>
                      <a:lnTo>
                        <a:pt x="378" y="221"/>
                      </a:lnTo>
                      <a:lnTo>
                        <a:pt x="339" y="231"/>
                      </a:lnTo>
                      <a:lnTo>
                        <a:pt x="371" y="198"/>
                      </a:lnTo>
                      <a:lnTo>
                        <a:pt x="335" y="202"/>
                      </a:lnTo>
                      <a:lnTo>
                        <a:pt x="364" y="173"/>
                      </a:lnTo>
                      <a:lnTo>
                        <a:pt x="346" y="173"/>
                      </a:lnTo>
                      <a:lnTo>
                        <a:pt x="358" y="154"/>
                      </a:lnTo>
                      <a:lnTo>
                        <a:pt x="339" y="151"/>
                      </a:lnTo>
                      <a:lnTo>
                        <a:pt x="355" y="132"/>
                      </a:lnTo>
                      <a:lnTo>
                        <a:pt x="339" y="126"/>
                      </a:lnTo>
                      <a:lnTo>
                        <a:pt x="358" y="107"/>
                      </a:lnTo>
                      <a:lnTo>
                        <a:pt x="339" y="101"/>
                      </a:lnTo>
                      <a:lnTo>
                        <a:pt x="358" y="85"/>
                      </a:lnTo>
                      <a:lnTo>
                        <a:pt x="342" y="82"/>
                      </a:lnTo>
                      <a:lnTo>
                        <a:pt x="358" y="66"/>
                      </a:lnTo>
                      <a:lnTo>
                        <a:pt x="345" y="56"/>
                      </a:lnTo>
                      <a:lnTo>
                        <a:pt x="339" y="43"/>
                      </a:lnTo>
                      <a:lnTo>
                        <a:pt x="272" y="275"/>
                      </a:lnTo>
                      <a:lnTo>
                        <a:pt x="331" y="4"/>
                      </a:lnTo>
                      <a:lnTo>
                        <a:pt x="346" y="4"/>
                      </a:lnTo>
                      <a:lnTo>
                        <a:pt x="350" y="29"/>
                      </a:lnTo>
                      <a:lnTo>
                        <a:pt x="353" y="43"/>
                      </a:lnTo>
                      <a:lnTo>
                        <a:pt x="357" y="51"/>
                      </a:lnTo>
                      <a:lnTo>
                        <a:pt x="365" y="32"/>
                      </a:lnTo>
                      <a:lnTo>
                        <a:pt x="365" y="4"/>
                      </a:lnTo>
                      <a:lnTo>
                        <a:pt x="402" y="69"/>
                      </a:lnTo>
                      <a:lnTo>
                        <a:pt x="390" y="0"/>
                      </a:lnTo>
                      <a:lnTo>
                        <a:pt x="4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 name=""/>
                <p:cNvSpPr/>
                <p:nvPr/>
              </p:nvSpPr>
              <p:spPr>
                <a:xfrm>
                  <a:off x="5433840" y="411120"/>
                  <a:ext cx="627120" cy="380880"/>
                </a:xfrm>
                <a:custGeom>
                  <a:avLst/>
                  <a:gdLst/>
                  <a:ahLst/>
                  <a:rect l="l" t="t" r="r" b="b"/>
                  <a:pathLst>
                    <a:path w="395" h="240">
                      <a:moveTo>
                        <a:pt x="26" y="192"/>
                      </a:moveTo>
                      <a:lnTo>
                        <a:pt x="48" y="181"/>
                      </a:lnTo>
                      <a:lnTo>
                        <a:pt x="74" y="174"/>
                      </a:lnTo>
                      <a:lnTo>
                        <a:pt x="97" y="174"/>
                      </a:lnTo>
                      <a:lnTo>
                        <a:pt x="119" y="167"/>
                      </a:lnTo>
                      <a:lnTo>
                        <a:pt x="134" y="148"/>
                      </a:lnTo>
                      <a:lnTo>
                        <a:pt x="152" y="123"/>
                      </a:lnTo>
                      <a:lnTo>
                        <a:pt x="175" y="91"/>
                      </a:lnTo>
                      <a:lnTo>
                        <a:pt x="201" y="58"/>
                      </a:lnTo>
                      <a:lnTo>
                        <a:pt x="226" y="33"/>
                      </a:lnTo>
                      <a:lnTo>
                        <a:pt x="260" y="15"/>
                      </a:lnTo>
                      <a:lnTo>
                        <a:pt x="282" y="4"/>
                      </a:lnTo>
                      <a:lnTo>
                        <a:pt x="320" y="4"/>
                      </a:lnTo>
                      <a:lnTo>
                        <a:pt x="342" y="11"/>
                      </a:lnTo>
                      <a:lnTo>
                        <a:pt x="372" y="11"/>
                      </a:lnTo>
                      <a:lnTo>
                        <a:pt x="394" y="0"/>
                      </a:lnTo>
                      <a:lnTo>
                        <a:pt x="364" y="22"/>
                      </a:lnTo>
                      <a:lnTo>
                        <a:pt x="390" y="18"/>
                      </a:lnTo>
                      <a:lnTo>
                        <a:pt x="372" y="33"/>
                      </a:lnTo>
                      <a:lnTo>
                        <a:pt x="390" y="33"/>
                      </a:lnTo>
                      <a:lnTo>
                        <a:pt x="368" y="47"/>
                      </a:lnTo>
                      <a:lnTo>
                        <a:pt x="390" y="54"/>
                      </a:lnTo>
                      <a:lnTo>
                        <a:pt x="368" y="65"/>
                      </a:lnTo>
                      <a:lnTo>
                        <a:pt x="394" y="69"/>
                      </a:lnTo>
                      <a:lnTo>
                        <a:pt x="372" y="76"/>
                      </a:lnTo>
                      <a:lnTo>
                        <a:pt x="383" y="83"/>
                      </a:lnTo>
                      <a:lnTo>
                        <a:pt x="364" y="91"/>
                      </a:lnTo>
                      <a:lnTo>
                        <a:pt x="383" y="94"/>
                      </a:lnTo>
                      <a:lnTo>
                        <a:pt x="353" y="94"/>
                      </a:lnTo>
                      <a:lnTo>
                        <a:pt x="320" y="87"/>
                      </a:lnTo>
                      <a:lnTo>
                        <a:pt x="297" y="91"/>
                      </a:lnTo>
                      <a:lnTo>
                        <a:pt x="323" y="69"/>
                      </a:lnTo>
                      <a:lnTo>
                        <a:pt x="297" y="69"/>
                      </a:lnTo>
                      <a:lnTo>
                        <a:pt x="327" y="58"/>
                      </a:lnTo>
                      <a:lnTo>
                        <a:pt x="301" y="58"/>
                      </a:lnTo>
                      <a:lnTo>
                        <a:pt x="327" y="51"/>
                      </a:lnTo>
                      <a:lnTo>
                        <a:pt x="294" y="44"/>
                      </a:lnTo>
                      <a:lnTo>
                        <a:pt x="323" y="36"/>
                      </a:lnTo>
                      <a:lnTo>
                        <a:pt x="297" y="29"/>
                      </a:lnTo>
                      <a:lnTo>
                        <a:pt x="320" y="22"/>
                      </a:lnTo>
                      <a:lnTo>
                        <a:pt x="294" y="18"/>
                      </a:lnTo>
                      <a:lnTo>
                        <a:pt x="271" y="22"/>
                      </a:lnTo>
                      <a:lnTo>
                        <a:pt x="238" y="36"/>
                      </a:lnTo>
                      <a:lnTo>
                        <a:pt x="212" y="62"/>
                      </a:lnTo>
                      <a:lnTo>
                        <a:pt x="141" y="152"/>
                      </a:lnTo>
                      <a:lnTo>
                        <a:pt x="226" y="65"/>
                      </a:lnTo>
                      <a:lnTo>
                        <a:pt x="152" y="156"/>
                      </a:lnTo>
                      <a:lnTo>
                        <a:pt x="253" y="72"/>
                      </a:lnTo>
                      <a:lnTo>
                        <a:pt x="160" y="163"/>
                      </a:lnTo>
                      <a:lnTo>
                        <a:pt x="267" y="94"/>
                      </a:lnTo>
                      <a:lnTo>
                        <a:pt x="286" y="87"/>
                      </a:lnTo>
                      <a:lnTo>
                        <a:pt x="249" y="109"/>
                      </a:lnTo>
                      <a:lnTo>
                        <a:pt x="145" y="192"/>
                      </a:lnTo>
                      <a:lnTo>
                        <a:pt x="126" y="203"/>
                      </a:lnTo>
                      <a:lnTo>
                        <a:pt x="97" y="210"/>
                      </a:lnTo>
                      <a:lnTo>
                        <a:pt x="115" y="195"/>
                      </a:lnTo>
                      <a:lnTo>
                        <a:pt x="86" y="199"/>
                      </a:lnTo>
                      <a:lnTo>
                        <a:pt x="108" y="188"/>
                      </a:lnTo>
                      <a:lnTo>
                        <a:pt x="82" y="185"/>
                      </a:lnTo>
                      <a:lnTo>
                        <a:pt x="67" y="181"/>
                      </a:lnTo>
                      <a:lnTo>
                        <a:pt x="33" y="195"/>
                      </a:lnTo>
                      <a:lnTo>
                        <a:pt x="19" y="206"/>
                      </a:lnTo>
                      <a:lnTo>
                        <a:pt x="56" y="195"/>
                      </a:lnTo>
                      <a:lnTo>
                        <a:pt x="22" y="228"/>
                      </a:lnTo>
                      <a:lnTo>
                        <a:pt x="70" y="199"/>
                      </a:lnTo>
                      <a:lnTo>
                        <a:pt x="41" y="228"/>
                      </a:lnTo>
                      <a:lnTo>
                        <a:pt x="74" y="213"/>
                      </a:lnTo>
                      <a:lnTo>
                        <a:pt x="52" y="235"/>
                      </a:lnTo>
                      <a:lnTo>
                        <a:pt x="0" y="239"/>
                      </a:lnTo>
                      <a:lnTo>
                        <a:pt x="26" y="19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 name=""/>
                <p:cNvSpPr/>
                <p:nvPr/>
              </p:nvSpPr>
              <p:spPr>
                <a:xfrm>
                  <a:off x="5122800" y="865080"/>
                  <a:ext cx="270000" cy="560520"/>
                </a:xfrm>
                <a:custGeom>
                  <a:avLst/>
                  <a:gdLst/>
                  <a:ahLst/>
                  <a:rect l="l" t="t" r="r" b="b"/>
                  <a:pathLst>
                    <a:path w="170" h="353">
                      <a:moveTo>
                        <a:pt x="166" y="36"/>
                      </a:moveTo>
                      <a:lnTo>
                        <a:pt x="49" y="352"/>
                      </a:lnTo>
                      <a:lnTo>
                        <a:pt x="36" y="336"/>
                      </a:lnTo>
                      <a:lnTo>
                        <a:pt x="3" y="333"/>
                      </a:lnTo>
                      <a:lnTo>
                        <a:pt x="36" y="314"/>
                      </a:lnTo>
                      <a:lnTo>
                        <a:pt x="0" y="308"/>
                      </a:lnTo>
                      <a:lnTo>
                        <a:pt x="43" y="292"/>
                      </a:lnTo>
                      <a:lnTo>
                        <a:pt x="0" y="286"/>
                      </a:lnTo>
                      <a:lnTo>
                        <a:pt x="50" y="274"/>
                      </a:lnTo>
                      <a:lnTo>
                        <a:pt x="10" y="261"/>
                      </a:lnTo>
                      <a:lnTo>
                        <a:pt x="54" y="252"/>
                      </a:lnTo>
                      <a:lnTo>
                        <a:pt x="26" y="235"/>
                      </a:lnTo>
                      <a:lnTo>
                        <a:pt x="58" y="227"/>
                      </a:lnTo>
                      <a:lnTo>
                        <a:pt x="39" y="213"/>
                      </a:lnTo>
                      <a:lnTo>
                        <a:pt x="65" y="204"/>
                      </a:lnTo>
                      <a:lnTo>
                        <a:pt x="65" y="187"/>
                      </a:lnTo>
                      <a:lnTo>
                        <a:pt x="169" y="0"/>
                      </a:lnTo>
                      <a:lnTo>
                        <a:pt x="166" y="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61" name=""/>
              <p:cNvSpPr/>
              <p:nvPr/>
            </p:nvSpPr>
            <p:spPr>
              <a:xfrm>
                <a:off x="5362560" y="771480"/>
                <a:ext cx="220680" cy="117360"/>
              </a:xfrm>
              <a:custGeom>
                <a:avLst/>
                <a:gdLst/>
                <a:ahLst/>
                <a:rect l="l" t="t" r="r" b="b"/>
                <a:pathLst>
                  <a:path w="139" h="74">
                    <a:moveTo>
                      <a:pt x="2" y="10"/>
                    </a:moveTo>
                    <a:lnTo>
                      <a:pt x="2" y="15"/>
                    </a:lnTo>
                    <a:lnTo>
                      <a:pt x="10" y="17"/>
                    </a:lnTo>
                    <a:lnTo>
                      <a:pt x="29" y="44"/>
                    </a:lnTo>
                    <a:lnTo>
                      <a:pt x="0" y="68"/>
                    </a:lnTo>
                    <a:lnTo>
                      <a:pt x="23" y="63"/>
                    </a:lnTo>
                    <a:lnTo>
                      <a:pt x="40" y="34"/>
                    </a:lnTo>
                    <a:lnTo>
                      <a:pt x="38" y="73"/>
                    </a:lnTo>
                    <a:lnTo>
                      <a:pt x="48" y="61"/>
                    </a:lnTo>
                    <a:lnTo>
                      <a:pt x="61" y="27"/>
                    </a:lnTo>
                    <a:lnTo>
                      <a:pt x="73" y="71"/>
                    </a:lnTo>
                    <a:lnTo>
                      <a:pt x="80" y="31"/>
                    </a:lnTo>
                    <a:lnTo>
                      <a:pt x="100" y="65"/>
                    </a:lnTo>
                    <a:lnTo>
                      <a:pt x="138" y="64"/>
                    </a:lnTo>
                    <a:lnTo>
                      <a:pt x="98" y="0"/>
                    </a:lnTo>
                    <a:lnTo>
                      <a:pt x="2" y="10"/>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62" name=""/>
            <p:cNvSpPr/>
            <p:nvPr/>
          </p:nvSpPr>
          <p:spPr>
            <a:xfrm>
              <a:off x="5357880" y="363600"/>
              <a:ext cx="236520" cy="438120"/>
            </a:xfrm>
            <a:custGeom>
              <a:avLst/>
              <a:gdLst/>
              <a:ahLst/>
              <a:rect l="l" t="t" r="r" b="b"/>
              <a:pathLst>
                <a:path w="149" h="276">
                  <a:moveTo>
                    <a:pt x="25" y="275"/>
                  </a:moveTo>
                  <a:lnTo>
                    <a:pt x="6" y="257"/>
                  </a:lnTo>
                  <a:lnTo>
                    <a:pt x="0" y="235"/>
                  </a:lnTo>
                  <a:lnTo>
                    <a:pt x="3" y="214"/>
                  </a:lnTo>
                  <a:lnTo>
                    <a:pt x="14" y="196"/>
                  </a:lnTo>
                  <a:lnTo>
                    <a:pt x="25" y="177"/>
                  </a:lnTo>
                  <a:lnTo>
                    <a:pt x="45" y="159"/>
                  </a:lnTo>
                  <a:lnTo>
                    <a:pt x="61" y="138"/>
                  </a:lnTo>
                  <a:lnTo>
                    <a:pt x="70" y="123"/>
                  </a:lnTo>
                  <a:lnTo>
                    <a:pt x="70" y="105"/>
                  </a:lnTo>
                  <a:lnTo>
                    <a:pt x="64" y="87"/>
                  </a:lnTo>
                  <a:lnTo>
                    <a:pt x="50" y="76"/>
                  </a:lnTo>
                  <a:lnTo>
                    <a:pt x="39" y="69"/>
                  </a:lnTo>
                  <a:lnTo>
                    <a:pt x="34" y="54"/>
                  </a:lnTo>
                  <a:lnTo>
                    <a:pt x="42" y="40"/>
                  </a:lnTo>
                  <a:lnTo>
                    <a:pt x="56" y="22"/>
                  </a:lnTo>
                  <a:lnTo>
                    <a:pt x="73" y="7"/>
                  </a:lnTo>
                  <a:lnTo>
                    <a:pt x="92" y="0"/>
                  </a:lnTo>
                  <a:lnTo>
                    <a:pt x="87" y="15"/>
                  </a:lnTo>
                  <a:lnTo>
                    <a:pt x="101" y="11"/>
                  </a:lnTo>
                  <a:lnTo>
                    <a:pt x="95" y="22"/>
                  </a:lnTo>
                  <a:lnTo>
                    <a:pt x="109" y="18"/>
                  </a:lnTo>
                  <a:lnTo>
                    <a:pt x="101" y="36"/>
                  </a:lnTo>
                  <a:lnTo>
                    <a:pt x="117" y="29"/>
                  </a:lnTo>
                  <a:lnTo>
                    <a:pt x="106" y="47"/>
                  </a:lnTo>
                  <a:lnTo>
                    <a:pt x="126" y="40"/>
                  </a:lnTo>
                  <a:lnTo>
                    <a:pt x="120" y="54"/>
                  </a:lnTo>
                  <a:lnTo>
                    <a:pt x="131" y="58"/>
                  </a:lnTo>
                  <a:lnTo>
                    <a:pt x="129" y="69"/>
                  </a:lnTo>
                  <a:lnTo>
                    <a:pt x="140" y="73"/>
                  </a:lnTo>
                  <a:lnTo>
                    <a:pt x="148" y="87"/>
                  </a:lnTo>
                  <a:lnTo>
                    <a:pt x="145" y="108"/>
                  </a:lnTo>
                  <a:lnTo>
                    <a:pt x="134" y="130"/>
                  </a:lnTo>
                  <a:lnTo>
                    <a:pt x="115" y="156"/>
                  </a:lnTo>
                  <a:lnTo>
                    <a:pt x="95" y="174"/>
                  </a:lnTo>
                  <a:lnTo>
                    <a:pt x="126" y="130"/>
                  </a:lnTo>
                  <a:lnTo>
                    <a:pt x="134" y="108"/>
                  </a:lnTo>
                  <a:lnTo>
                    <a:pt x="131" y="87"/>
                  </a:lnTo>
                  <a:lnTo>
                    <a:pt x="120" y="76"/>
                  </a:lnTo>
                  <a:lnTo>
                    <a:pt x="50" y="47"/>
                  </a:lnTo>
                  <a:lnTo>
                    <a:pt x="47" y="54"/>
                  </a:lnTo>
                  <a:lnTo>
                    <a:pt x="50" y="65"/>
                  </a:lnTo>
                  <a:lnTo>
                    <a:pt x="70" y="80"/>
                  </a:lnTo>
                  <a:lnTo>
                    <a:pt x="78" y="94"/>
                  </a:lnTo>
                  <a:lnTo>
                    <a:pt x="84" y="120"/>
                  </a:lnTo>
                  <a:lnTo>
                    <a:pt x="81" y="134"/>
                  </a:lnTo>
                  <a:lnTo>
                    <a:pt x="101" y="116"/>
                  </a:lnTo>
                  <a:lnTo>
                    <a:pt x="89" y="145"/>
                  </a:lnTo>
                  <a:lnTo>
                    <a:pt x="117" y="112"/>
                  </a:lnTo>
                  <a:lnTo>
                    <a:pt x="98" y="148"/>
                  </a:lnTo>
                  <a:lnTo>
                    <a:pt x="117" y="130"/>
                  </a:lnTo>
                  <a:lnTo>
                    <a:pt x="78" y="185"/>
                  </a:lnTo>
                  <a:lnTo>
                    <a:pt x="61" y="203"/>
                  </a:lnTo>
                  <a:lnTo>
                    <a:pt x="56" y="214"/>
                  </a:lnTo>
                  <a:lnTo>
                    <a:pt x="53" y="239"/>
                  </a:lnTo>
                  <a:lnTo>
                    <a:pt x="39" y="268"/>
                  </a:lnTo>
                  <a:lnTo>
                    <a:pt x="31" y="254"/>
                  </a:lnTo>
                  <a:lnTo>
                    <a:pt x="28" y="232"/>
                  </a:lnTo>
                  <a:lnTo>
                    <a:pt x="28" y="214"/>
                  </a:lnTo>
                  <a:lnTo>
                    <a:pt x="31" y="196"/>
                  </a:lnTo>
                  <a:lnTo>
                    <a:pt x="39" y="177"/>
                  </a:lnTo>
                  <a:lnTo>
                    <a:pt x="17" y="206"/>
                  </a:lnTo>
                  <a:lnTo>
                    <a:pt x="11" y="235"/>
                  </a:lnTo>
                  <a:lnTo>
                    <a:pt x="17" y="250"/>
                  </a:lnTo>
                  <a:lnTo>
                    <a:pt x="28" y="271"/>
                  </a:lnTo>
                  <a:lnTo>
                    <a:pt x="25" y="27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22" name=""/>
          <p:cNvGrpSpPr/>
          <p:nvPr/>
        </p:nvGrpSpPr>
        <p:grpSpPr>
          <a:xfrm>
            <a:off x="5133960" y="3376440"/>
            <a:ext cx="2468520" cy="2927520"/>
            <a:chOff x="5133960" y="3376440"/>
            <a:chExt cx="2468520" cy="2927520"/>
          </a:xfrm>
        </p:grpSpPr>
        <p:grpSp>
          <p:nvGrpSpPr>
            <p:cNvPr id="223" name=""/>
            <p:cNvGrpSpPr/>
            <p:nvPr/>
          </p:nvGrpSpPr>
          <p:grpSpPr>
            <a:xfrm>
              <a:off x="5133960" y="3460680"/>
              <a:ext cx="2468520" cy="2843280"/>
              <a:chOff x="5133960" y="3460680"/>
              <a:chExt cx="2468520" cy="2843280"/>
            </a:xfrm>
          </p:grpSpPr>
          <p:grpSp>
            <p:nvGrpSpPr>
              <p:cNvPr id="224" name=""/>
              <p:cNvGrpSpPr/>
              <p:nvPr/>
            </p:nvGrpSpPr>
            <p:grpSpPr>
              <a:xfrm>
                <a:off x="5133960" y="3460680"/>
                <a:ext cx="2468520" cy="2843280"/>
                <a:chOff x="5133960" y="3460680"/>
                <a:chExt cx="2468520" cy="2843280"/>
              </a:xfrm>
            </p:grpSpPr>
            <p:sp>
              <p:nvSpPr>
                <p:cNvPr id="225"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7"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8"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0"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2"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3"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34"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35"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3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237"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even place the same number more than once.</a:t>
            </a:r>
            <a:endParaRPr b="0" lang="en-US" sz="2800" spc="-1" strike="noStrike">
              <a:solidFill>
                <a:srgbClr val="e0e0e0"/>
              </a:solidFill>
              <a:latin typeface="Times New Roman"/>
            </a:endParaRPr>
          </a:p>
        </p:txBody>
      </p:sp>
      <p:sp>
        <p:nvSpPr>
          <p:cNvPr id="238"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39" name="" descr=""/>
          <p:cNvPicPr/>
          <p:nvPr/>
        </p:nvPicPr>
        <p:blipFill>
          <a:blip r:embed="rId1"/>
          <a:stretch/>
        </p:blipFill>
        <p:spPr>
          <a:xfrm>
            <a:off x="5689440" y="5286240"/>
            <a:ext cx="567000" cy="606600"/>
          </a:xfrm>
          <a:prstGeom prst="rect">
            <a:avLst/>
          </a:prstGeom>
          <a:ln w="0">
            <a:noFill/>
          </a:ln>
        </p:spPr>
      </p:pic>
      <p:pic>
        <p:nvPicPr>
          <p:cNvPr id="240" name="" descr=""/>
          <p:cNvPicPr/>
          <p:nvPr/>
        </p:nvPicPr>
        <p:blipFill>
          <a:blip r:embed="rId2"/>
          <a:stretch/>
        </p:blipFill>
        <p:spPr>
          <a:xfrm>
            <a:off x="3846600" y="2629080"/>
            <a:ext cx="1582560" cy="1549080"/>
          </a:xfrm>
          <a:prstGeom prst="rect">
            <a:avLst/>
          </a:prstGeom>
          <a:ln w="0">
            <a:noFill/>
          </a:ln>
        </p:spPr>
      </p:pic>
      <p:pic>
        <p:nvPicPr>
          <p:cNvPr id="241" name="" descr=""/>
          <p:cNvPicPr/>
          <p:nvPr/>
        </p:nvPicPr>
        <p:blipFill>
          <a:blip r:embed="rId3"/>
          <a:stretch/>
        </p:blipFill>
        <p:spPr>
          <a:xfrm>
            <a:off x="6060960" y="5578560"/>
            <a:ext cx="615960" cy="666720"/>
          </a:xfrm>
          <a:prstGeom prst="rect">
            <a:avLst/>
          </a:prstGeom>
          <a:ln w="0">
            <a:noFill/>
          </a:ln>
        </p:spPr>
      </p:pic>
      <p:pic>
        <p:nvPicPr>
          <p:cNvPr id="242" name="" descr=""/>
          <p:cNvPicPr/>
          <p:nvPr/>
        </p:nvPicPr>
        <p:blipFill>
          <a:blip r:embed="rId4"/>
          <a:stretch/>
        </p:blipFill>
        <p:spPr>
          <a:xfrm>
            <a:off x="6386400" y="5311800"/>
            <a:ext cx="567000" cy="606240"/>
          </a:xfrm>
          <a:prstGeom prst="rect">
            <a:avLst/>
          </a:prstGeom>
          <a:ln w="0">
            <a:noFill/>
          </a:ln>
        </p:spPr>
      </p:pic>
      <p:grpSp>
        <p:nvGrpSpPr>
          <p:cNvPr id="243" name=""/>
          <p:cNvGrpSpPr/>
          <p:nvPr/>
        </p:nvGrpSpPr>
        <p:grpSpPr>
          <a:xfrm>
            <a:off x="3979800" y="4235040"/>
            <a:ext cx="1758960" cy="1703160"/>
            <a:chOff x="3979800" y="4235040"/>
            <a:chExt cx="1758960" cy="1703160"/>
          </a:xfrm>
        </p:grpSpPr>
        <p:sp>
          <p:nvSpPr>
            <p:cNvPr id="244" name=""/>
            <p:cNvSpPr/>
            <p:nvPr/>
          </p:nvSpPr>
          <p:spPr>
            <a:xfrm flipH="1" rot="10800000">
              <a:off x="4123080" y="4235040"/>
              <a:ext cx="1457640" cy="1546200"/>
            </a:xfrm>
            <a:custGeom>
              <a:avLst/>
              <a:gdLst>
                <a:gd name="textAreaLeft" fmla="*/ 53640 w 1457640"/>
                <a:gd name="textAreaRight" fmla="*/ 1403640 w 1457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5" name=""/>
            <p:cNvSpPr/>
            <p:nvPr/>
          </p:nvSpPr>
          <p:spPr>
            <a:xfrm>
              <a:off x="3979800" y="4632480"/>
              <a:ext cx="1758960" cy="1305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OW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 HA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WO 4'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D AN 8..</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grpSp>
    </p:spTree>
  </p:cSld>
  <p:transition spd="slow">
    <p:strips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ining a Bag</a:t>
            </a:r>
            <a:endParaRPr b="0" lang="en-US" sz="4400" spc="-1" strike="noStrike">
              <a:solidFill>
                <a:srgbClr val="00cece"/>
              </a:solidFill>
              <a:latin typeface="Times New Roman"/>
            </a:endParaRPr>
          </a:p>
        </p:txBody>
      </p:sp>
      <p:sp>
        <p:nvSpPr>
          <p:cNvPr id="247"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may ask about the contents of the bag. </a:t>
            </a:r>
            <a:endParaRPr b="0" lang="en-US" sz="2800" spc="-1" strike="noStrike">
              <a:solidFill>
                <a:srgbClr val="e0e0e0"/>
              </a:solidFill>
              <a:latin typeface="Times New Roman"/>
            </a:endParaRPr>
          </a:p>
        </p:txBody>
      </p:sp>
      <p:grpSp>
        <p:nvGrpSpPr>
          <p:cNvPr id="248" name=""/>
          <p:cNvGrpSpPr/>
          <p:nvPr/>
        </p:nvGrpSpPr>
        <p:grpSpPr>
          <a:xfrm>
            <a:off x="5133960" y="3376440"/>
            <a:ext cx="2468520" cy="2927520"/>
            <a:chOff x="5133960" y="3376440"/>
            <a:chExt cx="2468520" cy="2927520"/>
          </a:xfrm>
        </p:grpSpPr>
        <p:grpSp>
          <p:nvGrpSpPr>
            <p:cNvPr id="249" name=""/>
            <p:cNvGrpSpPr/>
            <p:nvPr/>
          </p:nvGrpSpPr>
          <p:grpSpPr>
            <a:xfrm>
              <a:off x="5133960" y="3376440"/>
              <a:ext cx="2468520" cy="2927520"/>
              <a:chOff x="5133960" y="3376440"/>
              <a:chExt cx="2468520" cy="2927520"/>
            </a:xfrm>
          </p:grpSpPr>
          <p:grpSp>
            <p:nvGrpSpPr>
              <p:cNvPr id="250" name=""/>
              <p:cNvGrpSpPr/>
              <p:nvPr/>
            </p:nvGrpSpPr>
            <p:grpSpPr>
              <a:xfrm>
                <a:off x="5133960" y="3460680"/>
                <a:ext cx="2468520" cy="2843280"/>
                <a:chOff x="5133960" y="3460680"/>
                <a:chExt cx="2468520" cy="2843280"/>
              </a:xfrm>
            </p:grpSpPr>
            <p:grpSp>
              <p:nvGrpSpPr>
                <p:cNvPr id="251" name=""/>
                <p:cNvGrpSpPr/>
                <p:nvPr/>
              </p:nvGrpSpPr>
              <p:grpSpPr>
                <a:xfrm>
                  <a:off x="5133960" y="3460680"/>
                  <a:ext cx="2468520" cy="2843280"/>
                  <a:chOff x="5133960" y="3460680"/>
                  <a:chExt cx="2468520" cy="2843280"/>
                </a:xfrm>
              </p:grpSpPr>
              <p:sp>
                <p:nvSpPr>
                  <p:cNvPr id="252"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3"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4"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5"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6"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7"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8"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9"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0"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61"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62"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63"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64" name="" descr=""/>
            <p:cNvPicPr/>
            <p:nvPr/>
          </p:nvPicPr>
          <p:blipFill>
            <a:blip r:embed="rId1"/>
            <a:stretch/>
          </p:blipFill>
          <p:spPr>
            <a:xfrm>
              <a:off x="5689440" y="5286240"/>
              <a:ext cx="567000" cy="606600"/>
            </a:xfrm>
            <a:prstGeom prst="rect">
              <a:avLst/>
            </a:prstGeom>
            <a:ln w="0">
              <a:noFill/>
            </a:ln>
          </p:spPr>
        </p:pic>
        <p:pic>
          <p:nvPicPr>
            <p:cNvPr id="265" name="" descr=""/>
            <p:cNvPicPr/>
            <p:nvPr/>
          </p:nvPicPr>
          <p:blipFill>
            <a:blip r:embed="rId2"/>
            <a:stretch/>
          </p:blipFill>
          <p:spPr>
            <a:xfrm>
              <a:off x="6060960" y="5578560"/>
              <a:ext cx="615960" cy="666720"/>
            </a:xfrm>
            <a:prstGeom prst="rect">
              <a:avLst/>
            </a:prstGeom>
            <a:ln w="0">
              <a:noFill/>
            </a:ln>
          </p:spPr>
        </p:pic>
        <p:pic>
          <p:nvPicPr>
            <p:cNvPr id="266" name="" descr=""/>
            <p:cNvPicPr/>
            <p:nvPr/>
          </p:nvPicPr>
          <p:blipFill>
            <a:blip r:embed="rId3"/>
            <a:stretch/>
          </p:blipFill>
          <p:spPr>
            <a:xfrm>
              <a:off x="6386400" y="5311800"/>
              <a:ext cx="567000" cy="606240"/>
            </a:xfrm>
            <a:prstGeom prst="rect">
              <a:avLst/>
            </a:prstGeom>
            <a:ln w="0">
              <a:noFill/>
            </a:ln>
          </p:spPr>
        </p:pic>
      </p:grpSp>
      <p:grpSp>
        <p:nvGrpSpPr>
          <p:cNvPr id="267" name=""/>
          <p:cNvGrpSpPr/>
          <p:nvPr/>
        </p:nvGrpSpPr>
        <p:grpSpPr>
          <a:xfrm>
            <a:off x="1657440" y="3635280"/>
            <a:ext cx="1758960" cy="1546200"/>
            <a:chOff x="1657440" y="3635280"/>
            <a:chExt cx="1758960" cy="1546200"/>
          </a:xfrm>
        </p:grpSpPr>
        <p:sp>
          <p:nvSpPr>
            <p:cNvPr id="268" name=""/>
            <p:cNvSpPr/>
            <p:nvPr/>
          </p:nvSpPr>
          <p:spPr>
            <a:xfrm flipH="1">
              <a:off x="1765440" y="363528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9" name=""/>
            <p:cNvSpPr/>
            <p:nvPr/>
          </p:nvSpPr>
          <p:spPr>
            <a:xfrm>
              <a:off x="1657440" y="377820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HAV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YOU GOT</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Y 4'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t>
              </a:r>
              <a:endParaRPr b="0" lang="en-US" sz="1600" spc="-1" strike="noStrike">
                <a:solidFill>
                  <a:srgbClr val="e0e0e0"/>
                </a:solidFill>
                <a:latin typeface="Arial"/>
              </a:endParaRPr>
            </a:p>
          </p:txBody>
        </p:sp>
      </p:grpSp>
      <p:grpSp>
        <p:nvGrpSpPr>
          <p:cNvPr id="270" name=""/>
          <p:cNvGrpSpPr/>
          <p:nvPr/>
        </p:nvGrpSpPr>
        <p:grpSpPr>
          <a:xfrm>
            <a:off x="2951280" y="5000760"/>
            <a:ext cx="1931760" cy="1092240"/>
            <a:chOff x="2951280" y="5000760"/>
            <a:chExt cx="1931760" cy="1092240"/>
          </a:xfrm>
        </p:grpSpPr>
        <p:sp>
          <p:nvSpPr>
            <p:cNvPr id="271" name=""/>
            <p:cNvSpPr/>
            <p:nvPr/>
          </p:nvSpPr>
          <p:spPr>
            <a:xfrm>
              <a:off x="3297240" y="5114880"/>
              <a:ext cx="1585800" cy="954000"/>
            </a:xfrm>
            <a:custGeom>
              <a:avLst/>
              <a:gdLst/>
              <a:ahLst/>
              <a:rect l="l" t="t" r="r" b="b"/>
              <a:pathLst>
                <a:path w="999" h="601">
                  <a:moveTo>
                    <a:pt x="459" y="0"/>
                  </a:moveTo>
                  <a:lnTo>
                    <a:pt x="288" y="7"/>
                  </a:lnTo>
                  <a:lnTo>
                    <a:pt x="0" y="266"/>
                  </a:lnTo>
                  <a:lnTo>
                    <a:pt x="92" y="524"/>
                  </a:lnTo>
                  <a:lnTo>
                    <a:pt x="273" y="480"/>
                  </a:lnTo>
                  <a:lnTo>
                    <a:pt x="472" y="558"/>
                  </a:lnTo>
                  <a:lnTo>
                    <a:pt x="680" y="550"/>
                  </a:lnTo>
                  <a:lnTo>
                    <a:pt x="794" y="600"/>
                  </a:lnTo>
                  <a:lnTo>
                    <a:pt x="801" y="572"/>
                  </a:lnTo>
                  <a:lnTo>
                    <a:pt x="800" y="547"/>
                  </a:lnTo>
                  <a:lnTo>
                    <a:pt x="750" y="480"/>
                  </a:lnTo>
                  <a:lnTo>
                    <a:pt x="606" y="427"/>
                  </a:lnTo>
                  <a:lnTo>
                    <a:pt x="572" y="396"/>
                  </a:lnTo>
                  <a:lnTo>
                    <a:pt x="572" y="365"/>
                  </a:lnTo>
                  <a:lnTo>
                    <a:pt x="613" y="321"/>
                  </a:lnTo>
                  <a:lnTo>
                    <a:pt x="677" y="267"/>
                  </a:lnTo>
                  <a:lnTo>
                    <a:pt x="817" y="195"/>
                  </a:lnTo>
                  <a:lnTo>
                    <a:pt x="966" y="74"/>
                  </a:lnTo>
                  <a:lnTo>
                    <a:pt x="998" y="33"/>
                  </a:lnTo>
                  <a:lnTo>
                    <a:pt x="969" y="1"/>
                  </a:lnTo>
                  <a:lnTo>
                    <a:pt x="608" y="166"/>
                  </a:lnTo>
                  <a:lnTo>
                    <a:pt x="45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3511440" y="5811840"/>
              <a:ext cx="1068480" cy="271440"/>
            </a:xfrm>
            <a:custGeom>
              <a:avLst/>
              <a:gdLst/>
              <a:ahLst/>
              <a:rect l="l" t="t" r="r" b="b"/>
              <a:pathLst>
                <a:path w="673" h="171">
                  <a:moveTo>
                    <a:pt x="15" y="71"/>
                  </a:moveTo>
                  <a:lnTo>
                    <a:pt x="95" y="55"/>
                  </a:lnTo>
                  <a:lnTo>
                    <a:pt x="157" y="57"/>
                  </a:lnTo>
                  <a:lnTo>
                    <a:pt x="239" y="86"/>
                  </a:lnTo>
                  <a:lnTo>
                    <a:pt x="323" y="124"/>
                  </a:lnTo>
                  <a:lnTo>
                    <a:pt x="349" y="129"/>
                  </a:lnTo>
                  <a:lnTo>
                    <a:pt x="423" y="122"/>
                  </a:lnTo>
                  <a:lnTo>
                    <a:pt x="498" y="117"/>
                  </a:lnTo>
                  <a:lnTo>
                    <a:pt x="558" y="127"/>
                  </a:lnTo>
                  <a:lnTo>
                    <a:pt x="617" y="155"/>
                  </a:lnTo>
                  <a:lnTo>
                    <a:pt x="647" y="170"/>
                  </a:lnTo>
                  <a:lnTo>
                    <a:pt x="665" y="162"/>
                  </a:lnTo>
                  <a:lnTo>
                    <a:pt x="672" y="148"/>
                  </a:lnTo>
                  <a:lnTo>
                    <a:pt x="672" y="127"/>
                  </a:lnTo>
                  <a:lnTo>
                    <a:pt x="661" y="92"/>
                  </a:lnTo>
                  <a:lnTo>
                    <a:pt x="664" y="129"/>
                  </a:lnTo>
                  <a:lnTo>
                    <a:pt x="659" y="146"/>
                  </a:lnTo>
                  <a:lnTo>
                    <a:pt x="645" y="147"/>
                  </a:lnTo>
                  <a:lnTo>
                    <a:pt x="586" y="114"/>
                  </a:lnTo>
                  <a:lnTo>
                    <a:pt x="597" y="104"/>
                  </a:lnTo>
                  <a:lnTo>
                    <a:pt x="614" y="106"/>
                  </a:lnTo>
                  <a:lnTo>
                    <a:pt x="583" y="88"/>
                  </a:lnTo>
                  <a:lnTo>
                    <a:pt x="508" y="89"/>
                  </a:lnTo>
                  <a:lnTo>
                    <a:pt x="464" y="101"/>
                  </a:lnTo>
                  <a:lnTo>
                    <a:pt x="455" y="86"/>
                  </a:lnTo>
                  <a:lnTo>
                    <a:pt x="389" y="85"/>
                  </a:lnTo>
                  <a:lnTo>
                    <a:pt x="319" y="96"/>
                  </a:lnTo>
                  <a:lnTo>
                    <a:pt x="287" y="94"/>
                  </a:lnTo>
                  <a:lnTo>
                    <a:pt x="261" y="83"/>
                  </a:lnTo>
                  <a:lnTo>
                    <a:pt x="228" y="57"/>
                  </a:lnTo>
                  <a:lnTo>
                    <a:pt x="150" y="16"/>
                  </a:lnTo>
                  <a:lnTo>
                    <a:pt x="76" y="0"/>
                  </a:lnTo>
                  <a:lnTo>
                    <a:pt x="0" y="5"/>
                  </a:lnTo>
                  <a:lnTo>
                    <a:pt x="3" y="27"/>
                  </a:lnTo>
                  <a:lnTo>
                    <a:pt x="65" y="26"/>
                  </a:lnTo>
                  <a:lnTo>
                    <a:pt x="113" y="42"/>
                  </a:lnTo>
                  <a:lnTo>
                    <a:pt x="19" y="64"/>
                  </a:lnTo>
                  <a:lnTo>
                    <a:pt x="15" y="7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3" name=""/>
            <p:cNvSpPr/>
            <p:nvPr/>
          </p:nvSpPr>
          <p:spPr>
            <a:xfrm>
              <a:off x="4191120" y="5661000"/>
              <a:ext cx="376200" cy="320760"/>
            </a:xfrm>
            <a:custGeom>
              <a:avLst/>
              <a:gdLst/>
              <a:ahLst/>
              <a:rect l="l" t="t" r="r" b="b"/>
              <a:pathLst>
                <a:path w="237" h="202">
                  <a:moveTo>
                    <a:pt x="235" y="201"/>
                  </a:moveTo>
                  <a:lnTo>
                    <a:pt x="209" y="165"/>
                  </a:lnTo>
                  <a:lnTo>
                    <a:pt x="175" y="138"/>
                  </a:lnTo>
                  <a:lnTo>
                    <a:pt x="131" y="118"/>
                  </a:lnTo>
                  <a:lnTo>
                    <a:pt x="99" y="116"/>
                  </a:lnTo>
                  <a:lnTo>
                    <a:pt x="48" y="98"/>
                  </a:lnTo>
                  <a:lnTo>
                    <a:pt x="15" y="72"/>
                  </a:lnTo>
                  <a:lnTo>
                    <a:pt x="0" y="50"/>
                  </a:lnTo>
                  <a:lnTo>
                    <a:pt x="3" y="32"/>
                  </a:lnTo>
                  <a:lnTo>
                    <a:pt x="25" y="0"/>
                  </a:lnTo>
                  <a:lnTo>
                    <a:pt x="10" y="33"/>
                  </a:lnTo>
                  <a:lnTo>
                    <a:pt x="16" y="51"/>
                  </a:lnTo>
                  <a:lnTo>
                    <a:pt x="36" y="74"/>
                  </a:lnTo>
                  <a:lnTo>
                    <a:pt x="63" y="88"/>
                  </a:lnTo>
                  <a:lnTo>
                    <a:pt x="118" y="103"/>
                  </a:lnTo>
                  <a:lnTo>
                    <a:pt x="148" y="108"/>
                  </a:lnTo>
                  <a:lnTo>
                    <a:pt x="173" y="120"/>
                  </a:lnTo>
                  <a:lnTo>
                    <a:pt x="196" y="139"/>
                  </a:lnTo>
                  <a:lnTo>
                    <a:pt x="219" y="165"/>
                  </a:lnTo>
                  <a:lnTo>
                    <a:pt x="236" y="190"/>
                  </a:lnTo>
                  <a:lnTo>
                    <a:pt x="235" y="2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4" name=""/>
            <p:cNvSpPr/>
            <p:nvPr/>
          </p:nvSpPr>
          <p:spPr>
            <a:xfrm>
              <a:off x="4260960" y="5145120"/>
              <a:ext cx="620640" cy="488880"/>
            </a:xfrm>
            <a:custGeom>
              <a:avLst/>
              <a:gdLst/>
              <a:ahLst/>
              <a:rect l="l" t="t" r="r" b="b"/>
              <a:pathLst>
                <a:path w="391" h="308">
                  <a:moveTo>
                    <a:pt x="0" y="307"/>
                  </a:moveTo>
                  <a:lnTo>
                    <a:pt x="32" y="271"/>
                  </a:lnTo>
                  <a:lnTo>
                    <a:pt x="71" y="236"/>
                  </a:lnTo>
                  <a:lnTo>
                    <a:pt x="123" y="209"/>
                  </a:lnTo>
                  <a:lnTo>
                    <a:pt x="173" y="176"/>
                  </a:lnTo>
                  <a:lnTo>
                    <a:pt x="129" y="216"/>
                  </a:lnTo>
                  <a:lnTo>
                    <a:pt x="188" y="182"/>
                  </a:lnTo>
                  <a:lnTo>
                    <a:pt x="274" y="125"/>
                  </a:lnTo>
                  <a:lnTo>
                    <a:pt x="356" y="56"/>
                  </a:lnTo>
                  <a:lnTo>
                    <a:pt x="382" y="23"/>
                  </a:lnTo>
                  <a:lnTo>
                    <a:pt x="386" y="0"/>
                  </a:lnTo>
                  <a:lnTo>
                    <a:pt x="390" y="20"/>
                  </a:lnTo>
                  <a:lnTo>
                    <a:pt x="376" y="45"/>
                  </a:lnTo>
                  <a:lnTo>
                    <a:pt x="315" y="104"/>
                  </a:lnTo>
                  <a:lnTo>
                    <a:pt x="235" y="166"/>
                  </a:lnTo>
                  <a:lnTo>
                    <a:pt x="164" y="216"/>
                  </a:lnTo>
                  <a:lnTo>
                    <a:pt x="60" y="262"/>
                  </a:lnTo>
                  <a:lnTo>
                    <a:pt x="28" y="282"/>
                  </a:lnTo>
                  <a:lnTo>
                    <a:pt x="0" y="30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5" name=""/>
            <p:cNvSpPr/>
            <p:nvPr/>
          </p:nvSpPr>
          <p:spPr>
            <a:xfrm>
              <a:off x="3224160" y="5000760"/>
              <a:ext cx="1650960" cy="527040"/>
            </a:xfrm>
            <a:custGeom>
              <a:avLst/>
              <a:gdLst/>
              <a:ahLst/>
              <a:rect l="l" t="t" r="r" b="b"/>
              <a:pathLst>
                <a:path w="1040" h="332">
                  <a:moveTo>
                    <a:pt x="1037" y="100"/>
                  </a:moveTo>
                  <a:lnTo>
                    <a:pt x="1019" y="81"/>
                  </a:lnTo>
                  <a:lnTo>
                    <a:pt x="1003" y="79"/>
                  </a:lnTo>
                  <a:lnTo>
                    <a:pt x="961" y="98"/>
                  </a:lnTo>
                  <a:lnTo>
                    <a:pt x="961" y="110"/>
                  </a:lnTo>
                  <a:lnTo>
                    <a:pt x="979" y="130"/>
                  </a:lnTo>
                  <a:lnTo>
                    <a:pt x="997" y="133"/>
                  </a:lnTo>
                  <a:lnTo>
                    <a:pt x="957" y="145"/>
                  </a:lnTo>
                  <a:lnTo>
                    <a:pt x="941" y="144"/>
                  </a:lnTo>
                  <a:lnTo>
                    <a:pt x="921" y="133"/>
                  </a:lnTo>
                  <a:lnTo>
                    <a:pt x="855" y="166"/>
                  </a:lnTo>
                  <a:lnTo>
                    <a:pt x="830" y="188"/>
                  </a:lnTo>
                  <a:lnTo>
                    <a:pt x="821" y="206"/>
                  </a:lnTo>
                  <a:lnTo>
                    <a:pt x="787" y="208"/>
                  </a:lnTo>
                  <a:lnTo>
                    <a:pt x="721" y="233"/>
                  </a:lnTo>
                  <a:lnTo>
                    <a:pt x="665" y="273"/>
                  </a:lnTo>
                  <a:lnTo>
                    <a:pt x="636" y="280"/>
                  </a:lnTo>
                  <a:lnTo>
                    <a:pt x="608" y="271"/>
                  </a:lnTo>
                  <a:lnTo>
                    <a:pt x="449" y="323"/>
                  </a:lnTo>
                  <a:lnTo>
                    <a:pt x="596" y="239"/>
                  </a:lnTo>
                  <a:lnTo>
                    <a:pt x="608" y="214"/>
                  </a:lnTo>
                  <a:lnTo>
                    <a:pt x="593" y="193"/>
                  </a:lnTo>
                  <a:lnTo>
                    <a:pt x="564" y="187"/>
                  </a:lnTo>
                  <a:lnTo>
                    <a:pt x="477" y="175"/>
                  </a:lnTo>
                  <a:lnTo>
                    <a:pt x="520" y="144"/>
                  </a:lnTo>
                  <a:lnTo>
                    <a:pt x="526" y="119"/>
                  </a:lnTo>
                  <a:lnTo>
                    <a:pt x="510" y="101"/>
                  </a:lnTo>
                  <a:lnTo>
                    <a:pt x="494" y="93"/>
                  </a:lnTo>
                  <a:lnTo>
                    <a:pt x="453" y="98"/>
                  </a:lnTo>
                  <a:lnTo>
                    <a:pt x="374" y="132"/>
                  </a:lnTo>
                  <a:lnTo>
                    <a:pt x="313" y="187"/>
                  </a:lnTo>
                  <a:lnTo>
                    <a:pt x="232" y="265"/>
                  </a:lnTo>
                  <a:lnTo>
                    <a:pt x="183" y="289"/>
                  </a:lnTo>
                  <a:lnTo>
                    <a:pt x="125" y="298"/>
                  </a:lnTo>
                  <a:lnTo>
                    <a:pt x="96" y="311"/>
                  </a:lnTo>
                  <a:lnTo>
                    <a:pt x="71" y="331"/>
                  </a:lnTo>
                  <a:lnTo>
                    <a:pt x="0" y="281"/>
                  </a:lnTo>
                  <a:lnTo>
                    <a:pt x="70" y="260"/>
                  </a:lnTo>
                  <a:lnTo>
                    <a:pt x="122" y="227"/>
                  </a:lnTo>
                  <a:lnTo>
                    <a:pt x="275" y="68"/>
                  </a:lnTo>
                  <a:lnTo>
                    <a:pt x="325" y="23"/>
                  </a:lnTo>
                  <a:lnTo>
                    <a:pt x="364" y="0"/>
                  </a:lnTo>
                  <a:lnTo>
                    <a:pt x="404" y="0"/>
                  </a:lnTo>
                  <a:lnTo>
                    <a:pt x="429" y="11"/>
                  </a:lnTo>
                  <a:lnTo>
                    <a:pt x="461" y="35"/>
                  </a:lnTo>
                  <a:lnTo>
                    <a:pt x="510" y="51"/>
                  </a:lnTo>
                  <a:lnTo>
                    <a:pt x="546" y="73"/>
                  </a:lnTo>
                  <a:lnTo>
                    <a:pt x="562" y="90"/>
                  </a:lnTo>
                  <a:lnTo>
                    <a:pt x="575" y="111"/>
                  </a:lnTo>
                  <a:lnTo>
                    <a:pt x="600" y="127"/>
                  </a:lnTo>
                  <a:lnTo>
                    <a:pt x="642" y="145"/>
                  </a:lnTo>
                  <a:lnTo>
                    <a:pt x="663" y="174"/>
                  </a:lnTo>
                  <a:lnTo>
                    <a:pt x="669" y="199"/>
                  </a:lnTo>
                  <a:lnTo>
                    <a:pt x="672" y="225"/>
                  </a:lnTo>
                  <a:lnTo>
                    <a:pt x="767" y="174"/>
                  </a:lnTo>
                  <a:lnTo>
                    <a:pt x="865" y="137"/>
                  </a:lnTo>
                  <a:lnTo>
                    <a:pt x="924" y="104"/>
                  </a:lnTo>
                  <a:lnTo>
                    <a:pt x="1002" y="73"/>
                  </a:lnTo>
                  <a:lnTo>
                    <a:pt x="1023" y="74"/>
                  </a:lnTo>
                  <a:lnTo>
                    <a:pt x="1039" y="91"/>
                  </a:lnTo>
                  <a:lnTo>
                    <a:pt x="1037" y="10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6" name=""/>
            <p:cNvSpPr/>
            <p:nvPr/>
          </p:nvSpPr>
          <p:spPr>
            <a:xfrm>
              <a:off x="3514680" y="5240160"/>
              <a:ext cx="665280" cy="220680"/>
            </a:xfrm>
            <a:custGeom>
              <a:avLst/>
              <a:gdLst/>
              <a:ahLst/>
              <a:rect l="l" t="t" r="r" b="b"/>
              <a:pathLst>
                <a:path w="419" h="139">
                  <a:moveTo>
                    <a:pt x="329" y="0"/>
                  </a:moveTo>
                  <a:lnTo>
                    <a:pt x="40" y="111"/>
                  </a:lnTo>
                  <a:lnTo>
                    <a:pt x="0" y="138"/>
                  </a:lnTo>
                  <a:lnTo>
                    <a:pt x="123" y="102"/>
                  </a:lnTo>
                  <a:lnTo>
                    <a:pt x="418" y="35"/>
                  </a:lnTo>
                  <a:lnTo>
                    <a:pt x="32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7" name=""/>
            <p:cNvSpPr/>
            <p:nvPr/>
          </p:nvSpPr>
          <p:spPr>
            <a:xfrm>
              <a:off x="4022640" y="5722920"/>
              <a:ext cx="217440" cy="108000"/>
            </a:xfrm>
            <a:custGeom>
              <a:avLst/>
              <a:gdLst/>
              <a:ahLst/>
              <a:rect l="l" t="t" r="r" b="b"/>
              <a:pathLst>
                <a:path w="137" h="68">
                  <a:moveTo>
                    <a:pt x="136" y="67"/>
                  </a:moveTo>
                  <a:lnTo>
                    <a:pt x="109" y="49"/>
                  </a:lnTo>
                  <a:lnTo>
                    <a:pt x="91" y="29"/>
                  </a:lnTo>
                  <a:lnTo>
                    <a:pt x="75" y="0"/>
                  </a:lnTo>
                  <a:lnTo>
                    <a:pt x="74" y="21"/>
                  </a:lnTo>
                  <a:lnTo>
                    <a:pt x="63" y="31"/>
                  </a:lnTo>
                  <a:lnTo>
                    <a:pt x="0" y="44"/>
                  </a:lnTo>
                  <a:lnTo>
                    <a:pt x="63" y="42"/>
                  </a:lnTo>
                  <a:lnTo>
                    <a:pt x="100" y="49"/>
                  </a:lnTo>
                  <a:lnTo>
                    <a:pt x="136"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8" name=""/>
            <p:cNvSpPr/>
            <p:nvPr/>
          </p:nvSpPr>
          <p:spPr>
            <a:xfrm>
              <a:off x="2951280" y="5410080"/>
              <a:ext cx="585720" cy="682920"/>
            </a:xfrm>
            <a:custGeom>
              <a:avLst/>
              <a:gdLst/>
              <a:ahLst/>
              <a:rect l="l" t="t" r="r" b="b"/>
              <a:pathLst>
                <a:path w="369" h="430">
                  <a:moveTo>
                    <a:pt x="221" y="429"/>
                  </a:moveTo>
                  <a:lnTo>
                    <a:pt x="344" y="376"/>
                  </a:lnTo>
                  <a:lnTo>
                    <a:pt x="368" y="324"/>
                  </a:lnTo>
                  <a:lnTo>
                    <a:pt x="349" y="254"/>
                  </a:lnTo>
                  <a:lnTo>
                    <a:pt x="284" y="119"/>
                  </a:lnTo>
                  <a:lnTo>
                    <a:pt x="243" y="73"/>
                  </a:lnTo>
                  <a:lnTo>
                    <a:pt x="136" y="0"/>
                  </a:lnTo>
                  <a:lnTo>
                    <a:pt x="0" y="35"/>
                  </a:lnTo>
                  <a:lnTo>
                    <a:pt x="55" y="84"/>
                  </a:lnTo>
                  <a:lnTo>
                    <a:pt x="136" y="185"/>
                  </a:lnTo>
                  <a:lnTo>
                    <a:pt x="192" y="285"/>
                  </a:lnTo>
                  <a:lnTo>
                    <a:pt x="223" y="403"/>
                  </a:lnTo>
                  <a:lnTo>
                    <a:pt x="221" y="42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79" name=""/>
          <p:cNvSpPr/>
          <p:nvPr/>
        </p:nvSpPr>
        <p:spPr>
          <a:xfrm>
            <a:off x="7105680" y="295272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0" name=""/>
          <p:cNvSpPr/>
          <p:nvPr/>
        </p:nvSpPr>
        <p:spPr>
          <a:xfrm>
            <a:off x="6997680" y="309564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YE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  HAV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WO OF</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M.</a:t>
            </a:r>
            <a:endParaRPr b="0" lang="en-US" sz="1600" spc="-1" strike="noStrike">
              <a:solidFill>
                <a:srgbClr val="e0e0e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81" name=""/>
          <p:cNvGrpSpPr/>
          <p:nvPr/>
        </p:nvGrpSpPr>
        <p:grpSpPr>
          <a:xfrm>
            <a:off x="5133960" y="3376440"/>
            <a:ext cx="2468520" cy="2927520"/>
            <a:chOff x="5133960" y="3376440"/>
            <a:chExt cx="2468520" cy="2927520"/>
          </a:xfrm>
        </p:grpSpPr>
        <p:grpSp>
          <p:nvGrpSpPr>
            <p:cNvPr id="282" name=""/>
            <p:cNvGrpSpPr/>
            <p:nvPr/>
          </p:nvGrpSpPr>
          <p:grpSpPr>
            <a:xfrm>
              <a:off x="5133960" y="3460680"/>
              <a:ext cx="2468520" cy="2843280"/>
              <a:chOff x="5133960" y="3460680"/>
              <a:chExt cx="2468520" cy="2843280"/>
            </a:xfrm>
          </p:grpSpPr>
          <p:grpSp>
            <p:nvGrpSpPr>
              <p:cNvPr id="283" name=""/>
              <p:cNvGrpSpPr/>
              <p:nvPr/>
            </p:nvGrpSpPr>
            <p:grpSpPr>
              <a:xfrm>
                <a:off x="5133960" y="3460680"/>
                <a:ext cx="2468520" cy="2843280"/>
                <a:chOff x="5133960" y="3460680"/>
                <a:chExt cx="2468520" cy="2843280"/>
              </a:xfrm>
            </p:grpSpPr>
            <p:sp>
              <p:nvSpPr>
                <p:cNvPr id="284"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5"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6"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7"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8"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9"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0"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1"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2"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93"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94"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a Number from a Bag</a:t>
            </a:r>
            <a:endParaRPr b="0" lang="en-US" sz="4400" spc="-1" strike="noStrike">
              <a:solidFill>
                <a:srgbClr val="00cece"/>
              </a:solidFill>
              <a:latin typeface="Times New Roman"/>
            </a:endParaRPr>
          </a:p>
        </p:txBody>
      </p:sp>
      <p:sp>
        <p:nvSpPr>
          <p:cNvPr id="296"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may remove a number from a bag. </a:t>
            </a:r>
            <a:endParaRPr b="0" lang="en-US" sz="2800" spc="-1" strike="noStrike">
              <a:solidFill>
                <a:srgbClr val="e0e0e0"/>
              </a:solidFill>
              <a:latin typeface="Times New Roman"/>
            </a:endParaRPr>
          </a:p>
        </p:txBody>
      </p:sp>
      <p:sp>
        <p:nvSpPr>
          <p:cNvPr id="297"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98" name="" descr=""/>
          <p:cNvPicPr/>
          <p:nvPr/>
        </p:nvPicPr>
        <p:blipFill>
          <a:blip r:embed="rId1"/>
          <a:stretch/>
        </p:blipFill>
        <p:spPr>
          <a:xfrm>
            <a:off x="5689440" y="5286240"/>
            <a:ext cx="567000" cy="606600"/>
          </a:xfrm>
          <a:prstGeom prst="rect">
            <a:avLst/>
          </a:prstGeom>
          <a:ln w="0">
            <a:noFill/>
          </a:ln>
        </p:spPr>
      </p:pic>
      <p:pic>
        <p:nvPicPr>
          <p:cNvPr id="299" name="" descr=""/>
          <p:cNvPicPr/>
          <p:nvPr/>
        </p:nvPicPr>
        <p:blipFill>
          <a:blip r:embed="rId2"/>
          <a:stretch/>
        </p:blipFill>
        <p:spPr>
          <a:xfrm>
            <a:off x="6060960" y="5578560"/>
            <a:ext cx="615960" cy="666720"/>
          </a:xfrm>
          <a:prstGeom prst="rect">
            <a:avLst/>
          </a:prstGeom>
          <a:ln w="0">
            <a:noFill/>
          </a:ln>
        </p:spPr>
      </p:pic>
      <p:pic>
        <p:nvPicPr>
          <p:cNvPr id="300" name="" descr=""/>
          <p:cNvPicPr/>
          <p:nvPr/>
        </p:nvPicPr>
        <p:blipFill>
          <a:blip r:embed="rId3"/>
          <a:stretch/>
        </p:blipFill>
        <p:spPr>
          <a:xfrm>
            <a:off x="6386400" y="5311800"/>
            <a:ext cx="567000" cy="606240"/>
          </a:xfrm>
          <a:prstGeom prst="rect">
            <a:avLst/>
          </a:prstGeom>
          <a:ln w="0">
            <a:noFill/>
          </a:ln>
        </p:spPr>
      </p:pic>
      <p:sp>
        <p:nvSpPr>
          <p:cNvPr id="301" name=""/>
          <p:cNvSpPr/>
          <p:nvPr/>
        </p:nvSpPr>
        <p:spPr>
          <a:xfrm rot="10800000">
            <a:off x="1954080" y="408276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2" name=""/>
          <p:cNvSpPr/>
          <p:nvPr/>
        </p:nvSpPr>
        <p:spPr>
          <a:xfrm>
            <a:off x="1785960" y="446724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4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OUTTA</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HERE!</a:t>
            </a:r>
            <a:endParaRPr b="0" lang="en-US" sz="1600" spc="-1" strike="noStrike">
              <a:solidFill>
                <a:srgbClr val="e0e0e0"/>
              </a:solidFill>
              <a:latin typeface="Arial"/>
            </a:endParaRPr>
          </a:p>
        </p:txBody>
      </p:sp>
      <p:pic>
        <p:nvPicPr>
          <p:cNvPr id="303" name="" descr=""/>
          <p:cNvPicPr/>
          <p:nvPr/>
        </p:nvPicPr>
        <p:blipFill>
          <a:blip r:embed="rId4"/>
          <a:stretch/>
        </p:blipFill>
        <p:spPr>
          <a:xfrm>
            <a:off x="2820960" y="2954160"/>
            <a:ext cx="3279960" cy="286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04" name=""/>
          <p:cNvGrpSpPr/>
          <p:nvPr/>
        </p:nvGrpSpPr>
        <p:grpSpPr>
          <a:xfrm>
            <a:off x="5133960" y="3376440"/>
            <a:ext cx="2468520" cy="2927520"/>
            <a:chOff x="5133960" y="3376440"/>
            <a:chExt cx="2468520" cy="2927520"/>
          </a:xfrm>
        </p:grpSpPr>
        <p:grpSp>
          <p:nvGrpSpPr>
            <p:cNvPr id="305" name=""/>
            <p:cNvGrpSpPr/>
            <p:nvPr/>
          </p:nvGrpSpPr>
          <p:grpSpPr>
            <a:xfrm>
              <a:off x="5133960" y="3460680"/>
              <a:ext cx="2468520" cy="2843280"/>
              <a:chOff x="5133960" y="3460680"/>
              <a:chExt cx="2468520" cy="2843280"/>
            </a:xfrm>
          </p:grpSpPr>
          <p:grpSp>
            <p:nvGrpSpPr>
              <p:cNvPr id="306" name=""/>
              <p:cNvGrpSpPr/>
              <p:nvPr/>
            </p:nvGrpSpPr>
            <p:grpSpPr>
              <a:xfrm>
                <a:off x="5133960" y="3460680"/>
                <a:ext cx="2468520" cy="2843280"/>
                <a:chOff x="5133960" y="3460680"/>
                <a:chExt cx="2468520" cy="2843280"/>
              </a:xfrm>
            </p:grpSpPr>
            <p:sp>
              <p:nvSpPr>
                <p:cNvPr id="307"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8"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9"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0"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1"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2"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3"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4"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5"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16"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17"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a Number from a Bag</a:t>
            </a:r>
            <a:endParaRPr b="0" lang="en-US" sz="4400" spc="-1" strike="noStrike">
              <a:solidFill>
                <a:srgbClr val="00cece"/>
              </a:solidFill>
              <a:latin typeface="Times New Roman"/>
            </a:endParaRPr>
          </a:p>
        </p:txBody>
      </p:sp>
      <p:sp>
        <p:nvSpPr>
          <p:cNvPr id="319"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may remove a number from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But we remove only one number at a time. </a:t>
            </a:r>
            <a:endParaRPr b="0" lang="en-US" sz="2800" spc="-1" strike="noStrike">
              <a:solidFill>
                <a:srgbClr val="e0e0e0"/>
              </a:solidFill>
              <a:latin typeface="Times New Roman"/>
            </a:endParaRPr>
          </a:p>
        </p:txBody>
      </p:sp>
      <p:sp>
        <p:nvSpPr>
          <p:cNvPr id="320"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321" name="" descr=""/>
          <p:cNvPicPr/>
          <p:nvPr/>
        </p:nvPicPr>
        <p:blipFill>
          <a:blip r:embed="rId1"/>
          <a:stretch/>
        </p:blipFill>
        <p:spPr>
          <a:xfrm>
            <a:off x="6060960" y="5578560"/>
            <a:ext cx="615960" cy="666720"/>
          </a:xfrm>
          <a:prstGeom prst="rect">
            <a:avLst/>
          </a:prstGeom>
          <a:ln w="0">
            <a:noFill/>
          </a:ln>
        </p:spPr>
      </p:pic>
      <p:pic>
        <p:nvPicPr>
          <p:cNvPr id="322" name="" descr=""/>
          <p:cNvPicPr/>
          <p:nvPr/>
        </p:nvPicPr>
        <p:blipFill>
          <a:blip r:embed="rId2"/>
          <a:stretch/>
        </p:blipFill>
        <p:spPr>
          <a:xfrm>
            <a:off x="6386400" y="5311800"/>
            <a:ext cx="567000" cy="606240"/>
          </a:xfrm>
          <a:prstGeom prst="rect">
            <a:avLst/>
          </a:prstGeom>
          <a:ln w="0">
            <a:noFill/>
          </a:ln>
        </p:spPr>
      </p:pic>
      <p:sp>
        <p:nvSpPr>
          <p:cNvPr id="323" name=""/>
          <p:cNvSpPr/>
          <p:nvPr/>
        </p:nvSpPr>
        <p:spPr>
          <a:xfrm>
            <a:off x="6961320" y="292248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4" name=""/>
          <p:cNvSpPr/>
          <p:nvPr/>
        </p:nvSpPr>
        <p:spPr>
          <a:xfrm>
            <a:off x="6811920" y="301464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ONE 4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GONE, BUT</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OTHER</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4  REMAINS.</a:t>
            </a:r>
            <a:endParaRPr b="0" lang="en-US" sz="1600" spc="-1" strike="noStrike">
              <a:solidFill>
                <a:srgbClr val="e0e0e0"/>
              </a:solidFill>
              <a:latin typeface="Arial"/>
            </a:endParaRPr>
          </a:p>
        </p:txBody>
      </p:sp>
    </p:spTree>
  </p:cSld>
  <p:transition spd="slow">
    <p:strips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Many Numbers</a:t>
            </a:r>
            <a:endParaRPr b="0" lang="en-US" sz="4400" spc="-1" strike="noStrike">
              <a:solidFill>
                <a:srgbClr val="00cece"/>
              </a:solidFill>
              <a:latin typeface="Times New Roman"/>
            </a:endParaRPr>
          </a:p>
        </p:txBody>
      </p:sp>
      <p:sp>
        <p:nvSpPr>
          <p:cNvPr id="326"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other operation is to determine how many numbers are in a bag.</a:t>
            </a:r>
            <a:endParaRPr b="0" lang="en-US" sz="2800" spc="-1" strike="noStrike">
              <a:solidFill>
                <a:srgbClr val="e0e0e0"/>
              </a:solidFill>
              <a:latin typeface="Times New Roman"/>
            </a:endParaRPr>
          </a:p>
        </p:txBody>
      </p:sp>
      <p:pic>
        <p:nvPicPr>
          <p:cNvPr id="327" name="" descr=""/>
          <p:cNvPicPr/>
          <p:nvPr/>
        </p:nvPicPr>
        <p:blipFill>
          <a:blip r:embed="rId1"/>
          <a:stretch/>
        </p:blipFill>
        <p:spPr>
          <a:xfrm>
            <a:off x="4157640" y="3121200"/>
            <a:ext cx="4419720" cy="3300120"/>
          </a:xfrm>
          <a:prstGeom prst="rect">
            <a:avLst/>
          </a:prstGeom>
          <a:ln w="0">
            <a:noFill/>
          </a:ln>
        </p:spPr>
      </p:pic>
      <p:sp>
        <p:nvSpPr>
          <p:cNvPr id="328" name=""/>
          <p:cNvSpPr/>
          <p:nvPr/>
        </p:nvSpPr>
        <p:spPr>
          <a:xfrm>
            <a:off x="5915160" y="2160720"/>
            <a:ext cx="1844640" cy="1546200"/>
          </a:xfrm>
          <a:custGeom>
            <a:avLst/>
            <a:gdLst>
              <a:gd name="textAreaLeft" fmla="*/ 68040 w 1844640"/>
              <a:gd name="textAreaRight" fmla="*/ 1776600 w 1844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9" name=""/>
          <p:cNvSpPr/>
          <p:nvPr/>
        </p:nvSpPr>
        <p:spPr>
          <a:xfrm>
            <a:off x="6013440" y="225252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 MY OPINION, THERE ARE TOO MANY NUMBERS.</a:t>
            </a:r>
            <a:endParaRPr b="0" lang="en-US" sz="1600" spc="-1" strike="noStrike">
              <a:solidFill>
                <a:srgbClr val="e0e0e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30" name=""/>
          <p:cNvGrpSpPr/>
          <p:nvPr/>
        </p:nvGrpSpPr>
        <p:grpSpPr>
          <a:xfrm>
            <a:off x="7221600" y="144360"/>
            <a:ext cx="1471680" cy="2089080"/>
            <a:chOff x="7221600" y="144360"/>
            <a:chExt cx="1471680" cy="2089080"/>
          </a:xfrm>
        </p:grpSpPr>
        <p:grpSp>
          <p:nvGrpSpPr>
            <p:cNvPr id="331" name=""/>
            <p:cNvGrpSpPr/>
            <p:nvPr/>
          </p:nvGrpSpPr>
          <p:grpSpPr>
            <a:xfrm>
              <a:off x="7221600" y="204840"/>
              <a:ext cx="1471680" cy="2028600"/>
              <a:chOff x="7221600" y="204840"/>
              <a:chExt cx="1471680" cy="2028600"/>
            </a:xfrm>
          </p:grpSpPr>
          <p:grpSp>
            <p:nvGrpSpPr>
              <p:cNvPr id="332" name=""/>
              <p:cNvGrpSpPr/>
              <p:nvPr/>
            </p:nvGrpSpPr>
            <p:grpSpPr>
              <a:xfrm>
                <a:off x="7221600" y="204840"/>
                <a:ext cx="1471680" cy="2028600"/>
                <a:chOff x="7221600" y="204840"/>
                <a:chExt cx="1471680" cy="2028600"/>
              </a:xfrm>
            </p:grpSpPr>
            <p:sp>
              <p:nvSpPr>
                <p:cNvPr id="333" name=""/>
                <p:cNvSpPr/>
                <p:nvPr/>
              </p:nvSpPr>
              <p:spPr>
                <a:xfrm>
                  <a:off x="7221600" y="204840"/>
                  <a:ext cx="1380960" cy="2022480"/>
                </a:xfrm>
                <a:custGeom>
                  <a:avLst/>
                  <a:gdLst/>
                  <a:ahLst/>
                  <a:rect l="l" t="t" r="r" b="b"/>
                  <a:pathLst>
                    <a:path w="870" h="1274">
                      <a:moveTo>
                        <a:pt x="486" y="0"/>
                      </a:moveTo>
                      <a:lnTo>
                        <a:pt x="577" y="67"/>
                      </a:lnTo>
                      <a:lnTo>
                        <a:pt x="589" y="109"/>
                      </a:lnTo>
                      <a:lnTo>
                        <a:pt x="559" y="152"/>
                      </a:lnTo>
                      <a:lnTo>
                        <a:pt x="443" y="255"/>
                      </a:lnTo>
                      <a:lnTo>
                        <a:pt x="534" y="230"/>
                      </a:lnTo>
                      <a:lnTo>
                        <a:pt x="589" y="218"/>
                      </a:lnTo>
                      <a:lnTo>
                        <a:pt x="723" y="42"/>
                      </a:lnTo>
                      <a:lnTo>
                        <a:pt x="796" y="24"/>
                      </a:lnTo>
                      <a:lnTo>
                        <a:pt x="869" y="24"/>
                      </a:lnTo>
                      <a:lnTo>
                        <a:pt x="838" y="115"/>
                      </a:lnTo>
                      <a:lnTo>
                        <a:pt x="747" y="127"/>
                      </a:lnTo>
                      <a:lnTo>
                        <a:pt x="583" y="261"/>
                      </a:lnTo>
                      <a:lnTo>
                        <a:pt x="492" y="297"/>
                      </a:lnTo>
                      <a:lnTo>
                        <a:pt x="838" y="861"/>
                      </a:lnTo>
                      <a:lnTo>
                        <a:pt x="856" y="970"/>
                      </a:lnTo>
                      <a:lnTo>
                        <a:pt x="741" y="1176"/>
                      </a:lnTo>
                      <a:lnTo>
                        <a:pt x="631" y="1249"/>
                      </a:lnTo>
                      <a:lnTo>
                        <a:pt x="552" y="1273"/>
                      </a:lnTo>
                      <a:lnTo>
                        <a:pt x="413" y="1249"/>
                      </a:lnTo>
                      <a:lnTo>
                        <a:pt x="230" y="1236"/>
                      </a:lnTo>
                      <a:lnTo>
                        <a:pt x="121" y="1158"/>
                      </a:lnTo>
                      <a:lnTo>
                        <a:pt x="60" y="1121"/>
                      </a:lnTo>
                      <a:lnTo>
                        <a:pt x="0" y="952"/>
                      </a:lnTo>
                      <a:lnTo>
                        <a:pt x="42" y="861"/>
                      </a:lnTo>
                      <a:lnTo>
                        <a:pt x="407" y="345"/>
                      </a:lnTo>
                      <a:lnTo>
                        <a:pt x="364" y="273"/>
                      </a:lnTo>
                      <a:lnTo>
                        <a:pt x="389" y="212"/>
                      </a:lnTo>
                      <a:lnTo>
                        <a:pt x="486" y="122"/>
                      </a:lnTo>
                      <a:lnTo>
                        <a:pt x="468" y="72"/>
                      </a:lnTo>
                      <a:lnTo>
                        <a:pt x="431" y="42"/>
                      </a:lnTo>
                      <a:lnTo>
                        <a:pt x="456" y="12"/>
                      </a:lnTo>
                      <a:lnTo>
                        <a:pt x="48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4" name=""/>
                <p:cNvSpPr/>
                <p:nvPr/>
              </p:nvSpPr>
              <p:spPr>
                <a:xfrm>
                  <a:off x="8002440" y="984240"/>
                  <a:ext cx="252720" cy="1108080"/>
                </a:xfrm>
                <a:custGeom>
                  <a:avLst/>
                  <a:gdLst/>
                  <a:ahLst/>
                  <a:rect l="l" t="t" r="r" b="b"/>
                  <a:pathLst>
                    <a:path w="159" h="698">
                      <a:moveTo>
                        <a:pt x="36" y="485"/>
                      </a:moveTo>
                      <a:lnTo>
                        <a:pt x="36" y="600"/>
                      </a:lnTo>
                      <a:lnTo>
                        <a:pt x="24" y="667"/>
                      </a:lnTo>
                      <a:lnTo>
                        <a:pt x="12" y="697"/>
                      </a:lnTo>
                      <a:lnTo>
                        <a:pt x="78" y="691"/>
                      </a:lnTo>
                      <a:lnTo>
                        <a:pt x="139" y="661"/>
                      </a:lnTo>
                      <a:lnTo>
                        <a:pt x="109" y="649"/>
                      </a:lnTo>
                      <a:lnTo>
                        <a:pt x="158" y="618"/>
                      </a:lnTo>
                      <a:lnTo>
                        <a:pt x="109" y="618"/>
                      </a:lnTo>
                      <a:lnTo>
                        <a:pt x="152" y="576"/>
                      </a:lnTo>
                      <a:lnTo>
                        <a:pt x="103" y="576"/>
                      </a:lnTo>
                      <a:lnTo>
                        <a:pt x="139" y="534"/>
                      </a:lnTo>
                      <a:lnTo>
                        <a:pt x="97" y="527"/>
                      </a:lnTo>
                      <a:lnTo>
                        <a:pt x="121" y="491"/>
                      </a:lnTo>
                      <a:lnTo>
                        <a:pt x="85" y="479"/>
                      </a:lnTo>
                      <a:lnTo>
                        <a:pt x="97" y="436"/>
                      </a:lnTo>
                      <a:lnTo>
                        <a:pt x="73" y="425"/>
                      </a:lnTo>
                      <a:lnTo>
                        <a:pt x="66" y="376"/>
                      </a:lnTo>
                      <a:lnTo>
                        <a:pt x="0" y="0"/>
                      </a:lnTo>
                      <a:lnTo>
                        <a:pt x="18" y="418"/>
                      </a:lnTo>
                      <a:lnTo>
                        <a:pt x="36" y="485"/>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5" name=""/>
                <p:cNvSpPr/>
                <p:nvPr/>
              </p:nvSpPr>
              <p:spPr>
                <a:xfrm>
                  <a:off x="7259760" y="830160"/>
                  <a:ext cx="637920" cy="1338480"/>
                </a:xfrm>
                <a:custGeom>
                  <a:avLst/>
                  <a:gdLst/>
                  <a:ahLst/>
                  <a:rect l="l" t="t" r="r" b="b"/>
                  <a:pathLst>
                    <a:path w="402" h="843">
                      <a:moveTo>
                        <a:pt x="341" y="0"/>
                      </a:moveTo>
                      <a:lnTo>
                        <a:pt x="73" y="370"/>
                      </a:lnTo>
                      <a:lnTo>
                        <a:pt x="36" y="461"/>
                      </a:lnTo>
                      <a:lnTo>
                        <a:pt x="0" y="515"/>
                      </a:lnTo>
                      <a:lnTo>
                        <a:pt x="0" y="655"/>
                      </a:lnTo>
                      <a:lnTo>
                        <a:pt x="54" y="733"/>
                      </a:lnTo>
                      <a:lnTo>
                        <a:pt x="140" y="794"/>
                      </a:lnTo>
                      <a:lnTo>
                        <a:pt x="194" y="836"/>
                      </a:lnTo>
                      <a:lnTo>
                        <a:pt x="280" y="842"/>
                      </a:lnTo>
                      <a:lnTo>
                        <a:pt x="225" y="812"/>
                      </a:lnTo>
                      <a:lnTo>
                        <a:pt x="304" y="806"/>
                      </a:lnTo>
                      <a:lnTo>
                        <a:pt x="237" y="788"/>
                      </a:lnTo>
                      <a:lnTo>
                        <a:pt x="353" y="775"/>
                      </a:lnTo>
                      <a:lnTo>
                        <a:pt x="243" y="757"/>
                      </a:lnTo>
                      <a:lnTo>
                        <a:pt x="341" y="727"/>
                      </a:lnTo>
                      <a:lnTo>
                        <a:pt x="286" y="697"/>
                      </a:lnTo>
                      <a:lnTo>
                        <a:pt x="353" y="679"/>
                      </a:lnTo>
                      <a:lnTo>
                        <a:pt x="280" y="655"/>
                      </a:lnTo>
                      <a:lnTo>
                        <a:pt x="347" y="600"/>
                      </a:lnTo>
                      <a:lnTo>
                        <a:pt x="286" y="588"/>
                      </a:lnTo>
                      <a:lnTo>
                        <a:pt x="328" y="558"/>
                      </a:lnTo>
                      <a:lnTo>
                        <a:pt x="286" y="545"/>
                      </a:lnTo>
                      <a:lnTo>
                        <a:pt x="310" y="485"/>
                      </a:lnTo>
                      <a:lnTo>
                        <a:pt x="401" y="55"/>
                      </a:lnTo>
                      <a:lnTo>
                        <a:pt x="268" y="473"/>
                      </a:lnTo>
                      <a:lnTo>
                        <a:pt x="249" y="448"/>
                      </a:lnTo>
                      <a:lnTo>
                        <a:pt x="377" y="6"/>
                      </a:lnTo>
                      <a:lnTo>
                        <a:pt x="188" y="509"/>
                      </a:lnTo>
                      <a:lnTo>
                        <a:pt x="73" y="539"/>
                      </a:lnTo>
                      <a:lnTo>
                        <a:pt x="146" y="497"/>
                      </a:lnTo>
                      <a:lnTo>
                        <a:pt x="73" y="497"/>
                      </a:lnTo>
                      <a:lnTo>
                        <a:pt x="140" y="461"/>
                      </a:lnTo>
                      <a:lnTo>
                        <a:pt x="109" y="442"/>
                      </a:lnTo>
                      <a:lnTo>
                        <a:pt x="146" y="418"/>
                      </a:lnTo>
                      <a:lnTo>
                        <a:pt x="115" y="394"/>
                      </a:lnTo>
                      <a:lnTo>
                        <a:pt x="140" y="339"/>
                      </a:lnTo>
                      <a:lnTo>
                        <a:pt x="359" y="0"/>
                      </a:lnTo>
                      <a:lnTo>
                        <a:pt x="34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6" name=""/>
                <p:cNvSpPr/>
                <p:nvPr/>
              </p:nvSpPr>
              <p:spPr>
                <a:xfrm>
                  <a:off x="8204040" y="254160"/>
                  <a:ext cx="252720" cy="307800"/>
                </a:xfrm>
                <a:custGeom>
                  <a:avLst/>
                  <a:gdLst/>
                  <a:ahLst/>
                  <a:rect l="l" t="t" r="r" b="b"/>
                  <a:pathLst>
                    <a:path w="159" h="194">
                      <a:moveTo>
                        <a:pt x="104" y="24"/>
                      </a:moveTo>
                      <a:lnTo>
                        <a:pt x="134" y="0"/>
                      </a:lnTo>
                      <a:lnTo>
                        <a:pt x="109" y="42"/>
                      </a:lnTo>
                      <a:lnTo>
                        <a:pt x="152" y="30"/>
                      </a:lnTo>
                      <a:lnTo>
                        <a:pt x="122" y="60"/>
                      </a:lnTo>
                      <a:lnTo>
                        <a:pt x="152" y="54"/>
                      </a:lnTo>
                      <a:lnTo>
                        <a:pt x="134" y="84"/>
                      </a:lnTo>
                      <a:lnTo>
                        <a:pt x="158" y="78"/>
                      </a:lnTo>
                      <a:lnTo>
                        <a:pt x="73" y="150"/>
                      </a:lnTo>
                      <a:lnTo>
                        <a:pt x="7" y="193"/>
                      </a:lnTo>
                      <a:lnTo>
                        <a:pt x="0" y="139"/>
                      </a:lnTo>
                      <a:lnTo>
                        <a:pt x="55" y="54"/>
                      </a:lnTo>
                      <a:lnTo>
                        <a:pt x="104" y="2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7" name=""/>
                <p:cNvSpPr/>
                <p:nvPr/>
              </p:nvSpPr>
              <p:spPr>
                <a:xfrm>
                  <a:off x="7916760" y="235080"/>
                  <a:ext cx="125640" cy="193680"/>
                </a:xfrm>
                <a:custGeom>
                  <a:avLst/>
                  <a:gdLst/>
                  <a:ahLst/>
                  <a:rect l="l" t="t" r="r" b="b"/>
                  <a:pathLst>
                    <a:path w="79" h="122">
                      <a:moveTo>
                        <a:pt x="0" y="0"/>
                      </a:moveTo>
                      <a:lnTo>
                        <a:pt x="0" y="30"/>
                      </a:lnTo>
                      <a:lnTo>
                        <a:pt x="54" y="67"/>
                      </a:lnTo>
                      <a:lnTo>
                        <a:pt x="48" y="121"/>
                      </a:lnTo>
                      <a:lnTo>
                        <a:pt x="78" y="67"/>
                      </a:lnTo>
                      <a:lnTo>
                        <a:pt x="66" y="36"/>
                      </a:lnTo>
                      <a:lnTo>
                        <a:pt x="36" y="18"/>
                      </a:lnTo>
                      <a:lnTo>
                        <a:pt x="48"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8" name=""/>
                <p:cNvSpPr/>
                <p:nvPr/>
              </p:nvSpPr>
              <p:spPr>
                <a:xfrm>
                  <a:off x="7799400" y="550800"/>
                  <a:ext cx="119160" cy="165240"/>
                </a:xfrm>
                <a:custGeom>
                  <a:avLst/>
                  <a:gdLst/>
                  <a:ahLst/>
                  <a:rect l="l" t="t" r="r" b="b"/>
                  <a:pathLst>
                    <a:path w="75" h="104">
                      <a:moveTo>
                        <a:pt x="18" y="0"/>
                      </a:moveTo>
                      <a:lnTo>
                        <a:pt x="74" y="97"/>
                      </a:lnTo>
                      <a:lnTo>
                        <a:pt x="43" y="103"/>
                      </a:lnTo>
                      <a:lnTo>
                        <a:pt x="0" y="55"/>
                      </a:lnTo>
                      <a:lnTo>
                        <a:pt x="1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9" name=""/>
                <p:cNvSpPr/>
                <p:nvPr/>
              </p:nvSpPr>
              <p:spPr>
                <a:xfrm>
                  <a:off x="7221600" y="787320"/>
                  <a:ext cx="1388880" cy="1446120"/>
                </a:xfrm>
                <a:custGeom>
                  <a:avLst/>
                  <a:gdLst/>
                  <a:ahLst/>
                  <a:rect l="l" t="t" r="r" b="b"/>
                  <a:pathLst>
                    <a:path w="875" h="911">
                      <a:moveTo>
                        <a:pt x="540" y="0"/>
                      </a:moveTo>
                      <a:lnTo>
                        <a:pt x="841" y="450"/>
                      </a:lnTo>
                      <a:lnTo>
                        <a:pt x="864" y="502"/>
                      </a:lnTo>
                      <a:lnTo>
                        <a:pt x="874" y="544"/>
                      </a:lnTo>
                      <a:lnTo>
                        <a:pt x="874" y="587"/>
                      </a:lnTo>
                      <a:lnTo>
                        <a:pt x="869" y="629"/>
                      </a:lnTo>
                      <a:lnTo>
                        <a:pt x="855" y="671"/>
                      </a:lnTo>
                      <a:lnTo>
                        <a:pt x="841" y="709"/>
                      </a:lnTo>
                      <a:lnTo>
                        <a:pt x="818" y="746"/>
                      </a:lnTo>
                      <a:lnTo>
                        <a:pt x="794" y="769"/>
                      </a:lnTo>
                      <a:lnTo>
                        <a:pt x="780" y="793"/>
                      </a:lnTo>
                      <a:lnTo>
                        <a:pt x="752" y="825"/>
                      </a:lnTo>
                      <a:lnTo>
                        <a:pt x="700" y="858"/>
                      </a:lnTo>
                      <a:lnTo>
                        <a:pt x="658" y="882"/>
                      </a:lnTo>
                      <a:lnTo>
                        <a:pt x="592" y="905"/>
                      </a:lnTo>
                      <a:lnTo>
                        <a:pt x="526" y="910"/>
                      </a:lnTo>
                      <a:lnTo>
                        <a:pt x="489" y="905"/>
                      </a:lnTo>
                      <a:lnTo>
                        <a:pt x="460" y="896"/>
                      </a:lnTo>
                      <a:lnTo>
                        <a:pt x="409" y="910"/>
                      </a:lnTo>
                      <a:lnTo>
                        <a:pt x="343" y="910"/>
                      </a:lnTo>
                      <a:lnTo>
                        <a:pt x="277" y="901"/>
                      </a:lnTo>
                      <a:lnTo>
                        <a:pt x="221" y="882"/>
                      </a:lnTo>
                      <a:lnTo>
                        <a:pt x="179" y="853"/>
                      </a:lnTo>
                      <a:lnTo>
                        <a:pt x="150" y="825"/>
                      </a:lnTo>
                      <a:lnTo>
                        <a:pt x="98" y="802"/>
                      </a:lnTo>
                      <a:lnTo>
                        <a:pt x="56" y="779"/>
                      </a:lnTo>
                      <a:lnTo>
                        <a:pt x="33" y="741"/>
                      </a:lnTo>
                      <a:lnTo>
                        <a:pt x="10" y="689"/>
                      </a:lnTo>
                      <a:lnTo>
                        <a:pt x="0" y="647"/>
                      </a:lnTo>
                      <a:lnTo>
                        <a:pt x="0" y="577"/>
                      </a:lnTo>
                      <a:lnTo>
                        <a:pt x="10" y="530"/>
                      </a:lnTo>
                      <a:lnTo>
                        <a:pt x="28" y="492"/>
                      </a:lnTo>
                      <a:lnTo>
                        <a:pt x="70" y="431"/>
                      </a:lnTo>
                      <a:lnTo>
                        <a:pt x="108" y="375"/>
                      </a:lnTo>
                      <a:lnTo>
                        <a:pt x="357" y="18"/>
                      </a:lnTo>
                      <a:lnTo>
                        <a:pt x="400" y="5"/>
                      </a:lnTo>
                      <a:lnTo>
                        <a:pt x="291" y="155"/>
                      </a:lnTo>
                      <a:lnTo>
                        <a:pt x="174" y="309"/>
                      </a:lnTo>
                      <a:lnTo>
                        <a:pt x="108" y="399"/>
                      </a:lnTo>
                      <a:lnTo>
                        <a:pt x="75" y="459"/>
                      </a:lnTo>
                      <a:lnTo>
                        <a:pt x="42" y="516"/>
                      </a:lnTo>
                      <a:lnTo>
                        <a:pt x="37" y="544"/>
                      </a:lnTo>
                      <a:lnTo>
                        <a:pt x="37" y="563"/>
                      </a:lnTo>
                      <a:lnTo>
                        <a:pt x="33" y="619"/>
                      </a:lnTo>
                      <a:lnTo>
                        <a:pt x="42" y="666"/>
                      </a:lnTo>
                      <a:lnTo>
                        <a:pt x="51" y="699"/>
                      </a:lnTo>
                      <a:lnTo>
                        <a:pt x="70" y="741"/>
                      </a:lnTo>
                      <a:lnTo>
                        <a:pt x="94" y="774"/>
                      </a:lnTo>
                      <a:lnTo>
                        <a:pt x="126" y="793"/>
                      </a:lnTo>
                      <a:lnTo>
                        <a:pt x="150" y="802"/>
                      </a:lnTo>
                      <a:lnTo>
                        <a:pt x="174" y="811"/>
                      </a:lnTo>
                      <a:lnTo>
                        <a:pt x="221" y="853"/>
                      </a:lnTo>
                      <a:lnTo>
                        <a:pt x="267" y="864"/>
                      </a:lnTo>
                      <a:lnTo>
                        <a:pt x="333" y="864"/>
                      </a:lnTo>
                      <a:lnTo>
                        <a:pt x="394" y="860"/>
                      </a:lnTo>
                      <a:lnTo>
                        <a:pt x="456" y="877"/>
                      </a:lnTo>
                      <a:lnTo>
                        <a:pt x="521" y="891"/>
                      </a:lnTo>
                      <a:lnTo>
                        <a:pt x="578" y="887"/>
                      </a:lnTo>
                      <a:lnTo>
                        <a:pt x="690" y="836"/>
                      </a:lnTo>
                      <a:lnTo>
                        <a:pt x="732" y="778"/>
                      </a:lnTo>
                      <a:lnTo>
                        <a:pt x="748" y="713"/>
                      </a:lnTo>
                      <a:lnTo>
                        <a:pt x="775" y="694"/>
                      </a:lnTo>
                      <a:lnTo>
                        <a:pt x="737" y="694"/>
                      </a:lnTo>
                      <a:lnTo>
                        <a:pt x="766" y="675"/>
                      </a:lnTo>
                      <a:lnTo>
                        <a:pt x="728" y="680"/>
                      </a:lnTo>
                      <a:lnTo>
                        <a:pt x="747" y="656"/>
                      </a:lnTo>
                      <a:lnTo>
                        <a:pt x="728" y="652"/>
                      </a:lnTo>
                      <a:lnTo>
                        <a:pt x="742" y="629"/>
                      </a:lnTo>
                      <a:lnTo>
                        <a:pt x="724" y="624"/>
                      </a:lnTo>
                      <a:lnTo>
                        <a:pt x="733" y="596"/>
                      </a:lnTo>
                      <a:lnTo>
                        <a:pt x="692" y="397"/>
                      </a:lnTo>
                      <a:lnTo>
                        <a:pt x="775" y="633"/>
                      </a:lnTo>
                      <a:lnTo>
                        <a:pt x="804" y="638"/>
                      </a:lnTo>
                      <a:lnTo>
                        <a:pt x="808" y="610"/>
                      </a:lnTo>
                      <a:lnTo>
                        <a:pt x="832" y="605"/>
                      </a:lnTo>
                      <a:lnTo>
                        <a:pt x="813" y="587"/>
                      </a:lnTo>
                      <a:lnTo>
                        <a:pt x="827" y="577"/>
                      </a:lnTo>
                      <a:lnTo>
                        <a:pt x="804" y="563"/>
                      </a:lnTo>
                      <a:lnTo>
                        <a:pt x="822" y="544"/>
                      </a:lnTo>
                      <a:lnTo>
                        <a:pt x="799" y="534"/>
                      </a:lnTo>
                      <a:lnTo>
                        <a:pt x="808" y="511"/>
                      </a:lnTo>
                      <a:lnTo>
                        <a:pt x="789" y="507"/>
                      </a:lnTo>
                      <a:lnTo>
                        <a:pt x="804" y="483"/>
                      </a:lnTo>
                      <a:lnTo>
                        <a:pt x="775" y="474"/>
                      </a:lnTo>
                      <a:lnTo>
                        <a:pt x="780" y="445"/>
                      </a:lnTo>
                      <a:lnTo>
                        <a:pt x="761" y="431"/>
                      </a:lnTo>
                      <a:lnTo>
                        <a:pt x="761" y="408"/>
                      </a:lnTo>
                      <a:lnTo>
                        <a:pt x="737" y="380"/>
                      </a:lnTo>
                      <a:lnTo>
                        <a:pt x="649" y="241"/>
                      </a:lnTo>
                      <a:lnTo>
                        <a:pt x="624" y="221"/>
                      </a:lnTo>
                      <a:lnTo>
                        <a:pt x="629" y="202"/>
                      </a:lnTo>
                      <a:lnTo>
                        <a:pt x="608" y="200"/>
                      </a:lnTo>
                      <a:lnTo>
                        <a:pt x="611" y="183"/>
                      </a:lnTo>
                      <a:lnTo>
                        <a:pt x="597" y="178"/>
                      </a:lnTo>
                      <a:lnTo>
                        <a:pt x="597" y="159"/>
                      </a:lnTo>
                      <a:lnTo>
                        <a:pt x="580" y="143"/>
                      </a:lnTo>
                      <a:lnTo>
                        <a:pt x="545" y="89"/>
                      </a:lnTo>
                      <a:lnTo>
                        <a:pt x="662" y="463"/>
                      </a:lnTo>
                      <a:lnTo>
                        <a:pt x="644" y="502"/>
                      </a:lnTo>
                      <a:lnTo>
                        <a:pt x="645" y="454"/>
                      </a:lnTo>
                      <a:lnTo>
                        <a:pt x="633" y="459"/>
                      </a:lnTo>
                      <a:lnTo>
                        <a:pt x="634" y="436"/>
                      </a:lnTo>
                      <a:lnTo>
                        <a:pt x="615" y="431"/>
                      </a:lnTo>
                      <a:lnTo>
                        <a:pt x="625" y="399"/>
                      </a:lnTo>
                      <a:lnTo>
                        <a:pt x="601" y="399"/>
                      </a:lnTo>
                      <a:lnTo>
                        <a:pt x="611" y="375"/>
                      </a:lnTo>
                      <a:lnTo>
                        <a:pt x="587" y="370"/>
                      </a:lnTo>
                      <a:lnTo>
                        <a:pt x="601" y="347"/>
                      </a:lnTo>
                      <a:lnTo>
                        <a:pt x="578" y="342"/>
                      </a:lnTo>
                      <a:lnTo>
                        <a:pt x="592" y="319"/>
                      </a:lnTo>
                      <a:lnTo>
                        <a:pt x="573" y="315"/>
                      </a:lnTo>
                      <a:lnTo>
                        <a:pt x="583" y="286"/>
                      </a:lnTo>
                      <a:lnTo>
                        <a:pt x="564" y="281"/>
                      </a:lnTo>
                      <a:lnTo>
                        <a:pt x="569" y="258"/>
                      </a:lnTo>
                      <a:lnTo>
                        <a:pt x="545" y="248"/>
                      </a:lnTo>
                      <a:lnTo>
                        <a:pt x="550" y="225"/>
                      </a:lnTo>
                      <a:lnTo>
                        <a:pt x="530" y="212"/>
                      </a:lnTo>
                      <a:lnTo>
                        <a:pt x="540" y="187"/>
                      </a:lnTo>
                      <a:lnTo>
                        <a:pt x="522" y="176"/>
                      </a:lnTo>
                      <a:lnTo>
                        <a:pt x="531" y="145"/>
                      </a:lnTo>
                      <a:lnTo>
                        <a:pt x="512" y="145"/>
                      </a:lnTo>
                      <a:lnTo>
                        <a:pt x="507" y="117"/>
                      </a:lnTo>
                      <a:lnTo>
                        <a:pt x="509" y="106"/>
                      </a:lnTo>
                      <a:lnTo>
                        <a:pt x="485" y="106"/>
                      </a:lnTo>
                      <a:lnTo>
                        <a:pt x="501" y="508"/>
                      </a:lnTo>
                      <a:lnTo>
                        <a:pt x="474" y="483"/>
                      </a:lnTo>
                      <a:lnTo>
                        <a:pt x="489" y="436"/>
                      </a:lnTo>
                      <a:lnTo>
                        <a:pt x="465" y="441"/>
                      </a:lnTo>
                      <a:lnTo>
                        <a:pt x="489" y="394"/>
                      </a:lnTo>
                      <a:lnTo>
                        <a:pt x="465" y="394"/>
                      </a:lnTo>
                      <a:lnTo>
                        <a:pt x="477" y="364"/>
                      </a:lnTo>
                      <a:lnTo>
                        <a:pt x="446" y="366"/>
                      </a:lnTo>
                      <a:lnTo>
                        <a:pt x="477" y="328"/>
                      </a:lnTo>
                      <a:lnTo>
                        <a:pt x="436" y="332"/>
                      </a:lnTo>
                      <a:lnTo>
                        <a:pt x="477" y="286"/>
                      </a:lnTo>
                      <a:lnTo>
                        <a:pt x="428" y="300"/>
                      </a:lnTo>
                      <a:lnTo>
                        <a:pt x="468" y="258"/>
                      </a:lnTo>
                      <a:lnTo>
                        <a:pt x="423" y="263"/>
                      </a:lnTo>
                      <a:lnTo>
                        <a:pt x="460" y="225"/>
                      </a:lnTo>
                      <a:lnTo>
                        <a:pt x="437" y="225"/>
                      </a:lnTo>
                      <a:lnTo>
                        <a:pt x="452" y="200"/>
                      </a:lnTo>
                      <a:lnTo>
                        <a:pt x="428" y="196"/>
                      </a:lnTo>
                      <a:lnTo>
                        <a:pt x="448" y="171"/>
                      </a:lnTo>
                      <a:lnTo>
                        <a:pt x="428" y="163"/>
                      </a:lnTo>
                      <a:lnTo>
                        <a:pt x="452" y="139"/>
                      </a:lnTo>
                      <a:lnTo>
                        <a:pt x="428" y="131"/>
                      </a:lnTo>
                      <a:lnTo>
                        <a:pt x="452" y="110"/>
                      </a:lnTo>
                      <a:lnTo>
                        <a:pt x="432" y="106"/>
                      </a:lnTo>
                      <a:lnTo>
                        <a:pt x="452" y="85"/>
                      </a:lnTo>
                      <a:lnTo>
                        <a:pt x="436" y="73"/>
                      </a:lnTo>
                      <a:lnTo>
                        <a:pt x="428" y="56"/>
                      </a:lnTo>
                      <a:lnTo>
                        <a:pt x="343" y="357"/>
                      </a:lnTo>
                      <a:lnTo>
                        <a:pt x="418" y="5"/>
                      </a:lnTo>
                      <a:lnTo>
                        <a:pt x="437" y="5"/>
                      </a:lnTo>
                      <a:lnTo>
                        <a:pt x="442" y="37"/>
                      </a:lnTo>
                      <a:lnTo>
                        <a:pt x="446" y="56"/>
                      </a:lnTo>
                      <a:lnTo>
                        <a:pt x="451" y="66"/>
                      </a:lnTo>
                      <a:lnTo>
                        <a:pt x="460" y="42"/>
                      </a:lnTo>
                      <a:lnTo>
                        <a:pt x="460" y="5"/>
                      </a:lnTo>
                      <a:lnTo>
                        <a:pt x="507" y="89"/>
                      </a:lnTo>
                      <a:lnTo>
                        <a:pt x="493" y="0"/>
                      </a:lnTo>
                      <a:lnTo>
                        <a:pt x="54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0" name=""/>
                <p:cNvSpPr/>
                <p:nvPr/>
              </p:nvSpPr>
              <p:spPr>
                <a:xfrm>
                  <a:off x="7900920" y="206280"/>
                  <a:ext cx="792360" cy="493920"/>
                </a:xfrm>
                <a:custGeom>
                  <a:avLst/>
                  <a:gdLst/>
                  <a:ahLst/>
                  <a:rect l="l" t="t" r="r" b="b"/>
                  <a:pathLst>
                    <a:path w="499" h="311">
                      <a:moveTo>
                        <a:pt x="33" y="249"/>
                      </a:moveTo>
                      <a:lnTo>
                        <a:pt x="61" y="234"/>
                      </a:lnTo>
                      <a:lnTo>
                        <a:pt x="94" y="225"/>
                      </a:lnTo>
                      <a:lnTo>
                        <a:pt x="122" y="225"/>
                      </a:lnTo>
                      <a:lnTo>
                        <a:pt x="150" y="216"/>
                      </a:lnTo>
                      <a:lnTo>
                        <a:pt x="169" y="192"/>
                      </a:lnTo>
                      <a:lnTo>
                        <a:pt x="193" y="160"/>
                      </a:lnTo>
                      <a:lnTo>
                        <a:pt x="221" y="118"/>
                      </a:lnTo>
                      <a:lnTo>
                        <a:pt x="254" y="75"/>
                      </a:lnTo>
                      <a:lnTo>
                        <a:pt x="286" y="42"/>
                      </a:lnTo>
                      <a:lnTo>
                        <a:pt x="328" y="19"/>
                      </a:lnTo>
                      <a:lnTo>
                        <a:pt x="357" y="5"/>
                      </a:lnTo>
                      <a:lnTo>
                        <a:pt x="404" y="5"/>
                      </a:lnTo>
                      <a:lnTo>
                        <a:pt x="432" y="14"/>
                      </a:lnTo>
                      <a:lnTo>
                        <a:pt x="470" y="14"/>
                      </a:lnTo>
                      <a:lnTo>
                        <a:pt x="498" y="0"/>
                      </a:lnTo>
                      <a:lnTo>
                        <a:pt x="460" y="28"/>
                      </a:lnTo>
                      <a:lnTo>
                        <a:pt x="493" y="23"/>
                      </a:lnTo>
                      <a:lnTo>
                        <a:pt x="470" y="42"/>
                      </a:lnTo>
                      <a:lnTo>
                        <a:pt x="493" y="42"/>
                      </a:lnTo>
                      <a:lnTo>
                        <a:pt x="465" y="62"/>
                      </a:lnTo>
                      <a:lnTo>
                        <a:pt x="493" y="70"/>
                      </a:lnTo>
                      <a:lnTo>
                        <a:pt x="465" y="85"/>
                      </a:lnTo>
                      <a:lnTo>
                        <a:pt x="498" y="90"/>
                      </a:lnTo>
                      <a:lnTo>
                        <a:pt x="470" y="99"/>
                      </a:lnTo>
                      <a:lnTo>
                        <a:pt x="484" y="108"/>
                      </a:lnTo>
                      <a:lnTo>
                        <a:pt x="460" y="118"/>
                      </a:lnTo>
                      <a:lnTo>
                        <a:pt x="484" y="122"/>
                      </a:lnTo>
                      <a:lnTo>
                        <a:pt x="446" y="122"/>
                      </a:lnTo>
                      <a:lnTo>
                        <a:pt x="404" y="113"/>
                      </a:lnTo>
                      <a:lnTo>
                        <a:pt x="376" y="118"/>
                      </a:lnTo>
                      <a:lnTo>
                        <a:pt x="408" y="90"/>
                      </a:lnTo>
                      <a:lnTo>
                        <a:pt x="376" y="90"/>
                      </a:lnTo>
                      <a:lnTo>
                        <a:pt x="413" y="75"/>
                      </a:lnTo>
                      <a:lnTo>
                        <a:pt x="380" y="75"/>
                      </a:lnTo>
                      <a:lnTo>
                        <a:pt x="413" y="66"/>
                      </a:lnTo>
                      <a:lnTo>
                        <a:pt x="371" y="57"/>
                      </a:lnTo>
                      <a:lnTo>
                        <a:pt x="408" y="47"/>
                      </a:lnTo>
                      <a:lnTo>
                        <a:pt x="376" y="38"/>
                      </a:lnTo>
                      <a:lnTo>
                        <a:pt x="404" y="28"/>
                      </a:lnTo>
                      <a:lnTo>
                        <a:pt x="371" y="23"/>
                      </a:lnTo>
                      <a:lnTo>
                        <a:pt x="343" y="28"/>
                      </a:lnTo>
                      <a:lnTo>
                        <a:pt x="300" y="47"/>
                      </a:lnTo>
                      <a:lnTo>
                        <a:pt x="268" y="80"/>
                      </a:lnTo>
                      <a:lnTo>
                        <a:pt x="178" y="197"/>
                      </a:lnTo>
                      <a:lnTo>
                        <a:pt x="286" y="85"/>
                      </a:lnTo>
                      <a:lnTo>
                        <a:pt x="193" y="202"/>
                      </a:lnTo>
                      <a:lnTo>
                        <a:pt x="319" y="94"/>
                      </a:lnTo>
                      <a:lnTo>
                        <a:pt x="202" y="211"/>
                      </a:lnTo>
                      <a:lnTo>
                        <a:pt x="338" y="122"/>
                      </a:lnTo>
                      <a:lnTo>
                        <a:pt x="362" y="113"/>
                      </a:lnTo>
                      <a:lnTo>
                        <a:pt x="314" y="141"/>
                      </a:lnTo>
                      <a:lnTo>
                        <a:pt x="183" y="249"/>
                      </a:lnTo>
                      <a:lnTo>
                        <a:pt x="159" y="263"/>
                      </a:lnTo>
                      <a:lnTo>
                        <a:pt x="122" y="272"/>
                      </a:lnTo>
                      <a:lnTo>
                        <a:pt x="145" y="254"/>
                      </a:lnTo>
                      <a:lnTo>
                        <a:pt x="108" y="258"/>
                      </a:lnTo>
                      <a:lnTo>
                        <a:pt x="136" y="244"/>
                      </a:lnTo>
                      <a:lnTo>
                        <a:pt x="103" y="240"/>
                      </a:lnTo>
                      <a:lnTo>
                        <a:pt x="85" y="234"/>
                      </a:lnTo>
                      <a:lnTo>
                        <a:pt x="42" y="254"/>
                      </a:lnTo>
                      <a:lnTo>
                        <a:pt x="24" y="268"/>
                      </a:lnTo>
                      <a:lnTo>
                        <a:pt x="70" y="254"/>
                      </a:lnTo>
                      <a:lnTo>
                        <a:pt x="28" y="296"/>
                      </a:lnTo>
                      <a:lnTo>
                        <a:pt x="89" y="258"/>
                      </a:lnTo>
                      <a:lnTo>
                        <a:pt x="51" y="296"/>
                      </a:lnTo>
                      <a:lnTo>
                        <a:pt x="94" y="277"/>
                      </a:lnTo>
                      <a:lnTo>
                        <a:pt x="65" y="305"/>
                      </a:lnTo>
                      <a:lnTo>
                        <a:pt x="0" y="310"/>
                      </a:lnTo>
                      <a:lnTo>
                        <a:pt x="33" y="2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1" name=""/>
                <p:cNvSpPr/>
                <p:nvPr/>
              </p:nvSpPr>
              <p:spPr>
                <a:xfrm>
                  <a:off x="7508880" y="797040"/>
                  <a:ext cx="341280" cy="726840"/>
                </a:xfrm>
                <a:custGeom>
                  <a:avLst/>
                  <a:gdLst/>
                  <a:ahLst/>
                  <a:rect l="l" t="t" r="r" b="b"/>
                  <a:pathLst>
                    <a:path w="215" h="458">
                      <a:moveTo>
                        <a:pt x="210" y="47"/>
                      </a:moveTo>
                      <a:lnTo>
                        <a:pt x="62" y="457"/>
                      </a:lnTo>
                      <a:lnTo>
                        <a:pt x="45" y="437"/>
                      </a:lnTo>
                      <a:lnTo>
                        <a:pt x="4" y="432"/>
                      </a:lnTo>
                      <a:lnTo>
                        <a:pt x="45" y="408"/>
                      </a:lnTo>
                      <a:lnTo>
                        <a:pt x="0" y="400"/>
                      </a:lnTo>
                      <a:lnTo>
                        <a:pt x="54" y="379"/>
                      </a:lnTo>
                      <a:lnTo>
                        <a:pt x="0" y="371"/>
                      </a:lnTo>
                      <a:lnTo>
                        <a:pt x="63" y="356"/>
                      </a:lnTo>
                      <a:lnTo>
                        <a:pt x="13" y="338"/>
                      </a:lnTo>
                      <a:lnTo>
                        <a:pt x="68" y="327"/>
                      </a:lnTo>
                      <a:lnTo>
                        <a:pt x="33" y="305"/>
                      </a:lnTo>
                      <a:lnTo>
                        <a:pt x="73" y="295"/>
                      </a:lnTo>
                      <a:lnTo>
                        <a:pt x="49" y="277"/>
                      </a:lnTo>
                      <a:lnTo>
                        <a:pt x="83" y="265"/>
                      </a:lnTo>
                      <a:lnTo>
                        <a:pt x="83" y="243"/>
                      </a:lnTo>
                      <a:lnTo>
                        <a:pt x="214" y="0"/>
                      </a:lnTo>
                      <a:lnTo>
                        <a:pt x="210" y="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2" name=""/>
              <p:cNvSpPr/>
              <p:nvPr/>
            </p:nvSpPr>
            <p:spPr>
              <a:xfrm>
                <a:off x="7812000" y="674640"/>
                <a:ext cx="277920" cy="152280"/>
              </a:xfrm>
              <a:custGeom>
                <a:avLst/>
                <a:gdLst/>
                <a:ahLst/>
                <a:rect l="l" t="t" r="r" b="b"/>
                <a:pathLst>
                  <a:path w="175" h="96">
                    <a:moveTo>
                      <a:pt x="3" y="13"/>
                    </a:moveTo>
                    <a:lnTo>
                      <a:pt x="3" y="20"/>
                    </a:lnTo>
                    <a:lnTo>
                      <a:pt x="12" y="22"/>
                    </a:lnTo>
                    <a:lnTo>
                      <a:pt x="36" y="57"/>
                    </a:lnTo>
                    <a:lnTo>
                      <a:pt x="0" y="89"/>
                    </a:lnTo>
                    <a:lnTo>
                      <a:pt x="29" y="82"/>
                    </a:lnTo>
                    <a:lnTo>
                      <a:pt x="51" y="44"/>
                    </a:lnTo>
                    <a:lnTo>
                      <a:pt x="48" y="95"/>
                    </a:lnTo>
                    <a:lnTo>
                      <a:pt x="61" y="80"/>
                    </a:lnTo>
                    <a:lnTo>
                      <a:pt x="77" y="35"/>
                    </a:lnTo>
                    <a:lnTo>
                      <a:pt x="92" y="93"/>
                    </a:lnTo>
                    <a:lnTo>
                      <a:pt x="101" y="41"/>
                    </a:lnTo>
                    <a:lnTo>
                      <a:pt x="126" y="84"/>
                    </a:lnTo>
                    <a:lnTo>
                      <a:pt x="174" y="83"/>
                    </a:lnTo>
                    <a:lnTo>
                      <a:pt x="124" y="0"/>
                    </a:lnTo>
                    <a:lnTo>
                      <a:pt x="3" y="13"/>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3" name=""/>
            <p:cNvSpPr/>
            <p:nvPr/>
          </p:nvSpPr>
          <p:spPr>
            <a:xfrm>
              <a:off x="7805880" y="144360"/>
              <a:ext cx="298440" cy="567000"/>
            </a:xfrm>
            <a:custGeom>
              <a:avLst/>
              <a:gdLst/>
              <a:ahLst/>
              <a:rect l="l" t="t" r="r" b="b"/>
              <a:pathLst>
                <a:path w="188" h="357">
                  <a:moveTo>
                    <a:pt x="32" y="356"/>
                  </a:moveTo>
                  <a:lnTo>
                    <a:pt x="7" y="333"/>
                  </a:lnTo>
                  <a:lnTo>
                    <a:pt x="0" y="305"/>
                  </a:lnTo>
                  <a:lnTo>
                    <a:pt x="3" y="277"/>
                  </a:lnTo>
                  <a:lnTo>
                    <a:pt x="17" y="253"/>
                  </a:lnTo>
                  <a:lnTo>
                    <a:pt x="32" y="230"/>
                  </a:lnTo>
                  <a:lnTo>
                    <a:pt x="56" y="206"/>
                  </a:lnTo>
                  <a:lnTo>
                    <a:pt x="78" y="178"/>
                  </a:lnTo>
                  <a:lnTo>
                    <a:pt x="88" y="160"/>
                  </a:lnTo>
                  <a:lnTo>
                    <a:pt x="88" y="136"/>
                  </a:lnTo>
                  <a:lnTo>
                    <a:pt x="81" y="112"/>
                  </a:lnTo>
                  <a:lnTo>
                    <a:pt x="64" y="99"/>
                  </a:lnTo>
                  <a:lnTo>
                    <a:pt x="49" y="89"/>
                  </a:lnTo>
                  <a:lnTo>
                    <a:pt x="42" y="70"/>
                  </a:lnTo>
                  <a:lnTo>
                    <a:pt x="53" y="51"/>
                  </a:lnTo>
                  <a:lnTo>
                    <a:pt x="71" y="28"/>
                  </a:lnTo>
                  <a:lnTo>
                    <a:pt x="92" y="9"/>
                  </a:lnTo>
                  <a:lnTo>
                    <a:pt x="117" y="0"/>
                  </a:lnTo>
                  <a:lnTo>
                    <a:pt x="110" y="19"/>
                  </a:lnTo>
                  <a:lnTo>
                    <a:pt x="127" y="14"/>
                  </a:lnTo>
                  <a:lnTo>
                    <a:pt x="120" y="28"/>
                  </a:lnTo>
                  <a:lnTo>
                    <a:pt x="138" y="24"/>
                  </a:lnTo>
                  <a:lnTo>
                    <a:pt x="127" y="47"/>
                  </a:lnTo>
                  <a:lnTo>
                    <a:pt x="148" y="37"/>
                  </a:lnTo>
                  <a:lnTo>
                    <a:pt x="134" y="61"/>
                  </a:lnTo>
                  <a:lnTo>
                    <a:pt x="159" y="51"/>
                  </a:lnTo>
                  <a:lnTo>
                    <a:pt x="152" y="70"/>
                  </a:lnTo>
                  <a:lnTo>
                    <a:pt x="166" y="75"/>
                  </a:lnTo>
                  <a:lnTo>
                    <a:pt x="162" y="89"/>
                  </a:lnTo>
                  <a:lnTo>
                    <a:pt x="176" y="94"/>
                  </a:lnTo>
                  <a:lnTo>
                    <a:pt x="187" y="112"/>
                  </a:lnTo>
                  <a:lnTo>
                    <a:pt x="184" y="140"/>
                  </a:lnTo>
                  <a:lnTo>
                    <a:pt x="170" y="169"/>
                  </a:lnTo>
                  <a:lnTo>
                    <a:pt x="145" y="202"/>
                  </a:lnTo>
                  <a:lnTo>
                    <a:pt x="120" y="225"/>
                  </a:lnTo>
                  <a:lnTo>
                    <a:pt x="159" y="169"/>
                  </a:lnTo>
                  <a:lnTo>
                    <a:pt x="170" y="140"/>
                  </a:lnTo>
                  <a:lnTo>
                    <a:pt x="166" y="112"/>
                  </a:lnTo>
                  <a:lnTo>
                    <a:pt x="152" y="99"/>
                  </a:lnTo>
                  <a:lnTo>
                    <a:pt x="64" y="61"/>
                  </a:lnTo>
                  <a:lnTo>
                    <a:pt x="60" y="70"/>
                  </a:lnTo>
                  <a:lnTo>
                    <a:pt x="64" y="84"/>
                  </a:lnTo>
                  <a:lnTo>
                    <a:pt x="88" y="103"/>
                  </a:lnTo>
                  <a:lnTo>
                    <a:pt x="99" y="122"/>
                  </a:lnTo>
                  <a:lnTo>
                    <a:pt x="106" y="155"/>
                  </a:lnTo>
                  <a:lnTo>
                    <a:pt x="102" y="174"/>
                  </a:lnTo>
                  <a:lnTo>
                    <a:pt x="127" y="150"/>
                  </a:lnTo>
                  <a:lnTo>
                    <a:pt x="113" y="188"/>
                  </a:lnTo>
                  <a:lnTo>
                    <a:pt x="148" y="145"/>
                  </a:lnTo>
                  <a:lnTo>
                    <a:pt x="123" y="192"/>
                  </a:lnTo>
                  <a:lnTo>
                    <a:pt x="148" y="169"/>
                  </a:lnTo>
                  <a:lnTo>
                    <a:pt x="99" y="239"/>
                  </a:lnTo>
                  <a:lnTo>
                    <a:pt x="78" y="262"/>
                  </a:lnTo>
                  <a:lnTo>
                    <a:pt x="71" y="277"/>
                  </a:lnTo>
                  <a:lnTo>
                    <a:pt x="67" y="309"/>
                  </a:lnTo>
                  <a:lnTo>
                    <a:pt x="49" y="347"/>
                  </a:lnTo>
                  <a:lnTo>
                    <a:pt x="39" y="328"/>
                  </a:lnTo>
                  <a:lnTo>
                    <a:pt x="36" y="300"/>
                  </a:lnTo>
                  <a:lnTo>
                    <a:pt x="36" y="277"/>
                  </a:lnTo>
                  <a:lnTo>
                    <a:pt x="39" y="253"/>
                  </a:lnTo>
                  <a:lnTo>
                    <a:pt x="49" y="230"/>
                  </a:lnTo>
                  <a:lnTo>
                    <a:pt x="21" y="267"/>
                  </a:lnTo>
                  <a:lnTo>
                    <a:pt x="14" y="305"/>
                  </a:lnTo>
                  <a:lnTo>
                    <a:pt x="21" y="323"/>
                  </a:lnTo>
                  <a:lnTo>
                    <a:pt x="36" y="351"/>
                  </a:lnTo>
                  <a:lnTo>
                    <a:pt x="32" y="3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ummary of the Bag Operations</a:t>
            </a:r>
            <a:endParaRPr b="0" lang="en-US" sz="4400" spc="-1" strike="noStrike">
              <a:solidFill>
                <a:srgbClr val="00cece"/>
              </a:solidFill>
              <a:latin typeface="Times New Roman"/>
            </a:endParaRPr>
          </a:p>
        </p:txBody>
      </p:sp>
      <p:sp>
        <p:nvSpPr>
          <p:cNvPr id="345" name="PlaceHolder 2"/>
          <p:cNvSpPr>
            <a:spLocks noGrp="1"/>
          </p:cNvSpPr>
          <p:nvPr>
            <p:ph/>
          </p:nvPr>
        </p:nvSpPr>
        <p:spPr>
          <a:xfrm>
            <a:off x="685440" y="1981080"/>
            <a:ext cx="7278840" cy="4114800"/>
          </a:xfrm>
          <a:prstGeom prst="rect">
            <a:avLst/>
          </a:prstGeom>
          <a:noFill/>
          <a:ln w="0">
            <a:noFill/>
          </a:ln>
        </p:spPr>
        <p:txBody>
          <a:bodyPr lIns="90360" rIns="90360" tIns="44280" bIns="44280" anchor="t">
            <a:normAutofit fontScale="93000"/>
          </a:bodyPr>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 bag can be put in its </a:t>
            </a:r>
            <a:r>
              <a:rPr b="1" lang="en-US" sz="3200" spc="-1" strike="noStrike" u="sng">
                <a:solidFill>
                  <a:srgbClr val="fc0128"/>
                </a:solidFill>
                <a:uFillTx/>
                <a:latin typeface="Times New Roman"/>
              </a:rPr>
              <a:t>initial state</a:t>
            </a:r>
            <a:r>
              <a:rPr b="0" lang="en-US" sz="3200" spc="-1" strike="noStrike">
                <a:solidFill>
                  <a:srgbClr val="e0e0e0"/>
                </a:solidFill>
                <a:latin typeface="Times New Roman"/>
              </a:rPr>
              <a:t>, which is an empty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Numbers can be </a:t>
            </a:r>
            <a:r>
              <a:rPr b="1" lang="en-US" sz="3200" spc="-1" strike="noStrike" u="sng">
                <a:solidFill>
                  <a:srgbClr val="fc0128"/>
                </a:solidFill>
                <a:uFillTx/>
                <a:latin typeface="Times New Roman"/>
              </a:rPr>
              <a:t>added</a:t>
            </a:r>
            <a:r>
              <a:rPr b="0" lang="en-US" sz="3200" spc="-1" strike="noStrike">
                <a:solidFill>
                  <a:srgbClr val="e0e0e0"/>
                </a:solidFill>
                <a:latin typeface="Times New Roman"/>
              </a:rPr>
              <a:t> into the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may check how many </a:t>
            </a:r>
            <a:r>
              <a:rPr b="1" lang="en-US" sz="3200" spc="-1" strike="noStrike" u="sng">
                <a:solidFill>
                  <a:srgbClr val="fc0128"/>
                </a:solidFill>
                <a:uFillTx/>
                <a:latin typeface="Times New Roman"/>
              </a:rPr>
              <a:t>occurrences</a:t>
            </a:r>
            <a:r>
              <a:rPr b="0" lang="en-US" sz="3200" spc="-1" strike="noStrike">
                <a:solidFill>
                  <a:srgbClr val="e0e0e0"/>
                </a:solidFill>
                <a:latin typeface="Times New Roman"/>
              </a:rPr>
              <a:t> of a certain number are in the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Numbers can be </a:t>
            </a:r>
            <a:r>
              <a:rPr b="1" lang="en-US" sz="3200" spc="-1" strike="noStrike" u="sng">
                <a:solidFill>
                  <a:srgbClr val="fc0128"/>
                </a:solidFill>
                <a:uFillTx/>
                <a:latin typeface="Times New Roman"/>
              </a:rPr>
              <a:t>removed</a:t>
            </a:r>
            <a:r>
              <a:rPr b="0" lang="en-US" sz="3200" spc="-1" strike="noStrike">
                <a:solidFill>
                  <a:srgbClr val="e0e0e0"/>
                </a:solidFill>
                <a:latin typeface="Times New Roman"/>
              </a:rPr>
              <a:t> from the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can check </a:t>
            </a:r>
            <a:r>
              <a:rPr b="1" lang="en-US" sz="3200" spc="-1" strike="noStrike" u="sng">
                <a:solidFill>
                  <a:srgbClr val="fc0128"/>
                </a:solidFill>
                <a:uFillTx/>
                <a:latin typeface="Times New Roman"/>
              </a:rPr>
              <a:t>how many</a:t>
            </a:r>
            <a:r>
              <a:rPr b="0" lang="en-US" sz="3200" spc="-1" strike="noStrike">
                <a:solidFill>
                  <a:srgbClr val="e0e0e0"/>
                </a:solidFill>
                <a:latin typeface="Times New Roman"/>
              </a:rPr>
              <a:t> numbers are in the bag.</a:t>
            </a:r>
            <a:endParaRPr b="0" lang="en-US" sz="3200" spc="-1" strike="noStrike">
              <a:solidFill>
                <a:srgbClr val="e0e0e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345">
                                            <p:txEl>
                                              <p:pRg st="0" end="0"/>
                                            </p:txEl>
                                          </p:spTgt>
                                        </p:tgtEl>
                                        <p:attrNameLst>
                                          <p:attrName>style.visibility</p:attrName>
                                        </p:attrNameLst>
                                      </p:cBhvr>
                                      <p:to>
                                        <p:strVal val="visible"/>
                                      </p:to>
                                    </p:set>
                                    <p:animEffect filter="randombar(vertical)" transition="in">
                                      <p:cBhvr additive="repl">
                                        <p:cTn id="7" dur="500"/>
                                        <p:tgtEl>
                                          <p:spTgt spid="3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345">
                                            <p:txEl>
                                              <p:pRg st="1" end="1"/>
                                            </p:txEl>
                                          </p:spTgt>
                                        </p:tgtEl>
                                        <p:attrNameLst>
                                          <p:attrName>style.visibility</p:attrName>
                                        </p:attrNameLst>
                                      </p:cBhvr>
                                      <p:to>
                                        <p:strVal val="visible"/>
                                      </p:to>
                                    </p:set>
                                    <p:animEffect filter="randombar(vertical)" transition="in">
                                      <p:cBhvr additive="repl">
                                        <p:cTn id="12" dur="500"/>
                                        <p:tgtEl>
                                          <p:spTgt spid="3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5">
                                  <p:stCondLst>
                                    <p:cond delay="0"/>
                                  </p:stCondLst>
                                  <p:childTnLst>
                                    <p:set>
                                      <p:cBhvr>
                                        <p:cTn id="16" dur="1" fill="hold">
                                          <p:stCondLst>
                                            <p:cond delay="0"/>
                                          </p:stCondLst>
                                        </p:cTn>
                                        <p:tgtEl>
                                          <p:spTgt spid="345">
                                            <p:txEl>
                                              <p:pRg st="2" end="2"/>
                                            </p:txEl>
                                          </p:spTgt>
                                        </p:tgtEl>
                                        <p:attrNameLst>
                                          <p:attrName>style.visibility</p:attrName>
                                        </p:attrNameLst>
                                      </p:cBhvr>
                                      <p:to>
                                        <p:strVal val="visible"/>
                                      </p:to>
                                    </p:set>
                                    <p:animEffect filter="randombar(vertical)" transition="in">
                                      <p:cBhvr additive="repl">
                                        <p:cTn id="17" dur="500"/>
                                        <p:tgtEl>
                                          <p:spTgt spid="3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5">
                                  <p:stCondLst>
                                    <p:cond delay="0"/>
                                  </p:stCondLst>
                                  <p:childTnLst>
                                    <p:set>
                                      <p:cBhvr>
                                        <p:cTn id="21" dur="1" fill="hold">
                                          <p:stCondLst>
                                            <p:cond delay="0"/>
                                          </p:stCondLst>
                                        </p:cTn>
                                        <p:tgtEl>
                                          <p:spTgt spid="345">
                                            <p:txEl>
                                              <p:pRg st="3" end="3"/>
                                            </p:txEl>
                                          </p:spTgt>
                                        </p:tgtEl>
                                        <p:attrNameLst>
                                          <p:attrName>style.visibility</p:attrName>
                                        </p:attrNameLst>
                                      </p:cBhvr>
                                      <p:to>
                                        <p:strVal val="visible"/>
                                      </p:to>
                                    </p:set>
                                    <p:animEffect filter="randombar(vertical)" transition="in">
                                      <p:cBhvr additive="repl">
                                        <p:cTn id="22" dur="500"/>
                                        <p:tgtEl>
                                          <p:spTgt spid="3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5">
                                  <p:stCondLst>
                                    <p:cond delay="0"/>
                                  </p:stCondLst>
                                  <p:childTnLst>
                                    <p:set>
                                      <p:cBhvr>
                                        <p:cTn id="26" dur="1" fill="hold">
                                          <p:stCondLst>
                                            <p:cond delay="0"/>
                                          </p:stCondLst>
                                        </p:cTn>
                                        <p:tgtEl>
                                          <p:spTgt spid="345">
                                            <p:txEl>
                                              <p:pRg st="4" end="4"/>
                                            </p:txEl>
                                          </p:spTgt>
                                        </p:tgtEl>
                                        <p:attrNameLst>
                                          <p:attrName>style.visibility</p:attrName>
                                        </p:attrNameLst>
                                      </p:cBhvr>
                                      <p:to>
                                        <p:strVal val="visible"/>
                                      </p:to>
                                    </p:set>
                                    <p:animEffect filter="randombar(vertical)" transition="in">
                                      <p:cBhvr additive="repl">
                                        <p:cTn id="27" dur="500"/>
                                        <p:tgtEl>
                                          <p:spTgt spid="3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00cece"/>
              </a:solidFill>
              <a:latin typeface="Times New Roman"/>
            </a:endParaRPr>
          </a:p>
        </p:txBody>
      </p:sp>
      <p:sp>
        <p:nvSpPr>
          <p:cNvPr id="347" name="PlaceHolder 2"/>
          <p:cNvSpPr>
            <a:spLocks noGrp="1"/>
          </p:cNvSpPr>
          <p:nvPr>
            <p:ph/>
          </p:nvPr>
        </p:nvSpPr>
        <p:spPr>
          <a:xfrm>
            <a:off x="434520" y="1980720"/>
            <a:ext cx="4754520" cy="2227320"/>
          </a:xfrm>
          <a:prstGeom prst="rect">
            <a:avLst/>
          </a:prstGeom>
          <a:noFill/>
          <a:ln w="0">
            <a:noFill/>
          </a:ln>
        </p:spPr>
        <p:txBody>
          <a:bodyPr lIns="90360" rIns="90360" tIns="44280" bIns="44280" anchor="t">
            <a:normAutofit fontScale="96000"/>
          </a:bodyPr>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Times New Roman"/>
            </a:endParaRPr>
          </a:p>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Times New Roman"/>
            </a:endParaRPr>
          </a:p>
        </p:txBody>
      </p:sp>
      <p:sp>
        <p:nvSpPr>
          <p:cNvPr id="348" name=""/>
          <p:cNvSpPr/>
          <p:nvPr/>
        </p:nvSpPr>
        <p:spPr>
          <a:xfrm>
            <a:off x="5504040" y="2030400"/>
            <a:ext cx="341604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9" name=""/>
          <p:cNvSpPr/>
          <p:nvPr/>
        </p:nvSpPr>
        <p:spPr>
          <a:xfrm>
            <a:off x="5663880" y="2139840"/>
            <a:ext cx="258624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ublic class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50" name=""/>
          <p:cNvSpPr/>
          <p:nvPr/>
        </p:nvSpPr>
        <p:spPr>
          <a:xfrm>
            <a:off x="1122840" y="4324320"/>
            <a:ext cx="4219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00cece"/>
              </a:solidFill>
              <a:latin typeface="Times New Roman"/>
            </a:endParaRPr>
          </a:p>
        </p:txBody>
      </p:sp>
      <p:sp>
        <p:nvSpPr>
          <p:cNvPr id="352" name="PlaceHolder 2"/>
          <p:cNvSpPr>
            <a:spLocks noGrp="1"/>
          </p:cNvSpPr>
          <p:nvPr>
            <p:ph/>
          </p:nvPr>
        </p:nvSpPr>
        <p:spPr>
          <a:xfrm>
            <a:off x="434520" y="1980720"/>
            <a:ext cx="4754520" cy="2227320"/>
          </a:xfrm>
          <a:prstGeom prst="rect">
            <a:avLst/>
          </a:prstGeom>
          <a:noFill/>
          <a:ln w="0">
            <a:noFill/>
          </a:ln>
        </p:spPr>
        <p:txBody>
          <a:bodyPr lIns="90360" rIns="90360" tIns="44280" bIns="44280" anchor="t">
            <a:normAutofit fontScale="96000"/>
          </a:bodyPr>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Times New Roman"/>
            </a:endParaRPr>
          </a:p>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Times New Roman"/>
            </a:endParaRPr>
          </a:p>
        </p:txBody>
      </p:sp>
      <p:sp>
        <p:nvSpPr>
          <p:cNvPr id="353" name=""/>
          <p:cNvSpPr/>
          <p:nvPr/>
        </p:nvSpPr>
        <p:spPr>
          <a:xfrm>
            <a:off x="5504040" y="2030400"/>
            <a:ext cx="341604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4" name=""/>
          <p:cNvSpPr/>
          <p:nvPr/>
        </p:nvSpPr>
        <p:spPr>
          <a:xfrm>
            <a:off x="5661000" y="2139840"/>
            <a:ext cx="26258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class</a:t>
            </a:r>
            <a:r>
              <a:rPr b="1" lang="en-US" sz="2400" spc="-1" strike="noStrike">
                <a:solidFill>
                  <a:srgbClr val="fc0128"/>
                </a:solidFill>
                <a:latin typeface="Arial"/>
              </a:rPr>
              <a:t> </a:t>
            </a:r>
            <a:r>
              <a:rPr b="1" lang="en-US" sz="2400" spc="-1" strike="noStrike">
                <a:solidFill>
                  <a:srgbClr val="000020"/>
                </a:solidFill>
                <a:latin typeface="Arial"/>
              </a:rPr>
              <a:t>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1" lang="en-US" sz="2400" spc="-1" strike="noStrike">
                <a:solidFill>
                  <a:srgbClr val="000020"/>
                </a:solidFill>
                <a:latin typeface="Arial"/>
              </a:rPr>
              <a:t>public </a:t>
            </a:r>
            <a:r>
              <a:rPr b="1" lang="en-US" sz="2400" spc="-1" strike="noStrike">
                <a:solidFill>
                  <a:srgbClr val="fc0128"/>
                </a:solidFill>
                <a:latin typeface="Arial"/>
              </a:rPr>
              <a:t>Bag(  )</a:t>
            </a: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55" name=""/>
          <p:cNvSpPr/>
          <p:nvPr/>
        </p:nvSpPr>
        <p:spPr>
          <a:xfrm>
            <a:off x="1087560" y="4324320"/>
            <a:ext cx="44924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A constructor</a:t>
            </a:r>
            <a:endParaRPr b="0" lang="en-US" sz="2400" spc="-1" strike="noStrike">
              <a:solidFill>
                <a:srgbClr val="e0e0e0"/>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6" name=""/>
          <p:cNvSpPr/>
          <p:nvPr/>
        </p:nvSpPr>
        <p:spPr>
          <a:xfrm>
            <a:off x="457200" y="495360"/>
            <a:ext cx="7772400" cy="1143000"/>
          </a:xfrm>
          <a:prstGeom prst="rect">
            <a:avLst/>
          </a:prstGeom>
          <a:noFill/>
          <a:ln w="0">
            <a:noFill/>
          </a:ln>
          <a:effectLst>
            <a:outerShdw dist="107932" dir="2700000" blurRad="0" rotWithShape="0">
              <a:srgbClr val="000020">
                <a:alpha val="50000"/>
              </a:srgbClr>
            </a:outerShdw>
          </a:effectLst>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e0e0e0"/>
              </a:solidFill>
              <a:latin typeface="Arial"/>
            </a:endParaRPr>
          </a:p>
        </p:txBody>
      </p:sp>
      <p:sp>
        <p:nvSpPr>
          <p:cNvPr id="357" name=""/>
          <p:cNvSpPr/>
          <p:nvPr/>
        </p:nvSpPr>
        <p:spPr>
          <a:xfrm>
            <a:off x="587520" y="2133720"/>
            <a:ext cx="4754520" cy="2227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Arial"/>
            </a:endParaRPr>
          </a:p>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Arial"/>
            </a:endParaRPr>
          </a:p>
        </p:txBody>
      </p:sp>
      <p:sp>
        <p:nvSpPr>
          <p:cNvPr id="358" name=""/>
          <p:cNvSpPr/>
          <p:nvPr/>
        </p:nvSpPr>
        <p:spPr>
          <a:xfrm>
            <a:off x="5521320" y="2182680"/>
            <a:ext cx="355140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9" name=""/>
          <p:cNvSpPr/>
          <p:nvPr/>
        </p:nvSpPr>
        <p:spPr>
          <a:xfrm>
            <a:off x="5508720" y="2292480"/>
            <a:ext cx="3659040" cy="264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a:t>
            </a:r>
            <a:r>
              <a:rPr b="1" lang="en-US" sz="2400" spc="-1" strike="noStrike">
                <a:solidFill>
                  <a:srgbClr val="fc0128"/>
                </a:solidFill>
                <a:latin typeface="Arial"/>
              </a:rPr>
              <a:t> </a:t>
            </a:r>
            <a:r>
              <a:rPr b="1" lang="en-US" sz="2400" spc="-1" strike="noStrike">
                <a:solidFill>
                  <a:srgbClr val="000020"/>
                </a:solidFill>
                <a:latin typeface="Arial"/>
              </a:rPr>
              <a:t>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ad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ublic void remov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nd so o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60" name=""/>
          <p:cNvSpPr/>
          <p:nvPr/>
        </p:nvSpPr>
        <p:spPr>
          <a:xfrm>
            <a:off x="1239840" y="4476600"/>
            <a:ext cx="45212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A constructor</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Public methods</a:t>
            </a:r>
            <a:endParaRPr b="0" lang="en-US" sz="24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1" name=""/>
          <p:cNvSpPr/>
          <p:nvPr/>
        </p:nvSpPr>
        <p:spPr>
          <a:xfrm>
            <a:off x="457200" y="495360"/>
            <a:ext cx="7772400" cy="1143000"/>
          </a:xfrm>
          <a:prstGeom prst="rect">
            <a:avLst/>
          </a:prstGeom>
          <a:noFill/>
          <a:ln w="0">
            <a:noFill/>
          </a:ln>
          <a:effectLst>
            <a:outerShdw dist="107932" dir="2700000" blurRad="0" rotWithShape="0">
              <a:srgbClr val="000020">
                <a:alpha val="50000"/>
              </a:srgbClr>
            </a:outerShdw>
          </a:effectLst>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e0e0e0"/>
              </a:solidFill>
              <a:latin typeface="Arial"/>
            </a:endParaRPr>
          </a:p>
        </p:txBody>
      </p:sp>
      <p:sp>
        <p:nvSpPr>
          <p:cNvPr id="362" name=""/>
          <p:cNvSpPr/>
          <p:nvPr/>
        </p:nvSpPr>
        <p:spPr>
          <a:xfrm>
            <a:off x="587520" y="2133720"/>
            <a:ext cx="4754520" cy="2227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Arial"/>
            </a:endParaRPr>
          </a:p>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Arial"/>
            </a:endParaRPr>
          </a:p>
        </p:txBody>
      </p:sp>
      <p:sp>
        <p:nvSpPr>
          <p:cNvPr id="363" name=""/>
          <p:cNvSpPr/>
          <p:nvPr/>
        </p:nvSpPr>
        <p:spPr>
          <a:xfrm>
            <a:off x="5492880" y="2182680"/>
            <a:ext cx="357984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4" name=""/>
          <p:cNvSpPr/>
          <p:nvPr/>
        </p:nvSpPr>
        <p:spPr>
          <a:xfrm>
            <a:off x="1239840" y="4476600"/>
            <a:ext cx="453852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A constructor</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Public methods</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Private instance variables</a:t>
            </a:r>
            <a:endParaRPr b="0" lang="en-US" sz="2400" spc="-1" strike="noStrike">
              <a:solidFill>
                <a:srgbClr val="e0e0e0"/>
              </a:solidFill>
              <a:latin typeface="Arial"/>
            </a:endParaRPr>
          </a:p>
        </p:txBody>
      </p:sp>
      <p:sp>
        <p:nvSpPr>
          <p:cNvPr id="365" name=""/>
          <p:cNvSpPr/>
          <p:nvPr/>
        </p:nvSpPr>
        <p:spPr>
          <a:xfrm>
            <a:off x="5807160" y="5340240"/>
            <a:ext cx="2967120" cy="120672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Times New Roman"/>
              </a:rPr>
              <a:t>We’ll look at private</a:t>
            </a:r>
            <a:endParaRPr b="0" lang="en-US" sz="24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Times New Roman"/>
              </a:rPr>
              <a:t>instance variables</a:t>
            </a:r>
            <a:endParaRPr b="0" lang="en-US" sz="24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Times New Roman"/>
              </a:rPr>
              <a:t> </a:t>
            </a:r>
            <a:r>
              <a:rPr b="1" lang="en-US" sz="2400" spc="-1" strike="noStrike">
                <a:solidFill>
                  <a:srgbClr val="000020"/>
                </a:solidFill>
                <a:latin typeface="Times New Roman"/>
              </a:rPr>
              <a:t>later.</a:t>
            </a:r>
            <a:endParaRPr b="0" lang="en-US" sz="2400" spc="-1" strike="noStrike">
              <a:solidFill>
                <a:srgbClr val="e0e0e0"/>
              </a:solidFill>
              <a:latin typeface="Arial"/>
            </a:endParaRPr>
          </a:p>
        </p:txBody>
      </p:sp>
      <p:sp>
        <p:nvSpPr>
          <p:cNvPr id="366" name=""/>
          <p:cNvSpPr/>
          <p:nvPr/>
        </p:nvSpPr>
        <p:spPr>
          <a:xfrm>
            <a:off x="5484960" y="2292480"/>
            <a:ext cx="3659040" cy="264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a:t>
            </a:r>
            <a:r>
              <a:rPr b="1" lang="en-US" sz="2400" spc="-1" strike="noStrike">
                <a:solidFill>
                  <a:srgbClr val="fc0128"/>
                </a:solidFill>
                <a:latin typeface="Arial"/>
              </a:rPr>
              <a:t> </a:t>
            </a:r>
            <a:r>
              <a:rPr b="1" lang="en-US" sz="2400" spc="-1" strike="noStrike">
                <a:solidFill>
                  <a:srgbClr val="000020"/>
                </a:solidFill>
                <a:latin typeface="Arial"/>
              </a:rPr>
              <a:t>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ad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ublic void remov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nd so o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Bags</a:t>
            </a:r>
            <a:endParaRPr b="0" lang="en-US" sz="4400" spc="-1" strike="noStrike">
              <a:solidFill>
                <a:srgbClr val="00cece"/>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or the first example, think about a bag.</a:t>
            </a:r>
            <a:endParaRPr b="0" lang="en-US" sz="2800" spc="-1" strike="noStrike">
              <a:solidFill>
                <a:srgbClr val="e0e0e0"/>
              </a:solidFill>
              <a:latin typeface="Times New Roman"/>
            </a:endParaRPr>
          </a:p>
        </p:txBody>
      </p:sp>
      <p:grpSp>
        <p:nvGrpSpPr>
          <p:cNvPr id="65" name=""/>
          <p:cNvGrpSpPr/>
          <p:nvPr/>
        </p:nvGrpSpPr>
        <p:grpSpPr>
          <a:xfrm>
            <a:off x="4716360" y="611280"/>
            <a:ext cx="3880080" cy="5359320"/>
            <a:chOff x="4716360" y="611280"/>
            <a:chExt cx="3880080" cy="5359320"/>
          </a:xfrm>
        </p:grpSpPr>
        <p:grpSp>
          <p:nvGrpSpPr>
            <p:cNvPr id="66" name=""/>
            <p:cNvGrpSpPr/>
            <p:nvPr/>
          </p:nvGrpSpPr>
          <p:grpSpPr>
            <a:xfrm>
              <a:off x="4716360" y="766800"/>
              <a:ext cx="3880080" cy="5203800"/>
              <a:chOff x="4716360" y="766800"/>
              <a:chExt cx="3880080" cy="5203800"/>
            </a:xfrm>
          </p:grpSpPr>
          <p:grpSp>
            <p:nvGrpSpPr>
              <p:cNvPr id="67" name=""/>
              <p:cNvGrpSpPr/>
              <p:nvPr/>
            </p:nvGrpSpPr>
            <p:grpSpPr>
              <a:xfrm>
                <a:off x="4716360" y="766800"/>
                <a:ext cx="3880080" cy="5203800"/>
                <a:chOff x="4716360" y="766800"/>
                <a:chExt cx="3880080" cy="5203800"/>
              </a:xfrm>
            </p:grpSpPr>
            <p:sp>
              <p:nvSpPr>
                <p:cNvPr id="68" name=""/>
                <p:cNvSpPr/>
                <p:nvPr/>
              </p:nvSpPr>
              <p:spPr>
                <a:xfrm>
                  <a:off x="4716360" y="766800"/>
                  <a:ext cx="3641760" cy="5186160"/>
                </a:xfrm>
                <a:custGeom>
                  <a:avLst/>
                  <a:gdLst/>
                  <a:ahLst/>
                  <a:rect l="l" t="t" r="r" b="b"/>
                  <a:pathLst>
                    <a:path w="2294" h="3267">
                      <a:moveTo>
                        <a:pt x="1283" y="0"/>
                      </a:moveTo>
                      <a:lnTo>
                        <a:pt x="1522" y="172"/>
                      </a:lnTo>
                      <a:lnTo>
                        <a:pt x="1555" y="280"/>
                      </a:lnTo>
                      <a:lnTo>
                        <a:pt x="1474" y="389"/>
                      </a:lnTo>
                      <a:lnTo>
                        <a:pt x="1170" y="653"/>
                      </a:lnTo>
                      <a:lnTo>
                        <a:pt x="1410" y="591"/>
                      </a:lnTo>
                      <a:lnTo>
                        <a:pt x="1555" y="560"/>
                      </a:lnTo>
                      <a:lnTo>
                        <a:pt x="1908" y="109"/>
                      </a:lnTo>
                      <a:lnTo>
                        <a:pt x="2099" y="62"/>
                      </a:lnTo>
                      <a:lnTo>
                        <a:pt x="2293" y="62"/>
                      </a:lnTo>
                      <a:lnTo>
                        <a:pt x="2212" y="295"/>
                      </a:lnTo>
                      <a:lnTo>
                        <a:pt x="1972" y="326"/>
                      </a:lnTo>
                      <a:lnTo>
                        <a:pt x="1539" y="669"/>
                      </a:lnTo>
                      <a:lnTo>
                        <a:pt x="1299" y="762"/>
                      </a:lnTo>
                      <a:lnTo>
                        <a:pt x="2212" y="2209"/>
                      </a:lnTo>
                      <a:lnTo>
                        <a:pt x="2260" y="2489"/>
                      </a:lnTo>
                      <a:lnTo>
                        <a:pt x="1956" y="3017"/>
                      </a:lnTo>
                      <a:lnTo>
                        <a:pt x="1666" y="3204"/>
                      </a:lnTo>
                      <a:lnTo>
                        <a:pt x="1458" y="3266"/>
                      </a:lnTo>
                      <a:lnTo>
                        <a:pt x="1090" y="3204"/>
                      </a:lnTo>
                      <a:lnTo>
                        <a:pt x="608" y="3172"/>
                      </a:lnTo>
                      <a:lnTo>
                        <a:pt x="320" y="2970"/>
                      </a:lnTo>
                      <a:lnTo>
                        <a:pt x="159" y="2877"/>
                      </a:lnTo>
                      <a:lnTo>
                        <a:pt x="0" y="2442"/>
                      </a:lnTo>
                      <a:lnTo>
                        <a:pt x="112" y="2209"/>
                      </a:lnTo>
                      <a:lnTo>
                        <a:pt x="1074" y="886"/>
                      </a:lnTo>
                      <a:lnTo>
                        <a:pt x="961" y="700"/>
                      </a:lnTo>
                      <a:lnTo>
                        <a:pt x="1026" y="545"/>
                      </a:lnTo>
                      <a:lnTo>
                        <a:pt x="1283" y="312"/>
                      </a:lnTo>
                      <a:lnTo>
                        <a:pt x="1235" y="186"/>
                      </a:lnTo>
                      <a:lnTo>
                        <a:pt x="1138" y="109"/>
                      </a:lnTo>
                      <a:lnTo>
                        <a:pt x="1203" y="31"/>
                      </a:lnTo>
                      <a:lnTo>
                        <a:pt x="1283"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 name=""/>
                <p:cNvSpPr/>
                <p:nvPr/>
              </p:nvSpPr>
              <p:spPr>
                <a:xfrm>
                  <a:off x="6778800" y="2766960"/>
                  <a:ext cx="661680" cy="2840040"/>
                </a:xfrm>
                <a:custGeom>
                  <a:avLst/>
                  <a:gdLst/>
                  <a:ahLst/>
                  <a:rect l="l" t="t" r="r" b="b"/>
                  <a:pathLst>
                    <a:path w="417" h="1789">
                      <a:moveTo>
                        <a:pt x="95" y="1244"/>
                      </a:moveTo>
                      <a:lnTo>
                        <a:pt x="95" y="1540"/>
                      </a:lnTo>
                      <a:lnTo>
                        <a:pt x="64" y="1710"/>
                      </a:lnTo>
                      <a:lnTo>
                        <a:pt x="32" y="1788"/>
                      </a:lnTo>
                      <a:lnTo>
                        <a:pt x="207" y="1773"/>
                      </a:lnTo>
                      <a:lnTo>
                        <a:pt x="367" y="1695"/>
                      </a:lnTo>
                      <a:lnTo>
                        <a:pt x="287" y="1664"/>
                      </a:lnTo>
                      <a:lnTo>
                        <a:pt x="416" y="1586"/>
                      </a:lnTo>
                      <a:lnTo>
                        <a:pt x="287" y="1586"/>
                      </a:lnTo>
                      <a:lnTo>
                        <a:pt x="400" y="1477"/>
                      </a:lnTo>
                      <a:lnTo>
                        <a:pt x="272" y="1477"/>
                      </a:lnTo>
                      <a:lnTo>
                        <a:pt x="367" y="1369"/>
                      </a:lnTo>
                      <a:lnTo>
                        <a:pt x="256" y="1353"/>
                      </a:lnTo>
                      <a:lnTo>
                        <a:pt x="319" y="1260"/>
                      </a:lnTo>
                      <a:lnTo>
                        <a:pt x="223" y="1229"/>
                      </a:lnTo>
                      <a:lnTo>
                        <a:pt x="256" y="1119"/>
                      </a:lnTo>
                      <a:lnTo>
                        <a:pt x="192" y="1089"/>
                      </a:lnTo>
                      <a:lnTo>
                        <a:pt x="175" y="964"/>
                      </a:lnTo>
                      <a:lnTo>
                        <a:pt x="0" y="0"/>
                      </a:lnTo>
                      <a:lnTo>
                        <a:pt x="48" y="1073"/>
                      </a:lnTo>
                      <a:lnTo>
                        <a:pt x="95" y="124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0" name=""/>
                <p:cNvSpPr/>
                <p:nvPr/>
              </p:nvSpPr>
              <p:spPr>
                <a:xfrm>
                  <a:off x="4818240" y="2371680"/>
                  <a:ext cx="1679400" cy="3432240"/>
                </a:xfrm>
                <a:custGeom>
                  <a:avLst/>
                  <a:gdLst/>
                  <a:ahLst/>
                  <a:rect l="l" t="t" r="r" b="b"/>
                  <a:pathLst>
                    <a:path w="1058" h="2162">
                      <a:moveTo>
                        <a:pt x="898" y="0"/>
                      </a:moveTo>
                      <a:lnTo>
                        <a:pt x="193" y="949"/>
                      </a:lnTo>
                      <a:lnTo>
                        <a:pt x="96" y="1182"/>
                      </a:lnTo>
                      <a:lnTo>
                        <a:pt x="0" y="1322"/>
                      </a:lnTo>
                      <a:lnTo>
                        <a:pt x="0" y="1680"/>
                      </a:lnTo>
                      <a:lnTo>
                        <a:pt x="143" y="1882"/>
                      </a:lnTo>
                      <a:lnTo>
                        <a:pt x="369" y="2037"/>
                      </a:lnTo>
                      <a:lnTo>
                        <a:pt x="513" y="2146"/>
                      </a:lnTo>
                      <a:lnTo>
                        <a:pt x="737" y="2161"/>
                      </a:lnTo>
                      <a:lnTo>
                        <a:pt x="594" y="2084"/>
                      </a:lnTo>
                      <a:lnTo>
                        <a:pt x="802" y="2069"/>
                      </a:lnTo>
                      <a:lnTo>
                        <a:pt x="625" y="2022"/>
                      </a:lnTo>
                      <a:lnTo>
                        <a:pt x="931" y="1990"/>
                      </a:lnTo>
                      <a:lnTo>
                        <a:pt x="641" y="1944"/>
                      </a:lnTo>
                      <a:lnTo>
                        <a:pt x="898" y="1866"/>
                      </a:lnTo>
                      <a:lnTo>
                        <a:pt x="753" y="1789"/>
                      </a:lnTo>
                      <a:lnTo>
                        <a:pt x="931" y="1742"/>
                      </a:lnTo>
                      <a:lnTo>
                        <a:pt x="737" y="1680"/>
                      </a:lnTo>
                      <a:lnTo>
                        <a:pt x="915" y="1540"/>
                      </a:lnTo>
                      <a:lnTo>
                        <a:pt x="753" y="1509"/>
                      </a:lnTo>
                      <a:lnTo>
                        <a:pt x="866" y="1431"/>
                      </a:lnTo>
                      <a:lnTo>
                        <a:pt x="753" y="1399"/>
                      </a:lnTo>
                      <a:lnTo>
                        <a:pt x="818" y="1244"/>
                      </a:lnTo>
                      <a:lnTo>
                        <a:pt x="1057" y="140"/>
                      </a:lnTo>
                      <a:lnTo>
                        <a:pt x="705" y="1213"/>
                      </a:lnTo>
                      <a:lnTo>
                        <a:pt x="657" y="1151"/>
                      </a:lnTo>
                      <a:lnTo>
                        <a:pt x="995" y="15"/>
                      </a:lnTo>
                      <a:lnTo>
                        <a:pt x="497" y="1306"/>
                      </a:lnTo>
                      <a:lnTo>
                        <a:pt x="193" y="1384"/>
                      </a:lnTo>
                      <a:lnTo>
                        <a:pt x="384" y="1275"/>
                      </a:lnTo>
                      <a:lnTo>
                        <a:pt x="193" y="1275"/>
                      </a:lnTo>
                      <a:lnTo>
                        <a:pt x="369" y="1182"/>
                      </a:lnTo>
                      <a:lnTo>
                        <a:pt x="288" y="1135"/>
                      </a:lnTo>
                      <a:lnTo>
                        <a:pt x="384" y="1074"/>
                      </a:lnTo>
                      <a:lnTo>
                        <a:pt x="304" y="1011"/>
                      </a:lnTo>
                      <a:lnTo>
                        <a:pt x="369" y="871"/>
                      </a:lnTo>
                      <a:lnTo>
                        <a:pt x="945" y="0"/>
                      </a:lnTo>
                      <a:lnTo>
                        <a:pt x="89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1" name=""/>
                <p:cNvSpPr/>
                <p:nvPr/>
              </p:nvSpPr>
              <p:spPr>
                <a:xfrm>
                  <a:off x="7310520" y="890640"/>
                  <a:ext cx="663480" cy="792000"/>
                </a:xfrm>
                <a:custGeom>
                  <a:avLst/>
                  <a:gdLst/>
                  <a:ahLst/>
                  <a:rect l="l" t="t" r="r" b="b"/>
                  <a:pathLst>
                    <a:path w="418" h="499">
                      <a:moveTo>
                        <a:pt x="274" y="62"/>
                      </a:moveTo>
                      <a:lnTo>
                        <a:pt x="353" y="0"/>
                      </a:lnTo>
                      <a:lnTo>
                        <a:pt x="288" y="108"/>
                      </a:lnTo>
                      <a:lnTo>
                        <a:pt x="402" y="78"/>
                      </a:lnTo>
                      <a:lnTo>
                        <a:pt x="321" y="155"/>
                      </a:lnTo>
                      <a:lnTo>
                        <a:pt x="402" y="140"/>
                      </a:lnTo>
                      <a:lnTo>
                        <a:pt x="353" y="217"/>
                      </a:lnTo>
                      <a:lnTo>
                        <a:pt x="417" y="202"/>
                      </a:lnTo>
                      <a:lnTo>
                        <a:pt x="193" y="388"/>
                      </a:lnTo>
                      <a:lnTo>
                        <a:pt x="17" y="498"/>
                      </a:lnTo>
                      <a:lnTo>
                        <a:pt x="0" y="358"/>
                      </a:lnTo>
                      <a:lnTo>
                        <a:pt x="145" y="140"/>
                      </a:lnTo>
                      <a:lnTo>
                        <a:pt x="274" y="62"/>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2" name=""/>
                <p:cNvSpPr/>
                <p:nvPr/>
              </p:nvSpPr>
              <p:spPr>
                <a:xfrm>
                  <a:off x="6548400" y="841320"/>
                  <a:ext cx="331920" cy="495360"/>
                </a:xfrm>
                <a:custGeom>
                  <a:avLst/>
                  <a:gdLst/>
                  <a:ahLst/>
                  <a:rect l="l" t="t" r="r" b="b"/>
                  <a:pathLst>
                    <a:path w="209" h="312">
                      <a:moveTo>
                        <a:pt x="0" y="0"/>
                      </a:moveTo>
                      <a:lnTo>
                        <a:pt x="0" y="77"/>
                      </a:lnTo>
                      <a:lnTo>
                        <a:pt x="144" y="171"/>
                      </a:lnTo>
                      <a:lnTo>
                        <a:pt x="129" y="311"/>
                      </a:lnTo>
                      <a:lnTo>
                        <a:pt x="208" y="171"/>
                      </a:lnTo>
                      <a:lnTo>
                        <a:pt x="176" y="93"/>
                      </a:lnTo>
                      <a:lnTo>
                        <a:pt x="95" y="46"/>
                      </a:lnTo>
                      <a:lnTo>
                        <a:pt x="129"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3" name=""/>
                <p:cNvSpPr/>
                <p:nvPr/>
              </p:nvSpPr>
              <p:spPr>
                <a:xfrm>
                  <a:off x="6242040" y="1655640"/>
                  <a:ext cx="308160" cy="420840"/>
                </a:xfrm>
                <a:custGeom>
                  <a:avLst/>
                  <a:gdLst/>
                  <a:ahLst/>
                  <a:rect l="l" t="t" r="r" b="b"/>
                  <a:pathLst>
                    <a:path w="194" h="265">
                      <a:moveTo>
                        <a:pt x="48" y="0"/>
                      </a:moveTo>
                      <a:lnTo>
                        <a:pt x="193" y="249"/>
                      </a:lnTo>
                      <a:lnTo>
                        <a:pt x="113" y="264"/>
                      </a:lnTo>
                      <a:lnTo>
                        <a:pt x="0" y="140"/>
                      </a:lnTo>
                      <a:lnTo>
                        <a:pt x="4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4" name=""/>
                <p:cNvSpPr/>
                <p:nvPr/>
              </p:nvSpPr>
              <p:spPr>
                <a:xfrm>
                  <a:off x="4716360" y="2262240"/>
                  <a:ext cx="3662640" cy="3708360"/>
                </a:xfrm>
                <a:custGeom>
                  <a:avLst/>
                  <a:gdLst/>
                  <a:ahLst/>
                  <a:rect l="l" t="t" r="r" b="b"/>
                  <a:pathLst>
                    <a:path w="2307" h="2336">
                      <a:moveTo>
                        <a:pt x="1426" y="0"/>
                      </a:moveTo>
                      <a:lnTo>
                        <a:pt x="2220" y="1155"/>
                      </a:lnTo>
                      <a:lnTo>
                        <a:pt x="2281" y="1288"/>
                      </a:lnTo>
                      <a:lnTo>
                        <a:pt x="2306" y="1397"/>
                      </a:lnTo>
                      <a:lnTo>
                        <a:pt x="2306" y="1505"/>
                      </a:lnTo>
                      <a:lnTo>
                        <a:pt x="2294" y="1613"/>
                      </a:lnTo>
                      <a:lnTo>
                        <a:pt x="2257" y="1721"/>
                      </a:lnTo>
                      <a:lnTo>
                        <a:pt x="2220" y="1818"/>
                      </a:lnTo>
                      <a:lnTo>
                        <a:pt x="2157" y="1914"/>
                      </a:lnTo>
                      <a:lnTo>
                        <a:pt x="2095" y="1973"/>
                      </a:lnTo>
                      <a:lnTo>
                        <a:pt x="2058" y="2034"/>
                      </a:lnTo>
                      <a:lnTo>
                        <a:pt x="1983" y="2118"/>
                      </a:lnTo>
                      <a:lnTo>
                        <a:pt x="1847" y="2202"/>
                      </a:lnTo>
                      <a:lnTo>
                        <a:pt x="1735" y="2263"/>
                      </a:lnTo>
                      <a:lnTo>
                        <a:pt x="1561" y="2323"/>
                      </a:lnTo>
                      <a:lnTo>
                        <a:pt x="1389" y="2335"/>
                      </a:lnTo>
                      <a:lnTo>
                        <a:pt x="1289" y="2323"/>
                      </a:lnTo>
                      <a:lnTo>
                        <a:pt x="1215" y="2299"/>
                      </a:lnTo>
                      <a:lnTo>
                        <a:pt x="1078" y="2335"/>
                      </a:lnTo>
                      <a:lnTo>
                        <a:pt x="905" y="2335"/>
                      </a:lnTo>
                      <a:lnTo>
                        <a:pt x="731" y="2312"/>
                      </a:lnTo>
                      <a:lnTo>
                        <a:pt x="583" y="2263"/>
                      </a:lnTo>
                      <a:lnTo>
                        <a:pt x="471" y="2190"/>
                      </a:lnTo>
                      <a:lnTo>
                        <a:pt x="397" y="2118"/>
                      </a:lnTo>
                      <a:lnTo>
                        <a:pt x="259" y="2058"/>
                      </a:lnTo>
                      <a:lnTo>
                        <a:pt x="149" y="1998"/>
                      </a:lnTo>
                      <a:lnTo>
                        <a:pt x="86" y="1902"/>
                      </a:lnTo>
                      <a:lnTo>
                        <a:pt x="25" y="1769"/>
                      </a:lnTo>
                      <a:lnTo>
                        <a:pt x="0" y="1661"/>
                      </a:lnTo>
                      <a:lnTo>
                        <a:pt x="0" y="1480"/>
                      </a:lnTo>
                      <a:lnTo>
                        <a:pt x="25" y="1360"/>
                      </a:lnTo>
                      <a:lnTo>
                        <a:pt x="74" y="1263"/>
                      </a:lnTo>
                      <a:lnTo>
                        <a:pt x="186" y="1107"/>
                      </a:lnTo>
                      <a:lnTo>
                        <a:pt x="285" y="963"/>
                      </a:lnTo>
                      <a:lnTo>
                        <a:pt x="943" y="47"/>
                      </a:lnTo>
                      <a:lnTo>
                        <a:pt x="1054" y="12"/>
                      </a:lnTo>
                      <a:lnTo>
                        <a:pt x="769" y="397"/>
                      </a:lnTo>
                      <a:lnTo>
                        <a:pt x="458" y="794"/>
                      </a:lnTo>
                      <a:lnTo>
                        <a:pt x="285" y="1023"/>
                      </a:lnTo>
                      <a:lnTo>
                        <a:pt x="198" y="1179"/>
                      </a:lnTo>
                      <a:lnTo>
                        <a:pt x="112" y="1324"/>
                      </a:lnTo>
                      <a:lnTo>
                        <a:pt x="98" y="1397"/>
                      </a:lnTo>
                      <a:lnTo>
                        <a:pt x="98" y="1444"/>
                      </a:lnTo>
                      <a:lnTo>
                        <a:pt x="86" y="1589"/>
                      </a:lnTo>
                      <a:lnTo>
                        <a:pt x="112" y="1710"/>
                      </a:lnTo>
                      <a:lnTo>
                        <a:pt x="135" y="1793"/>
                      </a:lnTo>
                      <a:lnTo>
                        <a:pt x="186" y="1902"/>
                      </a:lnTo>
                      <a:lnTo>
                        <a:pt x="248" y="1986"/>
                      </a:lnTo>
                      <a:lnTo>
                        <a:pt x="333" y="2034"/>
                      </a:lnTo>
                      <a:lnTo>
                        <a:pt x="397" y="2058"/>
                      </a:lnTo>
                      <a:lnTo>
                        <a:pt x="458" y="2082"/>
                      </a:lnTo>
                      <a:lnTo>
                        <a:pt x="583" y="2190"/>
                      </a:lnTo>
                      <a:lnTo>
                        <a:pt x="705" y="2218"/>
                      </a:lnTo>
                      <a:lnTo>
                        <a:pt x="879" y="2218"/>
                      </a:lnTo>
                      <a:lnTo>
                        <a:pt x="1041" y="2207"/>
                      </a:lnTo>
                      <a:lnTo>
                        <a:pt x="1203" y="2251"/>
                      </a:lnTo>
                      <a:lnTo>
                        <a:pt x="1375" y="2286"/>
                      </a:lnTo>
                      <a:lnTo>
                        <a:pt x="1524" y="2275"/>
                      </a:lnTo>
                      <a:lnTo>
                        <a:pt x="1821" y="2145"/>
                      </a:lnTo>
                      <a:lnTo>
                        <a:pt x="1930" y="1997"/>
                      </a:lnTo>
                      <a:lnTo>
                        <a:pt x="1973" y="1829"/>
                      </a:lnTo>
                      <a:lnTo>
                        <a:pt x="2046" y="1781"/>
                      </a:lnTo>
                      <a:lnTo>
                        <a:pt x="1945" y="1781"/>
                      </a:lnTo>
                      <a:lnTo>
                        <a:pt x="2021" y="1733"/>
                      </a:lnTo>
                      <a:lnTo>
                        <a:pt x="1921" y="1745"/>
                      </a:lnTo>
                      <a:lnTo>
                        <a:pt x="1971" y="1684"/>
                      </a:lnTo>
                      <a:lnTo>
                        <a:pt x="1921" y="1673"/>
                      </a:lnTo>
                      <a:lnTo>
                        <a:pt x="1958" y="1613"/>
                      </a:lnTo>
                      <a:lnTo>
                        <a:pt x="1909" y="1601"/>
                      </a:lnTo>
                      <a:lnTo>
                        <a:pt x="1934" y="1529"/>
                      </a:lnTo>
                      <a:lnTo>
                        <a:pt x="1827" y="1018"/>
                      </a:lnTo>
                      <a:lnTo>
                        <a:pt x="2046" y="1625"/>
                      </a:lnTo>
                      <a:lnTo>
                        <a:pt x="2120" y="1637"/>
                      </a:lnTo>
                      <a:lnTo>
                        <a:pt x="2132" y="1565"/>
                      </a:lnTo>
                      <a:lnTo>
                        <a:pt x="2194" y="1552"/>
                      </a:lnTo>
                      <a:lnTo>
                        <a:pt x="2145" y="1505"/>
                      </a:lnTo>
                      <a:lnTo>
                        <a:pt x="2183" y="1480"/>
                      </a:lnTo>
                      <a:lnTo>
                        <a:pt x="2120" y="1444"/>
                      </a:lnTo>
                      <a:lnTo>
                        <a:pt x="2169" y="1397"/>
                      </a:lnTo>
                      <a:lnTo>
                        <a:pt x="2108" y="1371"/>
                      </a:lnTo>
                      <a:lnTo>
                        <a:pt x="2132" y="1312"/>
                      </a:lnTo>
                      <a:lnTo>
                        <a:pt x="2083" y="1300"/>
                      </a:lnTo>
                      <a:lnTo>
                        <a:pt x="2120" y="1240"/>
                      </a:lnTo>
                      <a:lnTo>
                        <a:pt x="2046" y="1216"/>
                      </a:lnTo>
                      <a:lnTo>
                        <a:pt x="2058" y="1143"/>
                      </a:lnTo>
                      <a:lnTo>
                        <a:pt x="2009" y="1107"/>
                      </a:lnTo>
                      <a:lnTo>
                        <a:pt x="2009" y="1047"/>
                      </a:lnTo>
                      <a:lnTo>
                        <a:pt x="1945" y="975"/>
                      </a:lnTo>
                      <a:lnTo>
                        <a:pt x="1713" y="619"/>
                      </a:lnTo>
                      <a:lnTo>
                        <a:pt x="1648" y="567"/>
                      </a:lnTo>
                      <a:lnTo>
                        <a:pt x="1661" y="518"/>
                      </a:lnTo>
                      <a:lnTo>
                        <a:pt x="1604" y="514"/>
                      </a:lnTo>
                      <a:lnTo>
                        <a:pt x="1612" y="469"/>
                      </a:lnTo>
                      <a:lnTo>
                        <a:pt x="1575" y="457"/>
                      </a:lnTo>
                      <a:lnTo>
                        <a:pt x="1575" y="409"/>
                      </a:lnTo>
                      <a:lnTo>
                        <a:pt x="1529" y="367"/>
                      </a:lnTo>
                      <a:lnTo>
                        <a:pt x="1438" y="229"/>
                      </a:lnTo>
                      <a:lnTo>
                        <a:pt x="1747" y="1189"/>
                      </a:lnTo>
                      <a:lnTo>
                        <a:pt x="1698" y="1288"/>
                      </a:lnTo>
                      <a:lnTo>
                        <a:pt x="1702" y="1166"/>
                      </a:lnTo>
                      <a:lnTo>
                        <a:pt x="1670" y="1177"/>
                      </a:lnTo>
                      <a:lnTo>
                        <a:pt x="1674" y="1120"/>
                      </a:lnTo>
                      <a:lnTo>
                        <a:pt x="1624" y="1107"/>
                      </a:lnTo>
                      <a:lnTo>
                        <a:pt x="1649" y="1023"/>
                      </a:lnTo>
                      <a:lnTo>
                        <a:pt x="1586" y="1023"/>
                      </a:lnTo>
                      <a:lnTo>
                        <a:pt x="1612" y="963"/>
                      </a:lnTo>
                      <a:lnTo>
                        <a:pt x="1549" y="950"/>
                      </a:lnTo>
                      <a:lnTo>
                        <a:pt x="1586" y="890"/>
                      </a:lnTo>
                      <a:lnTo>
                        <a:pt x="1524" y="878"/>
                      </a:lnTo>
                      <a:lnTo>
                        <a:pt x="1561" y="818"/>
                      </a:lnTo>
                      <a:lnTo>
                        <a:pt x="1512" y="807"/>
                      </a:lnTo>
                      <a:lnTo>
                        <a:pt x="1537" y="734"/>
                      </a:lnTo>
                      <a:lnTo>
                        <a:pt x="1488" y="722"/>
                      </a:lnTo>
                      <a:lnTo>
                        <a:pt x="1500" y="662"/>
                      </a:lnTo>
                      <a:lnTo>
                        <a:pt x="1438" y="637"/>
                      </a:lnTo>
                      <a:lnTo>
                        <a:pt x="1451" y="577"/>
                      </a:lnTo>
                      <a:lnTo>
                        <a:pt x="1399" y="545"/>
                      </a:lnTo>
                      <a:lnTo>
                        <a:pt x="1426" y="481"/>
                      </a:lnTo>
                      <a:lnTo>
                        <a:pt x="1377" y="451"/>
                      </a:lnTo>
                      <a:lnTo>
                        <a:pt x="1401" y="373"/>
                      </a:lnTo>
                      <a:lnTo>
                        <a:pt x="1351" y="373"/>
                      </a:lnTo>
                      <a:lnTo>
                        <a:pt x="1338" y="301"/>
                      </a:lnTo>
                      <a:lnTo>
                        <a:pt x="1344" y="272"/>
                      </a:lnTo>
                      <a:lnTo>
                        <a:pt x="1280" y="272"/>
                      </a:lnTo>
                      <a:lnTo>
                        <a:pt x="1322" y="1303"/>
                      </a:lnTo>
                      <a:lnTo>
                        <a:pt x="1252" y="1240"/>
                      </a:lnTo>
                      <a:lnTo>
                        <a:pt x="1289" y="1120"/>
                      </a:lnTo>
                      <a:lnTo>
                        <a:pt x="1228" y="1131"/>
                      </a:lnTo>
                      <a:lnTo>
                        <a:pt x="1289" y="1011"/>
                      </a:lnTo>
                      <a:lnTo>
                        <a:pt x="1228" y="1011"/>
                      </a:lnTo>
                      <a:lnTo>
                        <a:pt x="1259" y="935"/>
                      </a:lnTo>
                      <a:lnTo>
                        <a:pt x="1178" y="939"/>
                      </a:lnTo>
                      <a:lnTo>
                        <a:pt x="1259" y="841"/>
                      </a:lnTo>
                      <a:lnTo>
                        <a:pt x="1150" y="851"/>
                      </a:lnTo>
                      <a:lnTo>
                        <a:pt x="1259" y="735"/>
                      </a:lnTo>
                      <a:lnTo>
                        <a:pt x="1128" y="771"/>
                      </a:lnTo>
                      <a:lnTo>
                        <a:pt x="1236" y="661"/>
                      </a:lnTo>
                      <a:lnTo>
                        <a:pt x="1115" y="674"/>
                      </a:lnTo>
                      <a:lnTo>
                        <a:pt x="1213" y="577"/>
                      </a:lnTo>
                      <a:lnTo>
                        <a:pt x="1152" y="577"/>
                      </a:lnTo>
                      <a:lnTo>
                        <a:pt x="1192" y="514"/>
                      </a:lnTo>
                      <a:lnTo>
                        <a:pt x="1128" y="503"/>
                      </a:lnTo>
                      <a:lnTo>
                        <a:pt x="1182" y="440"/>
                      </a:lnTo>
                      <a:lnTo>
                        <a:pt x="1128" y="419"/>
                      </a:lnTo>
                      <a:lnTo>
                        <a:pt x="1192" y="357"/>
                      </a:lnTo>
                      <a:lnTo>
                        <a:pt x="1128" y="335"/>
                      </a:lnTo>
                      <a:lnTo>
                        <a:pt x="1192" y="282"/>
                      </a:lnTo>
                      <a:lnTo>
                        <a:pt x="1139" y="272"/>
                      </a:lnTo>
                      <a:lnTo>
                        <a:pt x="1192" y="219"/>
                      </a:lnTo>
                      <a:lnTo>
                        <a:pt x="1150" y="188"/>
                      </a:lnTo>
                      <a:lnTo>
                        <a:pt x="1128" y="143"/>
                      </a:lnTo>
                      <a:lnTo>
                        <a:pt x="905" y="915"/>
                      </a:lnTo>
                      <a:lnTo>
                        <a:pt x="1103" y="12"/>
                      </a:lnTo>
                      <a:lnTo>
                        <a:pt x="1152" y="12"/>
                      </a:lnTo>
                      <a:lnTo>
                        <a:pt x="1166" y="96"/>
                      </a:lnTo>
                      <a:lnTo>
                        <a:pt x="1178" y="143"/>
                      </a:lnTo>
                      <a:lnTo>
                        <a:pt x="1191" y="169"/>
                      </a:lnTo>
                      <a:lnTo>
                        <a:pt x="1215" y="108"/>
                      </a:lnTo>
                      <a:lnTo>
                        <a:pt x="1215" y="12"/>
                      </a:lnTo>
                      <a:lnTo>
                        <a:pt x="1338" y="229"/>
                      </a:lnTo>
                      <a:lnTo>
                        <a:pt x="1301" y="0"/>
                      </a:lnTo>
                      <a:lnTo>
                        <a:pt x="14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5" name=""/>
                <p:cNvSpPr/>
                <p:nvPr/>
              </p:nvSpPr>
              <p:spPr>
                <a:xfrm>
                  <a:off x="6508800" y="770040"/>
                  <a:ext cx="2087640" cy="1265040"/>
                </a:xfrm>
                <a:custGeom>
                  <a:avLst/>
                  <a:gdLst/>
                  <a:ahLst/>
                  <a:rect l="l" t="t" r="r" b="b"/>
                  <a:pathLst>
                    <a:path w="1315" h="797">
                      <a:moveTo>
                        <a:pt x="86" y="639"/>
                      </a:moveTo>
                      <a:lnTo>
                        <a:pt x="161" y="602"/>
                      </a:lnTo>
                      <a:lnTo>
                        <a:pt x="247" y="578"/>
                      </a:lnTo>
                      <a:lnTo>
                        <a:pt x="323" y="578"/>
                      </a:lnTo>
                      <a:lnTo>
                        <a:pt x="396" y="555"/>
                      </a:lnTo>
                      <a:lnTo>
                        <a:pt x="446" y="494"/>
                      </a:lnTo>
                      <a:lnTo>
                        <a:pt x="508" y="410"/>
                      </a:lnTo>
                      <a:lnTo>
                        <a:pt x="583" y="302"/>
                      </a:lnTo>
                      <a:lnTo>
                        <a:pt x="669" y="193"/>
                      </a:lnTo>
                      <a:lnTo>
                        <a:pt x="755" y="109"/>
                      </a:lnTo>
                      <a:lnTo>
                        <a:pt x="867" y="49"/>
                      </a:lnTo>
                      <a:lnTo>
                        <a:pt x="941" y="13"/>
                      </a:lnTo>
                      <a:lnTo>
                        <a:pt x="1066" y="13"/>
                      </a:lnTo>
                      <a:lnTo>
                        <a:pt x="1140" y="36"/>
                      </a:lnTo>
                      <a:lnTo>
                        <a:pt x="1240" y="36"/>
                      </a:lnTo>
                      <a:lnTo>
                        <a:pt x="1314" y="0"/>
                      </a:lnTo>
                      <a:lnTo>
                        <a:pt x="1214" y="73"/>
                      </a:lnTo>
                      <a:lnTo>
                        <a:pt x="1301" y="60"/>
                      </a:lnTo>
                      <a:lnTo>
                        <a:pt x="1240" y="109"/>
                      </a:lnTo>
                      <a:lnTo>
                        <a:pt x="1301" y="109"/>
                      </a:lnTo>
                      <a:lnTo>
                        <a:pt x="1226" y="158"/>
                      </a:lnTo>
                      <a:lnTo>
                        <a:pt x="1301" y="181"/>
                      </a:lnTo>
                      <a:lnTo>
                        <a:pt x="1226" y="217"/>
                      </a:lnTo>
                      <a:lnTo>
                        <a:pt x="1314" y="230"/>
                      </a:lnTo>
                      <a:lnTo>
                        <a:pt x="1240" y="254"/>
                      </a:lnTo>
                      <a:lnTo>
                        <a:pt x="1277" y="277"/>
                      </a:lnTo>
                      <a:lnTo>
                        <a:pt x="1214" y="302"/>
                      </a:lnTo>
                      <a:lnTo>
                        <a:pt x="1277" y="314"/>
                      </a:lnTo>
                      <a:lnTo>
                        <a:pt x="1177" y="314"/>
                      </a:lnTo>
                      <a:lnTo>
                        <a:pt x="1066" y="289"/>
                      </a:lnTo>
                      <a:lnTo>
                        <a:pt x="991" y="302"/>
                      </a:lnTo>
                      <a:lnTo>
                        <a:pt x="1078" y="230"/>
                      </a:lnTo>
                      <a:lnTo>
                        <a:pt x="991" y="230"/>
                      </a:lnTo>
                      <a:lnTo>
                        <a:pt x="1091" y="193"/>
                      </a:lnTo>
                      <a:lnTo>
                        <a:pt x="1003" y="193"/>
                      </a:lnTo>
                      <a:lnTo>
                        <a:pt x="1091" y="170"/>
                      </a:lnTo>
                      <a:lnTo>
                        <a:pt x="980" y="146"/>
                      </a:lnTo>
                      <a:lnTo>
                        <a:pt x="1078" y="121"/>
                      </a:lnTo>
                      <a:lnTo>
                        <a:pt x="991" y="97"/>
                      </a:lnTo>
                      <a:lnTo>
                        <a:pt x="1066" y="73"/>
                      </a:lnTo>
                      <a:lnTo>
                        <a:pt x="980" y="60"/>
                      </a:lnTo>
                      <a:lnTo>
                        <a:pt x="904" y="73"/>
                      </a:lnTo>
                      <a:lnTo>
                        <a:pt x="792" y="121"/>
                      </a:lnTo>
                      <a:lnTo>
                        <a:pt x="706" y="205"/>
                      </a:lnTo>
                      <a:lnTo>
                        <a:pt x="470" y="506"/>
                      </a:lnTo>
                      <a:lnTo>
                        <a:pt x="755" y="217"/>
                      </a:lnTo>
                      <a:lnTo>
                        <a:pt x="508" y="519"/>
                      </a:lnTo>
                      <a:lnTo>
                        <a:pt x="843" y="241"/>
                      </a:lnTo>
                      <a:lnTo>
                        <a:pt x="532" y="543"/>
                      </a:lnTo>
                      <a:lnTo>
                        <a:pt x="892" y="314"/>
                      </a:lnTo>
                      <a:lnTo>
                        <a:pt x="954" y="289"/>
                      </a:lnTo>
                      <a:lnTo>
                        <a:pt x="830" y="362"/>
                      </a:lnTo>
                      <a:lnTo>
                        <a:pt x="483" y="639"/>
                      </a:lnTo>
                      <a:lnTo>
                        <a:pt x="421" y="675"/>
                      </a:lnTo>
                      <a:lnTo>
                        <a:pt x="323" y="699"/>
                      </a:lnTo>
                      <a:lnTo>
                        <a:pt x="384" y="651"/>
                      </a:lnTo>
                      <a:lnTo>
                        <a:pt x="285" y="663"/>
                      </a:lnTo>
                      <a:lnTo>
                        <a:pt x="360" y="626"/>
                      </a:lnTo>
                      <a:lnTo>
                        <a:pt x="272" y="615"/>
                      </a:lnTo>
                      <a:lnTo>
                        <a:pt x="223" y="602"/>
                      </a:lnTo>
                      <a:lnTo>
                        <a:pt x="111" y="651"/>
                      </a:lnTo>
                      <a:lnTo>
                        <a:pt x="62" y="687"/>
                      </a:lnTo>
                      <a:lnTo>
                        <a:pt x="186" y="651"/>
                      </a:lnTo>
                      <a:lnTo>
                        <a:pt x="74" y="760"/>
                      </a:lnTo>
                      <a:lnTo>
                        <a:pt x="235" y="663"/>
                      </a:lnTo>
                      <a:lnTo>
                        <a:pt x="135" y="760"/>
                      </a:lnTo>
                      <a:lnTo>
                        <a:pt x="247" y="711"/>
                      </a:lnTo>
                      <a:lnTo>
                        <a:pt x="173" y="783"/>
                      </a:lnTo>
                      <a:lnTo>
                        <a:pt x="0" y="796"/>
                      </a:lnTo>
                      <a:lnTo>
                        <a:pt x="86" y="6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 name=""/>
                <p:cNvSpPr/>
                <p:nvPr/>
              </p:nvSpPr>
              <p:spPr>
                <a:xfrm>
                  <a:off x="5473800" y="2281320"/>
                  <a:ext cx="896760" cy="1866960"/>
                </a:xfrm>
                <a:custGeom>
                  <a:avLst/>
                  <a:gdLst/>
                  <a:ahLst/>
                  <a:rect l="l" t="t" r="r" b="b"/>
                  <a:pathLst>
                    <a:path w="565" h="1176">
                      <a:moveTo>
                        <a:pt x="553" y="120"/>
                      </a:moveTo>
                      <a:lnTo>
                        <a:pt x="163" y="1175"/>
                      </a:lnTo>
                      <a:lnTo>
                        <a:pt x="119" y="1123"/>
                      </a:lnTo>
                      <a:lnTo>
                        <a:pt x="11" y="1112"/>
                      </a:lnTo>
                      <a:lnTo>
                        <a:pt x="119" y="1049"/>
                      </a:lnTo>
                      <a:lnTo>
                        <a:pt x="0" y="1028"/>
                      </a:lnTo>
                      <a:lnTo>
                        <a:pt x="143" y="975"/>
                      </a:lnTo>
                      <a:lnTo>
                        <a:pt x="0" y="954"/>
                      </a:lnTo>
                      <a:lnTo>
                        <a:pt x="167" y="915"/>
                      </a:lnTo>
                      <a:lnTo>
                        <a:pt x="33" y="870"/>
                      </a:lnTo>
                      <a:lnTo>
                        <a:pt x="180" y="842"/>
                      </a:lnTo>
                      <a:lnTo>
                        <a:pt x="88" y="785"/>
                      </a:lnTo>
                      <a:lnTo>
                        <a:pt x="192" y="759"/>
                      </a:lnTo>
                      <a:lnTo>
                        <a:pt x="130" y="712"/>
                      </a:lnTo>
                      <a:lnTo>
                        <a:pt x="218" y="681"/>
                      </a:lnTo>
                      <a:lnTo>
                        <a:pt x="218" y="625"/>
                      </a:lnTo>
                      <a:lnTo>
                        <a:pt x="564" y="0"/>
                      </a:lnTo>
                      <a:lnTo>
                        <a:pt x="553" y="1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77" name=""/>
              <p:cNvSpPr/>
              <p:nvPr/>
            </p:nvSpPr>
            <p:spPr>
              <a:xfrm>
                <a:off x="6273720" y="1971720"/>
                <a:ext cx="728640" cy="387360"/>
              </a:xfrm>
              <a:custGeom>
                <a:avLst/>
                <a:gdLst/>
                <a:ahLst/>
                <a:rect l="l" t="t" r="r" b="b"/>
                <a:pathLst>
                  <a:path w="459" h="244">
                    <a:moveTo>
                      <a:pt x="7" y="32"/>
                    </a:moveTo>
                    <a:lnTo>
                      <a:pt x="7" y="51"/>
                    </a:lnTo>
                    <a:lnTo>
                      <a:pt x="32" y="56"/>
                    </a:lnTo>
                    <a:lnTo>
                      <a:pt x="96" y="147"/>
                    </a:lnTo>
                    <a:lnTo>
                      <a:pt x="0" y="228"/>
                    </a:lnTo>
                    <a:lnTo>
                      <a:pt x="76" y="209"/>
                    </a:lnTo>
                    <a:lnTo>
                      <a:pt x="134" y="113"/>
                    </a:lnTo>
                    <a:lnTo>
                      <a:pt x="127" y="243"/>
                    </a:lnTo>
                    <a:lnTo>
                      <a:pt x="159" y="204"/>
                    </a:lnTo>
                    <a:lnTo>
                      <a:pt x="203" y="89"/>
                    </a:lnTo>
                    <a:lnTo>
                      <a:pt x="242" y="238"/>
                    </a:lnTo>
                    <a:lnTo>
                      <a:pt x="267" y="104"/>
                    </a:lnTo>
                    <a:lnTo>
                      <a:pt x="331" y="216"/>
                    </a:lnTo>
                    <a:lnTo>
                      <a:pt x="458" y="212"/>
                    </a:lnTo>
                    <a:lnTo>
                      <a:pt x="325" y="0"/>
                    </a:lnTo>
                    <a:lnTo>
                      <a:pt x="7" y="32"/>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78" name=""/>
            <p:cNvSpPr/>
            <p:nvPr/>
          </p:nvSpPr>
          <p:spPr>
            <a:xfrm>
              <a:off x="6256440" y="611280"/>
              <a:ext cx="785880" cy="1454040"/>
            </a:xfrm>
            <a:custGeom>
              <a:avLst/>
              <a:gdLst/>
              <a:ahLst/>
              <a:rect l="l" t="t" r="r" b="b"/>
              <a:pathLst>
                <a:path w="495" h="916">
                  <a:moveTo>
                    <a:pt x="84" y="915"/>
                  </a:moveTo>
                  <a:lnTo>
                    <a:pt x="19" y="856"/>
                  </a:lnTo>
                  <a:lnTo>
                    <a:pt x="0" y="783"/>
                  </a:lnTo>
                  <a:lnTo>
                    <a:pt x="9" y="711"/>
                  </a:lnTo>
                  <a:lnTo>
                    <a:pt x="46" y="651"/>
                  </a:lnTo>
                  <a:lnTo>
                    <a:pt x="84" y="590"/>
                  </a:lnTo>
                  <a:lnTo>
                    <a:pt x="149" y="530"/>
                  </a:lnTo>
                  <a:lnTo>
                    <a:pt x="205" y="458"/>
                  </a:lnTo>
                  <a:lnTo>
                    <a:pt x="233" y="410"/>
                  </a:lnTo>
                  <a:lnTo>
                    <a:pt x="233" y="350"/>
                  </a:lnTo>
                  <a:lnTo>
                    <a:pt x="215" y="289"/>
                  </a:lnTo>
                  <a:lnTo>
                    <a:pt x="168" y="254"/>
                  </a:lnTo>
                  <a:lnTo>
                    <a:pt x="130" y="229"/>
                  </a:lnTo>
                  <a:lnTo>
                    <a:pt x="112" y="181"/>
                  </a:lnTo>
                  <a:lnTo>
                    <a:pt x="140" y="132"/>
                  </a:lnTo>
                  <a:lnTo>
                    <a:pt x="187" y="72"/>
                  </a:lnTo>
                  <a:lnTo>
                    <a:pt x="242" y="24"/>
                  </a:lnTo>
                  <a:lnTo>
                    <a:pt x="308" y="0"/>
                  </a:lnTo>
                  <a:lnTo>
                    <a:pt x="290" y="49"/>
                  </a:lnTo>
                  <a:lnTo>
                    <a:pt x="336" y="37"/>
                  </a:lnTo>
                  <a:lnTo>
                    <a:pt x="317" y="72"/>
                  </a:lnTo>
                  <a:lnTo>
                    <a:pt x="364" y="61"/>
                  </a:lnTo>
                  <a:lnTo>
                    <a:pt x="336" y="121"/>
                  </a:lnTo>
                  <a:lnTo>
                    <a:pt x="392" y="96"/>
                  </a:lnTo>
                  <a:lnTo>
                    <a:pt x="355" y="156"/>
                  </a:lnTo>
                  <a:lnTo>
                    <a:pt x="420" y="132"/>
                  </a:lnTo>
                  <a:lnTo>
                    <a:pt x="401" y="181"/>
                  </a:lnTo>
                  <a:lnTo>
                    <a:pt x="438" y="193"/>
                  </a:lnTo>
                  <a:lnTo>
                    <a:pt x="429" y="229"/>
                  </a:lnTo>
                  <a:lnTo>
                    <a:pt x="466" y="242"/>
                  </a:lnTo>
                  <a:lnTo>
                    <a:pt x="494" y="289"/>
                  </a:lnTo>
                  <a:lnTo>
                    <a:pt x="485" y="361"/>
                  </a:lnTo>
                  <a:lnTo>
                    <a:pt x="448" y="434"/>
                  </a:lnTo>
                  <a:lnTo>
                    <a:pt x="383" y="518"/>
                  </a:lnTo>
                  <a:lnTo>
                    <a:pt x="317" y="579"/>
                  </a:lnTo>
                  <a:lnTo>
                    <a:pt x="420" y="434"/>
                  </a:lnTo>
                  <a:lnTo>
                    <a:pt x="448" y="361"/>
                  </a:lnTo>
                  <a:lnTo>
                    <a:pt x="438" y="289"/>
                  </a:lnTo>
                  <a:lnTo>
                    <a:pt x="401" y="254"/>
                  </a:lnTo>
                  <a:lnTo>
                    <a:pt x="168" y="156"/>
                  </a:lnTo>
                  <a:lnTo>
                    <a:pt x="158" y="181"/>
                  </a:lnTo>
                  <a:lnTo>
                    <a:pt x="168" y="217"/>
                  </a:lnTo>
                  <a:lnTo>
                    <a:pt x="233" y="266"/>
                  </a:lnTo>
                  <a:lnTo>
                    <a:pt x="261" y="313"/>
                  </a:lnTo>
                  <a:lnTo>
                    <a:pt x="280" y="398"/>
                  </a:lnTo>
                  <a:lnTo>
                    <a:pt x="270" y="446"/>
                  </a:lnTo>
                  <a:lnTo>
                    <a:pt x="336" y="385"/>
                  </a:lnTo>
                  <a:lnTo>
                    <a:pt x="298" y="482"/>
                  </a:lnTo>
                  <a:lnTo>
                    <a:pt x="392" y="373"/>
                  </a:lnTo>
                  <a:lnTo>
                    <a:pt x="326" y="494"/>
                  </a:lnTo>
                  <a:lnTo>
                    <a:pt x="392" y="434"/>
                  </a:lnTo>
                  <a:lnTo>
                    <a:pt x="261" y="615"/>
                  </a:lnTo>
                  <a:lnTo>
                    <a:pt x="205" y="674"/>
                  </a:lnTo>
                  <a:lnTo>
                    <a:pt x="187" y="711"/>
                  </a:lnTo>
                  <a:lnTo>
                    <a:pt x="177" y="795"/>
                  </a:lnTo>
                  <a:lnTo>
                    <a:pt x="130" y="892"/>
                  </a:lnTo>
                  <a:lnTo>
                    <a:pt x="102" y="844"/>
                  </a:lnTo>
                  <a:lnTo>
                    <a:pt x="94" y="771"/>
                  </a:lnTo>
                  <a:lnTo>
                    <a:pt x="94" y="711"/>
                  </a:lnTo>
                  <a:lnTo>
                    <a:pt x="102" y="651"/>
                  </a:lnTo>
                  <a:lnTo>
                    <a:pt x="130" y="590"/>
                  </a:lnTo>
                  <a:lnTo>
                    <a:pt x="56" y="687"/>
                  </a:lnTo>
                  <a:lnTo>
                    <a:pt x="38" y="783"/>
                  </a:lnTo>
                  <a:lnTo>
                    <a:pt x="56" y="831"/>
                  </a:lnTo>
                  <a:lnTo>
                    <a:pt x="94" y="903"/>
                  </a:lnTo>
                  <a:lnTo>
                    <a:pt x="84" y="9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s Constructor</a:t>
            </a:r>
            <a:endParaRPr b="0" lang="en-US" sz="4400" spc="-1" strike="noStrike">
              <a:solidFill>
                <a:srgbClr val="00cece"/>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s a bag in the initial state (an empty bag)</a:t>
            </a:r>
            <a:endParaRPr b="0" lang="en-US" sz="3200" spc="-1" strike="noStrike">
              <a:solidFill>
                <a:srgbClr val="e0e0e0"/>
              </a:solidFill>
              <a:latin typeface="Times New Roman"/>
            </a:endParaRPr>
          </a:p>
        </p:txBody>
      </p:sp>
      <p:sp>
        <p:nvSpPr>
          <p:cNvPr id="369" name=""/>
          <p:cNvSpPr/>
          <p:nvPr/>
        </p:nvSpPr>
        <p:spPr>
          <a:xfrm>
            <a:off x="804960" y="3054240"/>
            <a:ext cx="7799400" cy="36450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0" name=""/>
          <p:cNvSpPr/>
          <p:nvPr/>
        </p:nvSpPr>
        <p:spPr>
          <a:xfrm>
            <a:off x="920880" y="3135240"/>
            <a:ext cx="761508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Bag has been initializ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nd it is now empt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Add Method</a:t>
            </a:r>
            <a:endParaRPr b="0" lang="en-US" sz="4400" spc="-1" strike="noStrike">
              <a:solidFill>
                <a:srgbClr val="00cece"/>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s a new number to the bag</a:t>
            </a:r>
            <a:endParaRPr b="0" lang="en-US" sz="3200" spc="-1" strike="noStrike">
              <a:solidFill>
                <a:srgbClr val="e0e0e0"/>
              </a:solidFill>
              <a:latin typeface="Times New Roman"/>
            </a:endParaRPr>
          </a:p>
        </p:txBody>
      </p:sp>
      <p:sp>
        <p:nvSpPr>
          <p:cNvPr id="373"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4" name=""/>
          <p:cNvSpPr/>
          <p:nvPr/>
        </p:nvSpPr>
        <p:spPr>
          <a:xfrm>
            <a:off x="938160" y="2668680"/>
            <a:ext cx="7615440" cy="1917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add(int newEntr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Size Method</a:t>
            </a:r>
            <a:endParaRPr b="0" lang="en-US" sz="4400" spc="-1" strike="noStrike">
              <a:solidFill>
                <a:srgbClr val="00cece"/>
              </a:solidFill>
              <a:latin typeface="Times New Roman"/>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unts how many integers are in the bag.</a:t>
            </a:r>
            <a:endParaRPr b="0" lang="en-US" sz="3200" spc="-1" strike="noStrike">
              <a:solidFill>
                <a:srgbClr val="e0e0e0"/>
              </a:solidFill>
              <a:latin typeface="Times New Roman"/>
            </a:endParaRPr>
          </a:p>
        </p:txBody>
      </p:sp>
      <p:sp>
        <p:nvSpPr>
          <p:cNvPr id="377"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8" name=""/>
          <p:cNvSpPr/>
          <p:nvPr/>
        </p:nvSpPr>
        <p:spPr>
          <a:xfrm>
            <a:off x="938160" y="2668680"/>
            <a:ext cx="761544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return value is the numbe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f integers in the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int siz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countOccurrences Method</a:t>
            </a:r>
            <a:endParaRPr b="0" lang="en-US" sz="4400" spc="-1" strike="noStrike">
              <a:solidFill>
                <a:srgbClr val="00cece"/>
              </a:solidFill>
              <a:latin typeface="Times New Roman"/>
            </a:endParaRPr>
          </a:p>
        </p:txBody>
      </p:sp>
      <p:sp>
        <p:nvSpPr>
          <p:cNvPr id="3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unts how many copies of a number occur</a:t>
            </a:r>
            <a:endParaRPr b="0" lang="en-US" sz="3200" spc="-1" strike="noStrike">
              <a:solidFill>
                <a:srgbClr val="e0e0e0"/>
              </a:solidFill>
              <a:latin typeface="Times New Roman"/>
            </a:endParaRPr>
          </a:p>
        </p:txBody>
      </p:sp>
      <p:sp>
        <p:nvSpPr>
          <p:cNvPr id="381"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2" name=""/>
          <p:cNvSpPr/>
          <p:nvPr/>
        </p:nvSpPr>
        <p:spPr>
          <a:xfrm>
            <a:off x="938160" y="2668680"/>
            <a:ext cx="761544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return value is the numbe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f copies of target in the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int countOccurrences(int targe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Remove Method</a:t>
            </a:r>
            <a:endParaRPr b="0" lang="en-US" sz="4400" spc="-1" strike="noStrike">
              <a:solidFill>
                <a:srgbClr val="00cece"/>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emoves one copy of a number</a:t>
            </a:r>
            <a:endParaRPr b="0" lang="en-US" sz="3200" spc="-1" strike="noStrike">
              <a:solidFill>
                <a:srgbClr val="e0e0e0"/>
              </a:solidFill>
              <a:latin typeface="Times New Roman"/>
            </a:endParaRPr>
          </a:p>
        </p:txBody>
      </p:sp>
      <p:sp>
        <p:nvSpPr>
          <p:cNvPr id="385"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6" name=""/>
          <p:cNvSpPr/>
          <p:nvPr/>
        </p:nvSpPr>
        <p:spPr>
          <a:xfrm>
            <a:off x="938160" y="2668680"/>
            <a:ext cx="7615440" cy="3380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If target was in the Bag, th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ne copy of target has been removed from th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Bag, and the return value is true; otherwise th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a:t>
            </a:r>
            <a:r>
              <a:rPr b="0" lang="en-US" sz="2400" spc="-1" strike="noStrike">
                <a:solidFill>
                  <a:srgbClr val="fc0128"/>
                </a:solidFill>
                <a:latin typeface="Arial"/>
              </a:rPr>
              <a:t>  </a:t>
            </a:r>
            <a:r>
              <a:rPr b="1" lang="en-US" sz="2400" spc="-1" strike="noStrike">
                <a:solidFill>
                  <a:srgbClr val="fc0128"/>
                </a:solidFill>
                <a:latin typeface="Arial"/>
              </a:rPr>
              <a:t> Bag is unchanged and the return value is fals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boolean remove(int targe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Bag in a Program</a:t>
            </a:r>
            <a:endParaRPr b="0" lang="en-US" sz="4400" spc="-1" strike="noStrike">
              <a:solidFill>
                <a:srgbClr val="00cece"/>
              </a:solidFill>
              <a:latin typeface="Times New Roman"/>
            </a:endParaRPr>
          </a:p>
        </p:txBody>
      </p:sp>
      <p:sp>
        <p:nvSpPr>
          <p:cNvPr id="388" name="PlaceHolder 2"/>
          <p:cNvSpPr>
            <a:spLocks noGrp="1"/>
          </p:cNvSpPr>
          <p:nvPr>
            <p:ph/>
          </p:nvPr>
        </p:nvSpPr>
        <p:spPr>
          <a:xfrm>
            <a:off x="685800" y="1981080"/>
            <a:ext cx="4757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ypical code from a program that uses the new Bag class:</a:t>
            </a:r>
            <a:endParaRPr b="0" lang="en-US" sz="2800" spc="-1" strike="noStrike">
              <a:solidFill>
                <a:srgbClr val="e0e0e0"/>
              </a:solidFill>
              <a:latin typeface="Times New Roman"/>
            </a:endParaRPr>
          </a:p>
        </p:txBody>
      </p:sp>
      <p:sp>
        <p:nvSpPr>
          <p:cNvPr id="389"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0" name=""/>
          <p:cNvSpPr/>
          <p:nvPr/>
        </p:nvSpPr>
        <p:spPr>
          <a:xfrm>
            <a:off x="804960" y="3475080"/>
            <a:ext cx="5665680" cy="26510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1" name=""/>
          <p:cNvSpPr/>
          <p:nvPr/>
        </p:nvSpPr>
        <p:spPr>
          <a:xfrm>
            <a:off x="938160" y="3700440"/>
            <a:ext cx="572940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Bag  ages = new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Record the ages of three childr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ges.add(4);</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ges.add(8);</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ges.add(4);</a:t>
            </a:r>
            <a:endParaRPr b="0" lang="en-US" sz="2400" spc="-1" strike="noStrike">
              <a:solidFill>
                <a:srgbClr val="e0e0e0"/>
              </a:solidFill>
              <a:latin typeface="Arial"/>
            </a:endParaRPr>
          </a:p>
        </p:txBody>
      </p:sp>
      <p:grpSp>
        <p:nvGrpSpPr>
          <p:cNvPr id="392" name=""/>
          <p:cNvGrpSpPr/>
          <p:nvPr/>
        </p:nvGrpSpPr>
        <p:grpSpPr>
          <a:xfrm>
            <a:off x="6294600" y="1054080"/>
            <a:ext cx="2468520" cy="2927520"/>
            <a:chOff x="6294600" y="1054080"/>
            <a:chExt cx="2468520" cy="2927520"/>
          </a:xfrm>
        </p:grpSpPr>
        <p:grpSp>
          <p:nvGrpSpPr>
            <p:cNvPr id="393" name=""/>
            <p:cNvGrpSpPr/>
            <p:nvPr/>
          </p:nvGrpSpPr>
          <p:grpSpPr>
            <a:xfrm>
              <a:off x="6294600" y="1054080"/>
              <a:ext cx="2468520" cy="2927520"/>
              <a:chOff x="6294600" y="1054080"/>
              <a:chExt cx="2468520" cy="2927520"/>
            </a:xfrm>
          </p:grpSpPr>
          <p:grpSp>
            <p:nvGrpSpPr>
              <p:cNvPr id="394" name=""/>
              <p:cNvGrpSpPr/>
              <p:nvPr/>
            </p:nvGrpSpPr>
            <p:grpSpPr>
              <a:xfrm>
                <a:off x="6294600" y="1138320"/>
                <a:ext cx="2468520" cy="2843280"/>
                <a:chOff x="6294600" y="1138320"/>
                <a:chExt cx="2468520" cy="2843280"/>
              </a:xfrm>
            </p:grpSpPr>
            <p:grpSp>
              <p:nvGrpSpPr>
                <p:cNvPr id="395" name=""/>
                <p:cNvGrpSpPr/>
                <p:nvPr/>
              </p:nvGrpSpPr>
              <p:grpSpPr>
                <a:xfrm>
                  <a:off x="6294600" y="1138320"/>
                  <a:ext cx="2468520" cy="2843280"/>
                  <a:chOff x="6294600" y="1138320"/>
                  <a:chExt cx="2468520" cy="2843280"/>
                </a:xfrm>
              </p:grpSpPr>
              <p:sp>
                <p:nvSpPr>
                  <p:cNvPr id="396"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7"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8"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9"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0"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1"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2"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3"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4"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05"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06"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07"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08" name="" descr=""/>
            <p:cNvPicPr/>
            <p:nvPr/>
          </p:nvPicPr>
          <p:blipFill>
            <a:blip r:embed="rId1"/>
            <a:stretch/>
          </p:blipFill>
          <p:spPr>
            <a:xfrm>
              <a:off x="6850080" y="2963880"/>
              <a:ext cx="566640" cy="606240"/>
            </a:xfrm>
            <a:prstGeom prst="rect">
              <a:avLst/>
            </a:prstGeom>
            <a:ln w="0">
              <a:noFill/>
            </a:ln>
          </p:spPr>
        </p:pic>
        <p:pic>
          <p:nvPicPr>
            <p:cNvPr id="409" name="" descr=""/>
            <p:cNvPicPr/>
            <p:nvPr/>
          </p:nvPicPr>
          <p:blipFill>
            <a:blip r:embed="rId2"/>
            <a:stretch/>
          </p:blipFill>
          <p:spPr>
            <a:xfrm>
              <a:off x="7221600" y="3255840"/>
              <a:ext cx="615960" cy="666720"/>
            </a:xfrm>
            <a:prstGeom prst="rect">
              <a:avLst/>
            </a:prstGeom>
            <a:ln w="0">
              <a:noFill/>
            </a:ln>
          </p:spPr>
        </p:pic>
        <p:pic>
          <p:nvPicPr>
            <p:cNvPr id="410" name="" descr=""/>
            <p:cNvPicPr/>
            <p:nvPr/>
          </p:nvPicPr>
          <p:blipFill>
            <a:blip r:embed="rId3"/>
            <a:stretch/>
          </p:blipFill>
          <p:spPr>
            <a:xfrm>
              <a:off x="7547040" y="2989440"/>
              <a:ext cx="566640" cy="606240"/>
            </a:xfrm>
            <a:prstGeom prst="rect">
              <a:avLst/>
            </a:prstGeom>
            <a:ln w="0">
              <a:noFill/>
            </a:ln>
          </p:spPr>
        </p:pic>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ocumentation for the Bag Class</a:t>
            </a:r>
            <a:endParaRPr b="0" lang="en-US" sz="4400" spc="-1" strike="noStrike">
              <a:solidFill>
                <a:srgbClr val="00cece"/>
              </a:solidFill>
              <a:latin typeface="Times New Roman"/>
            </a:endParaRPr>
          </a:p>
        </p:txBody>
      </p:sp>
      <p:sp>
        <p:nvSpPr>
          <p:cNvPr id="412" name="PlaceHolder 2"/>
          <p:cNvSpPr>
            <a:spLocks noGrp="1"/>
          </p:cNvSpPr>
          <p:nvPr>
            <p:ph/>
          </p:nvPr>
        </p:nvSpPr>
        <p:spPr>
          <a:xfrm>
            <a:off x="380520" y="1980720"/>
            <a:ext cx="4808520" cy="460548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documentation gives </a:t>
            </a:r>
            <a:r>
              <a:rPr b="1" lang="en-US" sz="2800" spc="-1" strike="noStrike" u="sng">
                <a:solidFill>
                  <a:srgbClr val="e0e0e0"/>
                </a:solidFill>
                <a:uFillTx/>
                <a:latin typeface="Times New Roman"/>
              </a:rPr>
              <a:t>specifications</a:t>
            </a:r>
            <a:r>
              <a:rPr b="1" lang="en-US" sz="2800" spc="-1" strike="noStrike">
                <a:solidFill>
                  <a:srgbClr val="e0e0e0"/>
                </a:solidFill>
                <a:latin typeface="Times New Roman"/>
              </a:rPr>
              <a:t> </a:t>
            </a:r>
            <a:r>
              <a:rPr b="0" lang="en-US" sz="2800" spc="-1" strike="noStrike">
                <a:solidFill>
                  <a:srgbClr val="e0e0e0"/>
                </a:solidFill>
                <a:latin typeface="Times New Roman"/>
              </a:rPr>
              <a:t>for the bag method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pecifications are written as </a:t>
            </a:r>
            <a:r>
              <a:rPr b="1" lang="en-US" sz="2800" spc="-1" strike="noStrike" u="sng">
                <a:solidFill>
                  <a:srgbClr val="e0e0e0"/>
                </a:solidFill>
                <a:uFillTx/>
                <a:latin typeface="Times New Roman"/>
              </a:rPr>
              <a:t>precondition/postcondition </a:t>
            </a:r>
            <a:r>
              <a:rPr b="0" lang="en-US" sz="2800" spc="-1" strike="noStrike">
                <a:solidFill>
                  <a:srgbClr val="e0e0e0"/>
                </a:solidFill>
                <a:latin typeface="Times New Roman"/>
              </a:rPr>
              <a:t>contract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verything needed to </a:t>
            </a:r>
            <a:r>
              <a:rPr b="1" lang="en-US" sz="2800" spc="-1" strike="noStrike" u="sng">
                <a:solidFill>
                  <a:srgbClr val="e0e0e0"/>
                </a:solidFill>
                <a:uFillTx/>
                <a:latin typeface="Times New Roman"/>
              </a:rPr>
              <a:t>use</a:t>
            </a:r>
            <a:r>
              <a:rPr b="0" lang="en-US" sz="2800" spc="-1" strike="noStrike">
                <a:solidFill>
                  <a:srgbClr val="e0e0e0"/>
                </a:solidFill>
                <a:latin typeface="Times New Roman"/>
              </a:rPr>
              <a:t> the Bag class is included in this documentation.</a:t>
            </a:r>
            <a:endParaRPr b="0" lang="en-US" sz="2800" spc="-1" strike="noStrike">
              <a:solidFill>
                <a:srgbClr val="e0e0e0"/>
              </a:solidFill>
              <a:latin typeface="Times New Roman"/>
            </a:endParaRPr>
          </a:p>
        </p:txBody>
      </p:sp>
      <p:sp>
        <p:nvSpPr>
          <p:cNvPr id="413" name=""/>
          <p:cNvSpPr/>
          <p:nvPr/>
        </p:nvSpPr>
        <p:spPr>
          <a:xfrm>
            <a:off x="5662440" y="2139840"/>
            <a:ext cx="3402360" cy="4473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4" name=""/>
          <p:cNvSpPr/>
          <p:nvPr/>
        </p:nvSpPr>
        <p:spPr>
          <a:xfrm>
            <a:off x="5504040" y="2030400"/>
            <a:ext cx="3416040" cy="2608200"/>
          </a:xfrm>
          <a:prstGeom prst="rect">
            <a:avLst/>
          </a:prstGeom>
          <a:blipFill rotWithShape="0">
            <a:blip r:embed="rId1"/>
            <a:srcRect/>
            <a:tile tx="0" ty="0" sx="100000" sy="100000" algn="ctr"/>
          </a:blip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5" name=""/>
          <p:cNvSpPr/>
          <p:nvPr/>
        </p:nvSpPr>
        <p:spPr>
          <a:xfrm>
            <a:off x="5703840" y="2252520"/>
            <a:ext cx="3035520" cy="2160720"/>
          </a:xfrm>
          <a:prstGeom prst="rect">
            <a:avLst/>
          </a:prstGeom>
          <a:solidFill>
            <a:srgbClr val="e0e0e0"/>
          </a:solidFill>
          <a:ln w="12600">
            <a:solidFill>
              <a:srgbClr val="0000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Bag’s documentation</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can be automatically</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created with the </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Javadoc tool</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described in</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Appendix H.</a:t>
            </a:r>
            <a:endParaRPr b="0" lang="en-US" sz="2000" spc="-1" strike="noStrike">
              <a:solidFill>
                <a:srgbClr val="e0e0e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sp>
        <p:nvSpPr>
          <p:cNvPr id="417"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0e0e0"/>
                </a:solidFill>
                <a:latin typeface="Arial"/>
              </a:rPr>
              <a:t>Suppose that a Mysterious Benefactor provides you with the Bag class, but you are only permitted to read the documentation.  You cannot read the class implementation or .java file.  Can you write a program that uses the Bag data type ?</a:t>
            </a:r>
            <a:endParaRPr b="0" lang="en-US" sz="2400" spc="-1" strike="noStrike">
              <a:solidFill>
                <a:srgbClr val="e0e0e0"/>
              </a:solidFill>
              <a:latin typeface="Times New Roman"/>
            </a:endParaRPr>
          </a:p>
        </p:txBody>
      </p:sp>
      <p:sp>
        <p:nvSpPr>
          <p:cNvPr id="418" name="PlaceHolder 3"/>
          <p:cNvSpPr>
            <a:spLocks noGrp="1"/>
          </p:cNvSpPr>
          <p:nvPr>
            <p:ph/>
          </p:nvPr>
        </p:nvSpPr>
        <p:spPr>
          <a:xfrm>
            <a:off x="4876920" y="2057400"/>
            <a:ext cx="4194000" cy="4114800"/>
          </a:xfrm>
          <a:prstGeom prst="rect">
            <a:avLst/>
          </a:prstGeom>
          <a:noFill/>
          <a:ln w="0">
            <a:noFill/>
          </a:ln>
        </p:spPr>
        <p:txBody>
          <a:bodyPr lIns="90360" rIns="90360" tIns="44280" bIns="44280" anchor="t">
            <a:normAutofit/>
          </a:bodyPr>
          <a:p>
            <a:pPr marL="344520" indent="-344520">
              <a:spcBef>
                <a:spcPts val="700"/>
              </a:spcBef>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es  I  can.</a:t>
            </a:r>
            <a:endParaRPr b="0" lang="en-US" sz="2800" spc="-1" strike="noStrike">
              <a:solidFill>
                <a:srgbClr val="e0e0e0"/>
              </a:solidFill>
              <a:latin typeface="Times New Roman"/>
            </a:endParaRPr>
          </a:p>
          <a:p>
            <a:pPr marL="344520" indent="-344520">
              <a:spcBef>
                <a:spcPts val="700"/>
              </a:spcBef>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  Not unless I see the class implementation for the Bag.</a:t>
            </a:r>
            <a:endParaRPr b="0" lang="en-US" sz="2800" spc="-1" strike="noStrike">
              <a:solidFill>
                <a:srgbClr val="e0e0e0"/>
              </a:solidFill>
              <a:latin typeface="Times New Roman"/>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417">
                                            <p:txEl>
                                              <p:pRg st="0" end="0"/>
                                            </p:txEl>
                                          </p:spTgt>
                                        </p:tgtEl>
                                        <p:attrNameLst>
                                          <p:attrName>style.visibility</p:attrName>
                                        </p:attrNameLst>
                                      </p:cBhvr>
                                      <p:to>
                                        <p:strVal val="visible"/>
                                      </p:to>
                                    </p:set>
                                    <p:animEffect filter="wipe(up)" transition="in">
                                      <p:cBhvr additive="repl">
                                        <p:cTn id="34"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sp>
        <p:nvSpPr>
          <p:cNvPr id="420"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0e0e0"/>
                </a:solidFill>
                <a:latin typeface="Arial"/>
              </a:rPr>
              <a:t>Suppose that a Mysterious Benefactor provides you with the Bag class, but you are only permitted to read the documentation.  You cannot read the class implementation or .java file.  Can you write a program that uses the Bag data type ?</a:t>
            </a:r>
            <a:endParaRPr b="0" lang="en-US" sz="2400" spc="-1" strike="noStrike">
              <a:solidFill>
                <a:srgbClr val="e0e0e0"/>
              </a:solidFill>
              <a:latin typeface="Times New Roman"/>
            </a:endParaRPr>
          </a:p>
        </p:txBody>
      </p:sp>
      <p:sp>
        <p:nvSpPr>
          <p:cNvPr id="421" name="PlaceHolder 3"/>
          <p:cNvSpPr>
            <a:spLocks noGrp="1"/>
          </p:cNvSpPr>
          <p:nvPr>
            <p:ph/>
          </p:nvPr>
        </p:nvSpPr>
        <p:spPr>
          <a:xfrm>
            <a:off x="4876920" y="2057400"/>
            <a:ext cx="4254480" cy="4114800"/>
          </a:xfrm>
          <a:prstGeom prst="rect">
            <a:avLst/>
          </a:prstGeom>
          <a:noFill/>
          <a:ln w="0">
            <a:noFill/>
          </a:ln>
        </p:spPr>
        <p:txBody>
          <a:bodyPr lIns="90360" rIns="90360" tIns="44280" bIns="44280" anchor="t">
            <a:normAutofit/>
          </a:bodyPr>
          <a:p>
            <a:pPr marL="344520" indent="-34452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Yes  I  can.</a:t>
            </a:r>
            <a:endParaRPr b="0" lang="en-US" sz="2800" spc="-1" strike="noStrike">
              <a:solidFill>
                <a:srgbClr val="e0e0e0"/>
              </a:solidFill>
              <a:latin typeface="Times New Roman"/>
            </a:endParaRPr>
          </a:p>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   </a:t>
            </a:r>
            <a:r>
              <a:rPr b="0" lang="en-US" sz="2800" spc="-1" strike="noStrike">
                <a:solidFill>
                  <a:srgbClr val="e0e0e0"/>
                </a:solidFill>
                <a:latin typeface="Times New Roman"/>
              </a:rPr>
              <a:t>You know the name of the new data type, and you also know the headings and specifications of each of the operations. This is enough for you to create and use Bags.  </a:t>
            </a:r>
            <a:endParaRPr b="0" lang="en-US" sz="2800" spc="-1" strike="noStrike">
              <a:solidFill>
                <a:srgbClr val="e0e0e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42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entries of a bag will be stored in the front part of an array, as shown in this example. </a:t>
            </a:r>
            <a:endParaRPr b="0" lang="en-US" sz="2800" spc="-1" strike="noStrike">
              <a:solidFill>
                <a:srgbClr val="e0e0e0"/>
              </a:solidFill>
              <a:latin typeface="Times New Roman"/>
            </a:endParaRPr>
          </a:p>
        </p:txBody>
      </p:sp>
      <p:sp>
        <p:nvSpPr>
          <p:cNvPr id="424" name=""/>
          <p:cNvSpPr/>
          <p:nvPr/>
        </p:nvSpPr>
        <p:spPr>
          <a:xfrm>
            <a:off x="1708200" y="4670280"/>
            <a:ext cx="604656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5"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6"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7"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8"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9"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0"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1"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432"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433"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434"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435"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436"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437"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438"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439"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40"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441"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42"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3"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4"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445" name=""/>
          <p:cNvGrpSpPr/>
          <p:nvPr/>
        </p:nvGrpSpPr>
        <p:grpSpPr>
          <a:xfrm>
            <a:off x="6294600" y="1054080"/>
            <a:ext cx="2468520" cy="2927520"/>
            <a:chOff x="6294600" y="1054080"/>
            <a:chExt cx="2468520" cy="2927520"/>
          </a:xfrm>
        </p:grpSpPr>
        <p:grpSp>
          <p:nvGrpSpPr>
            <p:cNvPr id="446" name=""/>
            <p:cNvGrpSpPr/>
            <p:nvPr/>
          </p:nvGrpSpPr>
          <p:grpSpPr>
            <a:xfrm>
              <a:off x="6294600" y="1054080"/>
              <a:ext cx="2468520" cy="2927520"/>
              <a:chOff x="6294600" y="1054080"/>
              <a:chExt cx="2468520" cy="2927520"/>
            </a:xfrm>
          </p:grpSpPr>
          <p:grpSp>
            <p:nvGrpSpPr>
              <p:cNvPr id="447" name=""/>
              <p:cNvGrpSpPr/>
              <p:nvPr/>
            </p:nvGrpSpPr>
            <p:grpSpPr>
              <a:xfrm>
                <a:off x="6294600" y="1138320"/>
                <a:ext cx="2468520" cy="2843280"/>
                <a:chOff x="6294600" y="1138320"/>
                <a:chExt cx="2468520" cy="2843280"/>
              </a:xfrm>
            </p:grpSpPr>
            <p:grpSp>
              <p:nvGrpSpPr>
                <p:cNvPr id="448" name=""/>
                <p:cNvGrpSpPr/>
                <p:nvPr/>
              </p:nvGrpSpPr>
              <p:grpSpPr>
                <a:xfrm>
                  <a:off x="6294600" y="1138320"/>
                  <a:ext cx="2468520" cy="2843280"/>
                  <a:chOff x="6294600" y="1138320"/>
                  <a:chExt cx="2468520" cy="2843280"/>
                </a:xfrm>
              </p:grpSpPr>
              <p:sp>
                <p:nvSpPr>
                  <p:cNvPr id="449"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0"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1"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2"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3"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4"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5"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6"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7"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58"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59"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60"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61" name="" descr=""/>
            <p:cNvPicPr/>
            <p:nvPr/>
          </p:nvPicPr>
          <p:blipFill>
            <a:blip r:embed="rId1"/>
            <a:stretch/>
          </p:blipFill>
          <p:spPr>
            <a:xfrm>
              <a:off x="6850080" y="2963880"/>
              <a:ext cx="566640" cy="606240"/>
            </a:xfrm>
            <a:prstGeom prst="rect">
              <a:avLst/>
            </a:prstGeom>
            <a:ln w="0">
              <a:noFill/>
            </a:ln>
          </p:spPr>
        </p:pic>
        <p:pic>
          <p:nvPicPr>
            <p:cNvPr id="462" name="" descr=""/>
            <p:cNvPicPr/>
            <p:nvPr/>
          </p:nvPicPr>
          <p:blipFill>
            <a:blip r:embed="rId2"/>
            <a:stretch/>
          </p:blipFill>
          <p:spPr>
            <a:xfrm>
              <a:off x="7221600" y="3255840"/>
              <a:ext cx="615960" cy="666720"/>
            </a:xfrm>
            <a:prstGeom prst="rect">
              <a:avLst/>
            </a:prstGeom>
            <a:ln w="0">
              <a:noFill/>
            </a:ln>
          </p:spPr>
        </p:pic>
        <p:pic>
          <p:nvPicPr>
            <p:cNvPr id="463" name="" descr=""/>
            <p:cNvPicPr/>
            <p:nvPr/>
          </p:nvPicPr>
          <p:blipFill>
            <a:blip r:embed="rId3"/>
            <a:stretch/>
          </p:blipFill>
          <p:spPr>
            <a:xfrm>
              <a:off x="7547040" y="2989440"/>
              <a:ext cx="566640" cy="60624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Bags</a:t>
            </a:r>
            <a:endParaRPr b="0" lang="en-US" sz="4400" spc="-1" strike="noStrike">
              <a:solidFill>
                <a:srgbClr val="00cece"/>
              </a:solidFill>
              <a:latin typeface="Times New Roman"/>
            </a:endParaRPr>
          </a:p>
        </p:txBody>
      </p:sp>
      <p:sp>
        <p:nvSpPr>
          <p:cNvPr id="80"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or the first example, think about a bag.</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side the bag are some numbers.</a:t>
            </a:r>
            <a:endParaRPr b="0" lang="en-US" sz="2800" spc="-1" strike="noStrike">
              <a:solidFill>
                <a:srgbClr val="e0e0e0"/>
              </a:solidFill>
              <a:latin typeface="Times New Roman"/>
            </a:endParaRPr>
          </a:p>
        </p:txBody>
      </p:sp>
      <p:grpSp>
        <p:nvGrpSpPr>
          <p:cNvPr id="81" name=""/>
          <p:cNvGrpSpPr/>
          <p:nvPr/>
        </p:nvGrpSpPr>
        <p:grpSpPr>
          <a:xfrm>
            <a:off x="4716360" y="611280"/>
            <a:ext cx="3880080" cy="5359320"/>
            <a:chOff x="4716360" y="611280"/>
            <a:chExt cx="3880080" cy="5359320"/>
          </a:xfrm>
        </p:grpSpPr>
        <p:grpSp>
          <p:nvGrpSpPr>
            <p:cNvPr id="82" name=""/>
            <p:cNvGrpSpPr/>
            <p:nvPr/>
          </p:nvGrpSpPr>
          <p:grpSpPr>
            <a:xfrm>
              <a:off x="4716360" y="766800"/>
              <a:ext cx="3880080" cy="5203800"/>
              <a:chOff x="4716360" y="766800"/>
              <a:chExt cx="3880080" cy="5203800"/>
            </a:xfrm>
          </p:grpSpPr>
          <p:grpSp>
            <p:nvGrpSpPr>
              <p:cNvPr id="83" name=""/>
              <p:cNvGrpSpPr/>
              <p:nvPr/>
            </p:nvGrpSpPr>
            <p:grpSpPr>
              <a:xfrm>
                <a:off x="4716360" y="766800"/>
                <a:ext cx="3880080" cy="5203800"/>
                <a:chOff x="4716360" y="766800"/>
                <a:chExt cx="3880080" cy="5203800"/>
              </a:xfrm>
            </p:grpSpPr>
            <p:sp>
              <p:nvSpPr>
                <p:cNvPr id="84" name=""/>
                <p:cNvSpPr/>
                <p:nvPr/>
              </p:nvSpPr>
              <p:spPr>
                <a:xfrm>
                  <a:off x="4716360" y="766800"/>
                  <a:ext cx="3641760" cy="5186160"/>
                </a:xfrm>
                <a:custGeom>
                  <a:avLst/>
                  <a:gdLst/>
                  <a:ahLst/>
                  <a:rect l="l" t="t" r="r" b="b"/>
                  <a:pathLst>
                    <a:path w="2294" h="3267">
                      <a:moveTo>
                        <a:pt x="1283" y="0"/>
                      </a:moveTo>
                      <a:lnTo>
                        <a:pt x="1522" y="172"/>
                      </a:lnTo>
                      <a:lnTo>
                        <a:pt x="1555" y="280"/>
                      </a:lnTo>
                      <a:lnTo>
                        <a:pt x="1474" y="389"/>
                      </a:lnTo>
                      <a:lnTo>
                        <a:pt x="1170" y="653"/>
                      </a:lnTo>
                      <a:lnTo>
                        <a:pt x="1410" y="591"/>
                      </a:lnTo>
                      <a:lnTo>
                        <a:pt x="1555" y="560"/>
                      </a:lnTo>
                      <a:lnTo>
                        <a:pt x="1908" y="109"/>
                      </a:lnTo>
                      <a:lnTo>
                        <a:pt x="2099" y="62"/>
                      </a:lnTo>
                      <a:lnTo>
                        <a:pt x="2293" y="62"/>
                      </a:lnTo>
                      <a:lnTo>
                        <a:pt x="2212" y="295"/>
                      </a:lnTo>
                      <a:lnTo>
                        <a:pt x="1972" y="326"/>
                      </a:lnTo>
                      <a:lnTo>
                        <a:pt x="1539" y="669"/>
                      </a:lnTo>
                      <a:lnTo>
                        <a:pt x="1299" y="762"/>
                      </a:lnTo>
                      <a:lnTo>
                        <a:pt x="2212" y="2209"/>
                      </a:lnTo>
                      <a:lnTo>
                        <a:pt x="2260" y="2489"/>
                      </a:lnTo>
                      <a:lnTo>
                        <a:pt x="1956" y="3017"/>
                      </a:lnTo>
                      <a:lnTo>
                        <a:pt x="1666" y="3204"/>
                      </a:lnTo>
                      <a:lnTo>
                        <a:pt x="1458" y="3266"/>
                      </a:lnTo>
                      <a:lnTo>
                        <a:pt x="1090" y="3204"/>
                      </a:lnTo>
                      <a:lnTo>
                        <a:pt x="608" y="3172"/>
                      </a:lnTo>
                      <a:lnTo>
                        <a:pt x="320" y="2970"/>
                      </a:lnTo>
                      <a:lnTo>
                        <a:pt x="159" y="2877"/>
                      </a:lnTo>
                      <a:lnTo>
                        <a:pt x="0" y="2442"/>
                      </a:lnTo>
                      <a:lnTo>
                        <a:pt x="112" y="2209"/>
                      </a:lnTo>
                      <a:lnTo>
                        <a:pt x="1074" y="886"/>
                      </a:lnTo>
                      <a:lnTo>
                        <a:pt x="961" y="700"/>
                      </a:lnTo>
                      <a:lnTo>
                        <a:pt x="1026" y="545"/>
                      </a:lnTo>
                      <a:lnTo>
                        <a:pt x="1283" y="312"/>
                      </a:lnTo>
                      <a:lnTo>
                        <a:pt x="1235" y="186"/>
                      </a:lnTo>
                      <a:lnTo>
                        <a:pt x="1138" y="109"/>
                      </a:lnTo>
                      <a:lnTo>
                        <a:pt x="1203" y="31"/>
                      </a:lnTo>
                      <a:lnTo>
                        <a:pt x="1283"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5" name=""/>
                <p:cNvSpPr/>
                <p:nvPr/>
              </p:nvSpPr>
              <p:spPr>
                <a:xfrm>
                  <a:off x="6778800" y="2766960"/>
                  <a:ext cx="661680" cy="2840040"/>
                </a:xfrm>
                <a:custGeom>
                  <a:avLst/>
                  <a:gdLst/>
                  <a:ahLst/>
                  <a:rect l="l" t="t" r="r" b="b"/>
                  <a:pathLst>
                    <a:path w="417" h="1789">
                      <a:moveTo>
                        <a:pt x="95" y="1244"/>
                      </a:moveTo>
                      <a:lnTo>
                        <a:pt x="95" y="1540"/>
                      </a:lnTo>
                      <a:lnTo>
                        <a:pt x="64" y="1710"/>
                      </a:lnTo>
                      <a:lnTo>
                        <a:pt x="32" y="1788"/>
                      </a:lnTo>
                      <a:lnTo>
                        <a:pt x="207" y="1773"/>
                      </a:lnTo>
                      <a:lnTo>
                        <a:pt x="367" y="1695"/>
                      </a:lnTo>
                      <a:lnTo>
                        <a:pt x="287" y="1664"/>
                      </a:lnTo>
                      <a:lnTo>
                        <a:pt x="416" y="1586"/>
                      </a:lnTo>
                      <a:lnTo>
                        <a:pt x="287" y="1586"/>
                      </a:lnTo>
                      <a:lnTo>
                        <a:pt x="400" y="1477"/>
                      </a:lnTo>
                      <a:lnTo>
                        <a:pt x="272" y="1477"/>
                      </a:lnTo>
                      <a:lnTo>
                        <a:pt x="367" y="1369"/>
                      </a:lnTo>
                      <a:lnTo>
                        <a:pt x="256" y="1353"/>
                      </a:lnTo>
                      <a:lnTo>
                        <a:pt x="319" y="1260"/>
                      </a:lnTo>
                      <a:lnTo>
                        <a:pt x="223" y="1229"/>
                      </a:lnTo>
                      <a:lnTo>
                        <a:pt x="256" y="1119"/>
                      </a:lnTo>
                      <a:lnTo>
                        <a:pt x="192" y="1089"/>
                      </a:lnTo>
                      <a:lnTo>
                        <a:pt x="175" y="964"/>
                      </a:lnTo>
                      <a:lnTo>
                        <a:pt x="0" y="0"/>
                      </a:lnTo>
                      <a:lnTo>
                        <a:pt x="48" y="1073"/>
                      </a:lnTo>
                      <a:lnTo>
                        <a:pt x="95" y="124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 name=""/>
                <p:cNvSpPr/>
                <p:nvPr/>
              </p:nvSpPr>
              <p:spPr>
                <a:xfrm>
                  <a:off x="4818240" y="2371680"/>
                  <a:ext cx="1679400" cy="3432240"/>
                </a:xfrm>
                <a:custGeom>
                  <a:avLst/>
                  <a:gdLst/>
                  <a:ahLst/>
                  <a:rect l="l" t="t" r="r" b="b"/>
                  <a:pathLst>
                    <a:path w="1058" h="2162">
                      <a:moveTo>
                        <a:pt x="898" y="0"/>
                      </a:moveTo>
                      <a:lnTo>
                        <a:pt x="193" y="949"/>
                      </a:lnTo>
                      <a:lnTo>
                        <a:pt x="96" y="1182"/>
                      </a:lnTo>
                      <a:lnTo>
                        <a:pt x="0" y="1322"/>
                      </a:lnTo>
                      <a:lnTo>
                        <a:pt x="0" y="1680"/>
                      </a:lnTo>
                      <a:lnTo>
                        <a:pt x="143" y="1882"/>
                      </a:lnTo>
                      <a:lnTo>
                        <a:pt x="369" y="2037"/>
                      </a:lnTo>
                      <a:lnTo>
                        <a:pt x="513" y="2146"/>
                      </a:lnTo>
                      <a:lnTo>
                        <a:pt x="737" y="2161"/>
                      </a:lnTo>
                      <a:lnTo>
                        <a:pt x="594" y="2084"/>
                      </a:lnTo>
                      <a:lnTo>
                        <a:pt x="802" y="2069"/>
                      </a:lnTo>
                      <a:lnTo>
                        <a:pt x="625" y="2022"/>
                      </a:lnTo>
                      <a:lnTo>
                        <a:pt x="931" y="1990"/>
                      </a:lnTo>
                      <a:lnTo>
                        <a:pt x="641" y="1944"/>
                      </a:lnTo>
                      <a:lnTo>
                        <a:pt x="898" y="1866"/>
                      </a:lnTo>
                      <a:lnTo>
                        <a:pt x="753" y="1789"/>
                      </a:lnTo>
                      <a:lnTo>
                        <a:pt x="931" y="1742"/>
                      </a:lnTo>
                      <a:lnTo>
                        <a:pt x="737" y="1680"/>
                      </a:lnTo>
                      <a:lnTo>
                        <a:pt x="915" y="1540"/>
                      </a:lnTo>
                      <a:lnTo>
                        <a:pt x="753" y="1509"/>
                      </a:lnTo>
                      <a:lnTo>
                        <a:pt x="866" y="1431"/>
                      </a:lnTo>
                      <a:lnTo>
                        <a:pt x="753" y="1399"/>
                      </a:lnTo>
                      <a:lnTo>
                        <a:pt x="818" y="1244"/>
                      </a:lnTo>
                      <a:lnTo>
                        <a:pt x="1057" y="140"/>
                      </a:lnTo>
                      <a:lnTo>
                        <a:pt x="705" y="1213"/>
                      </a:lnTo>
                      <a:lnTo>
                        <a:pt x="657" y="1151"/>
                      </a:lnTo>
                      <a:lnTo>
                        <a:pt x="995" y="15"/>
                      </a:lnTo>
                      <a:lnTo>
                        <a:pt x="497" y="1306"/>
                      </a:lnTo>
                      <a:lnTo>
                        <a:pt x="193" y="1384"/>
                      </a:lnTo>
                      <a:lnTo>
                        <a:pt x="384" y="1275"/>
                      </a:lnTo>
                      <a:lnTo>
                        <a:pt x="193" y="1275"/>
                      </a:lnTo>
                      <a:lnTo>
                        <a:pt x="369" y="1182"/>
                      </a:lnTo>
                      <a:lnTo>
                        <a:pt x="288" y="1135"/>
                      </a:lnTo>
                      <a:lnTo>
                        <a:pt x="384" y="1074"/>
                      </a:lnTo>
                      <a:lnTo>
                        <a:pt x="304" y="1011"/>
                      </a:lnTo>
                      <a:lnTo>
                        <a:pt x="369" y="871"/>
                      </a:lnTo>
                      <a:lnTo>
                        <a:pt x="945" y="0"/>
                      </a:lnTo>
                      <a:lnTo>
                        <a:pt x="89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a:off x="7310520" y="890640"/>
                  <a:ext cx="663480" cy="792000"/>
                </a:xfrm>
                <a:custGeom>
                  <a:avLst/>
                  <a:gdLst/>
                  <a:ahLst/>
                  <a:rect l="l" t="t" r="r" b="b"/>
                  <a:pathLst>
                    <a:path w="418" h="499">
                      <a:moveTo>
                        <a:pt x="274" y="62"/>
                      </a:moveTo>
                      <a:lnTo>
                        <a:pt x="353" y="0"/>
                      </a:lnTo>
                      <a:lnTo>
                        <a:pt x="288" y="108"/>
                      </a:lnTo>
                      <a:lnTo>
                        <a:pt x="402" y="78"/>
                      </a:lnTo>
                      <a:lnTo>
                        <a:pt x="321" y="155"/>
                      </a:lnTo>
                      <a:lnTo>
                        <a:pt x="402" y="140"/>
                      </a:lnTo>
                      <a:lnTo>
                        <a:pt x="353" y="217"/>
                      </a:lnTo>
                      <a:lnTo>
                        <a:pt x="417" y="202"/>
                      </a:lnTo>
                      <a:lnTo>
                        <a:pt x="193" y="388"/>
                      </a:lnTo>
                      <a:lnTo>
                        <a:pt x="17" y="498"/>
                      </a:lnTo>
                      <a:lnTo>
                        <a:pt x="0" y="358"/>
                      </a:lnTo>
                      <a:lnTo>
                        <a:pt x="145" y="140"/>
                      </a:lnTo>
                      <a:lnTo>
                        <a:pt x="274" y="62"/>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8" name=""/>
                <p:cNvSpPr/>
                <p:nvPr/>
              </p:nvSpPr>
              <p:spPr>
                <a:xfrm>
                  <a:off x="6548400" y="841320"/>
                  <a:ext cx="331920" cy="495360"/>
                </a:xfrm>
                <a:custGeom>
                  <a:avLst/>
                  <a:gdLst/>
                  <a:ahLst/>
                  <a:rect l="l" t="t" r="r" b="b"/>
                  <a:pathLst>
                    <a:path w="209" h="312">
                      <a:moveTo>
                        <a:pt x="0" y="0"/>
                      </a:moveTo>
                      <a:lnTo>
                        <a:pt x="0" y="77"/>
                      </a:lnTo>
                      <a:lnTo>
                        <a:pt x="144" y="171"/>
                      </a:lnTo>
                      <a:lnTo>
                        <a:pt x="129" y="311"/>
                      </a:lnTo>
                      <a:lnTo>
                        <a:pt x="208" y="171"/>
                      </a:lnTo>
                      <a:lnTo>
                        <a:pt x="176" y="93"/>
                      </a:lnTo>
                      <a:lnTo>
                        <a:pt x="95" y="46"/>
                      </a:lnTo>
                      <a:lnTo>
                        <a:pt x="129"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9" name=""/>
                <p:cNvSpPr/>
                <p:nvPr/>
              </p:nvSpPr>
              <p:spPr>
                <a:xfrm>
                  <a:off x="6242040" y="1655640"/>
                  <a:ext cx="308160" cy="420840"/>
                </a:xfrm>
                <a:custGeom>
                  <a:avLst/>
                  <a:gdLst/>
                  <a:ahLst/>
                  <a:rect l="l" t="t" r="r" b="b"/>
                  <a:pathLst>
                    <a:path w="194" h="265">
                      <a:moveTo>
                        <a:pt x="48" y="0"/>
                      </a:moveTo>
                      <a:lnTo>
                        <a:pt x="193" y="249"/>
                      </a:lnTo>
                      <a:lnTo>
                        <a:pt x="113" y="264"/>
                      </a:lnTo>
                      <a:lnTo>
                        <a:pt x="0" y="140"/>
                      </a:lnTo>
                      <a:lnTo>
                        <a:pt x="4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 name=""/>
                <p:cNvSpPr/>
                <p:nvPr/>
              </p:nvSpPr>
              <p:spPr>
                <a:xfrm>
                  <a:off x="4716360" y="2262240"/>
                  <a:ext cx="3662640" cy="3708360"/>
                </a:xfrm>
                <a:custGeom>
                  <a:avLst/>
                  <a:gdLst/>
                  <a:ahLst/>
                  <a:rect l="l" t="t" r="r" b="b"/>
                  <a:pathLst>
                    <a:path w="2307" h="2336">
                      <a:moveTo>
                        <a:pt x="1426" y="0"/>
                      </a:moveTo>
                      <a:lnTo>
                        <a:pt x="2220" y="1155"/>
                      </a:lnTo>
                      <a:lnTo>
                        <a:pt x="2281" y="1288"/>
                      </a:lnTo>
                      <a:lnTo>
                        <a:pt x="2306" y="1397"/>
                      </a:lnTo>
                      <a:lnTo>
                        <a:pt x="2306" y="1505"/>
                      </a:lnTo>
                      <a:lnTo>
                        <a:pt x="2294" y="1613"/>
                      </a:lnTo>
                      <a:lnTo>
                        <a:pt x="2257" y="1721"/>
                      </a:lnTo>
                      <a:lnTo>
                        <a:pt x="2220" y="1818"/>
                      </a:lnTo>
                      <a:lnTo>
                        <a:pt x="2157" y="1914"/>
                      </a:lnTo>
                      <a:lnTo>
                        <a:pt x="2095" y="1973"/>
                      </a:lnTo>
                      <a:lnTo>
                        <a:pt x="2058" y="2034"/>
                      </a:lnTo>
                      <a:lnTo>
                        <a:pt x="1983" y="2118"/>
                      </a:lnTo>
                      <a:lnTo>
                        <a:pt x="1847" y="2202"/>
                      </a:lnTo>
                      <a:lnTo>
                        <a:pt x="1735" y="2263"/>
                      </a:lnTo>
                      <a:lnTo>
                        <a:pt x="1561" y="2323"/>
                      </a:lnTo>
                      <a:lnTo>
                        <a:pt x="1389" y="2335"/>
                      </a:lnTo>
                      <a:lnTo>
                        <a:pt x="1289" y="2323"/>
                      </a:lnTo>
                      <a:lnTo>
                        <a:pt x="1215" y="2299"/>
                      </a:lnTo>
                      <a:lnTo>
                        <a:pt x="1078" y="2335"/>
                      </a:lnTo>
                      <a:lnTo>
                        <a:pt x="905" y="2335"/>
                      </a:lnTo>
                      <a:lnTo>
                        <a:pt x="731" y="2312"/>
                      </a:lnTo>
                      <a:lnTo>
                        <a:pt x="583" y="2263"/>
                      </a:lnTo>
                      <a:lnTo>
                        <a:pt x="471" y="2190"/>
                      </a:lnTo>
                      <a:lnTo>
                        <a:pt x="397" y="2118"/>
                      </a:lnTo>
                      <a:lnTo>
                        <a:pt x="259" y="2058"/>
                      </a:lnTo>
                      <a:lnTo>
                        <a:pt x="149" y="1998"/>
                      </a:lnTo>
                      <a:lnTo>
                        <a:pt x="86" y="1902"/>
                      </a:lnTo>
                      <a:lnTo>
                        <a:pt x="25" y="1769"/>
                      </a:lnTo>
                      <a:lnTo>
                        <a:pt x="0" y="1661"/>
                      </a:lnTo>
                      <a:lnTo>
                        <a:pt x="0" y="1480"/>
                      </a:lnTo>
                      <a:lnTo>
                        <a:pt x="25" y="1360"/>
                      </a:lnTo>
                      <a:lnTo>
                        <a:pt x="74" y="1263"/>
                      </a:lnTo>
                      <a:lnTo>
                        <a:pt x="186" y="1107"/>
                      </a:lnTo>
                      <a:lnTo>
                        <a:pt x="285" y="963"/>
                      </a:lnTo>
                      <a:lnTo>
                        <a:pt x="943" y="47"/>
                      </a:lnTo>
                      <a:lnTo>
                        <a:pt x="1054" y="12"/>
                      </a:lnTo>
                      <a:lnTo>
                        <a:pt x="769" y="397"/>
                      </a:lnTo>
                      <a:lnTo>
                        <a:pt x="458" y="794"/>
                      </a:lnTo>
                      <a:lnTo>
                        <a:pt x="285" y="1023"/>
                      </a:lnTo>
                      <a:lnTo>
                        <a:pt x="198" y="1179"/>
                      </a:lnTo>
                      <a:lnTo>
                        <a:pt x="112" y="1324"/>
                      </a:lnTo>
                      <a:lnTo>
                        <a:pt x="98" y="1397"/>
                      </a:lnTo>
                      <a:lnTo>
                        <a:pt x="98" y="1444"/>
                      </a:lnTo>
                      <a:lnTo>
                        <a:pt x="86" y="1589"/>
                      </a:lnTo>
                      <a:lnTo>
                        <a:pt x="112" y="1710"/>
                      </a:lnTo>
                      <a:lnTo>
                        <a:pt x="135" y="1793"/>
                      </a:lnTo>
                      <a:lnTo>
                        <a:pt x="186" y="1902"/>
                      </a:lnTo>
                      <a:lnTo>
                        <a:pt x="248" y="1986"/>
                      </a:lnTo>
                      <a:lnTo>
                        <a:pt x="333" y="2034"/>
                      </a:lnTo>
                      <a:lnTo>
                        <a:pt x="397" y="2058"/>
                      </a:lnTo>
                      <a:lnTo>
                        <a:pt x="458" y="2082"/>
                      </a:lnTo>
                      <a:lnTo>
                        <a:pt x="583" y="2190"/>
                      </a:lnTo>
                      <a:lnTo>
                        <a:pt x="705" y="2218"/>
                      </a:lnTo>
                      <a:lnTo>
                        <a:pt x="879" y="2218"/>
                      </a:lnTo>
                      <a:lnTo>
                        <a:pt x="1041" y="2207"/>
                      </a:lnTo>
                      <a:lnTo>
                        <a:pt x="1203" y="2251"/>
                      </a:lnTo>
                      <a:lnTo>
                        <a:pt x="1375" y="2286"/>
                      </a:lnTo>
                      <a:lnTo>
                        <a:pt x="1524" y="2275"/>
                      </a:lnTo>
                      <a:lnTo>
                        <a:pt x="1821" y="2145"/>
                      </a:lnTo>
                      <a:lnTo>
                        <a:pt x="1930" y="1997"/>
                      </a:lnTo>
                      <a:lnTo>
                        <a:pt x="1973" y="1829"/>
                      </a:lnTo>
                      <a:lnTo>
                        <a:pt x="2046" y="1781"/>
                      </a:lnTo>
                      <a:lnTo>
                        <a:pt x="1945" y="1781"/>
                      </a:lnTo>
                      <a:lnTo>
                        <a:pt x="2021" y="1733"/>
                      </a:lnTo>
                      <a:lnTo>
                        <a:pt x="1921" y="1745"/>
                      </a:lnTo>
                      <a:lnTo>
                        <a:pt x="1971" y="1684"/>
                      </a:lnTo>
                      <a:lnTo>
                        <a:pt x="1921" y="1673"/>
                      </a:lnTo>
                      <a:lnTo>
                        <a:pt x="1958" y="1613"/>
                      </a:lnTo>
                      <a:lnTo>
                        <a:pt x="1909" y="1601"/>
                      </a:lnTo>
                      <a:lnTo>
                        <a:pt x="1934" y="1529"/>
                      </a:lnTo>
                      <a:lnTo>
                        <a:pt x="1827" y="1018"/>
                      </a:lnTo>
                      <a:lnTo>
                        <a:pt x="2046" y="1625"/>
                      </a:lnTo>
                      <a:lnTo>
                        <a:pt x="2120" y="1637"/>
                      </a:lnTo>
                      <a:lnTo>
                        <a:pt x="2132" y="1565"/>
                      </a:lnTo>
                      <a:lnTo>
                        <a:pt x="2194" y="1552"/>
                      </a:lnTo>
                      <a:lnTo>
                        <a:pt x="2145" y="1505"/>
                      </a:lnTo>
                      <a:lnTo>
                        <a:pt x="2183" y="1480"/>
                      </a:lnTo>
                      <a:lnTo>
                        <a:pt x="2120" y="1444"/>
                      </a:lnTo>
                      <a:lnTo>
                        <a:pt x="2169" y="1397"/>
                      </a:lnTo>
                      <a:lnTo>
                        <a:pt x="2108" y="1371"/>
                      </a:lnTo>
                      <a:lnTo>
                        <a:pt x="2132" y="1312"/>
                      </a:lnTo>
                      <a:lnTo>
                        <a:pt x="2083" y="1300"/>
                      </a:lnTo>
                      <a:lnTo>
                        <a:pt x="2120" y="1240"/>
                      </a:lnTo>
                      <a:lnTo>
                        <a:pt x="2046" y="1216"/>
                      </a:lnTo>
                      <a:lnTo>
                        <a:pt x="2058" y="1143"/>
                      </a:lnTo>
                      <a:lnTo>
                        <a:pt x="2009" y="1107"/>
                      </a:lnTo>
                      <a:lnTo>
                        <a:pt x="2009" y="1047"/>
                      </a:lnTo>
                      <a:lnTo>
                        <a:pt x="1945" y="975"/>
                      </a:lnTo>
                      <a:lnTo>
                        <a:pt x="1713" y="619"/>
                      </a:lnTo>
                      <a:lnTo>
                        <a:pt x="1648" y="567"/>
                      </a:lnTo>
                      <a:lnTo>
                        <a:pt x="1661" y="518"/>
                      </a:lnTo>
                      <a:lnTo>
                        <a:pt x="1604" y="514"/>
                      </a:lnTo>
                      <a:lnTo>
                        <a:pt x="1612" y="469"/>
                      </a:lnTo>
                      <a:lnTo>
                        <a:pt x="1575" y="457"/>
                      </a:lnTo>
                      <a:lnTo>
                        <a:pt x="1575" y="409"/>
                      </a:lnTo>
                      <a:lnTo>
                        <a:pt x="1529" y="367"/>
                      </a:lnTo>
                      <a:lnTo>
                        <a:pt x="1438" y="229"/>
                      </a:lnTo>
                      <a:lnTo>
                        <a:pt x="1747" y="1189"/>
                      </a:lnTo>
                      <a:lnTo>
                        <a:pt x="1698" y="1288"/>
                      </a:lnTo>
                      <a:lnTo>
                        <a:pt x="1702" y="1166"/>
                      </a:lnTo>
                      <a:lnTo>
                        <a:pt x="1670" y="1177"/>
                      </a:lnTo>
                      <a:lnTo>
                        <a:pt x="1674" y="1120"/>
                      </a:lnTo>
                      <a:lnTo>
                        <a:pt x="1624" y="1107"/>
                      </a:lnTo>
                      <a:lnTo>
                        <a:pt x="1649" y="1023"/>
                      </a:lnTo>
                      <a:lnTo>
                        <a:pt x="1586" y="1023"/>
                      </a:lnTo>
                      <a:lnTo>
                        <a:pt x="1612" y="963"/>
                      </a:lnTo>
                      <a:lnTo>
                        <a:pt x="1549" y="950"/>
                      </a:lnTo>
                      <a:lnTo>
                        <a:pt x="1586" y="890"/>
                      </a:lnTo>
                      <a:lnTo>
                        <a:pt x="1524" y="878"/>
                      </a:lnTo>
                      <a:lnTo>
                        <a:pt x="1561" y="818"/>
                      </a:lnTo>
                      <a:lnTo>
                        <a:pt x="1512" y="807"/>
                      </a:lnTo>
                      <a:lnTo>
                        <a:pt x="1537" y="734"/>
                      </a:lnTo>
                      <a:lnTo>
                        <a:pt x="1488" y="722"/>
                      </a:lnTo>
                      <a:lnTo>
                        <a:pt x="1500" y="662"/>
                      </a:lnTo>
                      <a:lnTo>
                        <a:pt x="1438" y="637"/>
                      </a:lnTo>
                      <a:lnTo>
                        <a:pt x="1451" y="577"/>
                      </a:lnTo>
                      <a:lnTo>
                        <a:pt x="1399" y="545"/>
                      </a:lnTo>
                      <a:lnTo>
                        <a:pt x="1426" y="481"/>
                      </a:lnTo>
                      <a:lnTo>
                        <a:pt x="1377" y="451"/>
                      </a:lnTo>
                      <a:lnTo>
                        <a:pt x="1401" y="373"/>
                      </a:lnTo>
                      <a:lnTo>
                        <a:pt x="1351" y="373"/>
                      </a:lnTo>
                      <a:lnTo>
                        <a:pt x="1338" y="301"/>
                      </a:lnTo>
                      <a:lnTo>
                        <a:pt x="1344" y="272"/>
                      </a:lnTo>
                      <a:lnTo>
                        <a:pt x="1280" y="272"/>
                      </a:lnTo>
                      <a:lnTo>
                        <a:pt x="1322" y="1303"/>
                      </a:lnTo>
                      <a:lnTo>
                        <a:pt x="1252" y="1240"/>
                      </a:lnTo>
                      <a:lnTo>
                        <a:pt x="1289" y="1120"/>
                      </a:lnTo>
                      <a:lnTo>
                        <a:pt x="1228" y="1131"/>
                      </a:lnTo>
                      <a:lnTo>
                        <a:pt x="1289" y="1011"/>
                      </a:lnTo>
                      <a:lnTo>
                        <a:pt x="1228" y="1011"/>
                      </a:lnTo>
                      <a:lnTo>
                        <a:pt x="1259" y="935"/>
                      </a:lnTo>
                      <a:lnTo>
                        <a:pt x="1178" y="939"/>
                      </a:lnTo>
                      <a:lnTo>
                        <a:pt x="1259" y="841"/>
                      </a:lnTo>
                      <a:lnTo>
                        <a:pt x="1150" y="851"/>
                      </a:lnTo>
                      <a:lnTo>
                        <a:pt x="1259" y="735"/>
                      </a:lnTo>
                      <a:lnTo>
                        <a:pt x="1128" y="771"/>
                      </a:lnTo>
                      <a:lnTo>
                        <a:pt x="1236" y="661"/>
                      </a:lnTo>
                      <a:lnTo>
                        <a:pt x="1115" y="674"/>
                      </a:lnTo>
                      <a:lnTo>
                        <a:pt x="1213" y="577"/>
                      </a:lnTo>
                      <a:lnTo>
                        <a:pt x="1152" y="577"/>
                      </a:lnTo>
                      <a:lnTo>
                        <a:pt x="1192" y="514"/>
                      </a:lnTo>
                      <a:lnTo>
                        <a:pt x="1128" y="503"/>
                      </a:lnTo>
                      <a:lnTo>
                        <a:pt x="1182" y="440"/>
                      </a:lnTo>
                      <a:lnTo>
                        <a:pt x="1128" y="419"/>
                      </a:lnTo>
                      <a:lnTo>
                        <a:pt x="1192" y="357"/>
                      </a:lnTo>
                      <a:lnTo>
                        <a:pt x="1128" y="335"/>
                      </a:lnTo>
                      <a:lnTo>
                        <a:pt x="1192" y="282"/>
                      </a:lnTo>
                      <a:lnTo>
                        <a:pt x="1139" y="272"/>
                      </a:lnTo>
                      <a:lnTo>
                        <a:pt x="1192" y="219"/>
                      </a:lnTo>
                      <a:lnTo>
                        <a:pt x="1150" y="188"/>
                      </a:lnTo>
                      <a:lnTo>
                        <a:pt x="1128" y="143"/>
                      </a:lnTo>
                      <a:lnTo>
                        <a:pt x="905" y="915"/>
                      </a:lnTo>
                      <a:lnTo>
                        <a:pt x="1103" y="12"/>
                      </a:lnTo>
                      <a:lnTo>
                        <a:pt x="1152" y="12"/>
                      </a:lnTo>
                      <a:lnTo>
                        <a:pt x="1166" y="96"/>
                      </a:lnTo>
                      <a:lnTo>
                        <a:pt x="1178" y="143"/>
                      </a:lnTo>
                      <a:lnTo>
                        <a:pt x="1191" y="169"/>
                      </a:lnTo>
                      <a:lnTo>
                        <a:pt x="1215" y="108"/>
                      </a:lnTo>
                      <a:lnTo>
                        <a:pt x="1215" y="12"/>
                      </a:lnTo>
                      <a:lnTo>
                        <a:pt x="1338" y="229"/>
                      </a:lnTo>
                      <a:lnTo>
                        <a:pt x="1301" y="0"/>
                      </a:lnTo>
                      <a:lnTo>
                        <a:pt x="14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 name=""/>
                <p:cNvSpPr/>
                <p:nvPr/>
              </p:nvSpPr>
              <p:spPr>
                <a:xfrm>
                  <a:off x="6508800" y="770040"/>
                  <a:ext cx="2087640" cy="1265040"/>
                </a:xfrm>
                <a:custGeom>
                  <a:avLst/>
                  <a:gdLst/>
                  <a:ahLst/>
                  <a:rect l="l" t="t" r="r" b="b"/>
                  <a:pathLst>
                    <a:path w="1315" h="797">
                      <a:moveTo>
                        <a:pt x="86" y="639"/>
                      </a:moveTo>
                      <a:lnTo>
                        <a:pt x="161" y="602"/>
                      </a:lnTo>
                      <a:lnTo>
                        <a:pt x="247" y="578"/>
                      </a:lnTo>
                      <a:lnTo>
                        <a:pt x="323" y="578"/>
                      </a:lnTo>
                      <a:lnTo>
                        <a:pt x="396" y="555"/>
                      </a:lnTo>
                      <a:lnTo>
                        <a:pt x="446" y="494"/>
                      </a:lnTo>
                      <a:lnTo>
                        <a:pt x="508" y="410"/>
                      </a:lnTo>
                      <a:lnTo>
                        <a:pt x="583" y="302"/>
                      </a:lnTo>
                      <a:lnTo>
                        <a:pt x="669" y="193"/>
                      </a:lnTo>
                      <a:lnTo>
                        <a:pt x="755" y="109"/>
                      </a:lnTo>
                      <a:lnTo>
                        <a:pt x="867" y="49"/>
                      </a:lnTo>
                      <a:lnTo>
                        <a:pt x="941" y="13"/>
                      </a:lnTo>
                      <a:lnTo>
                        <a:pt x="1066" y="13"/>
                      </a:lnTo>
                      <a:lnTo>
                        <a:pt x="1140" y="36"/>
                      </a:lnTo>
                      <a:lnTo>
                        <a:pt x="1240" y="36"/>
                      </a:lnTo>
                      <a:lnTo>
                        <a:pt x="1314" y="0"/>
                      </a:lnTo>
                      <a:lnTo>
                        <a:pt x="1214" y="73"/>
                      </a:lnTo>
                      <a:lnTo>
                        <a:pt x="1301" y="60"/>
                      </a:lnTo>
                      <a:lnTo>
                        <a:pt x="1240" y="109"/>
                      </a:lnTo>
                      <a:lnTo>
                        <a:pt x="1301" y="109"/>
                      </a:lnTo>
                      <a:lnTo>
                        <a:pt x="1226" y="158"/>
                      </a:lnTo>
                      <a:lnTo>
                        <a:pt x="1301" y="181"/>
                      </a:lnTo>
                      <a:lnTo>
                        <a:pt x="1226" y="217"/>
                      </a:lnTo>
                      <a:lnTo>
                        <a:pt x="1314" y="230"/>
                      </a:lnTo>
                      <a:lnTo>
                        <a:pt x="1240" y="254"/>
                      </a:lnTo>
                      <a:lnTo>
                        <a:pt x="1277" y="277"/>
                      </a:lnTo>
                      <a:lnTo>
                        <a:pt x="1214" y="302"/>
                      </a:lnTo>
                      <a:lnTo>
                        <a:pt x="1277" y="314"/>
                      </a:lnTo>
                      <a:lnTo>
                        <a:pt x="1177" y="314"/>
                      </a:lnTo>
                      <a:lnTo>
                        <a:pt x="1066" y="289"/>
                      </a:lnTo>
                      <a:lnTo>
                        <a:pt x="991" y="302"/>
                      </a:lnTo>
                      <a:lnTo>
                        <a:pt x="1078" y="230"/>
                      </a:lnTo>
                      <a:lnTo>
                        <a:pt x="991" y="230"/>
                      </a:lnTo>
                      <a:lnTo>
                        <a:pt x="1091" y="193"/>
                      </a:lnTo>
                      <a:lnTo>
                        <a:pt x="1003" y="193"/>
                      </a:lnTo>
                      <a:lnTo>
                        <a:pt x="1091" y="170"/>
                      </a:lnTo>
                      <a:lnTo>
                        <a:pt x="980" y="146"/>
                      </a:lnTo>
                      <a:lnTo>
                        <a:pt x="1078" y="121"/>
                      </a:lnTo>
                      <a:lnTo>
                        <a:pt x="991" y="97"/>
                      </a:lnTo>
                      <a:lnTo>
                        <a:pt x="1066" y="73"/>
                      </a:lnTo>
                      <a:lnTo>
                        <a:pt x="980" y="60"/>
                      </a:lnTo>
                      <a:lnTo>
                        <a:pt x="904" y="73"/>
                      </a:lnTo>
                      <a:lnTo>
                        <a:pt x="792" y="121"/>
                      </a:lnTo>
                      <a:lnTo>
                        <a:pt x="706" y="205"/>
                      </a:lnTo>
                      <a:lnTo>
                        <a:pt x="470" y="506"/>
                      </a:lnTo>
                      <a:lnTo>
                        <a:pt x="755" y="217"/>
                      </a:lnTo>
                      <a:lnTo>
                        <a:pt x="508" y="519"/>
                      </a:lnTo>
                      <a:lnTo>
                        <a:pt x="843" y="241"/>
                      </a:lnTo>
                      <a:lnTo>
                        <a:pt x="532" y="543"/>
                      </a:lnTo>
                      <a:lnTo>
                        <a:pt x="892" y="314"/>
                      </a:lnTo>
                      <a:lnTo>
                        <a:pt x="954" y="289"/>
                      </a:lnTo>
                      <a:lnTo>
                        <a:pt x="830" y="362"/>
                      </a:lnTo>
                      <a:lnTo>
                        <a:pt x="483" y="639"/>
                      </a:lnTo>
                      <a:lnTo>
                        <a:pt x="421" y="675"/>
                      </a:lnTo>
                      <a:lnTo>
                        <a:pt x="323" y="699"/>
                      </a:lnTo>
                      <a:lnTo>
                        <a:pt x="384" y="651"/>
                      </a:lnTo>
                      <a:lnTo>
                        <a:pt x="285" y="663"/>
                      </a:lnTo>
                      <a:lnTo>
                        <a:pt x="360" y="626"/>
                      </a:lnTo>
                      <a:lnTo>
                        <a:pt x="272" y="615"/>
                      </a:lnTo>
                      <a:lnTo>
                        <a:pt x="223" y="602"/>
                      </a:lnTo>
                      <a:lnTo>
                        <a:pt x="111" y="651"/>
                      </a:lnTo>
                      <a:lnTo>
                        <a:pt x="62" y="687"/>
                      </a:lnTo>
                      <a:lnTo>
                        <a:pt x="186" y="651"/>
                      </a:lnTo>
                      <a:lnTo>
                        <a:pt x="74" y="760"/>
                      </a:lnTo>
                      <a:lnTo>
                        <a:pt x="235" y="663"/>
                      </a:lnTo>
                      <a:lnTo>
                        <a:pt x="135" y="760"/>
                      </a:lnTo>
                      <a:lnTo>
                        <a:pt x="247" y="711"/>
                      </a:lnTo>
                      <a:lnTo>
                        <a:pt x="173" y="783"/>
                      </a:lnTo>
                      <a:lnTo>
                        <a:pt x="0" y="796"/>
                      </a:lnTo>
                      <a:lnTo>
                        <a:pt x="86" y="6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5473800" y="2281320"/>
                  <a:ext cx="896760" cy="1866960"/>
                </a:xfrm>
                <a:custGeom>
                  <a:avLst/>
                  <a:gdLst/>
                  <a:ahLst/>
                  <a:rect l="l" t="t" r="r" b="b"/>
                  <a:pathLst>
                    <a:path w="565" h="1176">
                      <a:moveTo>
                        <a:pt x="553" y="120"/>
                      </a:moveTo>
                      <a:lnTo>
                        <a:pt x="163" y="1175"/>
                      </a:lnTo>
                      <a:lnTo>
                        <a:pt x="119" y="1123"/>
                      </a:lnTo>
                      <a:lnTo>
                        <a:pt x="11" y="1112"/>
                      </a:lnTo>
                      <a:lnTo>
                        <a:pt x="119" y="1049"/>
                      </a:lnTo>
                      <a:lnTo>
                        <a:pt x="0" y="1028"/>
                      </a:lnTo>
                      <a:lnTo>
                        <a:pt x="143" y="975"/>
                      </a:lnTo>
                      <a:lnTo>
                        <a:pt x="0" y="954"/>
                      </a:lnTo>
                      <a:lnTo>
                        <a:pt x="167" y="915"/>
                      </a:lnTo>
                      <a:lnTo>
                        <a:pt x="33" y="870"/>
                      </a:lnTo>
                      <a:lnTo>
                        <a:pt x="180" y="842"/>
                      </a:lnTo>
                      <a:lnTo>
                        <a:pt x="88" y="785"/>
                      </a:lnTo>
                      <a:lnTo>
                        <a:pt x="192" y="759"/>
                      </a:lnTo>
                      <a:lnTo>
                        <a:pt x="130" y="712"/>
                      </a:lnTo>
                      <a:lnTo>
                        <a:pt x="218" y="681"/>
                      </a:lnTo>
                      <a:lnTo>
                        <a:pt x="218" y="625"/>
                      </a:lnTo>
                      <a:lnTo>
                        <a:pt x="564" y="0"/>
                      </a:lnTo>
                      <a:lnTo>
                        <a:pt x="553" y="1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3" name=""/>
              <p:cNvSpPr/>
              <p:nvPr/>
            </p:nvSpPr>
            <p:spPr>
              <a:xfrm>
                <a:off x="6273720" y="1971720"/>
                <a:ext cx="728640" cy="387360"/>
              </a:xfrm>
              <a:custGeom>
                <a:avLst/>
                <a:gdLst/>
                <a:ahLst/>
                <a:rect l="l" t="t" r="r" b="b"/>
                <a:pathLst>
                  <a:path w="459" h="244">
                    <a:moveTo>
                      <a:pt x="7" y="32"/>
                    </a:moveTo>
                    <a:lnTo>
                      <a:pt x="7" y="51"/>
                    </a:lnTo>
                    <a:lnTo>
                      <a:pt x="32" y="56"/>
                    </a:lnTo>
                    <a:lnTo>
                      <a:pt x="96" y="147"/>
                    </a:lnTo>
                    <a:lnTo>
                      <a:pt x="0" y="228"/>
                    </a:lnTo>
                    <a:lnTo>
                      <a:pt x="76" y="209"/>
                    </a:lnTo>
                    <a:lnTo>
                      <a:pt x="134" y="113"/>
                    </a:lnTo>
                    <a:lnTo>
                      <a:pt x="127" y="243"/>
                    </a:lnTo>
                    <a:lnTo>
                      <a:pt x="159" y="204"/>
                    </a:lnTo>
                    <a:lnTo>
                      <a:pt x="203" y="89"/>
                    </a:lnTo>
                    <a:lnTo>
                      <a:pt x="242" y="238"/>
                    </a:lnTo>
                    <a:lnTo>
                      <a:pt x="267" y="104"/>
                    </a:lnTo>
                    <a:lnTo>
                      <a:pt x="331" y="216"/>
                    </a:lnTo>
                    <a:lnTo>
                      <a:pt x="458" y="212"/>
                    </a:lnTo>
                    <a:lnTo>
                      <a:pt x="325" y="0"/>
                    </a:lnTo>
                    <a:lnTo>
                      <a:pt x="7" y="32"/>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4" name=""/>
            <p:cNvSpPr/>
            <p:nvPr/>
          </p:nvSpPr>
          <p:spPr>
            <a:xfrm>
              <a:off x="6256440" y="611280"/>
              <a:ext cx="785880" cy="1454040"/>
            </a:xfrm>
            <a:custGeom>
              <a:avLst/>
              <a:gdLst/>
              <a:ahLst/>
              <a:rect l="l" t="t" r="r" b="b"/>
              <a:pathLst>
                <a:path w="495" h="916">
                  <a:moveTo>
                    <a:pt x="84" y="915"/>
                  </a:moveTo>
                  <a:lnTo>
                    <a:pt x="19" y="856"/>
                  </a:lnTo>
                  <a:lnTo>
                    <a:pt x="0" y="783"/>
                  </a:lnTo>
                  <a:lnTo>
                    <a:pt x="9" y="711"/>
                  </a:lnTo>
                  <a:lnTo>
                    <a:pt x="46" y="651"/>
                  </a:lnTo>
                  <a:lnTo>
                    <a:pt x="84" y="590"/>
                  </a:lnTo>
                  <a:lnTo>
                    <a:pt x="149" y="530"/>
                  </a:lnTo>
                  <a:lnTo>
                    <a:pt x="205" y="458"/>
                  </a:lnTo>
                  <a:lnTo>
                    <a:pt x="233" y="410"/>
                  </a:lnTo>
                  <a:lnTo>
                    <a:pt x="233" y="350"/>
                  </a:lnTo>
                  <a:lnTo>
                    <a:pt x="215" y="289"/>
                  </a:lnTo>
                  <a:lnTo>
                    <a:pt x="168" y="254"/>
                  </a:lnTo>
                  <a:lnTo>
                    <a:pt x="130" y="229"/>
                  </a:lnTo>
                  <a:lnTo>
                    <a:pt x="112" y="181"/>
                  </a:lnTo>
                  <a:lnTo>
                    <a:pt x="140" y="132"/>
                  </a:lnTo>
                  <a:lnTo>
                    <a:pt x="187" y="72"/>
                  </a:lnTo>
                  <a:lnTo>
                    <a:pt x="242" y="24"/>
                  </a:lnTo>
                  <a:lnTo>
                    <a:pt x="308" y="0"/>
                  </a:lnTo>
                  <a:lnTo>
                    <a:pt x="290" y="49"/>
                  </a:lnTo>
                  <a:lnTo>
                    <a:pt x="336" y="37"/>
                  </a:lnTo>
                  <a:lnTo>
                    <a:pt x="317" y="72"/>
                  </a:lnTo>
                  <a:lnTo>
                    <a:pt x="364" y="61"/>
                  </a:lnTo>
                  <a:lnTo>
                    <a:pt x="336" y="121"/>
                  </a:lnTo>
                  <a:lnTo>
                    <a:pt x="392" y="96"/>
                  </a:lnTo>
                  <a:lnTo>
                    <a:pt x="355" y="156"/>
                  </a:lnTo>
                  <a:lnTo>
                    <a:pt x="420" y="132"/>
                  </a:lnTo>
                  <a:lnTo>
                    <a:pt x="401" y="181"/>
                  </a:lnTo>
                  <a:lnTo>
                    <a:pt x="438" y="193"/>
                  </a:lnTo>
                  <a:lnTo>
                    <a:pt x="429" y="229"/>
                  </a:lnTo>
                  <a:lnTo>
                    <a:pt x="466" y="242"/>
                  </a:lnTo>
                  <a:lnTo>
                    <a:pt x="494" y="289"/>
                  </a:lnTo>
                  <a:lnTo>
                    <a:pt x="485" y="361"/>
                  </a:lnTo>
                  <a:lnTo>
                    <a:pt x="448" y="434"/>
                  </a:lnTo>
                  <a:lnTo>
                    <a:pt x="383" y="518"/>
                  </a:lnTo>
                  <a:lnTo>
                    <a:pt x="317" y="579"/>
                  </a:lnTo>
                  <a:lnTo>
                    <a:pt x="420" y="434"/>
                  </a:lnTo>
                  <a:lnTo>
                    <a:pt x="448" y="361"/>
                  </a:lnTo>
                  <a:lnTo>
                    <a:pt x="438" y="289"/>
                  </a:lnTo>
                  <a:lnTo>
                    <a:pt x="401" y="254"/>
                  </a:lnTo>
                  <a:lnTo>
                    <a:pt x="168" y="156"/>
                  </a:lnTo>
                  <a:lnTo>
                    <a:pt x="158" y="181"/>
                  </a:lnTo>
                  <a:lnTo>
                    <a:pt x="168" y="217"/>
                  </a:lnTo>
                  <a:lnTo>
                    <a:pt x="233" y="266"/>
                  </a:lnTo>
                  <a:lnTo>
                    <a:pt x="261" y="313"/>
                  </a:lnTo>
                  <a:lnTo>
                    <a:pt x="280" y="398"/>
                  </a:lnTo>
                  <a:lnTo>
                    <a:pt x="270" y="446"/>
                  </a:lnTo>
                  <a:lnTo>
                    <a:pt x="336" y="385"/>
                  </a:lnTo>
                  <a:lnTo>
                    <a:pt x="298" y="482"/>
                  </a:lnTo>
                  <a:lnTo>
                    <a:pt x="392" y="373"/>
                  </a:lnTo>
                  <a:lnTo>
                    <a:pt x="326" y="494"/>
                  </a:lnTo>
                  <a:lnTo>
                    <a:pt x="392" y="434"/>
                  </a:lnTo>
                  <a:lnTo>
                    <a:pt x="261" y="615"/>
                  </a:lnTo>
                  <a:lnTo>
                    <a:pt x="205" y="674"/>
                  </a:lnTo>
                  <a:lnTo>
                    <a:pt x="187" y="711"/>
                  </a:lnTo>
                  <a:lnTo>
                    <a:pt x="177" y="795"/>
                  </a:lnTo>
                  <a:lnTo>
                    <a:pt x="130" y="892"/>
                  </a:lnTo>
                  <a:lnTo>
                    <a:pt x="102" y="844"/>
                  </a:lnTo>
                  <a:lnTo>
                    <a:pt x="94" y="771"/>
                  </a:lnTo>
                  <a:lnTo>
                    <a:pt x="94" y="711"/>
                  </a:lnTo>
                  <a:lnTo>
                    <a:pt x="102" y="651"/>
                  </a:lnTo>
                  <a:lnTo>
                    <a:pt x="130" y="590"/>
                  </a:lnTo>
                  <a:lnTo>
                    <a:pt x="56" y="687"/>
                  </a:lnTo>
                  <a:lnTo>
                    <a:pt x="38" y="783"/>
                  </a:lnTo>
                  <a:lnTo>
                    <a:pt x="56" y="831"/>
                  </a:lnTo>
                  <a:lnTo>
                    <a:pt x="94" y="903"/>
                  </a:lnTo>
                  <a:lnTo>
                    <a:pt x="84" y="9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5" name=""/>
          <p:cNvSpPr/>
          <p:nvPr/>
        </p:nvSpPr>
        <p:spPr>
          <a:xfrm>
            <a:off x="4976640" y="3706920"/>
            <a:ext cx="3289320" cy="2055600"/>
          </a:xfrm>
          <a:custGeom>
            <a:avLst/>
            <a:gdLst>
              <a:gd name="textAreaLeft" fmla="*/ 750960 w 3289320"/>
              <a:gd name="textAreaRight" fmla="*/ 2538360 w 3289320"/>
              <a:gd name="textAreaTop" fmla="*/ 469080 h 2055600"/>
              <a:gd name="textAreaBottom" fmla="*/ 1586520 h 2055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96" name="" descr=""/>
          <p:cNvPicPr/>
          <p:nvPr/>
        </p:nvPicPr>
        <p:blipFill>
          <a:blip r:embed="rId1"/>
          <a:stretch/>
        </p:blipFill>
        <p:spPr>
          <a:xfrm>
            <a:off x="6373800" y="4016520"/>
            <a:ext cx="819000" cy="885600"/>
          </a:xfrm>
          <a:prstGeom prst="rect">
            <a:avLst/>
          </a:prstGeom>
          <a:ln w="0">
            <a:noFill/>
          </a:ln>
        </p:spPr>
      </p:pic>
      <p:pic>
        <p:nvPicPr>
          <p:cNvPr id="97" name="" descr=""/>
          <p:cNvPicPr/>
          <p:nvPr/>
        </p:nvPicPr>
        <p:blipFill>
          <a:blip r:embed="rId2"/>
          <a:stretch/>
        </p:blipFill>
        <p:spPr>
          <a:xfrm>
            <a:off x="5691240" y="4497480"/>
            <a:ext cx="819000" cy="885600"/>
          </a:xfrm>
          <a:prstGeom prst="rect">
            <a:avLst/>
          </a:prstGeom>
          <a:ln w="0">
            <a:noFill/>
          </a:ln>
        </p:spPr>
      </p:pic>
      <p:pic>
        <p:nvPicPr>
          <p:cNvPr id="98" name="" descr=""/>
          <p:cNvPicPr/>
          <p:nvPr/>
        </p:nvPicPr>
        <p:blipFill>
          <a:blip r:embed="rId3"/>
          <a:stretch/>
        </p:blipFill>
        <p:spPr>
          <a:xfrm>
            <a:off x="6762600" y="4624560"/>
            <a:ext cx="817560" cy="885600"/>
          </a:xfrm>
          <a:prstGeom prst="rect">
            <a:avLst/>
          </a:prstGeom>
          <a:ln w="0">
            <a:noFill/>
          </a:ln>
        </p:spPr>
      </p:pic>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465"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entries may appear in any order. This represents the same bag as the previous one. . . </a:t>
            </a:r>
            <a:endParaRPr b="0" lang="en-US" sz="2800" spc="-1" strike="noStrike">
              <a:solidFill>
                <a:srgbClr val="e0e0e0"/>
              </a:solidFill>
              <a:latin typeface="Times New Roman"/>
            </a:endParaRPr>
          </a:p>
        </p:txBody>
      </p:sp>
      <p:sp>
        <p:nvSpPr>
          <p:cNvPr id="466"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7"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8"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9"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0"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1"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2"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3"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474"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75"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76"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477"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8"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9"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480" name=""/>
          <p:cNvGrpSpPr/>
          <p:nvPr/>
        </p:nvGrpSpPr>
        <p:grpSpPr>
          <a:xfrm>
            <a:off x="6294600" y="1054080"/>
            <a:ext cx="2468520" cy="2927520"/>
            <a:chOff x="6294600" y="1054080"/>
            <a:chExt cx="2468520" cy="2927520"/>
          </a:xfrm>
        </p:grpSpPr>
        <p:grpSp>
          <p:nvGrpSpPr>
            <p:cNvPr id="481" name=""/>
            <p:cNvGrpSpPr/>
            <p:nvPr/>
          </p:nvGrpSpPr>
          <p:grpSpPr>
            <a:xfrm>
              <a:off x="6294600" y="1054080"/>
              <a:ext cx="2468520" cy="2927520"/>
              <a:chOff x="6294600" y="1054080"/>
              <a:chExt cx="2468520" cy="2927520"/>
            </a:xfrm>
          </p:grpSpPr>
          <p:grpSp>
            <p:nvGrpSpPr>
              <p:cNvPr id="482" name=""/>
              <p:cNvGrpSpPr/>
              <p:nvPr/>
            </p:nvGrpSpPr>
            <p:grpSpPr>
              <a:xfrm>
                <a:off x="6294600" y="1138320"/>
                <a:ext cx="2468520" cy="2843280"/>
                <a:chOff x="6294600" y="1138320"/>
                <a:chExt cx="2468520" cy="2843280"/>
              </a:xfrm>
            </p:grpSpPr>
            <p:grpSp>
              <p:nvGrpSpPr>
                <p:cNvPr id="483" name=""/>
                <p:cNvGrpSpPr/>
                <p:nvPr/>
              </p:nvGrpSpPr>
              <p:grpSpPr>
                <a:xfrm>
                  <a:off x="6294600" y="1138320"/>
                  <a:ext cx="2468520" cy="2843280"/>
                  <a:chOff x="6294600" y="1138320"/>
                  <a:chExt cx="2468520" cy="2843280"/>
                </a:xfrm>
              </p:grpSpPr>
              <p:sp>
                <p:nvSpPr>
                  <p:cNvPr id="484"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5"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7"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8"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9"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0"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2"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93"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94"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95"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96" name="" descr=""/>
            <p:cNvPicPr/>
            <p:nvPr/>
          </p:nvPicPr>
          <p:blipFill>
            <a:blip r:embed="rId1"/>
            <a:stretch/>
          </p:blipFill>
          <p:spPr>
            <a:xfrm>
              <a:off x="6850080" y="2963880"/>
              <a:ext cx="566640" cy="606240"/>
            </a:xfrm>
            <a:prstGeom prst="rect">
              <a:avLst/>
            </a:prstGeom>
            <a:ln w="0">
              <a:noFill/>
            </a:ln>
          </p:spPr>
        </p:pic>
        <p:pic>
          <p:nvPicPr>
            <p:cNvPr id="497" name="" descr=""/>
            <p:cNvPicPr/>
            <p:nvPr/>
          </p:nvPicPr>
          <p:blipFill>
            <a:blip r:embed="rId2"/>
            <a:stretch/>
          </p:blipFill>
          <p:spPr>
            <a:xfrm>
              <a:off x="7221600" y="3255840"/>
              <a:ext cx="615960" cy="666720"/>
            </a:xfrm>
            <a:prstGeom prst="rect">
              <a:avLst/>
            </a:prstGeom>
            <a:ln w="0">
              <a:noFill/>
            </a:ln>
          </p:spPr>
        </p:pic>
        <p:pic>
          <p:nvPicPr>
            <p:cNvPr id="498" name="" descr=""/>
            <p:cNvPicPr/>
            <p:nvPr/>
          </p:nvPicPr>
          <p:blipFill>
            <a:blip r:embed="rId3"/>
            <a:stretch/>
          </p:blipFill>
          <p:spPr>
            <a:xfrm>
              <a:off x="7547040" y="2989440"/>
              <a:ext cx="566640" cy="606240"/>
            </a:xfrm>
            <a:prstGeom prst="rect">
              <a:avLst/>
            </a:prstGeom>
            <a:ln w="0">
              <a:noFill/>
            </a:ln>
          </p:spPr>
        </p:pic>
      </p:grpSp>
      <p:sp>
        <p:nvSpPr>
          <p:cNvPr id="499"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500"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501"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502"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503"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504"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505"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507"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 . . and this also represents the same bag.</a:t>
            </a:r>
            <a:endParaRPr b="0" lang="en-US" sz="2800" spc="-1" strike="noStrike">
              <a:solidFill>
                <a:srgbClr val="e0e0e0"/>
              </a:solidFill>
              <a:latin typeface="Times New Roman"/>
            </a:endParaRPr>
          </a:p>
        </p:txBody>
      </p:sp>
      <p:sp>
        <p:nvSpPr>
          <p:cNvPr id="508" name=""/>
          <p:cNvSpPr/>
          <p:nvPr/>
        </p:nvSpPr>
        <p:spPr>
          <a:xfrm>
            <a:off x="1708200" y="4670280"/>
            <a:ext cx="604656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9"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0"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1"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2"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4"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5"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516"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7"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8"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519" name=""/>
          <p:cNvGrpSpPr/>
          <p:nvPr/>
        </p:nvGrpSpPr>
        <p:grpSpPr>
          <a:xfrm>
            <a:off x="6294600" y="1054080"/>
            <a:ext cx="2468520" cy="2927520"/>
            <a:chOff x="6294600" y="1054080"/>
            <a:chExt cx="2468520" cy="2927520"/>
          </a:xfrm>
        </p:grpSpPr>
        <p:grpSp>
          <p:nvGrpSpPr>
            <p:cNvPr id="520" name=""/>
            <p:cNvGrpSpPr/>
            <p:nvPr/>
          </p:nvGrpSpPr>
          <p:grpSpPr>
            <a:xfrm>
              <a:off x="6294600" y="1054080"/>
              <a:ext cx="2468520" cy="2927520"/>
              <a:chOff x="6294600" y="1054080"/>
              <a:chExt cx="2468520" cy="2927520"/>
            </a:xfrm>
          </p:grpSpPr>
          <p:grpSp>
            <p:nvGrpSpPr>
              <p:cNvPr id="521" name=""/>
              <p:cNvGrpSpPr/>
              <p:nvPr/>
            </p:nvGrpSpPr>
            <p:grpSpPr>
              <a:xfrm>
                <a:off x="6294600" y="1138320"/>
                <a:ext cx="2468520" cy="2843280"/>
                <a:chOff x="6294600" y="1138320"/>
                <a:chExt cx="2468520" cy="2843280"/>
              </a:xfrm>
            </p:grpSpPr>
            <p:grpSp>
              <p:nvGrpSpPr>
                <p:cNvPr id="522" name=""/>
                <p:cNvGrpSpPr/>
                <p:nvPr/>
              </p:nvGrpSpPr>
              <p:grpSpPr>
                <a:xfrm>
                  <a:off x="6294600" y="1138320"/>
                  <a:ext cx="2468520" cy="2843280"/>
                  <a:chOff x="6294600" y="1138320"/>
                  <a:chExt cx="2468520" cy="2843280"/>
                </a:xfrm>
              </p:grpSpPr>
              <p:sp>
                <p:nvSpPr>
                  <p:cNvPr id="523"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4"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5"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6"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7"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8"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9"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0"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1"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32"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33"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34"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535" name="" descr=""/>
            <p:cNvPicPr/>
            <p:nvPr/>
          </p:nvPicPr>
          <p:blipFill>
            <a:blip r:embed="rId1"/>
            <a:stretch/>
          </p:blipFill>
          <p:spPr>
            <a:xfrm>
              <a:off x="6850080" y="2963880"/>
              <a:ext cx="566640" cy="606240"/>
            </a:xfrm>
            <a:prstGeom prst="rect">
              <a:avLst/>
            </a:prstGeom>
            <a:ln w="0">
              <a:noFill/>
            </a:ln>
          </p:spPr>
        </p:pic>
        <p:pic>
          <p:nvPicPr>
            <p:cNvPr id="536" name="" descr=""/>
            <p:cNvPicPr/>
            <p:nvPr/>
          </p:nvPicPr>
          <p:blipFill>
            <a:blip r:embed="rId2"/>
            <a:stretch/>
          </p:blipFill>
          <p:spPr>
            <a:xfrm>
              <a:off x="7221600" y="3255840"/>
              <a:ext cx="615960" cy="666720"/>
            </a:xfrm>
            <a:prstGeom prst="rect">
              <a:avLst/>
            </a:prstGeom>
            <a:ln w="0">
              <a:noFill/>
            </a:ln>
          </p:spPr>
        </p:pic>
        <p:pic>
          <p:nvPicPr>
            <p:cNvPr id="537" name="" descr=""/>
            <p:cNvPicPr/>
            <p:nvPr/>
          </p:nvPicPr>
          <p:blipFill>
            <a:blip r:embed="rId3"/>
            <a:stretch/>
          </p:blipFill>
          <p:spPr>
            <a:xfrm>
              <a:off x="7547040" y="2989440"/>
              <a:ext cx="566640" cy="606240"/>
            </a:xfrm>
            <a:prstGeom prst="rect">
              <a:avLst/>
            </a:prstGeom>
            <a:ln w="0">
              <a:noFill/>
            </a:ln>
          </p:spPr>
        </p:pic>
      </p:grpSp>
      <p:sp>
        <p:nvSpPr>
          <p:cNvPr id="538"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539"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540"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541"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542"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543"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544"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545"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46"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47"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549" name="PlaceHolder 2"/>
          <p:cNvSpPr>
            <a:spLocks noGrp="1"/>
          </p:cNvSpPr>
          <p:nvPr>
            <p:ph/>
          </p:nvPr>
        </p:nvSpPr>
        <p:spPr>
          <a:xfrm>
            <a:off x="685800" y="1981080"/>
            <a:ext cx="608184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also need to keep track of how many numbers are in the bag.</a:t>
            </a:r>
            <a:endParaRPr b="0" lang="en-US" sz="2800" spc="-1" strike="noStrike">
              <a:solidFill>
                <a:srgbClr val="e0e0e0"/>
              </a:solidFill>
              <a:latin typeface="Times New Roman"/>
            </a:endParaRPr>
          </a:p>
        </p:txBody>
      </p:sp>
      <p:sp>
        <p:nvSpPr>
          <p:cNvPr id="550" name=""/>
          <p:cNvSpPr/>
          <p:nvPr/>
        </p:nvSpPr>
        <p:spPr>
          <a:xfrm>
            <a:off x="1708200" y="4670280"/>
            <a:ext cx="604656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1"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2"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3"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4"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6"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7"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558"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559"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60"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61"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2"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3"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564" name=""/>
          <p:cNvGrpSpPr/>
          <p:nvPr/>
        </p:nvGrpSpPr>
        <p:grpSpPr>
          <a:xfrm>
            <a:off x="6294600" y="1054080"/>
            <a:ext cx="2468520" cy="2927520"/>
            <a:chOff x="6294600" y="1054080"/>
            <a:chExt cx="2468520" cy="2927520"/>
          </a:xfrm>
        </p:grpSpPr>
        <p:grpSp>
          <p:nvGrpSpPr>
            <p:cNvPr id="565" name=""/>
            <p:cNvGrpSpPr/>
            <p:nvPr/>
          </p:nvGrpSpPr>
          <p:grpSpPr>
            <a:xfrm>
              <a:off x="6294600" y="1054080"/>
              <a:ext cx="2468520" cy="2927520"/>
              <a:chOff x="6294600" y="1054080"/>
              <a:chExt cx="2468520" cy="2927520"/>
            </a:xfrm>
          </p:grpSpPr>
          <p:grpSp>
            <p:nvGrpSpPr>
              <p:cNvPr id="566" name=""/>
              <p:cNvGrpSpPr/>
              <p:nvPr/>
            </p:nvGrpSpPr>
            <p:grpSpPr>
              <a:xfrm>
                <a:off x="6294600" y="1138320"/>
                <a:ext cx="2468520" cy="2843280"/>
                <a:chOff x="6294600" y="1138320"/>
                <a:chExt cx="2468520" cy="2843280"/>
              </a:xfrm>
            </p:grpSpPr>
            <p:grpSp>
              <p:nvGrpSpPr>
                <p:cNvPr id="567" name=""/>
                <p:cNvGrpSpPr/>
                <p:nvPr/>
              </p:nvGrpSpPr>
              <p:grpSpPr>
                <a:xfrm>
                  <a:off x="6294600" y="1138320"/>
                  <a:ext cx="2468520" cy="2843280"/>
                  <a:chOff x="6294600" y="1138320"/>
                  <a:chExt cx="2468520" cy="2843280"/>
                </a:xfrm>
              </p:grpSpPr>
              <p:sp>
                <p:nvSpPr>
                  <p:cNvPr id="568"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9"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0"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1"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2"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3"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4"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5"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6"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77"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78"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79"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580" name="" descr=""/>
            <p:cNvPicPr/>
            <p:nvPr/>
          </p:nvPicPr>
          <p:blipFill>
            <a:blip r:embed="rId1"/>
            <a:stretch/>
          </p:blipFill>
          <p:spPr>
            <a:xfrm>
              <a:off x="6850080" y="2963880"/>
              <a:ext cx="566640" cy="606240"/>
            </a:xfrm>
            <a:prstGeom prst="rect">
              <a:avLst/>
            </a:prstGeom>
            <a:ln w="0">
              <a:noFill/>
            </a:ln>
          </p:spPr>
        </p:pic>
        <p:pic>
          <p:nvPicPr>
            <p:cNvPr id="581" name="" descr=""/>
            <p:cNvPicPr/>
            <p:nvPr/>
          </p:nvPicPr>
          <p:blipFill>
            <a:blip r:embed="rId2"/>
            <a:stretch/>
          </p:blipFill>
          <p:spPr>
            <a:xfrm>
              <a:off x="7221600" y="3255840"/>
              <a:ext cx="615960" cy="666720"/>
            </a:xfrm>
            <a:prstGeom prst="rect">
              <a:avLst/>
            </a:prstGeom>
            <a:ln w="0">
              <a:noFill/>
            </a:ln>
          </p:spPr>
        </p:pic>
        <p:pic>
          <p:nvPicPr>
            <p:cNvPr id="582" name="" descr=""/>
            <p:cNvPicPr/>
            <p:nvPr/>
          </p:nvPicPr>
          <p:blipFill>
            <a:blip r:embed="rId3"/>
            <a:stretch/>
          </p:blipFill>
          <p:spPr>
            <a:xfrm>
              <a:off x="7547040" y="2989440"/>
              <a:ext cx="566640" cy="606240"/>
            </a:xfrm>
            <a:prstGeom prst="rect">
              <a:avLst/>
            </a:prstGeom>
            <a:ln w="0">
              <a:noFill/>
            </a:ln>
          </p:spPr>
        </p:pic>
      </p:grpSp>
      <p:sp>
        <p:nvSpPr>
          <p:cNvPr id="583" name=""/>
          <p:cNvSpPr/>
          <p:nvPr/>
        </p:nvSpPr>
        <p:spPr>
          <a:xfrm>
            <a:off x="1733400" y="297180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4" name=""/>
          <p:cNvSpPr/>
          <p:nvPr/>
        </p:nvSpPr>
        <p:spPr>
          <a:xfrm>
            <a:off x="2885040" y="3000240"/>
            <a:ext cx="31212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integer to keep</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rack of the bag's size</a:t>
            </a:r>
            <a:endParaRPr b="0" lang="en-US" sz="2400" spc="-1" strike="noStrike">
              <a:solidFill>
                <a:srgbClr val="e0e0e0"/>
              </a:solidFill>
              <a:latin typeface="Arial"/>
            </a:endParaRPr>
          </a:p>
        </p:txBody>
      </p:sp>
      <p:sp>
        <p:nvSpPr>
          <p:cNvPr id="585" name=""/>
          <p:cNvSpPr/>
          <p:nvPr/>
        </p:nvSpPr>
        <p:spPr>
          <a:xfrm>
            <a:off x="2023920" y="31352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a:t>
            </a:r>
            <a:endParaRPr b="0" lang="en-US" sz="2400" spc="-1" strike="noStrike">
              <a:solidFill>
                <a:srgbClr val="e0e0e0"/>
              </a:solidFill>
              <a:latin typeface="Arial"/>
            </a:endParaRPr>
          </a:p>
        </p:txBody>
      </p:sp>
      <p:sp>
        <p:nvSpPr>
          <p:cNvPr id="586"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587"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588"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589"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590"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591"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592"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ercise</a:t>
            </a:r>
            <a:endParaRPr b="0" lang="en-US" sz="4400" spc="-1" strike="noStrike">
              <a:solidFill>
                <a:srgbClr val="00cece"/>
              </a:solidFill>
              <a:latin typeface="Times New Roman"/>
            </a:endParaRPr>
          </a:p>
        </p:txBody>
      </p:sp>
      <p:sp>
        <p:nvSpPr>
          <p:cNvPr id="594"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0e0e0"/>
                </a:solidFill>
                <a:latin typeface="Arial"/>
              </a:rPr>
              <a:t>Use these ideas to write a list of private instance variables could implement the Bag class.  You should have two instance variables. </a:t>
            </a:r>
            <a:endParaRPr b="0" lang="en-US" sz="2400" spc="-1" strike="noStrike">
              <a:solidFill>
                <a:srgbClr val="e0e0e0"/>
              </a:solidFill>
              <a:latin typeface="Times New Roman"/>
            </a:endParaRPr>
          </a:p>
        </p:txBody>
      </p:sp>
      <p:pic>
        <p:nvPicPr>
          <p:cNvPr id="595" name="" descr=""/>
          <p:cNvPicPr/>
          <p:nvPr/>
        </p:nvPicPr>
        <p:blipFill>
          <a:blip r:embed="rId1"/>
          <a:stretch/>
        </p:blipFill>
        <p:spPr>
          <a:xfrm>
            <a:off x="6399360" y="1995480"/>
            <a:ext cx="2154240" cy="3481560"/>
          </a:xfrm>
          <a:prstGeom prst="rect">
            <a:avLst/>
          </a:prstGeom>
          <a:ln w="0">
            <a:noFill/>
          </a:ln>
        </p:spPr>
      </p:pic>
      <p:sp>
        <p:nvSpPr>
          <p:cNvPr id="596" name=""/>
          <p:cNvSpPr/>
          <p:nvPr/>
        </p:nvSpPr>
        <p:spPr>
          <a:xfrm>
            <a:off x="4896360" y="5648400"/>
            <a:ext cx="36075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You have 60 secon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to write the declaration.</a:t>
            </a:r>
            <a:endParaRPr b="0" lang="en-US" sz="2400" spc="-1" strike="noStrike">
              <a:solidFill>
                <a:srgbClr val="e0e0e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ercise</a:t>
            </a:r>
            <a:endParaRPr b="0" lang="en-US" sz="4400" spc="-1" strike="noStrike">
              <a:solidFill>
                <a:srgbClr val="00cece"/>
              </a:solidFill>
              <a:latin typeface="Times New Roman"/>
            </a:endParaRPr>
          </a:p>
        </p:txBody>
      </p:sp>
      <p:sp>
        <p:nvSpPr>
          <p:cNvPr id="598" name=""/>
          <p:cNvSpPr/>
          <p:nvPr/>
        </p:nvSpPr>
        <p:spPr>
          <a:xfrm>
            <a:off x="549360" y="2832120"/>
            <a:ext cx="6954840" cy="38559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9" name=""/>
          <p:cNvSpPr/>
          <p:nvPr/>
        </p:nvSpPr>
        <p:spPr>
          <a:xfrm>
            <a:off x="615960" y="2990880"/>
            <a:ext cx="6540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private</a:t>
            </a:r>
            <a:r>
              <a:rPr b="1" lang="en-US" sz="2400" spc="-1" strike="noStrike">
                <a:solidFill>
                  <a:srgbClr val="000020"/>
                </a:solidFill>
                <a:latin typeface="Arial"/>
              </a:rPr>
              <a:t> </a:t>
            </a:r>
            <a:r>
              <a:rPr b="1" lang="en-US" sz="2400" spc="-1" strike="noStrike">
                <a:solidFill>
                  <a:srgbClr val="fc0128"/>
                </a:solidFill>
                <a:latin typeface="Arial"/>
              </a:rPr>
              <a:t>int[ ]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rivate int manyItem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pic>
        <p:nvPicPr>
          <p:cNvPr id="600" name="" descr=""/>
          <p:cNvPicPr/>
          <p:nvPr/>
        </p:nvPicPr>
        <p:blipFill>
          <a:blip r:embed="rId1"/>
          <a:stretch/>
        </p:blipFill>
        <p:spPr>
          <a:xfrm>
            <a:off x="6407280" y="2014560"/>
            <a:ext cx="2109600" cy="3409920"/>
          </a:xfrm>
          <a:prstGeom prst="rect">
            <a:avLst/>
          </a:prstGeom>
          <a:ln w="0">
            <a:noFill/>
          </a:ln>
        </p:spPr>
      </p:pic>
      <p:sp>
        <p:nvSpPr>
          <p:cNvPr id="601" name=""/>
          <p:cNvSpPr/>
          <p:nvPr/>
        </p:nvSpPr>
        <p:spPr>
          <a:xfrm>
            <a:off x="489240" y="2173320"/>
            <a:ext cx="2109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e solution:</a:t>
            </a:r>
            <a:endParaRPr b="0" lang="en-US" sz="2800" spc="-1" strike="noStrike">
              <a:solidFill>
                <a:srgbClr val="e0e0e0"/>
              </a:solidFill>
              <a:latin typeface="Arial"/>
            </a:endParaRPr>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ample of Calling Add</a:t>
            </a:r>
            <a:endParaRPr b="0" lang="en-US" sz="4400" spc="-1" strike="noStrike">
              <a:solidFill>
                <a:srgbClr val="00cece"/>
              </a:solidFill>
              <a:latin typeface="Times New Roman"/>
            </a:endParaRPr>
          </a:p>
        </p:txBody>
      </p:sp>
      <p:sp>
        <p:nvSpPr>
          <p:cNvPr id="603" name=""/>
          <p:cNvSpPr/>
          <p:nvPr/>
        </p:nvSpPr>
        <p:spPr>
          <a:xfrm>
            <a:off x="549360" y="1962000"/>
            <a:ext cx="7608960" cy="7351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4"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add(int newEntry)</a:t>
            </a:r>
            <a:endParaRPr b="0" lang="en-US" sz="2400" spc="-1" strike="noStrike">
              <a:solidFill>
                <a:srgbClr val="e0e0e0"/>
              </a:solidFill>
              <a:latin typeface="Arial"/>
            </a:endParaRPr>
          </a:p>
        </p:txBody>
      </p:sp>
      <p:sp>
        <p:nvSpPr>
          <p:cNvPr id="605" name=""/>
          <p:cNvSpPr/>
          <p:nvPr/>
        </p:nvSpPr>
        <p:spPr>
          <a:xfrm>
            <a:off x="509040" y="2763720"/>
            <a:ext cx="317772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Before calling add, w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might have this bag b:</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606" name=""/>
          <p:cNvGrpSpPr/>
          <p:nvPr/>
        </p:nvGrpSpPr>
        <p:grpSpPr>
          <a:xfrm>
            <a:off x="1798560" y="5222880"/>
            <a:ext cx="909720" cy="785880"/>
            <a:chOff x="1798560" y="5222880"/>
            <a:chExt cx="909720" cy="785880"/>
          </a:xfrm>
        </p:grpSpPr>
        <p:sp>
          <p:nvSpPr>
            <p:cNvPr id="607" name=""/>
            <p:cNvSpPr/>
            <p:nvPr/>
          </p:nvSpPr>
          <p:spPr>
            <a:xfrm>
              <a:off x="1798560" y="522288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8" name=""/>
            <p:cNvSpPr/>
            <p:nvPr/>
          </p:nvSpPr>
          <p:spPr>
            <a:xfrm>
              <a:off x="2079720" y="53863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endParaRPr b="0" lang="en-US" sz="2400" spc="-1" strike="noStrike">
                <a:solidFill>
                  <a:srgbClr val="e0e0e0"/>
                </a:solidFill>
                <a:latin typeface="Arial"/>
              </a:endParaRPr>
            </a:p>
          </p:txBody>
        </p:sp>
      </p:grpSp>
      <p:sp>
        <p:nvSpPr>
          <p:cNvPr id="609" name=""/>
          <p:cNvSpPr/>
          <p:nvPr/>
        </p:nvSpPr>
        <p:spPr>
          <a:xfrm>
            <a:off x="1236600" y="418464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0" name=""/>
          <p:cNvSpPr/>
          <p:nvPr/>
        </p:nvSpPr>
        <p:spPr>
          <a:xfrm>
            <a:off x="21495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1" name=""/>
          <p:cNvSpPr/>
          <p:nvPr/>
        </p:nvSpPr>
        <p:spPr>
          <a:xfrm>
            <a:off x="30639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2" name=""/>
          <p:cNvSpPr/>
          <p:nvPr/>
        </p:nvSpPr>
        <p:spPr>
          <a:xfrm>
            <a:off x="3976560" y="418140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3" name=""/>
          <p:cNvSpPr/>
          <p:nvPr/>
        </p:nvSpPr>
        <p:spPr>
          <a:xfrm>
            <a:off x="135720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14" name=""/>
          <p:cNvSpPr/>
          <p:nvPr/>
        </p:nvSpPr>
        <p:spPr>
          <a:xfrm>
            <a:off x="223344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1 ]</a:t>
            </a:r>
            <a:endParaRPr b="0" lang="en-US" sz="2400" spc="-1" strike="noStrike">
              <a:solidFill>
                <a:srgbClr val="e0e0e0"/>
              </a:solidFill>
              <a:latin typeface="Arial"/>
            </a:endParaRPr>
          </a:p>
        </p:txBody>
      </p:sp>
      <p:sp>
        <p:nvSpPr>
          <p:cNvPr id="615" name=""/>
          <p:cNvSpPr/>
          <p:nvPr/>
        </p:nvSpPr>
        <p:spPr>
          <a:xfrm>
            <a:off x="3232440" y="367344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2]</a:t>
            </a:r>
            <a:endParaRPr b="0" lang="en-US" sz="2400" spc="-1" strike="noStrike">
              <a:solidFill>
                <a:srgbClr val="e0e0e0"/>
              </a:solidFill>
              <a:latin typeface="Arial"/>
            </a:endParaRPr>
          </a:p>
        </p:txBody>
      </p:sp>
      <p:sp>
        <p:nvSpPr>
          <p:cNvPr id="616" name=""/>
          <p:cNvSpPr/>
          <p:nvPr/>
        </p:nvSpPr>
        <p:spPr>
          <a:xfrm>
            <a:off x="3859200" y="367344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17" name=""/>
          <p:cNvSpPr/>
          <p:nvPr/>
        </p:nvSpPr>
        <p:spPr>
          <a:xfrm>
            <a:off x="15019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18" name=""/>
          <p:cNvSpPr/>
          <p:nvPr/>
        </p:nvSpPr>
        <p:spPr>
          <a:xfrm>
            <a:off x="24163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619" name=""/>
          <p:cNvSpPr/>
          <p:nvPr/>
        </p:nvSpPr>
        <p:spPr>
          <a:xfrm>
            <a:off x="4200480" y="357984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0" name=""/>
          <p:cNvSpPr/>
          <p:nvPr/>
        </p:nvSpPr>
        <p:spPr>
          <a:xfrm>
            <a:off x="363600" y="461016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data</a:t>
            </a:r>
            <a:endParaRPr b="0" lang="en-US" sz="1800" spc="-1" strike="noStrike">
              <a:solidFill>
                <a:srgbClr val="e0e0e0"/>
              </a:solidFill>
              <a:latin typeface="Arial"/>
            </a:endParaRPr>
          </a:p>
        </p:txBody>
      </p:sp>
      <p:sp>
        <p:nvSpPr>
          <p:cNvPr id="621" name=""/>
          <p:cNvSpPr/>
          <p:nvPr/>
        </p:nvSpPr>
        <p:spPr>
          <a:xfrm>
            <a:off x="312480" y="5648400"/>
            <a:ext cx="148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manyItems</a:t>
            </a:r>
            <a:endParaRPr b="0" lang="en-US" sz="1800" spc="-1" strike="noStrike">
              <a:solidFill>
                <a:srgbClr val="e0e0e0"/>
              </a:solidFill>
              <a:latin typeface="Arial"/>
            </a:endParaRPr>
          </a:p>
        </p:txBody>
      </p:sp>
      <p:sp>
        <p:nvSpPr>
          <p:cNvPr id="622" name=""/>
          <p:cNvSpPr/>
          <p:nvPr/>
        </p:nvSpPr>
        <p:spPr>
          <a:xfrm>
            <a:off x="4589640" y="3646440"/>
            <a:ext cx="0" cy="273996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ample of Calling Add</a:t>
            </a:r>
            <a:endParaRPr b="0" lang="en-US" sz="4400" spc="-1" strike="noStrike">
              <a:solidFill>
                <a:srgbClr val="00cece"/>
              </a:solidFill>
              <a:latin typeface="Times New Roman"/>
            </a:endParaRPr>
          </a:p>
        </p:txBody>
      </p:sp>
      <p:sp>
        <p:nvSpPr>
          <p:cNvPr id="624"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void add(int newEntry)</a:t>
            </a:r>
            <a:endParaRPr b="0" lang="en-US" sz="2400" spc="-1" strike="noStrike">
              <a:solidFill>
                <a:srgbClr val="e0e0e0"/>
              </a:solidFill>
              <a:latin typeface="Arial"/>
            </a:endParaRPr>
          </a:p>
        </p:txBody>
      </p:sp>
      <p:sp>
        <p:nvSpPr>
          <p:cNvPr id="625" name=""/>
          <p:cNvSpPr/>
          <p:nvPr/>
        </p:nvSpPr>
        <p:spPr>
          <a:xfrm>
            <a:off x="363600" y="461016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data</a:t>
            </a:r>
            <a:endParaRPr b="0" lang="en-US" sz="1800" spc="-1" strike="noStrike">
              <a:solidFill>
                <a:srgbClr val="e0e0e0"/>
              </a:solidFill>
              <a:latin typeface="Arial"/>
            </a:endParaRPr>
          </a:p>
        </p:txBody>
      </p:sp>
      <p:sp>
        <p:nvSpPr>
          <p:cNvPr id="626" name=""/>
          <p:cNvSpPr/>
          <p:nvPr/>
        </p:nvSpPr>
        <p:spPr>
          <a:xfrm>
            <a:off x="312480" y="5648400"/>
            <a:ext cx="148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manyItems</a:t>
            </a:r>
            <a:endParaRPr b="0" lang="en-US" sz="1800" spc="-1" strike="noStrike">
              <a:solidFill>
                <a:srgbClr val="e0e0e0"/>
              </a:solidFill>
              <a:latin typeface="Arial"/>
            </a:endParaRPr>
          </a:p>
        </p:txBody>
      </p:sp>
      <p:sp>
        <p:nvSpPr>
          <p:cNvPr id="627" name=""/>
          <p:cNvSpPr/>
          <p:nvPr/>
        </p:nvSpPr>
        <p:spPr>
          <a:xfrm>
            <a:off x="3647520" y="2673360"/>
            <a:ext cx="17740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activat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b.add(17)</a:t>
            </a:r>
            <a:endParaRPr b="0" lang="en-US" sz="2400" spc="-1" strike="noStrike">
              <a:solidFill>
                <a:srgbClr val="e0e0e0"/>
              </a:solidFill>
              <a:latin typeface="Arial"/>
            </a:endParaRPr>
          </a:p>
        </p:txBody>
      </p:sp>
      <p:sp>
        <p:nvSpPr>
          <p:cNvPr id="628" name=""/>
          <p:cNvSpPr/>
          <p:nvPr/>
        </p:nvSpPr>
        <p:spPr>
          <a:xfrm>
            <a:off x="5296320" y="3672000"/>
            <a:ext cx="365472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values will be i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b.data and b.manyItem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after the metho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finishes ?</a:t>
            </a:r>
            <a:endParaRPr b="0" lang="en-US" sz="2400" spc="-1" strike="noStrike">
              <a:solidFill>
                <a:srgbClr val="e0e0e0"/>
              </a:solidFill>
              <a:latin typeface="Arial"/>
            </a:endParaRPr>
          </a:p>
        </p:txBody>
      </p:sp>
      <p:sp>
        <p:nvSpPr>
          <p:cNvPr id="629" name=""/>
          <p:cNvSpPr/>
          <p:nvPr/>
        </p:nvSpPr>
        <p:spPr>
          <a:xfrm>
            <a:off x="1236600" y="418464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0" name=""/>
          <p:cNvSpPr/>
          <p:nvPr/>
        </p:nvSpPr>
        <p:spPr>
          <a:xfrm>
            <a:off x="21495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1" name=""/>
          <p:cNvSpPr/>
          <p:nvPr/>
        </p:nvSpPr>
        <p:spPr>
          <a:xfrm>
            <a:off x="30639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2" name=""/>
          <p:cNvSpPr/>
          <p:nvPr/>
        </p:nvSpPr>
        <p:spPr>
          <a:xfrm>
            <a:off x="3976560" y="418140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3" name=""/>
          <p:cNvSpPr/>
          <p:nvPr/>
        </p:nvSpPr>
        <p:spPr>
          <a:xfrm>
            <a:off x="135720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34" name=""/>
          <p:cNvSpPr/>
          <p:nvPr/>
        </p:nvSpPr>
        <p:spPr>
          <a:xfrm>
            <a:off x="223344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1 ]</a:t>
            </a:r>
            <a:endParaRPr b="0" lang="en-US" sz="2400" spc="-1" strike="noStrike">
              <a:solidFill>
                <a:srgbClr val="e0e0e0"/>
              </a:solidFill>
              <a:latin typeface="Arial"/>
            </a:endParaRPr>
          </a:p>
        </p:txBody>
      </p:sp>
      <p:sp>
        <p:nvSpPr>
          <p:cNvPr id="635" name=""/>
          <p:cNvSpPr/>
          <p:nvPr/>
        </p:nvSpPr>
        <p:spPr>
          <a:xfrm>
            <a:off x="3232440" y="367344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2]</a:t>
            </a:r>
            <a:endParaRPr b="0" lang="en-US" sz="2400" spc="-1" strike="noStrike">
              <a:solidFill>
                <a:srgbClr val="e0e0e0"/>
              </a:solidFill>
              <a:latin typeface="Arial"/>
            </a:endParaRPr>
          </a:p>
        </p:txBody>
      </p:sp>
      <p:sp>
        <p:nvSpPr>
          <p:cNvPr id="636" name=""/>
          <p:cNvSpPr/>
          <p:nvPr/>
        </p:nvSpPr>
        <p:spPr>
          <a:xfrm>
            <a:off x="3859200" y="367344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37" name=""/>
          <p:cNvSpPr/>
          <p:nvPr/>
        </p:nvSpPr>
        <p:spPr>
          <a:xfrm>
            <a:off x="15019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38" name=""/>
          <p:cNvSpPr/>
          <p:nvPr/>
        </p:nvSpPr>
        <p:spPr>
          <a:xfrm>
            <a:off x="24163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639" name=""/>
          <p:cNvSpPr/>
          <p:nvPr/>
        </p:nvSpPr>
        <p:spPr>
          <a:xfrm>
            <a:off x="4200480" y="357984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0" name=""/>
          <p:cNvSpPr/>
          <p:nvPr/>
        </p:nvSpPr>
        <p:spPr>
          <a:xfrm>
            <a:off x="4589640" y="3646440"/>
            <a:ext cx="0" cy="273996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1" name=""/>
          <p:cNvSpPr/>
          <p:nvPr/>
        </p:nvSpPr>
        <p:spPr>
          <a:xfrm>
            <a:off x="549360" y="1962000"/>
            <a:ext cx="7608960" cy="7351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2"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add(int newEntry)</a:t>
            </a:r>
            <a:endParaRPr b="0" lang="en-US" sz="2400" spc="-1" strike="noStrike">
              <a:solidFill>
                <a:srgbClr val="e0e0e0"/>
              </a:solidFill>
              <a:latin typeface="Arial"/>
            </a:endParaRPr>
          </a:p>
        </p:txBody>
      </p:sp>
      <p:grpSp>
        <p:nvGrpSpPr>
          <p:cNvPr id="643" name=""/>
          <p:cNvGrpSpPr/>
          <p:nvPr/>
        </p:nvGrpSpPr>
        <p:grpSpPr>
          <a:xfrm>
            <a:off x="1798560" y="5222880"/>
            <a:ext cx="909720" cy="785880"/>
            <a:chOff x="1798560" y="5222880"/>
            <a:chExt cx="909720" cy="785880"/>
          </a:xfrm>
        </p:grpSpPr>
        <p:sp>
          <p:nvSpPr>
            <p:cNvPr id="644" name=""/>
            <p:cNvSpPr/>
            <p:nvPr/>
          </p:nvSpPr>
          <p:spPr>
            <a:xfrm>
              <a:off x="1798560" y="522288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5" name=""/>
            <p:cNvSpPr/>
            <p:nvPr/>
          </p:nvSpPr>
          <p:spPr>
            <a:xfrm>
              <a:off x="2079720" y="53863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endParaRPr b="0" lang="en-US" sz="2400" spc="-1" strike="noStrike">
                <a:solidFill>
                  <a:srgbClr val="e0e0e0"/>
                </a:solidFill>
                <a:latin typeface="Arial"/>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46" name=""/>
          <p:cNvSpPr/>
          <p:nvPr/>
        </p:nvSpPr>
        <p:spPr>
          <a:xfrm>
            <a:off x="4200480" y="357984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7" name=""/>
          <p:cNvSpPr/>
          <p:nvPr/>
        </p:nvSpPr>
        <p:spPr>
          <a:xfrm>
            <a:off x="4589640" y="3646440"/>
            <a:ext cx="0" cy="273996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ample of Calling Add</a:t>
            </a:r>
            <a:endParaRPr b="0" lang="en-US" sz="4400" spc="-1" strike="noStrike">
              <a:solidFill>
                <a:srgbClr val="00cece"/>
              </a:solidFill>
              <a:latin typeface="Times New Roman"/>
            </a:endParaRPr>
          </a:p>
        </p:txBody>
      </p:sp>
      <p:sp>
        <p:nvSpPr>
          <p:cNvPr id="649"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void add(int newEntry)</a:t>
            </a:r>
            <a:endParaRPr b="0" lang="en-US" sz="2400" spc="-1" strike="noStrike">
              <a:solidFill>
                <a:srgbClr val="e0e0e0"/>
              </a:solidFill>
              <a:latin typeface="Arial"/>
            </a:endParaRPr>
          </a:p>
        </p:txBody>
      </p:sp>
      <p:sp>
        <p:nvSpPr>
          <p:cNvPr id="650" name=""/>
          <p:cNvSpPr/>
          <p:nvPr/>
        </p:nvSpPr>
        <p:spPr>
          <a:xfrm>
            <a:off x="4771440" y="2781360"/>
            <a:ext cx="367308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fter activating b.add(17),</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will have this bag b:</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651" name=""/>
          <p:cNvSpPr/>
          <p:nvPr/>
        </p:nvSpPr>
        <p:spPr>
          <a:xfrm>
            <a:off x="5657760" y="523080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2" name=""/>
          <p:cNvSpPr/>
          <p:nvPr/>
        </p:nvSpPr>
        <p:spPr>
          <a:xfrm>
            <a:off x="5948280" y="53942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3</a:t>
            </a:r>
            <a:endParaRPr b="0" lang="en-US" sz="2400" spc="-1" strike="noStrike">
              <a:solidFill>
                <a:srgbClr val="e0e0e0"/>
              </a:solidFill>
              <a:latin typeface="Arial"/>
            </a:endParaRPr>
          </a:p>
        </p:txBody>
      </p:sp>
      <p:sp>
        <p:nvSpPr>
          <p:cNvPr id="653" name=""/>
          <p:cNvSpPr/>
          <p:nvPr/>
        </p:nvSpPr>
        <p:spPr>
          <a:xfrm>
            <a:off x="5076720" y="419256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4" name=""/>
          <p:cNvSpPr/>
          <p:nvPr/>
        </p:nvSpPr>
        <p:spPr>
          <a:xfrm>
            <a:off x="5989680" y="418932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5" name=""/>
          <p:cNvSpPr/>
          <p:nvPr/>
        </p:nvSpPr>
        <p:spPr>
          <a:xfrm>
            <a:off x="6904080" y="418932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6" name=""/>
          <p:cNvSpPr/>
          <p:nvPr/>
        </p:nvSpPr>
        <p:spPr>
          <a:xfrm>
            <a:off x="7816680" y="418932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7" name=""/>
          <p:cNvSpPr/>
          <p:nvPr/>
        </p:nvSpPr>
        <p:spPr>
          <a:xfrm>
            <a:off x="5197320" y="368136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58" name=""/>
          <p:cNvSpPr/>
          <p:nvPr/>
        </p:nvSpPr>
        <p:spPr>
          <a:xfrm>
            <a:off x="6158160" y="368136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659" name=""/>
          <p:cNvSpPr/>
          <p:nvPr/>
        </p:nvSpPr>
        <p:spPr>
          <a:xfrm>
            <a:off x="6988320" y="368136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660" name=""/>
          <p:cNvSpPr/>
          <p:nvPr/>
        </p:nvSpPr>
        <p:spPr>
          <a:xfrm>
            <a:off x="7699320" y="368136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61" name=""/>
          <p:cNvSpPr/>
          <p:nvPr/>
        </p:nvSpPr>
        <p:spPr>
          <a:xfrm>
            <a:off x="534204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62" name=""/>
          <p:cNvSpPr/>
          <p:nvPr/>
        </p:nvSpPr>
        <p:spPr>
          <a:xfrm>
            <a:off x="625644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663" name=""/>
          <p:cNvSpPr/>
          <p:nvPr/>
        </p:nvSpPr>
        <p:spPr>
          <a:xfrm>
            <a:off x="8040600" y="3587760"/>
            <a:ext cx="652680" cy="1727280"/>
          </a:xfrm>
          <a:custGeom>
            <a:avLst/>
            <a:gdLst/>
            <a:ahLst/>
            <a:rect l="l" t="t" r="r" b="b"/>
            <a:pathLst>
              <a:path w="411" h="1088">
                <a:moveTo>
                  <a:pt x="238" y="0"/>
                </a:moveTo>
                <a:lnTo>
                  <a:pt x="0" y="447"/>
                </a:lnTo>
                <a:lnTo>
                  <a:pt x="67" y="607"/>
                </a:lnTo>
                <a:lnTo>
                  <a:pt x="28" y="719"/>
                </a:lnTo>
                <a:lnTo>
                  <a:pt x="133" y="1087"/>
                </a:lnTo>
                <a:lnTo>
                  <a:pt x="410" y="959"/>
                </a:lnTo>
                <a:lnTo>
                  <a:pt x="238"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64" name=""/>
          <p:cNvSpPr/>
          <p:nvPr/>
        </p:nvSpPr>
        <p:spPr>
          <a:xfrm>
            <a:off x="4275000" y="4473720"/>
            <a:ext cx="8827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5" name=""/>
          <p:cNvSpPr/>
          <p:nvPr/>
        </p:nvSpPr>
        <p:spPr>
          <a:xfrm>
            <a:off x="4259160" y="5692680"/>
            <a:ext cx="9334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6" name=""/>
          <p:cNvSpPr/>
          <p:nvPr/>
        </p:nvSpPr>
        <p:spPr>
          <a:xfrm>
            <a:off x="7069320" y="4348080"/>
            <a:ext cx="5198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17</a:t>
            </a:r>
            <a:endParaRPr b="0" lang="en-US" sz="2400" spc="-1" strike="noStrike">
              <a:solidFill>
                <a:srgbClr val="e0e0e0"/>
              </a:solidFill>
              <a:latin typeface="Arial"/>
            </a:endParaRPr>
          </a:p>
        </p:txBody>
      </p:sp>
      <p:sp>
        <p:nvSpPr>
          <p:cNvPr id="667" name=""/>
          <p:cNvSpPr/>
          <p:nvPr/>
        </p:nvSpPr>
        <p:spPr>
          <a:xfrm>
            <a:off x="549360" y="1962000"/>
            <a:ext cx="7608960" cy="7351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8"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add(int newEntry)</a:t>
            </a:r>
            <a:endParaRPr b="0" lang="en-US" sz="2400" spc="-1" strike="noStrike">
              <a:solidFill>
                <a:srgbClr val="e0e0e0"/>
              </a:solidFill>
              <a:latin typeface="Arial"/>
            </a:endParaRPr>
          </a:p>
        </p:txBody>
      </p:sp>
      <p:sp>
        <p:nvSpPr>
          <p:cNvPr id="669" name=""/>
          <p:cNvSpPr/>
          <p:nvPr/>
        </p:nvSpPr>
        <p:spPr>
          <a:xfrm>
            <a:off x="6006960" y="6062760"/>
            <a:ext cx="1289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0" name=""/>
          <p:cNvSpPr/>
          <p:nvPr/>
        </p:nvSpPr>
        <p:spPr>
          <a:xfrm>
            <a:off x="363600" y="461016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data</a:t>
            </a:r>
            <a:endParaRPr b="0" lang="en-US" sz="1800" spc="-1" strike="noStrike">
              <a:solidFill>
                <a:srgbClr val="e0e0e0"/>
              </a:solidFill>
              <a:latin typeface="Arial"/>
            </a:endParaRPr>
          </a:p>
        </p:txBody>
      </p:sp>
      <p:sp>
        <p:nvSpPr>
          <p:cNvPr id="671" name=""/>
          <p:cNvSpPr/>
          <p:nvPr/>
        </p:nvSpPr>
        <p:spPr>
          <a:xfrm>
            <a:off x="312480" y="5648400"/>
            <a:ext cx="148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manyItems</a:t>
            </a:r>
            <a:endParaRPr b="0" lang="en-US" sz="1800" spc="-1" strike="noStrike">
              <a:solidFill>
                <a:srgbClr val="e0e0e0"/>
              </a:solidFill>
              <a:latin typeface="Arial"/>
            </a:endParaRPr>
          </a:p>
        </p:txBody>
      </p:sp>
      <p:sp>
        <p:nvSpPr>
          <p:cNvPr id="672" name=""/>
          <p:cNvSpPr/>
          <p:nvPr/>
        </p:nvSpPr>
        <p:spPr>
          <a:xfrm>
            <a:off x="1236600" y="418464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3" name=""/>
          <p:cNvSpPr/>
          <p:nvPr/>
        </p:nvSpPr>
        <p:spPr>
          <a:xfrm>
            <a:off x="21495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4" name=""/>
          <p:cNvSpPr/>
          <p:nvPr/>
        </p:nvSpPr>
        <p:spPr>
          <a:xfrm>
            <a:off x="30639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5" name=""/>
          <p:cNvSpPr/>
          <p:nvPr/>
        </p:nvSpPr>
        <p:spPr>
          <a:xfrm>
            <a:off x="3976560" y="418140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6" name=""/>
          <p:cNvSpPr/>
          <p:nvPr/>
        </p:nvSpPr>
        <p:spPr>
          <a:xfrm>
            <a:off x="135720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77" name=""/>
          <p:cNvSpPr/>
          <p:nvPr/>
        </p:nvSpPr>
        <p:spPr>
          <a:xfrm>
            <a:off x="223344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1 ]</a:t>
            </a:r>
            <a:endParaRPr b="0" lang="en-US" sz="2400" spc="-1" strike="noStrike">
              <a:solidFill>
                <a:srgbClr val="e0e0e0"/>
              </a:solidFill>
              <a:latin typeface="Arial"/>
            </a:endParaRPr>
          </a:p>
        </p:txBody>
      </p:sp>
      <p:sp>
        <p:nvSpPr>
          <p:cNvPr id="678" name=""/>
          <p:cNvSpPr/>
          <p:nvPr/>
        </p:nvSpPr>
        <p:spPr>
          <a:xfrm>
            <a:off x="3232440" y="367344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2]</a:t>
            </a:r>
            <a:endParaRPr b="0" lang="en-US" sz="2400" spc="-1" strike="noStrike">
              <a:solidFill>
                <a:srgbClr val="e0e0e0"/>
              </a:solidFill>
              <a:latin typeface="Arial"/>
            </a:endParaRPr>
          </a:p>
        </p:txBody>
      </p:sp>
      <p:sp>
        <p:nvSpPr>
          <p:cNvPr id="679" name=""/>
          <p:cNvSpPr/>
          <p:nvPr/>
        </p:nvSpPr>
        <p:spPr>
          <a:xfrm>
            <a:off x="3859200" y="367344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80" name=""/>
          <p:cNvSpPr/>
          <p:nvPr/>
        </p:nvSpPr>
        <p:spPr>
          <a:xfrm>
            <a:off x="15019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81" name=""/>
          <p:cNvSpPr/>
          <p:nvPr/>
        </p:nvSpPr>
        <p:spPr>
          <a:xfrm>
            <a:off x="24163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grpSp>
        <p:nvGrpSpPr>
          <p:cNvPr id="682" name=""/>
          <p:cNvGrpSpPr/>
          <p:nvPr/>
        </p:nvGrpSpPr>
        <p:grpSpPr>
          <a:xfrm>
            <a:off x="1798560" y="5222880"/>
            <a:ext cx="909720" cy="785880"/>
            <a:chOff x="1798560" y="5222880"/>
            <a:chExt cx="909720" cy="785880"/>
          </a:xfrm>
        </p:grpSpPr>
        <p:sp>
          <p:nvSpPr>
            <p:cNvPr id="683" name=""/>
            <p:cNvSpPr/>
            <p:nvPr/>
          </p:nvSpPr>
          <p:spPr>
            <a:xfrm>
              <a:off x="1798560" y="522288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4" name=""/>
            <p:cNvSpPr/>
            <p:nvPr/>
          </p:nvSpPr>
          <p:spPr>
            <a:xfrm>
              <a:off x="2079720" y="53863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endParaRPr b="0" lang="en-US" sz="2400" spc="-1" strike="noStrike">
                <a:solidFill>
                  <a:srgbClr val="e0e0e0"/>
                </a:solidFill>
                <a:latin typeface="Arial"/>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add</a:t>
            </a:r>
            <a:endParaRPr b="0" lang="en-US" sz="4400" spc="-1" strike="noStrike">
              <a:solidFill>
                <a:srgbClr val="00cece"/>
              </a:solidFill>
              <a:latin typeface="Times New Roman"/>
            </a:endParaRPr>
          </a:p>
        </p:txBody>
      </p:sp>
      <p:sp>
        <p:nvSpPr>
          <p:cNvPr id="68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Make sure there is room for a new entry in the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 </a:t>
            </a:r>
            <a:r>
              <a:rPr b="0" lang="en-US" sz="2800" spc="-1" strike="noStrike">
                <a:solidFill>
                  <a:srgbClr val="e0e0e0"/>
                </a:solidFill>
                <a:latin typeface="Arial"/>
              </a:rPr>
              <a:t>newEntry</a:t>
            </a:r>
            <a:r>
              <a:rPr b="0" lang="en-US" sz="3200" spc="-1" strike="noStrike">
                <a:solidFill>
                  <a:srgbClr val="e0e0e0"/>
                </a:solidFill>
                <a:latin typeface="Times New Roman"/>
              </a:rPr>
              <a:t> in the appropriate location of the </a:t>
            </a:r>
            <a:r>
              <a:rPr b="0" lang="en-US" sz="2800" spc="-1" strike="noStrike">
                <a:solidFill>
                  <a:srgbClr val="e0e0e0"/>
                </a:solidFill>
                <a:latin typeface="Arial"/>
              </a:rPr>
              <a:t>data</a:t>
            </a:r>
            <a:r>
              <a:rPr b="0" lang="en-US" sz="3200" spc="-1" strike="noStrike">
                <a:solidFill>
                  <a:srgbClr val="e0e0e0"/>
                </a:solidFill>
                <a:latin typeface="Times New Roman"/>
              </a:rPr>
              <a:t>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 one to the instance variable </a:t>
            </a:r>
            <a:r>
              <a:rPr b="0" lang="en-US" sz="2800" spc="-1" strike="noStrike">
                <a:solidFill>
                  <a:srgbClr val="e0e0e0"/>
                </a:solidFill>
                <a:latin typeface="Arial"/>
              </a:rPr>
              <a:t>manyItems</a:t>
            </a:r>
            <a:r>
              <a:rPr b="0" lang="en-US" sz="3200" spc="-1" strike="noStrike">
                <a:solidFill>
                  <a:srgbClr val="e0e0e0"/>
                </a:solidFill>
                <a:latin typeface="Arial"/>
              </a:rPr>
              <a:t>.</a:t>
            </a:r>
            <a:endParaRPr b="0" lang="en-US" sz="3200" spc="-1" strike="noStrike">
              <a:solidFill>
                <a:srgbClr val="e0e0e0"/>
              </a:solidFill>
              <a:latin typeface="Times New Roman"/>
            </a:endParaRPr>
          </a:p>
        </p:txBody>
      </p:sp>
      <p:sp>
        <p:nvSpPr>
          <p:cNvPr id="687" name=""/>
          <p:cNvSpPr/>
          <p:nvPr/>
        </p:nvSpPr>
        <p:spPr>
          <a:xfrm>
            <a:off x="4508280" y="4732200"/>
            <a:ext cx="44028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is the “appropriat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location”  of  the data array ?</a:t>
            </a:r>
            <a:endParaRPr b="0" lang="en-US" sz="2400" spc="-1" strike="noStrike">
              <a:solidFill>
                <a:srgbClr val="e0e0e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add</a:t>
            </a:r>
            <a:endParaRPr b="0" lang="en-US" sz="4400" spc="-1" strike="noStrike">
              <a:solidFill>
                <a:srgbClr val="00cece"/>
              </a:solidFill>
              <a:latin typeface="Times New Roman"/>
            </a:endParaRPr>
          </a:p>
        </p:txBody>
      </p:sp>
      <p:sp>
        <p:nvSpPr>
          <p:cNvPr id="689" name=""/>
          <p:cNvSpPr/>
          <p:nvPr/>
        </p:nvSpPr>
        <p:spPr>
          <a:xfrm>
            <a:off x="2529000" y="5114880"/>
            <a:ext cx="4632120" cy="873000"/>
          </a:xfrm>
          <a:prstGeom prst="rect">
            <a:avLst/>
          </a:prstGeom>
          <a:solidFill>
            <a:srgbClr val="e0e0e0"/>
          </a:solidFill>
          <a:ln w="12600">
            <a:solidFill>
              <a:srgbClr val="00002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data[</a:t>
            </a:r>
            <a:r>
              <a:rPr b="1" lang="en-US" sz="2400" spc="-1" strike="noStrike">
                <a:solidFill>
                  <a:srgbClr val="fc0128"/>
                </a:solidFill>
                <a:latin typeface="Arial"/>
              </a:rPr>
              <a:t>manyItems</a:t>
            </a:r>
            <a:r>
              <a:rPr b="0" lang="en-US" sz="2400" spc="-1" strike="noStrike">
                <a:solidFill>
                  <a:srgbClr val="000020"/>
                </a:solidFill>
                <a:latin typeface="Arial"/>
              </a:rPr>
              <a:t>]  = newEntr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manyItems++;</a:t>
            </a:r>
            <a:endParaRPr b="0" lang="en-US" sz="2400" spc="-1" strike="noStrike">
              <a:solidFill>
                <a:srgbClr val="e0e0e0"/>
              </a:solidFill>
              <a:latin typeface="Arial"/>
            </a:endParaRPr>
          </a:p>
        </p:txBody>
      </p:sp>
      <p:sp>
        <p:nvSpPr>
          <p:cNvPr id="6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Make sure there is room for a new entry in the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 </a:t>
            </a:r>
            <a:r>
              <a:rPr b="0" lang="en-US" sz="2800" spc="-1" strike="noStrike">
                <a:solidFill>
                  <a:srgbClr val="e0e0e0"/>
                </a:solidFill>
                <a:latin typeface="Arial"/>
              </a:rPr>
              <a:t>newEntry</a:t>
            </a:r>
            <a:r>
              <a:rPr b="0" lang="en-US" sz="3200" spc="-1" strike="noStrike">
                <a:solidFill>
                  <a:srgbClr val="e0e0e0"/>
                </a:solidFill>
                <a:latin typeface="Times New Roman"/>
              </a:rPr>
              <a:t> in the appropriate location of the </a:t>
            </a:r>
            <a:r>
              <a:rPr b="0" lang="en-US" sz="2800" spc="-1" strike="noStrike">
                <a:solidFill>
                  <a:srgbClr val="e0e0e0"/>
                </a:solidFill>
                <a:latin typeface="Arial"/>
              </a:rPr>
              <a:t>data</a:t>
            </a:r>
            <a:r>
              <a:rPr b="0" lang="en-US" sz="3200" spc="-1" strike="noStrike">
                <a:solidFill>
                  <a:srgbClr val="e0e0e0"/>
                </a:solidFill>
                <a:latin typeface="Times New Roman"/>
              </a:rPr>
              <a:t>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 one to the instance variable </a:t>
            </a:r>
            <a:r>
              <a:rPr b="0" lang="en-US" sz="2800" spc="-1" strike="noStrike">
                <a:solidFill>
                  <a:srgbClr val="e0e0e0"/>
                </a:solidFill>
                <a:latin typeface="Arial"/>
              </a:rPr>
              <a:t>manyItems</a:t>
            </a:r>
            <a:r>
              <a:rPr b="0" lang="en-US" sz="3200" spc="-1" strike="noStrike">
                <a:solidFill>
                  <a:srgbClr val="e0e0e0"/>
                </a:solidFill>
                <a:latin typeface="Arial"/>
              </a:rPr>
              <a:t>.</a:t>
            </a:r>
            <a:endParaRPr b="0" lang="en-US" sz="3200" spc="-1" strike="noStrike">
              <a:solidFill>
                <a:srgbClr val="e0e0e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99" name=""/>
          <p:cNvGrpSpPr/>
          <p:nvPr/>
        </p:nvGrpSpPr>
        <p:grpSpPr>
          <a:xfrm>
            <a:off x="4680000" y="2867040"/>
            <a:ext cx="1471680" cy="2089080"/>
            <a:chOff x="4680000" y="2867040"/>
            <a:chExt cx="1471680" cy="2089080"/>
          </a:xfrm>
        </p:grpSpPr>
        <p:grpSp>
          <p:nvGrpSpPr>
            <p:cNvPr id="100" name=""/>
            <p:cNvGrpSpPr/>
            <p:nvPr/>
          </p:nvGrpSpPr>
          <p:grpSpPr>
            <a:xfrm>
              <a:off x="4680000" y="2927520"/>
              <a:ext cx="1471680" cy="2028600"/>
              <a:chOff x="4680000" y="2927520"/>
              <a:chExt cx="1471680" cy="2028600"/>
            </a:xfrm>
          </p:grpSpPr>
          <p:grpSp>
            <p:nvGrpSpPr>
              <p:cNvPr id="101" name=""/>
              <p:cNvGrpSpPr/>
              <p:nvPr/>
            </p:nvGrpSpPr>
            <p:grpSpPr>
              <a:xfrm>
                <a:off x="4680000" y="2927520"/>
                <a:ext cx="1471680" cy="2028600"/>
                <a:chOff x="4680000" y="2927520"/>
                <a:chExt cx="1471680" cy="2028600"/>
              </a:xfrm>
            </p:grpSpPr>
            <p:sp>
              <p:nvSpPr>
                <p:cNvPr id="102" name=""/>
                <p:cNvSpPr/>
                <p:nvPr/>
              </p:nvSpPr>
              <p:spPr>
                <a:xfrm>
                  <a:off x="4680000" y="2927520"/>
                  <a:ext cx="1380960" cy="2022480"/>
                </a:xfrm>
                <a:custGeom>
                  <a:avLst/>
                  <a:gdLst/>
                  <a:ahLst/>
                  <a:rect l="l" t="t" r="r" b="b"/>
                  <a:pathLst>
                    <a:path w="870" h="1274">
                      <a:moveTo>
                        <a:pt x="486" y="0"/>
                      </a:moveTo>
                      <a:lnTo>
                        <a:pt x="577" y="67"/>
                      </a:lnTo>
                      <a:lnTo>
                        <a:pt x="589" y="109"/>
                      </a:lnTo>
                      <a:lnTo>
                        <a:pt x="559" y="152"/>
                      </a:lnTo>
                      <a:lnTo>
                        <a:pt x="443" y="255"/>
                      </a:lnTo>
                      <a:lnTo>
                        <a:pt x="534" y="230"/>
                      </a:lnTo>
                      <a:lnTo>
                        <a:pt x="589" y="218"/>
                      </a:lnTo>
                      <a:lnTo>
                        <a:pt x="723" y="42"/>
                      </a:lnTo>
                      <a:lnTo>
                        <a:pt x="796" y="24"/>
                      </a:lnTo>
                      <a:lnTo>
                        <a:pt x="869" y="24"/>
                      </a:lnTo>
                      <a:lnTo>
                        <a:pt x="838" y="115"/>
                      </a:lnTo>
                      <a:lnTo>
                        <a:pt x="747" y="127"/>
                      </a:lnTo>
                      <a:lnTo>
                        <a:pt x="583" y="261"/>
                      </a:lnTo>
                      <a:lnTo>
                        <a:pt x="492" y="297"/>
                      </a:lnTo>
                      <a:lnTo>
                        <a:pt x="838" y="861"/>
                      </a:lnTo>
                      <a:lnTo>
                        <a:pt x="856" y="970"/>
                      </a:lnTo>
                      <a:lnTo>
                        <a:pt x="741" y="1176"/>
                      </a:lnTo>
                      <a:lnTo>
                        <a:pt x="631" y="1249"/>
                      </a:lnTo>
                      <a:lnTo>
                        <a:pt x="552" y="1273"/>
                      </a:lnTo>
                      <a:lnTo>
                        <a:pt x="413" y="1249"/>
                      </a:lnTo>
                      <a:lnTo>
                        <a:pt x="230" y="1236"/>
                      </a:lnTo>
                      <a:lnTo>
                        <a:pt x="121" y="1158"/>
                      </a:lnTo>
                      <a:lnTo>
                        <a:pt x="60" y="1121"/>
                      </a:lnTo>
                      <a:lnTo>
                        <a:pt x="0" y="952"/>
                      </a:lnTo>
                      <a:lnTo>
                        <a:pt x="42" y="861"/>
                      </a:lnTo>
                      <a:lnTo>
                        <a:pt x="407" y="345"/>
                      </a:lnTo>
                      <a:lnTo>
                        <a:pt x="364" y="273"/>
                      </a:lnTo>
                      <a:lnTo>
                        <a:pt x="389" y="212"/>
                      </a:lnTo>
                      <a:lnTo>
                        <a:pt x="486" y="122"/>
                      </a:lnTo>
                      <a:lnTo>
                        <a:pt x="468" y="72"/>
                      </a:lnTo>
                      <a:lnTo>
                        <a:pt x="431" y="42"/>
                      </a:lnTo>
                      <a:lnTo>
                        <a:pt x="456" y="12"/>
                      </a:lnTo>
                      <a:lnTo>
                        <a:pt x="48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3" name=""/>
                <p:cNvSpPr/>
                <p:nvPr/>
              </p:nvSpPr>
              <p:spPr>
                <a:xfrm>
                  <a:off x="5460840" y="3706920"/>
                  <a:ext cx="252720" cy="1108080"/>
                </a:xfrm>
                <a:custGeom>
                  <a:avLst/>
                  <a:gdLst/>
                  <a:ahLst/>
                  <a:rect l="l" t="t" r="r" b="b"/>
                  <a:pathLst>
                    <a:path w="159" h="698">
                      <a:moveTo>
                        <a:pt x="36" y="485"/>
                      </a:moveTo>
                      <a:lnTo>
                        <a:pt x="36" y="600"/>
                      </a:lnTo>
                      <a:lnTo>
                        <a:pt x="24" y="667"/>
                      </a:lnTo>
                      <a:lnTo>
                        <a:pt x="12" y="697"/>
                      </a:lnTo>
                      <a:lnTo>
                        <a:pt x="78" y="691"/>
                      </a:lnTo>
                      <a:lnTo>
                        <a:pt x="139" y="661"/>
                      </a:lnTo>
                      <a:lnTo>
                        <a:pt x="109" y="649"/>
                      </a:lnTo>
                      <a:lnTo>
                        <a:pt x="158" y="618"/>
                      </a:lnTo>
                      <a:lnTo>
                        <a:pt x="109" y="618"/>
                      </a:lnTo>
                      <a:lnTo>
                        <a:pt x="152" y="576"/>
                      </a:lnTo>
                      <a:lnTo>
                        <a:pt x="103" y="576"/>
                      </a:lnTo>
                      <a:lnTo>
                        <a:pt x="139" y="534"/>
                      </a:lnTo>
                      <a:lnTo>
                        <a:pt x="97" y="527"/>
                      </a:lnTo>
                      <a:lnTo>
                        <a:pt x="121" y="491"/>
                      </a:lnTo>
                      <a:lnTo>
                        <a:pt x="85" y="479"/>
                      </a:lnTo>
                      <a:lnTo>
                        <a:pt x="97" y="436"/>
                      </a:lnTo>
                      <a:lnTo>
                        <a:pt x="73" y="425"/>
                      </a:lnTo>
                      <a:lnTo>
                        <a:pt x="66" y="376"/>
                      </a:lnTo>
                      <a:lnTo>
                        <a:pt x="0" y="0"/>
                      </a:lnTo>
                      <a:lnTo>
                        <a:pt x="18" y="418"/>
                      </a:lnTo>
                      <a:lnTo>
                        <a:pt x="36" y="485"/>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4" name=""/>
                <p:cNvSpPr/>
                <p:nvPr/>
              </p:nvSpPr>
              <p:spPr>
                <a:xfrm>
                  <a:off x="4718160" y="3552840"/>
                  <a:ext cx="637920" cy="1338120"/>
                </a:xfrm>
                <a:custGeom>
                  <a:avLst/>
                  <a:gdLst/>
                  <a:ahLst/>
                  <a:rect l="l" t="t" r="r" b="b"/>
                  <a:pathLst>
                    <a:path w="402" h="843">
                      <a:moveTo>
                        <a:pt x="341" y="0"/>
                      </a:moveTo>
                      <a:lnTo>
                        <a:pt x="73" y="370"/>
                      </a:lnTo>
                      <a:lnTo>
                        <a:pt x="36" y="461"/>
                      </a:lnTo>
                      <a:lnTo>
                        <a:pt x="0" y="515"/>
                      </a:lnTo>
                      <a:lnTo>
                        <a:pt x="0" y="655"/>
                      </a:lnTo>
                      <a:lnTo>
                        <a:pt x="54" y="733"/>
                      </a:lnTo>
                      <a:lnTo>
                        <a:pt x="140" y="794"/>
                      </a:lnTo>
                      <a:lnTo>
                        <a:pt x="194" y="836"/>
                      </a:lnTo>
                      <a:lnTo>
                        <a:pt x="280" y="842"/>
                      </a:lnTo>
                      <a:lnTo>
                        <a:pt x="225" y="812"/>
                      </a:lnTo>
                      <a:lnTo>
                        <a:pt x="304" y="806"/>
                      </a:lnTo>
                      <a:lnTo>
                        <a:pt x="237" y="788"/>
                      </a:lnTo>
                      <a:lnTo>
                        <a:pt x="353" y="775"/>
                      </a:lnTo>
                      <a:lnTo>
                        <a:pt x="243" y="757"/>
                      </a:lnTo>
                      <a:lnTo>
                        <a:pt x="341" y="727"/>
                      </a:lnTo>
                      <a:lnTo>
                        <a:pt x="286" y="697"/>
                      </a:lnTo>
                      <a:lnTo>
                        <a:pt x="353" y="679"/>
                      </a:lnTo>
                      <a:lnTo>
                        <a:pt x="280" y="655"/>
                      </a:lnTo>
                      <a:lnTo>
                        <a:pt x="347" y="600"/>
                      </a:lnTo>
                      <a:lnTo>
                        <a:pt x="286" y="588"/>
                      </a:lnTo>
                      <a:lnTo>
                        <a:pt x="328" y="558"/>
                      </a:lnTo>
                      <a:lnTo>
                        <a:pt x="286" y="545"/>
                      </a:lnTo>
                      <a:lnTo>
                        <a:pt x="310" y="485"/>
                      </a:lnTo>
                      <a:lnTo>
                        <a:pt x="401" y="55"/>
                      </a:lnTo>
                      <a:lnTo>
                        <a:pt x="268" y="473"/>
                      </a:lnTo>
                      <a:lnTo>
                        <a:pt x="249" y="448"/>
                      </a:lnTo>
                      <a:lnTo>
                        <a:pt x="377" y="6"/>
                      </a:lnTo>
                      <a:lnTo>
                        <a:pt x="188" y="509"/>
                      </a:lnTo>
                      <a:lnTo>
                        <a:pt x="73" y="539"/>
                      </a:lnTo>
                      <a:lnTo>
                        <a:pt x="146" y="497"/>
                      </a:lnTo>
                      <a:lnTo>
                        <a:pt x="73" y="497"/>
                      </a:lnTo>
                      <a:lnTo>
                        <a:pt x="140" y="461"/>
                      </a:lnTo>
                      <a:lnTo>
                        <a:pt x="109" y="442"/>
                      </a:lnTo>
                      <a:lnTo>
                        <a:pt x="146" y="418"/>
                      </a:lnTo>
                      <a:lnTo>
                        <a:pt x="115" y="394"/>
                      </a:lnTo>
                      <a:lnTo>
                        <a:pt x="140" y="339"/>
                      </a:lnTo>
                      <a:lnTo>
                        <a:pt x="359" y="0"/>
                      </a:lnTo>
                      <a:lnTo>
                        <a:pt x="34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5662440" y="2976480"/>
                  <a:ext cx="252720" cy="308160"/>
                </a:xfrm>
                <a:custGeom>
                  <a:avLst/>
                  <a:gdLst/>
                  <a:ahLst/>
                  <a:rect l="l" t="t" r="r" b="b"/>
                  <a:pathLst>
                    <a:path w="159" h="194">
                      <a:moveTo>
                        <a:pt x="104" y="24"/>
                      </a:moveTo>
                      <a:lnTo>
                        <a:pt x="134" y="0"/>
                      </a:lnTo>
                      <a:lnTo>
                        <a:pt x="109" y="42"/>
                      </a:lnTo>
                      <a:lnTo>
                        <a:pt x="152" y="30"/>
                      </a:lnTo>
                      <a:lnTo>
                        <a:pt x="122" y="60"/>
                      </a:lnTo>
                      <a:lnTo>
                        <a:pt x="152" y="54"/>
                      </a:lnTo>
                      <a:lnTo>
                        <a:pt x="134" y="84"/>
                      </a:lnTo>
                      <a:lnTo>
                        <a:pt x="158" y="78"/>
                      </a:lnTo>
                      <a:lnTo>
                        <a:pt x="73" y="150"/>
                      </a:lnTo>
                      <a:lnTo>
                        <a:pt x="7" y="193"/>
                      </a:lnTo>
                      <a:lnTo>
                        <a:pt x="0" y="139"/>
                      </a:lnTo>
                      <a:lnTo>
                        <a:pt x="55" y="54"/>
                      </a:lnTo>
                      <a:lnTo>
                        <a:pt x="104" y="2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5375160" y="2957400"/>
                  <a:ext cx="125640" cy="193680"/>
                </a:xfrm>
                <a:custGeom>
                  <a:avLst/>
                  <a:gdLst/>
                  <a:ahLst/>
                  <a:rect l="l" t="t" r="r" b="b"/>
                  <a:pathLst>
                    <a:path w="79" h="122">
                      <a:moveTo>
                        <a:pt x="0" y="0"/>
                      </a:moveTo>
                      <a:lnTo>
                        <a:pt x="0" y="30"/>
                      </a:lnTo>
                      <a:lnTo>
                        <a:pt x="54" y="67"/>
                      </a:lnTo>
                      <a:lnTo>
                        <a:pt x="48" y="121"/>
                      </a:lnTo>
                      <a:lnTo>
                        <a:pt x="78" y="67"/>
                      </a:lnTo>
                      <a:lnTo>
                        <a:pt x="66" y="36"/>
                      </a:lnTo>
                      <a:lnTo>
                        <a:pt x="36" y="18"/>
                      </a:lnTo>
                      <a:lnTo>
                        <a:pt x="48"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7" name=""/>
                <p:cNvSpPr/>
                <p:nvPr/>
              </p:nvSpPr>
              <p:spPr>
                <a:xfrm>
                  <a:off x="5257800" y="3273480"/>
                  <a:ext cx="119160" cy="164880"/>
                </a:xfrm>
                <a:custGeom>
                  <a:avLst/>
                  <a:gdLst/>
                  <a:ahLst/>
                  <a:rect l="l" t="t" r="r" b="b"/>
                  <a:pathLst>
                    <a:path w="75" h="104">
                      <a:moveTo>
                        <a:pt x="18" y="0"/>
                      </a:moveTo>
                      <a:lnTo>
                        <a:pt x="74" y="97"/>
                      </a:lnTo>
                      <a:lnTo>
                        <a:pt x="43" y="103"/>
                      </a:lnTo>
                      <a:lnTo>
                        <a:pt x="0" y="55"/>
                      </a:lnTo>
                      <a:lnTo>
                        <a:pt x="1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 name=""/>
                <p:cNvSpPr/>
                <p:nvPr/>
              </p:nvSpPr>
              <p:spPr>
                <a:xfrm>
                  <a:off x="4680000" y="3510000"/>
                  <a:ext cx="1388880" cy="1446120"/>
                </a:xfrm>
                <a:custGeom>
                  <a:avLst/>
                  <a:gdLst/>
                  <a:ahLst/>
                  <a:rect l="l" t="t" r="r" b="b"/>
                  <a:pathLst>
                    <a:path w="875" h="911">
                      <a:moveTo>
                        <a:pt x="540" y="0"/>
                      </a:moveTo>
                      <a:lnTo>
                        <a:pt x="841" y="450"/>
                      </a:lnTo>
                      <a:lnTo>
                        <a:pt x="864" y="502"/>
                      </a:lnTo>
                      <a:lnTo>
                        <a:pt x="874" y="544"/>
                      </a:lnTo>
                      <a:lnTo>
                        <a:pt x="874" y="587"/>
                      </a:lnTo>
                      <a:lnTo>
                        <a:pt x="869" y="629"/>
                      </a:lnTo>
                      <a:lnTo>
                        <a:pt x="855" y="671"/>
                      </a:lnTo>
                      <a:lnTo>
                        <a:pt x="841" y="709"/>
                      </a:lnTo>
                      <a:lnTo>
                        <a:pt x="818" y="746"/>
                      </a:lnTo>
                      <a:lnTo>
                        <a:pt x="794" y="769"/>
                      </a:lnTo>
                      <a:lnTo>
                        <a:pt x="780" y="793"/>
                      </a:lnTo>
                      <a:lnTo>
                        <a:pt x="752" y="825"/>
                      </a:lnTo>
                      <a:lnTo>
                        <a:pt x="700" y="858"/>
                      </a:lnTo>
                      <a:lnTo>
                        <a:pt x="658" y="882"/>
                      </a:lnTo>
                      <a:lnTo>
                        <a:pt x="592" y="905"/>
                      </a:lnTo>
                      <a:lnTo>
                        <a:pt x="526" y="910"/>
                      </a:lnTo>
                      <a:lnTo>
                        <a:pt x="489" y="905"/>
                      </a:lnTo>
                      <a:lnTo>
                        <a:pt x="460" y="896"/>
                      </a:lnTo>
                      <a:lnTo>
                        <a:pt x="409" y="910"/>
                      </a:lnTo>
                      <a:lnTo>
                        <a:pt x="343" y="910"/>
                      </a:lnTo>
                      <a:lnTo>
                        <a:pt x="277" y="901"/>
                      </a:lnTo>
                      <a:lnTo>
                        <a:pt x="221" y="882"/>
                      </a:lnTo>
                      <a:lnTo>
                        <a:pt x="179" y="853"/>
                      </a:lnTo>
                      <a:lnTo>
                        <a:pt x="150" y="825"/>
                      </a:lnTo>
                      <a:lnTo>
                        <a:pt x="98" y="802"/>
                      </a:lnTo>
                      <a:lnTo>
                        <a:pt x="56" y="779"/>
                      </a:lnTo>
                      <a:lnTo>
                        <a:pt x="33" y="741"/>
                      </a:lnTo>
                      <a:lnTo>
                        <a:pt x="10" y="689"/>
                      </a:lnTo>
                      <a:lnTo>
                        <a:pt x="0" y="647"/>
                      </a:lnTo>
                      <a:lnTo>
                        <a:pt x="0" y="577"/>
                      </a:lnTo>
                      <a:lnTo>
                        <a:pt x="10" y="530"/>
                      </a:lnTo>
                      <a:lnTo>
                        <a:pt x="28" y="492"/>
                      </a:lnTo>
                      <a:lnTo>
                        <a:pt x="70" y="431"/>
                      </a:lnTo>
                      <a:lnTo>
                        <a:pt x="108" y="375"/>
                      </a:lnTo>
                      <a:lnTo>
                        <a:pt x="357" y="18"/>
                      </a:lnTo>
                      <a:lnTo>
                        <a:pt x="400" y="5"/>
                      </a:lnTo>
                      <a:lnTo>
                        <a:pt x="291" y="155"/>
                      </a:lnTo>
                      <a:lnTo>
                        <a:pt x="174" y="309"/>
                      </a:lnTo>
                      <a:lnTo>
                        <a:pt x="108" y="399"/>
                      </a:lnTo>
                      <a:lnTo>
                        <a:pt x="75" y="459"/>
                      </a:lnTo>
                      <a:lnTo>
                        <a:pt x="42" y="516"/>
                      </a:lnTo>
                      <a:lnTo>
                        <a:pt x="37" y="544"/>
                      </a:lnTo>
                      <a:lnTo>
                        <a:pt x="37" y="563"/>
                      </a:lnTo>
                      <a:lnTo>
                        <a:pt x="33" y="619"/>
                      </a:lnTo>
                      <a:lnTo>
                        <a:pt x="42" y="666"/>
                      </a:lnTo>
                      <a:lnTo>
                        <a:pt x="51" y="699"/>
                      </a:lnTo>
                      <a:lnTo>
                        <a:pt x="70" y="741"/>
                      </a:lnTo>
                      <a:lnTo>
                        <a:pt x="94" y="774"/>
                      </a:lnTo>
                      <a:lnTo>
                        <a:pt x="126" y="793"/>
                      </a:lnTo>
                      <a:lnTo>
                        <a:pt x="150" y="802"/>
                      </a:lnTo>
                      <a:lnTo>
                        <a:pt x="174" y="811"/>
                      </a:lnTo>
                      <a:lnTo>
                        <a:pt x="221" y="853"/>
                      </a:lnTo>
                      <a:lnTo>
                        <a:pt x="267" y="864"/>
                      </a:lnTo>
                      <a:lnTo>
                        <a:pt x="333" y="864"/>
                      </a:lnTo>
                      <a:lnTo>
                        <a:pt x="394" y="860"/>
                      </a:lnTo>
                      <a:lnTo>
                        <a:pt x="456" y="877"/>
                      </a:lnTo>
                      <a:lnTo>
                        <a:pt x="521" y="891"/>
                      </a:lnTo>
                      <a:lnTo>
                        <a:pt x="578" y="887"/>
                      </a:lnTo>
                      <a:lnTo>
                        <a:pt x="690" y="836"/>
                      </a:lnTo>
                      <a:lnTo>
                        <a:pt x="732" y="778"/>
                      </a:lnTo>
                      <a:lnTo>
                        <a:pt x="748" y="713"/>
                      </a:lnTo>
                      <a:lnTo>
                        <a:pt x="775" y="694"/>
                      </a:lnTo>
                      <a:lnTo>
                        <a:pt x="737" y="694"/>
                      </a:lnTo>
                      <a:lnTo>
                        <a:pt x="766" y="675"/>
                      </a:lnTo>
                      <a:lnTo>
                        <a:pt x="728" y="680"/>
                      </a:lnTo>
                      <a:lnTo>
                        <a:pt x="747" y="656"/>
                      </a:lnTo>
                      <a:lnTo>
                        <a:pt x="728" y="652"/>
                      </a:lnTo>
                      <a:lnTo>
                        <a:pt x="742" y="629"/>
                      </a:lnTo>
                      <a:lnTo>
                        <a:pt x="724" y="624"/>
                      </a:lnTo>
                      <a:lnTo>
                        <a:pt x="733" y="596"/>
                      </a:lnTo>
                      <a:lnTo>
                        <a:pt x="692" y="397"/>
                      </a:lnTo>
                      <a:lnTo>
                        <a:pt x="775" y="633"/>
                      </a:lnTo>
                      <a:lnTo>
                        <a:pt x="804" y="638"/>
                      </a:lnTo>
                      <a:lnTo>
                        <a:pt x="808" y="610"/>
                      </a:lnTo>
                      <a:lnTo>
                        <a:pt x="832" y="605"/>
                      </a:lnTo>
                      <a:lnTo>
                        <a:pt x="813" y="587"/>
                      </a:lnTo>
                      <a:lnTo>
                        <a:pt x="827" y="577"/>
                      </a:lnTo>
                      <a:lnTo>
                        <a:pt x="804" y="563"/>
                      </a:lnTo>
                      <a:lnTo>
                        <a:pt x="822" y="544"/>
                      </a:lnTo>
                      <a:lnTo>
                        <a:pt x="799" y="534"/>
                      </a:lnTo>
                      <a:lnTo>
                        <a:pt x="808" y="511"/>
                      </a:lnTo>
                      <a:lnTo>
                        <a:pt x="789" y="507"/>
                      </a:lnTo>
                      <a:lnTo>
                        <a:pt x="804" y="483"/>
                      </a:lnTo>
                      <a:lnTo>
                        <a:pt x="775" y="474"/>
                      </a:lnTo>
                      <a:lnTo>
                        <a:pt x="780" y="445"/>
                      </a:lnTo>
                      <a:lnTo>
                        <a:pt x="761" y="431"/>
                      </a:lnTo>
                      <a:lnTo>
                        <a:pt x="761" y="408"/>
                      </a:lnTo>
                      <a:lnTo>
                        <a:pt x="737" y="380"/>
                      </a:lnTo>
                      <a:lnTo>
                        <a:pt x="649" y="241"/>
                      </a:lnTo>
                      <a:lnTo>
                        <a:pt x="624" y="221"/>
                      </a:lnTo>
                      <a:lnTo>
                        <a:pt x="629" y="202"/>
                      </a:lnTo>
                      <a:lnTo>
                        <a:pt x="608" y="200"/>
                      </a:lnTo>
                      <a:lnTo>
                        <a:pt x="611" y="183"/>
                      </a:lnTo>
                      <a:lnTo>
                        <a:pt x="597" y="178"/>
                      </a:lnTo>
                      <a:lnTo>
                        <a:pt x="597" y="159"/>
                      </a:lnTo>
                      <a:lnTo>
                        <a:pt x="580" y="143"/>
                      </a:lnTo>
                      <a:lnTo>
                        <a:pt x="545" y="89"/>
                      </a:lnTo>
                      <a:lnTo>
                        <a:pt x="662" y="463"/>
                      </a:lnTo>
                      <a:lnTo>
                        <a:pt x="644" y="502"/>
                      </a:lnTo>
                      <a:lnTo>
                        <a:pt x="645" y="454"/>
                      </a:lnTo>
                      <a:lnTo>
                        <a:pt x="633" y="459"/>
                      </a:lnTo>
                      <a:lnTo>
                        <a:pt x="634" y="436"/>
                      </a:lnTo>
                      <a:lnTo>
                        <a:pt x="615" y="431"/>
                      </a:lnTo>
                      <a:lnTo>
                        <a:pt x="625" y="399"/>
                      </a:lnTo>
                      <a:lnTo>
                        <a:pt x="601" y="399"/>
                      </a:lnTo>
                      <a:lnTo>
                        <a:pt x="611" y="375"/>
                      </a:lnTo>
                      <a:lnTo>
                        <a:pt x="587" y="370"/>
                      </a:lnTo>
                      <a:lnTo>
                        <a:pt x="601" y="347"/>
                      </a:lnTo>
                      <a:lnTo>
                        <a:pt x="578" y="342"/>
                      </a:lnTo>
                      <a:lnTo>
                        <a:pt x="592" y="319"/>
                      </a:lnTo>
                      <a:lnTo>
                        <a:pt x="573" y="315"/>
                      </a:lnTo>
                      <a:lnTo>
                        <a:pt x="583" y="286"/>
                      </a:lnTo>
                      <a:lnTo>
                        <a:pt x="564" y="281"/>
                      </a:lnTo>
                      <a:lnTo>
                        <a:pt x="569" y="258"/>
                      </a:lnTo>
                      <a:lnTo>
                        <a:pt x="545" y="248"/>
                      </a:lnTo>
                      <a:lnTo>
                        <a:pt x="550" y="225"/>
                      </a:lnTo>
                      <a:lnTo>
                        <a:pt x="530" y="212"/>
                      </a:lnTo>
                      <a:lnTo>
                        <a:pt x="540" y="187"/>
                      </a:lnTo>
                      <a:lnTo>
                        <a:pt x="522" y="176"/>
                      </a:lnTo>
                      <a:lnTo>
                        <a:pt x="531" y="145"/>
                      </a:lnTo>
                      <a:lnTo>
                        <a:pt x="512" y="145"/>
                      </a:lnTo>
                      <a:lnTo>
                        <a:pt x="507" y="117"/>
                      </a:lnTo>
                      <a:lnTo>
                        <a:pt x="509" y="106"/>
                      </a:lnTo>
                      <a:lnTo>
                        <a:pt x="485" y="106"/>
                      </a:lnTo>
                      <a:lnTo>
                        <a:pt x="501" y="508"/>
                      </a:lnTo>
                      <a:lnTo>
                        <a:pt x="474" y="483"/>
                      </a:lnTo>
                      <a:lnTo>
                        <a:pt x="489" y="436"/>
                      </a:lnTo>
                      <a:lnTo>
                        <a:pt x="465" y="441"/>
                      </a:lnTo>
                      <a:lnTo>
                        <a:pt x="489" y="394"/>
                      </a:lnTo>
                      <a:lnTo>
                        <a:pt x="465" y="394"/>
                      </a:lnTo>
                      <a:lnTo>
                        <a:pt x="477" y="364"/>
                      </a:lnTo>
                      <a:lnTo>
                        <a:pt x="446" y="366"/>
                      </a:lnTo>
                      <a:lnTo>
                        <a:pt x="477" y="328"/>
                      </a:lnTo>
                      <a:lnTo>
                        <a:pt x="436" y="332"/>
                      </a:lnTo>
                      <a:lnTo>
                        <a:pt x="477" y="286"/>
                      </a:lnTo>
                      <a:lnTo>
                        <a:pt x="428" y="300"/>
                      </a:lnTo>
                      <a:lnTo>
                        <a:pt x="468" y="258"/>
                      </a:lnTo>
                      <a:lnTo>
                        <a:pt x="423" y="263"/>
                      </a:lnTo>
                      <a:lnTo>
                        <a:pt x="460" y="225"/>
                      </a:lnTo>
                      <a:lnTo>
                        <a:pt x="437" y="225"/>
                      </a:lnTo>
                      <a:lnTo>
                        <a:pt x="452" y="200"/>
                      </a:lnTo>
                      <a:lnTo>
                        <a:pt x="428" y="196"/>
                      </a:lnTo>
                      <a:lnTo>
                        <a:pt x="448" y="171"/>
                      </a:lnTo>
                      <a:lnTo>
                        <a:pt x="428" y="163"/>
                      </a:lnTo>
                      <a:lnTo>
                        <a:pt x="452" y="139"/>
                      </a:lnTo>
                      <a:lnTo>
                        <a:pt x="428" y="131"/>
                      </a:lnTo>
                      <a:lnTo>
                        <a:pt x="452" y="110"/>
                      </a:lnTo>
                      <a:lnTo>
                        <a:pt x="432" y="106"/>
                      </a:lnTo>
                      <a:lnTo>
                        <a:pt x="452" y="85"/>
                      </a:lnTo>
                      <a:lnTo>
                        <a:pt x="436" y="73"/>
                      </a:lnTo>
                      <a:lnTo>
                        <a:pt x="428" y="56"/>
                      </a:lnTo>
                      <a:lnTo>
                        <a:pt x="343" y="357"/>
                      </a:lnTo>
                      <a:lnTo>
                        <a:pt x="418" y="5"/>
                      </a:lnTo>
                      <a:lnTo>
                        <a:pt x="437" y="5"/>
                      </a:lnTo>
                      <a:lnTo>
                        <a:pt x="442" y="37"/>
                      </a:lnTo>
                      <a:lnTo>
                        <a:pt x="446" y="56"/>
                      </a:lnTo>
                      <a:lnTo>
                        <a:pt x="451" y="66"/>
                      </a:lnTo>
                      <a:lnTo>
                        <a:pt x="460" y="42"/>
                      </a:lnTo>
                      <a:lnTo>
                        <a:pt x="460" y="5"/>
                      </a:lnTo>
                      <a:lnTo>
                        <a:pt x="507" y="89"/>
                      </a:lnTo>
                      <a:lnTo>
                        <a:pt x="493" y="0"/>
                      </a:lnTo>
                      <a:lnTo>
                        <a:pt x="54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9" name=""/>
                <p:cNvSpPr/>
                <p:nvPr/>
              </p:nvSpPr>
              <p:spPr>
                <a:xfrm>
                  <a:off x="5359320" y="2928960"/>
                  <a:ext cx="792360" cy="493560"/>
                </a:xfrm>
                <a:custGeom>
                  <a:avLst/>
                  <a:gdLst/>
                  <a:ahLst/>
                  <a:rect l="l" t="t" r="r" b="b"/>
                  <a:pathLst>
                    <a:path w="499" h="311">
                      <a:moveTo>
                        <a:pt x="33" y="249"/>
                      </a:moveTo>
                      <a:lnTo>
                        <a:pt x="61" y="234"/>
                      </a:lnTo>
                      <a:lnTo>
                        <a:pt x="94" y="225"/>
                      </a:lnTo>
                      <a:lnTo>
                        <a:pt x="122" y="225"/>
                      </a:lnTo>
                      <a:lnTo>
                        <a:pt x="150" y="216"/>
                      </a:lnTo>
                      <a:lnTo>
                        <a:pt x="169" y="192"/>
                      </a:lnTo>
                      <a:lnTo>
                        <a:pt x="193" y="160"/>
                      </a:lnTo>
                      <a:lnTo>
                        <a:pt x="221" y="118"/>
                      </a:lnTo>
                      <a:lnTo>
                        <a:pt x="254" y="75"/>
                      </a:lnTo>
                      <a:lnTo>
                        <a:pt x="286" y="42"/>
                      </a:lnTo>
                      <a:lnTo>
                        <a:pt x="328" y="19"/>
                      </a:lnTo>
                      <a:lnTo>
                        <a:pt x="357" y="5"/>
                      </a:lnTo>
                      <a:lnTo>
                        <a:pt x="404" y="5"/>
                      </a:lnTo>
                      <a:lnTo>
                        <a:pt x="432" y="14"/>
                      </a:lnTo>
                      <a:lnTo>
                        <a:pt x="470" y="14"/>
                      </a:lnTo>
                      <a:lnTo>
                        <a:pt x="498" y="0"/>
                      </a:lnTo>
                      <a:lnTo>
                        <a:pt x="460" y="28"/>
                      </a:lnTo>
                      <a:lnTo>
                        <a:pt x="493" y="23"/>
                      </a:lnTo>
                      <a:lnTo>
                        <a:pt x="470" y="42"/>
                      </a:lnTo>
                      <a:lnTo>
                        <a:pt x="493" y="42"/>
                      </a:lnTo>
                      <a:lnTo>
                        <a:pt x="465" y="62"/>
                      </a:lnTo>
                      <a:lnTo>
                        <a:pt x="493" y="70"/>
                      </a:lnTo>
                      <a:lnTo>
                        <a:pt x="465" y="85"/>
                      </a:lnTo>
                      <a:lnTo>
                        <a:pt x="498" y="90"/>
                      </a:lnTo>
                      <a:lnTo>
                        <a:pt x="470" y="99"/>
                      </a:lnTo>
                      <a:lnTo>
                        <a:pt x="484" y="108"/>
                      </a:lnTo>
                      <a:lnTo>
                        <a:pt x="460" y="118"/>
                      </a:lnTo>
                      <a:lnTo>
                        <a:pt x="484" y="122"/>
                      </a:lnTo>
                      <a:lnTo>
                        <a:pt x="446" y="122"/>
                      </a:lnTo>
                      <a:lnTo>
                        <a:pt x="404" y="113"/>
                      </a:lnTo>
                      <a:lnTo>
                        <a:pt x="376" y="118"/>
                      </a:lnTo>
                      <a:lnTo>
                        <a:pt x="408" y="90"/>
                      </a:lnTo>
                      <a:lnTo>
                        <a:pt x="376" y="90"/>
                      </a:lnTo>
                      <a:lnTo>
                        <a:pt x="413" y="75"/>
                      </a:lnTo>
                      <a:lnTo>
                        <a:pt x="380" y="75"/>
                      </a:lnTo>
                      <a:lnTo>
                        <a:pt x="413" y="66"/>
                      </a:lnTo>
                      <a:lnTo>
                        <a:pt x="371" y="57"/>
                      </a:lnTo>
                      <a:lnTo>
                        <a:pt x="408" y="47"/>
                      </a:lnTo>
                      <a:lnTo>
                        <a:pt x="376" y="38"/>
                      </a:lnTo>
                      <a:lnTo>
                        <a:pt x="404" y="28"/>
                      </a:lnTo>
                      <a:lnTo>
                        <a:pt x="371" y="23"/>
                      </a:lnTo>
                      <a:lnTo>
                        <a:pt x="343" y="28"/>
                      </a:lnTo>
                      <a:lnTo>
                        <a:pt x="300" y="47"/>
                      </a:lnTo>
                      <a:lnTo>
                        <a:pt x="268" y="80"/>
                      </a:lnTo>
                      <a:lnTo>
                        <a:pt x="178" y="197"/>
                      </a:lnTo>
                      <a:lnTo>
                        <a:pt x="286" y="85"/>
                      </a:lnTo>
                      <a:lnTo>
                        <a:pt x="193" y="202"/>
                      </a:lnTo>
                      <a:lnTo>
                        <a:pt x="319" y="94"/>
                      </a:lnTo>
                      <a:lnTo>
                        <a:pt x="202" y="211"/>
                      </a:lnTo>
                      <a:lnTo>
                        <a:pt x="338" y="122"/>
                      </a:lnTo>
                      <a:lnTo>
                        <a:pt x="362" y="113"/>
                      </a:lnTo>
                      <a:lnTo>
                        <a:pt x="314" y="141"/>
                      </a:lnTo>
                      <a:lnTo>
                        <a:pt x="183" y="249"/>
                      </a:lnTo>
                      <a:lnTo>
                        <a:pt x="159" y="263"/>
                      </a:lnTo>
                      <a:lnTo>
                        <a:pt x="122" y="272"/>
                      </a:lnTo>
                      <a:lnTo>
                        <a:pt x="145" y="254"/>
                      </a:lnTo>
                      <a:lnTo>
                        <a:pt x="108" y="258"/>
                      </a:lnTo>
                      <a:lnTo>
                        <a:pt x="136" y="244"/>
                      </a:lnTo>
                      <a:lnTo>
                        <a:pt x="103" y="240"/>
                      </a:lnTo>
                      <a:lnTo>
                        <a:pt x="85" y="234"/>
                      </a:lnTo>
                      <a:lnTo>
                        <a:pt x="42" y="254"/>
                      </a:lnTo>
                      <a:lnTo>
                        <a:pt x="24" y="268"/>
                      </a:lnTo>
                      <a:lnTo>
                        <a:pt x="70" y="254"/>
                      </a:lnTo>
                      <a:lnTo>
                        <a:pt x="28" y="296"/>
                      </a:lnTo>
                      <a:lnTo>
                        <a:pt x="89" y="258"/>
                      </a:lnTo>
                      <a:lnTo>
                        <a:pt x="51" y="296"/>
                      </a:lnTo>
                      <a:lnTo>
                        <a:pt x="94" y="277"/>
                      </a:lnTo>
                      <a:lnTo>
                        <a:pt x="65" y="305"/>
                      </a:lnTo>
                      <a:lnTo>
                        <a:pt x="0" y="310"/>
                      </a:lnTo>
                      <a:lnTo>
                        <a:pt x="33" y="2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0" name=""/>
                <p:cNvSpPr/>
                <p:nvPr/>
              </p:nvSpPr>
              <p:spPr>
                <a:xfrm>
                  <a:off x="4967280" y="3519360"/>
                  <a:ext cx="341280" cy="727200"/>
                </a:xfrm>
                <a:custGeom>
                  <a:avLst/>
                  <a:gdLst/>
                  <a:ahLst/>
                  <a:rect l="l" t="t" r="r" b="b"/>
                  <a:pathLst>
                    <a:path w="215" h="458">
                      <a:moveTo>
                        <a:pt x="210" y="47"/>
                      </a:moveTo>
                      <a:lnTo>
                        <a:pt x="62" y="457"/>
                      </a:lnTo>
                      <a:lnTo>
                        <a:pt x="45" y="437"/>
                      </a:lnTo>
                      <a:lnTo>
                        <a:pt x="4" y="432"/>
                      </a:lnTo>
                      <a:lnTo>
                        <a:pt x="45" y="408"/>
                      </a:lnTo>
                      <a:lnTo>
                        <a:pt x="0" y="400"/>
                      </a:lnTo>
                      <a:lnTo>
                        <a:pt x="54" y="379"/>
                      </a:lnTo>
                      <a:lnTo>
                        <a:pt x="0" y="371"/>
                      </a:lnTo>
                      <a:lnTo>
                        <a:pt x="63" y="356"/>
                      </a:lnTo>
                      <a:lnTo>
                        <a:pt x="13" y="338"/>
                      </a:lnTo>
                      <a:lnTo>
                        <a:pt x="68" y="327"/>
                      </a:lnTo>
                      <a:lnTo>
                        <a:pt x="33" y="305"/>
                      </a:lnTo>
                      <a:lnTo>
                        <a:pt x="73" y="295"/>
                      </a:lnTo>
                      <a:lnTo>
                        <a:pt x="49" y="277"/>
                      </a:lnTo>
                      <a:lnTo>
                        <a:pt x="83" y="265"/>
                      </a:lnTo>
                      <a:lnTo>
                        <a:pt x="83" y="243"/>
                      </a:lnTo>
                      <a:lnTo>
                        <a:pt x="214" y="0"/>
                      </a:lnTo>
                      <a:lnTo>
                        <a:pt x="210" y="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1" name=""/>
              <p:cNvSpPr/>
              <p:nvPr/>
            </p:nvSpPr>
            <p:spPr>
              <a:xfrm>
                <a:off x="5270400" y="3397320"/>
                <a:ext cx="277920" cy="152280"/>
              </a:xfrm>
              <a:custGeom>
                <a:avLst/>
                <a:gdLst/>
                <a:ahLst/>
                <a:rect l="l" t="t" r="r" b="b"/>
                <a:pathLst>
                  <a:path w="175" h="96">
                    <a:moveTo>
                      <a:pt x="3" y="13"/>
                    </a:moveTo>
                    <a:lnTo>
                      <a:pt x="3" y="20"/>
                    </a:lnTo>
                    <a:lnTo>
                      <a:pt x="12" y="22"/>
                    </a:lnTo>
                    <a:lnTo>
                      <a:pt x="36" y="57"/>
                    </a:lnTo>
                    <a:lnTo>
                      <a:pt x="0" y="89"/>
                    </a:lnTo>
                    <a:lnTo>
                      <a:pt x="29" y="82"/>
                    </a:lnTo>
                    <a:lnTo>
                      <a:pt x="51" y="44"/>
                    </a:lnTo>
                    <a:lnTo>
                      <a:pt x="48" y="95"/>
                    </a:lnTo>
                    <a:lnTo>
                      <a:pt x="61" y="80"/>
                    </a:lnTo>
                    <a:lnTo>
                      <a:pt x="77" y="35"/>
                    </a:lnTo>
                    <a:lnTo>
                      <a:pt x="92" y="93"/>
                    </a:lnTo>
                    <a:lnTo>
                      <a:pt x="101" y="41"/>
                    </a:lnTo>
                    <a:lnTo>
                      <a:pt x="126" y="84"/>
                    </a:lnTo>
                    <a:lnTo>
                      <a:pt x="174" y="83"/>
                    </a:lnTo>
                    <a:lnTo>
                      <a:pt x="124" y="0"/>
                    </a:lnTo>
                    <a:lnTo>
                      <a:pt x="3" y="13"/>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2" name=""/>
            <p:cNvSpPr/>
            <p:nvPr/>
          </p:nvSpPr>
          <p:spPr>
            <a:xfrm>
              <a:off x="5264280" y="2867040"/>
              <a:ext cx="298440" cy="566640"/>
            </a:xfrm>
            <a:custGeom>
              <a:avLst/>
              <a:gdLst/>
              <a:ahLst/>
              <a:rect l="l" t="t" r="r" b="b"/>
              <a:pathLst>
                <a:path w="188" h="357">
                  <a:moveTo>
                    <a:pt x="32" y="356"/>
                  </a:moveTo>
                  <a:lnTo>
                    <a:pt x="7" y="333"/>
                  </a:lnTo>
                  <a:lnTo>
                    <a:pt x="0" y="305"/>
                  </a:lnTo>
                  <a:lnTo>
                    <a:pt x="3" y="277"/>
                  </a:lnTo>
                  <a:lnTo>
                    <a:pt x="17" y="253"/>
                  </a:lnTo>
                  <a:lnTo>
                    <a:pt x="32" y="230"/>
                  </a:lnTo>
                  <a:lnTo>
                    <a:pt x="56" y="206"/>
                  </a:lnTo>
                  <a:lnTo>
                    <a:pt x="78" y="178"/>
                  </a:lnTo>
                  <a:lnTo>
                    <a:pt x="88" y="160"/>
                  </a:lnTo>
                  <a:lnTo>
                    <a:pt x="88" y="136"/>
                  </a:lnTo>
                  <a:lnTo>
                    <a:pt x="81" y="112"/>
                  </a:lnTo>
                  <a:lnTo>
                    <a:pt x="64" y="99"/>
                  </a:lnTo>
                  <a:lnTo>
                    <a:pt x="49" y="89"/>
                  </a:lnTo>
                  <a:lnTo>
                    <a:pt x="42" y="70"/>
                  </a:lnTo>
                  <a:lnTo>
                    <a:pt x="53" y="51"/>
                  </a:lnTo>
                  <a:lnTo>
                    <a:pt x="71" y="28"/>
                  </a:lnTo>
                  <a:lnTo>
                    <a:pt x="92" y="9"/>
                  </a:lnTo>
                  <a:lnTo>
                    <a:pt x="117" y="0"/>
                  </a:lnTo>
                  <a:lnTo>
                    <a:pt x="110" y="19"/>
                  </a:lnTo>
                  <a:lnTo>
                    <a:pt x="127" y="14"/>
                  </a:lnTo>
                  <a:lnTo>
                    <a:pt x="120" y="28"/>
                  </a:lnTo>
                  <a:lnTo>
                    <a:pt x="138" y="24"/>
                  </a:lnTo>
                  <a:lnTo>
                    <a:pt x="127" y="47"/>
                  </a:lnTo>
                  <a:lnTo>
                    <a:pt x="148" y="37"/>
                  </a:lnTo>
                  <a:lnTo>
                    <a:pt x="134" y="61"/>
                  </a:lnTo>
                  <a:lnTo>
                    <a:pt x="159" y="51"/>
                  </a:lnTo>
                  <a:lnTo>
                    <a:pt x="152" y="70"/>
                  </a:lnTo>
                  <a:lnTo>
                    <a:pt x="166" y="75"/>
                  </a:lnTo>
                  <a:lnTo>
                    <a:pt x="162" y="89"/>
                  </a:lnTo>
                  <a:lnTo>
                    <a:pt x="176" y="94"/>
                  </a:lnTo>
                  <a:lnTo>
                    <a:pt x="187" y="112"/>
                  </a:lnTo>
                  <a:lnTo>
                    <a:pt x="184" y="140"/>
                  </a:lnTo>
                  <a:lnTo>
                    <a:pt x="170" y="169"/>
                  </a:lnTo>
                  <a:lnTo>
                    <a:pt x="145" y="202"/>
                  </a:lnTo>
                  <a:lnTo>
                    <a:pt x="120" y="225"/>
                  </a:lnTo>
                  <a:lnTo>
                    <a:pt x="159" y="169"/>
                  </a:lnTo>
                  <a:lnTo>
                    <a:pt x="170" y="140"/>
                  </a:lnTo>
                  <a:lnTo>
                    <a:pt x="166" y="112"/>
                  </a:lnTo>
                  <a:lnTo>
                    <a:pt x="152" y="99"/>
                  </a:lnTo>
                  <a:lnTo>
                    <a:pt x="64" y="61"/>
                  </a:lnTo>
                  <a:lnTo>
                    <a:pt x="60" y="70"/>
                  </a:lnTo>
                  <a:lnTo>
                    <a:pt x="64" y="84"/>
                  </a:lnTo>
                  <a:lnTo>
                    <a:pt x="88" y="103"/>
                  </a:lnTo>
                  <a:lnTo>
                    <a:pt x="99" y="122"/>
                  </a:lnTo>
                  <a:lnTo>
                    <a:pt x="106" y="155"/>
                  </a:lnTo>
                  <a:lnTo>
                    <a:pt x="102" y="174"/>
                  </a:lnTo>
                  <a:lnTo>
                    <a:pt x="127" y="150"/>
                  </a:lnTo>
                  <a:lnTo>
                    <a:pt x="113" y="188"/>
                  </a:lnTo>
                  <a:lnTo>
                    <a:pt x="148" y="145"/>
                  </a:lnTo>
                  <a:lnTo>
                    <a:pt x="123" y="192"/>
                  </a:lnTo>
                  <a:lnTo>
                    <a:pt x="148" y="169"/>
                  </a:lnTo>
                  <a:lnTo>
                    <a:pt x="99" y="239"/>
                  </a:lnTo>
                  <a:lnTo>
                    <a:pt x="78" y="262"/>
                  </a:lnTo>
                  <a:lnTo>
                    <a:pt x="71" y="277"/>
                  </a:lnTo>
                  <a:lnTo>
                    <a:pt x="67" y="309"/>
                  </a:lnTo>
                  <a:lnTo>
                    <a:pt x="49" y="347"/>
                  </a:lnTo>
                  <a:lnTo>
                    <a:pt x="39" y="328"/>
                  </a:lnTo>
                  <a:lnTo>
                    <a:pt x="36" y="300"/>
                  </a:lnTo>
                  <a:lnTo>
                    <a:pt x="36" y="277"/>
                  </a:lnTo>
                  <a:lnTo>
                    <a:pt x="39" y="253"/>
                  </a:lnTo>
                  <a:lnTo>
                    <a:pt x="49" y="230"/>
                  </a:lnTo>
                  <a:lnTo>
                    <a:pt x="21" y="267"/>
                  </a:lnTo>
                  <a:lnTo>
                    <a:pt x="14" y="305"/>
                  </a:lnTo>
                  <a:lnTo>
                    <a:pt x="21" y="323"/>
                  </a:lnTo>
                  <a:lnTo>
                    <a:pt x="36" y="351"/>
                  </a:lnTo>
                  <a:lnTo>
                    <a:pt x="32" y="3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itial State of a Bag</a:t>
            </a:r>
            <a:endParaRPr b="0" lang="en-US" sz="4400" spc="-1" strike="noStrike">
              <a:solidFill>
                <a:srgbClr val="00cece"/>
              </a:solidFill>
              <a:latin typeface="Times New Roman"/>
            </a:endParaRPr>
          </a:p>
        </p:txBody>
      </p:sp>
      <p:sp>
        <p:nvSpPr>
          <p:cNvPr id="11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you first begin to use a bag, the bag will be empty.</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ount on this to be the </a:t>
            </a:r>
            <a:r>
              <a:rPr b="1" lang="en-US" sz="2800" spc="-1" strike="noStrike" u="sng">
                <a:solidFill>
                  <a:srgbClr val="fc0128"/>
                </a:solidFill>
                <a:uFillTx/>
                <a:latin typeface="Times New Roman"/>
              </a:rPr>
              <a:t>initial state</a:t>
            </a:r>
            <a:r>
              <a:rPr b="0" lang="en-US" sz="2800" spc="-1" strike="noStrike">
                <a:solidFill>
                  <a:srgbClr val="e0e0e0"/>
                </a:solidFill>
                <a:latin typeface="Times New Roman"/>
              </a:rPr>
              <a:t> of any bag that we use.</a:t>
            </a:r>
            <a:endParaRPr b="0" lang="en-US" sz="2800" spc="-1" strike="noStrike">
              <a:solidFill>
                <a:srgbClr val="e0e0e0"/>
              </a:solidFill>
              <a:latin typeface="Times New Roman"/>
            </a:endParaRPr>
          </a:p>
        </p:txBody>
      </p:sp>
      <p:pic>
        <p:nvPicPr>
          <p:cNvPr id="115" name="" descr=""/>
          <p:cNvPicPr/>
          <p:nvPr/>
        </p:nvPicPr>
        <p:blipFill>
          <a:blip r:embed="rId1"/>
          <a:stretch/>
        </p:blipFill>
        <p:spPr>
          <a:xfrm>
            <a:off x="4518000" y="1544760"/>
            <a:ext cx="4613400" cy="4748040"/>
          </a:xfrm>
          <a:prstGeom prst="rect">
            <a:avLst/>
          </a:prstGeom>
          <a:ln w="0">
            <a:noFill/>
          </a:ln>
        </p:spPr>
      </p:pic>
      <p:sp>
        <p:nvSpPr>
          <p:cNvPr id="116" name=""/>
          <p:cNvSpPr/>
          <p:nvPr/>
        </p:nvSpPr>
        <p:spPr>
          <a:xfrm flipH="1" rot="16200000">
            <a:off x="4644000" y="4752720"/>
            <a:ext cx="981000" cy="1946520"/>
          </a:xfrm>
          <a:custGeom>
            <a:avLst/>
            <a:gdLst>
              <a:gd name="textAreaLeft" fmla="*/ 36000 w 981000"/>
              <a:gd name="textAreaRight" fmla="*/ 945000 w 981000"/>
              <a:gd name="textAreaTop" fmla="*/ 72000 h 1946520"/>
              <a:gd name="textAreaBottom" fmla="*/ 1554480 h 19465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7" name=""/>
          <p:cNvSpPr/>
          <p:nvPr/>
        </p:nvSpPr>
        <p:spPr>
          <a:xfrm>
            <a:off x="4448160" y="5340240"/>
            <a:ext cx="1149120" cy="1062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IS 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EMPTY.</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add</a:t>
            </a:r>
            <a:endParaRPr b="0" lang="en-US" sz="4400" spc="-1" strike="noStrike">
              <a:solidFill>
                <a:srgbClr val="00cece"/>
              </a:solidFill>
              <a:latin typeface="Times New Roman"/>
            </a:endParaRPr>
          </a:p>
        </p:txBody>
      </p:sp>
      <p:sp>
        <p:nvSpPr>
          <p:cNvPr id="692" name=""/>
          <p:cNvSpPr/>
          <p:nvPr/>
        </p:nvSpPr>
        <p:spPr>
          <a:xfrm>
            <a:off x="2328840" y="5248440"/>
            <a:ext cx="4761000" cy="873000"/>
          </a:xfrm>
          <a:prstGeom prst="rect">
            <a:avLst/>
          </a:prstGeom>
          <a:solidFill>
            <a:srgbClr val="e0e0e0"/>
          </a:solidFill>
          <a:ln w="12600">
            <a:solidFill>
              <a:srgbClr val="00002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data[ </a:t>
            </a:r>
            <a:r>
              <a:rPr b="1" lang="en-US" sz="2400" spc="-1" strike="noStrike">
                <a:solidFill>
                  <a:srgbClr val="fc0128"/>
                </a:solidFill>
                <a:latin typeface="Arial"/>
              </a:rPr>
              <a:t>manyItems++</a:t>
            </a:r>
            <a:r>
              <a:rPr b="0" lang="en-US" sz="2400" spc="-1" strike="noStrike">
                <a:solidFill>
                  <a:srgbClr val="000020"/>
                </a:solidFill>
                <a:latin typeface="Arial"/>
              </a:rPr>
              <a:t>]  = newEntr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6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Make sure there is room for a new entry in the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 </a:t>
            </a:r>
            <a:r>
              <a:rPr b="0" lang="en-US" sz="2800" spc="-1" strike="noStrike">
                <a:solidFill>
                  <a:srgbClr val="e0e0e0"/>
                </a:solidFill>
                <a:latin typeface="Arial"/>
              </a:rPr>
              <a:t>newEntry</a:t>
            </a:r>
            <a:r>
              <a:rPr b="0" lang="en-US" sz="3200" spc="-1" strike="noStrike">
                <a:solidFill>
                  <a:srgbClr val="e0e0e0"/>
                </a:solidFill>
                <a:latin typeface="Times New Roman"/>
              </a:rPr>
              <a:t> in the appropriate location of the </a:t>
            </a:r>
            <a:r>
              <a:rPr b="0" lang="en-US" sz="2800" spc="-1" strike="noStrike">
                <a:solidFill>
                  <a:srgbClr val="e0e0e0"/>
                </a:solidFill>
                <a:latin typeface="Arial"/>
              </a:rPr>
              <a:t>data</a:t>
            </a:r>
            <a:r>
              <a:rPr b="0" lang="en-US" sz="3200" spc="-1" strike="noStrike">
                <a:solidFill>
                  <a:srgbClr val="e0e0e0"/>
                </a:solidFill>
                <a:latin typeface="Times New Roman"/>
              </a:rPr>
              <a:t>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 one to the instance variable </a:t>
            </a:r>
            <a:r>
              <a:rPr b="0" lang="en-US" sz="2800" spc="-1" strike="noStrike">
                <a:solidFill>
                  <a:srgbClr val="e0e0e0"/>
                </a:solidFill>
                <a:latin typeface="Arial"/>
              </a:rPr>
              <a:t>manyItems</a:t>
            </a:r>
            <a:r>
              <a:rPr b="0" lang="en-US" sz="3200" spc="-1" strike="noStrike">
                <a:solidFill>
                  <a:srgbClr val="e0e0e0"/>
                </a:solidFill>
                <a:latin typeface="Arial"/>
              </a:rPr>
              <a:t>.</a:t>
            </a:r>
            <a:endParaRPr b="0" lang="en-US" sz="3200" spc="-1" strike="noStrike">
              <a:solidFill>
                <a:srgbClr val="e0e0e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Other Bag Operations</a:t>
            </a:r>
            <a:endParaRPr b="0" lang="en-US" sz="4400" spc="-1" strike="noStrike">
              <a:solidFill>
                <a:srgbClr val="00cece"/>
              </a:solidFill>
              <a:latin typeface="Times New Roman"/>
            </a:endParaRPr>
          </a:p>
        </p:txBody>
      </p:sp>
      <p:sp>
        <p:nvSpPr>
          <p:cNvPr id="69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5000"/>
          </a:bodyPr>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ead Section 3.2 for the implementations of the other bag methods.</a:t>
            </a:r>
            <a:endParaRPr b="0" lang="en-US" sz="3200" spc="-1" strike="noStrike">
              <a:solidFill>
                <a:srgbClr val="e0e0e0"/>
              </a:solidFill>
              <a:latin typeface="Times New Roman"/>
            </a:endParaRPr>
          </a:p>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emember: If you are just </a:t>
            </a:r>
            <a:r>
              <a:rPr b="1" lang="en-US" sz="3200" spc="-1" strike="noStrike">
                <a:solidFill>
                  <a:srgbClr val="e0e0e0"/>
                </a:solidFill>
                <a:latin typeface="Times New Roman"/>
              </a:rPr>
              <a:t>using</a:t>
            </a:r>
            <a:r>
              <a:rPr b="0" lang="en-US" sz="3200" spc="-1" strike="noStrike">
                <a:solidFill>
                  <a:srgbClr val="e0e0e0"/>
                </a:solidFill>
                <a:latin typeface="Times New Roman"/>
              </a:rPr>
              <a:t> the Bag class, then you don’t need to know how the operations are implemented.</a:t>
            </a:r>
            <a:endParaRPr b="0" lang="en-US" sz="3200" spc="-1" strike="noStrike">
              <a:solidFill>
                <a:srgbClr val="e0e0e0"/>
              </a:solidFill>
              <a:latin typeface="Times New Roman"/>
            </a:endParaRPr>
          </a:p>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Later we will </a:t>
            </a:r>
            <a:r>
              <a:rPr b="1" lang="en-US" sz="3200" spc="-1" strike="noStrike">
                <a:solidFill>
                  <a:srgbClr val="e0e0e0"/>
                </a:solidFill>
                <a:latin typeface="Times New Roman"/>
              </a:rPr>
              <a:t>reimplement</a:t>
            </a:r>
            <a:r>
              <a:rPr b="0" lang="en-US" sz="3200" spc="-1" strike="noStrike">
                <a:solidFill>
                  <a:srgbClr val="e0e0e0"/>
                </a:solidFill>
                <a:latin typeface="Times New Roman"/>
              </a:rPr>
              <a:t> the bag using more efficient algorithms. </a:t>
            </a:r>
            <a:endParaRPr b="0" lang="en-US" sz="3200" spc="-1" strike="noStrike">
              <a:solidFill>
                <a:srgbClr val="e0e0e0"/>
              </a:solidFill>
              <a:latin typeface="Times New Roman"/>
            </a:endParaRPr>
          </a:p>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We’ll also have a few other operations to manipulate bags.</a:t>
            </a:r>
            <a:endParaRPr b="0" lang="en-US" sz="3200" spc="-1" strike="noStrike">
              <a:solidFill>
                <a:srgbClr val="e0e0e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ther Kinds of Bags</a:t>
            </a:r>
            <a:endParaRPr b="0" lang="en-US" sz="4400" spc="-1" strike="noStrike">
              <a:solidFill>
                <a:srgbClr val="00cece"/>
              </a:solidFill>
              <a:latin typeface="Times New Roman"/>
            </a:endParaRPr>
          </a:p>
        </p:txBody>
      </p:sp>
      <p:sp>
        <p:nvSpPr>
          <p:cNvPr id="69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In this example, we have implemented a bag containing </a:t>
            </a:r>
            <a:r>
              <a:rPr b="1" lang="en-US" sz="3200" spc="-1" strike="noStrike">
                <a:solidFill>
                  <a:srgbClr val="e0e0e0"/>
                </a:solidFill>
                <a:latin typeface="Times New Roman"/>
              </a:rPr>
              <a:t>integers</a:t>
            </a:r>
            <a:r>
              <a:rPr b="0" lang="en-US" sz="3200" spc="-1" strike="noStrike">
                <a:solidFill>
                  <a:srgbClr val="e0e0e0"/>
                </a:solidFill>
                <a:latin typeface="Times New Roman"/>
              </a:rPr>
              <a:t>.</a:t>
            </a:r>
            <a:endParaRPr b="0" lang="en-US" sz="3200" spc="-1" strike="noStrike">
              <a:solidFill>
                <a:srgbClr val="e0e0e0"/>
              </a:solidFill>
              <a:latin typeface="Times New Roman"/>
            </a:endParaRPr>
          </a:p>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But we could have had a bag of </a:t>
            </a:r>
            <a:r>
              <a:rPr b="1" lang="en-US" sz="3200" spc="-1" strike="noStrike">
                <a:solidFill>
                  <a:srgbClr val="e0e0e0"/>
                </a:solidFill>
                <a:latin typeface="Times New Roman"/>
              </a:rPr>
              <a:t>float numbers</a:t>
            </a:r>
            <a:r>
              <a:rPr b="0" lang="en-US" sz="3200" spc="-1" strike="noStrike">
                <a:solidFill>
                  <a:srgbClr val="e0e0e0"/>
                </a:solidFill>
                <a:latin typeface="Times New Roman"/>
              </a:rPr>
              <a:t>, a bag of </a:t>
            </a:r>
            <a:r>
              <a:rPr b="1" lang="en-US" sz="3200" spc="-1" strike="noStrike">
                <a:solidFill>
                  <a:srgbClr val="e0e0e0"/>
                </a:solidFill>
                <a:latin typeface="Times New Roman"/>
              </a:rPr>
              <a:t>characters</a:t>
            </a:r>
            <a:r>
              <a:rPr b="0" lang="en-US" sz="3200" spc="-1" strike="noStrike">
                <a:solidFill>
                  <a:srgbClr val="e0e0e0"/>
                </a:solidFill>
                <a:latin typeface="Times New Roman"/>
              </a:rPr>
              <a:t>, a bag of </a:t>
            </a:r>
            <a:r>
              <a:rPr b="1" lang="en-US" sz="3200" spc="-1" strike="noStrike">
                <a:solidFill>
                  <a:srgbClr val="e0e0e0"/>
                </a:solidFill>
                <a:latin typeface="Times New Roman"/>
              </a:rPr>
              <a:t>Strings</a:t>
            </a:r>
            <a:r>
              <a:rPr b="0" lang="en-US" sz="3200" spc="-1" strike="noStrike">
                <a:solidFill>
                  <a:srgbClr val="e0e0e0"/>
                </a:solidFill>
                <a:latin typeface="Times New Roman"/>
              </a:rPr>
              <a:t> . . .</a:t>
            </a:r>
            <a:endParaRPr b="0" lang="en-US" sz="3200" spc="-1" strike="noStrike">
              <a:solidFill>
                <a:srgbClr val="e0e0e0"/>
              </a:solidFill>
              <a:latin typeface="Times New Roman"/>
            </a:endParaRPr>
          </a:p>
        </p:txBody>
      </p:sp>
      <p:sp>
        <p:nvSpPr>
          <p:cNvPr id="698" name=""/>
          <p:cNvSpPr/>
          <p:nvPr/>
        </p:nvSpPr>
        <p:spPr>
          <a:xfrm>
            <a:off x="1089000" y="4694400"/>
            <a:ext cx="681192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Suppose you wanted one of these other bags. How much would you need to change in the implementation ?</a:t>
            </a:r>
            <a:endParaRPr b="0" lang="en-US" sz="2400" spc="-1" strike="noStrike">
              <a:solidFill>
                <a:srgbClr val="e0e0e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Collection class is a class that can hold a group of item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llection classes can be implemented with a Java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author of the class should provide documentation that another programmer can read to use the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 details are given in Section 3.2, which you should read.</a:t>
            </a:r>
            <a:endParaRPr b="0" lang="en-US" sz="2800" spc="-1" strike="noStrike">
              <a:solidFill>
                <a:srgbClr val="e0e0e0"/>
              </a:solidFill>
              <a:latin typeface="Times New Roman"/>
            </a:endParaRPr>
          </a:p>
        </p:txBody>
      </p:sp>
      <p:pic>
        <p:nvPicPr>
          <p:cNvPr id="700" name="" descr=""/>
          <p:cNvPicPr/>
          <p:nvPr/>
        </p:nvPicPr>
        <p:blipFill>
          <a:blip r:embed="rId1"/>
          <a:srcRect l="21890" t="0" r="0" b="0"/>
          <a:stretch/>
        </p:blipFill>
        <p:spPr>
          <a:xfrm>
            <a:off x="41400" y="0"/>
            <a:ext cx="1625400" cy="1833480"/>
          </a:xfrm>
          <a:prstGeom prst="rect">
            <a:avLst/>
          </a:prstGeom>
          <a:ln w="0">
            <a:noFill/>
          </a:ln>
        </p:spPr>
      </p:pic>
      <p:sp>
        <p:nvSpPr>
          <p:cNvPr id="701"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703" name="" descr=""/>
          <p:cNvPicPr/>
          <p:nvPr/>
        </p:nvPicPr>
        <p:blipFill>
          <a:blip r:embed="rId1"/>
          <a:stretch/>
        </p:blipFill>
        <p:spPr>
          <a:xfrm>
            <a:off x="6934320" y="4476600"/>
            <a:ext cx="1877760" cy="1162080"/>
          </a:xfrm>
          <a:prstGeom prst="rect">
            <a:avLst/>
          </a:prstGeom>
          <a:ln w="0">
            <a:noFill/>
          </a:ln>
        </p:spPr>
      </p:pic>
      <p:sp>
        <p:nvSpPr>
          <p:cNvPr id="704" name=""/>
          <p:cNvSpPr/>
          <p:nvPr/>
        </p:nvSpPr>
        <p:spPr>
          <a:xfrm>
            <a:off x="1327680" y="2079720"/>
            <a:ext cx="710352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a:t>
            </a:r>
            <a:r>
              <a:rPr b="0" i="1" lang="en-US" sz="1400" spc="-1" strike="noStrike">
                <a:solidFill>
                  <a:srgbClr val="e0e0e0"/>
                </a:solidFill>
                <a:latin typeface="Arial"/>
              </a:rPr>
              <a:t>Using Java </a:t>
            </a:r>
            <a:r>
              <a:rPr b="0" lang="en-US" sz="1400" spc="-1" strike="noStrike">
                <a:solidFill>
                  <a:srgbClr val="e0e0e0"/>
                </a:solidFill>
                <a:latin typeface="Arial"/>
              </a:rPr>
              <a:t>ar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welcome to use this presentation however they see fit, so long as this copyright notice </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remains intact.</a:t>
            </a:r>
            <a:endParaRPr b="0" lang="en-US" sz="1400" spc="-1" strike="noStrike">
              <a:solidFill>
                <a:srgbClr val="e0e0e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18" name=""/>
          <p:cNvGrpSpPr/>
          <p:nvPr/>
        </p:nvGrpSpPr>
        <p:grpSpPr>
          <a:xfrm>
            <a:off x="5133960" y="3376440"/>
            <a:ext cx="2468520" cy="2927520"/>
            <a:chOff x="5133960" y="3376440"/>
            <a:chExt cx="2468520" cy="2927520"/>
          </a:xfrm>
        </p:grpSpPr>
        <p:grpSp>
          <p:nvGrpSpPr>
            <p:cNvPr id="119" name=""/>
            <p:cNvGrpSpPr/>
            <p:nvPr/>
          </p:nvGrpSpPr>
          <p:grpSpPr>
            <a:xfrm>
              <a:off x="5133960" y="3460680"/>
              <a:ext cx="2468520" cy="2843280"/>
              <a:chOff x="5133960" y="3460680"/>
              <a:chExt cx="2468520" cy="2843280"/>
            </a:xfrm>
          </p:grpSpPr>
          <p:grpSp>
            <p:nvGrpSpPr>
              <p:cNvPr id="120" name=""/>
              <p:cNvGrpSpPr/>
              <p:nvPr/>
            </p:nvGrpSpPr>
            <p:grpSpPr>
              <a:xfrm>
                <a:off x="5133960" y="3460680"/>
                <a:ext cx="2468520" cy="2843280"/>
                <a:chOff x="5133960" y="3460680"/>
                <a:chExt cx="2468520" cy="2843280"/>
              </a:xfrm>
            </p:grpSpPr>
            <p:sp>
              <p:nvSpPr>
                <p:cNvPr id="121"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2"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3"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30"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31"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3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13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p:txBody>
      </p:sp>
      <p:pic>
        <p:nvPicPr>
          <p:cNvPr id="134" name="" descr=""/>
          <p:cNvPicPr/>
          <p:nvPr/>
        </p:nvPicPr>
        <p:blipFill>
          <a:blip r:embed="rId1"/>
          <a:stretch/>
        </p:blipFill>
        <p:spPr>
          <a:xfrm>
            <a:off x="4008600" y="2575080"/>
            <a:ext cx="2622240" cy="1888920"/>
          </a:xfrm>
          <a:prstGeom prst="rect">
            <a:avLst/>
          </a:prstGeom>
          <a:ln w="0">
            <a:noFill/>
          </a:ln>
        </p:spPr>
      </p:pic>
      <p:pic>
        <p:nvPicPr>
          <p:cNvPr id="135" name="" descr=""/>
          <p:cNvPicPr/>
          <p:nvPr/>
        </p:nvPicPr>
        <p:blipFill>
          <a:blip r:embed="rId2"/>
          <a:stretch/>
        </p:blipFill>
        <p:spPr>
          <a:xfrm>
            <a:off x="5716440" y="2549520"/>
            <a:ext cx="696960" cy="755640"/>
          </a:xfrm>
          <a:prstGeom prst="rect">
            <a:avLst/>
          </a:prstGeom>
          <a:ln w="0">
            <a:noFill/>
          </a:ln>
        </p:spPr>
      </p:pic>
      <p:sp>
        <p:nvSpPr>
          <p:cNvPr id="136" name=""/>
          <p:cNvSpPr/>
          <p:nvPr/>
        </p:nvSpPr>
        <p:spPr>
          <a:xfrm rot="10800000">
            <a:off x="2744280" y="4199040"/>
            <a:ext cx="1457640" cy="1946160"/>
          </a:xfrm>
          <a:custGeom>
            <a:avLst/>
            <a:gdLst>
              <a:gd name="textAreaLeft" fmla="*/ 54000 w 1457640"/>
              <a:gd name="textAreaRight" fmla="*/ 1404000 w 1457640"/>
              <a:gd name="textAreaTop" fmla="*/ 72000 h 1946160"/>
              <a:gd name="textAreaBottom" fmla="*/ 1554480 h 19461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7" name=""/>
          <p:cNvSpPr/>
          <p:nvPr/>
        </p:nvSpPr>
        <p:spPr>
          <a:xfrm>
            <a:off x="2600280" y="4741920"/>
            <a:ext cx="1758960" cy="1549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 AM</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UTTING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UMBER 4</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TO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38" name=""/>
          <p:cNvGrpSpPr/>
          <p:nvPr/>
        </p:nvGrpSpPr>
        <p:grpSpPr>
          <a:xfrm>
            <a:off x="5133960" y="3376440"/>
            <a:ext cx="2468520" cy="2927520"/>
            <a:chOff x="5133960" y="3376440"/>
            <a:chExt cx="2468520" cy="2927520"/>
          </a:xfrm>
        </p:grpSpPr>
        <p:grpSp>
          <p:nvGrpSpPr>
            <p:cNvPr id="139" name=""/>
            <p:cNvGrpSpPr/>
            <p:nvPr/>
          </p:nvGrpSpPr>
          <p:grpSpPr>
            <a:xfrm>
              <a:off x="5133960" y="3460680"/>
              <a:ext cx="2468520" cy="2843280"/>
              <a:chOff x="5133960" y="3460680"/>
              <a:chExt cx="2468520" cy="2843280"/>
            </a:xfrm>
          </p:grpSpPr>
          <p:grpSp>
            <p:nvGrpSpPr>
              <p:cNvPr id="140" name=""/>
              <p:cNvGrpSpPr/>
              <p:nvPr/>
            </p:nvGrpSpPr>
            <p:grpSpPr>
              <a:xfrm>
                <a:off x="5133960" y="3460680"/>
                <a:ext cx="2468520" cy="2843280"/>
                <a:chOff x="5133960" y="3460680"/>
                <a:chExt cx="2468520" cy="2843280"/>
              </a:xfrm>
            </p:grpSpPr>
            <p:sp>
              <p:nvSpPr>
                <p:cNvPr id="141"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2"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3"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4"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5"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6"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7"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8"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9"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50"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51"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15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p:txBody>
      </p:sp>
      <p:sp>
        <p:nvSpPr>
          <p:cNvPr id="154" name=""/>
          <p:cNvSpPr/>
          <p:nvPr/>
        </p:nvSpPr>
        <p:spPr>
          <a:xfrm rot="10800000">
            <a:off x="2744280" y="4198680"/>
            <a:ext cx="1457640" cy="1546200"/>
          </a:xfrm>
          <a:custGeom>
            <a:avLst/>
            <a:gdLst>
              <a:gd name="textAreaLeft" fmla="*/ 54000 w 1457640"/>
              <a:gd name="textAreaRight" fmla="*/ 1404000 w 1457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5" name=""/>
          <p:cNvSpPr/>
          <p:nvPr/>
        </p:nvSpPr>
        <p:spPr>
          <a:xfrm>
            <a:off x="2600280" y="474192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4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
        <p:nvSpPr>
          <p:cNvPr id="156"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157" name="" descr=""/>
          <p:cNvPicPr/>
          <p:nvPr/>
        </p:nvPicPr>
        <p:blipFill>
          <a:blip r:embed="rId1"/>
          <a:stretch/>
        </p:blipFill>
        <p:spPr>
          <a:xfrm>
            <a:off x="5689440" y="5286240"/>
            <a:ext cx="567000" cy="606600"/>
          </a:xfrm>
          <a:prstGeom prst="rect">
            <a:avLst/>
          </a:prstGeom>
          <a:ln w="0">
            <a:noFill/>
          </a:ln>
        </p:spPr>
      </p:pic>
      <p:pic>
        <p:nvPicPr>
          <p:cNvPr id="158" name="" descr=""/>
          <p:cNvPicPr/>
          <p:nvPr/>
        </p:nvPicPr>
        <p:blipFill>
          <a:blip r:embed="rId2"/>
          <a:stretch/>
        </p:blipFill>
        <p:spPr>
          <a:xfrm>
            <a:off x="3846600" y="2629080"/>
            <a:ext cx="1582560" cy="1549080"/>
          </a:xfrm>
          <a:prstGeom prst="rect">
            <a:avLst/>
          </a:prstGeom>
          <a:ln w="0">
            <a:noFill/>
          </a:ln>
        </p:spPr>
      </p:pic>
    </p:spTree>
  </p:cSld>
  <p:transition spd="slow">
    <p:strips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59" name=""/>
          <p:cNvGrpSpPr/>
          <p:nvPr/>
        </p:nvGrpSpPr>
        <p:grpSpPr>
          <a:xfrm>
            <a:off x="5133960" y="3376440"/>
            <a:ext cx="2468520" cy="2927520"/>
            <a:chOff x="5133960" y="3376440"/>
            <a:chExt cx="2468520" cy="2927520"/>
          </a:xfrm>
        </p:grpSpPr>
        <p:grpSp>
          <p:nvGrpSpPr>
            <p:cNvPr id="160" name=""/>
            <p:cNvGrpSpPr/>
            <p:nvPr/>
          </p:nvGrpSpPr>
          <p:grpSpPr>
            <a:xfrm>
              <a:off x="5133960" y="3460680"/>
              <a:ext cx="2468520" cy="2843280"/>
              <a:chOff x="5133960" y="3460680"/>
              <a:chExt cx="2468520" cy="2843280"/>
            </a:xfrm>
          </p:grpSpPr>
          <p:grpSp>
            <p:nvGrpSpPr>
              <p:cNvPr id="161" name=""/>
              <p:cNvGrpSpPr/>
              <p:nvPr/>
            </p:nvGrpSpPr>
            <p:grpSpPr>
              <a:xfrm>
                <a:off x="5133960" y="3460680"/>
                <a:ext cx="2468520" cy="2843280"/>
                <a:chOff x="5133960" y="3460680"/>
                <a:chExt cx="2468520" cy="2843280"/>
              </a:xfrm>
            </p:grpSpPr>
            <p:sp>
              <p:nvSpPr>
                <p:cNvPr id="162"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3"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4"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5"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7"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9"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0"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71"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72"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17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p:txBody>
      </p:sp>
      <p:pic>
        <p:nvPicPr>
          <p:cNvPr id="175" name="" descr=""/>
          <p:cNvPicPr/>
          <p:nvPr/>
        </p:nvPicPr>
        <p:blipFill>
          <a:blip r:embed="rId1"/>
          <a:stretch/>
        </p:blipFill>
        <p:spPr>
          <a:xfrm>
            <a:off x="4008600" y="2575080"/>
            <a:ext cx="2622240" cy="1888920"/>
          </a:xfrm>
          <a:prstGeom prst="rect">
            <a:avLst/>
          </a:prstGeom>
          <a:ln w="0">
            <a:noFill/>
          </a:ln>
        </p:spPr>
      </p:pic>
      <p:sp>
        <p:nvSpPr>
          <p:cNvPr id="176" name=""/>
          <p:cNvSpPr/>
          <p:nvPr/>
        </p:nvSpPr>
        <p:spPr>
          <a:xfrm rot="10800000">
            <a:off x="2744280" y="4198680"/>
            <a:ext cx="1457640" cy="2235240"/>
          </a:xfrm>
          <a:custGeom>
            <a:avLst/>
            <a:gdLst>
              <a:gd name="textAreaLeft" fmla="*/ 54000 w 1457640"/>
              <a:gd name="textAreaRight" fmla="*/ 1404000 w 1457640"/>
              <a:gd name="textAreaTop" fmla="*/ 82440 h 2235240"/>
              <a:gd name="textAreaBottom" fmla="*/ 1785240 h 22352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7" name=""/>
          <p:cNvSpPr/>
          <p:nvPr/>
        </p:nvSpPr>
        <p:spPr>
          <a:xfrm>
            <a:off x="2600280" y="4741920"/>
            <a:ext cx="1758960" cy="1792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OW  I'M</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UTTIN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OTHER</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UMBER IN THE BAG --</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 8.</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pic>
        <p:nvPicPr>
          <p:cNvPr id="178" name="" descr=""/>
          <p:cNvPicPr/>
          <p:nvPr/>
        </p:nvPicPr>
        <p:blipFill>
          <a:blip r:embed="rId2"/>
          <a:stretch/>
        </p:blipFill>
        <p:spPr>
          <a:xfrm>
            <a:off x="5730840" y="2611440"/>
            <a:ext cx="615960" cy="666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79" name=""/>
          <p:cNvGrpSpPr/>
          <p:nvPr/>
        </p:nvGrpSpPr>
        <p:grpSpPr>
          <a:xfrm>
            <a:off x="5133960" y="3376440"/>
            <a:ext cx="2468520" cy="2927520"/>
            <a:chOff x="5133960" y="3376440"/>
            <a:chExt cx="2468520" cy="2927520"/>
          </a:xfrm>
        </p:grpSpPr>
        <p:grpSp>
          <p:nvGrpSpPr>
            <p:cNvPr id="180" name=""/>
            <p:cNvGrpSpPr/>
            <p:nvPr/>
          </p:nvGrpSpPr>
          <p:grpSpPr>
            <a:xfrm>
              <a:off x="5133960" y="3460680"/>
              <a:ext cx="2468520" cy="2843280"/>
              <a:chOff x="5133960" y="3460680"/>
              <a:chExt cx="2468520" cy="2843280"/>
            </a:xfrm>
          </p:grpSpPr>
          <p:grpSp>
            <p:nvGrpSpPr>
              <p:cNvPr id="181" name=""/>
              <p:cNvGrpSpPr/>
              <p:nvPr/>
            </p:nvGrpSpPr>
            <p:grpSpPr>
              <a:xfrm>
                <a:off x="5133960" y="3460680"/>
                <a:ext cx="2468520" cy="2843280"/>
                <a:chOff x="5133960" y="3460680"/>
                <a:chExt cx="2468520" cy="2843280"/>
              </a:xfrm>
            </p:grpSpPr>
            <p:sp>
              <p:nvSpPr>
                <p:cNvPr id="182"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3"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4"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5"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6"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7"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9"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1"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2"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ed Numbers into a Bag</a:t>
            </a:r>
            <a:endParaRPr b="0" lang="en-US" sz="4400" spc="-1" strike="noStrike">
              <a:solidFill>
                <a:srgbClr val="00cece"/>
              </a:solidFill>
              <a:latin typeface="Times New Roman"/>
            </a:endParaRPr>
          </a:p>
        </p:txBody>
      </p:sp>
      <p:sp>
        <p:nvSpPr>
          <p:cNvPr id="19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p:txBody>
      </p:sp>
      <p:sp>
        <p:nvSpPr>
          <p:cNvPr id="195" name=""/>
          <p:cNvSpPr/>
          <p:nvPr/>
        </p:nvSpPr>
        <p:spPr>
          <a:xfrm rot="10800000">
            <a:off x="2744280" y="4198680"/>
            <a:ext cx="1457640" cy="1546200"/>
          </a:xfrm>
          <a:custGeom>
            <a:avLst/>
            <a:gdLst>
              <a:gd name="textAreaLeft" fmla="*/ 54000 w 1457640"/>
              <a:gd name="textAreaRight" fmla="*/ 1404000 w 1457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6" name=""/>
          <p:cNvSpPr/>
          <p:nvPr/>
        </p:nvSpPr>
        <p:spPr>
          <a:xfrm>
            <a:off x="2600280" y="474192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8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LSO IN</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
        <p:nvSpPr>
          <p:cNvPr id="197"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198" name="" descr=""/>
          <p:cNvPicPr/>
          <p:nvPr/>
        </p:nvPicPr>
        <p:blipFill>
          <a:blip r:embed="rId1"/>
          <a:stretch/>
        </p:blipFill>
        <p:spPr>
          <a:xfrm>
            <a:off x="5689440" y="5286240"/>
            <a:ext cx="567000" cy="606600"/>
          </a:xfrm>
          <a:prstGeom prst="rect">
            <a:avLst/>
          </a:prstGeom>
          <a:ln w="0">
            <a:noFill/>
          </a:ln>
        </p:spPr>
      </p:pic>
      <p:pic>
        <p:nvPicPr>
          <p:cNvPr id="199" name="" descr=""/>
          <p:cNvPicPr/>
          <p:nvPr/>
        </p:nvPicPr>
        <p:blipFill>
          <a:blip r:embed="rId2"/>
          <a:stretch/>
        </p:blipFill>
        <p:spPr>
          <a:xfrm>
            <a:off x="3846600" y="2629080"/>
            <a:ext cx="1582560" cy="1549080"/>
          </a:xfrm>
          <a:prstGeom prst="rect">
            <a:avLst/>
          </a:prstGeom>
          <a:ln w="0">
            <a:noFill/>
          </a:ln>
        </p:spPr>
      </p:pic>
      <p:pic>
        <p:nvPicPr>
          <p:cNvPr id="200" name="" descr=""/>
          <p:cNvPicPr/>
          <p:nvPr/>
        </p:nvPicPr>
        <p:blipFill>
          <a:blip r:embed="rId3"/>
          <a:stretch/>
        </p:blipFill>
        <p:spPr>
          <a:xfrm>
            <a:off x="6060960" y="5578560"/>
            <a:ext cx="615960" cy="666720"/>
          </a:xfrm>
          <a:prstGeom prst="rect">
            <a:avLst/>
          </a:prstGeom>
          <a:ln w="0">
            <a:noFill/>
          </a:ln>
        </p:spPr>
      </p:pic>
    </p:spTree>
  </p:cSld>
  <p:transition spd="slow">
    <p:strips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01" name=""/>
          <p:cNvGrpSpPr/>
          <p:nvPr/>
        </p:nvGrpSpPr>
        <p:grpSpPr>
          <a:xfrm>
            <a:off x="5133960" y="3376440"/>
            <a:ext cx="2468520" cy="2927520"/>
            <a:chOff x="5133960" y="3376440"/>
            <a:chExt cx="2468520" cy="2927520"/>
          </a:xfrm>
        </p:grpSpPr>
        <p:grpSp>
          <p:nvGrpSpPr>
            <p:cNvPr id="202" name=""/>
            <p:cNvGrpSpPr/>
            <p:nvPr/>
          </p:nvGrpSpPr>
          <p:grpSpPr>
            <a:xfrm>
              <a:off x="5133960" y="3460680"/>
              <a:ext cx="2468520" cy="2843280"/>
              <a:chOff x="5133960" y="3460680"/>
              <a:chExt cx="2468520" cy="2843280"/>
            </a:xfrm>
          </p:grpSpPr>
          <p:grpSp>
            <p:nvGrpSpPr>
              <p:cNvPr id="203" name=""/>
              <p:cNvGrpSpPr/>
              <p:nvPr/>
            </p:nvGrpSpPr>
            <p:grpSpPr>
              <a:xfrm>
                <a:off x="5133960" y="3460680"/>
                <a:ext cx="2468520" cy="2843280"/>
                <a:chOff x="5133960" y="3460680"/>
                <a:chExt cx="2468520" cy="2843280"/>
              </a:xfrm>
            </p:grpSpPr>
            <p:sp>
              <p:nvSpPr>
                <p:cNvPr id="204"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5"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6"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7"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8"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9"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1"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2"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13"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14"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1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ed Numbers into a Bag</a:t>
            </a:r>
            <a:endParaRPr b="0" lang="en-US" sz="4400" spc="-1" strike="noStrike">
              <a:solidFill>
                <a:srgbClr val="00cece"/>
              </a:solidFill>
              <a:latin typeface="Times New Roman"/>
            </a:endParaRPr>
          </a:p>
        </p:txBody>
      </p:sp>
      <p:sp>
        <p:nvSpPr>
          <p:cNvPr id="216" name="PlaceHolder 2"/>
          <p:cNvSpPr>
            <a:spLocks noGrp="1"/>
          </p:cNvSpPr>
          <p:nvPr>
            <p:ph/>
          </p:nvPr>
        </p:nvSpPr>
        <p:spPr>
          <a:xfrm>
            <a:off x="685440" y="1981080"/>
            <a:ext cx="361476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even place the same number more than once.</a:t>
            </a:r>
            <a:endParaRPr b="0" lang="en-US" sz="2800" spc="-1" strike="noStrike">
              <a:solidFill>
                <a:srgbClr val="e0e0e0"/>
              </a:solidFill>
              <a:latin typeface="Times New Roman"/>
            </a:endParaRPr>
          </a:p>
        </p:txBody>
      </p:sp>
      <p:pic>
        <p:nvPicPr>
          <p:cNvPr id="217" name="" descr=""/>
          <p:cNvPicPr/>
          <p:nvPr/>
        </p:nvPicPr>
        <p:blipFill>
          <a:blip r:embed="rId1"/>
          <a:stretch/>
        </p:blipFill>
        <p:spPr>
          <a:xfrm>
            <a:off x="4008600" y="2575080"/>
            <a:ext cx="2622240" cy="1888920"/>
          </a:xfrm>
          <a:prstGeom prst="rect">
            <a:avLst/>
          </a:prstGeom>
          <a:ln w="0">
            <a:noFill/>
          </a:ln>
        </p:spPr>
      </p:pic>
      <p:grpSp>
        <p:nvGrpSpPr>
          <p:cNvPr id="218" name=""/>
          <p:cNvGrpSpPr/>
          <p:nvPr/>
        </p:nvGrpSpPr>
        <p:grpSpPr>
          <a:xfrm>
            <a:off x="4160880" y="4379400"/>
            <a:ext cx="1758960" cy="2092680"/>
            <a:chOff x="4160880" y="4379400"/>
            <a:chExt cx="1758960" cy="2092680"/>
          </a:xfrm>
        </p:grpSpPr>
        <p:sp>
          <p:nvSpPr>
            <p:cNvPr id="219" name=""/>
            <p:cNvSpPr/>
            <p:nvPr/>
          </p:nvSpPr>
          <p:spPr>
            <a:xfrm flipH="1" rot="10800000">
              <a:off x="4305240" y="4379400"/>
              <a:ext cx="1457280" cy="2017800"/>
            </a:xfrm>
            <a:custGeom>
              <a:avLst/>
              <a:gdLst>
                <a:gd name="textAreaLeft" fmla="*/ 53640 w 1457280"/>
                <a:gd name="textAreaRight" fmla="*/ 1403640 w 1457280"/>
                <a:gd name="textAreaTop" fmla="*/ 74520 h 2017800"/>
                <a:gd name="textAreaBottom" fmla="*/ 1611720 h 20178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0" name=""/>
            <p:cNvSpPr/>
            <p:nvPr/>
          </p:nvSpPr>
          <p:spPr>
            <a:xfrm>
              <a:off x="4160880" y="4923000"/>
              <a:ext cx="1758960" cy="1549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OW  I'M</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UTTING A</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SECOND 4 </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grpSp>
      <p:pic>
        <p:nvPicPr>
          <p:cNvPr id="221" name="" descr=""/>
          <p:cNvPicPr/>
          <p:nvPr/>
        </p:nvPicPr>
        <p:blipFill>
          <a:blip r:embed="rId2"/>
          <a:stretch/>
        </p:blipFill>
        <p:spPr>
          <a:xfrm>
            <a:off x="5716440" y="2549520"/>
            <a:ext cx="696960" cy="755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17T13:32:20Z</dcterms:created>
  <dc:creator>Michael Main and Walter Savitch</dc:creator>
  <dc:description>Presentation from Chapter 3.
Copyright 1997, by Addison Wesley Longman.</dc:description>
  <cp:keywords/>
  <dc:language>en-US</dc:language>
  <cp:lastModifiedBy>usnidem</cp:lastModifiedBy>
  <cp:lastPrinted>1997-02-17T10:45:26Z</cp:lastPrinted>
  <dcterms:modified xsi:type="dcterms:W3CDTF">2011-11-30T16:43:09Z</dcterms:modified>
  <cp:revision>20</cp:revision>
  <dc:subject>Container Classes</dc:subject>
  <dc:title>Data Structures and Other Objects Using C++</dc:title>
</cp:coreProperties>
</file>