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EC53-594B-429E-A332-D5DF0E5AE412}"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cp:keywords/>
  <dc:language>en-US</dc:language>
  <cp:lastModifiedBy>usnidem</cp:lastModifiedBy>
  <cp:lastPrinted>1997-02-17T10:45:26Z</cp:lastPrinted>
  <dcterms:modified xsi:type="dcterms:W3CDTF">2011-11-30T16:43:09Z</dcterms:modified>
  <cp:revision>20</cp:revision>
  <dc:subject>Container Classes</dc:subject>
  <dc:title>Data Structures and Other Objects Using C++</dc:title>
</cp:coreProperties>
</file>