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7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Img"/>
          </p:nvPr>
        </p:nvSpPr>
        <p:spPr>
          <a:xfrm>
            <a:off x="1302840" y="674640"/>
            <a:ext cx="4496040" cy="337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0" y="85406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314880" y="0"/>
            <a:ext cx="3787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J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402228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endix B - </a:t>
            </a:r>
            <a:fld id="{68EC48AF-4A5B-4F41-8DF1-2E15AAB9A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hyperlink" Target="http://junit.sourceforge.net/doc/cookbook/cookbook.htm" TargetMode="External"/><Relationship Id="rId2" Type="http://schemas.openxmlformats.org/officeDocument/2006/relationships/hyperlink" Target="http://junit.sourceforge.net/doc/cookbook/cookbook.htm" TargetMode="External"/><Relationship Id="rId3" Type="http://schemas.openxmlformats.org/officeDocument/2006/relationships/slide" Target="../slides/slide17.xml"/><Relationship Id="rId4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unit.sourceforge.net/doc/cookbook/cookbook.ht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for more information on creating tests with JUn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assertTrue to check that the result of the boolean expression is true.  If it fails the passed string will be print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assertEquals to check if the two passed int values are equal.  If they are not it will print the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il(String) method will automatically fail and print the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ression testing is to make sure that things that used to work still work after a 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Extreme Programming you write the test cases first before you write the code.  That way you will know when the code wor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ing on “Apply” save the information but doesn’t exit the window.  Clicking on “Ok” saves the information and closes the wind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path is where the Java compiler and run-time will look for clas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76EF-41A7-4601-83DE-D364508E0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A083-8D93-4CC0-8138-78648CC40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34BC-CAE4-4B03-8F66-773C3C3FD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7AFB-9BCE-473F-A568-097A9CE7E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6266-3B5F-4433-A145-81F37BA3F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10D7-9FCA-4D1F-8B29-4ECD20F68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F2E7-B0C9-40C1-8999-020068CD7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CC32-0410-4D6D-BB7E-D3493B341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E67D-0172-44C7-AF8A-3BCDE72BA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30FA-26E3-4066-8A08-27F9FD3E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E81A-DEE7-4BB5-9118-2B111E98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A942-1D2B-4850-B8B0-A39EDD79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C46DC-A261-4C3E-B4DD-3F25A0DF1B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990720"/>
            <a:ext cx="800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drjava.org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rJava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ndix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b Eric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mpiler output pan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ler errors are shown in the compiler output p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error will be highlighted and the line of code that caused the problem will be highligh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also click on an error to go to the line that contains the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648320" y="2122560"/>
            <a:ext cx="403848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use the definitions pan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in the definitions pane to add code to a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ill automatically indent for you when you hit 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use ta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ill highlight all code in a block when you click to the right of a closing parenthe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indent selected lines using the Edit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comment out and uncomment lines in the Edit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648320" y="2122560"/>
            <a:ext cx="403848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compile program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Compile All to compile all files in the files p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use Tools-&gt;Compile All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compile just the shown file by u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s-&gt;Compile Current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648320" y="2122560"/>
            <a:ext cx="4038480" cy="30988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870880" y="2743200"/>
            <a:ext cx="23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 to compi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open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15200" y="2437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execute program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that the file that you want to run the main method from is selected in the files p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Tools-&gt;Run Document’s Main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 will be shown in the interactions and console p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648320" y="2122560"/>
            <a:ext cx="403848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generate Javadoc document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the Javadoc bu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will generate the Javadoc documentation for all files in the folder and all subfolders for all open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javadoc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** comment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0" y="1447920"/>
            <a:ext cx="403848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use the debugger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Debugger-&gt;Debug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a line of code to stop at “breakpoin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ght click and Toggle Break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have several break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 the main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interactions pane to explore the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648320" y="2168640"/>
            <a:ext cx="4038480" cy="3006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 flipV="1">
            <a:off x="4114800" y="4952880"/>
            <a:ext cx="28954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ebug Stepping and Resum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tep I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ee each piece of the current line being exec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es into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tep 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ecute the current line without seeing the execution and stop before the next line is exec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tep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ecute the rest of the current method and stop before the next line in the calling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Res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ntinue execution still the next breakpoint or the end of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648320" y="2168640"/>
            <a:ext cx="4038480" cy="3006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 flipV="1">
            <a:off x="8381880" y="44956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04040" y="548640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ping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create JUnit test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“Edit” then "New JUnit Test Case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one or more test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True(String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le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Equals(String,int,i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l(Str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48320" y="2122560"/>
            <a:ext cx="403848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run JUnit test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he Test bu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are shown in the Test Output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failures will be repo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nit tests are very useful for initial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regression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495680" y="1447920"/>
            <a:ext cx="403884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Java is a free, lightweight, development environ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ed for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use it to create, compile, debug and execute Java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use it to generate Javadoc 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use it to create and run J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earning Goal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at practical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to get Dr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start Dr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 Java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add items to the classpath for Dr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use the p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compile and run the main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generate Javadoc html p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use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create and run JUnit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Where to get DrJava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Java is a free development environment for Java aimed at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Rice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be downloaded fr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rjava.org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requires Jav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commend using 1.5 (5.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Java first from java.sun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Start DrJava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the DrJava icon on your desk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it while DrJava 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ill display the splash screen while lo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you see the full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ay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291360" y="1944720"/>
            <a:ext cx="752400" cy="923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648320" y="3733920"/>
            <a:ext cx="403848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rJava Featur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with multipl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s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 coded ed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s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pretation of Java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ions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0" y="1219320"/>
            <a:ext cx="4038480" cy="3098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344840" y="213372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421160" y="4495680"/>
            <a:ext cx="207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actions p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400800" y="388620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6600" y="5029200"/>
            <a:ext cx="196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itions p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7696080" y="3276720"/>
            <a:ext cx="22860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4648320" y="2666880"/>
            <a:ext cx="8380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elp Window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Help in the menu and then again on Help to bring up the help win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use F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able of contents is on the 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a topic to see the help on the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648320" y="2057400"/>
            <a:ext cx="403848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add to the classpath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ng up the preferences win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Edit and then Pre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he add 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select all jar files that you want to add to the class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add directories that have classes that you wish to add to the class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you are done click on “O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0" y="137160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use the interactions pan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don’t end a statement with a semicolon ‘;’ it will be interpreted and the result pri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end a statement with a semicolon it will be interpreted but the result won’t be pri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System.out.println(expression) to 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enter multiple line statements use Shift + 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use the console pan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click on the console t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will see the console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shows just the items that you have printed to the cons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System.out.println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.out.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495680" y="2590920"/>
            <a:ext cx="353376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9:23:22Z</dcterms:created>
  <dc:creator>Barbara Jane Ericson</dc:creator>
  <dc:description/>
  <dc:language>en-US</dc:language>
  <cp:lastModifiedBy>Barbara J. Ericson</cp:lastModifiedBy>
  <dcterms:modified xsi:type="dcterms:W3CDTF">2006-05-25T17:13:22Z</dcterms:modified>
  <cp:revision>1717</cp:revision>
  <dc:subject/>
  <dc:title>Summer Institute for Computing Education</dc:title>
</cp:coreProperties>
</file>