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2E4-DA0D-4B80-AA9A-23030842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29A-72B9-483D-8728-98611D95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DE8-4CE0-469A-A9C8-E7926490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9EE-1837-4FDA-B750-BB134A4E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757-37F6-47FC-B40D-29BE40EF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7B3-A158-42AA-80B4-D35B85E4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127-C9E4-493A-9FFF-D61369AA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D82-5CB9-407C-8301-0934A913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E66-7950-4F85-A8AC-FA46DFF2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888-83BE-470D-9645-DF0356DA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268-50D1-42EC-90A1-64901B81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0B2-0796-4980-A6C0-69FCF70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1D57-7CB2-4D17-B6E6-C9BFF3E2E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gular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80536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ings that End with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a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06668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s with the patte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556272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2 – One Character Mi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05084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4280" y="3522600"/>
            <a:ext cx="41547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152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Gram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0666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ular gramma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quadrupl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),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ule alphabet, which contains nonterminals   and termina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set of terminals) is a sub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set of rules) is a finite set of rules of th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start symbol) is a non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152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Gram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0666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regular grammar, all rul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left hand side that is a single non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right hand side tha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terminal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terminal followed by a single non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legal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52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Grammar Examp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05084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s even}     (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46483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152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Grammar Examp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05084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s even}     (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46483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ular Languages and Regular Gramm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05084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class of languages that can be defined with regular grammars is exactly the regular langu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of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y two co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ular Languages and Regular Gramm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05084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r gramma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S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mmartof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)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eat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eparate state for each nonterminal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art state is the state corresponding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f there are any rul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reate a new state labeled 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or each rule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d a transition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e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For each rule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d a transition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# labe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For each rule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k st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ark state # as accep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SM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egular gramma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imilar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 - Even Length String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05084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ings that End with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a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06668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s with the patte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0:38:26Z</dcterms:created>
  <dc:creator>oih</dc:creator>
  <dc:description/>
  <dc:language>en-US</dc:language>
  <cp:lastModifiedBy>Elaine A. Rich</cp:lastModifiedBy>
  <dcterms:modified xsi:type="dcterms:W3CDTF">2007-10-07T01:11:39Z</dcterms:modified>
  <cp:revision>105</cp:revision>
  <dc:subject/>
  <dc:title>Slide 1</dc:title>
</cp:coreProperties>
</file>