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F1B-CC1F-4EC0-98F0-08906B0A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944-FF49-4798-B9B4-AFDF0F0E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02F-916A-483D-9970-D6DB05FC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5B5-AE8C-4ACC-B18D-DD7C0217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56D-1CDB-4BE7-954E-7F6C6266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819-8D4C-4308-995D-0C46B0D0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7DD-A17D-485C-846E-9A78534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689-4CC8-4632-A9A7-118BA0C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5D6-BF93-48A3-B8EE-6065BC0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A64-25F7-47A1-85B9-BEA2AA1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E8C-E37E-4CEE-90B2-0E1DD8B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464-9B57-402B-81C3-001A8F3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F9D7-2D80-4BC2-B544-55796D098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724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ndix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plicated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828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b([A-Za-z]+)\s+\1\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143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ng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text =~ s/\b([A-Za-z]+)\s+\1\b/\1/g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imple Chatb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219320"/>
            <a:ext cx="746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ever the user types an expression of the 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is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our chatbot to reply with the expres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on input, “The food there is awful,” our chatbot would reply, “Why is the food there awful?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ex to do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text =~ s/^([A-Za-z]+)\sis\s([A-Za-z]+)\.?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Why is \1 \2?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1066680"/>
          <a:ext cx="7924680" cy="3681360"/>
        </p:xfrm>
        <a:graphic>
          <a:graphicData uri="http://schemas.openxmlformats.org/drawingml/2006/table">
            <a:tbl>
              <a:tblPr/>
              <a:tblGrid>
                <a:gridCol w="1068120"/>
                <a:gridCol w="1598760"/>
                <a:gridCol w="525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ate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he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he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n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e any regex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|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|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on (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n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e any regex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eene s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0 or mo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least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1 or mo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0 or 1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t leas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ut no more tha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1219320"/>
          <a:ext cx="7925040" cy="2981160"/>
        </p:xfrm>
        <a:graphic>
          <a:graphicData uri="http://schemas.openxmlformats.org/drawingml/2006/table">
            <a:tbl>
              <a:tblPr/>
              <a:tblGrid>
                <a:gridCol w="1067040"/>
                <a:gridCol w="1763640"/>
                <a:gridCol w="509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simon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ns off greedy matching so the shortest match is sel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d 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except new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 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s the match to the beginning of a line or 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 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s the match to the end of a line or str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1143000"/>
          <a:ext cx="8076960" cy="5386320"/>
        </p:xfrm>
        <a:graphic>
          <a:graphicData uri="http://schemas.openxmlformats.org/drawingml/2006/table">
            <a:tbl>
              <a:tblPr/>
              <a:tblGrid>
                <a:gridCol w="1009440"/>
                <a:gridCol w="1864080"/>
                <a:gridCol w="5203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ming a collating sequence, matches any single character in ran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^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ming a collating sequence, matches any single character not in ran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single digit, i.e., string in 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di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single nondigit character, i.e.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^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phanume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single “word” character, i.e.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lphanume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in [^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te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in [space, tab, newline, etc.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white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not matched by 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914400"/>
          <a:ext cx="8001000" cy="5657760"/>
        </p:xfrm>
        <a:graphic>
          <a:graphicData uri="http://schemas.openxmlformats.org/drawingml/2006/table">
            <a:tbl>
              <a:tblPr/>
              <a:tblGrid>
                <a:gridCol w="1076400"/>
                <a:gridCol w="1616040"/>
                <a:gridCol w="530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new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t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form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backspace inside [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 word boundary outside [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word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 non-word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 null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 ASCII character with octal valu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xa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 ASCII character with hexadecimal valu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 ASCII control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143000"/>
          <a:ext cx="8001000" cy="3591000"/>
        </p:xfrm>
        <a:graphic>
          <a:graphicData uri="http://schemas.openxmlformats.org/drawingml/2006/table">
            <a:tbl>
              <a:tblPr/>
              <a:tblGrid>
                <a:gridCol w="1076400"/>
                <a:gridCol w="1616040"/>
                <a:gridCol w="530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used to quote symbols such as . and 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, and stores the matched string in the next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whatever the first parenthesized expression matc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whatever the second parenthesized expression matc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all remaining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m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badv\(?ert\)?\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ail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b[A-Za-z0-9_%-]+@[A-Za-z0-9_%-]+(\.[A-Za-z]+){1,4}\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([ab]*)\1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35:37Z</dcterms:created>
  <dc:creator>oih</dc:creator>
  <dc:description/>
  <dc:language>en-US</dc:language>
  <cp:lastModifiedBy>Elaine A. Rich</cp:lastModifiedBy>
  <dcterms:modified xsi:type="dcterms:W3CDTF">2007-11-09T02:57:01Z</dcterms:modified>
  <cp:revision>165</cp:revision>
  <dc:subject/>
  <dc:title>Slide 1</dc:title>
</cp:coreProperties>
</file>