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23C-DCEC-4CA2-B400-44096775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EA5-00B5-4653-BA4E-225D8E2C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D2E-C602-46F1-A0B3-856FC085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D2E-F043-4070-9BBB-AFCB1987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367-C80F-4853-958B-E61D1236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F03-B553-4BAC-8969-FCE0EC6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B64-1506-4B7B-94A7-02315092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A5C-BFA6-47B8-AF43-15980A8B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CCC-3C2A-4059-B23B-1EEB4A6A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D44-EADA-4B88-866D-A8A236D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C2A-A4AD-4F5C-B073-0AB8B99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A38-1876-4908-B684-A2000A1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1C2-38F0-4305-ADB2-9A4C43F56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8305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and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0536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1143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= 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11430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(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n even number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241280"/>
            <a:ext cx="7772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in each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143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yz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1143000"/>
            <a:ext cx="7238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1143000"/>
            <a:ext cx="7772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: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106668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ime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guages and 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8672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43000"/>
            <a:ext cx="76960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uncountably many non-regular languages                                 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Every infinite language is the complement of a fini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14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on of an infinite number of regular langu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cessarily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The intersection of an infinite number of regula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is necessarily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1143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langu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define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,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ecessarily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1066680"/>
            <a:ext cx="7848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y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oth languages over the alphab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0,1}.  We say that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places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(leav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unch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1430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hanging ever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multane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by app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nd of every strin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rowing aw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deleting the first positions of all oth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these Functions Nice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83628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I'm back at work again. I passed your class with a B. I was glad it was over. Than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oday at work, I decided I was going to teach myself how to use a new performance monitoring tool. So the first thing to do is go read the documentation on the tool, right? You'll never believe what the FIRST paragraph sai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...In order to understand the complexities of (the tool), imagine a finite state machine. The vertices are the possible states in which a thread can exist. Edges between the vertices represent (functions) to change from one state to another. Now this FSM will have to be non- deterministic because..." blah, blah, blah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n't believe it! But thanks to you, I could visualize it and understood completely. My sincere thanks!!! See you around. 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egular Expre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95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DFS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regular express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5668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2193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t least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at most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atural number whose digits appear in a non-decreasing order without leading zero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if there are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is at least on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if there are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, then there is at leas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14300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0 - 9, *, =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-9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0:38:26Z</dcterms:created>
  <dc:creator>oih</dc:creator>
  <dc:description/>
  <dc:language>en-US</dc:language>
  <cp:lastModifiedBy>Elaine A. Rich</cp:lastModifiedBy>
  <dcterms:modified xsi:type="dcterms:W3CDTF">2007-10-08T19:12:12Z</dcterms:modified>
  <cp:revision>199</cp:revision>
  <dc:subject/>
  <dc:title>Slide 1</dc:title>
</cp:coreProperties>
</file>