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78D8-2706-46A3-8BA8-BAD4D7DA1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74B7-887C-4834-9D34-5277163C9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D189D-5AAD-457C-8BA8-740CC989F5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40BF-04E5-4E5E-B592-5A8400C4B3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19BEF-363B-4D1A-A88B-C3B2DEA5E2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C6804-1399-40AE-A79B-3D516CAA1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FF3E3-24BB-41C7-80E2-10B1CC227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E729C-3FE6-4989-8C68-ECA3E80E1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D5470-394F-41D4-BDC1-4BDAC352B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8DEF0-F0DA-4BBD-9198-BB0A0D8FB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C60B0-FDAD-42E3-ADDD-C30C2C359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4D6F9-89DA-4EC1-814C-C705A17DD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BC60-E802-4420-AEBD-516FE4D8845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2DE7-B8A0-4D26-8CB8-778E38CF405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mage Form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of Computer Science, Electrical and Computer Engineering, and Media Ar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3DC5-137B-4DA1-ADAE-62EB8FBCB68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dditive and Subtractive Colo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dditive col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 a color by adding amounts of three prima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Ts, projection systems, positive fi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aries are Red (R), Green (G), Blue (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btractive col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 a color by filtering white light with cyan (C), Magenta (M), and Yellow (Y) fil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-material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fi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3E52-D8F5-4110-97DA-EABF07E3C6A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inhole Camera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0" name="Picture 5" descr="ftp://ftp.cs.unm.edu/pub/angel/BOOK/SECOND_EDITION/FIGURES/JPEG/an01f14.jpg"/>
          <p:cNvPicPr/>
          <p:nvPr/>
        </p:nvPicPr>
        <p:blipFill>
          <a:blip r:embed="rId1"/>
          <a:stretch/>
        </p:blipFill>
        <p:spPr>
          <a:xfrm>
            <a:off x="2514600" y="1600200"/>
            <a:ext cx="4054320" cy="21319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1530360" y="4648320"/>
            <a:ext cx="1366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-x/z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359160" y="4648320"/>
            <a:ext cx="1366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-y/z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829440" y="4038480"/>
            <a:ext cx="67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rigonometry to find projection of point at 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1059840" y="5486400"/>
            <a:ext cx="52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equations of simple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5266440" y="4648320"/>
            <a:ext cx="82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0BBC-11CC-4B36-A23A-043BC02FDC3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ynthetic Camera Mode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9" name="Picture 5" descr="ftp://ftp.cs.unm.edu/pub/angel/BOOK/SECOND_EDITION/FIGURES/JPEG/an01f19.jpg"/>
          <p:cNvPicPr/>
          <p:nvPr/>
        </p:nvPicPr>
        <p:blipFill>
          <a:blip r:embed="rId1"/>
          <a:stretch/>
        </p:blipFill>
        <p:spPr>
          <a:xfrm>
            <a:off x="2286000" y="1676520"/>
            <a:ext cx="4467240" cy="3475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3502080" y="441972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er of 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46880" y="373392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751760" y="190512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2666880" y="2362320"/>
            <a:ext cx="609840" cy="10666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"/>
          <p:cNvSpPr/>
          <p:nvPr/>
        </p:nvSpPr>
        <p:spPr>
          <a:xfrm flipH="1" flipV="1">
            <a:off x="4191120" y="3352680"/>
            <a:ext cx="838080" cy="609840"/>
          </a:xfrm>
          <a:prstGeom prst="line">
            <a:avLst/>
          </a:prstGeom>
          <a:ln w="12600">
            <a:solidFill>
              <a:srgbClr val="ff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1"/>
          <p:cNvSpPr/>
          <p:nvPr/>
        </p:nvSpPr>
        <p:spPr>
          <a:xfrm flipH="1" flipV="1">
            <a:off x="3200400" y="4191120"/>
            <a:ext cx="380880" cy="457200"/>
          </a:xfrm>
          <a:prstGeom prst="line">
            <a:avLst/>
          </a:prstGeom>
          <a:ln w="12600">
            <a:solidFill>
              <a:srgbClr val="ff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48820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3"/>
          <p:cNvSpPr/>
          <p:nvPr/>
        </p:nvSpPr>
        <p:spPr>
          <a:xfrm flipH="1" flipV="1">
            <a:off x="5181120" y="3276720"/>
            <a:ext cx="381240" cy="380880"/>
          </a:xfrm>
          <a:prstGeom prst="line">
            <a:avLst/>
          </a:prstGeom>
          <a:ln w="12600">
            <a:solidFill>
              <a:srgbClr val="ff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4807800" y="411480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5"/>
          <p:cNvSpPr/>
          <p:nvPr/>
        </p:nvSpPr>
        <p:spPr>
          <a:xfrm flipH="1" flipV="1">
            <a:off x="4038120" y="3580920"/>
            <a:ext cx="685800" cy="762120"/>
          </a:xfrm>
          <a:prstGeom prst="line">
            <a:avLst/>
          </a:prstGeom>
          <a:ln w="12600">
            <a:solidFill>
              <a:srgbClr val="ff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98F8-A815-40D4-968B-20AA876E0C0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dvantag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paration of objects, viewer, light sour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wo-dimensional graphics is a special case of three-dimensional graph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ds to simple software AP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y objects, lights, camera, attrib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implementation determine i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ds to fast hardware implementation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2478-8B45-4477-9853-2BC19755724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lobal vs Local Light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not compute color or shade of each object independentl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objects are blocked from 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ght can reflect from object to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objects might be transluc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ftp://ftp.cs.unm.edu/pub/angel/BOOK/SECOND_EDITION/FIGURES/JPEG/an01f09.jpg"/>
          <p:cNvPicPr/>
          <p:nvPr/>
        </p:nvPicPr>
        <p:blipFill>
          <a:blip r:embed="rId1"/>
          <a:stretch/>
        </p:blipFill>
        <p:spPr>
          <a:xfrm>
            <a:off x="2514600" y="3962520"/>
            <a:ext cx="298620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84C5-45CB-4439-B00C-36BA3F5B4A5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hy not ray tracing?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y tracing seems more physically based so why don’t we use it to design a graphics system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ssible and is actually simple for simple objects such as polygons and quadrics with simple point sour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principle, can produce global lighting effects such as shadows and multiple reflections but ray tracing is slow and not well-suited for interactive applic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09FB-A505-40FE-A65B-51801D5D586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undamental imaging no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hysical basis for image form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ce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ynthetic camera mod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mode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2AA5-6022-4B37-99F2-A81D0E411B3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mage Form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computer graphics, we form images which are generally two dimensional using a process analogous to how images are formed by physical imaging syste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me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esco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visual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106D-2648-482E-B3B0-2B9AA49B5E7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lements of Image Form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iew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ght source(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ttributes that govern how light interacts with the materials in the sce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e the independence of the objects, the viewer, and the light source(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ftp://ftp.cs.unm.edu/pub/angel/BOOK/SECOND_EDITION/FIGURES/JPEG/an01f07.jpg"/>
          <p:cNvPicPr/>
          <p:nvPr/>
        </p:nvPicPr>
        <p:blipFill>
          <a:blip r:embed="rId1"/>
          <a:stretch/>
        </p:blipFill>
        <p:spPr>
          <a:xfrm>
            <a:off x="4800600" y="1523880"/>
            <a:ext cx="247176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256A-0E9A-4190-8026-3D14582E4B1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igh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Ligh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s the part of the electromagnetic spectrum that causes a reaction in our visual syste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nerally these are wavelengths in the range of about 350-750 nm (nanometer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ng wavelengths appear as reds and short wavelengths as blu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3D5A-5DEE-4469-86E2-640AEA968D3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an01f10"/>
          <p:cNvPicPr/>
          <p:nvPr/>
        </p:nvPicPr>
        <p:blipFill>
          <a:blip r:embed="rId1"/>
          <a:stretch/>
        </p:blipFill>
        <p:spPr>
          <a:xfrm>
            <a:off x="5715000" y="1890720"/>
            <a:ext cx="2948040" cy="307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228240"/>
            <a:ext cx="44960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ay Tracing and Geometric Optic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e way to form an image is t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llow rays of light from 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int source finding whic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ys enter the lens of th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mera. However, each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y of light may hav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ultiple interactions with objec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efore being absorbed or going to infinit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36D3-ECAC-4B90-9C9A-CBBBE9584D2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uminance and Color Imag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uminance Im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ochromati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ues are gray lev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alogous to working with black and white film or tele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lor Im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perceptional attributes of hue, saturation, and light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we have to match every frequency in visible spectrum? No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A48C-9BCE-4083-AF89-7F4AA8D418D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ftp://ftp.cs.unm.edu/pub/angel/BOOK/SECOND_EDITION/FIGURES/JPEG/an01f11.jpg"/>
          <p:cNvPicPr/>
          <p:nvPr/>
        </p:nvPicPr>
        <p:blipFill>
          <a:blip r:embed="rId1"/>
          <a:stretch/>
        </p:blipFill>
        <p:spPr>
          <a:xfrm>
            <a:off x="6172200" y="2743200"/>
            <a:ext cx="2457360" cy="19749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ree-Color Theor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uman visual system has two types of senso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ds: monochromatic, night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types of c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three values (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istimu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) are sent to the b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 only match these three valu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only thre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l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7A30-EE7A-4258-BE7E-55BCC97504E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hadow Mask CR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29" descr="ftp://ftp.cs.unm.edu/pub/angel/BOOK/SECOND_EDITION/FIGURES/JPEG/an01f04.jpg"/>
          <p:cNvPicPr/>
          <p:nvPr/>
        </p:nvPicPr>
        <p:blipFill>
          <a:blip r:embed="rId1"/>
          <a:stretch/>
        </p:blipFill>
        <p:spPr>
          <a:xfrm>
            <a:off x="1676520" y="2073240"/>
            <a:ext cx="601956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19:17:07Z</dcterms:created>
  <dc:creator>Ed Angel</dc:creator>
  <dc:description/>
  <dc:language>en-US</dc:language>
  <cp:lastModifiedBy>Ed Angel</cp:lastModifiedBy>
  <dcterms:modified xsi:type="dcterms:W3CDTF">2008-04-28T23:42:19Z</dcterms:modified>
  <cp:revision>20</cp:revision>
  <dc:subject/>
  <dc:title>PowerPoint Presentation</dc:title>
</cp:coreProperties>
</file>