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65E04-37B9-4FF8-B9EA-DCE81DDA3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32FDC-F7E9-4350-B7D3-90948B9F1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7BF3C-BB6E-4D84-9DFF-69A2C58F0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65E7C-F349-4421-BF1E-679608C4A3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82C5B-063C-448A-A8A7-ADA371CB51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E600A-197A-4C5B-84E8-6944032E7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918B-4973-423C-A6C7-C250F3D62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A44E3-8EBB-4F68-8B54-BA4511E5E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09250-6B91-4871-81F3-288D8D911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BB0CE-D449-4AFE-A64F-8B4960E5A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08DCA-2204-49B3-B5D8-5CAC091D5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44FB3-D446-4A7D-9455-1C30DD912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1DE2-2E61-4EFC-BD6E-89AF02972D5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1434-71A0-4F3E-BB2B-9EE950A44D0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odels and Architectur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of Computer Science, Electrical and Computer Engineering, and Media Ar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A989-116A-43C6-85E3-D30BB4FADB4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asteriz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an object is not clipped out, the appropriate pixels in the frame buffer must be assigned colo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asterizer produces a set of fragments for each obje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ragments are “potential pixels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location in frame buff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or and depth attrib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ertex attributes are interpolated over objects by the rasteriz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838080" y="5638680"/>
            <a:ext cx="688500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79E2-5B7D-4514-BB35-C8A8711966F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Fragment Processing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ragments are processed to determine the color of the corresponding pixel in the frame buff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lors can be determined by texture mapping or interpolation of vertex colo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ragments may be blocked by other fragments closer to the camera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dden-surface remov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762120" y="5715000"/>
            <a:ext cx="688500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AC29-F9B6-483A-B35A-5EF9C3CE960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he Programmer’s Interfac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grammer sees the graphics system through a software interface: the Application Programmer Interface (AP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29" descr="ftp://ftp.cs.unm.edu/pub/angel/BOOK/SECOND_EDITION/FIGURES/JPEG/an01f22.jpg"/>
          <p:cNvPicPr/>
          <p:nvPr/>
        </p:nvPicPr>
        <p:blipFill>
          <a:blip r:embed="rId1"/>
          <a:stretch/>
        </p:blipFill>
        <p:spPr>
          <a:xfrm>
            <a:off x="990720" y="3733920"/>
            <a:ext cx="63403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BBFF-8E74-45C3-92BC-A958798F7E6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PI Conten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unctions that specify what we need to form an im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e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ght Source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inform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put from devices such as mouse and key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pabilities of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ABB5-127E-4132-9438-30E9B03787A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 Specific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st APIs support a limited set of primitives includ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ints (0D objec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 segments (1D objec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gons (2D objec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curves and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d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ric polynom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l are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fined through locations in space or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verti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A5FD-D9EA-4310-9736-0A598C6CFDA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819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Begin(GL_POLYG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Vertex3f(0.0, 0.0, 0.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Vertex3f(0.0, 1.0, 0.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Vertex3f(0.0, 0.0, 1.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End(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870720" y="179388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ype of objec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" name="Line 7"/>
          <p:cNvSpPr/>
          <p:nvPr/>
        </p:nvSpPr>
        <p:spPr>
          <a:xfrm flipH="1">
            <a:off x="3352320" y="2286000"/>
            <a:ext cx="1143000" cy="4572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" name="Line 8"/>
          <p:cNvSpPr/>
          <p:nvPr/>
        </p:nvSpPr>
        <p:spPr>
          <a:xfrm flipH="1">
            <a:off x="4648320" y="2590920"/>
            <a:ext cx="1295280" cy="6858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5004360" y="2251080"/>
            <a:ext cx="23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cation of vertex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680480" y="5222880"/>
            <a:ext cx="30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d of object definitio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" name="Line 11"/>
          <p:cNvSpPr/>
          <p:nvPr/>
        </p:nvSpPr>
        <p:spPr>
          <a:xfrm flipH="1" flipV="1">
            <a:off x="1904760" y="4723920"/>
            <a:ext cx="9903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A559-9379-4E23-8BEA-CA2C555036D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amera Specific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 degrees of freedo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on of center of l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lm siz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rientation of film pla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ftp://ftp.cs.unm.edu/pub/angel/BOOK/SECOND_EDITION/FIGURES/JPEG/an01f23.jpg"/>
          <p:cNvPicPr/>
          <p:nvPr/>
        </p:nvPicPr>
        <p:blipFill>
          <a:blip r:embed="rId1"/>
          <a:stretch/>
        </p:blipFill>
        <p:spPr>
          <a:xfrm>
            <a:off x="5181480" y="1828800"/>
            <a:ext cx="337824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3790-B5A0-41C7-A70D-EF827623D93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Lights and Material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ypes of ligh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int sources vs distributed 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t li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ar and far 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or prope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terial propert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orption: color prope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62C0-FD8C-44C1-ABDC-50ABEF23304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rn the basic design of a graphics syst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pipeline archite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amine software components for an interactive graphics syst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AB54-0C62-4468-ABE7-019AB9443EB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mage Formation Revisited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we mimic the synthetic camera model to design graphics hardware software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pplication Programmer Interface (AP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only specif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ut how is the API implemented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B940-5005-4B19-90F2-D6E2E4B9588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7" name="Picture 5" descr="an06f44"/>
          <p:cNvPicPr/>
          <p:nvPr/>
        </p:nvPicPr>
        <p:blipFill>
          <a:blip r:embed="rId1"/>
          <a:stretch/>
        </p:blipFill>
        <p:spPr>
          <a:xfrm>
            <a:off x="5562720" y="2514600"/>
            <a:ext cx="2835000" cy="2620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hysical Approach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y trac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ollow rays of light from center of projection until they either are absorbed by objects or go off to infi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handle global ef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refl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ucent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have whole data 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ailable at all tim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dio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nergy bas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s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9FA2-F457-4910-93B2-A7055112ACC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actical Approach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cess objects one at a time in the order they are generated by the applic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consider only local ligh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ipeline archite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l steps can be implemented in hardware on the graphics car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55400" y="4191120"/>
            <a:ext cx="15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7544160" y="43434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tretch/>
        </p:blipFill>
        <p:spPr>
          <a:xfrm>
            <a:off x="533520" y="3505320"/>
            <a:ext cx="815328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405F-003A-4D3B-AD65-F1B5D5D8586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ertex Process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uch of the work in the pipeline is in converting object representations from one coordinate system to anoth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coordin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mera (eye) coordin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reen coordin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very change of coordinates is equivalent to a matrix transforma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ertex processor also computes vertex colo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685800" y="5638680"/>
            <a:ext cx="73152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0FF4-B0D1-4141-A021-9706259E4E5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ojec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Projection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e process that combines the 3D viewer with the 3D objects to produce the 2D im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pective projections: all projectors meet at the center of proj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llel projection: projectors are parallel, center of projection is replaced by a direction of proj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1066680" y="5410080"/>
            <a:ext cx="708660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CEB1-26F4-4756-BB1B-E46C0AA888F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imitive Assembly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ertices must be collected into geometric objects before clipping and rasterization can take pla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 seg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g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ves and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914400" y="5562720"/>
            <a:ext cx="688500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C2F8-C4BD-4EFF-B8AC-B3A10EED279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pp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ust as a real camera cannot “see” the whole world, the virtual camera can only see part of the world or object spa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s that are not within this volume are said to b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lipp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ut of the sce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an05f24"/>
          <p:cNvPicPr/>
          <p:nvPr/>
        </p:nvPicPr>
        <p:blipFill>
          <a:blip r:embed="rId1"/>
          <a:stretch/>
        </p:blipFill>
        <p:spPr>
          <a:xfrm>
            <a:off x="1447920" y="3886200"/>
            <a:ext cx="2849400" cy="2527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an05f25"/>
          <p:cNvPicPr/>
          <p:nvPr/>
        </p:nvPicPr>
        <p:blipFill>
          <a:blip r:embed="rId2"/>
          <a:stretch/>
        </p:blipFill>
        <p:spPr>
          <a:xfrm>
            <a:off x="4648320" y="4038480"/>
            <a:ext cx="388620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19:17:07Z</dcterms:created>
  <dc:creator>Ed Angel</dc:creator>
  <dc:description/>
  <dc:language>en-US</dc:language>
  <cp:lastModifiedBy>Ed Angel</cp:lastModifiedBy>
  <dcterms:modified xsi:type="dcterms:W3CDTF">2008-04-29T20:23:40Z</dcterms:modified>
  <cp:revision>29</cp:revision>
  <dc:subject/>
  <dc:title>PowerPoint Presentation</dc:title>
</cp:coreProperties>
</file>