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A6A5-8B9D-45A6-B94F-DCC0E1739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AA3B-D130-45F9-938D-618A4456A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9BC1-AADC-49F9-8E92-40594A896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1A47-7390-478A-ADEA-0AC4578F4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2F93-92CF-4768-A843-1F525D330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6ADB-1FB3-472C-A29C-93BBB2042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08EA-7E30-40A8-9FD2-2F012A73B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449E-D511-4AF8-9F36-D5C457A81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96F6-5F00-4E7C-A1CF-17EB54D98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06AA-C5FA-4072-A014-01A633C17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54D0-C86F-4C83-8D31-D5F500E35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A813-DC89-4156-ACE6-59BB32666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71C5-3F65-4818-A922-5600A209D2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C4D-CA33-4EAF-A21F-CF73210A93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Open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3: Three Dimens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854-F159-4007-8061-74299EB6503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play and init Func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ispla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lear(GL_COLOR_BUFFER_BI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Begin(GL_TRIANGL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ide_triangle(v[0], v[1], v[2],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Flus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MatrixMode(GL_PROJEC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LoadIdent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Ortho2D(-2.0, 2.0, -2.0, 2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MatrixMode(GL_MODELVIE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learColor (1.0, 1.0, 1.0,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olor3f(0.0,0.0,0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E08-7855-4F0C-9C67-855069EAF6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ain Fun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utInit(&amp;argc, arg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utInitDisplayMode(GLUT_SINGLE|GLUT_RG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utInitWindowSize(500, 5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utCreateWindow(“2D Gasket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utDisplayFunc(displa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in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utMainLo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B33C-20D2-4525-AC37-AE1CC58E87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Efficiency Note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y having the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Beg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En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the display callback rather than in the function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using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_TRIANGL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_POLYGO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 glBeg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e call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Begi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En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ly once for the entire gasket rather than once for each triang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F95-4A70-4235-9084-11AF59A2BE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ving to 3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easily make the program three-dimensional by us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float v[3][3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Vertex3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Ort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that would not be very interest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stead, we can start with a tetrahedr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63F9-D00F-47B7-9102-C2176DBF1C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3D Gaske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an subdivide each of the four fa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ears as if we remove a solid tetrahedron from the center leaving four smaller tetrahed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1600200" y="2286000"/>
            <a:ext cx="2514600" cy="1981080"/>
            <a:chOff x="1600200" y="2286000"/>
            <a:chExt cx="2514600" cy="1981080"/>
          </a:xfrm>
        </p:grpSpPr>
        <p:sp>
          <p:nvSpPr>
            <p:cNvPr id="105" name="AutoShape 4"/>
            <p:cNvSpPr/>
            <p:nvPr/>
          </p:nvSpPr>
          <p:spPr>
            <a:xfrm>
              <a:off x="1600200" y="2286000"/>
              <a:ext cx="1905120" cy="19810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2590920" y="2286000"/>
              <a:ext cx="152388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 flipH="1">
              <a:off x="3504960" y="3581280"/>
              <a:ext cx="60948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 flipV="1">
              <a:off x="1600200" y="3581280"/>
              <a:ext cx="25146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9" name="AutoShape 12"/>
          <p:cNvSpPr/>
          <p:nvPr/>
        </p:nvSpPr>
        <p:spPr>
          <a:xfrm>
            <a:off x="4876920" y="2133720"/>
            <a:ext cx="1904760" cy="20574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Freeform 16"/>
          <p:cNvSpPr/>
          <p:nvPr/>
        </p:nvSpPr>
        <p:spPr>
          <a:xfrm>
            <a:off x="5867280" y="2133720"/>
            <a:ext cx="1524240" cy="20574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Freeform 17"/>
          <p:cNvSpPr/>
          <p:nvPr/>
        </p:nvSpPr>
        <p:spPr>
          <a:xfrm>
            <a:off x="5334120" y="3200400"/>
            <a:ext cx="990360" cy="990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Freeform 18"/>
          <p:cNvSpPr/>
          <p:nvPr/>
        </p:nvSpPr>
        <p:spPr>
          <a:xfrm>
            <a:off x="6324480" y="2895480"/>
            <a:ext cx="838440" cy="91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808-6CA4-4296-8D5D-9898F6F7956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3627" t="25809" r="25986" b="33209"/>
          <a:stretch/>
        </p:blipFill>
        <p:spPr>
          <a:xfrm>
            <a:off x="2286000" y="2133720"/>
            <a:ext cx="4343400" cy="3665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555200" y="17254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5 iter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C3B8-5862-40AA-9375-ECB288FA38E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angle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triangle( GLfloat *a, GLfloat *b,   GLfloat *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v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v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v(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31F-5BDF-4583-BD4F-6EF5560DE5B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ubdivision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ivide_triangle(GLfloat *a, GLfloat *b, GLfloat *c, int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float v1[3], v2[3], v3[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m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 j&lt;3; j++) v1[j]=(a[j]+b[j])/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 j&lt;3; j++) v2[j]=(a[j]+c[j])/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 j&lt;3; j++) v3[j]=(b[j]+c[j])/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ide_triangle(a, v1, v2, m-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ide_triangle(c, v2, v3, m-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ide_triangle(b, v3, v1, m-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(triangle(a,b,c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8AB5-FFE5-4366-860F-4B1065922E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etrahedron cod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tetrahedron( int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Color3f(1.0,0.0,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vide_triangle(v[0], v[1], v[2], 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Color3f(0.0,1.0,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vide_triangle(v[3], v[2], v[1], 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Color3f(0.0,0.0,1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vide_triangle(v[0], v[3], v[1], 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Color3f(0.0,0.0,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vide_triangle(v[0], v[2], v[3], 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EDB-5A99-4450-9AE7-EE48752A0E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rcRect l="23627" t="25809" r="25986" b="33209"/>
          <a:stretch/>
        </p:blipFill>
        <p:spPr>
          <a:xfrm>
            <a:off x="4572000" y="2590920"/>
            <a:ext cx="4343400" cy="3665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lmost Correc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rcRect l="24327" t="24726" r="25681" b="32736"/>
          <a:stretch/>
        </p:blipFill>
        <p:spPr>
          <a:xfrm>
            <a:off x="0" y="2743200"/>
            <a:ext cx="4343400" cy="3521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ause the triangles are drawn in the order they are defined in the program, the front triangles are not always rendered in front of triangles behind th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580920" y="33526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t th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2971440" y="3657600"/>
            <a:ext cx="60948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548160" y="38862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 th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876920" y="3962160"/>
            <a:ext cx="990360" cy="1522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82C-2E0A-41EC-A557-BA1F8D873A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 a more sophisticated three-dimensional 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erpinski gasket: a frac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hidden-surface remov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CBC-C3BF-4323-94E9-F46FF4DC3E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Hidden-Surface Remov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ant to see only those surfaces in front of other surf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GL uses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idden-surfac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thod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uffer algorithm that saves depth information as objects are rendered so that only the front objects appear in the i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an02f38"/>
          <p:cNvPicPr/>
          <p:nvPr/>
        </p:nvPicPr>
        <p:blipFill>
          <a:blip r:embed="rId1"/>
          <a:stretch/>
        </p:blipFill>
        <p:spPr>
          <a:xfrm>
            <a:off x="2895480" y="4114800"/>
            <a:ext cx="28782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0EB-17E3-40BE-90CF-DCCBFC175D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Using the </a:t>
            </a:r>
            <a:r>
              <a:rPr b="1" i="1" lang="en-US" sz="3700" spc="-1" strike="noStrike">
                <a:solidFill>
                  <a:srgbClr val="3333cc"/>
                </a:solidFill>
                <a:latin typeface="Arial"/>
              </a:rPr>
              <a:t>z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-buffer algorith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lgorithm uses an extra buffer, the z-buffer, to store depth information as geometry travels down the pipe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must 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ested in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in.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InitDisplay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LUT_SINGLE | GLUT_RGB | GLUT_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d 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init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DEPTH_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ed in the display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lear(GL_COLOR_BUFFER_BIT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_DEPTH_BUFFER_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5B0B-6774-45E9-825C-D2EE9B3E20C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urface vs Volume Subdvision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ur example, we divided the surface of each f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could also divide the volume using the same midpoi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midpoints define four smaller tetrahedrons, one for each vert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eping only these tetrahedrons remove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the midd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 text for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000-B655-4DBB-80B2-1B877995795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olume Sub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7849" t="5607" r="7788" b="19627"/>
          <a:stretch/>
        </p:blipFill>
        <p:spPr>
          <a:xfrm>
            <a:off x="2057400" y="1676520"/>
            <a:ext cx="4800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568-844B-4D1D-A862-4DE7C318DD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-dimensional Applica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penGL, two-dimensional applications are a special case of three-dimensiona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ing to 3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uch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Vertex3*(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worry about the order in which polygons are drawn or use hidden-surface remo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 should be simple, convex, fl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ACC-4B3E-4183-B704-8B9D0A3F83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erpinski Gasket (2D)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with a triang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nect bisectors of sides and remove central triang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4"/>
          <p:cNvSpPr/>
          <p:nvPr/>
        </p:nvSpPr>
        <p:spPr>
          <a:xfrm>
            <a:off x="2743200" y="1981080"/>
            <a:ext cx="1600200" cy="129564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Freeform 6"/>
          <p:cNvSpPr/>
          <p:nvPr/>
        </p:nvSpPr>
        <p:spPr>
          <a:xfrm>
            <a:off x="2666880" y="4343400"/>
            <a:ext cx="1600200" cy="129528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3124080" y="4952880"/>
            <a:ext cx="762120" cy="685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760-B948-4781-9139-444A95FA04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Example 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ve subdivis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20436" t="19699" r="21418" b="30305"/>
          <a:stretch/>
        </p:blipFill>
        <p:spPr>
          <a:xfrm>
            <a:off x="2362320" y="2209680"/>
            <a:ext cx="40384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8D61-08CB-477C-8A29-7EB9A87067B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gasket as a fracta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the filled area (black) and the perimeter (the length of all the lines around the filled triangl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we continue subdivi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rea goes to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 perimeter goes to infi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not an ordinary geometric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neither two- nor three-dimens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frac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fractional dimension) obj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668-7678-4856-ADDA-12CC2D8F73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asket Program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GL/glut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initial triangl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float v[3][2]={{-1.0, -0.58}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1.0, -0.58}, {0.0, 1.15}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; /* number of recursive step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83D7-7D1F-47E7-9875-2C48A3A062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raw one triang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812960" y="280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triangle( GLfloat *a, GLfloat *b, GLfloat *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display one triangle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v(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v(b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v(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3FCB-403F-4CEB-9C7A-8462995CEC0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iangle Subdivis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divide_triangle(GLfloat *a, GLfloat *b, GLfloat *c, int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riangle subdivision using vertex number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2 v0, v1, v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m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2; j++) v0[j]=(a[j]+b[j])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2; j++) v1[j]=(a[j]+c[j])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2; j++) v2[j]=(b[j]+c[j])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_triangle(a, v0, v1, m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_triangle(c, v1, v2, m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_triangle(b, v2, v0, m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(triangle(a,b,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raw triangle at end of recurs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9T12:40:39Z</dcterms:modified>
  <cp:revision>53</cp:revision>
  <dc:subject/>
  <dc:title>PowerPoint Presentation</dc:title>
</cp:coreProperties>
</file>