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06D6-0CBD-4A74-96D0-54F8D9285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0B4C-1097-47E2-B0A7-E5C65B1DF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58B8-D3F9-43E8-956B-98EE1AA5F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AECC-155C-4CDD-B8B8-CB6CE4ECA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1E6A-CFDE-4CB0-AF57-52F57A0A99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167E-186C-464F-B630-812D1734A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23CF-BAC8-4964-8D9F-9C47D8A75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7BB4-3FA2-4ECB-A2A6-29983D9E1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3BAA-C58E-4F16-9EB3-9C7681472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5BEE-BF87-4E24-A466-965712401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316D-E8F1-401C-AF42-C03E0541F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9F4F-EC54-4AB5-B022-B12F82DB9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BC43-6B85-4DAC-A747-96DD717F777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CA35-965D-49AE-A562-F711BF0003D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ming with OpenGL</a:t>
            </a:r>
            <a:br>
              <a:rPr sz="3700"/>
            </a:b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art 2: Complete Progra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Computer Science, Electrical and Computer Engineering, and Media Ar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A9AC-933D-4B88-96EF-B4FAF91556E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rthographic View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01" name="Group 64"/>
          <p:cNvGrpSpPr/>
          <p:nvPr/>
        </p:nvGrpSpPr>
        <p:grpSpPr>
          <a:xfrm>
            <a:off x="838080" y="2971800"/>
            <a:ext cx="4516560" cy="3051000"/>
            <a:chOff x="838080" y="2971800"/>
            <a:chExt cx="4516560" cy="3051000"/>
          </a:xfrm>
        </p:grpSpPr>
        <p:pic>
          <p:nvPicPr>
            <p:cNvPr id="102" name="Picture 5" descr="an02f29"/>
            <p:cNvPicPr/>
            <p:nvPr/>
          </p:nvPicPr>
          <p:blipFill>
            <a:blip r:embed="rId1"/>
            <a:stretch/>
          </p:blipFill>
          <p:spPr>
            <a:xfrm>
              <a:off x="838080" y="2971800"/>
              <a:ext cx="451656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0"/>
            <p:cNvSpPr/>
            <p:nvPr/>
          </p:nvSpPr>
          <p:spPr>
            <a:xfrm>
              <a:off x="3658680" y="4876560"/>
              <a:ext cx="4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=0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 flipV="1">
              <a:off x="3581280" y="5105160"/>
              <a:ext cx="457200" cy="609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5" name="Group 63"/>
          <p:cNvGrpSpPr/>
          <p:nvPr/>
        </p:nvGrpSpPr>
        <p:grpSpPr>
          <a:xfrm>
            <a:off x="6324480" y="2971800"/>
            <a:ext cx="2363760" cy="2847960"/>
            <a:chOff x="6324480" y="2971800"/>
            <a:chExt cx="2363760" cy="2847960"/>
          </a:xfrm>
        </p:grpSpPr>
        <p:pic>
          <p:nvPicPr>
            <p:cNvPr id="106" name="Picture 7" descr="an02f30"/>
            <p:cNvPicPr/>
            <p:nvPr/>
          </p:nvPicPr>
          <p:blipFill>
            <a:blip r:embed="rId2"/>
            <a:stretch/>
          </p:blipFill>
          <p:spPr>
            <a:xfrm>
              <a:off x="6324480" y="3276720"/>
              <a:ext cx="23637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9"/>
            <p:cNvSpPr/>
            <p:nvPr/>
          </p:nvSpPr>
          <p:spPr>
            <a:xfrm>
              <a:off x="76960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08" name="Group 61"/>
            <p:cNvGrpSpPr/>
            <p:nvPr/>
          </p:nvGrpSpPr>
          <p:grpSpPr>
            <a:xfrm>
              <a:off x="7619760" y="3657600"/>
              <a:ext cx="609840" cy="337320"/>
              <a:chOff x="7619760" y="3657600"/>
              <a:chExt cx="609840" cy="337320"/>
            </a:xfrm>
          </p:grpSpPr>
          <p:sp>
            <p:nvSpPr>
              <p:cNvPr id="109" name="Rectangle 60"/>
              <p:cNvSpPr/>
              <p:nvPr/>
            </p:nvSpPr>
            <p:spPr>
              <a:xfrm>
                <a:off x="7619760" y="3657600"/>
                <a:ext cx="60984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0" name="Text Box 58"/>
              <p:cNvSpPr/>
              <p:nvPr/>
            </p:nvSpPr>
            <p:spPr>
              <a:xfrm>
                <a:off x="7697160" y="3657600"/>
                <a:ext cx="49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z=0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111" name="Text Box 65"/>
          <p:cNvSpPr/>
          <p:nvPr/>
        </p:nvSpPr>
        <p:spPr>
          <a:xfrm>
            <a:off x="822960" y="1600200"/>
            <a:ext cx="60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efault orthographic view, points are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forward alo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xis onto th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=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BCF7-06C7-4BA9-883A-27BDA97249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ransformations and View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OpenGL, projection is carried out by a projection matrix (transform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is only one set of transformation functions so we must set the matrix mode firs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MatrixMode (GL_PROJ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ormation functions are incremental so we start with an identity matrix and alter it with a projection matrix that gives the view volu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LoadIdentity()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Ortho(-1.0, 1.0, -1.0, 1.0, -1.0, 1.0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F9F2-3BFC-4B0A-99CA-F653AB7657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wo- and three-dimensional view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Ortho(left, right, bottom, top, near, far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ear and far distances are measure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he came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-dimensional vertex commands place all vertices in the plane z=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the application is in two dimensions, we can use the 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uOrtho2D(left, right,bottom,to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wo dimensions, the view or clipping volume becomes 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lipping wind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C996-8E12-4CE7-9EF0-CA2990EA76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ydisplay.c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mydispl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Clear(GL_COLOR_BUFFER_BI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Begin(GL_POLYGON)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2f(-0.5, -0.5)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2f(-0.5, 0.5)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2f(0.5, 0.5)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2f(0.5, -0.5)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Flush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20FB-81EE-4B32-AC99-ADB8860D758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Primi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6840" rIns="9684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7335720" y="3544920"/>
            <a:ext cx="1068120" cy="1353600"/>
            <a:chOff x="7335720" y="3544920"/>
            <a:chExt cx="1068120" cy="1353600"/>
          </a:xfrm>
        </p:grpSpPr>
        <p:sp>
          <p:nvSpPr>
            <p:cNvPr id="129" name="Freeform 6"/>
            <p:cNvSpPr/>
            <p:nvPr/>
          </p:nvSpPr>
          <p:spPr>
            <a:xfrm>
              <a:off x="7335720" y="3544920"/>
              <a:ext cx="1068120" cy="49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7488000" y="3971880"/>
              <a:ext cx="687240" cy="49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488000" y="4398840"/>
              <a:ext cx="839880" cy="49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32" name="Rectangle 9"/>
          <p:cNvSpPr/>
          <p:nvPr/>
        </p:nvSpPr>
        <p:spPr>
          <a:xfrm>
            <a:off x="6773760" y="5006880"/>
            <a:ext cx="196812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QUAD_STRI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Freeform 10"/>
          <p:cNvSpPr/>
          <p:nvPr/>
        </p:nvSpPr>
        <p:spPr>
          <a:xfrm>
            <a:off x="7620120" y="1905120"/>
            <a:ext cx="1079280" cy="966600"/>
          </a:xfrm>
          <a:prstGeom prst="pie">
            <a:avLst/>
          </a:prstGeom>
          <a:solidFill>
            <a:srgbClr val="ff33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7305120" y="2919240"/>
            <a:ext cx="155664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POLYG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83240" y="5540400"/>
            <a:ext cx="251676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TRIANGLE_STRI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1038240" y="4067280"/>
            <a:ext cx="1068120" cy="1353600"/>
            <a:chOff x="1038240" y="4067280"/>
            <a:chExt cx="1068120" cy="1353600"/>
          </a:xfrm>
        </p:grpSpPr>
        <p:sp>
          <p:nvSpPr>
            <p:cNvPr id="137" name="Freeform 15"/>
            <p:cNvSpPr/>
            <p:nvPr/>
          </p:nvSpPr>
          <p:spPr>
            <a:xfrm>
              <a:off x="1038240" y="4067280"/>
              <a:ext cx="1068120" cy="49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8" name="Freeform 16"/>
            <p:cNvSpPr/>
            <p:nvPr/>
          </p:nvSpPr>
          <p:spPr>
            <a:xfrm>
              <a:off x="1266840" y="4067280"/>
              <a:ext cx="839520" cy="49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1190520" y="4494240"/>
              <a:ext cx="687240" cy="428760"/>
            </a:xfrm>
            <a:prstGeom prst="pi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5f5f5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0" name="Freeform 18"/>
            <p:cNvSpPr/>
            <p:nvPr/>
          </p:nvSpPr>
          <p:spPr>
            <a:xfrm>
              <a:off x="1190520" y="4494240"/>
              <a:ext cx="687240" cy="4996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1" name="Freeform 19"/>
            <p:cNvSpPr/>
            <p:nvPr/>
          </p:nvSpPr>
          <p:spPr>
            <a:xfrm>
              <a:off x="1190520" y="4921200"/>
              <a:ext cx="611280" cy="49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2" name="Freeform 20"/>
            <p:cNvSpPr/>
            <p:nvPr/>
          </p:nvSpPr>
          <p:spPr>
            <a:xfrm>
              <a:off x="1495440" y="4992480"/>
              <a:ext cx="534960" cy="428400"/>
            </a:xfrm>
            <a:prstGeom prst="pi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5f5f5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43" name="Group 22"/>
          <p:cNvGrpSpPr/>
          <p:nvPr/>
        </p:nvGrpSpPr>
        <p:grpSpPr>
          <a:xfrm>
            <a:off x="3911760" y="4761000"/>
            <a:ext cx="1220760" cy="570960"/>
            <a:chOff x="3911760" y="4761000"/>
            <a:chExt cx="1220760" cy="570960"/>
          </a:xfrm>
        </p:grpSpPr>
        <p:sp>
          <p:nvSpPr>
            <p:cNvPr id="144" name="Freeform 23"/>
            <p:cNvSpPr/>
            <p:nvPr/>
          </p:nvSpPr>
          <p:spPr>
            <a:xfrm>
              <a:off x="3911760" y="4761000"/>
              <a:ext cx="687240" cy="428760"/>
            </a:xfrm>
            <a:prstGeom prst="pie">
              <a:avLst/>
            </a:prstGeom>
            <a:gradFill rotWithShape="0">
              <a:gsLst>
                <a:gs pos="0">
                  <a:srgbClr val="008e6b"/>
                </a:gs>
                <a:gs pos="100000">
                  <a:srgbClr val="00cc99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5" name="Freeform 24"/>
            <p:cNvSpPr/>
            <p:nvPr/>
          </p:nvSpPr>
          <p:spPr>
            <a:xfrm>
              <a:off x="3911760" y="4761000"/>
              <a:ext cx="839520" cy="428760"/>
            </a:xfrm>
            <a:prstGeom prst="pie">
              <a:avLst/>
            </a:prstGeom>
            <a:gradFill rotWithShape="0">
              <a:gsLst>
                <a:gs pos="0">
                  <a:srgbClr val="008e6b"/>
                </a:gs>
                <a:gs pos="100000">
                  <a:srgbClr val="00cc99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6" name="Freeform 25"/>
            <p:cNvSpPr/>
            <p:nvPr/>
          </p:nvSpPr>
          <p:spPr>
            <a:xfrm>
              <a:off x="3911760" y="4974480"/>
              <a:ext cx="1220760" cy="215280"/>
            </a:xfrm>
            <a:prstGeom prst="pie">
              <a:avLst/>
            </a:prstGeom>
            <a:gradFill rotWithShape="0">
              <a:gsLst>
                <a:gs pos="0">
                  <a:srgbClr val="008e6b"/>
                </a:gs>
                <a:gs pos="100000">
                  <a:srgbClr val="00cc99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7" name="Freeform 26"/>
            <p:cNvSpPr/>
            <p:nvPr/>
          </p:nvSpPr>
          <p:spPr>
            <a:xfrm>
              <a:off x="3911760" y="5045760"/>
              <a:ext cx="1220760" cy="286200"/>
            </a:xfrm>
            <a:prstGeom prst="pie">
              <a:avLst/>
            </a:prstGeom>
            <a:gradFill rotWithShape="0">
              <a:gsLst>
                <a:gs pos="0">
                  <a:srgbClr val="008e6b"/>
                </a:gs>
                <a:gs pos="100000">
                  <a:srgbClr val="00cc99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8" name="Rectangle 27"/>
          <p:cNvSpPr/>
          <p:nvPr/>
        </p:nvSpPr>
        <p:spPr>
          <a:xfrm>
            <a:off x="3285720" y="5487840"/>
            <a:ext cx="224244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TRIANGLE_FA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Rectangle 29"/>
          <p:cNvSpPr/>
          <p:nvPr/>
        </p:nvSpPr>
        <p:spPr>
          <a:xfrm>
            <a:off x="399960" y="2814480"/>
            <a:ext cx="141948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POIN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0" name="Group 30"/>
          <p:cNvGrpSpPr/>
          <p:nvPr/>
        </p:nvGrpSpPr>
        <p:grpSpPr>
          <a:xfrm>
            <a:off x="1033560" y="2436840"/>
            <a:ext cx="285120" cy="242640"/>
            <a:chOff x="1033560" y="2436840"/>
            <a:chExt cx="285120" cy="242640"/>
          </a:xfrm>
        </p:grpSpPr>
        <p:sp>
          <p:nvSpPr>
            <p:cNvPr id="151" name="Rectangle 31"/>
            <p:cNvSpPr/>
            <p:nvPr/>
          </p:nvSpPr>
          <p:spPr>
            <a:xfrm>
              <a:off x="1080720" y="2436840"/>
              <a:ext cx="33120" cy="2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1225440" y="2476800"/>
              <a:ext cx="32760" cy="2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3" name="Rectangle 33"/>
            <p:cNvSpPr/>
            <p:nvPr/>
          </p:nvSpPr>
          <p:spPr>
            <a:xfrm>
              <a:off x="1033560" y="2592360"/>
              <a:ext cx="33120" cy="2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4" name="Rectangle 34"/>
            <p:cNvSpPr/>
            <p:nvPr/>
          </p:nvSpPr>
          <p:spPr>
            <a:xfrm>
              <a:off x="1285560" y="2651400"/>
              <a:ext cx="33120" cy="2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55" name="Group 36"/>
          <p:cNvGrpSpPr/>
          <p:nvPr/>
        </p:nvGrpSpPr>
        <p:grpSpPr>
          <a:xfrm>
            <a:off x="1996920" y="2676240"/>
            <a:ext cx="838080" cy="498240"/>
            <a:chOff x="1996920" y="2676240"/>
            <a:chExt cx="838080" cy="498240"/>
          </a:xfrm>
        </p:grpSpPr>
        <p:sp>
          <p:nvSpPr>
            <p:cNvPr id="156" name="Line 37"/>
            <p:cNvSpPr/>
            <p:nvPr/>
          </p:nvSpPr>
          <p:spPr>
            <a:xfrm flipV="1">
              <a:off x="1996920" y="2676240"/>
              <a:ext cx="520560" cy="48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7" name="Line 38"/>
            <p:cNvSpPr/>
            <p:nvPr/>
          </p:nvSpPr>
          <p:spPr>
            <a:xfrm>
              <a:off x="2517480" y="2845440"/>
              <a:ext cx="317520" cy="32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58" name="Rectangle 39"/>
          <p:cNvSpPr/>
          <p:nvPr/>
        </p:nvSpPr>
        <p:spPr>
          <a:xfrm>
            <a:off x="1716120" y="3244680"/>
            <a:ext cx="128232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LI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Freeform 41"/>
          <p:cNvSpPr/>
          <p:nvPr/>
        </p:nvSpPr>
        <p:spPr>
          <a:xfrm>
            <a:off x="5686560" y="2678040"/>
            <a:ext cx="1055520" cy="1060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5207400" y="3830760"/>
            <a:ext cx="183096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LINE_LOO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Freeform 44"/>
          <p:cNvSpPr/>
          <p:nvPr/>
        </p:nvSpPr>
        <p:spPr>
          <a:xfrm>
            <a:off x="3502080" y="1960560"/>
            <a:ext cx="1441440" cy="987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3138480" y="3166920"/>
            <a:ext cx="196812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LINE_STRI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Freeform 47"/>
          <p:cNvSpPr/>
          <p:nvPr/>
        </p:nvSpPr>
        <p:spPr>
          <a:xfrm>
            <a:off x="2535120" y="3832200"/>
            <a:ext cx="387360" cy="277920"/>
          </a:xfrm>
          <a:prstGeom prst="pie">
            <a:avLst/>
          </a:pr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Freeform 48"/>
          <p:cNvSpPr/>
          <p:nvPr/>
        </p:nvSpPr>
        <p:spPr>
          <a:xfrm>
            <a:off x="2978280" y="4054320"/>
            <a:ext cx="715680" cy="427320"/>
          </a:xfrm>
          <a:prstGeom prst="pie">
            <a:avLst/>
          </a:prstGeom>
          <a:solidFill>
            <a:srgbClr val="66ff6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2107080" y="4603680"/>
            <a:ext cx="1830960" cy="36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_TRIANGL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D5AF-114B-4406-8FF1-56653E15604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olygon Issu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nGL will only display polygons correctly that 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edges cannot cr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ve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ll points on line segment between two points in a polygon are also in the polyg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ll vertices are in the sam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r program can check if above tr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GL will produce output if these conditions are violated but it may not be what is des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iangles satisfy all condi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447920" y="5334120"/>
            <a:ext cx="2057400" cy="685800"/>
          </a:xfrm>
          <a:prstGeom prst="flowChartCollat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7086600" y="4800600"/>
            <a:ext cx="1066680" cy="91440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595160" y="601992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simple polyg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319440" y="5867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convex polyg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E833-D364-4015-BEC9-F192ED12653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ttribut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tributes are part of the OpenGL state and determine the appearance of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(points, lines, polyg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and width (points, 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pple pattern (lines, polyg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 m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as filled: solid color or stipp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ver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B5BE-2186-43E1-8C90-98A7D67EC42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GB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color component is stored separately in the frame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8 bits per component in 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 in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Color3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he color values range from 0.0 (none) to 1.0 (all), whereas in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Color3u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he values range from 0 to 25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an02f25"/>
          <p:cNvPicPr/>
          <p:nvPr/>
        </p:nvPicPr>
        <p:blipFill>
          <a:blip r:embed="rId1"/>
          <a:stretch/>
        </p:blipFill>
        <p:spPr>
          <a:xfrm>
            <a:off x="2286000" y="4495680"/>
            <a:ext cx="4130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7F67-AB2C-4F62-BEAD-BB891B6F8E6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ndexed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lors are indices into tables of RGB va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quires less mem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es usually 8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s important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in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more colors for sh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an02f27"/>
          <p:cNvPicPr/>
          <p:nvPr/>
        </p:nvPicPr>
        <p:blipFill>
          <a:blip r:embed="rId1"/>
          <a:stretch/>
        </p:blipFill>
        <p:spPr>
          <a:xfrm>
            <a:off x="1981080" y="4419720"/>
            <a:ext cx="550224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7A8A-7433-443B-8A4C-509C0865384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lor and Stat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lor as set by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Colo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becomes part of the state and will be used until chang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s and other attributes are not part of the object but are assigned when the object is rend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create conceptual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vertex colo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by code such 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Col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Verte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Col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glVerte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602E-28B6-4A3E-8A55-BC0AAD5A807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ine the first pr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 the default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 a standard program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ple view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dimensional viewing as a special case of three-dimensional vie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damental OpenGL primiti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B36C-1151-4187-9A0F-A8F41E1068C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mooth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ault is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moot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h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interpolates vertex colors across visible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rnative is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lat sh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of first vertex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s fill 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Shade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GL_SMOO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GL_FL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157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0D13-18DE-41A9-8F9F-1996313B23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iewpor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 not have use the entire window for the image: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glViewport(x,y,w,h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lues in pixels (screen coordinat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an02f33"/>
          <p:cNvPicPr/>
          <p:nvPr/>
        </p:nvPicPr>
        <p:blipFill>
          <a:blip r:embed="rId1"/>
          <a:stretch/>
        </p:blipFill>
        <p:spPr>
          <a:xfrm>
            <a:off x="1295280" y="3200400"/>
            <a:ext cx="6645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D48-D00C-4BD0-B75B-3D5852FE9D5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gram Structur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st OpenGL programs have a similar structure that consists of the following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the callback fun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one or more windows with the require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s event loop (last executable stat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it(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ets the state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b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and window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D905-02FC-46C4-AB20-1706714AE30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imple.c revisite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this version, we shall see the same output but we have defined all the relevant state values through function calls using the default va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particular, we s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ing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5B86-2452-445C-8463-FEFE49558B7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main.c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GL/glut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int argc, char** arg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Init(&amp;argc,argv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InitDisplayMode(GLUT_SINGLE|GLUT_RGB)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InitWindowSize(500,500);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InitWindowPosition(0,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CreateWindow("simple")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DisplayFunc(mydisplay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tMainLoop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4495320" y="1676520"/>
            <a:ext cx="11430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946840" y="144792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includes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gl.h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5562720" y="3657240"/>
            <a:ext cx="914400" cy="22860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408640" y="39625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efine window properti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Line 10"/>
          <p:cNvSpPr/>
          <p:nvPr/>
        </p:nvSpPr>
        <p:spPr>
          <a:xfrm flipH="1" flipV="1">
            <a:off x="2209680" y="5105160"/>
            <a:ext cx="1447920" cy="15228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733920" y="495288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et OpenGL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3429000" y="5790960"/>
            <a:ext cx="838080" cy="22860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265640" y="57913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nter event loop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5105520" y="4571640"/>
            <a:ext cx="380880" cy="22860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5560200" y="457200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splay callbac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865E-6A6C-4B2D-A7BC-81905DA26B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GLUT functions</a:t>
            </a:r>
            <a:endParaRPr b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utIni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application to get command line arguments and initializes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uInitDisplayMod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quests properties for the window (th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rendering contex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b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logically ORe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utWindowSiz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pix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utWindowPosi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om top-left corner of displ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utCreateWindow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reate window with title “simpl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utDisplayFunc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play callba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glutMainLoop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 infinite event lo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2C4B-0227-4FBA-AF7A-FA20763819F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init.c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ClearColor (0.0, 0.0, 0.0, 1.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Color3f(1.0, 1.0, 1.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MatrixMode (GL_PROJECTION)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LoadIdentity ()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Ortho(-1.0, 1.0, -1.0, 1.0, -1.0, 1.0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 flipH="1">
            <a:off x="3657600" y="1981080"/>
            <a:ext cx="1905120" cy="45720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83600" y="156528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lack clear colo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Line 7"/>
          <p:cNvSpPr/>
          <p:nvPr/>
        </p:nvSpPr>
        <p:spPr>
          <a:xfrm flipH="1">
            <a:off x="5638320" y="2286000"/>
            <a:ext cx="381240" cy="22860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021360" y="198108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opaque window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4876560" y="3352680"/>
            <a:ext cx="5331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93680" y="3124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ill/draw with whi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Line 12"/>
          <p:cNvSpPr/>
          <p:nvPr/>
        </p:nvSpPr>
        <p:spPr>
          <a:xfrm flipH="1" flipV="1">
            <a:off x="4038120" y="4876560"/>
            <a:ext cx="762120" cy="68580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4799880" y="5334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viewing volu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88A-893C-473C-9ED9-2A885779D2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oordinate System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lVert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etermined by the application and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ewing specifications are also in object coordinates and it is the size of the viewing volume that determines what will appear in th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ly, OpenGL will conver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mera (eye) coord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later to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reen coordin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also uses some internal representations that usually are not visible to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B07E-AA1F-4D09-979C-2DE69C643DF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5" name="Picture 5" descr="an02f31"/>
          <p:cNvPicPr/>
          <p:nvPr/>
        </p:nvPicPr>
        <p:blipFill>
          <a:blip r:embed="rId1"/>
          <a:stretch/>
        </p:blipFill>
        <p:spPr>
          <a:xfrm>
            <a:off x="4343400" y="2971800"/>
            <a:ext cx="4572000" cy="2930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penGL Camer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enGL places a camera at the origin in object space pointing in the negativ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r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default viewing volu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a box centered at th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igin with a side of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ngth 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08-04-28T23:49:31Z</dcterms:modified>
  <cp:revision>48</cp:revision>
  <dc:subject/>
  <dc:title>PowerPoint Presentation</dc:title>
</cp:coreProperties>
</file>