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DE66-9B50-4257-9B1B-41CCDF084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817E-E886-4D77-83D1-0BF85F6EC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3B72-317C-45B4-9437-B91BB545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3D86-AC73-449D-92ED-B70D44B31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E7E1-27EA-4C1F-B0E3-301908C89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E1C3-8742-404C-A99A-267499582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354B-8537-4F42-9496-585746D01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8279-E492-4C95-905C-79E7E3F1C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8CE0-9277-455F-AA87-8A75FDB3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6D7C-E78B-436E-9503-8E1D743AC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90D8-F864-426D-A876-9B79F255B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C6C2-F553-4C14-831D-EBCA9FD9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BFF-8C05-4C28-B1DB-D43186DC71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FA78-63CB-40DD-B17B-ED2CA0D44DD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Open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1: Backgroun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5495-FE6F-4B92-AC56-DD91453321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oftware Organ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9"/>
          <p:cNvSpPr/>
          <p:nvPr/>
        </p:nvSpPr>
        <p:spPr>
          <a:xfrm>
            <a:off x="1073160" y="2765520"/>
            <a:ext cx="6997680" cy="20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3664080" y="2765520"/>
            <a:ext cx="18158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Line 71"/>
          <p:cNvSpPr/>
          <p:nvPr/>
        </p:nvSpPr>
        <p:spPr>
          <a:xfrm>
            <a:off x="6629400" y="275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Line 72"/>
          <p:cNvSpPr/>
          <p:nvPr/>
        </p:nvSpPr>
        <p:spPr>
          <a:xfrm flipH="1">
            <a:off x="5028840" y="4130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Line 73"/>
          <p:cNvSpPr/>
          <p:nvPr/>
        </p:nvSpPr>
        <p:spPr>
          <a:xfrm>
            <a:off x="5029200" y="3444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Line 74"/>
          <p:cNvSpPr/>
          <p:nvPr/>
        </p:nvSpPr>
        <p:spPr>
          <a:xfrm>
            <a:off x="2514600" y="3444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Line 76"/>
          <p:cNvSpPr/>
          <p:nvPr/>
        </p:nvSpPr>
        <p:spPr>
          <a:xfrm>
            <a:off x="4114800" y="3444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Line 77"/>
          <p:cNvSpPr/>
          <p:nvPr/>
        </p:nvSpPr>
        <p:spPr>
          <a:xfrm>
            <a:off x="4572000" y="34448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4102920" y="2895480"/>
            <a:ext cx="101412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5627160" y="3581280"/>
            <a:ext cx="82800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Rectangle 80"/>
          <p:cNvSpPr/>
          <p:nvPr/>
        </p:nvSpPr>
        <p:spPr>
          <a:xfrm>
            <a:off x="6159960" y="4191120"/>
            <a:ext cx="60876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Rectangle 81"/>
          <p:cNvSpPr/>
          <p:nvPr/>
        </p:nvSpPr>
        <p:spPr>
          <a:xfrm>
            <a:off x="2622240" y="3413160"/>
            <a:ext cx="1386000" cy="70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X, AG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WG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82"/>
          <p:cNvSpPr/>
          <p:nvPr/>
        </p:nvSpPr>
        <p:spPr>
          <a:xfrm>
            <a:off x="1413720" y="4267080"/>
            <a:ext cx="283068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 Win32, Mac O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83"/>
          <p:cNvSpPr/>
          <p:nvPr/>
        </p:nvSpPr>
        <p:spPr>
          <a:xfrm>
            <a:off x="1073160" y="5127480"/>
            <a:ext cx="6997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84"/>
          <p:cNvSpPr/>
          <p:nvPr/>
        </p:nvSpPr>
        <p:spPr>
          <a:xfrm>
            <a:off x="2628720" y="5089680"/>
            <a:ext cx="389592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and/or hardwar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85"/>
          <p:cNvSpPr/>
          <p:nvPr/>
        </p:nvSpPr>
        <p:spPr>
          <a:xfrm>
            <a:off x="1073160" y="2057400"/>
            <a:ext cx="6997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86"/>
          <p:cNvSpPr/>
          <p:nvPr/>
        </p:nvSpPr>
        <p:spPr>
          <a:xfrm>
            <a:off x="3017160" y="1973160"/>
            <a:ext cx="3115800" cy="45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Line 87"/>
          <p:cNvSpPr/>
          <p:nvPr/>
        </p:nvSpPr>
        <p:spPr>
          <a:xfrm flipH="1">
            <a:off x="2514240" y="34448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Line 88"/>
          <p:cNvSpPr/>
          <p:nvPr/>
        </p:nvSpPr>
        <p:spPr>
          <a:xfrm flipH="1">
            <a:off x="1523880" y="34448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89"/>
          <p:cNvSpPr/>
          <p:nvPr/>
        </p:nvSpPr>
        <p:spPr>
          <a:xfrm>
            <a:off x="1506240" y="2833560"/>
            <a:ext cx="1794240" cy="57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GL Motif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dget or simila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Line 90"/>
          <p:cNvSpPr/>
          <p:nvPr/>
        </p:nvSpPr>
        <p:spPr>
          <a:xfrm>
            <a:off x="243828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Line 91"/>
          <p:cNvSpPr/>
          <p:nvPr/>
        </p:nvSpPr>
        <p:spPr>
          <a:xfrm>
            <a:off x="3276720" y="2759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1523880" y="2759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Line 93"/>
          <p:cNvSpPr/>
          <p:nvPr/>
        </p:nvSpPr>
        <p:spPr>
          <a:xfrm>
            <a:off x="129528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94"/>
          <p:cNvSpPr/>
          <p:nvPr/>
        </p:nvSpPr>
        <p:spPr>
          <a:xfrm>
            <a:off x="342900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95"/>
          <p:cNvSpPr/>
          <p:nvPr/>
        </p:nvSpPr>
        <p:spPr>
          <a:xfrm>
            <a:off x="457200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Line 96"/>
          <p:cNvSpPr/>
          <p:nvPr/>
        </p:nvSpPr>
        <p:spPr>
          <a:xfrm>
            <a:off x="601992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Line 97"/>
          <p:cNvSpPr/>
          <p:nvPr/>
        </p:nvSpPr>
        <p:spPr>
          <a:xfrm>
            <a:off x="7238880" y="2454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Line 98"/>
          <p:cNvSpPr/>
          <p:nvPr/>
        </p:nvSpPr>
        <p:spPr>
          <a:xfrm>
            <a:off x="6400800" y="4816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666880" y="4816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Line 75"/>
          <p:cNvSpPr/>
          <p:nvPr/>
        </p:nvSpPr>
        <p:spPr>
          <a:xfrm flipH="1">
            <a:off x="2514240" y="4130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B410-5CFA-4A90-80F8-EE6D79991C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Archite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854360" y="1720800"/>
            <a:ext cx="27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ediate Mod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530360" y="4044960"/>
            <a:ext cx="1054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603800" y="411480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026040" y="4044960"/>
            <a:ext cx="15112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121280" y="4044960"/>
            <a:ext cx="15112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92680" y="5187960"/>
            <a:ext cx="12826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511440" y="2444760"/>
            <a:ext cx="166392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846440" y="2597040"/>
            <a:ext cx="12826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855800" y="2749680"/>
            <a:ext cx="126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521160" y="2514600"/>
            <a:ext cx="1660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Vertex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 &amp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4147920" y="4251240"/>
            <a:ext cx="145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6040080" y="4129200"/>
            <a:ext cx="1491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Frag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4052880" y="5272200"/>
            <a:ext cx="96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7543800" y="441972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5638680" y="4419720"/>
            <a:ext cx="381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4876920" y="365760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1240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876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11430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Line 24"/>
          <p:cNvSpPr/>
          <p:nvPr/>
        </p:nvSpPr>
        <p:spPr>
          <a:xfrm flipV="1">
            <a:off x="137160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1371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1295280" y="4419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1295280" y="60958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838188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220968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220968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358128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3733920" y="4419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Line 33"/>
          <p:cNvSpPr/>
          <p:nvPr/>
        </p:nvSpPr>
        <p:spPr>
          <a:xfrm>
            <a:off x="37339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Line 34"/>
          <p:cNvSpPr/>
          <p:nvPr/>
        </p:nvSpPr>
        <p:spPr>
          <a:xfrm>
            <a:off x="4419720" y="205740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Line 35"/>
          <p:cNvSpPr/>
          <p:nvPr/>
        </p:nvSpPr>
        <p:spPr>
          <a:xfrm flipH="1">
            <a:off x="837720" y="2057400"/>
            <a:ext cx="358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504720" y="424332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Line 37"/>
          <p:cNvSpPr/>
          <p:nvPr/>
        </p:nvSpPr>
        <p:spPr>
          <a:xfrm>
            <a:off x="838080" y="2057400"/>
            <a:ext cx="0" cy="22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2351160" y="5805360"/>
            <a:ext cx="12535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3581280" y="609588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7939080" y="4044960"/>
            <a:ext cx="825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7955280" y="4129200"/>
            <a:ext cx="7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42"/>
          <p:cNvSpPr/>
          <p:nvPr/>
        </p:nvSpPr>
        <p:spPr>
          <a:xfrm flipH="1">
            <a:off x="4647960" y="1905120"/>
            <a:ext cx="99036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5733720" y="156528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6451-83FD-43E6-A73B-4BBC913E615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 Se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GL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(GL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4E1-A700-4441-8CC8-6A24B58870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Stat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is a state mach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functions are of two typ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 gene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output if primitive is 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vertices are processed and appearance of primitive are controlled by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chan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56A8-AEF8-4FBC-8AED-9F7B03057D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ack of Object Orient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is not object oriented so that there are multiple functions for a given logical fun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Vertex3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Vertex2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Vertex3d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derlying storage mode is the sa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y to create overloaded functions in C++ but issue is efficienc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38D-403E-4D72-9F8C-6CD7BE2AA98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function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666160" y="27432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ex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y,z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Line 5"/>
          <p:cNvSpPr/>
          <p:nvPr/>
        </p:nvSpPr>
        <p:spPr>
          <a:xfrm flipV="1">
            <a:off x="2133720" y="3200400"/>
            <a:ext cx="6858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08400" y="3809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ngs to GL librar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3733560" y="21337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679920" y="17938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4572000" y="3124080"/>
            <a:ext cx="457200" cy="4572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4570920" y="36576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y,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loa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048120" y="48769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753920" y="50198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14"/>
          <p:cNvSpPr/>
          <p:nvPr/>
        </p:nvSpPr>
        <p:spPr>
          <a:xfrm flipH="1" flipV="1">
            <a:off x="3809880" y="5410080"/>
            <a:ext cx="609840" cy="53352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568400" y="56386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ointer to an arra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4343040" y="2286000"/>
            <a:ext cx="152388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048360" y="19810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DD2-8241-4321-A749-F319754E807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#defin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nstants are defined in the include files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.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u.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ut.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#include &lt;GL/glut.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automatically include the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Begin(GL_POLYG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Clear(GL_COLOR_BUFFER_B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lude files also define OpenGL data types: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floa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doub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…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154-6F0D-4FD1-B098-3B7C34494EB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 Simple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te a square on a solid back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36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7DD-8EF2-433A-B375-878963BB1E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.c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21120" y="1523880"/>
            <a:ext cx="673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GL/glut.h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display(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(GL_COLOR_BUFFER_BIT);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Begin(GL_POLYGON)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-0.5, -0.5)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-0.5, 0.5)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0.5, 0.5)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2f(0.5, -0.5);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Flush();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int argc, char** argv)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CreateWindow("simple");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DisplayFunc(mydisplay);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MainLoop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67C1-ED57-4DED-8610-DC38A7D803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vent Loop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at the program define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isplay callb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unction named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mydis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glut program must have a display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play callback is executed whenever OpenGL decides the display must be refreshed, for example when the window is ope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unction ends with the program entering an event l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EF8-E743-4E71-A0DF-CB001F0C2C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of the OpenGL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as a stat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E38-BEE0-4A58-B9A9-7D66A8988C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efaul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simple.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oo si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kes heavy use of state variable default values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xt version will make the defaults more explic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3BF-ACA1-4472-8A4D-9196B999965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otes on compil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website and ftp for 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x/linu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files usually in …/include/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 with –lglut –lglu –lgl loader fl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ave to add –L flag for X libr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a implementation included with most linux dis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web for latest versions of Mesa and gl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BBAC-E32D-4CCD-B853-465B8DFCE9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mpilation on Window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sual C++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glut.h, glut32.lib and glut32.dll from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console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opengl32.lib, glut32.lib, glut32.lib to project settings (under link ta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rland C simi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ygwin (linux under Window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gcc and similar makefile to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–lopengl32 –lglu32 –lglut32 fl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A90-A855-4552-9350-CD95FA7261E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arly History of API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IPS (1973) formed two committees to come up with a standard graphics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al Kernel System (G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but contained good works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2D and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KS adopted as IS0 and later ANSI standard (1980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KS not easily extended to 3D (GKS-3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 behind hardwar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BB6-9D5D-40F4-95FE-BCCA7A903D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IGS and X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grammer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H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rarchical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phics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stem (PHIG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ose from CAD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model with retained graphics (struc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Window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/MIT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-server architecture with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X combined the tw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asy to use (all the defects of e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06B-84E5-4633-855D-85088E65F7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GI and 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licon Graphics (SGI) revolutionized the graphics workstation by implementing the pipeline in hardware (198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access the system, application programmers used a library called G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GL, it was relatively simple to program three dimensional interactive applic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867A-6A05-438C-8CC9-7A8F1B7E324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uccess of GL lead to OpenGL (1992), a platform-independent API that wa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 enough to the hardware to get excellent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re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windowing and input to avoid window system depende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767-AFE9-4E4E-A18B-0043D1FA8D8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Evolu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84680" indent="-184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ginally controlled by an Architectural Review Board (ARB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s included SGI, Microsoft, Nvidia, HP, 3DLabs, IBM,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stable (present version 2.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reflects new hardwar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texture mapping and textur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platform specific features through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B replaced by Kr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357-88DE-405F-9499-BFE24EFDA3E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Librari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core libra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32 on Win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 on most unix/linux systems (libGL.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Utility Library (GLU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functionality in OpenGL core but avoids having to rewrit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ks with window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X for X window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GL for Win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L for Macinto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8938-9DE8-41A1-9333-F0B6004531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U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Utility Toolkit (GLU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functionality common to all window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put from mouse and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-dr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is portable but GLUT lacks the functionality of a good toolkit for a specific plat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lide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8T23:47:36Z</dcterms:modified>
  <cp:revision>45</cp:revision>
  <dc:subject/>
  <dc:title>PowerPoint Presentation</dc:title>
</cp:coreProperties>
</file>