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9BF-5993-413E-9C0C-845B0699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B94-4F27-4874-B38D-8EBFC1D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715-C554-4348-8BF3-7A422187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2B9-9F67-4508-8BA4-26B6BFE9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4FE-CACE-4B07-93C6-237861E9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F26-F954-4F75-A359-9C30FC2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18D-7818-4534-8C10-5DF2C276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47F-FACB-46A1-ABA3-EEA14362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961-ADFF-4196-BDD3-0579C4D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150-D4D9-4A53-A784-455F72F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27E-864F-4909-8A9E-E376342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B4C-6309-4322-82B3-57F2A0A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692-ED26-4998-A396-C6E341C0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-dimensional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Projectio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rallel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Projections: all points are projected along lines parallel to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4724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and Oblique Parallel Proj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qu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raphic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229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lines are foreshortened; the projection preserves the exact shape of one face of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791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uses the projection matrix to describe the view volume of the cam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, the projection matrix specifies how to transform vertices to squash them into the canonical view volum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actual view volume extend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this parallelepiped in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must translate and scale so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s from -1 to 1 in each dim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at right maps the view volume into the CVV. This is the one formed by a call t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Ortho(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8320" y="1676520"/>
                <a:ext cx="396216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ultiply i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ressed in homogeneous coordinates), you get the actual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GL submits for clipping and mapping to the view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se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to 0 as in our formulation above. It performs a transformation, not a proj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ltimately does the actual projection by separating of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at the very end, 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onents in screen coordinates for drawing,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for depth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Axon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Is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3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D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305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Planar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Tr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3 principal axes is foreshortened un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33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is sheared to make additional sides visible. Preserves exact shape of one face. (Not suppor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572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rojections depending on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6197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lier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inet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81080" y="3429000"/>
                <a:ext cx="4496040" cy="30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erspe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Planes and Principal Ax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1722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point Projection: exactly one axis has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plane, and the camera is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00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: exactly 2 axes have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axis, usually the y-axis (up)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the x-z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used for drawings of buildings.  The camera is level and is looking at an ed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≤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8229600" cy="3048120"/>
            <a:chOff x="457200" y="1600200"/>
            <a:chExt cx="8229600" cy="30481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822960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 of a plane gr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Projection: all 3 axes have a vanishing point.  None of the compon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  The camera is looking up or down at the corner of an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standing looking at the corner of a rectangular skyscr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21:10:55Z</dcterms:created>
  <dc:creator>Mathematical Sciences</dc:creator>
  <dc:description/>
  <dc:language>en-US</dc:language>
  <cp:lastModifiedBy>umessan</cp:lastModifiedBy>
  <dcterms:modified xsi:type="dcterms:W3CDTF">2006-07-30T22:24:34Z</dcterms:modified>
  <cp:revision>41</cp:revision>
  <dc:subject/>
  <dc:title>Computer Graphics Using   Open-GL  F. S. Hill, Jr.</dc:title>
</cp:coreProperties>
</file>