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9E6-7411-4066-B398-B0315CD3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561-605D-45F5-99BA-40CF18E0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E90-B437-4441-B249-5C0F339C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B31-A0AA-4090-8FD6-1059FA46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5AB-4FB7-4387-9062-E372E76F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D4E-2E38-4F91-8E54-AF3D79B0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643-F94E-4F4B-BDCF-1B7D2B2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8A4-82E4-47B2-8DB7-687FE7B9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B53-B2C3-4DD2-AFDF-96F6AF5E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286-CCC0-4E8F-A49F-F67AA15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69A-88A3-4484-A26E-9B12DA7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3B8-944F-49F2-920F-C8332E5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83C-C106-4AB9-A102-24A457D9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ight is reflected from an object, some of the reflected light reaches our eyes, and we see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some of the light slightly penetrates the surface and is re-radiated uniformly in all directions. The light takes on some fraction of the color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more mirror-like. Light is reflected directly from the object’s outer surface, giving rise to highlights of approximately the same color as the source. The surface looks shi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implest model, specular reflected light has the same color as the incident light. This tends to make the material look like plas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ore complex model, the color of the specular light varies over the highlight, providing a better approximation to the shininess of metal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rfaces produce some combination of diffuse and specular reflection, depending on surface characteristics such as roughness and type of mate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light reflected from the surface in a certain direction is the sum of the diffuse component and the specular compon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urface point of interest, we compute the size of each component that reaches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ed Ligh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Reflected Light: 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not completely physically correct, but it provides fast and relatively good results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of a light is related to its brightness.  We will us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tensity, where s is R or G or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reflected light at point P, we need 3 vectors: norm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urface at P and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sourc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eye. We use world coordin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4114800"/>
            <a:ext cx="38102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of a mesh object has an inside and an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the eye sees only the outside (front, in Open-GL), and we calculate only light reflected from the outsid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ye can see inside, we must also compute reflections from the inside (back, in OpenG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, the eye can see the face and lighting must be calcul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i(GL_LIGHT_MODEL_TWO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S, GL_TRU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lighting for both front and back faces - in case you have open boxes, for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scattering is assumed to be independent of the direction from the poi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the location of the viewer’s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scattering is uniform in all directions, the orientation of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eye is not significan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angle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l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 0, mak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light that illuminates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 on the orientation of the facet relative to the point source: the amount of light is proportional to the area of the facet that it sees: the ar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fac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depends on the projection of the face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mbert's law). Left :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right: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76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ar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ightness varies only slightly with angle, because the cosine changes slowly there. A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brightness falls rapidly to 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co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intensity of the sour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diffuse reflection coefficient and depends on the material the object is made o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Realism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(e.g., plastic, m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 Buffer Hidden Surface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implies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o take all cases into account, we use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 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Spher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minated with Diffuse Ligh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s with reflection coefficients from 0 to 1 by 0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ntensity is 1.0. Background intensity is 0.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ere is totally black when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, and the shadow in its bottom half (wher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 &lt; 0) is also bl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600200"/>
            <a:ext cx="4038480" cy="3581280"/>
            <a:chOff x="4648320" y="1600200"/>
            <a:chExt cx="4038480" cy="35812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48320" y="1600200"/>
              <a:ext cx="403848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ntensity falling on fac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point source is known to decrease as the inverse square of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. We could try to incorporate this is our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show that using this law yields pictures with exaggerated depth eff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we sometimes model light sources as if they lie “at infinity”. Using an inverse square law in such a case would quench the light entire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ignore distance effects in calculating light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objects do not scatter light uniformly in all directions; a specular component is added to the shading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r reflection causes highlights, which can add significantly to realism of a picture when objects are shi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model for specular light was developed by Phong. It is easy to a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lights generated by the Phong model give an object a plastic-like or glass-like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ong model is less successful with objects that are supposed to have a shiny metallic surface, although you can roughly approximate them with OpenGL by careful choices of certain color parame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light reflects at equal angles from the (smooth and/or shiny) surface, along dir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e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8686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. 4, we foun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mirror reflection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rfaces that are not mirrors, the amount of reflected light decreases as the angle φ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ector from reflection point to eye) increa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implified model, we say the intensity decreases as 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φ, where f is chosen experimentally between 1 and 2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f : large f values give concentrated highlights; smaller ones give larger dimmer high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2392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φ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ular reflection coefficient, which depends on the materia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, there is no reflected specular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0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ing up Calculations for Specular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alfway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ngle β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ximately measures the falloff of intensity. To take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rrors, we u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 valu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581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how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h objects, manipulate a jib camera, view objects, and make pi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want to make these objects look visually interesting, realistic, or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develop method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icture of the objects of interes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each pixel of a picture should l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75, 0.5, 0.25.  From left to right, f = 3, 6, 9, 25, 20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5410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esire for a simple reflection model leaves us with far from perfect renderings of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hadows appear to be unrealistically deep and har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ften these shadows, we can add a third light component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enes we observe around us always seem to be bathed in some soft non-directional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ght arrives by multiple reflections from various objects in the surroundings and from light sources that populate the environment, such as light coming through a window, fluorescent lamps, and the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ssume a uniform background glow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in the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mbient light source is not situated at any particular place, and it spreads in all directions uniform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s assigned an intensit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in the model is assigned a value for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reflec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ften this is the same as the diffuse reflection coefficient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ply added to whatever diffuse and specular light is reaching the eye from each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at 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ually arrived at experimentally, by trying various values and seeing what looks b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mbient Light to Diffuse 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use and ambient sources have intensity 1.0, and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.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0.1, 0.3, 0.5, 0.7 (left to righ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t ambient light softens shadows; too much ambient light washes out shad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6781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mbert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phon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ert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 and Phong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color, we use 3 separate total intensities like that above, one each for Red, Green, and Blue, which combine to give any desired color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y the light sources have three types of color: ambient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diffuse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d specular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he diffuse light and the specular light have the same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for R, G, and B, so specular light is the color of the ligh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’s color (in white light) is specified by 9 coefficients (ambient and diffuse are color of objec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reflection coefficients: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lor of a sphere is 30% red, 45% green, and 25% blue, it makes sense to set its ambient and diffuse reflection coefficients to (0.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2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ively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ome scaling value that determines the overall fraction of incident light that is reflected from the 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it is bathed in white light having equal amounts of red, green, and b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 individual diffuse components have intensit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4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as expected we see a color that is 30% red, 45% green, and 25%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sphere has ambient and diffuse reflection coefficients (0.8, 0.2, 0.1), so it appears mostly red when bathed in white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lluminate it with a greenish ligh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.15, 0.7, 0.1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lected light is then given by (0.12, 0.14, 0.015), which is a fairly even mix of red and green, and would appear yellow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  = 0.8 x 0.15, 0.14 = 0.2 x 0.7, 0.015 = 0.1 x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specular light is mirror-like, the color of the specular component is often the same as that of the light sour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the specular highlight seen on a glossy red apple when illuminated by a yellow light is yellow rather than 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reate specular highlights for a plastic-like surface, set the specular reflection coeffici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o that the reflection coefficients are ‘gray’ in nature and do not alter the color of the incident lig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signer might choos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 for a slightly shiny plastic surface, or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9 for a highly shiny su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rendering is based on differ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describe how light from light sources interacts with objects in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ractical to simulate all of the physical principles of light scattering and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approximate models have been invented that do a good job and produce various levels of re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f values for various materials for ambient, diffuse, and specular light is given in Fig. 8.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heres of different materials (mostly metallic, but one jade at bottom center) are shown at right (Fig. 8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48320" y="2362320"/>
            <a:ext cx="40384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is applied to a vertex at the point in the pipeline where the projection matrix is applied.  We specify a normal and a position for each ve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8534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Normal3f (norm[i].x, norm[i].y, norm[i].z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ies a normal for each vertex that follow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view matrix transforms both vertices and normal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 latter by  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pose of the inverse matrix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s of lights are also trans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 color is applied to each vertex, the perspective transformation is applied, and clipping is do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ping may create new vertices which need to have colors attached, usually by linear interpolation of initial vertex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w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40% of the wa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lor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lend of 6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4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r at poin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ices are finally passed through the viewport transformation where they are mapped into screen coordinates (along with pseudodepth, which now varies between 0 and 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drilateral is then rendered (with hidden surface remov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s are given a number in [0, 7]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_LIGHT_0, GL_LIGHT_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ight has a position specified in homogeneous coordinates us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named, for exampl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te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s created us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POSITION, liteP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sition is a vector (4th component = 0), the source is infinitely remote (like the s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 and Vector Light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local source at (0, 3, 3, 1) and a remote source “located” along vector (3, 3, 0,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ly remote light sources are often calle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 There are computational advantages to using directional light sources, since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alculations of diffuse and specular reflection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vertices in the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irectional light sources are not always the correct choice: some visual effects are properly achieved only when a light source is close to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3657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a 4-component array [R, G, B, A]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med (e.g.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A value can be set to 1.0 for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 (GL_LIGHT_0, GL_AMBIENT, amb0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ilar statements specif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DIFF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SPE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s do not work unless you turn them 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main program, add the statemen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able (GL_LIGHTING); glEnable (GL_LIGHT_0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using other lights, you will need to enable them 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off a light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_0)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them all off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ING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n Entir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amb0[ ] = {0.2, 0.4, 0.6, 1.0}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define som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diff0[ ] = {0.8, 0.9, 0.5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spec0[ ] = { 1.0, 0.8, 1.0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AMBIENT, amb0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attach them to LIGHT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DIFFUSE, diff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SPECULAR, spec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: deciding how a pixel shoul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wireframe (left) to wire-frame with hidden surface removal (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0532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mbient light is present even if no lights are created. Its default color is {0.2, 0.2, 0.2, 1.0}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his value, creat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valu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amb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se the statemen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fv (GL_LIGHT_MODEL_AMBIENT, newambien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light values are {0, 0, 0, 1} for ambient for all lights, {1, 1, 1, 1} for diffuse and specular f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_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{0, 0, 0, 1} for all other l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otlight emits light only in a cone of directions; there is no light outside the cone. Inside the cone, 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s β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cos 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line from the sourc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114800" y="4010040"/>
            <a:ext cx="4191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the spotlight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fault valu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0, 0, 0, 1}, α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ε = 0: a point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 the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CUTOFF, 45.0); (45.0 is α in degre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EXPONENT, 4.0); (4.0 is 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SPOT_DIRECTION, 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lso allows you to specify how rapidly light diminishes with distance from a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ttenuates the strength of a positional light source by the following attenuation facto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efficient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stance between the light’s position and the vertex in ques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3200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arameters are controlled by function c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(GL_LIGHT0, GL_CONSTANT_ATTENUATION, 2.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imilarly fo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LINEAR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QUADRATIC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valu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 (no attenua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lor of global ambient l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fy its color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float amb[ ] = {0.2, 0.3, 0.1, 1.0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fv(GL_LIGHT_MODEL_AMBIENT, amb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 the viewpoint local or remot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nGL computes specular reflections using the “halfway vector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. The true direction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normally different at each vertex in a mesh. OpenGL u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0, 0, 1), along the positive z-axis, to increase rendering speed. To use the true valu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each vertex, exec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i(GL_LIGHT_MODEL_LOCAL_VIEWER, GL_TRU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both sides of a polygon shaded properl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polygonal face in a model has two sides. When modeling, we tend to think of them as the “inside” and “outside” surfaces. The convention is to list the vertices of a face in counter-clockwise (CCW) order as seen from outside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has no notion of inside and outside. It can only distinguish between “front faces” and “back faces”. A fac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 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vertices are listed in counter-clockwise (CCW) order as seen by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ace-enclosing object (a) all visible faces are front faces; OpenGL draws them properly with the correct sha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box has a face removed (b), OpenGL does not shade back faces properly. To force OpenGL to shade back faces,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Modeli(GL_LIGHT_MODEL_TWO_SIDE, GL_TRUE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reverses the normal vectors of any back-face and performs shading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default) to turn off this facil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24280" y="4343400"/>
            <a:ext cx="4114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Light Sources in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a light source independently of the cam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its position arr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he color and depth buff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modelview matrix to use for everything except the light source and pus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light source and set its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camera, and draw the obj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: Independent Motion of 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oid displ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  GLfloat position[ ] = {2, 1, 3, 1}; //initial l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lear color and depth buff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Rotated(...);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Translated(...);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move th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fv(GL_LIGHT0, GL_POSITION, posi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LookAt(...); // set the camer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.. draw the object ..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SwapBuffers(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mesh objects drawn using wire-frame, flat shading, smooth (Gouraud) sh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5715000" cy="3368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2732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: Light Moves with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pos[ ] = {0,0,0,1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(GL_LIGHT0, GL_POSITION, position); // light at (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LookAt(...); // move light and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/ draw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images with specular highlights, shadows,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84292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793960" cy="312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69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o start with that light has no color, only brightness: R = G =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we also have a point source of light (sun or lamp) and general ambient light, which doesn't come directly from a source, but through windows or scattered by the 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light comes equally from all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source light comes from a singl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ght hits an object, some light is absorbed (and turns into heat), some is reflected, and some may penetrate the interior (e.g., of a clear glass objec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absorbed, the object appears black and is called a black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transmitted, the object is visible only through refraction (Ch. 12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0T22:42:45Z</dcterms:modified>
  <cp:revision>26</cp:revision>
  <dc:subject/>
  <dc:title>Computer Graphics Using   Open-GL  F. S. Hill, Jr</dc:title>
</cp:coreProperties>
</file>