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74C-F8E2-4A1A-9226-D466812D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8BC-3DBD-490B-BDBD-DD8FDCE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971-92B2-4D09-B5BB-F4A82C72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C6F-243C-46BF-9216-620AC218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1C5-1E34-4009-A10D-67178D0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93B-09D8-44E2-8302-130689A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161-D751-4F47-89A6-D5334022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DA2-CBA7-43A5-A2F9-A16598C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2F6-369F-4EB0-832F-F3A8576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C46-F1CD-494A-B4AC-50FB614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6D9-598D-4E1D-A4D1-56B7DF8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048-2FB1-40C0-BD4E-94B1FD0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C215-A161-4ED9-BD1D-E4AF2B97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2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nvex polygon, screen pixels are colored from bottom to top and left to right across the poly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play actu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from to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, but 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t as wo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e polygon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illing only convex polygons can be made highly efficient, since at each scan-line there is a single unbroken run of pixels inside the polyg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lementations of OpenGL exploit this and always fill convex polygons correctly, but do not guarantee to 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x polygons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n example where the face is a convex quadrilater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434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reen coordinates of each vertex are noted. The lowest and highest points on the fac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first fills in the row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this case a single pixel), then the one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can-line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gure, there is a lef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righ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moves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cing the desired color in each pixel. So the tiler is implemented as a simple double loop, looking in pseudo code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: Tile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y = ybott; y &lt;= ytop; y++)      // for each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ind xleft and xr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x = xleft; x &lt;= xright; x++)// for each relevant  pixel across this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find the color c for this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put c into the pixel at (x, 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urface removal is also easily accomplished within this double lo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Flat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alculate the correct color c for each pixel from the vertex co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Shading: Use the same color for every pixel in a face - usually the color of the first vert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800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s appear more pronounced than they would on a real object because of a phenomenon in the eye known as lateral inhib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ontinuity in intensity across a boundary causes the eye to manufacture a Mach band (named after the discoverer, Ernst Mach); edges are shar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 implements this type of coloring using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FLA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highlights are rendered poorly with flat sh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happens to be a large specular component at the representative vertex, that brightness is drawn uniformly over the entire 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pecular highlight doesn’t fall on the representative point, it is missed entir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(Gouraud) Sh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de-emphasize edges between fa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410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shading uses linear interpolation of colors between ver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t left edge (or right edge) is linear interpolation between colors at top and bottom of left (right) edge (interpolation in 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has color c4 and bottom has color c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s color c2 = lerp (c1, c4, f), where f =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color c3 at the right edge is a linear interpolation of the top and bottom colors of the right 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long a scanline is a linear interpolation (in x) of colors at left (c2) and right (c3) e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must be made separately for R, G, and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is defined by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 for each of the R, G, B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8.17 contains a table of coefficients for various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your own material properties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y of reflectiv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e each for R, G, and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A reflectivity to 1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for faster execution, the incremental difference in the color between 2 adjacent pixels in the line is calculated and used across the line: cdiff = (c3 – c2)/(x3 - x2), and c(x+1) = c(x) + cdi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implements this coloring wit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SMOOT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 edges disappear with this techniqu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ndering F,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used, and when rendering F’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 ar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 there is no abrupt change in color at the edge along the scanline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calculated using normals that are found by averaging the face normals of all the faces that abut the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olors are formed by interpolating rather than computing colors at every pixel, Gouraud shading does not render highlight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good, but very time-consuming!  Takes 6 to 8 times longer than Gouraud sh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mplemented by OpenG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s to 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and use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d val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l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3075120"/>
            <a:ext cx="35812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g interpolation for normal vectors simply substitutes the 3 components of a normal vector for the 3 components of a color in the Gouraud inter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of Phong and Gouraud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aud (left) and Phong (right): notice presence of specular reflection in Phong 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6828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r's Algorithm: uses depth buffer to remove hidden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limit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quires a large amount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ften renders an object that is later obscured by a nearer object (so time spent rendering the first object is was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depth buffer associated with the frame buffer. For every pix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n the display the depth buffer stor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quant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in the range of 12 to 30 b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endering, depth buffer contains pseudodepth of closest object encountered so far at pixel (i, 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5791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tiler proceeds pixel by pixel across a scan-line filling the current face, it tests whether the pseudodepth of the current face is less than the dep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stored in the depth buffer at that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the color of the closer surface replaces the col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and this smaller pseudodepth replaces the old valu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s can be drawn in any order. If a remote face is drawn first, the color of some of the pixels in the face will later be replaced by the colors of a nearer f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is algorithm works for objects of any shape including curved surfaces, because it finds the closest surface based on a point-by-point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Materialfv (arg1, arg2, array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1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, GL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_AND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2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DIFFUSE, GL_AMBIENT, GL_SPECULAR, GL_AMBIENT_AND_DIFFUS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GL_E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E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rface may be emissive (glow) like the sun. We give it an intensity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4 values for the emissive color. Th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dded to the other light int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depth buffer to 1.0 and frame buffer to background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rendering the scene (drawing the pixels of the face), if the face ha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 &gt; d(i, j), do not draw it (it is hidden).  Or else draw it and set d(i, j) =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depth d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onent of a projected point: (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)/(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a and b are chosen so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d ≤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peed, pseudodepth d may be calculated by interpo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343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and Hidden Surface 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supports a depth buffer and uses the algorithm described to do hidden surface remo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struct OpenGL to create a depth buffer when it initializes the display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InitDisplayMode(GLUT_DEPTH | GLUT_RG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able depth test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Enable(GL_DEPTH_TE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ach time a new picture is to be created the depth buffer must be initialized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Clear(GL_COLOR_BUFFER_BIT | GL_DEPTH_BUFFER_BIT); // clea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surfaces look more realistic: e.g., brick texture or wood text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ure is painted on or wrapped around surfa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3679920"/>
            <a:ext cx="55627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 is a function tex (s, t) which sets a color or intensity value for each value of s and t between 0 and 1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function tex is between 0 and 1 (dark and l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mage texture (left) and procedural texture 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96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al Tex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the procedural texture shown, we implement the following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fakeSphere (float s, float t)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r = sqrt((s - 0.5)*(s - 0.5) + (t - 0.5)*(t - 0.5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(r &gt; 0.3) return 1 - r/0.3; else return 0.2; }// 0.2 is th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varies from white at center to black at edges of 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unction that can be computed for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provide a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 are often formed from bitmap representations of images (such as a digitized photo, digital camera image, clip art, or an image previously generated in some program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 texture consists of a 2D array, say txtr[r][c], of color values (often calle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el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textures usually have integer coordinates. They are transformed into values between 0 and 1 by dividing by the size of the image: s = x/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= y/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value tex of a texture image is transformed to values between 0 and 1 by dividing by the maximum value in the image: tex = c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ode: Given a texture imag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xtr [c][r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ere c is column number and r is row number) we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lor3 tex (float s, float t) {return txtr [(int) s*C] [(int) t*R];}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 and R are the maximum number of columns and 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dds together the contributions of emissive sources, ambient light, and light from sources to find the total light in a scene for each of red, green, and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ibutions from each light (spot or regular) are calculated separately before ad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allow the total light intensity to be more than 1.0; it is set to 1.0 if the sum exceeds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an be used in a variety of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color of the face itself as if the face were glowin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ambient, diffuse, or specular reflection coefficients to modulate the amount of light reflected from the 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to alter the normal vector to the surface to give the object a bumpy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Texel to Screen Pi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exture function in hand, the next step is to map it properly onto the desired surface, and then to view it with a ca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texture is mapped onto two different objects: a planar polygon and a cyl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6197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exel to Screen Pix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object, there is some transformation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texture to world) that maps textu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lues to point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the object’s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mera takes a snapshot of the scene from some angle, producing the view shown. We call the transformation from points in 3D to points on the scr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world to screen), so a poi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a surface is seen at pixel loc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 on the texture finally arrives at pixel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Screen Pixel to Te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ndering process actually goes the other way: for each pixel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re is a sequence of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losest surface seen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 To answer this requires solving the hidden surface removal problem, at least for this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this surface do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texture coordinate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oes this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need the inverse transformation, something lik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, that repor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ordinates given pixel coordinates. This inverse transformation can be hard to obtain or easy to obtain, depending on the surface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examine the most important case: mapping texture onto a flat surface. This is a modeling ta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7724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associate points on the flat surface with points in the texture. We do so by assigning a texture coordinate to each vertex. In OpenG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Begin(GL_QUADS); // define a quadrilateral and position textur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0); glVertex3f(1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6); glVertex3f(1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6); glVertex3f(2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0); glVertex3f(2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d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s,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s the current texture coordinates to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y are attached to subsequently defined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each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ceded by a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using each vertex to get a new pair of texture coordin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prescribing a polyg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xture space that has the same number of vertices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e same shap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ell; then the portion of the texture that lies ins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ted without distortion onto the whol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he same shape the mapping is clearly affine; it is a scaling, possibly accompanied by a rotation and a trans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a common case where the four corners of a texture rectangle are associated with the four corners of a face in the 3D scene. (The texture coordinat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sociated with each corner are noted on the 3D fac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39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ample, the texture is a 640 by 480 pixel bitmap, and it is pasted onto a rectangle with aspect ratio 640/480, so it appears without distor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 texture coordinat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ill vary from 0 t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ight x y z R G B ! Gets next unused light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ackground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obalAmbient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mbient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ffuse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: R = G = B us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Exponent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missive R G B !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enable ligh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particular light(s) in your mai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the use of texture coordinate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exture, making it rep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010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 and t values that are larger than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 value of 2.67, for example, causes the renderer to use s = 0.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is the current number of repeats of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t values are sent down the graphics pipeline along with each vertex of the f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ectangle is larger than the texture, OpenGL automatically tiles, although you may choose to clamp the texture (stretch it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h objects have 3 lists: vertex, normal, face. Add a list of textur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ure coordinate list stores the coordinate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be associated with various vertices. We add an array of elements, each of which has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 TxtrCoord { public: float s, t;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all of the coordinate pairs of interest for the me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different ways to treat texture for an object. The two most importa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mesh object consists of a small number of flat faces, and a different texture is to be applied to each face. Here each face has only a single normal vector but its own list of texture coordinates. So the data associated with each face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ex of the normal vector to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texture coordina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mesh represents a smooth underlying object, and a single texture is to be wrapped around it (or a portion of it). Here each vertex has associated with it a specific normal vector and a particular texture coordinate pair. A single index into the vertex, normal, and texture lists is used for each vertex. The data associated with each face would the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 3 4 5 .8 .8 .8 ! bright white light at (3, 4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ckground 1 1 1 ! whit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obalAmbient .2 .2 .2 ! a dark gray global ambien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bient .2 .6 0 !material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use .8 .2. 1 ! r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ular 1 1 1 ! bright specular spots – the color of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onent 20 !set the Phong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 4 4 4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aterial properties are loaded into each object’s mtrl field at the time it is created (see the end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ene :: getObjec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ource examp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.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ppendix 3 and onli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draws itself using i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awOpen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, it first passes its material properties to OpenGL (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:: tellMaterials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o that at the moment it is actually drawn OpenGL has these properties in its curren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Calculating the Color for Each Screen 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objects, we want to see the faces (e.g., the barn); for others, we want to see the underlying surface (e.g., the tor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should appear as a separate surface (barn), we attach the same normal to all its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approximates an underlying surface (torus), we attach the normal to the underlying surface at each vert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s determine the shading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shading emphasizes individual polygons (bar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(Gouraud or Phong) shading emphasizes the underlying surface (tor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kinds of shading, the vertices are passed down the graphics pipeline, shading calculations attach a color to each vertex, and ultimately the vertices are converted to screen coordinates and the face is painted pixel by pixel with the appropriat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1T00:45:02Z</dcterms:modified>
  <cp:revision>25</cp:revision>
  <dc:subject/>
  <dc:title>Computer Graphics Using   Open-GL  F. S. Hill, Jr</dc:title>
</cp:coreProperties>
</file>