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AMERA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83F9-40C3-4540-B312-53CC6E5AC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A78D-14FD-420F-A468-E1434184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AE49-18F2-426C-8764-F9BB559DF9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88BF-30C2-4517-B64F-33E7AB85B47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B7A5-C07D-493F-B502-3E244930030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BE46-9D5B-4FEE-8B9C-42692318973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2214-8504-4955-AC36-7D45760B61C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2EB1-C0D4-4810-8767-14C12D02BDC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407E-1183-442E-947F-959302223D2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DF5B-A912-4A03-8E0C-C74ADCD4746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945D-9F23-4920-A0F6-76193DDEC60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B224-392F-4618-8F50-32EB75889DD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CF81-6EA8-4F7D-972E-6A8DE6F70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75D7-9981-41FC-A9AC-D643CE43CB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D97-9FBD-4E9F-8209-F3C342D8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104-F600-4021-B9C1-A63E2890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8C1-C208-427F-A2AD-8C765FF7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9DF-8DEA-4995-90E6-6006A39C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FC6-56E3-4806-8B63-C47FA463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4E8-7809-4BDF-8A70-1571A6B7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20D-1F5C-4E14-A68C-8ED91405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EBB-9900-4FE2-89A9-7881F44D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B0F-AA30-4CD2-80DC-7B95AC2B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EFD-A4BB-4722-AD28-E902C90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337-B66B-4935-A5D5-80405FD9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1E1-B9BB-4CC8-A68F-EA056802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D20F-F071-4E01-835E-757DE8EFA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gmu.edu/~jchen/graphics/setup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clipse.org/downloads/" TargetMode="External"/><Relationship Id="rId2" Type="http://schemas.openxmlformats.org/officeDocument/2006/relationships/hyperlink" Target="http://jogamp.org/wiki/index.php/Downloading_and_installing_JOGL#Downloading_the_latest_stable_version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gmu.edu/~jchen/graphics/jogl/notes/joglSetup.html" TargetMode="External"/><Relationship Id="rId2" Type="http://schemas.openxmlformats.org/officeDocument/2006/relationships/hyperlink" Target="http://www.cs.gmu.edu/~jchen/graphics/jogl/notes/jogl-1.1.0-macosx-ppc.zip" TargetMode="External"/><Relationship Id="rId3" Type="http://schemas.openxmlformats.org/officeDocument/2006/relationships/hyperlink" Target="http://www.cs.gmu.edu/~jchen/graphics/jogl/notes/jogl-1.1.0-macosx-universal.zip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jogamp.org/" TargetMode="External"/><Relationship Id="rId2" Type="http://schemas.openxmlformats.org/officeDocument/2006/relationships/hyperlink" Target="http://jogamp.org/wiki/index.php/Jogl_Tutoria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pplication_programming_interface" TargetMode="External"/><Relationship Id="rId2" Type="http://schemas.openxmlformats.org/officeDocument/2006/relationships/hyperlink" Target="http://en.wikipedia.org/wiki/OpenG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eterogeneous_computing" TargetMode="External"/><Relationship Id="rId2" Type="http://schemas.openxmlformats.org/officeDocument/2006/relationships/hyperlink" Target="http://en.wikipedia.org/wiki/Central_processing_unit" TargetMode="External"/><Relationship Id="rId3" Type="http://schemas.openxmlformats.org/officeDocument/2006/relationships/hyperlink" Target="http://en.wikipedia.org/wiki/Graphics_processing_unit" TargetMode="External"/><Relationship Id="rId4" Type="http://schemas.openxmlformats.org/officeDocument/2006/relationships/hyperlink" Target="http://en.wikipedia.org/wiki/Digital_signal_processor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0E70-DC40-4C15-A2A2-3C5706982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72"/>
          <p:cNvGrpSpPr/>
          <p:nvPr/>
        </p:nvGrpSpPr>
        <p:grpSpPr>
          <a:xfrm>
            <a:off x="2359800" y="3124080"/>
            <a:ext cx="4440240" cy="1261440"/>
            <a:chOff x="2359800" y="3124080"/>
            <a:chExt cx="4440240" cy="1261440"/>
          </a:xfrm>
        </p:grpSpPr>
        <p:sp>
          <p:nvSpPr>
            <p:cNvPr id="51" name="Rectangle 43"/>
            <p:cNvSpPr/>
            <p:nvPr/>
          </p:nvSpPr>
          <p:spPr>
            <a:xfrm>
              <a:off x="3091320" y="3124080"/>
              <a:ext cx="294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fessor Jim X. C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4"/>
            <p:cNvSpPr/>
            <p:nvPr/>
          </p:nvSpPr>
          <p:spPr>
            <a:xfrm>
              <a:off x="2359800" y="3423600"/>
              <a:ext cx="44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partment of Computer Sci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5"/>
            <p:cNvSpPr/>
            <p:nvPr/>
          </p:nvSpPr>
          <p:spPr>
            <a:xfrm>
              <a:off x="2856240" y="3721680"/>
              <a:ext cx="333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orge Mason Univers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46"/>
            <p:cNvSpPr/>
            <p:nvPr/>
          </p:nvSpPr>
          <p:spPr>
            <a:xfrm>
              <a:off x="3341160" y="4019400"/>
              <a:ext cx="239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airfax, VA 220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WordArt 71"/>
          <p:cNvSpPr txBox="1"/>
          <p:nvPr/>
        </p:nvSpPr>
        <p:spPr>
          <a:xfrm>
            <a:off x="762120" y="1371600"/>
            <a:ext cx="7391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et up OpenGL Programming Environment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Jim X. Chen, Ph.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Director of Computer Graphics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George Ma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1828800" y="2133720"/>
            <a:ext cx="59054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mputer Graphics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48DA-FD11-445B-9F30-E13E927B5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. Scott Gordon and John L. Clevenger, Computer Graphics Programming in OpenGL with Java, January 201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Jim. X Chen and Chunyang Chen,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  <a:ea typeface="SimSun"/>
              </a:rPr>
              <a:t>Foundations of 3D Graphics Programm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Springer Verlag, Second Edi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Jim. X Chen,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  <a:ea typeface="SimSun"/>
              </a:rPr>
              <a:t>Guide to 3D Graphics Too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Second Edition, Springer Verlag, companion in C with a survey of graphics too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ason Woo, Jackie Neider, and Tom Davi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SimSun"/>
              </a:rPr>
              <a:t>OpenGL Programming Gu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Addison Wesley. Programming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James D. Foley, Andries van Dam, Steven K. Feiner and John F. Hughe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SimSun"/>
              </a:rPr>
              <a:t>Computer Graphics: Principles and Pract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Addison Wesley. Detailed theory in dep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onald Hearn and M. Pauline Baker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SimSun"/>
              </a:rPr>
              <a:t>Computer Graph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Printice-Hall. Easy to read textbook for undergraduates. Contains more than enoug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752480" y="1066680"/>
            <a:ext cx="5600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1CDD-4760-4706-9357-5EFA31E11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SimSun"/>
              </a:rPr>
              <a:t>Objectives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ntroduce basic graphics concep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bject, model, image, graphics library, frame buffer, scan-conversion, clipping, and anti-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et up OpenGL programm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Understand simple OpenGL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1676520" y="914400"/>
            <a:ext cx="56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bjects and Model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AC47-3F0C-4A9C-920F-F4EAE385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Computer Graph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1532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C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displays or animates real or imagin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o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from their computer-ba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mod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Mode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creating and modifying 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image proce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treats the inverse process: the analysis of images, pattern recognition, or the reconstruction of 2D or 3D objects from ima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8650-2FF9-4A1D-8A0D-DC6E1CE92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143000" y="1981080"/>
            <a:ext cx="9907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666880" y="1981080"/>
            <a:ext cx="9907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781680" y="1981080"/>
            <a:ext cx="106704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95680" y="1981080"/>
            <a:ext cx="152424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y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22400" y="1600200"/>
            <a:ext cx="766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graphic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a drawing area comprised of an array of fine points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pix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(picture element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t the heart of a graphics system there is 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magic 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ove at lightning speed to a specific pix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raw the pixel with a specific color — a red, green, and blue (RGB) vector val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mputer graphics is about using this pen automatically through programm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9907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7CD0-48CB-4D33-913F-67B748B4A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real or imaginar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represented in a computer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and is displayed a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  <a:ea typeface="SimSun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an abstract description of the object’s shape (vertices) and attributes (color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which can be used to find all the points on the object corresponding to the pixels in the drawing are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a model, the application program will control the pen through a graphics library to generate the corresponding im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n 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  <a:ea typeface="SimSun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simply a 2D array of pixe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87240" y="7621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bject, Model, and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3ECA-4D1F-4D58-B506-880E99CF8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162920" y="762120"/>
            <a:ext cx="106668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8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8153280" y="57913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825A-657B-4F06-AFAD-263583989DF3}" type="slidenum"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990720" y="2209680"/>
            <a:ext cx="69357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ser controls the creation, modification, and animation of the models through input devices (keyboard &amp; mo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3657600" y="3962520"/>
            <a:ext cx="152388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838080" y="11430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Inter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F72C-3C12-4AB0-A5B5-0626E0A3C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  <a:ea typeface="SimSun"/>
              </a:rPr>
              <a:t>graphics 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rovides a set of graphics commands or fun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oun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or other programming languages on different platfor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specify primitive 2D and 3D geometric models to be digitized and display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  <a:ea typeface="SimSun"/>
              </a:rPr>
              <a:t>Primitive 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r simply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primi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tand for some simple shapes (such as points, lines, and polygo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OpenG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a graphics library; 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  <a:ea typeface="SimSun"/>
              </a:rPr>
              <a:t>Direct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ncludes a graphics library 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  <a:ea typeface="SimSun"/>
              </a:rPr>
              <a:t>Direct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85800" y="762120"/>
            <a:ext cx="47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Primitive and Graphics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3A1B-9581-40CD-89E4-C9F2967CA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943600" y="533520"/>
            <a:ext cx="1523880" cy="82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mitive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penGL is the most widely used graphics library (GL) or application programming interface (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SimSun"/>
              </a:rPr>
              <a:t>AP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mpile and run Examp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J1_0_Point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o change the font size in Eclipes: Window-&gt;Preferences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eneral-&gt;Colors and Fonts-&gt;Basic-&gt;Text Font, then selec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inks to all the example programs, and setting up working environments on different platfor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ff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Courier New"/>
                <a:ea typeface="SimSun"/>
              </a:rPr>
              <a:t>http://www.cs.gmu.edu/~jchen/graphic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838080"/>
            <a:ext cx="7162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33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SimSun"/>
              </a:rPr>
              <a:t>Old OpenGL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2551-86FB-49F1-8707-DB21C31EE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37268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Set up working environ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mpile and run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JOGL1_0_Frame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001"/>
              </a:spcBef>
              <a:spcAft>
                <a:spcPts val="10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SimSun"/>
              </a:rPr>
              <a:t>For effici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under Run-&gt;Run configurations, select application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JOGL1_0_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Select Arguments folder 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under “VM arguments: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jogamp.gluegen.UseTempJarCache=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sun.java2d.d3d=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588960"/>
            <a:ext cx="7162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33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SimSun"/>
              </a:rPr>
              <a:t>OpenGL 4.x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87D1-D6FD-4F9B-8182-5BAA5DA5B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https://www.khronos.org/opengl/wiki_opengl/images/RenderingPipeline.png"/>
          <p:cNvPicPr/>
          <p:nvPr/>
        </p:nvPicPr>
        <p:blipFill>
          <a:blip r:embed="rId1"/>
          <a:stretch/>
        </p:blipFill>
        <p:spPr>
          <a:xfrm>
            <a:off x="6172200" y="1219320"/>
            <a:ext cx="21002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E67D-38E4-4932-98C6-7421F7098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tting Up Working Environ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JOG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cs.gmu.edu/~jchen/graphics/setup.htm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sall JD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stall Java first; download JDK and install Java JDK (32 or 64 bits, consistent with IDE and JO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ing a Java 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clip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GRASP, Netbeans, or JBuil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ing JOGL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1554120" y="4038480"/>
            <a:ext cx="7167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khronos.org/opengl/wiki/History_of_OpenGL#Deprecation_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GL has evolved over the years dramatically, but the graphics theory remai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learn the theory and use the new OpenGL platform to exercise for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D249-836D-4FF9-8D9D-2DB7B7B4E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80880" y="1143000"/>
            <a:ext cx="8382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Set up your programming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(due before next cla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Set up your programming environment, and run the first sample program that draws a point (or randomly generated point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If you failed, schedule a time to come to my office or bring your computer to the next cla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SimSun"/>
              </a:rPr>
              <a:t>You don’t have to let me know if you succeed in setting up your working environ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You have to let me know if you cannot get the sample programs to run within a week. Please come to my office during my office hours or make an appointment with me or my 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256C-F682-41CE-9070-2AF8DB99E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: Eclipse simplified JOGL 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Eclipse for Ja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eclipse.org/downloads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the new JOGL libraries that matches your platfor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jogamp.org/wiki/index.php/Downloading_and_installing_JOGL#Downloading_the_latest_stable_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the following two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ogamp-all-platforms.7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ogl-javadoc.7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simplified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 Eclipse using a working directory other than the sample programs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project corresponding to the directory: cs551 (or whatever you want to ca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Unzip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gamp-all-platforms.7z and jogl-javadoc.7z into this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In Eclipse under “Project-&gt;Properties-&gt;</a:t>
            </a: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SimSu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SimSun"/>
              </a:rPr>
              <a:t>(Java Build Path) -&gt;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Libraries”, you can use “Add External JARs” to add “gluegen-rt.jar” and “jogl-all.jar” under cs552/jogamp-all-platforms/jar/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Click the triangle at the beginning of “gluegen-rt.jar” and “jogl-all.jar”; you have Native library location; add the directory of “cs552/jogamp-all-platforms/lib/windows-xxx/”, which allows access to the “*.dll” fil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Click the triangle at the beginning of “jogl-all.jar”; you have Javadoc location; add the directory of “cs552/jogamp-all-platforms/jogl/javadoc/”, which allows JOGL commands’ tool tips in Eclip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 a sample JOGL 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default you may create a directory “src” under cs551, and put the first sample program from the new textbook he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eclipse you can click on the project cs551, and find src and under default pack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8C0D-D8D4-405C-AB09-22FA5C996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ample joglExamples20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cli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load the old examples and unzip them: joglExamples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 Eclipse using a working directory other than the sample programs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project corresponding to the directory: joglExamples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13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Under “Project-&gt;Properties-&gt;</a:t>
            </a: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SimSu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SimSun"/>
              </a:rPr>
              <a:t>(Java Build Path) -&gt;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Libraries”, you can use “Add External JARs” to add “gluegen-rt.jar.jar” and “jogl.jar” under “joglExamples2013/jogl-1.1.1-windows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Click the triangle at the beginning of “gluegen-rt.jar” and “jogl.jar”, you have Native Library Location, add the directory of your “*.jar” files, which allows access to the “*.dll” fil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the two dead "*.jar" file names if you see them. They are created when I compile my program under my specific directo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jGR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project under "Settings-&gt;PATH/CLASSPATH-&gt;Workspace", you can add the directory of the “*.dll” files to the system PATH window, and add "*.jar" files with full path to the CLASSPATH windo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12FC-4740-49E5-84FF-25AEE6DC7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OS (Obselet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cs.gmu.edu/~jchen/graphics/jogl/notes/joglSetup.htm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load Eclips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Download Mac OS X: *.jar and *.jnili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which are packaged in the jar file: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SimSun"/>
                <a:hlinkClick r:id="rId2"/>
              </a:rPr>
              <a:t>jogl-1.1.1a-macosx-ppc.zi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jogl-1.1.1a-macosx-universal.z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pending on your platfor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Copy all downloaded files into directory  /System/Library/Java/Extensions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Download the examples and unzip them: joglExamples20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Start Eclipse, create a project corresponding to the directory: joglExamples20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In eclipse, you can add "*.jar" (the two file names) under "Project-&gt;Properties-&gt;Libraries". Remove the two dead "*.jar" file names if you see them. They are created when I compile my program under my specific directory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Try the examples. They should run from he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B8E1-BFB1-4082-872C-679738141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jogamp.org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GL’s new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jogamp.org/wiki/index.php/Jogl_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follow this page for the la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A3DA-D77A-4C7D-AE5E-93722F587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i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rary) is a cross-platform audio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application programming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PI). It is designed for efficient rendering of multichannel three dimensional positional audio. Its API style and conventions deliberately resemble those of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OpenG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CFD7-591A-4CFC-AD17-464050893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Computing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C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framework for writing programs that execute across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tforms consisting of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central processing un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PUs),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graphics processing un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GPUs), digital signal processors (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DS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other processo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0E8A-3A26-4EEB-99EA-59AC30D2C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9T20:02:11Z</dcterms:created>
  <dc:creator>Prof. Jim X. Chen</dc:creator>
  <dc:description/>
  <dc:language>en-US</dc:language>
  <cp:lastModifiedBy>user</cp:lastModifiedBy>
  <dcterms:modified xsi:type="dcterms:W3CDTF">2017-09-06T20:21:21Z</dcterms:modified>
  <cp:revision>118</cp:revision>
  <dc:subject/>
  <dc:title>Setup OpenGL Programming Environment</dc:title>
</cp:coreProperties>
</file>