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8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88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3.png" ContentType="image/png"/>
  <Override PartName="/ppt/media/image52.jpeg" ContentType="image/jpeg"/>
  <Override PartName="/ppt/media/image13.png" ContentType="image/png"/>
  <Override PartName="/ppt/media/image1.png" ContentType="image/png"/>
  <Override PartName="/ppt/media/image51.png" ContentType="image/png"/>
  <Override PartName="/ppt/media/image50.png" ContentType="image/png"/>
  <Override PartName="/ppt/media/image48.jpeg" ContentType="image/jpeg"/>
  <Override PartName="/ppt/media/image78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54.png" ContentType="image/png"/>
  <Override PartName="/ppt/media/image41.jpeg" ContentType="image/jpeg"/>
  <Override PartName="/ppt/media/image66.png" ContentType="image/png"/>
  <Override PartName="/ppt/media/image40.png" ContentType="image/png"/>
  <Override PartName="/ppt/media/image37.png" ContentType="image/png"/>
  <Override PartName="/ppt/media/image36.png" ContentType="image/png"/>
  <Override PartName="/ppt/media/image32.jpeg" ContentType="image/jpeg"/>
  <Override PartName="/ppt/media/image30.png" ContentType="image/png"/>
  <Override PartName="/ppt/media/image49.png" ContentType="image/png"/>
  <Override PartName="/ppt/media/image25.png" ContentType="image/png"/>
  <Override PartName="/ppt/media/image15.jpeg" ContentType="image/jpeg"/>
  <Override PartName="/ppt/media/image64.png" ContentType="image/png"/>
  <Override PartName="/ppt/media/image16.jpeg" ContentType="image/jpeg"/>
  <Override PartName="/ppt/media/image74.png" ContentType="image/png"/>
  <Override PartName="/ppt/media/image61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31.png" ContentType="image/png"/>
  <Override PartName="/ppt/media/image68.png" ContentType="image/png"/>
  <Override PartName="/ppt/media/image29.png" ContentType="image/png"/>
  <Override PartName="/ppt/media/image23.png" ContentType="image/png"/>
  <Override PartName="/ppt/media/image60.png" ContentType="image/png"/>
  <Override PartName="/ppt/media/image71.png" ContentType="image/png"/>
  <Override PartName="/ppt/media/image6.jpeg" ContentType="image/jpeg"/>
  <Override PartName="/ppt/media/image24.png" ContentType="image/png"/>
  <Override PartName="/ppt/media/image79.png" ContentType="image/png"/>
  <Override PartName="/ppt/media/image67.png" ContentType="image/png"/>
  <Override PartName="/ppt/media/image77.png" ContentType="image/png"/>
  <Override PartName="/ppt/media/image65.png" ContentType="image/png"/>
  <Override PartName="/ppt/media/image76.png" ContentType="image/png"/>
  <Override PartName="/ppt/media/image75.png" ContentType="image/png"/>
  <Override PartName="/ppt/media/image63.png" ContentType="image/png"/>
  <Override PartName="/ppt/media/image19.png" ContentType="image/png"/>
  <Override PartName="/ppt/media/image62.jpeg" ContentType="image/jpeg"/>
  <Override PartName="/ppt/media/image73.png" ContentType="image/png"/>
  <Override PartName="/ppt/media/image69.png" ContentType="image/png"/>
  <Override PartName="/ppt/media/image70.png" ContentType="image/png"/>
  <Override PartName="/ppt/media/image72.jpeg" ContentType="image/jpeg"/>
  <Override PartName="/ppt/media/image2.png" ContentType="image/png"/>
  <Override PartName="/ppt/media/image14.png" ContentType="image/png"/>
  <Override PartName="/ppt/media/image26.png" ContentType="image/png"/>
  <Override PartName="/ppt/media/image17.jpeg" ContentType="image/jpeg"/>
  <Override PartName="/ppt/media/image8.png" ContentType="image/png"/>
  <Override PartName="/ppt/media/image38.png" ContentType="image/png"/>
  <Override PartName="/ppt/media/image80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34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83.png" ContentType="image/png"/>
  <Override PartName="/ppt/media/image39.jpeg" ContentType="image/jpeg"/>
  <Override PartName="/ppt/media/image5.png" ContentType="image/png"/>
  <Override PartName="/ppt/media/image82.png" ContentType="image/png"/>
  <Override PartName="/ppt/media/image28.jpeg" ContentType="image/jpeg"/>
  <Override PartName="/ppt/media/image20.png" ContentType="image/png"/>
  <Override PartName="/ppt/media/image57.png" ContentType="image/png"/>
  <Override PartName="/ppt/media/image7.jpeg" ContentType="image/jpeg"/>
  <Override PartName="/ppt/media/image4.png" ContentType="image/png"/>
  <Override PartName="/ppt/media/image81.png" ContentType="image/png"/>
  <Override PartName="/ppt/media/image9.png" ContentType="image/png"/>
  <Override PartName="/ppt/media/image11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The University of Adelaide, School of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3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18F895-7A69-43BB-9820-3B46A39697AF}" type="datetime3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July 31, 20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4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Chapter 2 — Instructions: Language of the Comput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5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DC482A-3B10-4287-A89F-611952B55AE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The University of Adelaide, School of Computer Science</a:t>
            </a:r>
            <a:endParaRPr b="0" lang="en-US" sz="13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0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341C54-372E-49F6-BFDF-97987DDF6C3F}" type="datetime3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July 31, 2026</a:t>
            </a:fld>
            <a:endParaRPr b="0" lang="en-US" sz="13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1" name="Rectangle 6"/>
          <p:cNvSpPr/>
          <p:nvPr/>
        </p:nvSpPr>
        <p:spPr>
          <a:xfrm>
            <a:off x="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Chapter 2 — Instructions: Language of the Computer</a:t>
            </a:r>
            <a:endParaRPr b="0" lang="en-US" sz="13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2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C47A02-1204-490D-8F94-65F4B1826A2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The University of Adelaide, School of Computer Science</a:t>
            </a:r>
            <a:endParaRPr b="0" lang="en-US" sz="13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6F4CCE-9EC0-4B1E-A542-F0F353F63925}" type="datetime3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July 31, 2026</a:t>
            </a:fld>
            <a:endParaRPr b="0" lang="en-US" sz="13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7" name="Rectangle 6"/>
          <p:cNvSpPr/>
          <p:nvPr/>
        </p:nvSpPr>
        <p:spPr>
          <a:xfrm>
            <a:off x="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Chapter 2 — Instructions: Language of the Computer</a:t>
            </a:r>
            <a:endParaRPr b="0" lang="en-US" sz="13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8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1FCF03-DF86-4BE6-99DA-95CCBED907C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ease refer to the detailed slides on cache coherence and thread-safety in Chapter 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Header Placeholder 3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The University of Adelaide, School of Computer Science</a:t>
            </a:r>
            <a:endParaRPr b="0" lang="en-US" sz="13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4" name="Date Placeholder 4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2C9A7E-B424-4B48-AE41-707E2BC4CEEE}" type="datetime3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July 31, 2026</a:t>
            </a:fld>
            <a:endParaRPr b="0" lang="en-US" sz="13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5" name="Footer Placeholder 5"/>
          <p:cNvSpPr/>
          <p:nvPr/>
        </p:nvSpPr>
        <p:spPr>
          <a:xfrm>
            <a:off x="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Chapter 2 — Instructions: Language of the Computer</a:t>
            </a:r>
            <a:endParaRPr b="0" lang="en-US" sz="13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6" name="Slide Number Placeholder 6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E62893-A61F-40F6-BAF6-D7ECC2CF584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ease refer to the detailed slides on cache coherence and thread-safety in Chapter 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Header Placeholder 3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The University of Adelaide, School of Computer Science</a:t>
            </a:r>
            <a:endParaRPr b="0" lang="en-US" sz="13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0" name="Date Placeholder 4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B1D5A2-A6EF-491B-B30B-B6AEB7D69643}" type="datetime3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July 31, 2026</a:t>
            </a:fld>
            <a:endParaRPr b="0" lang="en-US" sz="13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1" name="Footer Placeholder 5"/>
          <p:cNvSpPr/>
          <p:nvPr/>
        </p:nvSpPr>
        <p:spPr>
          <a:xfrm>
            <a:off x="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Chapter 2 — Instructions: Language of the Computer</a:t>
            </a:r>
            <a:endParaRPr b="0" lang="en-US" sz="13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2" name="Slide Number Placeholder 6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67F7B8-9D43-4F55-9BB2-0B26AB6B6D2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ease refer to the detailed slides on cache coherence and thread-safety in Chapter 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Header Placeholder 3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The University of Adelaide, School of Computer Science</a:t>
            </a:r>
            <a:endParaRPr b="0" lang="en-US" sz="13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6" name="Date Placeholder 4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BCF75B-EC94-4B5F-AAD8-8701E376EEA9}" type="datetime3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July 31, 2026</a:t>
            </a:fld>
            <a:endParaRPr b="0" lang="en-US" sz="13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7" name="Footer Placeholder 5"/>
          <p:cNvSpPr/>
          <p:nvPr/>
        </p:nvSpPr>
        <p:spPr>
          <a:xfrm>
            <a:off x="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Chapter 2 — Instructions: Language of the Computer</a:t>
            </a:r>
            <a:endParaRPr b="0" lang="en-US" sz="13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8" name="Slide Number Placeholder 6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5DACB7-D5CB-4776-8B40-FEC27B8771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10920" y="113760"/>
            <a:ext cx="8281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360" y="1125360"/>
            <a:ext cx="82706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4360" y="3795840"/>
            <a:ext cx="82706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10920" y="113760"/>
            <a:ext cx="8281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4360" y="1125360"/>
            <a:ext cx="403596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22640" y="1125360"/>
            <a:ext cx="403596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4360" y="3795840"/>
            <a:ext cx="403596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22640" y="3795840"/>
            <a:ext cx="403596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10920" y="113760"/>
            <a:ext cx="8281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4360" y="1125360"/>
            <a:ext cx="26629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80840" y="1125360"/>
            <a:ext cx="26629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77320" y="1125360"/>
            <a:ext cx="26629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4360" y="3795840"/>
            <a:ext cx="26629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80840" y="3795840"/>
            <a:ext cx="26629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77320" y="3795840"/>
            <a:ext cx="26629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10920" y="113760"/>
            <a:ext cx="8281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684360" y="1125360"/>
            <a:ext cx="827064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0920" y="113760"/>
            <a:ext cx="8281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4360" y="1125360"/>
            <a:ext cx="827064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10920" y="113760"/>
            <a:ext cx="8281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25360"/>
            <a:ext cx="403596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22640" y="1125360"/>
            <a:ext cx="403596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10920" y="113760"/>
            <a:ext cx="8281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610920" y="113760"/>
            <a:ext cx="828180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10920" y="113760"/>
            <a:ext cx="8281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4360" y="1125360"/>
            <a:ext cx="403596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22640" y="1125360"/>
            <a:ext cx="403596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4360" y="3795840"/>
            <a:ext cx="403596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10920" y="113760"/>
            <a:ext cx="8281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4360" y="1125360"/>
            <a:ext cx="827064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10920" y="113760"/>
            <a:ext cx="8281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4360" y="1125360"/>
            <a:ext cx="403596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22640" y="1125360"/>
            <a:ext cx="403596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922640" y="3795840"/>
            <a:ext cx="403596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10920" y="113760"/>
            <a:ext cx="8281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125360"/>
            <a:ext cx="403596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22640" y="1125360"/>
            <a:ext cx="403596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4360" y="3795840"/>
            <a:ext cx="82706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10920" y="113760"/>
            <a:ext cx="8281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4360" y="1125360"/>
            <a:ext cx="82706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84360" y="3795840"/>
            <a:ext cx="82706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10920" y="113760"/>
            <a:ext cx="8281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4360" y="1125360"/>
            <a:ext cx="403596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922640" y="1125360"/>
            <a:ext cx="403596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4360" y="3795840"/>
            <a:ext cx="403596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922640" y="3795840"/>
            <a:ext cx="403596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10920" y="113760"/>
            <a:ext cx="8281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25360"/>
            <a:ext cx="26629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0840" y="1125360"/>
            <a:ext cx="26629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277320" y="1125360"/>
            <a:ext cx="26629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684360" y="3795840"/>
            <a:ext cx="26629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80840" y="3795840"/>
            <a:ext cx="26629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277320" y="3795840"/>
            <a:ext cx="26629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10920" y="113760"/>
            <a:ext cx="8281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25360"/>
            <a:ext cx="827064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10920" y="113760"/>
            <a:ext cx="8281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4360" y="1125360"/>
            <a:ext cx="403596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22640" y="1125360"/>
            <a:ext cx="403596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10920" y="113760"/>
            <a:ext cx="8281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10920" y="113760"/>
            <a:ext cx="828180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10920" y="113760"/>
            <a:ext cx="8281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4360" y="1125360"/>
            <a:ext cx="403596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2640" y="1125360"/>
            <a:ext cx="403596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4360" y="3795840"/>
            <a:ext cx="403596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10920" y="113760"/>
            <a:ext cx="8281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4360" y="1125360"/>
            <a:ext cx="403596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2640" y="1125360"/>
            <a:ext cx="403596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22640" y="3795840"/>
            <a:ext cx="403596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10920" y="113760"/>
            <a:ext cx="8281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4360" y="1125360"/>
            <a:ext cx="403596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22640" y="1125360"/>
            <a:ext cx="403596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4360" y="3795840"/>
            <a:ext cx="82706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2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767d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Rectangle 13"/>
          <p:cNvSpPr/>
          <p:nvPr/>
        </p:nvSpPr>
        <p:spPr>
          <a:xfrm>
            <a:off x="0" y="6308640"/>
            <a:ext cx="914400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684360" y="1125360"/>
            <a:ext cx="827064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99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>
          <a:xfrm>
            <a:off x="1042560" y="6381360"/>
            <a:ext cx="727236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A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pyright © 2010, Elsevier Inc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610920" y="113760"/>
            <a:ext cx="8281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pic>
        <p:nvPicPr>
          <p:cNvPr id="5" name="Picture 11" descr="MK_logo2"/>
          <p:cNvPicPr/>
          <p:nvPr/>
        </p:nvPicPr>
        <p:blipFill>
          <a:blip r:embed="rId2"/>
          <a:stretch/>
        </p:blipFill>
        <p:spPr>
          <a:xfrm>
            <a:off x="179280" y="6381720"/>
            <a:ext cx="792360" cy="460440"/>
          </a:xfrm>
          <a:prstGeom prst="rect">
            <a:avLst/>
          </a:prstGeom>
          <a:ln w="0">
            <a:noFill/>
          </a:ln>
        </p:spPr>
      </p:pic>
      <p:sp>
        <p:nvSpPr>
          <p:cNvPr id="6" name="Text Box 14"/>
          <p:cNvSpPr/>
          <p:nvPr/>
        </p:nvSpPr>
        <p:spPr>
          <a:xfrm>
            <a:off x="8388360" y="649764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10988-A5FE-4DA8-AFB2-75607D95FB0F}" type="slidenum">
              <a:rPr b="1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252360" y="44280"/>
            <a:ext cx="36720" cy="3816360"/>
          </a:xfrm>
          <a:prstGeom prst="rect">
            <a:avLst/>
          </a:prstGeom>
          <a:gradFill rotWithShape="0">
            <a:gsLst>
              <a:gs pos="0">
                <a:srgbClr val="767d7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34920" y="693720"/>
            <a:ext cx="8569440" cy="712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767d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" name="Rectangle 9"/>
          <p:cNvSpPr/>
          <p:nvPr/>
        </p:nvSpPr>
        <p:spPr>
          <a:xfrm>
            <a:off x="0" y="765000"/>
            <a:ext cx="914400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7" name="Picture 17" descr="MK_logo2"/>
          <p:cNvPicPr/>
          <p:nvPr/>
        </p:nvPicPr>
        <p:blipFill>
          <a:blip r:embed="rId2"/>
          <a:stretch/>
        </p:blipFill>
        <p:spPr>
          <a:xfrm>
            <a:off x="108000" y="50760"/>
            <a:ext cx="1228680" cy="71424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19"/>
          <p:cNvSpPr/>
          <p:nvPr/>
        </p:nvSpPr>
        <p:spPr>
          <a:xfrm>
            <a:off x="2197080" y="765000"/>
            <a:ext cx="46080" cy="573264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Rectangle 20"/>
          <p:cNvSpPr/>
          <p:nvPr/>
        </p:nvSpPr>
        <p:spPr>
          <a:xfrm>
            <a:off x="2558880" y="1195560"/>
            <a:ext cx="46080" cy="3816000"/>
          </a:xfrm>
          <a:prstGeom prst="rect">
            <a:avLst/>
          </a:prstGeom>
          <a:gradFill rotWithShape="0">
            <a:gsLst>
              <a:gs pos="0">
                <a:srgbClr val="767d7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Rectangle 21"/>
          <p:cNvSpPr/>
          <p:nvPr/>
        </p:nvSpPr>
        <p:spPr>
          <a:xfrm>
            <a:off x="2341440" y="1916280"/>
            <a:ext cx="6623280" cy="45720"/>
          </a:xfrm>
          <a:prstGeom prst="rect">
            <a:avLst/>
          </a:prstGeom>
          <a:gradFill rotWithShape="0">
            <a:gsLst>
              <a:gs pos="0">
                <a:srgbClr val="5f5f5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" bIns="-108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Rectangle 38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767d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Rectangle 39"/>
          <p:cNvSpPr/>
          <p:nvPr/>
        </p:nvSpPr>
        <p:spPr>
          <a:xfrm>
            <a:off x="0" y="6308640"/>
            <a:ext cx="914400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3" name="Picture 41" descr="MK_logo2"/>
          <p:cNvPicPr/>
          <p:nvPr/>
        </p:nvPicPr>
        <p:blipFill>
          <a:blip r:embed="rId3"/>
          <a:stretch/>
        </p:blipFill>
        <p:spPr>
          <a:xfrm>
            <a:off x="179280" y="6381720"/>
            <a:ext cx="792360" cy="460440"/>
          </a:xfrm>
          <a:prstGeom prst="rect">
            <a:avLst/>
          </a:prstGeom>
          <a:ln w="0">
            <a:noFill/>
          </a:ln>
        </p:spPr>
      </p:pic>
      <p:sp>
        <p:nvSpPr>
          <p:cNvPr id="54" name="Text Box 42"/>
          <p:cNvSpPr/>
          <p:nvPr/>
        </p:nvSpPr>
        <p:spPr>
          <a:xfrm>
            <a:off x="8388360" y="649764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B944A-DAD0-495A-8D1F-5DBCB7C6817A}" type="slidenum">
              <a:rPr b="1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5" name="Picture 11" descr="9780123742605.jpg"/>
          <p:cNvPicPr/>
          <p:nvPr/>
        </p:nvPicPr>
        <p:blipFill>
          <a:blip r:embed="rId4"/>
          <a:stretch/>
        </p:blipFill>
        <p:spPr>
          <a:xfrm>
            <a:off x="66600" y="1054080"/>
            <a:ext cx="2086200" cy="25178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684360" y="1125360"/>
            <a:ext cx="827064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99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610920" y="113760"/>
            <a:ext cx="8281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2"/>
          </p:nvPr>
        </p:nvSpPr>
        <p:spPr>
          <a:xfrm>
            <a:off x="1042560" y="6381360"/>
            <a:ext cx="727236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A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pyright © 2010, Elsevier Inc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png"/><Relationship Id="rId3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60.png"/><Relationship Id="rId3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69.png"/><Relationship Id="rId3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image" Target="../media/image75.png"/><Relationship Id="rId3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image" Target="../media/image77.png"/><Relationship Id="rId3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78.png"/><Relationship Id="rId2" Type="http://schemas.openxmlformats.org/officeDocument/2006/relationships/image" Target="../media/image79.png"/><Relationship Id="rId3" Type="http://schemas.openxmlformats.org/officeDocument/2006/relationships/image" Target="../media/image8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81.png"/><Relationship Id="rId2" Type="http://schemas.openxmlformats.org/officeDocument/2006/relationships/image" Target="../media/image8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8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40"/>
          <p:cNvSpPr/>
          <p:nvPr/>
        </p:nvSpPr>
        <p:spPr>
          <a:xfrm>
            <a:off x="1042920" y="6381720"/>
            <a:ext cx="727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pyright © 2010, Elsevier Inc. All rights Reserv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Rectangle 11"/>
          <p:cNvSpPr/>
          <p:nvPr/>
        </p:nvSpPr>
        <p:spPr>
          <a:xfrm>
            <a:off x="2852640" y="1254240"/>
            <a:ext cx="196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99"/>
                </a:solidFill>
                <a:latin typeface="Arial"/>
              </a:rPr>
              <a:t>Chapter 5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12"/>
          <p:cNvSpPr/>
          <p:nvPr/>
        </p:nvSpPr>
        <p:spPr>
          <a:xfrm>
            <a:off x="2843280" y="2060640"/>
            <a:ext cx="583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  <a:ea typeface="Arial"/>
              </a:rPr>
              <a:t>Shared Memory Programming with OpenMP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Text Box 13"/>
          <p:cNvSpPr/>
          <p:nvPr/>
        </p:nvSpPr>
        <p:spPr>
          <a:xfrm>
            <a:off x="2214720" y="-71280"/>
            <a:ext cx="678636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Introduction to Parallel Programm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ter Pacheco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10920" y="109080"/>
            <a:ext cx="8281800" cy="708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clause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4360" y="1125360"/>
            <a:ext cx="827064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ext that modifies a directive.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e num_threads clause can be added to a parallel directive.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It allows the programmer to specify the number of threads that should execute the following block.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4" name="Footer Placeholder 3"/>
          <p:cNvSpPr/>
          <p:nvPr/>
        </p:nvSpPr>
        <p:spPr>
          <a:xfrm>
            <a:off x="1042920" y="6381720"/>
            <a:ext cx="727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pyright © 2010, Elsevier Inc. All rights Reserv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900000" y="4869000"/>
            <a:ext cx="75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# pragma omp parallel num_threads ( thread_count )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10920" y="115560"/>
            <a:ext cx="828180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Of note…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4360" y="1125360"/>
            <a:ext cx="827064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There may be system-defined limitations on the number of threads that a program can start. 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The OpenMP standard doesn’t guarantee that this will actually start thread_count threads.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Most current systems can start hundreds or even thousands of threads. 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Unless we’re trying to start a lot of threads, we will almost always get the desired number of threads.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8" name="Footer Placeholder 3"/>
          <p:cNvSpPr/>
          <p:nvPr/>
        </p:nvSpPr>
        <p:spPr>
          <a:xfrm>
            <a:off x="1042920" y="6381720"/>
            <a:ext cx="727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pyright © 2010, Elsevier Inc. All rights Reserv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10920" y="115560"/>
            <a:ext cx="828180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Some terminology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84360" y="1125360"/>
            <a:ext cx="827064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In OpenMP parlance the collection of threads executing the parallel block — the original thread and the new threads — is called a 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team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, the original thread is called the 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master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, and the additional threads are called 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slaves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1" name="Footer Placeholder 3"/>
          <p:cNvSpPr/>
          <p:nvPr/>
        </p:nvSpPr>
        <p:spPr>
          <a:xfrm>
            <a:off x="1042920" y="6381720"/>
            <a:ext cx="727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pyright © 2010, Elsevier Inc. All rights Reserv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2" name="Picture 2" descr="cartoons,cooperation,households,keys,people,persons,Screen Beans®,synergy,team efforts,teamwork"/>
          <p:cNvPicPr/>
          <p:nvPr/>
        </p:nvPicPr>
        <p:blipFill>
          <a:blip r:embed="rId1"/>
          <a:stretch/>
        </p:blipFill>
        <p:spPr>
          <a:xfrm>
            <a:off x="5364000" y="3645000"/>
            <a:ext cx="244800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281800" cy="1324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In case the compiler doesn’t support OpenMP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54" name="Footer Placeholder 2"/>
          <p:cNvSpPr/>
          <p:nvPr/>
        </p:nvSpPr>
        <p:spPr>
          <a:xfrm>
            <a:off x="1042920" y="6381720"/>
            <a:ext cx="727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pyright © 2010, Elsevier Inc. All rights Reserv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1349280" y="1916280"/>
            <a:ext cx="31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# include &lt;omp.h&gt;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3276720" y="3284640"/>
            <a:ext cx="4572000" cy="15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#ifdef _OPENMP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# include &lt;omp.h&gt;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#endif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cxnSp>
        <p:nvCxnSpPr>
          <p:cNvPr id="157" name="Straight Arrow Connector 6"/>
          <p:cNvCxnSpPr/>
          <p:nvPr/>
        </p:nvCxnSpPr>
        <p:spPr>
          <a:xfrm>
            <a:off x="3131640" y="2492280"/>
            <a:ext cx="1008720" cy="650160"/>
          </a:xfrm>
          <a:prstGeom prst="straightConnector1">
            <a:avLst/>
          </a:prstGeom>
          <a:ln w="28440">
            <a:solidFill>
              <a:srgbClr val="0066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281800" cy="1324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In case the compiler doesn’t support OpenMP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59" name="Footer Placeholder 2"/>
          <p:cNvSpPr/>
          <p:nvPr/>
        </p:nvSpPr>
        <p:spPr>
          <a:xfrm>
            <a:off x="1042920" y="6381720"/>
            <a:ext cx="727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pyright © 2010, Elsevier Inc. All rights Reserv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684360" y="1844640"/>
            <a:ext cx="8064360" cy="361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# ifdef _OPENMP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 my_rank = omp_get_thread_num ( );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 thread_count = omp_get_num_threads ( );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# e l s 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 my_rank = 0;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 thread_count = 1;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# endif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academic,cartoons,children,classes,courses,education,females,geometric shapes,geometry,girls,kids,mathematics,people,persons,schools,students,trapezoids"/>
          <p:cNvPicPr/>
          <p:nvPr/>
        </p:nvPicPr>
        <p:blipFill>
          <a:blip r:embed="rId1"/>
          <a:stretch/>
        </p:blipFill>
        <p:spPr>
          <a:xfrm>
            <a:off x="3924360" y="2060640"/>
            <a:ext cx="3095640" cy="309564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22160" y="4406400"/>
            <a:ext cx="7772400" cy="70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THE TRAPEZOIDAL RULE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63" name="Footer Placeholder 3"/>
          <p:cNvSpPr/>
          <p:nvPr/>
        </p:nvSpPr>
        <p:spPr>
          <a:xfrm>
            <a:off x="1042920" y="6381720"/>
            <a:ext cx="727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pyright © 2010, Elsevier Inc. All rights Reserv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10920" y="109080"/>
            <a:ext cx="8281800" cy="708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The trapezoidal rule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65" name="Footer Placeholder 2"/>
          <p:cNvSpPr/>
          <p:nvPr/>
        </p:nvSpPr>
        <p:spPr>
          <a:xfrm>
            <a:off x="1042920" y="6381720"/>
            <a:ext cx="727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pyright © 2010, Elsevier Inc. All rights Reserv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6" name="Picture 2" descr=""/>
          <p:cNvPicPr/>
          <p:nvPr/>
        </p:nvPicPr>
        <p:blipFill>
          <a:blip r:embed="rId1"/>
          <a:stretch/>
        </p:blipFill>
        <p:spPr>
          <a:xfrm>
            <a:off x="549360" y="1844640"/>
            <a:ext cx="8199360" cy="27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10920" y="115560"/>
            <a:ext cx="828180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Serial algorithm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68" name="Footer Placeholder 2"/>
          <p:cNvSpPr/>
          <p:nvPr/>
        </p:nvSpPr>
        <p:spPr>
          <a:xfrm>
            <a:off x="1042920" y="6381720"/>
            <a:ext cx="727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pyright © 2010, Elsevier Inc. All rights Reserv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Picture 3" descr=""/>
          <p:cNvPicPr/>
          <p:nvPr/>
        </p:nvPicPr>
        <p:blipFill>
          <a:blip r:embed="rId1"/>
          <a:stretch/>
        </p:blipFill>
        <p:spPr>
          <a:xfrm>
            <a:off x="1619280" y="1484280"/>
            <a:ext cx="588636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10920" y="109080"/>
            <a:ext cx="8281800" cy="708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A First OpenMP Version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4360" y="1125360"/>
            <a:ext cx="827064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1) We identified two types of tasks: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971640" indent="-514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a) computation of the areas of individual trapezoids, and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1" marL="971640" indent="-514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b) adding the areas of trapezoids.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2) There is no communication among the tasks in the first collection, but each task in the first collection communicates with task 1b.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2" name="Footer Placeholder 3"/>
          <p:cNvSpPr/>
          <p:nvPr/>
        </p:nvSpPr>
        <p:spPr>
          <a:xfrm>
            <a:off x="1042920" y="6381720"/>
            <a:ext cx="727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pyright © 2010, Elsevier Inc. All rights Reserv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10920" y="115560"/>
            <a:ext cx="828180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A First OpenMP Version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684360" y="1125360"/>
            <a:ext cx="827064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3) We assumed that there would be many more trapezoids than cores. </a:t>
            </a:r>
            <a:br>
              <a:rPr sz="3200"/>
            </a:b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o we aggregated tasks by assigning a contiguous block of trapezoids to each thread (and a single thread to each core).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5" name="Footer Placeholder 3"/>
          <p:cNvSpPr/>
          <p:nvPr/>
        </p:nvSpPr>
        <p:spPr>
          <a:xfrm>
            <a:off x="1042920" y="6381720"/>
            <a:ext cx="727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pyright © 2010, Elsevier Inc. All rights Reserv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Footer Placeholder 3"/>
          <p:cNvSpPr/>
          <p:nvPr/>
        </p:nvSpPr>
        <p:spPr>
          <a:xfrm>
            <a:off x="1042920" y="6381720"/>
            <a:ext cx="727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pyright © 2010, Elsevier Inc. All rights Reserv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10920" y="115560"/>
            <a:ext cx="828180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Roadmap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4360" y="1125360"/>
            <a:ext cx="827064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Writing programs that use OpenMP.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Using OpenMP to parallelize many serial for loops with only small changes to the source code.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Task parallelism.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Explicit thread synchronization.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Standard problems in shared-memory programming.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9" name="Text Box 5"/>
          <p:cNvSpPr/>
          <p:nvPr/>
        </p:nvSpPr>
        <p:spPr>
          <a:xfrm rot="5400000">
            <a:off x="7956000" y="822240"/>
            <a:ext cx="200664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# Chapter Subtitle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10920" y="171000"/>
            <a:ext cx="8281800" cy="646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Arial"/>
              </a:rPr>
              <a:t>Assignment of trapezoids to threads</a:t>
            </a:r>
            <a:endParaRPr b="1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77" name="Footer Placeholder 2"/>
          <p:cNvSpPr/>
          <p:nvPr/>
        </p:nvSpPr>
        <p:spPr>
          <a:xfrm>
            <a:off x="1042920" y="6381720"/>
            <a:ext cx="727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pyright © 2010, Elsevier Inc. All rights Reserv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8" name="Picture 2" descr=""/>
          <p:cNvPicPr/>
          <p:nvPr/>
        </p:nvPicPr>
        <p:blipFill>
          <a:blip r:embed="rId1"/>
          <a:stretch/>
        </p:blipFill>
        <p:spPr>
          <a:xfrm>
            <a:off x="1042920" y="1052640"/>
            <a:ext cx="6539040" cy="49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1"/>
          <p:cNvSpPr/>
          <p:nvPr/>
        </p:nvSpPr>
        <p:spPr>
          <a:xfrm>
            <a:off x="1042920" y="6381720"/>
            <a:ext cx="727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pyright © 2010, Elsevier Inc. All rights Reserv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0" name="TextBox 3"/>
          <p:cNvSpPr/>
          <p:nvPr/>
        </p:nvSpPr>
        <p:spPr>
          <a:xfrm>
            <a:off x="1259640" y="3141720"/>
            <a:ext cx="6953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predictable results when two (or more)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ads attempt to simultaneously execute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global_result += my_result ;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Picture 3" descr=""/>
          <p:cNvPicPr/>
          <p:nvPr/>
        </p:nvPicPr>
        <p:blipFill>
          <a:blip r:embed="rId1"/>
          <a:stretch/>
        </p:blipFill>
        <p:spPr>
          <a:xfrm>
            <a:off x="539640" y="907920"/>
            <a:ext cx="8394840" cy="20383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6" descr=""/>
          <p:cNvPicPr/>
          <p:nvPr/>
        </p:nvPicPr>
        <p:blipFill>
          <a:blip r:embed="rId2"/>
          <a:stretch/>
        </p:blipFill>
        <p:spPr>
          <a:xfrm>
            <a:off x="3440160" y="5084640"/>
            <a:ext cx="2592360" cy="10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10920" y="115560"/>
            <a:ext cx="828180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Mutual exclusion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84" name="Footer Placeholder 3"/>
          <p:cNvSpPr/>
          <p:nvPr/>
        </p:nvSpPr>
        <p:spPr>
          <a:xfrm>
            <a:off x="1042920" y="6381720"/>
            <a:ext cx="727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pyright © 2010, Elsevier Inc. All rights Reserv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Rectangle 4"/>
          <p:cNvSpPr/>
          <p:nvPr/>
        </p:nvSpPr>
        <p:spPr>
          <a:xfrm>
            <a:off x="1187280" y="1628640"/>
            <a:ext cx="617544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# pragma omp critica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obal_result += my_result ;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6" name="Rectangle 5"/>
          <p:cNvSpPr/>
          <p:nvPr/>
        </p:nvSpPr>
        <p:spPr>
          <a:xfrm>
            <a:off x="3492360" y="3860640"/>
            <a:ext cx="457200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only one thread can execute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the following structured block at a time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Freeform 6"/>
          <p:cNvSpPr/>
          <p:nvPr/>
        </p:nvSpPr>
        <p:spPr>
          <a:xfrm>
            <a:off x="5342040" y="1758960"/>
            <a:ext cx="2992320" cy="2189160"/>
          </a:xfrm>
          <a:prstGeom prst="pie">
            <a:avLst/>
          </a:prstGeom>
          <a:noFill/>
          <a:ln w="9360">
            <a:solidFill>
              <a:srgbClr val="c00000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Footer Placeholder 2"/>
          <p:cNvSpPr/>
          <p:nvPr/>
        </p:nvSpPr>
        <p:spPr>
          <a:xfrm>
            <a:off x="1042920" y="6381720"/>
            <a:ext cx="727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pyright © 2010, Elsevier Inc. All rights Reserv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Picture 2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348760" cy="58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Footer Placeholder 1"/>
          <p:cNvSpPr/>
          <p:nvPr/>
        </p:nvSpPr>
        <p:spPr>
          <a:xfrm>
            <a:off x="1042920" y="6381720"/>
            <a:ext cx="727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pyright © 2010, Elsevier Inc. All rights Reserv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870264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22160" y="4406400"/>
            <a:ext cx="7772400" cy="70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SCOPE OF VARIABLES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93" name="Footer Placeholder 3"/>
          <p:cNvSpPr/>
          <p:nvPr/>
        </p:nvSpPr>
        <p:spPr>
          <a:xfrm>
            <a:off x="1042920" y="6381720"/>
            <a:ext cx="727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pyright © 2010, Elsevier Inc. All rights Reserv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4" name="Picture 2" descr="optical viewing devices,science,scopes,technology,telescopes,tripods"/>
          <p:cNvPicPr/>
          <p:nvPr/>
        </p:nvPicPr>
        <p:blipFill>
          <a:blip r:embed="rId1"/>
          <a:stretch/>
        </p:blipFill>
        <p:spPr>
          <a:xfrm>
            <a:off x="539640" y="1052640"/>
            <a:ext cx="309564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10920" y="115560"/>
            <a:ext cx="828180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Scope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684360" y="1125360"/>
            <a:ext cx="827064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In serial programming, the scope of a variable consists of those parts of a program in which the variable can be used.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In OpenMP, the scope of a variable refers to the set of threads that can access the variable in a parallel block.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7" name="Footer Placeholder 3"/>
          <p:cNvSpPr/>
          <p:nvPr/>
        </p:nvSpPr>
        <p:spPr>
          <a:xfrm>
            <a:off x="1042920" y="6381720"/>
            <a:ext cx="727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pyright © 2010, Elsevier Inc. All rights Reserv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optical viewing devices,science,scopes,technology,telescopes,tripods"/>
          <p:cNvPicPr/>
          <p:nvPr/>
        </p:nvPicPr>
        <p:blipFill>
          <a:blip r:embed="rId1"/>
          <a:stretch/>
        </p:blipFill>
        <p:spPr>
          <a:xfrm>
            <a:off x="6480000" y="3645000"/>
            <a:ext cx="2664000" cy="266364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10920" y="115560"/>
            <a:ext cx="828180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Scope in OpenMP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684360" y="1125360"/>
            <a:ext cx="827064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A variable that can be accessed by all the threads in the team has 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shared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scope.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A variable that can only be accessed by a single thread has 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private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scope.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e default scope for variables </a:t>
            </a:r>
            <a:br>
              <a:rPr sz="3200"/>
            </a:b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declared before a parallel block </a:t>
            </a:r>
            <a:br>
              <a:rPr sz="3200"/>
            </a:b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is 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shared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1" name="Footer Placeholder 3"/>
          <p:cNvSpPr/>
          <p:nvPr/>
        </p:nvSpPr>
        <p:spPr>
          <a:xfrm>
            <a:off x="1042920" y="6381720"/>
            <a:ext cx="727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pyright © 2010, Elsevier Inc. All rights Reserv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22160" y="4406400"/>
            <a:ext cx="7772400" cy="70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THE REDUCTION CLAUSE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03" name="Footer Placeholder 3"/>
          <p:cNvSpPr/>
          <p:nvPr/>
        </p:nvSpPr>
        <p:spPr>
          <a:xfrm>
            <a:off x="1042920" y="6381720"/>
            <a:ext cx="727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pyright © 2010, Elsevier Inc. All rights Reserv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4" name="Picture 2" descr="businesses,computer keys,concepts,keyboard keys,Photographs,reduce,text"/>
          <p:cNvPicPr/>
          <p:nvPr/>
        </p:nvPicPr>
        <p:blipFill>
          <a:blip r:embed="rId1"/>
          <a:stretch/>
        </p:blipFill>
        <p:spPr>
          <a:xfrm>
            <a:off x="395280" y="1125360"/>
            <a:ext cx="309564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Footer Placeholder 2"/>
          <p:cNvSpPr/>
          <p:nvPr/>
        </p:nvSpPr>
        <p:spPr>
          <a:xfrm>
            <a:off x="1042920" y="6381720"/>
            <a:ext cx="727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pyright © 2010, Elsevier Inc. All rights Reserv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6" name="Rectangle 4"/>
          <p:cNvSpPr/>
          <p:nvPr/>
        </p:nvSpPr>
        <p:spPr>
          <a:xfrm>
            <a:off x="611280" y="1125360"/>
            <a:ext cx="684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We need this more complex version to add each thread’s local calculation to get </a:t>
            </a:r>
            <a:r>
              <a:rPr b="0" i="1" lang="en-US" sz="2400" spc="-1" strike="noStrike">
                <a:solidFill>
                  <a:srgbClr val="808080"/>
                </a:solidFill>
                <a:latin typeface="Arial"/>
              </a:rPr>
              <a:t>global_result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7" name="Picture 2" descr=""/>
          <p:cNvPicPr/>
          <p:nvPr/>
        </p:nvPicPr>
        <p:blipFill>
          <a:blip r:embed="rId1"/>
          <a:stretch/>
        </p:blipFill>
        <p:spPr>
          <a:xfrm>
            <a:off x="755640" y="2276640"/>
            <a:ext cx="7905600" cy="3697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3" descr=""/>
          <p:cNvPicPr/>
          <p:nvPr/>
        </p:nvPicPr>
        <p:blipFill>
          <a:blip r:embed="rId2"/>
          <a:stretch/>
        </p:blipFill>
        <p:spPr>
          <a:xfrm>
            <a:off x="971640" y="4076640"/>
            <a:ext cx="5060880" cy="43200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7"/>
          <p:cNvSpPr/>
          <p:nvPr/>
        </p:nvSpPr>
        <p:spPr>
          <a:xfrm>
            <a:off x="611280" y="3357720"/>
            <a:ext cx="68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Although we’d prefer this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0" name="Picture 4" descr=""/>
          <p:cNvPicPr/>
          <p:nvPr/>
        </p:nvPicPr>
        <p:blipFill>
          <a:blip r:embed="rId3"/>
          <a:stretch/>
        </p:blipFill>
        <p:spPr>
          <a:xfrm>
            <a:off x="2266920" y="5157720"/>
            <a:ext cx="4343400" cy="432000"/>
          </a:xfrm>
          <a:prstGeom prst="rect">
            <a:avLst/>
          </a:prstGeom>
          <a:ln w="0">
            <a:noFill/>
          </a:ln>
        </p:spPr>
      </p:pic>
      <p:cxnSp>
        <p:nvCxnSpPr>
          <p:cNvPr id="211" name="Straight Arrow Connector 10"/>
          <p:cNvCxnSpPr/>
          <p:nvPr/>
        </p:nvCxnSpPr>
        <p:spPr>
          <a:xfrm>
            <a:off x="3132000" y="4508640"/>
            <a:ext cx="648360" cy="505440"/>
          </a:xfrm>
          <a:prstGeom prst="straightConnector1">
            <a:avLst/>
          </a:prstGeom>
          <a:ln w="9360">
            <a:solidFill>
              <a:srgbClr val="c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10920" y="109080"/>
            <a:ext cx="8281800" cy="708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OpenMP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4360" y="1125360"/>
            <a:ext cx="827064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An API for shared-memory parallel programming.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MP = multiprocessing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Designed for systems in which each thread or process can potentially have access to all available memory.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ystem is viewed as a collection of cores or CPU’s, all of which have access to main memory.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1042920" y="6381720"/>
            <a:ext cx="727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pyright © 2010, Elsevier Inc. All rights Reserv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Footer Placeholder 1"/>
          <p:cNvSpPr/>
          <p:nvPr/>
        </p:nvSpPr>
        <p:spPr>
          <a:xfrm>
            <a:off x="1042920" y="6381720"/>
            <a:ext cx="727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pyright © 2010, Elsevier Inc. All rights Reserv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Picture 2" descr=""/>
          <p:cNvPicPr/>
          <p:nvPr/>
        </p:nvPicPr>
        <p:blipFill>
          <a:blip r:embed="rId1"/>
          <a:stretch/>
        </p:blipFill>
        <p:spPr>
          <a:xfrm>
            <a:off x="971640" y="1916280"/>
            <a:ext cx="6999120" cy="433080"/>
          </a:xfrm>
          <a:prstGeom prst="rect">
            <a:avLst/>
          </a:prstGeom>
          <a:ln w="0">
            <a:noFill/>
          </a:ln>
        </p:spPr>
      </p:pic>
      <p:sp>
        <p:nvSpPr>
          <p:cNvPr id="214" name="Rectangle 4"/>
          <p:cNvSpPr/>
          <p:nvPr/>
        </p:nvSpPr>
        <p:spPr>
          <a:xfrm>
            <a:off x="826920" y="1125360"/>
            <a:ext cx="68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If we use this, there’s no critical section!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Rectangle 5"/>
          <p:cNvSpPr/>
          <p:nvPr/>
        </p:nvSpPr>
        <p:spPr>
          <a:xfrm>
            <a:off x="826920" y="2781360"/>
            <a:ext cx="68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If we fix it like this…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Picture 3" descr=""/>
          <p:cNvPicPr/>
          <p:nvPr/>
        </p:nvPicPr>
        <p:blipFill>
          <a:blip r:embed="rId2"/>
          <a:stretch/>
        </p:blipFill>
        <p:spPr>
          <a:xfrm>
            <a:off x="971640" y="3429000"/>
            <a:ext cx="7189560" cy="1638360"/>
          </a:xfrm>
          <a:prstGeom prst="rect">
            <a:avLst/>
          </a:prstGeom>
          <a:ln w="0">
            <a:noFill/>
          </a:ln>
        </p:spPr>
      </p:pic>
      <p:sp>
        <p:nvSpPr>
          <p:cNvPr id="217" name="Rectangle 7"/>
          <p:cNvSpPr/>
          <p:nvPr/>
        </p:nvSpPr>
        <p:spPr>
          <a:xfrm>
            <a:off x="826920" y="5157720"/>
            <a:ext cx="68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we force the threads to execute sequentially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Footer Placeholder 1"/>
          <p:cNvSpPr/>
          <p:nvPr/>
        </p:nvSpPr>
        <p:spPr>
          <a:xfrm>
            <a:off x="1042920" y="6381720"/>
            <a:ext cx="727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pyright © 2010, Elsevier Inc. All rights Reserv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Rectangle 4"/>
          <p:cNvSpPr/>
          <p:nvPr/>
        </p:nvSpPr>
        <p:spPr>
          <a:xfrm>
            <a:off x="826920" y="1125360"/>
            <a:ext cx="684072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We can avoid this problem by declaring a private variable inside the parallel block and moving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the critical section after the function call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220" name="Group 9"/>
          <p:cNvGrpSpPr/>
          <p:nvPr/>
        </p:nvGrpSpPr>
        <p:grpSpPr>
          <a:xfrm>
            <a:off x="971640" y="2708280"/>
            <a:ext cx="7488000" cy="2665440"/>
            <a:chOff x="971640" y="2708280"/>
            <a:chExt cx="7488000" cy="2665440"/>
          </a:xfrm>
        </p:grpSpPr>
        <p:pic>
          <p:nvPicPr>
            <p:cNvPr id="221" name="Picture 2" descr=""/>
            <p:cNvPicPr/>
            <p:nvPr/>
          </p:nvPicPr>
          <p:blipFill>
            <a:blip r:embed="rId1"/>
            <a:stretch/>
          </p:blipFill>
          <p:spPr>
            <a:xfrm>
              <a:off x="971640" y="2708280"/>
              <a:ext cx="6388200" cy="133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Picture 3" descr=""/>
            <p:cNvPicPr/>
            <p:nvPr/>
          </p:nvPicPr>
          <p:blipFill>
            <a:blip r:embed="rId2"/>
            <a:stretch/>
          </p:blipFill>
          <p:spPr>
            <a:xfrm>
              <a:off x="971640" y="3957480"/>
              <a:ext cx="7488000" cy="1416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Footer Placeholder 1"/>
          <p:cNvSpPr/>
          <p:nvPr/>
        </p:nvSpPr>
        <p:spPr>
          <a:xfrm>
            <a:off x="1042920" y="6381720"/>
            <a:ext cx="727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pyright © 2010, Elsevier Inc. All rights Reserv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4" name="Picture 3" descr=""/>
          <p:cNvPicPr/>
          <p:nvPr/>
        </p:nvPicPr>
        <p:blipFill>
          <a:blip r:embed="rId1"/>
          <a:stretch/>
        </p:blipFill>
        <p:spPr>
          <a:xfrm>
            <a:off x="826920" y="811080"/>
            <a:ext cx="8317080" cy="5537160"/>
          </a:xfrm>
          <a:prstGeom prst="rect">
            <a:avLst/>
          </a:prstGeom>
          <a:ln w="0">
            <a:noFill/>
          </a:ln>
        </p:spPr>
      </p:pic>
      <p:sp>
        <p:nvSpPr>
          <p:cNvPr id="225" name="Rounded Rectangular Callout 4"/>
          <p:cNvSpPr/>
          <p:nvPr/>
        </p:nvSpPr>
        <p:spPr>
          <a:xfrm>
            <a:off x="3059280" y="3789360"/>
            <a:ext cx="1368360" cy="1022760"/>
          </a:xfrm>
          <a:prstGeom prst="wedgeRoundRectCallout">
            <a:avLst>
              <a:gd name="adj1" fmla="val 47050"/>
              <a:gd name="adj2" fmla="val 71777"/>
              <a:gd name="adj3" fmla="val 16667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don’t like it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6" name="Rounded Rectangular Callout 5"/>
          <p:cNvSpPr/>
          <p:nvPr/>
        </p:nvSpPr>
        <p:spPr>
          <a:xfrm>
            <a:off x="4500720" y="2637000"/>
            <a:ext cx="1584000" cy="1022760"/>
          </a:xfrm>
          <a:prstGeom prst="wedgeRoundRectCallout">
            <a:avLst>
              <a:gd name="adj1" fmla="val 47087"/>
              <a:gd name="adj2" fmla="val 64703"/>
              <a:gd name="adj3" fmla="val 16667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ither do I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Rounded Rectangular Callout 6"/>
          <p:cNvSpPr/>
          <p:nvPr/>
        </p:nvSpPr>
        <p:spPr>
          <a:xfrm>
            <a:off x="6588000" y="1125360"/>
            <a:ext cx="2087640" cy="1483200"/>
          </a:xfrm>
          <a:prstGeom prst="wedgeRoundRectCallout">
            <a:avLst>
              <a:gd name="adj1" fmla="val 9412"/>
              <a:gd name="adj2" fmla="val 80597"/>
              <a:gd name="adj3" fmla="val 16667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think we can do better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10920" y="115560"/>
            <a:ext cx="828180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Reduction operators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684360" y="1125360"/>
            <a:ext cx="827064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reduction operator 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is a binary operation (such as addition or multiplication).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reduction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is a computation that repeatedly applies the same reduction operator to a sequence of operands in order to get a single result.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All of the intermediate results of the operation should be stored in the same variable: the reduction variable.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0" name="Footer Placeholder 3"/>
          <p:cNvSpPr/>
          <p:nvPr/>
        </p:nvSpPr>
        <p:spPr>
          <a:xfrm>
            <a:off x="1042920" y="6381720"/>
            <a:ext cx="727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pyright © 2010, Elsevier Inc. All rights Reserv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Footer Placeholder 1"/>
          <p:cNvSpPr/>
          <p:nvPr/>
        </p:nvSpPr>
        <p:spPr>
          <a:xfrm>
            <a:off x="1042920" y="6381720"/>
            <a:ext cx="727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pyright © 2010, Elsevier Inc. All rights Reserv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826920" y="1125360"/>
            <a:ext cx="684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A reduction clause can be added to a parallel directive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33" name="Picture 2" descr=""/>
          <p:cNvPicPr/>
          <p:nvPr/>
        </p:nvPicPr>
        <p:blipFill>
          <a:blip r:embed="rId1"/>
          <a:stretch/>
        </p:blipFill>
        <p:spPr>
          <a:xfrm>
            <a:off x="324000" y="4076640"/>
            <a:ext cx="8532720" cy="14400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3" descr=""/>
          <p:cNvPicPr/>
          <p:nvPr/>
        </p:nvPicPr>
        <p:blipFill>
          <a:blip r:embed="rId2"/>
          <a:stretch/>
        </p:blipFill>
        <p:spPr>
          <a:xfrm>
            <a:off x="1116000" y="2205000"/>
            <a:ext cx="5986440" cy="503280"/>
          </a:xfrm>
          <a:prstGeom prst="rect">
            <a:avLst/>
          </a:prstGeom>
          <a:ln w="0">
            <a:noFill/>
          </a:ln>
        </p:spPr>
      </p:pic>
      <p:sp>
        <p:nvSpPr>
          <p:cNvPr id="235" name="Rectangle 8"/>
          <p:cNvSpPr/>
          <p:nvPr/>
        </p:nvSpPr>
        <p:spPr>
          <a:xfrm>
            <a:off x="4506840" y="3068640"/>
            <a:ext cx="272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+, *, -, &amp;, |, ˆ, &amp;&amp;, ||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Freeform 9"/>
          <p:cNvSpPr/>
          <p:nvPr/>
        </p:nvSpPr>
        <p:spPr>
          <a:xfrm>
            <a:off x="3357720" y="2655720"/>
            <a:ext cx="982440" cy="849600"/>
          </a:xfrm>
          <a:prstGeom prst="pie">
            <a:avLst/>
          </a:prstGeom>
          <a:noFill/>
          <a:ln w="9360">
            <a:solidFill>
              <a:srgbClr val="c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THE “PARALLEL FOR” DIRECTIVE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38" name="Footer Placeholder 3"/>
          <p:cNvSpPr/>
          <p:nvPr/>
        </p:nvSpPr>
        <p:spPr>
          <a:xfrm>
            <a:off x="1042920" y="6381720"/>
            <a:ext cx="727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pyright © 2010, Elsevier Inc. All rights Reserv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39" name="Picture 2" descr="cartoons,competitions,gymnastics,handstands,leisure,parallel bars,people,recreation,sports"/>
          <p:cNvPicPr/>
          <p:nvPr/>
        </p:nvPicPr>
        <p:blipFill>
          <a:blip r:embed="rId1"/>
          <a:stretch/>
        </p:blipFill>
        <p:spPr>
          <a:xfrm>
            <a:off x="1042920" y="981000"/>
            <a:ext cx="309564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10920" y="115560"/>
            <a:ext cx="828180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Parallel for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684360" y="1125360"/>
            <a:ext cx="827064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orks a team of threads to execute the following structured block.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However, the structured block following the parallel for directive must be a for loop.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urthermore, with the parallel for directive the system parallelizes the for loop by dividing the iterations of the loop among the threads.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2" name="Footer Placeholder 3"/>
          <p:cNvSpPr/>
          <p:nvPr/>
        </p:nvSpPr>
        <p:spPr>
          <a:xfrm>
            <a:off x="1042920" y="6381720"/>
            <a:ext cx="727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pyright © 2010, Elsevier Inc. All rights Reserv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Footer Placeholder 1"/>
          <p:cNvSpPr/>
          <p:nvPr/>
        </p:nvSpPr>
        <p:spPr>
          <a:xfrm>
            <a:off x="1042920" y="6381720"/>
            <a:ext cx="727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pyright © 2010, Elsevier Inc. All rights Reserv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44" name="Picture 2" descr=""/>
          <p:cNvPicPr/>
          <p:nvPr/>
        </p:nvPicPr>
        <p:blipFill>
          <a:blip r:embed="rId1"/>
          <a:stretch/>
        </p:blipFill>
        <p:spPr>
          <a:xfrm>
            <a:off x="1042920" y="1341360"/>
            <a:ext cx="3371760" cy="140040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3" descr=""/>
          <p:cNvPicPr/>
          <p:nvPr/>
        </p:nvPicPr>
        <p:blipFill>
          <a:blip r:embed="rId2"/>
          <a:stretch/>
        </p:blipFill>
        <p:spPr>
          <a:xfrm>
            <a:off x="1979640" y="3716280"/>
            <a:ext cx="6399360" cy="1790640"/>
          </a:xfrm>
          <a:prstGeom prst="rect">
            <a:avLst/>
          </a:prstGeom>
          <a:ln w="0">
            <a:noFill/>
          </a:ln>
        </p:spPr>
      </p:pic>
      <p:cxnSp>
        <p:nvCxnSpPr>
          <p:cNvPr id="246" name="Straight Arrow Connector 5"/>
          <p:cNvCxnSpPr/>
          <p:nvPr/>
        </p:nvCxnSpPr>
        <p:spPr>
          <a:xfrm>
            <a:off x="2727720" y="2741760"/>
            <a:ext cx="691560" cy="832320"/>
          </a:xfrm>
          <a:prstGeom prst="straightConnector1">
            <a:avLst/>
          </a:prstGeom>
          <a:ln w="93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247" name="Trapezoid 7"/>
          <p:cNvSpPr/>
          <p:nvPr/>
        </p:nvSpPr>
        <p:spPr>
          <a:xfrm>
            <a:off x="5292720" y="2421000"/>
            <a:ext cx="1079640" cy="792000"/>
          </a:xfrm>
          <a:prstGeom prst="pie">
            <a:avLst/>
          </a:prstGeom>
          <a:noFill/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10920" y="0"/>
            <a:ext cx="8281800" cy="1324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Legal forms for parallelizable for statements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49" name="Footer Placeholder 2"/>
          <p:cNvSpPr/>
          <p:nvPr/>
        </p:nvSpPr>
        <p:spPr>
          <a:xfrm>
            <a:off x="1042920" y="6381720"/>
            <a:ext cx="727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pyright © 2010, Elsevier Inc. All rights Reserv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50" name="Picture 2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8497800" cy="29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10920" y="109080"/>
            <a:ext cx="8281800" cy="708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Caveats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4360" y="1125360"/>
            <a:ext cx="827064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e variable </a:t>
            </a: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index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must have integer or pointer type (e.g., it can’t be a float).</a:t>
            </a:r>
            <a:br>
              <a:rPr sz="3200"/>
            </a:b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e expressions </a:t>
            </a: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start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end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, and </a:t>
            </a: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incr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must have a compatible type. For example, if index is a pointer, then </a:t>
            </a: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incr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must have integer type.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3" name="Footer Placeholder 3"/>
          <p:cNvSpPr/>
          <p:nvPr/>
        </p:nvSpPr>
        <p:spPr>
          <a:xfrm>
            <a:off x="1042920" y="6381720"/>
            <a:ext cx="727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pyright © 2010, Elsevier Inc. All rights Reserv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10920" y="109080"/>
            <a:ext cx="8281800" cy="708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A shared memory system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14" name="Footer Placeholder 1"/>
          <p:cNvSpPr/>
          <p:nvPr/>
        </p:nvSpPr>
        <p:spPr>
          <a:xfrm>
            <a:off x="1042920" y="6381720"/>
            <a:ext cx="727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pyright © 2010, Elsevier Inc. All rights Reserv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539640" y="1413000"/>
            <a:ext cx="7956720" cy="37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10920" y="115560"/>
            <a:ext cx="828180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Caveats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4360" y="1125360"/>
            <a:ext cx="827064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e expressions </a:t>
            </a: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start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end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, and </a:t>
            </a: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incr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must not change during execution of the loop.</a:t>
            </a:r>
            <a:br>
              <a:rPr sz="3200"/>
            </a:b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During execution of the loop, the variable </a:t>
            </a: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index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can only be modified by the “increment expression” in the 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for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statement.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6" name="Footer Placeholder 3"/>
          <p:cNvSpPr/>
          <p:nvPr/>
        </p:nvSpPr>
        <p:spPr>
          <a:xfrm>
            <a:off x="1042920" y="6381720"/>
            <a:ext cx="727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pyright © 2010, Elsevier Inc. All rights Reserv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10920" y="115560"/>
            <a:ext cx="828180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Data dependencies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58" name="Footer Placeholder 2"/>
          <p:cNvSpPr/>
          <p:nvPr/>
        </p:nvSpPr>
        <p:spPr>
          <a:xfrm>
            <a:off x="1042920" y="6381720"/>
            <a:ext cx="727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pyright © 2010, Elsevier Inc. All rights Reserv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cxnSp>
        <p:nvCxnSpPr>
          <p:cNvPr id="259" name="Straight Arrow Connector 6"/>
          <p:cNvCxnSpPr/>
          <p:nvPr/>
        </p:nvCxnSpPr>
        <p:spPr>
          <a:xfrm flipH="1">
            <a:off x="3850560" y="2133720"/>
            <a:ext cx="1080" cy="72144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</p:cxnSp>
      <p:sp>
        <p:nvSpPr>
          <p:cNvPr id="260" name="Rectangle 8"/>
          <p:cNvSpPr/>
          <p:nvPr/>
        </p:nvSpPr>
        <p:spPr>
          <a:xfrm>
            <a:off x="684360" y="508464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1 2 3 5 8 13 21 34 55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1" name="Rectangle 9"/>
          <p:cNvSpPr/>
          <p:nvPr/>
        </p:nvSpPr>
        <p:spPr>
          <a:xfrm>
            <a:off x="4512240" y="5589720"/>
            <a:ext cx="26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1 2 3 5 8 0 0 0 0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cxnSp>
        <p:nvCxnSpPr>
          <p:cNvPr id="262" name="Straight Arrow Connector 10"/>
          <p:cNvCxnSpPr/>
          <p:nvPr/>
        </p:nvCxnSpPr>
        <p:spPr>
          <a:xfrm flipH="1">
            <a:off x="2699640" y="4365720"/>
            <a:ext cx="1080" cy="72144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263" name="Straight Arrow Connector 11"/>
          <p:cNvCxnSpPr/>
          <p:nvPr/>
        </p:nvCxnSpPr>
        <p:spPr>
          <a:xfrm flipH="1">
            <a:off x="5723640" y="4365720"/>
            <a:ext cx="1080" cy="122472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</p:cxnSp>
      <p:sp>
        <p:nvSpPr>
          <p:cNvPr id="264" name="TextBox 14"/>
          <p:cNvSpPr/>
          <p:nvPr/>
        </p:nvSpPr>
        <p:spPr>
          <a:xfrm>
            <a:off x="1768680" y="5516640"/>
            <a:ext cx="168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this is correc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5" name="TextBox 15"/>
          <p:cNvSpPr/>
          <p:nvPr/>
        </p:nvSpPr>
        <p:spPr>
          <a:xfrm>
            <a:off x="6026760" y="4581360"/>
            <a:ext cx="183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but sometimes</a:t>
            </a:r>
            <a:br>
              <a:rPr sz="2000"/>
            </a:b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we get this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6" name="TextBox 12"/>
          <p:cNvSpPr/>
          <p:nvPr/>
        </p:nvSpPr>
        <p:spPr>
          <a:xfrm>
            <a:off x="1736280" y="981000"/>
            <a:ext cx="486720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Bodoni MT"/>
              </a:rPr>
              <a:t>fibo[ 0 ]  =  fibo[ 1 ]  =  1;</a:t>
            </a:r>
            <a:endParaRPr b="0" lang="en-US" sz="21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Bodoni MT"/>
              </a:rPr>
              <a:t>for</a:t>
            </a:r>
            <a:r>
              <a:rPr b="0" lang="en-US" sz="2100" spc="-1" strike="noStrike">
                <a:solidFill>
                  <a:srgbClr val="000000"/>
                </a:solidFill>
                <a:latin typeface="Bodoni MT"/>
              </a:rPr>
              <a:t>  (i  =  2;  i  &lt;  n;  i++)</a:t>
            </a:r>
            <a:endParaRPr b="0" lang="en-US" sz="21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Bodoni MT"/>
              </a:rPr>
              <a:t>     </a:t>
            </a:r>
            <a:r>
              <a:rPr b="0" lang="en-US" sz="2100" spc="-1" strike="noStrike">
                <a:solidFill>
                  <a:srgbClr val="000000"/>
                </a:solidFill>
                <a:latin typeface="Bodoni MT"/>
              </a:rPr>
              <a:t>fibo[ i ]  =  fibo[ i – 1 ] + fibo[ i – 2 ]; </a:t>
            </a:r>
            <a:endParaRPr b="0" lang="en-US" sz="21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7" name="TextBox 13"/>
          <p:cNvSpPr/>
          <p:nvPr/>
        </p:nvSpPr>
        <p:spPr>
          <a:xfrm>
            <a:off x="1154520" y="2781360"/>
            <a:ext cx="6037920" cy="157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Bodoni MT"/>
              </a:rPr>
              <a:t>     </a:t>
            </a:r>
            <a:r>
              <a:rPr b="0" lang="en-US" sz="2100" spc="-1" strike="noStrike">
                <a:solidFill>
                  <a:srgbClr val="000000"/>
                </a:solidFill>
                <a:latin typeface="Bodoni MT"/>
              </a:rPr>
              <a:t>fibo[ 0 ]  =  fibo[ 1 ]  =  1;</a:t>
            </a:r>
            <a:endParaRPr b="0" lang="en-US" sz="21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Bodoni MT"/>
              </a:rPr>
              <a:t>#   </a:t>
            </a:r>
            <a:r>
              <a:rPr b="1" lang="en-US" sz="2100" spc="-1" strike="noStrike">
                <a:solidFill>
                  <a:srgbClr val="000000"/>
                </a:solidFill>
                <a:latin typeface="Bodoni MT"/>
              </a:rPr>
              <a:t>pragma</a:t>
            </a:r>
            <a:r>
              <a:rPr b="0" lang="en-US" sz="2100" spc="-1" strike="noStrike">
                <a:solidFill>
                  <a:srgbClr val="000000"/>
                </a:solidFill>
                <a:latin typeface="Bodoni MT"/>
              </a:rPr>
              <a:t>  omp  parallel  </a:t>
            </a:r>
            <a:r>
              <a:rPr b="1" lang="en-US" sz="2100" spc="-1" strike="noStrike">
                <a:solidFill>
                  <a:srgbClr val="000000"/>
                </a:solidFill>
                <a:latin typeface="Bodoni MT"/>
              </a:rPr>
              <a:t>for</a:t>
            </a:r>
            <a:r>
              <a:rPr b="0" lang="en-US" sz="2100" spc="-1" strike="noStrike">
                <a:solidFill>
                  <a:srgbClr val="000000"/>
                </a:solidFill>
                <a:latin typeface="Bodoni MT"/>
              </a:rPr>
              <a:t>  num_threads(2)</a:t>
            </a:r>
            <a:endParaRPr b="0" lang="en-US" sz="21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Bodoni MT"/>
              </a:rPr>
              <a:t>     </a:t>
            </a:r>
            <a:r>
              <a:rPr b="1" lang="en-US" sz="2100" spc="-1" strike="noStrike">
                <a:solidFill>
                  <a:srgbClr val="000000"/>
                </a:solidFill>
                <a:latin typeface="Bodoni MT"/>
              </a:rPr>
              <a:t>for</a:t>
            </a:r>
            <a:r>
              <a:rPr b="0" lang="en-US" sz="2100" spc="-1" strike="noStrike">
                <a:solidFill>
                  <a:srgbClr val="000000"/>
                </a:solidFill>
                <a:latin typeface="Bodoni MT"/>
              </a:rPr>
              <a:t>  (i  =  2;  i  &lt;  n;  i++)</a:t>
            </a:r>
            <a:endParaRPr b="0" lang="en-US" sz="21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Bodoni MT"/>
              </a:rPr>
              <a:t>          </a:t>
            </a:r>
            <a:r>
              <a:rPr b="0" lang="en-US" sz="2100" spc="-1" strike="noStrike">
                <a:solidFill>
                  <a:srgbClr val="000000"/>
                </a:solidFill>
                <a:latin typeface="Bodoni MT"/>
              </a:rPr>
              <a:t>fibo[ i ]  =  fibo[ i – 1 ] + fibo[ i – 2 ]; </a:t>
            </a:r>
            <a:endParaRPr b="0" lang="en-US" sz="2100" spc="-1" strike="noStrike">
              <a:solidFill>
                <a:srgbClr val="000000"/>
              </a:solidFill>
              <a:latin typeface="Arial Black"/>
            </a:endParaRPr>
          </a:p>
        </p:txBody>
      </p:sp>
      <p:cxnSp>
        <p:nvCxnSpPr>
          <p:cNvPr id="268" name="Straight Arrow Connector 16"/>
          <p:cNvCxnSpPr/>
          <p:nvPr/>
        </p:nvCxnSpPr>
        <p:spPr>
          <a:xfrm flipH="1">
            <a:off x="6658920" y="2492280"/>
            <a:ext cx="577080" cy="650160"/>
          </a:xfrm>
          <a:prstGeom prst="straightConnector1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</p:cxnSp>
      <p:sp>
        <p:nvSpPr>
          <p:cNvPr id="269" name="TextBox 18"/>
          <p:cNvSpPr/>
          <p:nvPr/>
        </p:nvSpPr>
        <p:spPr>
          <a:xfrm>
            <a:off x="6885720" y="20606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note 2 threads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10920" y="115560"/>
            <a:ext cx="828180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What happened?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3779640" y="1125360"/>
            <a:ext cx="51750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OpenMP compilers don’t check for dependences among iterations in a loop that’s being parallelized with a parallel for directive.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A loop in which the results of one or more iterations depend on other iterations cannot, in general, be correctly parallelized by OpenMP.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2" name="Footer Placeholder 2"/>
          <p:cNvSpPr/>
          <p:nvPr/>
        </p:nvSpPr>
        <p:spPr>
          <a:xfrm>
            <a:off x="1042920" y="6381720"/>
            <a:ext cx="727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pyright © 2010, Elsevier Inc. All rights Reserv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73" name="Picture 2" descr="bewilderment,businesses,businessmen,confused,confusion,emotions,men,metaphors,persons,vanishing,vanishing into thin air,wonders"/>
          <p:cNvPicPr/>
          <p:nvPr/>
        </p:nvPicPr>
        <p:blipFill>
          <a:blip r:embed="rId1"/>
          <a:stretch/>
        </p:blipFill>
        <p:spPr>
          <a:xfrm>
            <a:off x="468360" y="2349360"/>
            <a:ext cx="309564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10920" y="109080"/>
            <a:ext cx="8281800" cy="708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NimbusRomNo9L-Medi"/>
              </a:rPr>
              <a:t>Estimating </a:t>
            </a:r>
            <a:r>
              <a:rPr b="1" lang="el-GR" sz="4000" spc="-1" strike="noStrike">
                <a:solidFill>
                  <a:srgbClr val="0066ff"/>
                </a:solidFill>
                <a:latin typeface="Arial"/>
                <a:ea typeface="Arial"/>
              </a:rPr>
              <a:t>π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75" name="Footer Placeholder 2"/>
          <p:cNvSpPr/>
          <p:nvPr/>
        </p:nvSpPr>
        <p:spPr>
          <a:xfrm>
            <a:off x="1042920" y="6381720"/>
            <a:ext cx="727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pyright © 2010, Elsevier Inc. All rights Reserv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76" name="Picture 2" descr=""/>
          <p:cNvPicPr/>
          <p:nvPr/>
        </p:nvPicPr>
        <p:blipFill>
          <a:blip r:embed="rId1"/>
          <a:stretch/>
        </p:blipFill>
        <p:spPr>
          <a:xfrm>
            <a:off x="1476360" y="1197000"/>
            <a:ext cx="6114960" cy="130500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3" descr=""/>
          <p:cNvPicPr/>
          <p:nvPr/>
        </p:nvPicPr>
        <p:blipFill>
          <a:blip r:embed="rId2"/>
          <a:stretch/>
        </p:blipFill>
        <p:spPr>
          <a:xfrm>
            <a:off x="2050920" y="2565360"/>
            <a:ext cx="5124600" cy="30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10920" y="115560"/>
            <a:ext cx="828180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OpenMP solution #1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79" name="Footer Placeholder 2"/>
          <p:cNvSpPr/>
          <p:nvPr/>
        </p:nvSpPr>
        <p:spPr>
          <a:xfrm>
            <a:off x="1042920" y="6381720"/>
            <a:ext cx="727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pyright © 2010, Elsevier Inc. All rights Reserv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80" name="Picture 2" descr=""/>
          <p:cNvPicPr/>
          <p:nvPr/>
        </p:nvPicPr>
        <p:blipFill>
          <a:blip r:embed="rId1"/>
          <a:stretch/>
        </p:blipFill>
        <p:spPr>
          <a:xfrm>
            <a:off x="376200" y="1990800"/>
            <a:ext cx="8389800" cy="2876400"/>
          </a:xfrm>
          <a:prstGeom prst="rect">
            <a:avLst/>
          </a:prstGeom>
          <a:ln w="0">
            <a:noFill/>
          </a:ln>
        </p:spPr>
      </p:pic>
      <p:sp>
        <p:nvSpPr>
          <p:cNvPr id="281" name="Freeform 4"/>
          <p:cNvSpPr/>
          <p:nvPr/>
        </p:nvSpPr>
        <p:spPr>
          <a:xfrm>
            <a:off x="160200" y="1514520"/>
            <a:ext cx="4221360" cy="3002040"/>
          </a:xfrm>
          <a:prstGeom prst="pie">
            <a:avLst/>
          </a:prstGeom>
          <a:noFill/>
          <a:ln w="9360">
            <a:solidFill>
              <a:srgbClr val="c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2" name="TextBox 5"/>
          <p:cNvSpPr/>
          <p:nvPr/>
        </p:nvSpPr>
        <p:spPr>
          <a:xfrm>
            <a:off x="4219560" y="1484280"/>
            <a:ext cx="212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loop dependency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2" descr=""/>
          <p:cNvPicPr/>
          <p:nvPr/>
        </p:nvPicPr>
        <p:blipFill>
          <a:blip r:embed="rId1"/>
          <a:stretch/>
        </p:blipFill>
        <p:spPr>
          <a:xfrm>
            <a:off x="395280" y="1268280"/>
            <a:ext cx="8485200" cy="306720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10920" y="115560"/>
            <a:ext cx="828180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OpenMP solution #2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85" name="Footer Placeholder 2"/>
          <p:cNvSpPr/>
          <p:nvPr/>
        </p:nvSpPr>
        <p:spPr>
          <a:xfrm>
            <a:off x="1042920" y="6381720"/>
            <a:ext cx="727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pyright © 2010, Elsevier Inc. All rights Reserv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6" name="TextBox 5"/>
          <p:cNvSpPr/>
          <p:nvPr/>
        </p:nvSpPr>
        <p:spPr>
          <a:xfrm>
            <a:off x="5946840" y="2924280"/>
            <a:ext cx="2276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Insures factor has </a:t>
            </a:r>
            <a:br>
              <a:rPr sz="2000"/>
            </a:b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private scope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7" name="Freeform 7"/>
          <p:cNvSpPr/>
          <p:nvPr/>
        </p:nvSpPr>
        <p:spPr>
          <a:xfrm>
            <a:off x="5102280" y="2249640"/>
            <a:ext cx="1492200" cy="682560"/>
          </a:xfrm>
          <a:prstGeom prst="pie">
            <a:avLst/>
          </a:prstGeom>
          <a:noFill/>
          <a:ln w="9360">
            <a:solidFill>
              <a:srgbClr val="c00000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10920" y="109080"/>
            <a:ext cx="8281800" cy="708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The default clause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4360" y="1125360"/>
            <a:ext cx="827064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Lets the programmer specify the scope of each variable in a block.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With this clause the compiler will require that we specify the scope of each variable we use in the block and that has been declared outside the block.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0" name="Footer Placeholder 3"/>
          <p:cNvSpPr/>
          <p:nvPr/>
        </p:nvSpPr>
        <p:spPr>
          <a:xfrm>
            <a:off x="1042920" y="6381720"/>
            <a:ext cx="727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pyright © 2010, Elsevier Inc. All rights Reserv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91" name="Picture 2" descr=""/>
          <p:cNvPicPr/>
          <p:nvPr/>
        </p:nvPicPr>
        <p:blipFill>
          <a:blip r:embed="rId1"/>
          <a:stretch/>
        </p:blipFill>
        <p:spPr>
          <a:xfrm>
            <a:off x="2268360" y="2349360"/>
            <a:ext cx="2724480" cy="5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10920" y="115560"/>
            <a:ext cx="828180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The default clause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93" name="Footer Placeholder 2"/>
          <p:cNvSpPr/>
          <p:nvPr/>
        </p:nvSpPr>
        <p:spPr>
          <a:xfrm>
            <a:off x="1042920" y="6381720"/>
            <a:ext cx="727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pyright © 2010, Elsevier Inc. All rights Reserv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94" name="Picture 2" descr=""/>
          <p:cNvPicPr/>
          <p:nvPr/>
        </p:nvPicPr>
        <p:blipFill>
          <a:blip r:embed="rId1"/>
          <a:stretch/>
        </p:blipFill>
        <p:spPr>
          <a:xfrm>
            <a:off x="468360" y="1413000"/>
            <a:ext cx="8244000" cy="32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MORE ABOUT LOOPS IN OPENMP: SORTING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96" name="Footer Placeholder 3"/>
          <p:cNvSpPr/>
          <p:nvPr/>
        </p:nvSpPr>
        <p:spPr>
          <a:xfrm>
            <a:off x="1042920" y="6381720"/>
            <a:ext cx="727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pyright © 2010, Elsevier Inc. All rights Reserv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97" name="Picture 2" descr="coils,connections,curling,electronics,loops,networks,reflections,Veer Images"/>
          <p:cNvPicPr/>
          <p:nvPr/>
        </p:nvPicPr>
        <p:blipFill>
          <a:blip r:embed="rId1"/>
          <a:stretch/>
        </p:blipFill>
        <p:spPr>
          <a:xfrm>
            <a:off x="324000" y="1052640"/>
            <a:ext cx="309564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10920" y="109080"/>
            <a:ext cx="8281800" cy="708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Bubble Sort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99" name="Footer Placeholder 2"/>
          <p:cNvSpPr/>
          <p:nvPr/>
        </p:nvSpPr>
        <p:spPr>
          <a:xfrm>
            <a:off x="1042920" y="6381720"/>
            <a:ext cx="727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pyright © 2010, Elsevier Inc. All rights Reserv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300" name="Picture 2" descr=""/>
          <p:cNvPicPr/>
          <p:nvPr/>
        </p:nvPicPr>
        <p:blipFill>
          <a:blip r:embed="rId1"/>
          <a:stretch/>
        </p:blipFill>
        <p:spPr>
          <a:xfrm>
            <a:off x="684360" y="1268280"/>
            <a:ext cx="7837200" cy="219096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4" descr="backgrounds,bubbles,clear,colorful,fizz,floating,Fotolia,transparent,wallpapers,waters"/>
          <p:cNvPicPr/>
          <p:nvPr/>
        </p:nvPicPr>
        <p:blipFill>
          <a:blip r:embed="rId2"/>
          <a:stretch/>
        </p:blipFill>
        <p:spPr>
          <a:xfrm>
            <a:off x="5292720" y="2708280"/>
            <a:ext cx="309564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10920" y="109080"/>
            <a:ext cx="8281800" cy="708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Pragmas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4360" y="1125360"/>
            <a:ext cx="827064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pecial preprocessor instructions.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ypically added to a system to allow behaviors that aren’t part of the basic C specification.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ompilers that don’t support the pragmas ignore them.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8" name="Footer Placeholder 3"/>
          <p:cNvSpPr/>
          <p:nvPr/>
        </p:nvSpPr>
        <p:spPr>
          <a:xfrm>
            <a:off x="1042920" y="6381720"/>
            <a:ext cx="727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pyright © 2010, Elsevier Inc. All rights Reserv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3717360" y="4437000"/>
            <a:ext cx="178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#pragma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10920" y="171000"/>
            <a:ext cx="8281800" cy="646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Arial"/>
              </a:rPr>
              <a:t>Serial Odd-Even Transposition Sort</a:t>
            </a:r>
            <a:endParaRPr b="1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03" name="Footer Placeholder 2"/>
          <p:cNvSpPr/>
          <p:nvPr/>
        </p:nvSpPr>
        <p:spPr>
          <a:xfrm>
            <a:off x="1042920" y="6381720"/>
            <a:ext cx="727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pyright © 2010, Elsevier Inc. All rights Reserv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304" name="Picture 2" descr=""/>
          <p:cNvPicPr/>
          <p:nvPr/>
        </p:nvPicPr>
        <p:blipFill>
          <a:blip r:embed="rId1"/>
          <a:stretch/>
        </p:blipFill>
        <p:spPr>
          <a:xfrm>
            <a:off x="611280" y="1197000"/>
            <a:ext cx="813420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10920" y="171000"/>
            <a:ext cx="8281800" cy="646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Arial"/>
              </a:rPr>
              <a:t>Serial Odd-Even Transposition Sort</a:t>
            </a:r>
            <a:endParaRPr b="1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06" name="Footer Placeholder 2"/>
          <p:cNvSpPr/>
          <p:nvPr/>
        </p:nvSpPr>
        <p:spPr>
          <a:xfrm>
            <a:off x="1042920" y="6381720"/>
            <a:ext cx="727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pyright © 2010, Elsevier Inc. All rights Reserv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307" name="Picture 3" descr=""/>
          <p:cNvPicPr/>
          <p:nvPr/>
        </p:nvPicPr>
        <p:blipFill>
          <a:blip r:embed="rId1"/>
          <a:stretch/>
        </p:blipFill>
        <p:spPr>
          <a:xfrm>
            <a:off x="1692360" y="1484280"/>
            <a:ext cx="454320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10920" y="115560"/>
            <a:ext cx="828180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First OpenMP Odd-Even Sort</a:t>
            </a:r>
            <a:endParaRPr b="1" lang="en-US" sz="32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09" name="Footer Placeholder 2"/>
          <p:cNvSpPr/>
          <p:nvPr/>
        </p:nvSpPr>
        <p:spPr>
          <a:xfrm>
            <a:off x="1042920" y="6381720"/>
            <a:ext cx="727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pyright © 2010, Elsevier Inc. All rights Reserv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310" name="Picture 2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701496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10920" y="232920"/>
            <a:ext cx="8281800" cy="58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Second OpenMP Odd-Even Sort</a:t>
            </a:r>
            <a:endParaRPr b="1" lang="en-US" sz="32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12" name="Footer Placeholder 2"/>
          <p:cNvSpPr/>
          <p:nvPr/>
        </p:nvSpPr>
        <p:spPr>
          <a:xfrm>
            <a:off x="1042920" y="6381720"/>
            <a:ext cx="727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pyright © 2010, Elsevier Inc. All rights Reserv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313" name="Picture 2" descr=""/>
          <p:cNvPicPr/>
          <p:nvPr/>
        </p:nvPicPr>
        <p:blipFill>
          <a:blip r:embed="rId1"/>
          <a:stretch/>
        </p:blipFill>
        <p:spPr>
          <a:xfrm>
            <a:off x="684360" y="836640"/>
            <a:ext cx="642780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Picture 5" descr=""/>
          <p:cNvPicPr/>
          <p:nvPr/>
        </p:nvPicPr>
        <p:blipFill>
          <a:blip r:embed="rId1"/>
          <a:stretch/>
        </p:blipFill>
        <p:spPr>
          <a:xfrm>
            <a:off x="7086600" y="3500280"/>
            <a:ext cx="2057400" cy="2810160"/>
          </a:xfrm>
          <a:prstGeom prst="rect">
            <a:avLst/>
          </a:prstGeom>
          <a:ln w="0">
            <a:noFill/>
          </a:ln>
        </p:spPr>
      </p:pic>
      <p:sp>
        <p:nvSpPr>
          <p:cNvPr id="315" name="Footer Placeholder 1"/>
          <p:cNvSpPr/>
          <p:nvPr/>
        </p:nvSpPr>
        <p:spPr>
          <a:xfrm>
            <a:off x="1042920" y="6381720"/>
            <a:ext cx="727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pyright © 2010, Elsevier Inc. All rights Reserv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6" name="TextBox 2"/>
          <p:cNvSpPr/>
          <p:nvPr/>
        </p:nvSpPr>
        <p:spPr>
          <a:xfrm>
            <a:off x="780480" y="1125360"/>
            <a:ext cx="780840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dd-even sort with two parallel for directives and two for directives. 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Times are in seconds.)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317" name="Picture 2" descr=""/>
          <p:cNvPicPr/>
          <p:nvPr/>
        </p:nvPicPr>
        <p:blipFill>
          <a:blip r:embed="rId2"/>
          <a:stretch/>
        </p:blipFill>
        <p:spPr>
          <a:xfrm>
            <a:off x="900000" y="2421000"/>
            <a:ext cx="7008840" cy="12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2" descr="cables,coils,connections,curling,electronics,loops,networks,reflections,Veer Images"/>
          <p:cNvPicPr/>
          <p:nvPr/>
        </p:nvPicPr>
        <p:blipFill>
          <a:blip r:embed="rId1"/>
          <a:stretch/>
        </p:blipFill>
        <p:spPr>
          <a:xfrm>
            <a:off x="826920" y="979560"/>
            <a:ext cx="3816360" cy="3816360"/>
          </a:xfrm>
          <a:prstGeom prst="rect">
            <a:avLst/>
          </a:prstGeom>
          <a:ln w="0">
            <a:noFill/>
          </a:ln>
        </p:spPr>
      </p:pic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722160" y="4406400"/>
            <a:ext cx="7772400" cy="70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SCHEDULING LOOPS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20" name="Footer Placeholder 3"/>
          <p:cNvSpPr/>
          <p:nvPr/>
        </p:nvSpPr>
        <p:spPr>
          <a:xfrm>
            <a:off x="1042920" y="6381720"/>
            <a:ext cx="727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pyright © 2010, Elsevier Inc. All rights Reserv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ooter Placeholder 1"/>
          <p:cNvSpPr/>
          <p:nvPr/>
        </p:nvSpPr>
        <p:spPr>
          <a:xfrm>
            <a:off x="1042920" y="6381720"/>
            <a:ext cx="727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pyright © 2010, Elsevier Inc. All rights Reserv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322" name="Picture 2" descr=""/>
          <p:cNvPicPr/>
          <p:nvPr/>
        </p:nvPicPr>
        <p:blipFill>
          <a:blip r:embed="rId1"/>
          <a:stretch/>
        </p:blipFill>
        <p:spPr>
          <a:xfrm>
            <a:off x="4356000" y="1125360"/>
            <a:ext cx="3724200" cy="1124280"/>
          </a:xfrm>
          <a:prstGeom prst="rect">
            <a:avLst/>
          </a:prstGeom>
          <a:ln w="0">
            <a:noFill/>
          </a:ln>
        </p:spPr>
      </p:pic>
      <p:sp>
        <p:nvSpPr>
          <p:cNvPr id="323" name="TextBox 3"/>
          <p:cNvSpPr/>
          <p:nvPr/>
        </p:nvSpPr>
        <p:spPr>
          <a:xfrm>
            <a:off x="1051920" y="1125360"/>
            <a:ext cx="267084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We want to parallelize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this loop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324" name="Picture 3" descr=""/>
          <p:cNvPicPr/>
          <p:nvPr/>
        </p:nvPicPr>
        <p:blipFill>
          <a:blip r:embed="rId2"/>
          <a:stretch/>
        </p:blipFill>
        <p:spPr>
          <a:xfrm>
            <a:off x="1042920" y="2637000"/>
            <a:ext cx="5076720" cy="1885680"/>
          </a:xfrm>
          <a:prstGeom prst="rect">
            <a:avLst/>
          </a:prstGeom>
          <a:ln w="0">
            <a:noFill/>
          </a:ln>
        </p:spPr>
      </p:pic>
      <p:sp>
        <p:nvSpPr>
          <p:cNvPr id="325" name="TextBox 5"/>
          <p:cNvSpPr/>
          <p:nvPr/>
        </p:nvSpPr>
        <p:spPr>
          <a:xfrm>
            <a:off x="3862800" y="4869000"/>
            <a:ext cx="2870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Assignment of work </a:t>
            </a:r>
            <a:br>
              <a:rPr sz="2000"/>
            </a:b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using cyclic partitioning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Footer Placeholder 1"/>
          <p:cNvSpPr/>
          <p:nvPr/>
        </p:nvSpPr>
        <p:spPr>
          <a:xfrm>
            <a:off x="1042920" y="6381720"/>
            <a:ext cx="727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pyright © 2010, Elsevier Inc. All rights Reserv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327" name="Picture 2" descr=""/>
          <p:cNvPicPr/>
          <p:nvPr/>
        </p:nvPicPr>
        <p:blipFill>
          <a:blip r:embed="rId1"/>
          <a:stretch/>
        </p:blipFill>
        <p:spPr>
          <a:xfrm>
            <a:off x="611280" y="1125360"/>
            <a:ext cx="7047000" cy="2781360"/>
          </a:xfrm>
          <a:prstGeom prst="rect">
            <a:avLst/>
          </a:prstGeom>
          <a:ln w="0">
            <a:noFill/>
          </a:ln>
        </p:spPr>
      </p:pic>
      <p:sp>
        <p:nvSpPr>
          <p:cNvPr id="328" name="TextBox 3"/>
          <p:cNvSpPr/>
          <p:nvPr/>
        </p:nvSpPr>
        <p:spPr>
          <a:xfrm>
            <a:off x="3221640" y="4005360"/>
            <a:ext cx="374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Our definition of function </a:t>
            </a:r>
            <a:r>
              <a:rPr b="0" i="1" lang="en-US" sz="2400" spc="-1" strike="noStrike">
                <a:solidFill>
                  <a:srgbClr val="c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10920" y="115560"/>
            <a:ext cx="828180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Results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684360" y="1125360"/>
            <a:ext cx="827064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(i) calls the sin function </a:t>
            </a:r>
            <a:r>
              <a:rPr b="0" i="1" lang="en-US" sz="3200" spc="-1" strike="noStrike">
                <a:solidFill>
                  <a:srgbClr val="003399"/>
                </a:solidFill>
                <a:latin typeface="Arial"/>
              </a:rPr>
              <a:t>i 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imes.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Assume the time to execute f(2i) requires approximately twice as much time as the time to execute f(i).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n = 10,000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one thread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run-time = 3.67 seconds.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1" name="Footer Placeholder 3"/>
          <p:cNvSpPr/>
          <p:nvPr/>
        </p:nvSpPr>
        <p:spPr>
          <a:xfrm>
            <a:off x="1042920" y="6381720"/>
            <a:ext cx="727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pyright © 2010, Elsevier Inc. All rights Reserv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10920" y="115560"/>
            <a:ext cx="828180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Results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11280" y="981000"/>
            <a:ext cx="827064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n = 10,000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two thread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default assignment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run-time = 2.76 second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peedup = 1.33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n = 10,000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two thread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cyclic assignment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run-time = 1.84 second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speedup = 1.99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4" name="Footer Placeholder 3"/>
          <p:cNvSpPr/>
          <p:nvPr/>
        </p:nvSpPr>
        <p:spPr>
          <a:xfrm>
            <a:off x="1042920" y="6381720"/>
            <a:ext cx="727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pyright © 2010, Elsevier Inc. All rights Reserv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335" name="Picture 4" descr="awards,cartoons,persons,prizes,Screen Beans®,special occasions,trophies,winners,winnings"/>
          <p:cNvPicPr/>
          <p:nvPr/>
        </p:nvPicPr>
        <p:blipFill>
          <a:blip r:embed="rId1"/>
          <a:stretch/>
        </p:blipFill>
        <p:spPr>
          <a:xfrm>
            <a:off x="6227640" y="3716280"/>
            <a:ext cx="216072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1"/>
          <p:cNvSpPr/>
          <p:nvPr/>
        </p:nvSpPr>
        <p:spPr>
          <a:xfrm>
            <a:off x="1042920" y="6381720"/>
            <a:ext cx="727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pyright © 2010, Elsevier Inc. All rights Reserv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826920" y="260280"/>
            <a:ext cx="7694640" cy="566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10920" y="109080"/>
            <a:ext cx="8281800" cy="708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The Schedule Clause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684360" y="1125360"/>
            <a:ext cx="827064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Default schedule: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yclic schedule: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8" name="Footer Placeholder 3"/>
          <p:cNvSpPr/>
          <p:nvPr/>
        </p:nvSpPr>
        <p:spPr>
          <a:xfrm>
            <a:off x="1042920" y="6381720"/>
            <a:ext cx="727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pyright © 2010, Elsevier Inc. All rights Reserv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339" name="Picture 2" descr=""/>
          <p:cNvPicPr/>
          <p:nvPr/>
        </p:nvPicPr>
        <p:blipFill>
          <a:blip r:embed="rId1"/>
          <a:stretch/>
        </p:blipFill>
        <p:spPr>
          <a:xfrm>
            <a:off x="468360" y="1844640"/>
            <a:ext cx="8332920" cy="157176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4" descr=""/>
          <p:cNvPicPr/>
          <p:nvPr/>
        </p:nvPicPr>
        <p:blipFill>
          <a:blip r:embed="rId2"/>
          <a:stretch/>
        </p:blipFill>
        <p:spPr>
          <a:xfrm>
            <a:off x="395280" y="4365720"/>
            <a:ext cx="831384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10920" y="109080"/>
            <a:ext cx="8281800" cy="708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schedule ( type , chunksize )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684360" y="1125360"/>
            <a:ext cx="827064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ype can be: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static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: the iterations can be assigned to the threads before the loop is executed.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dynamic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guided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: the iterations are assigned to the threads while the loop is executing.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auto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: the compiler and/or the run-time system determine the schedule.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runtime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: the schedule is determined at run-time.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e chunksize is a positive integer.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3" name="Footer Placeholder 3"/>
          <p:cNvSpPr/>
          <p:nvPr/>
        </p:nvSpPr>
        <p:spPr>
          <a:xfrm>
            <a:off x="1042920" y="6381720"/>
            <a:ext cx="727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pyright © 2010, Elsevier Inc. All rights Reserv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10920" y="109080"/>
            <a:ext cx="8281800" cy="708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The Static Schedule Type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45" name="Footer Placeholder 2"/>
          <p:cNvSpPr/>
          <p:nvPr/>
        </p:nvSpPr>
        <p:spPr>
          <a:xfrm>
            <a:off x="1042920" y="6381720"/>
            <a:ext cx="727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pyright © 2010, Elsevier Inc. All rights Reserv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6" name="Rectangle 3"/>
          <p:cNvSpPr/>
          <p:nvPr/>
        </p:nvSpPr>
        <p:spPr>
          <a:xfrm>
            <a:off x="755640" y="981000"/>
            <a:ext cx="77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twelve iterations, 0, 1, . . . , 11, and three thread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347" name="Picture 2" descr=""/>
          <p:cNvPicPr/>
          <p:nvPr/>
        </p:nvPicPr>
        <p:blipFill>
          <a:blip r:embed="rId1"/>
          <a:stretch/>
        </p:blipFill>
        <p:spPr>
          <a:xfrm>
            <a:off x="826920" y="1773360"/>
            <a:ext cx="3248280" cy="44748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3" descr=""/>
          <p:cNvPicPr/>
          <p:nvPr/>
        </p:nvPicPr>
        <p:blipFill>
          <a:blip r:embed="rId2"/>
          <a:stretch/>
        </p:blipFill>
        <p:spPr>
          <a:xfrm>
            <a:off x="2933640" y="2614680"/>
            <a:ext cx="327672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10920" y="109080"/>
            <a:ext cx="8281800" cy="708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The Static Schedule Type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50" name="Footer Placeholder 2"/>
          <p:cNvSpPr/>
          <p:nvPr/>
        </p:nvSpPr>
        <p:spPr>
          <a:xfrm>
            <a:off x="1042920" y="6381720"/>
            <a:ext cx="727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pyright © 2010, Elsevier Inc. All rights Reserv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1" name="Rectangle 3"/>
          <p:cNvSpPr/>
          <p:nvPr/>
        </p:nvSpPr>
        <p:spPr>
          <a:xfrm>
            <a:off x="755640" y="981000"/>
            <a:ext cx="77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twelve iterations, 0, 1, . . . , 11, and three thread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352" name="Picture 2" descr=""/>
          <p:cNvPicPr/>
          <p:nvPr/>
        </p:nvPicPr>
        <p:blipFill>
          <a:blip r:embed="rId1"/>
          <a:stretch/>
        </p:blipFill>
        <p:spPr>
          <a:xfrm>
            <a:off x="826920" y="1773360"/>
            <a:ext cx="3257640" cy="42840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4" descr=""/>
          <p:cNvPicPr/>
          <p:nvPr/>
        </p:nvPicPr>
        <p:blipFill>
          <a:blip r:embed="rId2"/>
          <a:stretch/>
        </p:blipFill>
        <p:spPr>
          <a:xfrm>
            <a:off x="2914560" y="2590920"/>
            <a:ext cx="331488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10920" y="109080"/>
            <a:ext cx="8281800" cy="708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The Static Schedule Type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55" name="Footer Placeholder 2"/>
          <p:cNvSpPr/>
          <p:nvPr/>
        </p:nvSpPr>
        <p:spPr>
          <a:xfrm>
            <a:off x="1042920" y="6381720"/>
            <a:ext cx="727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pyright © 2010, Elsevier Inc. All rights Reserv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6" name="Rectangle 3"/>
          <p:cNvSpPr/>
          <p:nvPr/>
        </p:nvSpPr>
        <p:spPr>
          <a:xfrm>
            <a:off x="755640" y="981000"/>
            <a:ext cx="77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twelve iterations, 0, 1, . . . , 11, and three thread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357" name="Picture 3" descr=""/>
          <p:cNvPicPr/>
          <p:nvPr/>
        </p:nvPicPr>
        <p:blipFill>
          <a:blip r:embed="rId1"/>
          <a:stretch/>
        </p:blipFill>
        <p:spPr>
          <a:xfrm>
            <a:off x="826920" y="1773360"/>
            <a:ext cx="3229200" cy="35244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2" descr=""/>
          <p:cNvPicPr/>
          <p:nvPr/>
        </p:nvPicPr>
        <p:blipFill>
          <a:blip r:embed="rId2"/>
          <a:stretch/>
        </p:blipFill>
        <p:spPr>
          <a:xfrm>
            <a:off x="2881440" y="2657520"/>
            <a:ext cx="3381120" cy="15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82160" cy="708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The Dynamic Schedule Type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684360" y="1052640"/>
            <a:ext cx="82706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iterations are also broken up into chunks of 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chunksize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consecutive iterations.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ach thread executes a chunk, and when a thread finishes a chunk, it requests another one from the run-time system.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s continues until all the iterations are completed.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chunksize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can be omitted. When it is omitted, a 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chunksize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of 1 is used.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1" name="Footer Placeholder 3"/>
          <p:cNvSpPr/>
          <p:nvPr/>
        </p:nvSpPr>
        <p:spPr>
          <a:xfrm>
            <a:off x="1042920" y="6381720"/>
            <a:ext cx="727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pyright © 2010, Elsevier Inc. All rights Reserv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10920" y="109080"/>
            <a:ext cx="8281800" cy="708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The Guided Schedule Type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684360" y="1125360"/>
            <a:ext cx="827064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Each thread also executes a chunk, and when a thread finishes a chunk, it requests another one. 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However, in a guided schedule, as chunks are completed the size of the new chunks decreases.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If no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chunksize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 is specified, the size of the chunks decreases down to 1. 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If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chunksize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 is specified, it decreases down to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chunksize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, with the exception that the very last chunk can be smaller than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chunksize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4" name="Footer Placeholder 3"/>
          <p:cNvSpPr/>
          <p:nvPr/>
        </p:nvSpPr>
        <p:spPr>
          <a:xfrm>
            <a:off x="1042920" y="6381720"/>
            <a:ext cx="727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pyright © 2010, Elsevier Inc. All rights Reserv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Footer Placeholder 1"/>
          <p:cNvSpPr/>
          <p:nvPr/>
        </p:nvSpPr>
        <p:spPr>
          <a:xfrm>
            <a:off x="1042920" y="6381720"/>
            <a:ext cx="727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pyright © 2010, Elsevier Inc. All rights Reserv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6" name="Rectangle 2"/>
          <p:cNvSpPr/>
          <p:nvPr/>
        </p:nvSpPr>
        <p:spPr>
          <a:xfrm>
            <a:off x="539640" y="5229360"/>
            <a:ext cx="770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Assignment of trapezoidal rule iterations 1–9999 using a guided schedule with two threads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367" name="Picture 2" descr=""/>
          <p:cNvPicPr/>
          <p:nvPr/>
        </p:nvPicPr>
        <p:blipFill>
          <a:blip r:embed="rId1"/>
          <a:stretch/>
        </p:blipFill>
        <p:spPr>
          <a:xfrm>
            <a:off x="1487520" y="876240"/>
            <a:ext cx="58212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10920" y="109080"/>
            <a:ext cx="8281800" cy="708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The Runtime Schedule Type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684360" y="1125360"/>
            <a:ext cx="827064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e system uses the environment variable 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OMP_SCHEDULE 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o determine at run-time how to schedule the loop.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OMP_SCHEDULE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environment variable can take on any of the values that can be used for a static, dynamic, or guided schedule.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0" name="Footer Placeholder 3"/>
          <p:cNvSpPr/>
          <p:nvPr/>
        </p:nvSpPr>
        <p:spPr>
          <a:xfrm>
            <a:off x="1042920" y="6381720"/>
            <a:ext cx="727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pyright © 2010, Elsevier Inc. All rights Reserv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PRODUCERS AND CONSUMERS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72" name="Footer Placeholder 3"/>
          <p:cNvSpPr/>
          <p:nvPr/>
        </p:nvSpPr>
        <p:spPr>
          <a:xfrm>
            <a:off x="1042920" y="6381720"/>
            <a:ext cx="727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pyright © 2010, Elsevier Inc. All rights Reserv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373" name="Picture 2" descr="business,people,retail shops,shoppers,shopping,carts,supermarkets,commercial,supermarkets"/>
          <p:cNvPicPr/>
          <p:nvPr/>
        </p:nvPicPr>
        <p:blipFill>
          <a:blip r:embed="rId1"/>
          <a:stretch/>
        </p:blipFill>
        <p:spPr>
          <a:xfrm>
            <a:off x="900000" y="1268280"/>
            <a:ext cx="309564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1"/>
          <p:cNvSpPr/>
          <p:nvPr/>
        </p:nvSpPr>
        <p:spPr>
          <a:xfrm>
            <a:off x="1042920" y="6381720"/>
            <a:ext cx="727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pyright © 2010, Elsevier Inc. All rights Reserv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539640" y="1052640"/>
            <a:ext cx="777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c  −g  −Wall  −fopenmp  −o  omp_hello  omp_hello . c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Rectangle 3"/>
          <p:cNvSpPr/>
          <p:nvPr/>
        </p:nvSpPr>
        <p:spPr>
          <a:xfrm>
            <a:off x="623160" y="1773360"/>
            <a:ext cx="235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/  omp_hello  4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TextBox 4"/>
          <p:cNvSpPr/>
          <p:nvPr/>
        </p:nvSpPr>
        <p:spPr>
          <a:xfrm>
            <a:off x="6383160" y="2205000"/>
            <a:ext cx="146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TextBox 6"/>
          <p:cNvSpPr/>
          <p:nvPr/>
        </p:nvSpPr>
        <p:spPr>
          <a:xfrm>
            <a:off x="2574720" y="2637000"/>
            <a:ext cx="317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running with 4 thread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Freeform 7"/>
          <p:cNvSpPr/>
          <p:nvPr/>
        </p:nvSpPr>
        <p:spPr>
          <a:xfrm rot="1780200">
            <a:off x="1834920" y="2344680"/>
            <a:ext cx="726840" cy="584280"/>
          </a:xfrm>
          <a:prstGeom prst="pie">
            <a:avLst/>
          </a:prstGeom>
          <a:noFill/>
          <a:ln w="9360">
            <a:solidFill>
              <a:srgbClr val="0066ff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Rectangle 8"/>
          <p:cNvSpPr/>
          <p:nvPr/>
        </p:nvSpPr>
        <p:spPr>
          <a:xfrm>
            <a:off x="324000" y="3716280"/>
            <a:ext cx="3095640" cy="13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lo from thread 0 of 4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lo from thread 1 of 4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lo from thread 2 of 4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lo from thread 3 of 4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Rectangle 9"/>
          <p:cNvSpPr/>
          <p:nvPr/>
        </p:nvSpPr>
        <p:spPr>
          <a:xfrm>
            <a:off x="3059280" y="4797360"/>
            <a:ext cx="2862000" cy="13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lo from thread 1 of 4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lo from thread 2 of 4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lo from thread 0 of 4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lo from thread 3 of 4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Rectangle 10"/>
          <p:cNvSpPr/>
          <p:nvPr/>
        </p:nvSpPr>
        <p:spPr>
          <a:xfrm>
            <a:off x="5940360" y="3860640"/>
            <a:ext cx="2646360" cy="13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lo from thread 3 of 4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lo from thread 1 of 4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lo from thread 2 of 4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lo from thread 0 of 4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TextBox 11"/>
          <p:cNvSpPr/>
          <p:nvPr/>
        </p:nvSpPr>
        <p:spPr>
          <a:xfrm>
            <a:off x="3713040" y="3716280"/>
            <a:ext cx="1285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possible</a:t>
            </a:r>
            <a:br>
              <a:rPr sz="2000"/>
            </a:b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outcomes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cxnSp>
        <p:nvCxnSpPr>
          <p:cNvPr id="132" name="Straight Arrow Connector 13"/>
          <p:cNvCxnSpPr>
            <a:stCxn id="131" idx="1"/>
          </p:cNvCxnSpPr>
          <p:nvPr/>
        </p:nvCxnSpPr>
        <p:spPr>
          <a:xfrm flipH="1">
            <a:off x="3131280" y="4069440"/>
            <a:ext cx="577080" cy="222840"/>
          </a:xfrm>
          <a:prstGeom prst="straightConnector1">
            <a:avLst/>
          </a:prstGeom>
          <a:ln w="9360">
            <a:solidFill>
              <a:srgbClr val="0066ff"/>
            </a:solidFill>
            <a:miter/>
            <a:tailEnd len="med" type="arrow" w="med"/>
          </a:ln>
        </p:spPr>
      </p:cxnSp>
      <p:cxnSp>
        <p:nvCxnSpPr>
          <p:cNvPr id="133" name="Straight Arrow Connector 14"/>
          <p:cNvCxnSpPr/>
          <p:nvPr/>
        </p:nvCxnSpPr>
        <p:spPr>
          <a:xfrm>
            <a:off x="5002560" y="4004280"/>
            <a:ext cx="577080" cy="222840"/>
          </a:xfrm>
          <a:prstGeom prst="straightConnector1">
            <a:avLst/>
          </a:prstGeom>
          <a:ln w="9360">
            <a:solidFill>
              <a:srgbClr val="0066ff"/>
            </a:solidFill>
            <a:miter/>
            <a:tailEnd len="med" type="arrow" w="med"/>
          </a:ln>
        </p:spPr>
      </p:cxnSp>
      <p:cxnSp>
        <p:nvCxnSpPr>
          <p:cNvPr id="134" name="Straight Arrow Connector 16"/>
          <p:cNvCxnSpPr>
            <a:stCxn id="131" idx="2"/>
          </p:cNvCxnSpPr>
          <p:nvPr/>
        </p:nvCxnSpPr>
        <p:spPr>
          <a:xfrm>
            <a:off x="4354920" y="4424400"/>
            <a:ext cx="1080" cy="373680"/>
          </a:xfrm>
          <a:prstGeom prst="straightConnector1">
            <a:avLst/>
          </a:prstGeom>
          <a:ln w="9360">
            <a:solidFill>
              <a:srgbClr val="0066ff"/>
            </a:solidFill>
            <a:miter/>
            <a:tailEnd len="med" type="arrow" w="med"/>
          </a:ln>
        </p:spPr>
      </p:cxnSp>
      <p:sp>
        <p:nvSpPr>
          <p:cNvPr id="135" name="Freeform 18"/>
          <p:cNvSpPr/>
          <p:nvPr/>
        </p:nvSpPr>
        <p:spPr>
          <a:xfrm rot="1780200">
            <a:off x="5749920" y="1842840"/>
            <a:ext cx="727200" cy="583920"/>
          </a:xfrm>
          <a:prstGeom prst="pie">
            <a:avLst/>
          </a:prstGeom>
          <a:noFill/>
          <a:ln w="9360">
            <a:solidFill>
              <a:srgbClr val="0066ff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10920" y="109080"/>
            <a:ext cx="8281800" cy="708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Queues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684360" y="1125360"/>
            <a:ext cx="827064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an be viewed as an abstraction of a line of customers waiting to pay for their groceries in a supermarket.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A natural data structure to use in many multithreaded applications. 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For example, suppose we have several “producer” threads and several “consumer” threads.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Producer threads might “produce” requests for data.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Consumer threads might “consume” the request by finding or generating the requested data.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6" name="Footer Placeholder 3"/>
          <p:cNvSpPr/>
          <p:nvPr/>
        </p:nvSpPr>
        <p:spPr>
          <a:xfrm>
            <a:off x="1042920" y="6381720"/>
            <a:ext cx="727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pyright © 2010, Elsevier Inc. All rights Reserv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10920" y="109080"/>
            <a:ext cx="8281800" cy="708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Message-Passing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684360" y="1125360"/>
            <a:ext cx="827064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Each thread could have a shared message queue, and when one thread wants to “send a message” to another thread, it could enqueue the message in the destination thread’s queue.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A thread could receive a message by dequeuing the message at the head of its message queue.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9" name="Footer Placeholder 3"/>
          <p:cNvSpPr/>
          <p:nvPr/>
        </p:nvSpPr>
        <p:spPr>
          <a:xfrm>
            <a:off x="1042920" y="6381720"/>
            <a:ext cx="727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pyright © 2010, Elsevier Inc. All rights Reserv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10920" y="115560"/>
            <a:ext cx="828180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Message-Passing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81" name="Footer Placeholder 2"/>
          <p:cNvSpPr/>
          <p:nvPr/>
        </p:nvSpPr>
        <p:spPr>
          <a:xfrm>
            <a:off x="1042920" y="6381720"/>
            <a:ext cx="727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pyright © 2010, Elsevier Inc. All rights Reserv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382" name="Picture 2" descr=""/>
          <p:cNvPicPr/>
          <p:nvPr/>
        </p:nvPicPr>
        <p:blipFill>
          <a:blip r:embed="rId1"/>
          <a:stretch/>
        </p:blipFill>
        <p:spPr>
          <a:xfrm>
            <a:off x="468360" y="1413000"/>
            <a:ext cx="82278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10920" y="115560"/>
            <a:ext cx="828180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Sending Messages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84" name="Footer Placeholder 3"/>
          <p:cNvSpPr/>
          <p:nvPr/>
        </p:nvSpPr>
        <p:spPr>
          <a:xfrm>
            <a:off x="1042920" y="6381720"/>
            <a:ext cx="727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pyright © 2010, Elsevier Inc. All rights Reserv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385" name="Picture 2" descr=""/>
          <p:cNvPicPr/>
          <p:nvPr/>
        </p:nvPicPr>
        <p:blipFill>
          <a:blip r:embed="rId1"/>
          <a:stretch/>
        </p:blipFill>
        <p:spPr>
          <a:xfrm>
            <a:off x="684360" y="1628640"/>
            <a:ext cx="7818120" cy="18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10920" y="109080"/>
            <a:ext cx="8281800" cy="708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Receiving Messages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87" name="Footer Placeholder 2"/>
          <p:cNvSpPr/>
          <p:nvPr/>
        </p:nvSpPr>
        <p:spPr>
          <a:xfrm>
            <a:off x="1042920" y="6381720"/>
            <a:ext cx="727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pyright © 2010, Elsevier Inc. All rights Reserv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388" name="Picture 2" descr=""/>
          <p:cNvPicPr/>
          <p:nvPr/>
        </p:nvPicPr>
        <p:blipFill>
          <a:blip r:embed="rId1"/>
          <a:stretch/>
        </p:blipFill>
        <p:spPr>
          <a:xfrm>
            <a:off x="971640" y="1557360"/>
            <a:ext cx="6827760" cy="31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10920" y="109080"/>
            <a:ext cx="8281800" cy="708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Termination Detection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90" name="Footer Placeholder 2"/>
          <p:cNvSpPr/>
          <p:nvPr/>
        </p:nvSpPr>
        <p:spPr>
          <a:xfrm>
            <a:off x="1042920" y="6381720"/>
            <a:ext cx="727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pyright © 2010, Elsevier Inc. All rights Reserv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391" name="Picture 3" descr=""/>
          <p:cNvPicPr/>
          <p:nvPr/>
        </p:nvPicPr>
        <p:blipFill>
          <a:blip r:embed="rId1"/>
          <a:stretch/>
        </p:blipFill>
        <p:spPr>
          <a:xfrm>
            <a:off x="1042920" y="1628640"/>
            <a:ext cx="7123320" cy="1762200"/>
          </a:xfrm>
          <a:prstGeom prst="rect">
            <a:avLst/>
          </a:prstGeom>
          <a:ln w="0">
            <a:noFill/>
          </a:ln>
        </p:spPr>
      </p:pic>
      <p:sp>
        <p:nvSpPr>
          <p:cNvPr id="392" name="Rectangle 5"/>
          <p:cNvSpPr/>
          <p:nvPr/>
        </p:nvSpPr>
        <p:spPr>
          <a:xfrm>
            <a:off x="3492360" y="36450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each thread increments this after completing its for loop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3" name="Freeform 6"/>
          <p:cNvSpPr/>
          <p:nvPr/>
        </p:nvSpPr>
        <p:spPr>
          <a:xfrm>
            <a:off x="4091040" y="2308320"/>
            <a:ext cx="1182600" cy="1276200"/>
          </a:xfrm>
          <a:prstGeom prst="pie">
            <a:avLst/>
          </a:prstGeom>
          <a:noFill/>
          <a:ln w="9360">
            <a:solidFill>
              <a:srgbClr val="c00000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10920" y="115560"/>
            <a:ext cx="828180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Startup (1)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684360" y="1125360"/>
            <a:ext cx="827064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When the program begins execution, a single thread, the master thread, will get command line arguments and allocate an array of message queues: one for each thread.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is array needs to be shared among the threads, since any thread can send to any other thread, and hence any thread can enqueue a message in any of the queues.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6" name="Footer Placeholder 2"/>
          <p:cNvSpPr/>
          <p:nvPr/>
        </p:nvSpPr>
        <p:spPr>
          <a:xfrm>
            <a:off x="1042920" y="6381720"/>
            <a:ext cx="727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pyright © 2010, Elsevier Inc. All rights Reserv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10920" y="115560"/>
            <a:ext cx="828180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Startup (2)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684360" y="1125360"/>
            <a:ext cx="827064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One or more threads may finish allocating their queues before some other threads.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We need an explicit barrier so that when a thread encounters the barrier, it blocks until all the threads in the team have reached the barrier.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After all the threads have reached the barrier all the threads in the team can proceed.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9" name="Footer Placeholder 3"/>
          <p:cNvSpPr/>
          <p:nvPr/>
        </p:nvSpPr>
        <p:spPr>
          <a:xfrm>
            <a:off x="1042920" y="6381720"/>
            <a:ext cx="727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pyright © 2010, Elsevier Inc. All rights Reserv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00" name="Picture 2" descr=""/>
          <p:cNvPicPr/>
          <p:nvPr/>
        </p:nvPicPr>
        <p:blipFill>
          <a:blip r:embed="rId1"/>
          <a:stretch/>
        </p:blipFill>
        <p:spPr>
          <a:xfrm>
            <a:off x="3851280" y="5373720"/>
            <a:ext cx="4048200" cy="67608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10920" y="109080"/>
            <a:ext cx="8281800" cy="708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The Atomic Directive (1)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684360" y="1125360"/>
            <a:ext cx="827064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Unlike the critical directive, it can only protect critical sections that consist of a single C assignment statement. </a:t>
            </a:r>
            <a:br>
              <a:rPr sz="3200"/>
            </a:b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urther, the statement must have one of the following forms: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3" name="Footer Placeholder 3"/>
          <p:cNvSpPr/>
          <p:nvPr/>
        </p:nvSpPr>
        <p:spPr>
          <a:xfrm>
            <a:off x="1042920" y="6381720"/>
            <a:ext cx="727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pyright © 2010, Elsevier Inc. All rights Reserv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04" name="Picture 2" descr=""/>
          <p:cNvPicPr/>
          <p:nvPr/>
        </p:nvPicPr>
        <p:blipFill>
          <a:blip r:embed="rId1"/>
          <a:stretch/>
        </p:blipFill>
        <p:spPr>
          <a:xfrm>
            <a:off x="2050920" y="2637000"/>
            <a:ext cx="3953160" cy="53316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3" descr=""/>
          <p:cNvPicPr/>
          <p:nvPr/>
        </p:nvPicPr>
        <p:blipFill>
          <a:blip r:embed="rId2"/>
          <a:stretch/>
        </p:blipFill>
        <p:spPr>
          <a:xfrm>
            <a:off x="2124000" y="4292640"/>
            <a:ext cx="374328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10920" y="115560"/>
            <a:ext cx="828180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The Atomic Directive (2)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684360" y="1125360"/>
            <a:ext cx="827064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ere &lt;op&gt; can be one of the binary operators</a:t>
            </a:r>
            <a:br>
              <a:rPr sz="3000"/>
            </a:br>
            <a:br>
              <a:rPr sz="3000"/>
            </a:b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ny processors provide a special load-modify-store instruction.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critical section that only does a load-modify-store can be protected much more efficiently by using this special instruction rather than the constructs that are used to protect more general critical sections.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8" name="Footer Placeholder 3"/>
          <p:cNvSpPr/>
          <p:nvPr/>
        </p:nvSpPr>
        <p:spPr>
          <a:xfrm>
            <a:off x="1042920" y="6381720"/>
            <a:ext cx="727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pyright © 2010, Elsevier Inc. All rights Reserv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09" name="Picture 2" descr=""/>
          <p:cNvPicPr/>
          <p:nvPr/>
        </p:nvPicPr>
        <p:blipFill>
          <a:blip r:embed="rId1"/>
          <a:stretch/>
        </p:blipFill>
        <p:spPr>
          <a:xfrm>
            <a:off x="1332000" y="1916280"/>
            <a:ext cx="593388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10920" y="115560"/>
            <a:ext cx="828180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OpenMp pragmas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37" name="Footer Placeholder 3"/>
          <p:cNvSpPr/>
          <p:nvPr/>
        </p:nvSpPr>
        <p:spPr>
          <a:xfrm>
            <a:off x="1042920" y="6381720"/>
            <a:ext cx="727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pyright © 2010, Elsevier Inc. All rights Reserv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684360" y="1125360"/>
            <a:ext cx="6953040" cy="297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# pragma omp parallel</a:t>
            </a:r>
            <a:br>
              <a:rPr sz="3200"/>
            </a:b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Most basic parallel directive.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The number of threads that run </a:t>
            </a:r>
            <a:br>
              <a:rPr sz="2800"/>
            </a:b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the following structured block of code </a:t>
            </a:r>
            <a:br>
              <a:rPr sz="2800"/>
            </a:b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is determined by the run-time system.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10920" y="109080"/>
            <a:ext cx="8281800" cy="708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Critical Sections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684360" y="1052280"/>
            <a:ext cx="827064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OpenMP provides the option of adding a name to a critical directive: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When we do this, two blocks protected with critical directives with different names can be executed simultaneously.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However, the names are set during compilation, and we want a different critical section for each thread’s queue.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2" name="Footer Placeholder 3"/>
          <p:cNvSpPr/>
          <p:nvPr/>
        </p:nvSpPr>
        <p:spPr>
          <a:xfrm>
            <a:off x="1042920" y="6381720"/>
            <a:ext cx="727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pyright © 2010, Elsevier Inc. All rights Reserv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13" name="Picture 2" descr=""/>
          <p:cNvPicPr/>
          <p:nvPr/>
        </p:nvPicPr>
        <p:blipFill>
          <a:blip r:embed="rId1"/>
          <a:stretch/>
        </p:blipFill>
        <p:spPr>
          <a:xfrm>
            <a:off x="1547640" y="2276640"/>
            <a:ext cx="5467680" cy="59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10920" y="115560"/>
            <a:ext cx="828180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Locks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684360" y="1125360"/>
            <a:ext cx="827064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A lock consists of a data structure and functions that allow the programmer to explicitly enforce mutual exclusion in a critical section.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6" name="Footer Placeholder 3"/>
          <p:cNvSpPr/>
          <p:nvPr/>
        </p:nvSpPr>
        <p:spPr>
          <a:xfrm>
            <a:off x="1042920" y="6381720"/>
            <a:ext cx="727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pyright © 2010, Elsevier Inc. All rights Reserv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17" name="Picture 2" descr="combination locks,households,locks,padlocks,securities"/>
          <p:cNvPicPr/>
          <p:nvPr/>
        </p:nvPicPr>
        <p:blipFill>
          <a:blip r:embed="rId1"/>
          <a:stretch/>
        </p:blipFill>
        <p:spPr>
          <a:xfrm>
            <a:off x="0" y="3068640"/>
            <a:ext cx="309564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10920" y="115560"/>
            <a:ext cx="828180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Locks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419" name="Footer Placeholder 2"/>
          <p:cNvSpPr/>
          <p:nvPr/>
        </p:nvSpPr>
        <p:spPr>
          <a:xfrm>
            <a:off x="1042920" y="6381720"/>
            <a:ext cx="727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pyright © 2010, Elsevier Inc. All rights Reserv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20" name="Picture 2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8219880" cy="38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10920" y="0"/>
            <a:ext cx="8281800" cy="1324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Using Locks in the Message-Passing Program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422" name="Footer Placeholder 2"/>
          <p:cNvSpPr/>
          <p:nvPr/>
        </p:nvSpPr>
        <p:spPr>
          <a:xfrm>
            <a:off x="1042920" y="6381720"/>
            <a:ext cx="727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pyright © 2010, Elsevier Inc. All rights Reserv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23" name="Picture 2" descr=""/>
          <p:cNvPicPr/>
          <p:nvPr/>
        </p:nvPicPr>
        <p:blipFill>
          <a:blip r:embed="rId1"/>
          <a:stretch/>
        </p:blipFill>
        <p:spPr>
          <a:xfrm>
            <a:off x="539640" y="1700280"/>
            <a:ext cx="6220080" cy="148572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3" descr=""/>
          <p:cNvPicPr/>
          <p:nvPr/>
        </p:nvPicPr>
        <p:blipFill>
          <a:blip r:embed="rId2"/>
          <a:stretch/>
        </p:blipFill>
        <p:spPr>
          <a:xfrm>
            <a:off x="2411280" y="3573360"/>
            <a:ext cx="5705640" cy="1771920"/>
          </a:xfrm>
          <a:prstGeom prst="rect">
            <a:avLst/>
          </a:prstGeom>
          <a:ln w="0">
            <a:noFill/>
          </a:ln>
        </p:spPr>
      </p:pic>
      <p:sp>
        <p:nvSpPr>
          <p:cNvPr id="425" name="Straight Connector 6"/>
          <p:cNvSpPr/>
          <p:nvPr/>
        </p:nvSpPr>
        <p:spPr>
          <a:xfrm flipH="1">
            <a:off x="539280" y="1627920"/>
            <a:ext cx="5545080" cy="151308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10920" y="0"/>
            <a:ext cx="8281800" cy="1324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Using Locks in the Message-Passing Program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427" name="Footer Placeholder 2"/>
          <p:cNvSpPr/>
          <p:nvPr/>
        </p:nvSpPr>
        <p:spPr>
          <a:xfrm>
            <a:off x="1042920" y="6381720"/>
            <a:ext cx="727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pyright © 2010, Elsevier Inc. All rights Reserv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28" name="Picture 4" descr=""/>
          <p:cNvPicPr/>
          <p:nvPr/>
        </p:nvPicPr>
        <p:blipFill>
          <a:blip r:embed="rId1"/>
          <a:stretch/>
        </p:blipFill>
        <p:spPr>
          <a:xfrm>
            <a:off x="611280" y="1773360"/>
            <a:ext cx="6751440" cy="1400040"/>
          </a:xfrm>
          <a:prstGeom prst="rect">
            <a:avLst/>
          </a:prstGeom>
          <a:ln w="0">
            <a:noFill/>
          </a:ln>
        </p:spPr>
      </p:pic>
      <p:sp>
        <p:nvSpPr>
          <p:cNvPr id="429" name="Straight Connector 4"/>
          <p:cNvSpPr/>
          <p:nvPr/>
        </p:nvSpPr>
        <p:spPr>
          <a:xfrm flipH="1">
            <a:off x="539280" y="1627920"/>
            <a:ext cx="5545080" cy="151308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30" name="Picture 5" descr=""/>
          <p:cNvPicPr/>
          <p:nvPr/>
        </p:nvPicPr>
        <p:blipFill>
          <a:blip r:embed="rId2"/>
          <a:stretch/>
        </p:blipFill>
        <p:spPr>
          <a:xfrm>
            <a:off x="2484360" y="3573360"/>
            <a:ext cx="6238800" cy="17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10920" y="109080"/>
            <a:ext cx="8281800" cy="708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Some Caveats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684360" y="1125360"/>
            <a:ext cx="827064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You shouldn’t mix the different types of mutual exclusion for a single critical section.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ere is no guarantee of fairness in mutual exclusion constructs.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It can be dangerous to “nest” mutual exclusion constructs.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3" name="Footer Placeholder 3"/>
          <p:cNvSpPr/>
          <p:nvPr/>
        </p:nvSpPr>
        <p:spPr>
          <a:xfrm>
            <a:off x="1042920" y="6381720"/>
            <a:ext cx="727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pyright © 2010, Elsevier Inc. All rights Reserv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10920" y="109080"/>
            <a:ext cx="8281800" cy="708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Matrix-vector multiplication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435" name="Footer Placeholder 3"/>
          <p:cNvSpPr/>
          <p:nvPr/>
        </p:nvSpPr>
        <p:spPr>
          <a:xfrm>
            <a:off x="1042920" y="6381720"/>
            <a:ext cx="727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pyright © 2010, Elsevier Inc. All rights Reserv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36" name="Picture 2" descr=""/>
          <p:cNvPicPr/>
          <p:nvPr/>
        </p:nvPicPr>
        <p:blipFill>
          <a:blip r:embed="rId1"/>
          <a:stretch/>
        </p:blipFill>
        <p:spPr>
          <a:xfrm>
            <a:off x="324000" y="1628640"/>
            <a:ext cx="8513640" cy="237204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3" descr=""/>
          <p:cNvPicPr/>
          <p:nvPr/>
        </p:nvPicPr>
        <p:blipFill>
          <a:blip r:embed="rId2"/>
          <a:stretch/>
        </p:blipFill>
        <p:spPr>
          <a:xfrm>
            <a:off x="2627280" y="1197000"/>
            <a:ext cx="3800520" cy="39060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4" descr=""/>
          <p:cNvPicPr/>
          <p:nvPr/>
        </p:nvPicPr>
        <p:blipFill>
          <a:blip r:embed="rId3"/>
          <a:stretch/>
        </p:blipFill>
        <p:spPr>
          <a:xfrm>
            <a:off x="2050920" y="4365720"/>
            <a:ext cx="3981600" cy="169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10920" y="115560"/>
            <a:ext cx="828180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Matrix-vector multiplication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440" name="Footer Placeholder 2"/>
          <p:cNvSpPr/>
          <p:nvPr/>
        </p:nvSpPr>
        <p:spPr>
          <a:xfrm>
            <a:off x="1042920" y="6381720"/>
            <a:ext cx="727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pyright © 2010, Elsevier Inc. All rights Reserv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41" name="Picture 2" descr=""/>
          <p:cNvPicPr/>
          <p:nvPr/>
        </p:nvPicPr>
        <p:blipFill>
          <a:blip r:embed="rId1"/>
          <a:stretch/>
        </p:blipFill>
        <p:spPr>
          <a:xfrm>
            <a:off x="539640" y="1484280"/>
            <a:ext cx="8085240" cy="222876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3" descr=""/>
          <p:cNvPicPr/>
          <p:nvPr/>
        </p:nvPicPr>
        <p:blipFill>
          <a:blip r:embed="rId2"/>
          <a:stretch/>
        </p:blipFill>
        <p:spPr>
          <a:xfrm>
            <a:off x="468360" y="3716280"/>
            <a:ext cx="6637320" cy="2190960"/>
          </a:xfrm>
          <a:prstGeom prst="rect">
            <a:avLst/>
          </a:prstGeom>
          <a:ln w="0">
            <a:noFill/>
          </a:ln>
        </p:spPr>
      </p:pic>
      <p:sp>
        <p:nvSpPr>
          <p:cNvPr id="443" name="TextBox 5"/>
          <p:cNvSpPr/>
          <p:nvPr/>
        </p:nvSpPr>
        <p:spPr>
          <a:xfrm>
            <a:off x="5454000" y="2637000"/>
            <a:ext cx="3199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Run-times and efficiencies </a:t>
            </a:r>
            <a:br>
              <a:rPr sz="1800"/>
            </a:b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of matrix-vector multiplication </a:t>
            </a:r>
            <a:br>
              <a:rPr sz="1800"/>
            </a:b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(times are in seconds)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Footer Placeholder 2"/>
          <p:cNvSpPr/>
          <p:nvPr/>
        </p:nvSpPr>
        <p:spPr>
          <a:xfrm>
            <a:off x="1042920" y="6381720"/>
            <a:ext cx="727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pyright © 2010, Elsevier Inc. All rights Reserv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45" name="Picture 2" descr=""/>
          <p:cNvPicPr/>
          <p:nvPr/>
        </p:nvPicPr>
        <p:blipFill>
          <a:blip r:embed="rId1"/>
          <a:stretch/>
        </p:blipFill>
        <p:spPr>
          <a:xfrm>
            <a:off x="684360" y="260280"/>
            <a:ext cx="7937280" cy="6008760"/>
          </a:xfrm>
          <a:prstGeom prst="rect">
            <a:avLst/>
          </a:prstGeom>
          <a:ln w="0">
            <a:noFill/>
          </a:ln>
        </p:spPr>
      </p:pic>
      <p:sp>
        <p:nvSpPr>
          <p:cNvPr id="446" name="Rectangle 4"/>
          <p:cNvSpPr/>
          <p:nvPr/>
        </p:nvSpPr>
        <p:spPr>
          <a:xfrm>
            <a:off x="5760360" y="260280"/>
            <a:ext cx="284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 Black"/>
              </a:rPr>
              <a:t>Thread-Safet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10920" y="115560"/>
            <a:ext cx="828180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Concluding Remarks (1)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684360" y="1125360"/>
            <a:ext cx="827064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OpenMP is a standard for programming shared-memory systems.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OpenMP uses both special functions and preprocessor directives called pragmas.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OpenMP programs start multiple threads rather than multiple processes.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Many OpenMP directives can be modified by clauses.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9" name="Footer Placeholder 3"/>
          <p:cNvSpPr/>
          <p:nvPr/>
        </p:nvSpPr>
        <p:spPr>
          <a:xfrm>
            <a:off x="1042920" y="6381720"/>
            <a:ext cx="727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pyright © 2010, Elsevier Inc. All rights Reserv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10920" y="0"/>
            <a:ext cx="8281800" cy="1324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A process forking and joining two threads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40" name="Footer Placeholder 2"/>
          <p:cNvSpPr/>
          <p:nvPr/>
        </p:nvSpPr>
        <p:spPr>
          <a:xfrm>
            <a:off x="1042920" y="6381720"/>
            <a:ext cx="727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pyright © 2010, Elsevier Inc. All rights Reserv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1"/>
          <a:stretch/>
        </p:blipFill>
        <p:spPr>
          <a:xfrm>
            <a:off x="1038240" y="2295360"/>
            <a:ext cx="7066080" cy="22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10920" y="115560"/>
            <a:ext cx="828180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Concluding Remarks (2)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684360" y="1125360"/>
            <a:ext cx="827064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A major problem in the development of shared memory programs is the possibility of race conditions.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OpenMP provides several mechanisms for insuring mutual exclusion in critical sections.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Critical directive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Named critical directive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Atomic directive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imple lock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2" name="Footer Placeholder 3"/>
          <p:cNvSpPr/>
          <p:nvPr/>
        </p:nvSpPr>
        <p:spPr>
          <a:xfrm>
            <a:off x="1042920" y="6381720"/>
            <a:ext cx="727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pyright © 2010, Elsevier Inc. All rights Reserv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10920" y="115560"/>
            <a:ext cx="828180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Concluding Remarks (3)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684360" y="1125360"/>
            <a:ext cx="827064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By default most systems use a block-partitioning of the iterations in a parallelized for loop.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OpenMP offers a variety of scheduling options.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In OpenMP the scope of a variable is the collection of threads to which the variable is accessible.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5" name="Footer Placeholder 3"/>
          <p:cNvSpPr/>
          <p:nvPr/>
        </p:nvSpPr>
        <p:spPr>
          <a:xfrm>
            <a:off x="1042920" y="6381720"/>
            <a:ext cx="727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pyright © 2010, Elsevier Inc. All rights Reserv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10920" y="115560"/>
            <a:ext cx="828180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Concluding Remarks (4)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684360" y="1125360"/>
            <a:ext cx="827064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A reduction is a computation that repeatedly applies the same reduction operator to a sequence of operands in order to get a single result.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8" name="Footer Placeholder 3"/>
          <p:cNvSpPr/>
          <p:nvPr/>
        </p:nvSpPr>
        <p:spPr>
          <a:xfrm>
            <a:off x="1042920" y="6381720"/>
            <a:ext cx="727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pyright © 2010, Elsevier Inc. All rights Reserv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7T22:34:41Z</dcterms:created>
  <dc:creator>Kathy J. Liszka</dc:creator>
  <dc:description/>
  <dc:language>en-US</dc:language>
  <cp:lastModifiedBy>Elsevier</cp:lastModifiedBy>
  <dcterms:modified xsi:type="dcterms:W3CDTF">2011-02-08T09:24:00Z</dcterms:modified>
  <cp:revision>203</cp:revision>
  <dc:subject/>
  <dc:title>Slide 1</dc:title>
</cp:coreProperties>
</file>