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BF8959BF-52A6-4D32-8F55-8952D52BC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er will call the toString method on any object you print with System.out.printl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is new meth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tudentObj = new Stud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ln(studentOb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the items in a class definition doesn’t matter to Java.  Usually you group the fields together and the constructors together, and the methods together.  You can actually put the methods first, then the constructors, and then the fiel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field will start off with a value of null since strings are objects.  The gradeArray field will also start off with a value of null since arrays ar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69EFB-B576-4F17-ABBB-6641C4E21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EAD07-14AD-47B2-97EA-849A8CD6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37B48-A8A6-421E-8787-54C6170A1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6A3D8-CC0E-4818-9749-D467FFC6B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DFBD5-4821-4515-8F5A-1D9D4C37B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ADE2A-FE94-4A9F-B4A9-D18EDAB9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8E696-C505-48C3-A3E4-92014DCE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57380-F30A-49C7-A190-1A24EA62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9D14-3D42-4355-96A0-70225D27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29C7D-9983-4E49-BCCF-780E1DF7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EE8B-78F7-4924-8FCA-4FEB644A4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FD67-33AB-45E3-AB41-8A9C1CB0D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1385-3429-40F9-A2DF-F9B9F6688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reating Classes</a:t>
            </a:r>
            <a:br>
              <a:rPr sz="4000"/>
            </a:br>
            <a:r>
              <a:rPr b="0" lang="en-US" sz="4000" spc="-1" strike="noStrike">
                <a:solidFill>
                  <a:srgbClr val="333399"/>
                </a:solidFill>
                <a:latin typeface="Arial"/>
              </a:rPr>
              <a:t>part 1</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he Student Class</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fields to the Student class definition and compil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e following in the interactions pa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tudentObj = new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studentObj);</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2bd3a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not get the exact same thing</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Happened?  (Inherited Methods)</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xecu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studentObj);</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Student was checked for a toString metho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t didn’t have one the parent class was checked for a toString metho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 in Object was executed </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rints the hash code for the object </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class </a:t>
            </a:r>
            <a:r>
              <a:rPr b="0" i="1" lang="en-US" sz="3200" spc="-1" strike="noStrike">
                <a:solidFill>
                  <a:srgbClr val="000000"/>
                </a:solidFill>
                <a:latin typeface="Arial"/>
              </a:rPr>
              <a:t>inherited</a:t>
            </a:r>
            <a:r>
              <a:rPr b="0" lang="en-US" sz="3200" spc="-1" strike="noStrike">
                <a:solidFill>
                  <a:srgbClr val="000000"/>
                </a:solidFill>
                <a:latin typeface="Arial"/>
              </a:rPr>
              <a:t> the toString method from the Object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Inheritance Work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method is invoked on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irst check for that method in the object that defines the object’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isn’t there we look in the parent of that class</a:t>
            </a:r>
            <a:endParaRPr b="0" lang="en-US" sz="3200" spc="-1" strike="noStrike">
              <a:solidFill>
                <a:srgbClr val="000000"/>
              </a:solidFill>
              <a:latin typeface="Arial"/>
            </a:endParaRPr>
          </a:p>
        </p:txBody>
      </p:sp>
      <p:pic>
        <p:nvPicPr>
          <p:cNvPr id="76" name="" descr=""/>
          <p:cNvPicPr/>
          <p:nvPr/>
        </p:nvPicPr>
        <p:blipFill>
          <a:blip r:embed="rId1"/>
          <a:stretch/>
        </p:blipFill>
        <p:spPr>
          <a:xfrm>
            <a:off x="2895480" y="3505320"/>
            <a:ext cx="3400560" cy="258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ll Classes Inherit from Object</a:t>
            </a:r>
            <a:endParaRPr b="0" lang="en-US" sz="3600" spc="-1" strike="noStrike">
              <a:solidFill>
                <a:srgbClr val="333399"/>
              </a:solidFill>
              <a:latin typeface="Arial"/>
            </a:endParaRPr>
          </a:p>
        </p:txBody>
      </p:sp>
      <p:sp>
        <p:nvSpPr>
          <p:cNvPr id="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specify the parent class when you declare a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th inherit from java.lang.Objec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specify the parent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xtends Parent to the class declar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udent extends Objec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laration of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class Stud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ame a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class Student extends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the Class</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keeps a reference to the class that created 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this class with</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currClass = </a:t>
            </a:r>
            <a:r>
              <a:rPr b="0" i="1" lang="en-US" sz="2000" spc="-1" strike="noStrike">
                <a:solidFill>
                  <a:srgbClr val="000000"/>
                </a:solidFill>
                <a:latin typeface="Arial"/>
              </a:rPr>
              <a:t>obj</a:t>
            </a:r>
            <a:r>
              <a:rPr b="0" lang="en-US" sz="2000" spc="-1" strike="noStrike">
                <a:solidFill>
                  <a:srgbClr val="000000"/>
                </a:solidFill>
                <a:latin typeface="Arial"/>
              </a:rPr>
              <a:t>.getClas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keeps a reference to its parent cla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this class with</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parentClass = currClass.getSuperclas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tudent1 = new Stud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studentClass = student1.get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tem.out.println(student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parentClass = studentClass.getSuper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arent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ing an Inherited Method</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lass defines a method with the same name and parameter list as an inherited metho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will be called instead of the parent method</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verride Object’s toString add this one to Stud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tring toSt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tudent object named “ + this.n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oString</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Student.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tudentObj = new Stu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studentObj);</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get this 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oriented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interacting objec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ide what classes to crea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objects doing the action or being acted up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assify them (what type of thing are they?)</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lare a cl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Studen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lare a fiel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type fieldNam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lasses inherit from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 the toString() metho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toString() method to your own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ride the inherited metho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objects and 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ing 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ing fie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field 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ed 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riding an inherited metho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dentifying Objects and Classe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 of interacting objec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re defined by and created by class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the objects in a tas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ings that are doing the work or being acted up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classify th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fields) do they need to know to do the tas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cedures (methods) do they n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dentifying the Objects and Classe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that we want to write a program to simulate Bing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layer has a bingo card, there is a ball picker that picks a bingo ball which has a letter and number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start is to underline the nou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 ball, picker, player, letter,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ass Definition</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is defined in a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same name as the class:  Student.jav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na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ngular (Student not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an uppercase le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word is lowerc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case the first letter of each additional wor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a class definition 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ibility</a:t>
            </a:r>
            <a:r>
              <a:rPr b="0" lang="en-US" sz="2400" spc="-1" strike="noStrike">
                <a:solidFill>
                  <a:srgbClr val="000000"/>
                </a:solidFill>
                <a:latin typeface="Arial"/>
              </a:rPr>
              <a:t> class </a:t>
            </a:r>
            <a:r>
              <a:rPr b="0" i="1" lang="en-US" sz="2400" spc="-1" strike="noStrike">
                <a:solidFill>
                  <a:srgbClr val="000000"/>
                </a:solidFill>
                <a:latin typeface="Arial"/>
              </a:rPr>
              <a:t>Name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 the class definition go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 constructors, and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ass Declaration</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clare a Student class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New button in DrJav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n:</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Student</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t in Student.java</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File then Sav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he Compile All button to compil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udent Fields</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should have a name and some gra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should we use for each of thes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eld name can be a String objec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 we will have at most 20 grades and they can have a decimal point in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y can have a decimal point let’s use double as the typ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uld name them grade1, grade2, grade3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we can use an array </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Fields</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ity type na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ility type name = express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use private for the visi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at other classes can’t access it directl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is any of the primitive types, a class name , or an interface na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s are declared with [] after the type or after the nam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name; or type nam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start with a lowercase let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letter of each additional word is upperc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fault Field Values</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specify an initial value for a fiel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get one anyway when it is cre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s = 0</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 null (not referring to any object y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 = fals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Stud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iel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String n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gradeArr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5181480" y="4343400"/>
            <a:ext cx="175284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value will be null</a:t>
            </a:r>
            <a:endParaRPr b="0" lang="en-US" sz="1800" spc="-1" strike="noStrike">
              <a:solidFill>
                <a:srgbClr val="000000"/>
              </a:solidFill>
              <a:latin typeface="Arial"/>
            </a:endParaRPr>
          </a:p>
        </p:txBody>
      </p:sp>
      <p:sp>
        <p:nvSpPr>
          <p:cNvPr id="68" name=""/>
          <p:cNvSpPr/>
          <p:nvPr/>
        </p:nvSpPr>
        <p:spPr>
          <a:xfrm flipH="1">
            <a:off x="3657240" y="441972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4724280" y="4648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31T16:43:40Z</dcterms:modified>
  <cp:revision>1145</cp:revision>
  <dc:subject/>
  <dc:title>Summer Institute for Computing Education</dc:title>
</cp:coreProperties>
</file>