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Object-Oriente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- </a:t>
            </a:r>
            <a:fld id="{CDA812CD-82CF-4B52-9441-3A5D21A9C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L means Uniform Modeling Language.  This diagram shows that both the Student class and ClassPeriod class inherit from Object and that a ClassPeriod object has 0 to many Student objects associated with it.  It also shows that a Student object has 5 to 8 ClassPeriod objects associated wit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comments to constructors that are like the method comments.  Just realize the constructors don’t return any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72ED-7279-4EEE-9071-5358DE4A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67F9-9903-4F7D-AD0D-E9F55F0F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6D14-CB20-45EF-817D-1BB70E64A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08FB-AFBF-43CA-B532-64C314C8E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9D29-8367-46A7-8FBE-09620B4C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B5D2-985F-462D-B82B-EC9E2977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D3E1-9BD1-4BB0-93B1-A636CE2B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382E-BD14-4CD9-9BDA-81725925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69BE-124B-447E-85AF-085AFD7C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1666-EB1A-4CF6-BA4F-1E780D67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99F8-5609-44FD-98D2-0E1F012C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C302-918E-4493-ABE6-49631C56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874D-6ED4-4054-9E1E-ABCF13741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reating Classes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art 4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UML Class Diagra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 standard way to diagram object-oriented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 UML class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ows the classes as boxes and the relationships betwee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743200" y="4038480"/>
            <a:ext cx="3533760" cy="1695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109480" y="441972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s 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724280" y="47242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12040" y="575136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a or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4419720" y="53341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ing a ClassPeriod clas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ant fields f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’s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in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should each of these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ame can be a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riod number can be an 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ents in the period can be an array of Student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 max of 35 students in a class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e a Class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e a new class ClassPeriod in the file ClassPeriod.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he fiel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String teacherNa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int periodNumb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Student[] studentArray = new Student[35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e a Class Exercise - Continue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constructors to Class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he no argument co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 constructor that takes the teacher’s name and the period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hat constructors are declared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ClassName(paramL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dd Accessors and Modifier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methods to get and set the fields in the class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String getTeacherNam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this.teacherNam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void setTeacherName(String theN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.teacherName = theNam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verride toStri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he following method to Class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String toString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code to the method to return a String with the teacher’s name, the period number, and the number of students in the class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ngth of the array isn’t a count of the actual stud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out how many in the array are not 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s are added to make a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ier to read and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nts are ignored by the comp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hree types of comments in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end of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*  multi line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** java doc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doc is a utility that comes with the jd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s HTML documentation from Javadoc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L is a standard way to diagram object-oriented 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lass diagram shows classes and the relationships between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ing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add com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add Javadoc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preview HTML from Javadoc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create HTML for all classes in a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another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UML to show classes and the relationships betwee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m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ould add comments to your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ake it easier to read and cha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s are ignored by the comp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dded to the byte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has 3 kinds of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 comment ends at the end of this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* comment ends with next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** Javadoc comment that ends with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by the javadoc utility to create HTML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Javadoc Comm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 comment before the class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explains the purpose of this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ays who wrot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author Barb Eric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Class that describes a student.  A student ha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name and an array of grades.  You can 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information about a student such as her/h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name and grade aver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@author Barb Eric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class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ethod Comm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 comment before each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he parameters 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param name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retu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return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Method to set the name for this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@param theName the new name 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@return true if success else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boolean setName(String theN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reviewing Javadoc HTML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Preview Javadoc for Current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generate the HTML from the javadoc comments and display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TML document will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enerating all HTML for Directo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DrJava click on the Javadoc butt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reate the HTML docu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the Javadoc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generate HTML for all files in the same directory as all ope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s an index.html as a 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Javadoc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class javadoc comment and method javadoc comments to the Studen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e Javadoc and check out the created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e a ClassPeri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acher has students in each class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eriod can have different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class period we might want to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cher’s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eriod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ents in tha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5-10-25T19:05:09Z</dcterms:modified>
  <cp:revision>1149</cp:revision>
  <dc:subject/>
  <dc:title>Summer Institute for Computing Education</dc:title>
</cp:coreProperties>
</file>