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3A1-B139-4467-95D6-7B13B979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39D-7B2F-49AC-B69E-219EC15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6EE-5548-42D7-A533-FC2A3AFE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ECF-DAEA-4718-AFBE-8A46D187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E34-8F0D-4802-AA89-E07A0F3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D97-B878-4684-B1A8-0FEEAFF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7E2-D7A1-49A6-A50D-5B50743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577-0DC7-41A5-9ABD-33DA7279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67A-F7EB-4358-A880-BA47C3F0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56A-8E42-4678-92AC-BDC0DE8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8B2-C216-47E0-915D-48D7713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3A3-A956-4C3D-922B-790A605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5396-B414-4145-A1A4-3679EA633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re on 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GuessGame game = new NumberGuess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e.play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andom Sentence Generato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lass that can generate random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ass Sentence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s an array of no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y of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array of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method generate sentence which will return a String object that has a randomly selected noun, verb, and phrase append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nstructor needs to do the sam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out the common thing and put it in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all the method in the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input from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isplay output to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random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ing out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alled by the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Input class from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impleOutput class from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random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rrays of nouns, verbs, and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ll out a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nstructors need to pick a random number using the minimum an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ull out this common code and make a method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pickNumb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call the method in each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 a Number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inNumber = m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axNumber = 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Numbe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ickNumb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randomNumGen.nextInt(numValu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ed a Method to Play the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variable to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hile no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gu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number of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 guess wa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 tell the user the guess was right and how many guesses it t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 variable (done) to stop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 guess wa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the guess was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ed a Way to Interact with Us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impleInput class for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ethod getIntNumber(String me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will display the message in a pop-up window and return an integer number entered by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impleOutput class fo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Georg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ethod showInformation(String message) which will display the output in a pop-u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ait for the user to push a button to show it has bee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 variable to 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while 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curren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the number of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f the guess wa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o tell the user the guess was right and how many guesses it t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a variable (done) to stop th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check if the guess wa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the guess wa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oolean done variable and set it to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hile loop that loops as long as the done isn’t 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!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imple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variable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Guesse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guess == picked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impleOutput and num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done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guess &lt; picked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86200" y="137160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752480"/>
            <a:ext cx="1219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057400"/>
            <a:ext cx="10670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895480"/>
            <a:ext cx="53316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581280"/>
            <a:ext cx="12193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114800"/>
            <a:ext cx="12956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449568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6094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method to play the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playGam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done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loop till guess is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!d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need to get a guess from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guess = SimpleInput.getIntNumber("Pick a number "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between " + this.minNumber + " and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maxNumb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increment the number of gu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numGuesse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we need to check the guess (compare to pickedN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guess == this.picked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ell the user she/he wa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hat was right!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t took you 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numGuesses + " trie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 if (guess &lt; this.picked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we need to tell the user too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oo low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ell the user the guess is too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Output.showInformation("Too high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51:44Z</dcterms:modified>
  <cp:revision>1279</cp:revision>
  <dc:subject/>
  <dc:title>Summer Institute for Computing Education</dc:title>
</cp:coreProperties>
</file>