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Object-Oriente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- </a:t>
            </a:r>
            <a:fld id="{6BF61FA3-3182-4467-BDC5-2BAE832B8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ebuggers let you set break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t in DrJava if you type something without a semicolon at the end it will print the value of the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leave off the ‘this.’ on ‘this.name’ and the compiler will add it for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create student1 the no-argument constructor will be called since we haven’t passed any parameters.  When we create student2 the constructor will be called that takes a str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E63-A31C-4713-BAEF-4DFBEE75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FD4-2D5E-4762-A407-DC370A26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8E5-D149-4375-AE4E-4B3C9AEE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C347-D183-446C-BA08-0945CCA1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FF6-EA5B-4F0F-9FCD-28BC3E4D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8D8-7C73-4503-A603-91A8DC20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8FF-C4C2-48CB-BF9B-78C549FA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FF9-42A4-4C35-A50D-5D1E7C5D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232-B924-4226-BEFD-7C614549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AB3-FC54-4046-B893-90810D06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87F-615F-4F8B-8405-36AD109D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5C3-27C0-4C86-BE15-515E89B5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00D3-3A64-4885-9BFA-CA7DAD972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reating Class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rt 2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tting a Breakpoi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use a debugger you often want to set places to stop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lace to stop at is a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execution has stopp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heck the value of parameters and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a break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click on a line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“Toggle Breakpo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highlighted in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howing a Breakpoi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with breakpoints are highlighted in red in Dr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a breakpoint at the line that sets the name in the constructor that takes a name as a par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34862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a Breakpoi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the following in the interactions 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student1 = new Student(“Sue Clark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 should stop at the break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color change to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339084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ecking Val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 stops before the breakpoint line is exec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 name hasn’t been set to the passed value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is by printing out the value of it in the interaction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grade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lick on the Step Over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et the current line of code be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heck the values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bugging Op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the current line of code and then stop again before you execute the next line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line of code that we are stopped at has a method call in it stop at the first line in the called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execution at the current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 next break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program 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the rest of the current method and stop at the first line after the call to this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quit debugging by clicking on the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ing a Constructor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other constructor in the Studen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takes both the name and an array of 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an array of doubles for the grade array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[] gradeArray = {90.3, 85.2, 89.7, 95.3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debugger to check what happens during execution of this co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ors initialize the fields i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clare a co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am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tur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name as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overload constr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ameter lists must be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debug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atch what happens during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ing a co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oading constru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 no-argument co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debugger to step through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tart the debu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et a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heck the value of a variable or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structo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sed to initialize the fields of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ther than the default values or assign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have more than one co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the parameter lists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overloading co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bility ClassName(paramList)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Student(String theNam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this.name = theName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 a Constructo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following after the field declarations to Student.ja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Student(String theNam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name = theNa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 and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student1 = new Studen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student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y did you get an Error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dn’t declared any constructors before we added this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 constructor is called each time a new object is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dn’t provide one so the compiler added a no-argument co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hat takes no parameters and leaves the fields with their default or assign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once you add a co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er will not add any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ing a No-Argument Constructo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following constructor to the Student c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tudent() 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est it again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student1 = new Studen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student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student2 = new Student(“Sue Clark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student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acing Execu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to trace what is happening in your program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dd System.out.println() stat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se to print out the value of the current object’s name before and after the name is initialized in the constructor that takes a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this.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.name = theN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this.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bugge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a debugger to find the cause of bugs (errors in your prog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th caused one 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jamesshuggins.com/h/tek1/first_computer_bug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o trace execution to see what is happ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constructor is executed or what method is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values are in the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’s Debugg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Debugger in the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heck the Debug Mode check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4900680" cy="3570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3920" y="4419720"/>
            <a:ext cx="144864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po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47242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74480" y="3618000"/>
            <a:ext cx="119556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10080" y="3962520"/>
            <a:ext cx="1371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66040" y="5370480"/>
            <a:ext cx="20689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valu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4382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10-25T14:35:01Z</dcterms:modified>
  <cp:revision>1146</cp:revision>
  <dc:subject/>
  <dc:title>Summer Institute for Computing Education</dc:title>
</cp:coreProperties>
</file>