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F2B8F0BF-8779-4985-A1C3-03E258D60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sk tommy to go forward the Java Virtual Machine will first check if the class Turtle has a method forward() and since it doesn’t it will check the class SimpleTurtle which does have this method.  When you ask bruce to go forward() the Java Virtual Machine will first check if the class ConfusedTurtle has the method forward() and since it doesn’t it will check the class Turtle and since that also doesn’t have that method it will check the class SimpleTurtle and find it.  When we ask bruce to turnLeft() it will execute the turnLeft() in ConfusedTurtle which executes super.turnLeft() which will check in Turtle (the parent class) for turnLeft() and then in SimpleTurt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01909-4B10-4E95-9AD3-C309CBCDC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BC3E0-D429-4436-9880-147D34F00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71958-2946-46DD-87B9-9E6145237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B2C69-17C1-4F32-A87C-59507CC90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4E1F-3930-401F-94B0-324BB4363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ED135-172B-45F3-B19D-C688BC53A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FDA54-0546-40E6-BB69-FBF98E9C8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B1331-E2CF-4A81-904C-164E3A39A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1AC0D-3CFF-4CCC-8669-FA2037B4F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B8D94-0C43-4CDE-BE22-34FE46708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34BF6-A7ED-42FA-B79F-A4E7C453B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5F005-E8A1-4EE5-AAF7-FF24FA68F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A8C2-7099-474F-AFF1-6298E81D35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ore on Creating Classes</a:t>
            </a:r>
            <a:br>
              <a:rPr sz="4000"/>
            </a:br>
            <a:r>
              <a:rPr b="0" lang="en-US" sz="4000" spc="-1" strike="noStrike">
                <a:solidFill>
                  <a:srgbClr val="333399"/>
                </a:solidFill>
                <a:latin typeface="Arial"/>
              </a:rPr>
              <a:t>part 3</a:t>
            </a:r>
            <a:endParaRPr b="0" lang="en-US" sz="4000" spc="-1" strike="noStrike">
              <a:solidFill>
                <a:srgbClr val="333399"/>
              </a:solidFill>
              <a:latin typeface="Arial"/>
            </a:endParaRPr>
          </a:p>
        </p:txBody>
      </p:sp>
      <p:sp>
        <p:nvSpPr>
          <p:cNvPr id="50" name="PlaceHolder 2"/>
          <p:cNvSpPr>
            <a:spLocks noGrp="1"/>
          </p:cNvSpPr>
          <p:nvPr>
            <p:ph type="subTitle"/>
          </p:nvPr>
        </p:nvSpPr>
        <p:spPr>
          <a:xfrm>
            <a:off x="1219320" y="35809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 Erics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Institute of Technolog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 20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this Out</a:t>
            </a:r>
            <a:endParaRPr b="0" lang="en-US" sz="3600" spc="-1" strike="noStrike">
              <a:solidFill>
                <a:srgbClr val="333399"/>
              </a:solidFill>
              <a:latin typeface="Arial"/>
            </a:endParaRPr>
          </a:p>
        </p:txBody>
      </p:sp>
      <p:sp>
        <p:nvSpPr>
          <p:cNvPr id="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 ConfusedTurt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comp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it o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ask just like a Turtle ob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get it to turn left when asked to turn r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when asked to turn lef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uper.turnLeft() and super.turnRigh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 is a keyword that means the parent cl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solving Methods </a:t>
            </a:r>
            <a:endParaRPr b="0" lang="en-US" sz="3600" spc="-1" strike="noStrike">
              <a:solidFill>
                <a:srgbClr val="333399"/>
              </a:solidFill>
              <a:latin typeface="Arial"/>
            </a:endParaRPr>
          </a:p>
        </p:txBody>
      </p:sp>
      <p:sp>
        <p:nvSpPr>
          <p:cNvPr id="70"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method is invoked (called) on an obje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ss that created the object is checked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if it has the method defined in it</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o it is executed</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se the parent of the class that created the object is checked for the method</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so on until the method is found</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 means start checking with the parent of the class that created the object</a:t>
            </a:r>
            <a:endParaRPr b="0" lang="en-US" sz="2400" spc="-1" strike="noStrike">
              <a:solidFill>
                <a:srgbClr val="000000"/>
              </a:solidFill>
              <a:latin typeface="Arial"/>
            </a:endParaRPr>
          </a:p>
        </p:txBody>
      </p:sp>
      <p:sp>
        <p:nvSpPr>
          <p:cNvPr id="71" name=""/>
          <p:cNvSpPr/>
          <p:nvPr/>
        </p:nvSpPr>
        <p:spPr>
          <a:xfrm>
            <a:off x="6019920" y="3581280"/>
            <a:ext cx="1752480" cy="1202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tl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Squa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String()</a:t>
            </a:r>
            <a:endParaRPr b="0" lang="en-US" sz="1800" spc="-1" strike="noStrike">
              <a:solidFill>
                <a:srgbClr val="000000"/>
              </a:solidFill>
              <a:latin typeface="Arial"/>
            </a:endParaRPr>
          </a:p>
        </p:txBody>
      </p:sp>
      <p:sp>
        <p:nvSpPr>
          <p:cNvPr id="72" name=""/>
          <p:cNvSpPr/>
          <p:nvPr/>
        </p:nvSpPr>
        <p:spPr>
          <a:xfrm>
            <a:off x="6019920" y="39625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486400" y="1066680"/>
            <a:ext cx="2590920" cy="2037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Turtl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Le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Rig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String()</a:t>
            </a:r>
            <a:endParaRPr b="0" lang="en-US" sz="1800" spc="-1" strike="noStrike">
              <a:solidFill>
                <a:srgbClr val="000000"/>
              </a:solidFill>
              <a:latin typeface="Arial"/>
            </a:endParaRPr>
          </a:p>
        </p:txBody>
      </p:sp>
      <p:sp>
        <p:nvSpPr>
          <p:cNvPr id="74" name=""/>
          <p:cNvSpPr/>
          <p:nvPr/>
        </p:nvSpPr>
        <p:spPr>
          <a:xfrm>
            <a:off x="5486400" y="14479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943600" y="5181480"/>
            <a:ext cx="2590920" cy="1202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usedTurtl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Le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Right()</a:t>
            </a:r>
            <a:endParaRPr b="0" lang="en-US" sz="1800" spc="-1" strike="noStrike">
              <a:solidFill>
                <a:srgbClr val="000000"/>
              </a:solidFill>
              <a:latin typeface="Arial"/>
            </a:endParaRPr>
          </a:p>
        </p:txBody>
      </p:sp>
      <p:sp>
        <p:nvSpPr>
          <p:cNvPr id="76" name=""/>
          <p:cNvSpPr/>
          <p:nvPr/>
        </p:nvSpPr>
        <p:spPr>
          <a:xfrm>
            <a:off x="5943600" y="55627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6781680" y="335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53080" y="3124080"/>
            <a:ext cx="38124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9" name=""/>
          <p:cNvSpPr/>
          <p:nvPr/>
        </p:nvSpPr>
        <p:spPr>
          <a:xfrm flipV="1">
            <a:off x="6858000" y="5028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629400" y="4800600"/>
            <a:ext cx="38088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olymorphism</a:t>
            </a:r>
            <a:endParaRPr b="0" lang="en-US" sz="3600" spc="-1" strike="noStrike">
              <a:solidFill>
                <a:srgbClr val="333399"/>
              </a:solidFill>
              <a:latin typeface="Arial"/>
            </a:endParaRPr>
          </a:p>
        </p:txBody>
      </p:sp>
      <p:sp>
        <p:nvSpPr>
          <p:cNvPr id="8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s many for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for processing of an object based on the object’s ty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thod can be declared in a parent cla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edefined (overriden) by the subclass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or run-time binding will make sure the correct method gets ru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type of object it was called on at run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fused Turtle turnLeft and turnRight</a:t>
            </a:r>
            <a:endParaRPr b="0" lang="en-US" sz="3600" spc="-1" strike="noStrike">
              <a:solidFill>
                <a:srgbClr val="333399"/>
              </a:solidFill>
              <a:latin typeface="Arial"/>
            </a:endParaRPr>
          </a:p>
        </p:txBody>
      </p:sp>
      <p:sp>
        <p:nvSpPr>
          <p:cNvPr id="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thod to turn left (but confused turt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urn rig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turnLef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er.turnRig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thod to turn right (but confused turt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urn lef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turnRig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er.turnLef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out ConfusedTurtle</a:t>
            </a:r>
            <a:endParaRPr b="0" lang="en-US" sz="3600" spc="-1" strike="noStrike">
              <a:solidFill>
                <a:srgbClr val="333399"/>
              </a:solidFill>
              <a:latin typeface="Arial"/>
            </a:endParaRPr>
          </a:p>
        </p:txBody>
      </p:sp>
      <p:sp>
        <p:nvSpPr>
          <p:cNvPr id="8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World earth = new Worl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Turtle tommy = new Turtle(ear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tommy.forwar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tommy.turnLef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ConfusedTurtle bruce = new ConfusedTurtle(ear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bruce.backwar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bruce.turnLef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bruce.forwar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tommy.forwar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tommy.turnRigh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bruce.turnRigh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verride Methods</a:t>
            </a:r>
            <a:endParaRPr b="0" lang="en-US" sz="3600" spc="-1" strike="noStrike">
              <a:solidFill>
                <a:srgbClr val="333399"/>
              </a:solidFill>
              <a:latin typeface="Arial"/>
            </a:endParaRPr>
          </a:p>
        </p:txBody>
      </p:sp>
      <p:sp>
        <p:nvSpPr>
          <p:cNvPr id="8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classes inherit parent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used turtle knows how to go forward and backwar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it inherits these from Turtl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can override parent metho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method with the same name and parameter list as a parent meth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will be called instead of the parent method</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turnLeft and turnR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is Happening?</a:t>
            </a:r>
            <a:endParaRPr b="0" lang="en-US" sz="3600" spc="-1" strike="noStrike">
              <a:solidFill>
                <a:srgbClr val="333399"/>
              </a:solidFill>
              <a:latin typeface="Arial"/>
            </a:endParaRPr>
          </a:p>
        </p:txBody>
      </p:sp>
      <p:sp>
        <p:nvSpPr>
          <p:cNvPr id="9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ime an object is asked to execute a 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first checks the class that created the object to see if the method is defined in that cla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it will execute that metho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n’t, it will next check the parent class of the class that created it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execute that method if one if foun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method with that name and parameter list is found it will check that classes parent</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keep going till it finds the method</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ethod Overloading</a:t>
            </a:r>
            <a:endParaRPr b="0" lang="en-US" sz="3600" spc="-1" strike="noStrike">
              <a:solidFill>
                <a:srgbClr val="333399"/>
              </a:solidFill>
              <a:latin typeface="Arial"/>
            </a:endParaRPr>
          </a:p>
        </p:txBody>
      </p:sp>
      <p:sp>
        <p:nvSpPr>
          <p:cNvPr id="92" name=""/>
          <p:cNvSpPr/>
          <p:nvPr/>
        </p:nvSpPr>
        <p:spPr>
          <a:xfrm>
            <a:off x="4267080" y="4952880"/>
            <a:ext cx="2895840" cy="1202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usedTurtl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Le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Right()</a:t>
            </a:r>
            <a:endParaRPr b="0" lang="en-US" sz="1800" spc="-1" strike="noStrike">
              <a:solidFill>
                <a:srgbClr val="000000"/>
              </a:solidFill>
              <a:latin typeface="Arial"/>
            </a:endParaRPr>
          </a:p>
        </p:txBody>
      </p:sp>
      <p:sp>
        <p:nvSpPr>
          <p:cNvPr id="93" name=""/>
          <p:cNvSpPr/>
          <p:nvPr/>
        </p:nvSpPr>
        <p:spPr>
          <a:xfrm>
            <a:off x="1891800" y="5522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ce</a:t>
            </a:r>
            <a:endParaRPr b="0" lang="en-US" sz="1800" spc="-1" strike="noStrike">
              <a:solidFill>
                <a:srgbClr val="000000"/>
              </a:solidFill>
              <a:latin typeface="Arial"/>
            </a:endParaRPr>
          </a:p>
        </p:txBody>
      </p:sp>
      <p:sp>
        <p:nvSpPr>
          <p:cNvPr id="94" name=""/>
          <p:cNvSpPr/>
          <p:nvPr/>
        </p:nvSpPr>
        <p:spPr>
          <a:xfrm flipH="1" flipV="1">
            <a:off x="2590560" y="54100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91120" y="3657600"/>
            <a:ext cx="2895480" cy="785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tl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Square()</a:t>
            </a:r>
            <a:endParaRPr b="0" lang="en-US" sz="1800" spc="-1" strike="noStrike">
              <a:solidFill>
                <a:srgbClr val="000000"/>
              </a:solidFill>
              <a:latin typeface="Arial"/>
            </a:endParaRPr>
          </a:p>
        </p:txBody>
      </p:sp>
      <p:sp>
        <p:nvSpPr>
          <p:cNvPr id="96" name=""/>
          <p:cNvSpPr/>
          <p:nvPr/>
        </p:nvSpPr>
        <p:spPr>
          <a:xfrm>
            <a:off x="1814400" y="39225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my</a:t>
            </a:r>
            <a:endParaRPr b="0" lang="en-US" sz="1800" spc="-1" strike="noStrike">
              <a:solidFill>
                <a:srgbClr val="000000"/>
              </a:solidFill>
              <a:latin typeface="Arial"/>
            </a:endParaRPr>
          </a:p>
        </p:txBody>
      </p:sp>
      <p:sp>
        <p:nvSpPr>
          <p:cNvPr id="97" name=""/>
          <p:cNvSpPr/>
          <p:nvPr/>
        </p:nvSpPr>
        <p:spPr>
          <a:xfrm flipH="1" flipV="1">
            <a:off x="2514240" y="36576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594360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791320" y="4419720"/>
            <a:ext cx="304560" cy="3045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114800" y="1066680"/>
            <a:ext cx="2895480" cy="2037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Turtl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Le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Right()</a:t>
            </a:r>
            <a:endParaRPr b="0" lang="en-US" sz="1800" spc="-1" strike="noStrike">
              <a:solidFill>
                <a:srgbClr val="000000"/>
              </a:solidFill>
              <a:latin typeface="Arial"/>
            </a:endParaRPr>
          </a:p>
        </p:txBody>
      </p:sp>
      <p:sp>
        <p:nvSpPr>
          <p:cNvPr id="101" name=""/>
          <p:cNvSpPr/>
          <p:nvPr/>
        </p:nvSpPr>
        <p:spPr>
          <a:xfrm>
            <a:off x="5486400" y="3048120"/>
            <a:ext cx="304920" cy="3045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638680" y="3352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454400" y="2743200"/>
            <a:ext cx="124740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 Tur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104" name=""/>
          <p:cNvSpPr/>
          <p:nvPr/>
        </p:nvSpPr>
        <p:spPr>
          <a:xfrm>
            <a:off x="2209680" y="3505320"/>
            <a:ext cx="1981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2280" y="4495680"/>
            <a:ext cx="2238120" cy="91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 ConfusedTur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106" name=""/>
          <p:cNvSpPr/>
          <p:nvPr/>
        </p:nvSpPr>
        <p:spPr>
          <a:xfrm>
            <a:off x="152388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114800" y="14479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191120" y="40384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267080" y="533412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ercises</a:t>
            </a:r>
            <a:endParaRPr b="0" lang="en-US" sz="3600" spc="-1" strike="noStrike">
              <a:solidFill>
                <a:srgbClr val="333399"/>
              </a:solidFill>
              <a:latin typeface="Arial"/>
            </a:endParaRPr>
          </a:p>
        </p:txBody>
      </p:sp>
      <p:sp>
        <p:nvSpPr>
          <p:cNvPr id="11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DizzyTurtle cla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urns a bit to the left and goes forward when asked to go forw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urns a bit to the right and goes backward when asked to go backwar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SlowTurtle cla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only goes forward and backward by 50 instead of 100 if you don’t tell it how much to go forward or backwar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StubbornTurtle cla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50% chance of doing what you a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1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extends keyword to specify the parent clas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declare a cla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ConfusedTurtle extends Turt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inherits methods and fields from a parent clas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oesn’t have direct access to private fields and method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mplicit call to the no-arg parent constructor will be add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n’t a call to super(paramList) as the first line of code in a child constructo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can override a parent metho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lled instead of the parent method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method name and parameter list as a parent method</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can invoked a parent’s metho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per.methodName(paramList);</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concep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iting from a cla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licit call to sup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ing parent constructors explicitl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riding a parent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ethods invocations are resolv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an Inherited Class</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class ConfusedTurtle that inherits from the Turtle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n a ConfusedTurtle object is asked to turn left, it should turn righ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hen a ConfusedTurtle object is asked to turn right, it should turn lef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heriting from a Class</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herit from another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extends ClassName to the class declar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lass ConfusedTurtle extends Turt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in ConfusedTurtle.ja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compile i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ile Error?</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ry to compile ConfusedTurtle you will get a compiler err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cannot resolve symbo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 constructor Tur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class Turt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get this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herited Constructors</a:t>
            </a:r>
            <a:endParaRPr b="0" lang="en-US" sz="3600" spc="-1" strike="noStrike">
              <a:solidFill>
                <a:srgbClr val="333399"/>
              </a:solidFill>
              <a:latin typeface="Arial"/>
            </a:endParaRPr>
          </a:p>
        </p:txBody>
      </p:sp>
      <p:sp>
        <p:nvSpPr>
          <p:cNvPr id="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one class inherits from another all constructors in the child class will have an implicit call to the no-argument parent constructor as the first line of code in the child construc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an explicit call to a parent constructor is there as the first line of cod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uper(paramLis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y is an Implicit Call to Super Added?</a:t>
            </a:r>
            <a:endParaRPr b="0" lang="en-US" sz="3600" spc="-1" strike="noStrike">
              <a:solidFill>
                <a:srgbClr val="333399"/>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are inherited from a parent cla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fields should be declared priv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ublic, protected, or package visibility</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e control over field at the class level the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n subclasses can’t access fields direc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initialize inherited fiel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alling the parent constructor that initializes them</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per(paramL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planation of the Compile Error</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constructors in ConfusedTurt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 no-argument one is added for you</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 call to sup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Turtle class doesn’t have a no-argument constructo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nstructors take a world to put the turtle i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e need to add a constructor to </a:t>
            </a:r>
            <a:br>
              <a:rPr sz="2800"/>
            </a:br>
            <a:r>
              <a:rPr b="0" lang="en-US" sz="2800" spc="-1" strike="noStrike">
                <a:solidFill>
                  <a:srgbClr val="000000"/>
                </a:solidFill>
                <a:latin typeface="Arial"/>
              </a:rPr>
              <a:t>ConfusedTurt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akes a world to add the turtle to</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all super(the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 a Constructor that takes a World</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ConfusedTurtle extends Turt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 that takes a world 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lls the parent construc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am theWorld the world to put th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fused turtle i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ConfusedTurtle(World the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er (the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5-11-15T14:12:03Z</dcterms:modified>
  <cp:revision>1293</cp:revision>
  <dc:subject/>
  <dc:title>Summer Institute for Computing Education</dc:title>
</cp:coreProperties>
</file>