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307117DD-4820-4D6F-A367-355845135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reasons why we use DrJava is to let students use the interactions pane to try things out without having to use a main.  Many books start with a main method but don’t ever expla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4C0-761A-409E-9B25-4A8EF1F4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4F6-F1E7-46CD-B013-FBDB87A2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7E6-2EFF-4A1E-99F2-6C33C07D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B81-3093-4318-9D59-87326D97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879-CB42-42AA-BC81-78DBE942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C44-1801-45E7-A3F0-44CCBCA1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E87-8BA3-45E5-8235-95E10A68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5F4-AAA8-48D1-ADDD-6CACED5F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2F9-90C1-4DE4-B163-DAC304EB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BE5-1892-4A9E-85E5-EA782C30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DAE-A0A5-499F-A50C-E9E6F4D9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D30-31FF-43E0-8533-E2F2E9D6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6497-BFB6-40AC-A566-41FEC3660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reating Class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3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ame Modifi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the name only if currently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oolean setName(String the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result =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this.name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name = the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=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de Modifi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boolean setGrade(int index, double newGr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result =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newGrade &gt;= 0 |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gradeArray != null |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&lt; this.gradeArray.length |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&gt;= 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gradeArray[index] = newGr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=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a Field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icture field to student that will hold a Picture object of a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 accessor to get the value of this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modifier to set the value of this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method (show)  that will show th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n’t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ing a Mai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been typing stuff in the interactions pane in Dr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ry out Java code and to t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evelopment environments make you write a main method to start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Java allows thi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lass can have a main method declared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ublic so that  it can be called by other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static because no object of the class exists when it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n’t return anything so the return type is 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pass several arguments to the main method and these are put in an array of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i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main method to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statements that you have been doing in the interactions pane i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tatic void main(String[] ar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tudent1 = new Stude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student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tudent2 = new Student(“Sue Clark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student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ecute the Mai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rJava you can run the main method in the class that is displayed in the definitions 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licking on Tools then Run Document’s Main Method (or press key F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Stu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interaction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executes the main in the Studen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lculate a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all the values and divide by the number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reful not to divide b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reful not to access an array if it is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s are usually declared to b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tect the data from misuse by oth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you need to provide public accessor (getter) and modifier (setter)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still protect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main method to begin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static void main(String[] args)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alculate the average of the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ccessors and mod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protect the fields in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ing a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ecute the desired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lculating the Grade Aver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a student has an array of grades one of the things we probably would like i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e average when you print information about th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lculate a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by the number of gr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ngth of th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be careful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ll grade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0 length grade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a Method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method (getAverage) that will calculate and return the average of the grades in the grad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return 0 if the grade array is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return 0 if the grade array length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it will return the sum of the grades / the number of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toString method to call the getAverage method and add the average to the returned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ebugger to check that this is working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in the getAverag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ccessing Fields from Other Clas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s are usually declared to b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code in other classes can’t directly access and change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is in the interaction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student1 = new Student(“Sue Clark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ln(student1.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get an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for exceptional event –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classes can not use object.field to access the fiel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it is declared with public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ccessors and Modifi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ublic methods that retur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a way as to protect the data for thi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fieldType getFieldNam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ring getName() { return this.name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ublic methods that modif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a way as to protect the data for thi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returnType setFieldName(type 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setName(String theNam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this.name = theName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aming Conven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ors – also called G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etFieldName for non boolean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sFieldName for boolean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rs – also called Setters and Mut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etField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turn a boolean value to indicate if the value was set success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Name and set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ing Student Access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method to get th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tring getName() { return this.name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a method to get the array of g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meone gets the array they can directly change the grades in th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afer to return the grade at an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other classes can’t directly change the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double getGrade(int inde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return this.gradeArray[index]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ing Student Modifi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public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let other classes ask for the grade to change or the name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class is responsible for making sure this only happens in such a 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o keep the data valid and not cause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a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de must be &g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deArray must not be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ex must be &lt; the length of the array and &gt;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a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decide if this can be changed or not once it isn’t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5T15:09:04Z</dcterms:modified>
  <cp:revision>1153</cp:revision>
  <dc:subject/>
  <dc:title>Summer Institute for Computing Education</dc:title>
</cp:coreProperties>
</file>