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DEDA-9307-40F1-8405-045DCA4F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686-AF4A-4F22-A6E7-E767BA3A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795-860D-4FA0-A5AE-19C7DA5A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3963-3060-4A52-8DE5-213E1FE8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555-737A-4196-A37B-90A6E7AF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7EA-0717-48EC-AC2F-27EADD9E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C8E-858A-457F-BB0B-3B81D1C6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612A-07D0-4E16-A94A-DEC17068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586B-86BE-4255-A0F3-C93D5BF1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3498-92B5-46A2-BD12-5D479121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9DA6-49B1-4954-9131-BC11364D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075-A756-4AEB-8DD5-09CEAF9D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B74F-F4D5-4924-B8FB-3FE255F44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wo-Dimensional Arrays and Nested Loops – part 5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Lef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ile = FileChooser.getMediaPath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inX95in.jpg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show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copyKatieLeftRotation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repain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igh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419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copy one picture onto another so that the first picture is rotated to the right 90 degre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1401480" cy="243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34120" y="4038480"/>
            <a:ext cx="251460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igh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that each pixel holds on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result of a right rotation on this 2-d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create an algorithm for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38680" y="1523880"/>
          <a:ext cx="2667240" cy="1538280"/>
        </p:xfrm>
        <a:graphic>
          <a:graphicData uri="http://schemas.openxmlformats.org/drawingml/2006/table">
            <a:tbl>
              <a:tblPr/>
              <a:tblGrid>
                <a:gridCol w="888840"/>
                <a:gridCol w="889200"/>
                <a:gridCol w="889200"/>
              </a:tblGrid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248520" y="3809880"/>
          <a:ext cx="2057400" cy="21639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586728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3962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4648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5410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igh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out your algorithm on anothe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ranslate it into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952880" y="1676520"/>
          <a:ext cx="3556080" cy="1538280"/>
        </p:xfrm>
        <a:graphic>
          <a:graphicData uri="http://schemas.openxmlformats.org/drawingml/2006/table">
            <a:tbl>
              <a:tblPr/>
              <a:tblGrid>
                <a:gridCol w="889200"/>
                <a:gridCol w="888840"/>
                <a:gridCol w="889200"/>
                <a:gridCol w="88884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172200" y="3657600"/>
          <a:ext cx="2057400" cy="288612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10552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2590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3276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3886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3276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5334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7240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6019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igh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otate an image right 90 degrees still copy all the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y go to different locations in the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 values become row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y = source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x = source height  – 1 – source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638680" y="1523880"/>
          <a:ext cx="2667240" cy="1538280"/>
        </p:xfrm>
        <a:graphic>
          <a:graphicData uri="http://schemas.openxmlformats.org/drawingml/2006/table">
            <a:tbl>
              <a:tblPr/>
              <a:tblGrid>
                <a:gridCol w="888840"/>
                <a:gridCol w="889200"/>
                <a:gridCol w="889200"/>
              </a:tblGrid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248520" y="3809880"/>
          <a:ext cx="2057400" cy="21639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586728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3962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012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4648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5410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ight Rotation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77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method to rotate the picture of Katie to the right instead of to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out th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file = FileChooser.getMediaPath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inX95in.jpg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show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copyKatieRIghtRotatio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repai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make the method more gene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ork on any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py one picture to another with the first picture rot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to change the targetX and targ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 simplify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ry to solve it by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ome up with an algorithm for solving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n try it on anothe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py one picture to another so that the first picture is rotated 90 degrees left or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implify a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me up with an algorithm to solv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test th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f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copy one picture onto another so that the first picture is rotated to the left 90 degre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1401840" cy="2438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19920" y="2438280"/>
            <a:ext cx="2287440" cy="3105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f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implify the problem by thinking about how to copy when each pixel has a number a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come up with an algorithm for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638680" y="1523880"/>
          <a:ext cx="2667240" cy="1538280"/>
        </p:xfrm>
        <a:graphic>
          <a:graphicData uri="http://schemas.openxmlformats.org/drawingml/2006/table">
            <a:tbl>
              <a:tblPr/>
              <a:tblGrid>
                <a:gridCol w="888840"/>
                <a:gridCol w="889200"/>
                <a:gridCol w="889200"/>
              </a:tblGrid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248520" y="3809880"/>
          <a:ext cx="2057400" cy="21639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586728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0572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012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3962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4648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5410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f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out your algorithm on anothe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ranslate it into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952880" y="1676520"/>
          <a:ext cx="3556080" cy="1538280"/>
        </p:xfrm>
        <a:graphic>
          <a:graphicData uri="http://schemas.openxmlformats.org/drawingml/2006/table">
            <a:tbl>
              <a:tblPr/>
              <a:tblGrid>
                <a:gridCol w="889200"/>
                <a:gridCol w="888840"/>
                <a:gridCol w="889200"/>
                <a:gridCol w="88884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6172200" y="3657600"/>
          <a:ext cx="2057400" cy="288612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510552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2590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3276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3886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3276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5334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6019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f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otate an image left 90 degrees still copy all the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y go to different locations in the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 values become row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x = source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y = source width -1 – source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638680" y="1523880"/>
          <a:ext cx="2667240" cy="1538280"/>
        </p:xfrm>
        <a:graphic>
          <a:graphicData uri="http://schemas.openxmlformats.org/drawingml/2006/table">
            <a:tbl>
              <a:tblPr/>
              <a:tblGrid>
                <a:gridCol w="888840"/>
                <a:gridCol w="889200"/>
                <a:gridCol w="889200"/>
              </a:tblGrid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248520" y="3809880"/>
          <a:ext cx="2057400" cy="21639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586728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012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3962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1320" y="4648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91320" y="5410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ft Rotation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target picture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e the method on the target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the source pictur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through the source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through the source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source pixel at the x and y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target pixel with the x equal the source y value and the y equal the source picture width – 1 minus the source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color from the source pixel to the target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ft Rotation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copyKatieLeftRotatio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sourceFil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Chooser.getMediaPath("KatieFancy.jpg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sourcePicture = new Picture(sourceFi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source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target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targetX, targetY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sourceX =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X &lt; sourcePicture.getWidth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Katie Lef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sourceY =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Y &lt; sourcePicture.getHeight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Y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set the target pixel color to the source pixel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Pixel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Picture.getPixel(sourceX,source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X = source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Y = sourcePicture.getWidth() – 1 – source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Pixel = this.getPixel(targetX,target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Pixel.setColor(sourcePixel.getColor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6-27T13:07:41Z</dcterms:modified>
  <cp:revision>2174</cp:revision>
  <dc:subject/>
  <dc:title>Summer Institute for Computing Education</dc:title>
</cp:coreProperties>
</file>