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5A6-BA4D-4163-8A53-3A0360EF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8B0-8AB5-4E8D-8A9E-CD8FEB1D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470-5C93-4C4D-9C2B-DE7633DD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BFF-256C-4997-A58F-4A97FE49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12B-ABF6-4C0B-A264-46D78E83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AD1-97E2-4235-9197-1E73D461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A12-DE69-4E27-86C0-A550166E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1ED-215B-461D-B3DF-769A345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D39-BC05-40A1-BBED-1E5FDA47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C88-90F9-47E2-962B-AAC26CA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B0A-5D5C-4833-8285-BE6F40DE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B67-EE1E-4522-8E09-D36E6E3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D830-F948-4867-AC1F-7BE322A57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x values between xStart and x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y values between yStart and y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pixel from the source picture for the current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from the target picture for the targetStartX + x and targetStartY + 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in the target pixel to the color in the sourc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(Picture sourcePicture, int startX, int sta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endX, int endY, int targetStartX, int targetSt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x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startX, tx = targetStart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&lt; end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+, 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startY, ty = targetStar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&lt; end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+, ty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copy the source color to the targe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sourcePicture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x,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write Method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the copy method in Pictur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 copyKatie() and copyKatiesFace() methods to use the new cop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ethods to make sure they stil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7480" y="1461960"/>
            <a:ext cx="2540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part of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start and end conditions in the 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method should do one and only on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rameters to make methods more re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copy code from one metho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general method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all the general method from oth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art of one picture to an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good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more gener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dding parameters to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write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copi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opping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opy just part of a picture to a new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hange the start and end source x and y values to the desir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ictureObj.explore() to find the x and 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x and y values to get the face of the girl in KatieFancy.jp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Fac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6960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sFac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70, targetX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135; sourceX++, targe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3, targetY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80; sourceY++, target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Face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opy Katie’s Fa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Chooser.getMediaPath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copyKatiesFac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2552760" cy="34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makes a Good Method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should do one and only on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 som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should tell you what it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an call other methods to do some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n’t copy code betwee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make general methods that are reus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should be in the class that has the data the method is work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he last two methods general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pecified the file to copy from in 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we would need to change the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ke another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a differen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ethod that copies pixels from a passed sourc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a start x and y and end x and y for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nd end x and y cover the entire picture then the whole picture will be co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nd end x and y are part of the picture then cropping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urrent picture object with a target start x and target start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re 0 then it copies to the upper left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20:25:11Z</dcterms:modified>
  <cp:revision>2161</cp:revision>
  <dc:subject/>
  <dc:title>Summer Institute for Computing Education</dc:title>
</cp:coreProperties>
</file>