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00400" y="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ipulating Pictures, Arrays, and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5 - </a:t>
            </a:r>
            <a:fld id="{37877C93-5A50-47AA-9F0C-1A9A947DC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e picture explorer to check that the red values where reduced by 50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 clicking on an error in the Compiler Output pane will highlight the statement that caused the error and change the definitions pane to show you the probl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also use x += y as a shortcut for x = x + y, x-=y for x = x – y, x*=y for x=x*y, and x/=y for x = x / 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tems in blue are what is different from the for-each loop ver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eclare items that we will need in the loop before the loop so that new ones don't get created each time through the loo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vadoc is a utility that comes with the JDK for creating html documentation from your source code (*.java fil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37AA-C10E-42AF-B91A-13384BC8F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370B-FCB1-4049-B275-D2764133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E8DF-926C-45FA-8762-C6CFD362E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5D8A-AAAE-4057-854C-819E2D86B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190E-C5D8-4524-B5E2-794C7191A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6D43-D494-4434-8A82-8E4FF9CB3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89D0-4088-4359-9769-2A686CBCA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9850-F730-4C26-B033-A1BE126AC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D9D3-9D06-4D9E-947F-7B04B5CA4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D8DF-58BA-43DD-9FB0-955B4622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E398-CBB6-4C79-9FA5-67D8A0B8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6E95-EB5B-4E30-958B-759AE637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62481-AA60-40D5-BB31-6B1800E4F2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990720"/>
            <a:ext cx="800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anipulating Pictures, Arrays, and Loops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art 3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b Eric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ecrease Red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Dr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the method decreaseRed() to Picture.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ore the last } which ends the class 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ile the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Compile All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it by doing the following in the interactions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String fileName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C:/intro-prog-java/mediasources/caterpillar.jpg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Picture picture1 = new Picture(fileNam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picture1.explor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picture1.decreaseRed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picture1.explor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ecreaseRed Method Resul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fore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800600" y="1447920"/>
            <a:ext cx="3133800" cy="14284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648320" y="4267080"/>
            <a:ext cx="31334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Using Multiplication by 0.5 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ould have also multiplied the red value by 0.5 and then cast back to inte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 = value * 0.5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the line that divided by 2 and try to compile t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decreaseRed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oss of Precis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try the code on the previous slide you will get a compiler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e loss of prec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omplaining about putting a double value into a int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s of fractional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648320" y="1857240"/>
            <a:ext cx="4038480" cy="1098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648320" y="4363920"/>
            <a:ext cx="4038480" cy="11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asting to Solve Loss of Precision Error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ill compile if we tell the compiler we know about the possible loss of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hat it is intend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using a cast to 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 = (int) (value * 0.5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ce that we cast the result of the multiplication back to an inte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ing is forcing a value into a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ut Declarations Outside Loop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you need a variable in a loop it is best to declare it before the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wise you are declaring a new variable each time through th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is slower than just changing the value associated with the vari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ome languages you must declare all variables at the beginning of a method (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Java you can declare variables anywhere in a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long as you declare them before you use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re known in the block they are declared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hortcuts for Common Operation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rogramming you often need to add one to a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x = index + 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ay use the shortc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x++; or ++index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wanted to subtract 1 inst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x = index – 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x--; or -- index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lgorithm is a description of how to solve a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gram implements an algorithm in a programm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ment is an explanation of your code to help people understand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ents are ignored by the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multiply by a floating point number you can’t put this in an integer vari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ess you cast to inte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should declare variables before the body of th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you will need in the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earning Goal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at a conceptual and practical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an algorith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a progra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translate an algorithm to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a com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ppens if you multiply by 0.5 instead of divide by 2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improve a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hanging from For-each to Whil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for-each loop something needs to keep track of the current pix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change each time through the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ure that we have gone through all of the pix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loop through all elements in an array by starting with index 0, then index 1, and so on till index (length –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get the pixel at the current index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Reduce Red Algorithm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the array of Pixel objects from the current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a variable to hold the red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eclare the index variable and set it to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eclare a variable to refer to the current pix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oop while index is less than the length of the arr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et the pixel at the index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the current red value from the pix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current red value b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the red for the current pixel to the changed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crement the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oop Algorithm to Cod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write (code) the loo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while loop with a counter for the index starting at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index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a variable to refer to the current pix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xel pixelObj = nul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 while the index is less than the length of the arr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(index &lt; pixelArray.leng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the current pixel from the array of pixels for the current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xelObj = pixelArray[index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oop Algorithm to Code - Continue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the red value at the pix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 = pixelObj.getRed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 the red value by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 = value / 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the pixel red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el.setRed(valu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one to (increment) the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x = index +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ecrease Red Metho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6483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decreaseRed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xel[] pixelArray = this.getPixels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value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xel pixelObj = nul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index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loop through all the pix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(index &lt; pixelArray.leng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get the current pix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xelObj = pixelArray[index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52520" y="1219320"/>
            <a:ext cx="35053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get the red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 = pixelObj.getRed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decrease the red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 = value / 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set the pixel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xelObj.setRed(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increment the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x = index + 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Method Nam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we add this new method to Picture.java and compile will we get an err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have two methods with the same name and both take no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have two methods with the same na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long as the parameter list is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need to name one of them differ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name the first one to decreaseRedFo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mment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s are explanations of your code to help people understand your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ignored by the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several kinds in 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/ a comment that lasts to the end of the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* a comment that can take up several 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til a 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** a Javadoc comment that is used to creat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tml documentation of your code 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9:23:22Z</dcterms:created>
  <dc:creator>Barbara Jane Ericson</dc:creator>
  <dc:description/>
  <dc:language>en-US</dc:language>
  <cp:lastModifiedBy>Barbara J. Ericson</cp:lastModifiedBy>
  <dcterms:modified xsi:type="dcterms:W3CDTF">2006-05-25T14:56:31Z</dcterms:modified>
  <cp:revision>2173</cp:revision>
  <dc:subject/>
  <dc:title>Summer Institute for Computing Education</dc:title>
</cp:coreProperties>
</file>