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54C37E2E-A2DC-4FA2-959F-3A58A5DE2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is append(Shape shape, boolean connectFlag);  A Line2D.Double object is a Shape object.  Shape is an interface.  You want to pass true for the connect fl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001-DA02-44EC-B870-E36F0E7E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103-D8BB-4A91-A5E0-FF04FFC3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E79-4BF5-400A-BDB8-5A33A34F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F6D-D427-4E1E-A465-B2BCDBE3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152-20DA-425E-B0C1-9239839F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D51-E674-48ED-A638-A178FFB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35F-CE07-49DD-BFD4-A1153E7A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49F-76C8-4BA4-9CEC-5987B538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F12-9687-41B1-A7D7-2D240F7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A7D-D4B8-47B0-BF36-A513F5C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9CD-AA54-4EF9-8786-C7C69DD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E36-E0EC-47E1-A6BB-6196B81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15C5-7892-43A4-99AA-A062B51E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3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int is an Interfa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up the API for Graphics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etPai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it takes a Paint object a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me we can pass this method a java.awt.Color object or a java.awt.GradientPaint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implement the Pain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passed to a method that requires an object of an interfa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object is from a class that implements tha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herits from a class that implements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Use an Interfac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B interface lets you plug in differen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, disk drive, key driv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doesn’t care what the devic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that it uses the US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nterfac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et you plug in different classes as long as they implement th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e implementing class must include all the methods defined in th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to a Shap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pecify a shape to clip the image to when you dr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e2D.Double ellips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llipse2D.Double(0,0,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.setClip(ellip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ly the portion of the image that is inside that shape will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.drawImage(this.getImage(),0,0,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to an Ellips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Picture clipToEllip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width = this.getWid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height = this.getHe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result = new Picture(width,he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graphics2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g = result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2D g2 = (Graphics2D)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9360" y="1219320"/>
            <a:ext cx="4724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reate an ellipse for cl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2D.Double ellip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llipse2D.Double(0,0,width,he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use the ellipse for cl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.setClip(ellip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raw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.drawImage(this.getImag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,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,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return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clipToEllip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creates a new picture and returns it so in order to see if we will need to save a referenc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2 = p.clipToEllip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hat will clip a picture to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the java.awt.geom.GeneralPath class to create the path to cli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new GeneralPath passing i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.Doubl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ppe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.Doubl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means that the child class gets all the fields and methods of the pare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is in the API for Graphics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a class to do general scaling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awt.geom.Affine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raw with a gradient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hanges from one color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of classes that implement an interface can be said to be of tha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an be passed as parameters to methods that take tha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lip a picture to a geometric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heritanc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o a general scale method using the java.awt.geom.AffineTransform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raw with a gradient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that changes from one color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n interface is 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lip a picture to a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Graphics2D inherits from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erits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has a drawIma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 inherits this method from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I shows the paren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inherite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in package java.awt and then at the class Graphics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ava.sun.com/j2se/1.5.0/docs/api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Scal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caled a picture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if we want to scale to a specified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hat if we want to scale up in x and down in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class AffineTransform in the java.awt.geom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object of the class Affine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caling using the method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AffineTransform  object when you draw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Scal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icture scale(double xFactor, double yFa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et up the scale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neTransform scaleTransform = new AffineTransfor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Transform.scale(xFactor,yFact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reate a new picture object that is the right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result = new Picture((int) (getWidth() * xFactor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) (getHeight() * yFacto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get the graphics 2d object to draw on the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graphics = result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2D g2 = (Graphics2D) 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draw the current image onto the result image sc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drawImage(this.getImage(),scaleTransform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General Scal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at the general scale method creates and returns a new picture of the appropria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 see the result we need to save a reference to it in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mattDoor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p.scale(2.0,0.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with a Gradient Pai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filling with one color you can fill with a paint that changes from one color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awt.Gradient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y specifying a point and the color at that point and then a second point and the color at that poi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ill be a change from one color to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886120" cy="212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43600" y="1600200"/>
            <a:ext cx="13716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6120" y="1143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1, Col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3840" y="3124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2, Col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62940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drawSun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drawSun(int x, int y, int width, int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get the graphics2D object for this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2D g2 = (Graphics2D) 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reate the gradient for painting from yellow to red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yellow at the top of the sun and red at the bot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xMid = (float) (width / 0.5 +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ientPaint gPaint = new GradientPaint(xMid, 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.yello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id, y + hei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et the gradient and draw the elli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setPaint(gPa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fill(new Ellipse2D.Double(x,y,width,heigh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drawSu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drawSun(201,80,40,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8-01T09:42:26Z</dcterms:modified>
  <cp:revision>1934</cp:revision>
  <dc:subject/>
  <dc:title>Summer Institute for Computing Education</dc:title>
</cp:coreProperties>
</file>