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61B-D3F1-4636-8FE0-174F3158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90BB-A2C6-4DC2-BEFD-EA1DF5BD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0BB-E0CC-40FB-932A-1CC47637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013-C5E3-480F-BF30-3D482B6A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748A-E6B9-4870-9F7F-1EA808CA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7D82-D2F1-489A-AC0F-A7C9731C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54C-36F8-4CBF-A2A4-D9C2B351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C419-4E58-4D42-BCFF-EEFB0A96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389D-6862-450C-84A4-09C2B453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1337-D2F6-4555-A855-15BE9BC7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BFCE-41B5-4AC2-943D-2AAB361E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86EF-2A1A-4C0B-859D-1ED14BD9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0283-0244-4DDC-B68D-5F4B2F90C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wo-Dimensional Arrays and Nested Loops – part 1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ighten the Color with a Nested Loop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77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lighte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pixelObj =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colorObj =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the columns (x 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x = 0; x &lt; this.getWidth(); x++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the rows (y 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y = 0; y &lt; this.getHeight(); y++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ighten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get pixel at the x and y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Obj = this.getPixel(x,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get the current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Obj = pixelObj.getColo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get a lighter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Obj = colorObj.brighte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set the pixel color to the lighter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Obj.setColor(colorObj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ying the Lighten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interactions pa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fil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/intro-prog-java/mediasources/caterpillar.jpg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p1 = new Picture(f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explor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lighte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explor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486400" y="1219320"/>
            <a:ext cx="2895480" cy="2359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8954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anging to Nested Loop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method clearBlue() to use a nested for loop to loop through all the pix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he method again to check that it still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at the blue values are all 0 using pictureObj.explor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31334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wo-dimensional array has columns and 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ested loops to work with 2-d arr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loop for the x direction and one for the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x = 0; x &lt; this.getWidth(); x++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loop through the rows (y dir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y = 0; y &lt; this.getHeight(); y++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two-dimensional arr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get the pixel for a x and y lo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use nested loo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nvert a single for loop to a nested for lo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is a two-dimensional array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191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ixels in a picture are really stored in a two-dimensional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ixel has a x value (horizontal lo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ixel has a y value (vertical lo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Obj.getPixel(x,y) returns the pixel at that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2327400"/>
            <a:ext cx="4038480" cy="2689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91120" y="194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21337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97120" y="2743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3352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ample Two-Dimensional Array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street is in D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le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I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 or mi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s at a theater or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 C seat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75440" y="3747960"/>
            <a:ext cx="2784240" cy="2378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595840" y="1219320"/>
            <a:ext cx="2143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ested Loop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get all the pixels in a picture using their x and y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left to right and top to bot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0 and y=0, x=1 and y=0, x=2 and y=0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0 and y=1, x=1 and y=1, x=2 and y=1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0 and y=2, x=1 and y=2, x=2 and y=2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have one loop insid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uter loop counts y from 0 to height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ner loop counts x from 0 to width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lternative Nested Loop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get all the pixels in a picture using their x and y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op to bottom and left to r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0 and y=0, x=0 and y=1, x=0 and y=2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1 and y=0, x=1 and y=1, x=1 and y=2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2 and y=0, x=2 and y=1, x=2 and y=2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have one loop insid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uter loop counts x to width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ner loop counts y from 0 to height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ested Loop Templat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y = 0; y &lt; this.getHeight(); y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x = 0; x &lt; this.getWidth(); x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get the current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Obj = this.getPixel(x,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do something to the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set the new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Obj.setColor(colorObj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lternative Nested Loop Templat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columns (x dir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x = 0; x &lt; this.getWidth(); x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rows (y dir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y = 0; y &lt; this.getHeight(); y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get the current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Obj = this.getPixel(x,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do something to the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set the new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Obj.setColor(colorObj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ighten the Color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x at 0 and loop while x &lt; the picture width (add 1 to x at the end of each lo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y at 0 and loop while y &lt; the picture height (add 1 to y at the end of each lo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pixel at this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color at the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en (brighten) the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color for the pixel to the lighter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08-16T18:18:08Z</dcterms:modified>
  <cp:revision>2163</cp:revision>
  <dc:subject/>
  <dc:title>Summer Institute for Computing Education</dc:title>
</cp:coreProperties>
</file>