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Media Computation Java, and Dr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 - </a:t>
            </a:r>
            <a:fld id="{5CE7919A-5E5C-4141-8230-0EC8DEC96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the class object that represents the class use object.getClass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heck if an object is an instance of a class use instanceof(class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ctually an array of Method objects that holds the methods for a class.  There is also an array of Field objects which describes the fields in the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vention is the usual way of doing something.  Java code will compile if you don’t follow these conventions but it will be hard for other programmers to understand you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 between the two is that println will print the value of the variable or expression and then move to the next lin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 is a way to access the class variable called “out” in the System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.println() is sending the println() message to the “out”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does matter in Java.  System.out.println must start with an uppercase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console tab and see the outp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same above with a semicolon at the end.  In Java a semicolon shows the end of a stat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compiler sees double quotes it recognizes the characters as part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methods can also be invoked by sending them as a message to an object since an object has a link to its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racter class is a wrapper class for char values.  It also contains some static (class)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E79D-66C3-4D92-B3B0-866F09ED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DA17-37B7-47F8-ABD2-97BED022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4D2C-99CA-40AC-8C3F-93D8C8DE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8DC4-6F8F-48CE-8F1B-C25BECC80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745A-FA13-40EF-83EB-049A62EA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BDA8-527C-4011-A5C3-B7433212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515F-D3A1-40A2-BD54-090924C1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10EA-4C0B-44FD-B4A0-AC943D91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851F-E502-42FA-AFD1-1959684C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869A-8208-4189-AD27-C30AED7C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5B68-4ED1-4169-A4E9-7914ABCE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C597-7588-4430-85C3-D8923D7C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BDAD-514B-4DFE-AEA8-91C49EE2E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troduction to Java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art 2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essage Always Have Parenthesi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tell that out.println() is sending a mess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the 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s always have (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if there are no parameters (argu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sending data along with a message it goes inside the parenth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d by com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.min(3,4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mon Error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you make any mistakes when you typed in the examp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use the wrong case it won’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math.abs(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: Undefined class 'math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misspell something it won’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Mat.abs(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: Undefined class 'Mat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Math.ab(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: No 'ab' method in 'java.lang.Math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up arrow key in DrJava to bring up the previous statement and fix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"Hi" is a String Objec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iler turns literal strings into string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of the String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ackage java.l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methods are invoked by sending a mess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he same name as th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type, number, and order of input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PI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lasses defined as part of the Java language are documented in the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java.sun.com/j2se/1.5.0/docs/api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documentation for the following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and 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documentation for the methods used in the previous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out some other methods for these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Java Packag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groups related classes into pac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Pac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.l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basic classes for th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, Math, Object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classes for input an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.aw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basic user interface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x.s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more advanced user interface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ass Methods versus Object Method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API documentation how can you tell which are class methods and which are object metho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for the keywor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th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t has the keyword static then it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is no keyword static then it is an object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at do Objects Look Like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are created with space for thei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have a reference to the object that represents th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of the class “Clas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3657600"/>
            <a:ext cx="3048120" cy="2133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4852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19720" y="1600200"/>
            <a:ext cx="213336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16002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1219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3886200"/>
            <a:ext cx="28954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Fo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s = Name,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 = getName, setName, getPrice, setPrice, getCal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32767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d :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190512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“Fri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 = 1.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48320" y="1219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s: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81680" y="1219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ffles: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190512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“Waffl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 = 2.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Java is Case Sensitiv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rogramming languages are case sen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ing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n’t the same 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n’t the same 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Java primitive types are all lower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, float, in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names start with an uppercase l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String and System are the names of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Java Naming Convention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Jav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ss names start with an uppercase l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, BufferedImage,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ther names start with lowercase letters but uppercase the first letter of each additional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, fileName, thisIsALong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dentifying Classes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se are primitive types, and which are the names of cla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a conceptu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print outp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represent tex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invoke object and class metho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know what methods a class h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print out things using System.out.println(expression);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.out.print(expressio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represent text using String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airs of double qu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is a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package java.l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look up methods in the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invoke methods on a string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Hi".toLowerCa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methods can be executed using the class name “dot” method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h.min(3,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thod is a class method if it has keyword “static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rinting Output to the Consol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things you often want to do in a program is output the value of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Java the way to print to the console is to u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ln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print out the value of the thing in the parentheses and a new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int just the thing in the parentheses without a new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 Semicolon (;) ends a Statemen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programs are made up of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sentences in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statements end in a semicolon not a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iod is used to send a message to an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.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printl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access data in th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printl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Java’s interaction pane prints the result of statements without a semicol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the result of statements with a semico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ystem.out.println(); to force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unctuation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urse was difficult it required five different tex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that is is that that is not is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as so happy, I could have jumped for jo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ouds were slowly gathering, the leaves were shaking as the wind blew strong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sole Output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.out.println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print the results of expression to the cons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ln(3 * 28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ln(14 – 7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ln(10 / 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ln(128 + 234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ln("Hi" + "There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ln("128 + 234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.out.print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differ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tring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has a type called: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ing is an object that has a sequence of characters in Uni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have no characters (the null string "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have many charac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This is one long string with spaces in it. 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in a string will be printed out as it was en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math operations “128 + 234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knows how to add st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turns a new string with the characters of the second string after the characters of the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no added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ethod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 in Java define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ipes or functions f(x)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take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produce an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 as a message to an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citly passed the current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 as a message to a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ethod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DrJava’s interaction pane try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HI".toLowerCa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This is a string".indexOf("is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   This is ".trim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.abs(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.abs(-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.min(3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.getNumericValue('A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5-25T14:27:36Z</dcterms:modified>
  <cp:revision>1485</cp:revision>
  <dc:subject/>
  <dc:title>Summer Institute for Computing Education</dc:title>
</cp:coreProperties>
</file>