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9CC2-E3B9-47DA-954C-0B834F5E1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690D-0571-4D34-B939-943F597B0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4119-786B-4B78-A75F-CED7B057A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C90E-4CC5-4E1E-9B0E-8A1FBC4CE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BC27-F029-4E1E-97D7-BF3453143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D8D1-8285-4D54-8BA9-EA9DB8DC1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1D46-A4AF-4CB7-967E-597702169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80E0-41FE-487E-ADD2-316B5D8D6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84BC-E47C-4FE7-81F8-D150FE7FE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26C3-6F3B-4392-896E-A3912FBE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9C94-E3DD-4BD9-A417-8A9360B3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D848-F024-4075-9A09-AE7D01BD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6402A-893C-48FF-A6AB-37BD61E3C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990720"/>
            <a:ext cx="800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wo-Dimensional Arrays and Nested Loops – part 3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b Eric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ust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Result of copyKatie Metho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819520" y="1143000"/>
            <a:ext cx="3705120" cy="502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pying Pixels to a New Pictur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f we want to copy the target to a different location in the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 0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y startX and sta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an algorithm that will do th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5257800" y="1828800"/>
          <a:ext cx="1600200" cy="1081080"/>
        </p:xfrm>
        <a:graphic>
          <a:graphicData uri="http://schemas.openxmlformats.org/drawingml/2006/table">
            <a:tbl>
              <a:tblPr/>
              <a:tblGrid>
                <a:gridCol w="799920"/>
                <a:gridCol w="800280"/>
              </a:tblGrid>
              <a:tr h="54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5105520" y="4038480"/>
          <a:ext cx="3581280" cy="2087640"/>
        </p:xfrm>
        <a:graphic>
          <a:graphicData uri="http://schemas.openxmlformats.org/drawingml/2006/table">
            <a:tbl>
              <a:tblPr/>
              <a:tblGrid>
                <a:gridCol w="895320"/>
                <a:gridCol w="895320"/>
                <a:gridCol w="895320"/>
                <a:gridCol w="895320"/>
              </a:tblGrid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5412240" y="1447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78720" y="243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78720" y="1905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50320" y="1447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12240" y="3657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250320" y="3657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164720" y="3657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02800" y="3657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802400" y="411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02400" y="4648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802400" y="5181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802400" y="571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py to Position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a method copyRobot to copy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bot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loc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, 100 in 7inx95in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file = FileChooser.getMediaPath(“7inx95in.jpg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 p = new Picture(fil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copyRobo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show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648320" y="1219320"/>
            <a:ext cx="3593880" cy="4876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py pixels from one picture to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track of the sourceX, sourceY and targetX and targ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declare, initialize, and change more than one variable in a for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(int sourceX = 0, targetX = 0; sourceX &lt;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Picture.getWidth(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X++, targetX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py one picture to a location in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st change the start values for targetX and targ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earning Goal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at a conceptual and practical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copy pixels from one picture to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declare, initialize and change several variables in a for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copy pixels from one picture to a specified location in another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pying Pixels to a New Pictur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track the source picture x and 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 target picture x and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use a blank pic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the target 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blank pictures are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40x480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inX95in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257800" y="1828800"/>
          <a:ext cx="1600200" cy="1081080"/>
        </p:xfrm>
        <a:graphic>
          <a:graphicData uri="http://schemas.openxmlformats.org/drawingml/2006/table">
            <a:tbl>
              <a:tblPr/>
              <a:tblGrid>
                <a:gridCol w="799920"/>
                <a:gridCol w="800280"/>
              </a:tblGrid>
              <a:tr h="54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5105520" y="4038480"/>
          <a:ext cx="3581280" cy="2087640"/>
        </p:xfrm>
        <a:graphic>
          <a:graphicData uri="http://schemas.openxmlformats.org/drawingml/2006/table">
            <a:tbl>
              <a:tblPr/>
              <a:tblGrid>
                <a:gridCol w="895320"/>
                <a:gridCol w="895320"/>
                <a:gridCol w="895320"/>
                <a:gridCol w="895320"/>
              </a:tblGrid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py Picture Algorithm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y a picture to the 7 by 9.5 inch blank pi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the target picture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ke the method on the target pic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the source picture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 through the source picture pix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the source and target pix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the color of the target pixel to the color of the source pix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py Algorithm to Cod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p through the source pix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loop through the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int sourceX = 0, targetX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X &lt; sourcePicture.getWidth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X++, targetX++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loop through the r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int sourceY = 0, targetY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Y &lt; sourcePicture.getHeight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Y++, targetY++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py Algorithm to Code – Con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t the source and target pix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Pixel = sourcePicture.getPixel(sourceX,source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Pixel = this.getPixel(targetX,target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t the color of the target pixel to the color of the source pix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Pixel.setColor(sourcePixel.getColor(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py Metho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copyKati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sourceFile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Chooser.getMediaPath("KatieFancy.jpg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 sourcePicture = new Picture(sourceFil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xel sourcePixel = nul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xel targetPixel = nul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loop through the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(int sourceX = 0, targetX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X &lt; sourcePicture.getWidth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X++, targetX++)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py Method - Continue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loop through the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(int sourceY = 0, targetY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Y &lt; sourcePicture.getHeigh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Y++, targetY++)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set the target pixel color to the source pixel c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Pixel = sourcePicture.getPixel(sourceX,source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Pixel = this.getPixel(targetX,target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Pixel.setColor(sourcePixel.getColor(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rying the copyKatie Metho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1532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picture object using the 7inX95in.jpg file in the mediasources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ture p1 = new Picture(FileChooser.getMediaPath(“7inX95in.jpg”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the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.show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ke the method on this picture obje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.copyKati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aint the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.repaint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9:23:22Z</dcterms:created>
  <dc:creator>Barbara Jane Ericson</dc:creator>
  <dc:description/>
  <dc:language>en-US</dc:language>
  <cp:lastModifiedBy>Barbara J. Ericson</cp:lastModifiedBy>
  <dcterms:modified xsi:type="dcterms:W3CDTF">2005-08-16T20:12:31Z</dcterms:modified>
  <cp:revision>2163</cp:revision>
  <dc:subject/>
  <dc:title>Summer Institute for Computing Education</dc:title>
</cp:coreProperties>
</file>