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4C707B3B-C2AB-49D8-9923-9143E6C0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reusable method add parameters for the top left x, top left y, and width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nt names are guaranteed to exi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ve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tyle = g.getStyl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tyl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ize = g.getSiz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iz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Name = g.getNam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Family = g.getFamily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’s family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ers often do this for copyright.  To make this method more reusable add the color, font, and y position as parameters to this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olygon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Polygon.addPoint(x,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xArray, yArray, numPoint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losed polygon make sure the first and last points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ixels that can be displayed is the resolution of the display.  Common resolutions are 1024 by 768, and 1280 by 10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906-63EB-4130-A0AA-D2A442FC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EA2-D8AA-44BA-83EB-2A9048E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821-E601-478F-BF86-E39BBD5E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5EF-6032-4A58-9E9D-AD4A5EA2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937-942B-44D3-BB6C-697C9E2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606-C7A4-435B-9539-1BC9CC3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2E7-9958-4BBE-88D4-7D7DF7C5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B2B-465D-45A6-9889-CCD2F00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22F-87F6-4984-9CDB-3DFCF19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D1B-B50D-475B-B1BB-5D0511E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D27-072F-459B-B5DF-D63D0F6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779-E2D8-4E48-A47B-6CFB548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7008-ACB6-4D21-8808-1C7FAE55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1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Circl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00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to add a yellow sun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 bea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u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new imag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038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Fo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ont object with the font name, style, and p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labelFont = new Font(“TimesRoman”, Font.BOLD, 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normalFont = new Font(“Helvetica”,Font.PLAIN, 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setFont(labelF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fo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getStyle(), g.getSize(), g.getName(), g.get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Str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drawString(“test”,leftX,baselin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ntMetrics class for draw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Metrics currFontMetrics = g.getFontMetr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aselineY = currFontMetrics.getHeight(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FontMetrics.getDesc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width = currFontMetrics.stringWidth(“tes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6400" y="51055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6400" y="5533920"/>
            <a:ext cx="5181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76400" y="56404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57680" y="499284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6280" y="45266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95520" y="4924440"/>
            <a:ext cx="3808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8520" y="56584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95520" y="553356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7880" y="5029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83520" y="4923360"/>
            <a:ext cx="26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05440" y="497376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14760" y="56584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654520" y="5579640"/>
            <a:ext cx="68904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5440" y="4366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7400" y="4676760"/>
            <a:ext cx="244440" cy="63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1280" y="45108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55880" y="4632480"/>
            <a:ext cx="87948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 a String to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method drawString that will add some text to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to draw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font to use when drawing th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string near the bottom left of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ime create another method that takes a string and y value and centers the string in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kitten2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tring(“Barbara Ericso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00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and Polygon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xArray,yArray,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xArray, yArray, 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7640" y="1509840"/>
            <a:ext cx="157320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666880"/>
            <a:ext cx="706320" cy="9669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060800"/>
            <a:ext cx="706320" cy="9669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0520" y="15638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,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40680" y="1905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,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(drawX) for adding two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e line at the top left corner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bottom right corner of th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other line at the bottom left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top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test it with barbar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10240" y="22716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raw by changing the color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you can use java.awt.Graphics to do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aphics object from a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raphic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picture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setColor(Color.RE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ome simple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Oval(x1,y1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String(“string to draw”,leftX,basel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ange pixel colors to draw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the java.awt.Graphics class to do simple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impl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draw something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drawing a grid of lines on top of the pic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just set the pixels to black to make up th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vertic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 = 20, x &lt; width, x +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= 0, y &lt; height, y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horizont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 = 20, y &lt; height, y+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=0, x &lt; width, x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drawGrid to draw horizontal and vertical lines on the curren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every 20 pixels i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s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barbara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drawGri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ther Shap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circle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string of charac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till would need to set the pixel colors of certain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ix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way of doing thes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Graphic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nows how to draw and fill simple shape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on a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tting the graphics object from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WT Graphics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the Graphics class in the java.awt package let you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colo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om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, Rectangles, Lines, Polygons,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s drawn on top of other shapes will cov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nt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some letters (str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5845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lor(redValue,greenValue,blue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redefined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, green, blue, black, yellow, gray, magenta, cyan, pink,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ese do: Color.red or Color.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import java.awt.*; or java.awt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urrColo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 Environme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2160" y="2590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124080"/>
            <a:ext cx="55627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0 is at the top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ncrea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ncreases going down th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0040" y="2851200"/>
            <a:ext cx="5264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57160" y="25902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28880" y="3110040"/>
            <a:ext cx="0" cy="23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960" y="5409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re often positioned by their top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units are measured in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1320" y="56872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883120" y="1865160"/>
            <a:ext cx="1828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Circles and Ellip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rawOval(x,y,wid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fillOval(x,y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x and y of the upper left corner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point on the circle or el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width and height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ircle use the same value for the width and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3120" y="1865160"/>
            <a:ext cx="1828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9760" y="1371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2240" y="171288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3320" y="32734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8760" y="346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83120" y="346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1720" y="2438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349960" y="186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960" y="285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886200"/>
            <a:ext cx="18288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03T12:18:21Z</dcterms:modified>
  <cp:revision>1932</cp:revision>
  <dc:subject/>
  <dc:title>Summer Institute for Computing Education</dc:title>
</cp:coreProperties>
</file>