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CFFFB5C0-174C-40A5-BDE1-13F07258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2d/ for the tutorial on 2d graphics from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created a general copy method that copied a picture to a x and y location in the current picture but we had to copy all the pixels ourselves.  But, there is a method that will do this for us in both Graphics and Graphics2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created a general copy method that copied a picture to a x and y location in the current picture but we had to copy all the pixels ourselves.  But, there is a method that will do this for us in both Graphics and Graphics2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left x and y in the ovals and arcs are for the top left corner of the bounding rectang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Angle is the amount to add to the startAngle to get the end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LeftX and topLeftY are the coordinates of the top left point of the enclosing rectangle for the rounded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Width and arcHeight in the rounded rectangle are the width and height of the oval that creates the rounded part of the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raw a rectangle in the background color (clear the are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clearRect(topLeftX,topLeftY,width,heigh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raw a 3-d rectangle (looks like a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draw3DRect(topLeftX, TopLeftY,width,height,isRais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fill3DRect(topLeftX,TopLeftY,width,height,isRais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is be a class method or object meth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drawing a series of filled ov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D74-A627-462B-B93D-75DDF98D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DAC-BB7A-4ACB-8B6B-F399B69F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AD0-C455-4C8B-BD28-87B1D765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369-4202-4517-A156-042D760C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A7C-FCDC-4B37-AD5D-E2DCF992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9F0-4AC3-43BC-8026-E90A664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514-79FE-4EF0-9858-F179BAFB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8BF-B732-46AF-AB85-2948AA26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87F-31EF-45D1-A354-5C2F6F20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214-C2C0-4963-90F3-F72C19E9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3D6-064B-4290-BFCA-75FCC1A8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E60-3078-4CB0-B099-D3BF292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E319-E183-4012-98FF-36DAD00CE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2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Java 2D Graphics – java.aw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drawing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bject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drawOval() or fillOval() you create a Ellipse2D object and ask a 2d graphics object to draw or fill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shapes are in the java.awt.geom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different types of bru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thickness, dashed lin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cubic curves and general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of gradients and tex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, rotate, scale and shear text and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omposite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Java 2D Demo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conso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directory to C: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demo\jfc\Java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he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–jar Java2Demo.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urce code is inC: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demo\jfc\Java2D\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5424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ow To Use Java 2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t the Graphics class to Graphics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2D g2 = (Graphics2D) gOb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troke if desired (type of 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Stroke(new BasicStroke(widthAsFloa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Color, GradientPaint, or Texture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Color.b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blueToPurpleGradi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textu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 line2D = new Line2D.Double(0.0,0.0,100.0,100.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outline of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draw(line2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fill(rectangle2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phics2D inherits from Graphi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029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s basic drawing ability from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more advanced drawing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371600"/>
            <a:ext cx="1219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2209680"/>
            <a:ext cx="16765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722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195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199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2889360"/>
            <a:ext cx="64008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method (drawWideX) for adding two wide crossed lines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line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troke to make the lines t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Stroke(new BasicStroke(width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h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redMotorcycle.jpg to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070000"/>
            <a:ext cx="40384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ing a Graphics Object to Copy an Imag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copy(Picture source, int x, int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get the graphics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copy th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drawImage(source.getImage(),x,y,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ing Graphics2D to Copy an Imag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copy2D(Picture source, int x, int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get the graphics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2 = (Graphics2D) 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copy th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2.drawImage(source.getImage(),x,y,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the Copy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FileChooser.getMediaPath("beach.jpg"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2 = new Picture(FileChooser.getMediaPath("turtle.jpg"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copy2D(p2,194,30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28764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original Graphics class for simple 2d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, rectangles, ovals, polygons, strings,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Graphics2D class for more advanced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paint brush, paint geometric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2D inherits from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it can do the sam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add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raw more simple shapes with java.awt.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mapped pictures versus vector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a java.awt.Graphics2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nvert the Graphics class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stroke (paint bru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reate the object to be pai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aint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Ar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Arc(topLeftX, topLeftY, width, height, startAngle, arcAng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Arc((topLeftX, topLeftY, width, height, startAngle, arcAng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58640" y="2743200"/>
            <a:ext cx="779760" cy="83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118200" y="3425040"/>
            <a:ext cx="86976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Rectangl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Rect(topLeftX, topLeftY, width, 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Rect(topLeftX,topLeftY,width,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Round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RoundRect(topLeftX,topLeftY,width,height,arcWidth,arc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Round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RoundRect(topLeftX,topLeftY,width,height,arcWidth,arc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3920" y="1573200"/>
            <a:ext cx="106848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3920" y="2576520"/>
            <a:ext cx="1068480" cy="447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3920" y="3622680"/>
            <a:ext cx="1068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3920" y="4656240"/>
            <a:ext cx="1068480" cy="447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n a Blank Pic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pictures from the “blank”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have all whit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create a “blank” picture with a width and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also have all whit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lankPicture = new Picture(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a Pictur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method that will draw a simpl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1981080"/>
            <a:ext cx="3124080" cy="2819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743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2743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3429000"/>
            <a:ext cx="60984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238080" y="3809520"/>
            <a:ext cx="7606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1" y="8267"/>
                </a:moveTo>
                <a:arcTo wR="10800" hR="10800" stAng="-9986266" swAng="9986266"/>
                <a:lnTo>
                  <a:pt x="10800" y="10800"/>
                </a:lnTo>
                <a:close/>
              </a:path>
              <a:path fill="none" w="21600" h="21600">
                <a:moveTo>
                  <a:pt x="301" y="8267"/>
                </a:moveTo>
                <a:arcTo wR="10800" hR="10800" stAng="-9986266" swAng="99862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6520800">
            <a:off x="6224400" y="4748040"/>
            <a:ext cx="962280" cy="914400"/>
          </a:xfrm>
          <a:prstGeom prst="pentag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itmapped Versus Vector Graphi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en doing bitmappe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ing the color of each pixel in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just wrote a method that drew a simp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smaller the program or the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tions use vector graphics which are programs that produce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Postscript, Flash, and 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smaller, easy to change, can be sc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cision Drawing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raw a stack of filled rectangles starting from the lightest one at the bottom right and the darkest one at the top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10 pixels between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asy with drawing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77040" y="248112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Filled Rectangles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drawFilledRectangl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olor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25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i = 25; i &gt; 0; i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= new Color(i * 10, i * 5, 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setColor(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fillRect(0,0,i*10,i*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28T03:30:05Z</dcterms:modified>
  <cp:revision>1935</cp:revision>
  <dc:subject/>
  <dc:title>Summer Institute for Computing Education</dc:title>
</cp:coreProperties>
</file>