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- </a:t>
            </a:r>
            <a:fld id="{5CF3C1CA-CB2C-40E6-9E6D-B55125E95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age here is part of market.jpg after doing poster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FB33-3DA8-4E1B-AB5C-68FA4146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80FB-F73C-4D7F-9657-134836F9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71F3-519C-4917-8C13-B8B1ED25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4FFD-0F8E-4FBF-BC66-52DDC9DF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D360-A7A5-44C7-A84F-50FF2862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C8C1-7A48-4FEC-8603-B5211882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2B64-6F4E-4884-9178-29BF3FAA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69EB-2090-47F0-AB90-DE2C4A35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F882-611F-4329-A5AF-2EC1DC01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C2C8-02E0-40CD-A8A6-52D046FB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A5BF-DDB3-453D-BB29-C10C0229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1940-7EDD-4E0F-8D0D-BC441934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9228-655F-493C-94FD-BA855B281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s – part 3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pia-toned Method - Co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tint the shadows d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redValue &lt; 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Value = redValue * 0.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Value = greenValue * 0.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Value = blueValue * 0.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tint the midtones a light brown by reducing the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(redValue &lt; 1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Value = blueValue * 0.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pia-toned Method - Co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tint the highlights a light ye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by reducing the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Value = blueValue * 0.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set the co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Obj.setRed((int) redVal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Obj.setGreen((int) greenVal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Obj.setBlue((int) blueVal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sepiaTi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file = FileChooser.getMediaPath(“gorge.jpg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sepiaTin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osteriz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the number of different colors in an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ll values in a range to one value (the midpoint of the r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all &lt; 64 to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all &lt;128 to 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all &lt; 192 to 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rest to 2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2911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osterize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through all the pixels in an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red value for the pi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right range and set the new r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green value for the pi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right range and set the new green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blue value for the pi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right range and set the new blu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osterize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method posterize() in the Picture.java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will reduce the number of colors by changing color values to 1 of 4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all 0 to 63 to 31 (&lt; 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all 64 to 127 to 95 (&lt; 1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all 128 to 191 to 159 (&lt; 1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all 192 to 255 to 2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with tammy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if, else if, and else for &gt; 2 possib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dditional else if’s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pia-tint a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t to gray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shadows da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middle grays br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lightest grays ye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osterize a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each color to the center of a range of 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conditionals with &gt; 2 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sepia-tint a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test for values in r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posterize a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pia-Toned Pictur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yellowish tint, used to make things look old and we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2895480"/>
            <a:ext cx="3276720" cy="2457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191120" y="2895480"/>
            <a:ext cx="327636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pia-toned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make the picture graysc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through the pixels in the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shadows (darkest grays) to be even darker (0 &lt;= red &lt; 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middle grays a brown color (60 &lt;= red &lt; 1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highlights (lightest grays) a bit yellow (190 &lt;= 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red and 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ecrease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Using Multiple If State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are doing different things based on a set of r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&lt;= x &lt;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&lt; x &lt;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&lt;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0 &lt;= x &amp;&amp; x &lt;=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r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5 &lt; x &amp;&amp; x &lt;= 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r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10 &lt;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r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Using “else if” for &gt; 2 Op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are doing different things based on a set of r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&lt;= x &lt;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&lt; x &lt;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&lt;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don’t need to check if x &gt; 5 since the first if block would have executed if it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0 &lt;= x &amp;&amp; x &lt;=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r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if (x &lt;= 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r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r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s with &gt; 2 Choic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0 &lt;= x &amp;&amp; x &lt;= 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if (x &lt;= 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// what is x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412776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pia-toned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void sepiaTin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 pixelObj = nu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redValue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greenValue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blueValue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first change the current picture to gray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grayscal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pia-toned Method - Co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loop through the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x = 0; x &lt; this.getWidth(); x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y = 0; y &lt; this.getHeight(); y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get the current pixel and color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Obj = this.getPixel(x,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Value = pixelObj.getRe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Value = pixelObj.getGree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Value = pixelObj.getBlu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08-22T17:59:53Z</dcterms:modified>
  <cp:revision>1856</cp:revision>
  <dc:subject/>
  <dc:title>Summer Institute for Computing Education</dc:title>
</cp:coreProperties>
</file>