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7E26CDF3-EFB9-4433-9D5F-333D45A5E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wo picture explorers to compare the red valu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s also often referred to as an inde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a flowchart which shows the order the statements are executed in a program.  A while loop allows you to repeat a series of statements until an expression is fal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above code in the interactions pane and see what happens.  You can use the up arrow to pull up the last statement executed in the interactions pane and then use the left arrow to get to the number to chan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ype in the X and Y value that you want to check the color of and press enter and it will display the red, green, and blue values at that position.  The crosshair will also display at that pos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crease the red value by half multiply it by 0.5 or divide it by 2.  To increase the red value by 25% multiply it by 1.2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79F89-4145-4BF7-AE9F-89FEBE187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8ACF-1181-4136-8F79-A08F4DB0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AB42-CE5A-4CF0-B647-7275C2ADA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69D07-C943-4A97-AC85-61ACB01B4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24485-8C16-4E85-BDCC-4A721D32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E164A-E573-4A61-B796-E6E964D7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3C11-2EAE-4BE6-B2EF-6775387E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CE47A-E452-4DAA-BCC7-0DF36ED7A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8EA6-2198-44F6-8C24-94D63509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4BFC-03B7-451C-9296-B902AFCB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3D5B-CB68-45A9-AEE2-D69407AC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75C2-C5E3-45B0-97A5-8300889A5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EF4E-C881-40EE-A60A-F90730DFE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2</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e Need a Loop (Iteration)</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execute a series of statements in the body of the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omething changing each time the statements are execu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ixel to chang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me way to tell when we are done with the repeti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st to see if the loop should stop</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with all of the items in an ar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each Loop</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f we want to do something to each item in an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 for-each loop (new in 1.5)</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ype : variableName arrayNam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ody of the loop</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eans for each element in the array do the statements in the body of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to Decrease Red</a:t>
            </a:r>
            <a:endParaRPr b="0" lang="en-US" sz="36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through all the pixels in an array of Pixel objects and change the red in each</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void decrease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value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oop through all the pixels in the 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Pixel pixelObj : pixel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t the red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pixelObj.get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ecrease the red value by 50% (1/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value /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t the red value of the current pixel to the new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4635360" y="3160800"/>
            <a:ext cx="29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dy of the loop is in {}</a:t>
            </a:r>
            <a:endParaRPr b="0" lang="en-US" sz="1800" spc="-1" strike="noStrike">
              <a:solidFill>
                <a:srgbClr val="000000"/>
              </a:solidFill>
              <a:latin typeface="Arial"/>
            </a:endParaRPr>
          </a:p>
        </p:txBody>
      </p:sp>
      <p:sp>
        <p:nvSpPr>
          <p:cNvPr id="79" name=""/>
          <p:cNvSpPr/>
          <p:nvPr/>
        </p:nvSpPr>
        <p:spPr>
          <a:xfrm flipH="1">
            <a:off x="914400" y="3352680"/>
            <a:ext cx="3657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838080" y="3352680"/>
            <a:ext cx="37339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decreaseRed</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ecreaseRed to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last } </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Compile All Button</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String fileName = FileChooser.pickAFil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ure pictObj = new Picture(fileNam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increaseRed();</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e have the method declaration</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creaseRed()</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ublic method that doesn't return anything and the name is decreaseRed.  This method does not take any parameters since there is nothing in th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xt we start the body of the method</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of the body of the method are the statements to be executed when the method is called (execut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n array of pixels and get them from the current Picture object</a:t>
            </a:r>
            <a:endParaRPr b="0" lang="en-US" sz="2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 primitive variable to hold the current red value at the pixel</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value = 0;</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 - Cont</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art the for-each loop</a:t>
            </a:r>
            <a:endParaRPr b="0" lang="en-US" sz="28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Pixel pixelObj : pixelArray)</a:t>
            </a:r>
            <a:endParaRPr b="0" lang="en-US" sz="12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ime through the loop set the variable pixelObj to refer to the next Pixel object in the array of Pixel objects called pixelArray.  Execute the statements in the body of the loop.</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value from the pixelObj</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pixelObj.getRed();</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the red by 1/2</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value / 2;</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value at the pixelObj to the new value</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the for-each loop body and the body of the method</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increaseRed() to loop through all the pixels in a picture and double the red valu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2</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ry this method do the foll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Name = FileChooser.pickAFi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ictObj = new Picture(fileNa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increase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 Exercise</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a person to clap 12 ti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s/he know when to st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ges each time s/he cla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following a recipe that asks you to stir the ingredients 50 times how would you do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ere trying to break a sit-up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know if you did break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s often need Counters</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do something x times you often need a cou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tarts at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add 1 to it each time you finish doing the thing you are repe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unter reaches the number you are trying to do you stop the loo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ounter the last time the statements of the loop are executed?</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s</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 one way to repeat a block of statements while an expression is true is to use a whil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unter and set it to the star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unter is less then the stop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less than execute the statements in th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one to the counter and go back to check that the counter is less than the stop value</a:t>
            </a:r>
            <a:endParaRPr b="0" lang="en-US" sz="2400" spc="-1" strike="noStrike">
              <a:solidFill>
                <a:srgbClr val="000000"/>
              </a:solidFill>
              <a:latin typeface="Arial"/>
            </a:endParaRPr>
          </a:p>
        </p:txBody>
      </p:sp>
      <p:pic>
        <p:nvPicPr>
          <p:cNvPr id="95" name="" descr=""/>
          <p:cNvPicPr/>
          <p:nvPr/>
        </p:nvPicPr>
        <p:blipFill>
          <a:blip r:embed="rId1"/>
          <a:stretch/>
        </p:blipFill>
        <p:spPr>
          <a:xfrm>
            <a:off x="5181480" y="1447920"/>
            <a:ext cx="267660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2-dimensional array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 pixel at a given x and y 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the picture explor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 need some way to repeat a series of stat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for-each loop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while loop 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otal the Numbers from 1 to 100</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add all the numbers from 1 to 10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o hold the tota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should it start out with?</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hat counts from 1 to 10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dd that value to the tot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when you get to 1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  What value should it start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ialize the tota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 the numb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r>
              <a:rPr b="0" lang="en-US" sz="2800" spc="-1" strike="noStrike">
                <a:solidFill>
                  <a:srgbClr val="333399"/>
                </a:solidFill>
                <a:latin typeface="Arial"/>
              </a:rPr>
              <a:t>// do while num &lt;= 1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r>
              <a:rPr b="0" lang="en-US" sz="2800" spc="-1" strike="noStrike">
                <a:solidFill>
                  <a:srgbClr val="333399"/>
                </a:solidFill>
                <a:latin typeface="Arial"/>
              </a:rPr>
              <a:t>// add num to total</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r>
              <a:rPr b="0" lang="en-US" sz="2800" spc="-1" strike="noStrike">
                <a:solidFill>
                  <a:srgbClr val="333399"/>
                </a:solidFill>
                <a:latin typeface="Arial"/>
              </a:rPr>
              <a:t>// increment the nu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r>
              <a:rPr b="0" lang="en-US" sz="2800" spc="-1" strike="noStrike">
                <a:solidFill>
                  <a:srgbClr val="333399"/>
                </a:solidFill>
                <a:latin typeface="Arial"/>
              </a:rPr>
              <a:t>// print the tota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8080" y="3352680"/>
            <a:ext cx="4191120" cy="20574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38080" y="2819520"/>
            <a:ext cx="35816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82880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rts of a While Loop</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
          <p:cNvSpPr/>
          <p:nvPr/>
        </p:nvSpPr>
        <p:spPr>
          <a:xfrm>
            <a:off x="3578760" y="1941480"/>
            <a:ext cx="4246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 and initialization of variables</a:t>
            </a:r>
            <a:endParaRPr b="0" lang="en-US" sz="1800" spc="-1" strike="noStrike">
              <a:solidFill>
                <a:srgbClr val="000000"/>
              </a:solidFill>
              <a:latin typeface="Arial"/>
            </a:endParaRPr>
          </a:p>
        </p:txBody>
      </p:sp>
      <p:sp>
        <p:nvSpPr>
          <p:cNvPr id="108" name=""/>
          <p:cNvSpPr/>
          <p:nvPr/>
        </p:nvSpPr>
        <p:spPr>
          <a:xfrm flipH="1">
            <a:off x="3200040" y="21337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42920" y="2703600"/>
            <a:ext cx="41126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done each time and w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rue the loop body will be executed</a:t>
            </a:r>
            <a:endParaRPr b="0" lang="en-US" sz="1800" spc="-1" strike="noStrike">
              <a:solidFill>
                <a:srgbClr val="000000"/>
              </a:solidFill>
              <a:latin typeface="Arial"/>
            </a:endParaRPr>
          </a:p>
        </p:txBody>
      </p:sp>
      <p:sp>
        <p:nvSpPr>
          <p:cNvPr id="110" name=""/>
          <p:cNvSpPr/>
          <p:nvPr/>
        </p:nvSpPr>
        <p:spPr>
          <a:xfrm flipH="1">
            <a:off x="4419360" y="2895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326200" y="3693960"/>
            <a:ext cx="3609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body of the loop.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with a ‘{‘ and ends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If there is just one 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oop body the ‘{‘ and ‘}’ a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12" name=""/>
          <p:cNvSpPr/>
          <p:nvPr/>
        </p:nvSpPr>
        <p:spPr>
          <a:xfrm flipH="1">
            <a:off x="5028840" y="38862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walk through this flowchart</a:t>
            </a:r>
            <a:endParaRPr b="0" lang="en-US" sz="3200" spc="-1" strike="noStrike">
              <a:solidFill>
                <a:srgbClr val="000000"/>
              </a:solidFill>
              <a:latin typeface="Arial"/>
            </a:endParaRPr>
          </a:p>
        </p:txBody>
      </p:sp>
      <p:sp>
        <p:nvSpPr>
          <p:cNvPr id="115" name=""/>
          <p:cNvSpPr/>
          <p:nvPr/>
        </p:nvSpPr>
        <p:spPr>
          <a:xfrm>
            <a:off x="2895480" y="1828800"/>
            <a:ext cx="2971800" cy="785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diceValue = rollDice();</a:t>
            </a:r>
            <a:endParaRPr b="0" lang="en-US" sz="1800" spc="-1" strike="noStrike">
              <a:solidFill>
                <a:srgbClr val="000000"/>
              </a:solidFill>
              <a:latin typeface="Arial"/>
            </a:endParaRPr>
          </a:p>
        </p:txBody>
      </p:sp>
      <p:sp>
        <p:nvSpPr>
          <p:cNvPr id="116" name=""/>
          <p:cNvSpPr/>
          <p:nvPr/>
        </p:nvSpPr>
        <p:spPr>
          <a:xfrm>
            <a:off x="2666880" y="2819520"/>
            <a:ext cx="3276720" cy="144756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diceValue &lt; count)</a:t>
            </a:r>
            <a:endParaRPr b="0" lang="en-US" sz="1800" spc="-1" strike="noStrike">
              <a:solidFill>
                <a:srgbClr val="000000"/>
              </a:solidFill>
              <a:latin typeface="Arial"/>
            </a:endParaRPr>
          </a:p>
        </p:txBody>
      </p:sp>
      <p:sp>
        <p:nvSpPr>
          <p:cNvPr id="117" name=""/>
          <p:cNvSpPr/>
          <p:nvPr/>
        </p:nvSpPr>
        <p:spPr>
          <a:xfrm>
            <a:off x="2209680" y="4343400"/>
            <a:ext cx="4648320" cy="7855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My name is " + n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tem.out.println("The count is " + count);</a:t>
            </a:r>
            <a:endParaRPr b="0" lang="en-US" sz="1800" spc="-1" strike="noStrike">
              <a:solidFill>
                <a:srgbClr val="000000"/>
              </a:solidFill>
              <a:latin typeface="Arial"/>
            </a:endParaRPr>
          </a:p>
        </p:txBody>
      </p:sp>
      <p:sp>
        <p:nvSpPr>
          <p:cNvPr id="118" name=""/>
          <p:cNvSpPr/>
          <p:nvPr/>
        </p:nvSpPr>
        <p:spPr>
          <a:xfrm>
            <a:off x="6083640" y="22464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 a die to get this value</a:t>
            </a:r>
            <a:endParaRPr b="0" lang="en-US" sz="1800" spc="-1" strike="noStrike">
              <a:solidFill>
                <a:srgbClr val="000000"/>
              </a:solidFill>
              <a:latin typeface="Arial"/>
            </a:endParaRPr>
          </a:p>
        </p:txBody>
      </p:sp>
      <p:sp>
        <p:nvSpPr>
          <p:cNvPr id="119" name=""/>
          <p:cNvSpPr/>
          <p:nvPr/>
        </p:nvSpPr>
        <p:spPr>
          <a:xfrm flipH="1">
            <a:off x="5638320" y="2438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8120" y="5334120"/>
            <a:ext cx="2743200" cy="36828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 count + 1</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1600200" y="5867280"/>
            <a:ext cx="6553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After the loop the count is " + count);</a:t>
            </a:r>
            <a:endParaRPr b="0" lang="en-US" sz="1800" spc="-1" strike="noStrike">
              <a:solidFill>
                <a:srgbClr val="000000"/>
              </a:solidFill>
              <a:latin typeface="Arial"/>
            </a:endParaRPr>
          </a:p>
        </p:txBody>
      </p:sp>
      <p:sp>
        <p:nvSpPr>
          <p:cNvPr id="122" name=""/>
          <p:cNvSpPr/>
          <p:nvPr/>
        </p:nvSpPr>
        <p:spPr>
          <a:xfrm flipV="1">
            <a:off x="4343400" y="259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67080" y="4267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
          <p:cNvSpPr/>
          <p:nvPr/>
        </p:nvSpPr>
        <p:spPr>
          <a:xfrm>
            <a:off x="42670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760" y="3846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126" name=""/>
          <p:cNvSpPr/>
          <p:nvPr/>
        </p:nvSpPr>
        <p:spPr>
          <a:xfrm flipH="1">
            <a:off x="4495320" y="4114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6708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flipH="1">
            <a:off x="1676520" y="57913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676520" y="28191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76520" y="274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43600" y="35053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96080" y="35053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63440" y="3084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134" name=""/>
          <p:cNvSpPr/>
          <p:nvPr/>
        </p:nvSpPr>
        <p:spPr>
          <a:xfrm flipH="1">
            <a:off x="6019920" y="3276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3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d array has columns and r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each loop to execute a series of statements on each item in an ar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while loop to repeat a series of Java statements while some test is tru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you will use a counter to get track of how many times the loop has execu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the counter before the loop and increment it at the end of the lo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2-D Array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columns and rows (x and 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cture.getPixel(x,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umns and row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index 0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with num -1</a:t>
            </a:r>
            <a:endParaRPr b="0" lang="en-US" sz="2400" spc="-1" strike="noStrike">
              <a:solidFill>
                <a:srgbClr val="000000"/>
              </a:solidFill>
              <a:latin typeface="Arial"/>
            </a:endParaRPr>
          </a:p>
        </p:txBody>
      </p:sp>
      <p:pic>
        <p:nvPicPr>
          <p:cNvPr id="55" name="" descr=""/>
          <p:cNvPicPr/>
          <p:nvPr/>
        </p:nvPicPr>
        <p:blipFill>
          <a:blip r:embed="rId1"/>
          <a:stretch/>
        </p:blipFill>
        <p:spPr>
          <a:xfrm>
            <a:off x="4572000" y="1905120"/>
            <a:ext cx="4038480" cy="2689200"/>
          </a:xfrm>
          <a:prstGeom prst="rect">
            <a:avLst/>
          </a:prstGeom>
          <a:ln w="0">
            <a:noFill/>
          </a:ln>
        </p:spPr>
      </p:pic>
      <p:sp>
        <p:nvSpPr>
          <p:cNvPr id="56" name=""/>
          <p:cNvSpPr/>
          <p:nvPr/>
        </p:nvSpPr>
        <p:spPr>
          <a:xfrm>
            <a:off x="6478920" y="160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57" name=""/>
          <p:cNvSpPr/>
          <p:nvPr/>
        </p:nvSpPr>
        <p:spPr>
          <a:xfrm>
            <a:off x="42688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2-Dimensional Array Exercise</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wo students play battleshi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students keep track of the play based on the rows and columns (I-5) or even switch this to (5-I) so that it is (x,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play Bing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t everyone have practice with looking up the right position</a:t>
            </a:r>
            <a:endParaRPr b="0" lang="en-US" sz="2400" spc="-1" strike="noStrike">
              <a:solidFill>
                <a:srgbClr val="000000"/>
              </a:solidFill>
              <a:latin typeface="Arial"/>
            </a:endParaRPr>
          </a:p>
        </p:txBody>
      </p:sp>
      <p:pic>
        <p:nvPicPr>
          <p:cNvPr id="60" name="" descr=""/>
          <p:cNvPicPr/>
          <p:nvPr/>
        </p:nvPicPr>
        <p:blipFill>
          <a:blip r:embed="rId1"/>
          <a:stretch/>
        </p:blipFill>
        <p:spPr>
          <a:xfrm>
            <a:off x="4648320" y="1295280"/>
            <a:ext cx="3848040" cy="273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Picture Exercise</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import java.awt.Co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String fileName = "C:/intro-prog-java/mediasources/caterpillar.jp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 pictureObj = new Picture(file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sho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0,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1,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2,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3,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4,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5,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6,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7,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8,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9,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rep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we Know if it Work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y important part of programming is testing the res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because code compiles and runs without error doesn’t mean it is cor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ould be an error in the log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fail under certain cond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even return the correct answer but for the wrong rea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Explorer</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that creates a copy of the current picture and lets you explore i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olor, x, and y values at the curs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tool on a picture obje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Obj</a:t>
            </a:r>
            <a:r>
              <a:rPr b="0" lang="en-US" sz="2400" spc="-1" strike="noStrike">
                <a:solidFill>
                  <a:srgbClr val="000000"/>
                </a:solidFill>
                <a:latin typeface="Arial"/>
              </a:rPr>
              <a:t>.explo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t to see if the colors have changed</a:t>
            </a:r>
            <a:endParaRPr b="0" lang="en-US" sz="2800" spc="-1" strike="noStrike">
              <a:solidFill>
                <a:srgbClr val="000000"/>
              </a:solidFill>
              <a:latin typeface="Arial"/>
            </a:endParaRPr>
          </a:p>
        </p:txBody>
      </p:sp>
      <p:pic>
        <p:nvPicPr>
          <p:cNvPr id="67" name="" descr=""/>
          <p:cNvPicPr/>
          <p:nvPr/>
        </p:nvPicPr>
        <p:blipFill>
          <a:blip r:embed="rId1"/>
          <a:stretch/>
        </p:blipFill>
        <p:spPr>
          <a:xfrm>
            <a:off x="5048280" y="2319480"/>
            <a:ext cx="3238560" cy="27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the Red in a Picture</a:t>
            </a:r>
            <a:endParaRPr b="0" lang="en-US" sz="3600" spc="-1" strike="noStrike">
              <a:solidFill>
                <a:srgbClr val="333399"/>
              </a:solidFill>
              <a:latin typeface="Arial"/>
            </a:endParaRPr>
          </a:p>
        </p:txBody>
      </p:sp>
      <p:sp>
        <p:nvSpPr>
          <p:cNvPr id="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ange a picture is to reduce the amount of red in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decrease it by hal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2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duce any value by half?</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increase it by 2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1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increase any value by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ll the Pixels in a Picture</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329 * 150 = 49,350 pixels in the caterpilla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write the code to change each one of the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value of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value of the current pixel to half the original value (value /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new red value in the current pix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18Z</dcterms:modified>
  <cp:revision>2197</cp:revision>
  <dc:subject/>
  <dc:title>Summer Institute for Computing Education</dc:title>
</cp:coreProperties>
</file>