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Media Computation Java, and 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 - </a:t>
            </a:r>
            <a:fld id="{2B28D43A-279B-49C2-94CE-4F2DC291A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itive types in Java are not objects.  Java left some simple data types as primitives to speed comp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oating-point type (float or double) stores both the digits and the ex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www.petebecker.com/js200006.html for more information on floating-point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tissa is stored in positive binary.  The exponent is stored as positive binary but with the addition of the stored value to -126 for float and -1023 for a double.  So an exponent value of 0 for a float is actually an exponent of -12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www.javaworld.com/javaworld/jw-10-1996/jw-10-hood.html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mbol ‘=‘ does not test for equal in Java.  It is used as an assignment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java.sun.com/docs/books/tutorial/java/nutsandbolts/relational.html for the Java tutorial section on relational oper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 are represented as numbers with letters that we think of as coming first in alphabetizing schemes having lower numbers than the later le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rJava expressions entered into the interactions pane are evaluated and the result is displayed on the next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information on DrJava see http://www.drjava.org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e that shows the code (on the right) is called the definitions pa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e that allows you to type Java expressions and see the result is called the interactions p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interprets 3.0 as a double (floating point number) and 3 and 4 as integers.  The result of an operation is in the same type as the values being operated on so the result of 3 / 4 is 0 since and integer can’t represent 0.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java.sun.com/docs/books/tutorial/java/nutsandbolts/arithmetic.html for arithmetic operators in the Java tuto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open DrJava double click on the DrJava icon.   You will see a small window which will show while it loads.  It can take a few minutes to l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point means that the number is stored in two parts.  The digits are stored (without the period) and the location of the period is stored as a power of 10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8A8-4A4B-45DB-923B-4742179F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4F4-E1A0-421F-BAF5-F32E38DA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D00-B900-4C3A-9291-4E1EADDB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76F-516A-43A4-82DA-7B476BED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619-EAD9-458E-80FC-FEA12E2C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C543-5AD2-4AA7-8018-105ED0B3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8164-5B81-4EEE-B15E-15F435F9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215-5F7F-4644-915D-9DFB2EFD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77B-85B5-4044-8278-E2F15AC1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039-E17A-494B-99AA-A8CB0E40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29AE-1111-4C46-BA8D-E042FBCA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066-0233-4F4C-9961-CBCE773E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2935-9FCC-4F86-80B7-89CBE98DA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roduction to Java, and DrJava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rt 1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Java Primitive Typ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s (numbers without fractional parts) are re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:  int or short or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5, -2, 33992093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ing point numbers (numbers with fractional parts) are re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: double or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233038983 -423.9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character is re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: 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‘b’ ‘A’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and false values are re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:  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y so Many Different Types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take up different amounts of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different pr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use int, double, and boo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 uses 8 bits (1 byte) 2’s compl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uses 16 bits (2 bytes) 2’s compl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uses 32 bits (4 bytes) 2’s compl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uses 64 bits (8 bytes) 2’s compl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 uses 32 bits (4 bytes) IEEE 7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uses 64 bits (8 bytes) IEEE 7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 uses 16 bits (2 bytes) Unicod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izes of Primitive Typ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447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71600" y="1371600"/>
            <a:ext cx="838080" cy="457200"/>
            <a:chOff x="1371600" y="1371600"/>
            <a:chExt cx="838080" cy="457200"/>
          </a:xfrm>
        </p:grpSpPr>
        <p:sp>
          <p:nvSpPr>
            <p:cNvPr id="78" name=""/>
            <p:cNvSpPr/>
            <p:nvPr/>
          </p:nvSpPr>
          <p:spPr>
            <a:xfrm>
              <a:off x="1371600" y="1371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02920" y="1371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28600" y="2133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114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505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371600" y="2057400"/>
            <a:ext cx="838080" cy="457200"/>
            <a:chOff x="1371600" y="2057400"/>
            <a:chExt cx="838080" cy="457200"/>
          </a:xfrm>
        </p:grpSpPr>
        <p:sp>
          <p:nvSpPr>
            <p:cNvPr id="85" name=""/>
            <p:cNvSpPr/>
            <p:nvPr/>
          </p:nvSpPr>
          <p:spPr>
            <a:xfrm>
              <a:off x="1371600" y="20574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02920" y="20574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286000" y="2057400"/>
            <a:ext cx="838080" cy="457200"/>
            <a:chOff x="2286000" y="2057400"/>
            <a:chExt cx="838080" cy="457200"/>
          </a:xfrm>
        </p:grpSpPr>
        <p:sp>
          <p:nvSpPr>
            <p:cNvPr id="88" name=""/>
            <p:cNvSpPr/>
            <p:nvPr/>
          </p:nvSpPr>
          <p:spPr>
            <a:xfrm>
              <a:off x="2286000" y="20574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17320" y="20574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371600" y="2743200"/>
            <a:ext cx="838080" cy="457200"/>
            <a:chOff x="1371600" y="2743200"/>
            <a:chExt cx="838080" cy="457200"/>
          </a:xfrm>
        </p:grpSpPr>
        <p:sp>
          <p:nvSpPr>
            <p:cNvPr id="91" name=""/>
            <p:cNvSpPr/>
            <p:nvPr/>
          </p:nvSpPr>
          <p:spPr>
            <a:xfrm>
              <a:off x="1371600" y="27432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02920" y="27432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286000" y="2743200"/>
            <a:ext cx="838080" cy="457200"/>
            <a:chOff x="2286000" y="2743200"/>
            <a:chExt cx="838080" cy="457200"/>
          </a:xfrm>
        </p:grpSpPr>
        <p:sp>
          <p:nvSpPr>
            <p:cNvPr id="94" name=""/>
            <p:cNvSpPr/>
            <p:nvPr/>
          </p:nvSpPr>
          <p:spPr>
            <a:xfrm>
              <a:off x="2286000" y="27432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17320" y="27432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200400" y="2743200"/>
            <a:ext cx="838080" cy="457200"/>
            <a:chOff x="3200400" y="2743200"/>
            <a:chExt cx="838080" cy="457200"/>
          </a:xfrm>
        </p:grpSpPr>
        <p:sp>
          <p:nvSpPr>
            <p:cNvPr id="97" name=""/>
            <p:cNvSpPr/>
            <p:nvPr/>
          </p:nvSpPr>
          <p:spPr>
            <a:xfrm>
              <a:off x="3200400" y="27432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31720" y="27432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114800" y="2743200"/>
            <a:ext cx="838080" cy="457200"/>
            <a:chOff x="4114800" y="2743200"/>
            <a:chExt cx="838080" cy="457200"/>
          </a:xfrm>
        </p:grpSpPr>
        <p:sp>
          <p:nvSpPr>
            <p:cNvPr id="100" name=""/>
            <p:cNvSpPr/>
            <p:nvPr/>
          </p:nvSpPr>
          <p:spPr>
            <a:xfrm>
              <a:off x="4114800" y="27432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46120" y="27432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371600" y="4114800"/>
            <a:ext cx="838080" cy="457200"/>
            <a:chOff x="1371600" y="4114800"/>
            <a:chExt cx="838080" cy="457200"/>
          </a:xfrm>
        </p:grpSpPr>
        <p:sp>
          <p:nvSpPr>
            <p:cNvPr id="103" name=""/>
            <p:cNvSpPr/>
            <p:nvPr/>
          </p:nvSpPr>
          <p:spPr>
            <a:xfrm>
              <a:off x="1371600" y="41148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2920" y="41148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286000" y="4114800"/>
            <a:ext cx="838080" cy="457200"/>
            <a:chOff x="2286000" y="4114800"/>
            <a:chExt cx="838080" cy="457200"/>
          </a:xfrm>
        </p:grpSpPr>
        <p:sp>
          <p:nvSpPr>
            <p:cNvPr id="106" name=""/>
            <p:cNvSpPr/>
            <p:nvPr/>
          </p:nvSpPr>
          <p:spPr>
            <a:xfrm>
              <a:off x="2286000" y="41148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17320" y="41148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200400" y="4114800"/>
            <a:ext cx="838080" cy="457200"/>
            <a:chOff x="3200400" y="4114800"/>
            <a:chExt cx="838080" cy="457200"/>
          </a:xfrm>
        </p:grpSpPr>
        <p:sp>
          <p:nvSpPr>
            <p:cNvPr id="109" name=""/>
            <p:cNvSpPr/>
            <p:nvPr/>
          </p:nvSpPr>
          <p:spPr>
            <a:xfrm>
              <a:off x="3200400" y="41148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31720" y="41148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114800" y="4114800"/>
            <a:ext cx="838080" cy="457200"/>
            <a:chOff x="4114800" y="4114800"/>
            <a:chExt cx="838080" cy="457200"/>
          </a:xfrm>
        </p:grpSpPr>
        <p:sp>
          <p:nvSpPr>
            <p:cNvPr id="112" name=""/>
            <p:cNvSpPr/>
            <p:nvPr/>
          </p:nvSpPr>
          <p:spPr>
            <a:xfrm>
              <a:off x="4114800" y="41148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46120" y="41148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371600" y="3429000"/>
            <a:ext cx="838080" cy="457200"/>
            <a:chOff x="1371600" y="3429000"/>
            <a:chExt cx="838080" cy="457200"/>
          </a:xfrm>
        </p:grpSpPr>
        <p:sp>
          <p:nvSpPr>
            <p:cNvPr id="115" name=""/>
            <p:cNvSpPr/>
            <p:nvPr/>
          </p:nvSpPr>
          <p:spPr>
            <a:xfrm>
              <a:off x="13716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29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286000" y="3429000"/>
            <a:ext cx="838080" cy="457200"/>
            <a:chOff x="2286000" y="3429000"/>
            <a:chExt cx="838080" cy="457200"/>
          </a:xfrm>
        </p:grpSpPr>
        <p:sp>
          <p:nvSpPr>
            <p:cNvPr id="118" name=""/>
            <p:cNvSpPr/>
            <p:nvPr/>
          </p:nvSpPr>
          <p:spPr>
            <a:xfrm>
              <a:off x="22860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173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200400" y="3429000"/>
            <a:ext cx="838080" cy="457200"/>
            <a:chOff x="3200400" y="3429000"/>
            <a:chExt cx="838080" cy="457200"/>
          </a:xfrm>
        </p:grpSpPr>
        <p:sp>
          <p:nvSpPr>
            <p:cNvPr id="121" name=""/>
            <p:cNvSpPr/>
            <p:nvPr/>
          </p:nvSpPr>
          <p:spPr>
            <a:xfrm>
              <a:off x="32004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317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114800" y="3429000"/>
            <a:ext cx="838080" cy="457200"/>
            <a:chOff x="4114800" y="3429000"/>
            <a:chExt cx="838080" cy="457200"/>
          </a:xfrm>
        </p:grpSpPr>
        <p:sp>
          <p:nvSpPr>
            <p:cNvPr id="124" name=""/>
            <p:cNvSpPr/>
            <p:nvPr/>
          </p:nvSpPr>
          <p:spPr>
            <a:xfrm>
              <a:off x="41148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61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029200" y="3429000"/>
            <a:ext cx="838080" cy="457200"/>
            <a:chOff x="5029200" y="3429000"/>
            <a:chExt cx="838080" cy="457200"/>
          </a:xfrm>
        </p:grpSpPr>
        <p:sp>
          <p:nvSpPr>
            <p:cNvPr id="127" name=""/>
            <p:cNvSpPr/>
            <p:nvPr/>
          </p:nvSpPr>
          <p:spPr>
            <a:xfrm>
              <a:off x="50292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05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943600" y="3429000"/>
            <a:ext cx="838080" cy="457200"/>
            <a:chOff x="5943600" y="3429000"/>
            <a:chExt cx="838080" cy="457200"/>
          </a:xfrm>
        </p:grpSpPr>
        <p:sp>
          <p:nvSpPr>
            <p:cNvPr id="130" name=""/>
            <p:cNvSpPr/>
            <p:nvPr/>
          </p:nvSpPr>
          <p:spPr>
            <a:xfrm>
              <a:off x="59436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749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858000" y="3429000"/>
            <a:ext cx="838080" cy="457200"/>
            <a:chOff x="6858000" y="3429000"/>
            <a:chExt cx="838080" cy="457200"/>
          </a:xfrm>
        </p:grpSpPr>
        <p:sp>
          <p:nvSpPr>
            <p:cNvPr id="133" name=""/>
            <p:cNvSpPr/>
            <p:nvPr/>
          </p:nvSpPr>
          <p:spPr>
            <a:xfrm>
              <a:off x="68580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893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772400" y="3429000"/>
            <a:ext cx="838080" cy="457200"/>
            <a:chOff x="7772400" y="3429000"/>
            <a:chExt cx="838080" cy="457200"/>
          </a:xfrm>
        </p:grpSpPr>
        <p:sp>
          <p:nvSpPr>
            <p:cNvPr id="136" name=""/>
            <p:cNvSpPr/>
            <p:nvPr/>
          </p:nvSpPr>
          <p:spPr>
            <a:xfrm>
              <a:off x="77724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37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28600" y="4876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4800600"/>
            <a:ext cx="838080" cy="457200"/>
            <a:chOff x="1371600" y="4800600"/>
            <a:chExt cx="838080" cy="457200"/>
          </a:xfrm>
        </p:grpSpPr>
        <p:sp>
          <p:nvSpPr>
            <p:cNvPr id="140" name=""/>
            <p:cNvSpPr/>
            <p:nvPr/>
          </p:nvSpPr>
          <p:spPr>
            <a:xfrm>
              <a:off x="13716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029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4800600"/>
            <a:ext cx="838080" cy="457200"/>
            <a:chOff x="2286000" y="4800600"/>
            <a:chExt cx="838080" cy="457200"/>
          </a:xfrm>
        </p:grpSpPr>
        <p:sp>
          <p:nvSpPr>
            <p:cNvPr id="143" name=""/>
            <p:cNvSpPr/>
            <p:nvPr/>
          </p:nvSpPr>
          <p:spPr>
            <a:xfrm>
              <a:off x="22860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173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200400" y="4800600"/>
            <a:ext cx="838080" cy="457200"/>
            <a:chOff x="3200400" y="4800600"/>
            <a:chExt cx="838080" cy="457200"/>
          </a:xfrm>
        </p:grpSpPr>
        <p:sp>
          <p:nvSpPr>
            <p:cNvPr id="146" name=""/>
            <p:cNvSpPr/>
            <p:nvPr/>
          </p:nvSpPr>
          <p:spPr>
            <a:xfrm>
              <a:off x="32004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317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114800" y="4800600"/>
            <a:ext cx="838080" cy="457200"/>
            <a:chOff x="4114800" y="4800600"/>
            <a:chExt cx="838080" cy="457200"/>
          </a:xfrm>
        </p:grpSpPr>
        <p:sp>
          <p:nvSpPr>
            <p:cNvPr id="149" name=""/>
            <p:cNvSpPr/>
            <p:nvPr/>
          </p:nvSpPr>
          <p:spPr>
            <a:xfrm>
              <a:off x="41148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461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029200" y="4800600"/>
            <a:ext cx="838080" cy="457200"/>
            <a:chOff x="5029200" y="4800600"/>
            <a:chExt cx="838080" cy="457200"/>
          </a:xfrm>
        </p:grpSpPr>
        <p:sp>
          <p:nvSpPr>
            <p:cNvPr id="152" name=""/>
            <p:cNvSpPr/>
            <p:nvPr/>
          </p:nvSpPr>
          <p:spPr>
            <a:xfrm>
              <a:off x="50292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605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943600" y="4800600"/>
            <a:ext cx="838080" cy="457200"/>
            <a:chOff x="5943600" y="4800600"/>
            <a:chExt cx="838080" cy="457200"/>
          </a:xfrm>
        </p:grpSpPr>
        <p:sp>
          <p:nvSpPr>
            <p:cNvPr id="155" name=""/>
            <p:cNvSpPr/>
            <p:nvPr/>
          </p:nvSpPr>
          <p:spPr>
            <a:xfrm>
              <a:off x="59436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749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858000" y="4800600"/>
            <a:ext cx="838080" cy="457200"/>
            <a:chOff x="6858000" y="4800600"/>
            <a:chExt cx="838080" cy="457200"/>
          </a:xfrm>
        </p:grpSpPr>
        <p:sp>
          <p:nvSpPr>
            <p:cNvPr id="158" name=""/>
            <p:cNvSpPr/>
            <p:nvPr/>
          </p:nvSpPr>
          <p:spPr>
            <a:xfrm>
              <a:off x="68580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893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772400" y="4800600"/>
            <a:ext cx="838080" cy="457200"/>
            <a:chOff x="7772400" y="4800600"/>
            <a:chExt cx="838080" cy="457200"/>
          </a:xfrm>
        </p:grpSpPr>
        <p:sp>
          <p:nvSpPr>
            <p:cNvPr id="161" name=""/>
            <p:cNvSpPr/>
            <p:nvPr/>
          </p:nvSpPr>
          <p:spPr>
            <a:xfrm>
              <a:off x="77724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037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28600" y="5562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71600" y="5486400"/>
            <a:ext cx="838080" cy="457200"/>
            <a:chOff x="1371600" y="5486400"/>
            <a:chExt cx="838080" cy="457200"/>
          </a:xfrm>
        </p:grpSpPr>
        <p:sp>
          <p:nvSpPr>
            <p:cNvPr id="165" name=""/>
            <p:cNvSpPr/>
            <p:nvPr/>
          </p:nvSpPr>
          <p:spPr>
            <a:xfrm>
              <a:off x="1371600" y="54864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02920" y="54864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86000" y="5486400"/>
            <a:ext cx="838080" cy="457200"/>
            <a:chOff x="2286000" y="5486400"/>
            <a:chExt cx="838080" cy="457200"/>
          </a:xfrm>
        </p:grpSpPr>
        <p:sp>
          <p:nvSpPr>
            <p:cNvPr id="168" name=""/>
            <p:cNvSpPr/>
            <p:nvPr/>
          </p:nvSpPr>
          <p:spPr>
            <a:xfrm>
              <a:off x="2286000" y="54864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17320" y="54864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ype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(s) take up the most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(s) take up the least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would you us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 people in your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ce of an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swer to do you have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eople in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eople in y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eople in you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loating Point Numb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with a fractional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170.203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d as binary numbers in scientific notation -52.202 is -.5220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gn (1 b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gits in the number (mantis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ponent (8 b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 – 6-7 significant digits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– 14-15 significant digits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son (Relational) Operato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3200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han 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&gt; 3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&gt; 3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&gt; 4 is fal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&l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&lt; 3 is true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&lt; 2 is 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=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== 3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== 4 is fa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qual !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!= 4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!= 3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733920" y="1219320"/>
            <a:ext cx="4952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han or equal &g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&gt;= 4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&gt;= 3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&gt;= 4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or equal &l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&lt;= 3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&lt;= 2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&lt;= 2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son Operator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r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the comparison operators in the interaction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&lt;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&lt;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&lt;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== 6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haracters (single alphabet le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single quote around a 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&lt; ‘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&lt; ‘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== ‘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perator Ord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ault evaluation order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on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 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o (remainder)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ion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ault order can b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using pare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 + 4) * 2 versus 3 + 4 *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th Operator Order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2 + 3 * 4 +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parentheses to make it clear what is happening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change it so that 2 + 3 happens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change it so that it multiplies the result of 2 + 3 and the result of 4 +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do 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execute billions of instructions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getting faster, smaller, and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has typical math and relational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is a strongly typed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lead to odd 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division gives a integer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casting to solv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has primitive types to represent integer and floating poin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operations have a default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specify the order with parenth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computers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rJa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do math and relational operations in Ja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casting and why might you need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Java primitive types and how do they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order of math operations in Jav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change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Can Computers Do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ally they 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, subtract, multiply, div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amazingly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ons to billions of instruction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store a huge amount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 movies, photo albums, dictionaries, encyclopedias, complex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keep getting faster, cheaper, and sm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is DrJava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Java is a free integrated development environment for doing Java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Ric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written in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several window panes i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reating programs (definitions pa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ying out Java code (interactions pa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ing of open files (files pa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V="1">
            <a:off x="3429000" y="327636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3809520"/>
            <a:ext cx="1523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191120" y="2362320"/>
            <a:ext cx="5331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th Operators in Java (+ * / - %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*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/ 4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–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o (Remai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% 2 and 11 %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th Operator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DrJava and do the following in the interaction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7 from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7 t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3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4.6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5 by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remainder when you divide 10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2101680"/>
            <a:ext cx="40384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y is the result of 3 / 2 = 1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ly type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value has a type associated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s the computer how to interpret th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n integer, floating point, letter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er determines the type if it isn’t specified (liter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is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0 is a floating point number (has a fractional p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 of an operation is in the same type as the ope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and 2 are integers so the answer is an integ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ast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ways to solve the problem of 3 / 2 has a result of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make one of the values floating point by adding 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0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/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 type will then be float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you can cast one of the values to the primitive types: float or do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ouble) 3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/ (float)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asting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ting to get the values right for splitting up a bill for 3 people of 19 doll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it first with a calc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it in DrJava without ca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it in DrJava with 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4:27:55Z</dcterms:modified>
  <cp:revision>1465</cp:revision>
  <dc:subject/>
  <dc:title>Summer Institute for Computing Education</dc:title>
</cp:coreProperties>
</file>