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32F234D8-0298-4CDA-9ABD-D8421BCF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d conditional is only true when both operands are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 conditional is true as long as either operand is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clusive or conditional is true only if one, but not both, operands are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ditional operators &amp;&amp; and || are ‘short circuit’ operators.  They stop evaluation early when the result is obvious from evaluating the first oper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java/nutsandbolts/relational.html for Sun’s tutorial on conditional oper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en.wikipedia.org/wiki/DeMorgan%27s_Law for information on DeMorgan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from foal.jpg in mediasources after doing edge detection with a limit of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B8F-1C99-4B5F-8F41-B8B43264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7B2-6B5C-4BC3-A1E6-9F1C36A0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19D-AF02-4F87-AA53-62D50201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803-42FF-4110-B255-11E46D9F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545-7CCA-4C35-AA2C-84CEF118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93C-D798-4150-8AA3-D37BDE44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98C-3E49-40A6-8809-B0873733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EEE-82DE-4348-B52A-D58E33A6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8CB-237E-4717-A82D-F1658A2F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9E4-76CD-4EB5-AF52-6089D560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66D-884F-4944-AF74-4D1B713F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3F1-6B17-424A-854A-3739137E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8DFB-92F3-474D-9042-64BEB1C33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eMorgan&apos;s_Law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– part 2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many when there is an “And”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you to get soup, milk, bread, and yogurt at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items will you come home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you to clean your room and mop the floor in the kitchen and wash the di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asks do you need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a scoop of chocolate scoop and a scoop of van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coops of ice cream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many when there is an “Or”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help clean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lean the bathroom or the kitchen or the 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jobs do you have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get an ice 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avors you can pick from are chocolate, vanilla, strawberry, or orange sher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flavors do you need to pick for a single sc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uth Tab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19320"/>
          <a:ext cx="8229600" cy="4906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nd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nd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re the following true?  When are they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o out if your room is cle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did you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o out if your room is cle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did you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o out if either your room is clean or you did your homewor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not if both of these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Opera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heck if several things are true -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&amp;&amp; (evaluation stops if the first item is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&amp; (to always evaluate both oper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heck if at least one of several things are true -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|| (evaluation stops if the first item i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| (to always evaluate both oper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heck if only one and only one of the things is true – Exclusive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^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 4 &amp;&amp;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 4 &amp;&amp;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 4 ||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= 4 ||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&amp;&amp; (And) and || (Or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a value is in a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ome value between 0 and 255 (inclu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valid pixel colo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&lt;= x &lt;= 255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ritte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&lt;= x &amp;&amp; x &lt;= 255 // in Java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&gt;= 0 &amp;&amp; x &lt;= 255 //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f at least one of several things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black or wh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if either it is bla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is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conditionals with two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o simple edg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‘and’, ‘or’, ‘exclusive or’ and ‘not’ in a con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e Morgan’s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t Conditional Operat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! To change the value to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true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false =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t conditional operator applied to a complex conditional change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(op1 &amp;&amp; op2) = !op1 || !o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(op1 || op2) = !op1 &amp;&amp; !o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known a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 Morgan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 Morgan’s Law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quivalent to the follow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x &gt; 4 &amp;&amp; x &lt;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y &gt; 2 || y &lt; 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x == 2 &amp;&amp; y ==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y != 2 &amp;&amp; x !=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x == 3 || x ==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y == 2 || y &l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f and else if you have two possibilities to deal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tatements to execute when the test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tatements to execute when the test is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ondit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and’ to test for more than one thing being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or’ to test if at least one thing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exclusive or’ to test that one and only one thing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not’ to change the result from true to false and false to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ge Detec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all the pixels in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average color for the current pixel and the pixel at the same x but y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distance between the two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bsolute value of the distance is greater than some value turn the current pixel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turn the current pixel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225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ge Detection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reas of high contr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loop from row = 0 to row = height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from x = 0 to x =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x and y (top pix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x and (y + 1) bottom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average of the top pixel colo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average of the bottom pixel colo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bsolute value of the difference between the averages is over a passed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the pixel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turn the pixel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e if and else for two possibil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you want to do one thing if the expression is tr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different thing if it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 = 2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x &lt; 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(“&lt;128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(“&gt;=128”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600200"/>
            <a:ext cx="2514600" cy="15238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4290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64832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7280" y="4419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505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4290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3505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4160" y="2627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tudents walk through a flowchart of a loop with a conditiona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666880"/>
            <a:ext cx="19051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 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unt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733920"/>
            <a:ext cx="2362320" cy="9144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&l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83840" y="4876920"/>
            <a:ext cx="1677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w the 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590920"/>
            <a:ext cx="2057400" cy="7617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e &lt;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3581280"/>
            <a:ext cx="19047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p your hands coun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581280"/>
            <a:ext cx="17524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 coun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638680"/>
            <a:ext cx="17524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, "all done! And the value of cou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5943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2860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59120" y="4800600"/>
            <a:ext cx="19468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= cou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76880" y="4456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8880" y="38098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85440" y="6172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5800" y="36572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432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1840" y="3160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191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638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6272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5181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ge Detec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edgeDetection that takes an input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urns all pixels black where the absolute value of the difference between that pixel and the below pixel is greater than the passed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urns all pixels white where the absolute value of the difference between that pixel and the below pixel is less than or equal the passed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has a getAverage() method that returns the average of the three colors at th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Edge Detec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butterfly1.jp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dgeDetection(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other method for simple edg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 compare the current pixel with the one to the right (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need to change the nested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get a different res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5:30:40Z</dcterms:modified>
  <cp:revision>1884</cp:revision>
  <dc:subject/>
  <dc:title>Summer Institute for Computing Education</dc:title>
</cp:coreProperties>
</file>