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-Dimensional Arrays and Nested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6 - </a:t>
            </a:r>
            <a:fld id="{C4B08058-3E52-4846-891B-EF784BDF6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hod getMediaPath is a class method in the Pictur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need to calculate the midpoint every time through the loop so calculate it once before the lo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212-D631-4B1F-BBB5-5434BA9E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8EA1-6EFF-4B96-9E6B-4BE52ECB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4EE-4784-4B20-BE9A-09E02339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7C5-ACE5-496F-8D46-61971B79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CFAC-4D81-4259-8E4D-097E4B7B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600-6B01-4CA0-81ED-89812B33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40A-EDE9-4177-BFF7-B45C0BE9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706-3683-4BFB-A39B-54A83CA7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80B-7E0D-48E4-B714-CD4E143D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6500-F4EC-4858-8B43-2F172985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F23-6B67-4C8C-A74D-6658F4CE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34E1-3956-4593-BF52-4FE7367B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4736-DF99-4185-86A4-BD39C1E8B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o-Dimensional Arrays and Nested Loops – part 2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Picture.getMediaPath(fileName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 the full path name for the file with the passed short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Motorcycle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s to using the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\intro-prog-java\mediasources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it to a directory u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.setMediaPath(“c:/book/media/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write out the directory name to a file and remember it till you chang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ying Mirror Vertica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1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ictur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Chooser.getMediaPath(“caterpillar.jpg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 the method on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mirrorVertical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31334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Horizontal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mirroring around a mirror held horizontally in the vertical center of the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reflection in a la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3133800" cy="1428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1338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inking Through Mirror Horizonta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648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 think of a number at each x and 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a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ry it with a small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write a nested for loop to do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10080" y="1600200"/>
          <a:ext cx="3276720" cy="1919160"/>
        </p:xfrm>
        <a:graphic>
          <a:graphicData uri="http://schemas.openxmlformats.org/drawingml/2006/table">
            <a:tbl>
              <a:tblPr/>
              <a:tblGrid>
                <a:gridCol w="1091880"/>
                <a:gridCol w="1092600"/>
                <a:gridCol w="109224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410080" y="3962520"/>
          <a:ext cx="3276720" cy="1904760"/>
        </p:xfrm>
        <a:graphic>
          <a:graphicData uri="http://schemas.openxmlformats.org/drawingml/2006/table">
            <a:tbl>
              <a:tblPr/>
              <a:tblGrid>
                <a:gridCol w="1091880"/>
                <a:gridCol w="1092600"/>
                <a:gridCol w="109224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79312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980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68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0732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73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7320" y="304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3120" y="358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9800" y="358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26840" y="358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732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732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732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is the Horizontal Mirror for this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505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solve the problem for several small samples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f you can come up with the algorithm to sol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it more smal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48320" y="1219320"/>
          <a:ext cx="4038480" cy="237636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648320" y="3657600"/>
          <a:ext cx="4038480" cy="2378160"/>
        </p:xfrm>
        <a:graphic>
          <a:graphicData uri="http://schemas.openxmlformats.org/drawingml/2006/table">
            <a:tbl>
              <a:tblPr/>
              <a:tblGrid>
                <a:gridCol w="807480"/>
                <a:gridCol w="807840"/>
                <a:gridCol w="807480"/>
                <a:gridCol w="807840"/>
                <a:gridCol w="8078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487872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4084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892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4104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0280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9292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292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29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Horizontal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648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vertical mid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height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through all the x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from y=0 to y &lt; vertical mid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top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x an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bottom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- 1 -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bottom pixel’s color to the top pixel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410080" y="1676520"/>
          <a:ext cx="3276720" cy="1919160"/>
        </p:xfrm>
        <a:graphic>
          <a:graphicData uri="http://schemas.openxmlformats.org/drawingml/2006/table">
            <a:tbl>
              <a:tblPr/>
              <a:tblGrid>
                <a:gridCol w="1091880"/>
                <a:gridCol w="1092600"/>
                <a:gridCol w="109224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410080" y="3733920"/>
          <a:ext cx="3276720" cy="1904760"/>
        </p:xfrm>
        <a:graphic>
          <a:graphicData uri="http://schemas.openxmlformats.org/drawingml/2006/table">
            <a:tbl>
              <a:tblPr/>
              <a:tblGrid>
                <a:gridCol w="1091880"/>
                <a:gridCol w="1092600"/>
                <a:gridCol w="109224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Horizontal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ethod to mirror the top half of the picture to the bottom ha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motorcycle redMotorcycle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bout mirroring bottom to 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367668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everal small versions of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olve those before you try to code a programming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determine the general algorithm from the concrete small 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 the algorithm into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mirror by changing how you loop and how you get the source and target pi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 simpler version of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n algorithm by solving several concret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iguring out what is common i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ranslate the algorithm into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irror a picture vertically and horizontal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ertical Mirror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we want to pretend to place a mirror in the middle of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ould see the left side of the picture mirrored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133440" cy="1428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4191120"/>
            <a:ext cx="31334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inking Through Vertical Mirror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505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just think of a number at each x and y location instead of a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rroring would look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find the algorithm to do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48320" y="1219320"/>
          <a:ext cx="4038480" cy="237636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648320" y="3657600"/>
          <a:ext cx="4038480" cy="2378160"/>
        </p:xfrm>
        <a:graphic>
          <a:graphicData uri="http://schemas.openxmlformats.org/drawingml/2006/table">
            <a:tbl>
              <a:tblPr/>
              <a:tblGrid>
                <a:gridCol w="807480"/>
                <a:gridCol w="807840"/>
                <a:gridCol w="807480"/>
                <a:gridCol w="807840"/>
                <a:gridCol w="8078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87872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4084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892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4104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0280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9292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292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29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is the Vertical Mirror for this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809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 solve the problem for small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an’t solve it on a small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’t write a program to sol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1480" y="1600200"/>
          <a:ext cx="3276720" cy="1919160"/>
        </p:xfrm>
        <a:graphic>
          <a:graphicData uri="http://schemas.openxmlformats.org/drawingml/2006/table">
            <a:tbl>
              <a:tblPr/>
              <a:tblGrid>
                <a:gridCol w="1091880"/>
                <a:gridCol w="1092600"/>
                <a:gridCol w="109224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556452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3120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982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872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87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78720" y="304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181480" y="4038480"/>
          <a:ext cx="3276720" cy="1919520"/>
        </p:xfrm>
        <a:graphic>
          <a:graphicData uri="http://schemas.openxmlformats.org/drawingml/2006/table">
            <a:tbl>
              <a:tblPr/>
              <a:tblGrid>
                <a:gridCol w="1091880"/>
                <a:gridCol w="1092600"/>
                <a:gridCol w="109224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55645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312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9824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0240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2400" y="480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24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Vertical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through all the rows (y starts at 0, increments by 1, and is less than the picture heigh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 with x starting at 0 and x less than the midpoint (mirror point) 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the left pixel at x and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the right pixel at width – 1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color for the right pixel to be the color of the left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48320" y="1219320"/>
          <a:ext cx="4038480" cy="237636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648320" y="3747960"/>
          <a:ext cx="4038480" cy="2378160"/>
        </p:xfrm>
        <a:graphic>
          <a:graphicData uri="http://schemas.openxmlformats.org/drawingml/2006/table">
            <a:tbl>
              <a:tblPr/>
              <a:tblGrid>
                <a:gridCol w="807480"/>
                <a:gridCol w="807840"/>
                <a:gridCol w="807480"/>
                <a:gridCol w="807840"/>
                <a:gridCol w="8078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Vertical Algorithm to Co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need the mid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midpoint = this.getWidth() /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the rows (y valu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y = 0; y &lt; this.getHeight(); y++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through x values (starting at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x = 0; x &lt; midpoint; x++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right pixel color to left pixel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leftPixel = this.getPixel(x,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rightPixel = this.getPixel(this.getWidth() - 1 - x,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Pixel.setColor(leftPixel.getColor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Vertical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mirrorVertical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mirrorPoint = this.getWidth() /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left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right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y = 0; y &lt; this.getHeight(); y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from 0 to just before the mirro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x = 0; x &lt; mirrorPoint; 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Vertical Method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Pixel = this.getPixel(x,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Pixel = this.getPixel(this.getWidth() – 1 – x,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Pixel.setColor(leftPixel.getColor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08-16T19:15:08Z</dcterms:modified>
  <cp:revision>2174</cp:revision>
  <dc:subject/>
  <dc:title>Summer Institute for Computing Education</dc:title>
</cp:coreProperties>
</file>