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88EFEDA6-D016-4D0D-AD46-A059884E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methods do not change the current string.  They return a new string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don’t capitalize Tommy and Mary even though they are names.  This is because we don’t capitalize variable names in Jav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primitive types are all lowercase.  Class names start with an upper cas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reated the classes Picture, Sound, and FileChooser.  These are not part of the Java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 JFrame is a main window in S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 BufferedImage is what really holds the pictur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javaranch.com/campfire/StoryCups.jsp for a discussion of the sizes of primitives and the differences between primitive variables and object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int type takes 4 bytes (32 bits) of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1BA-7D0B-44AB-AB9E-CA73B73C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26C-BA08-4F5C-8034-97DAA2F8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BAF-EF7A-4766-9F3F-18F3AA73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318-767F-410B-8429-D1E2EF56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53F-4B37-4FE1-9DDA-745252FF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006-0DE3-45AE-B0A7-977AB941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74D-3AFE-4F93-B7A0-FB172FE5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8EF-3F73-4EFC-9A12-D54B994D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A35-DF76-413C-8A69-8B83B10A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0DA-797F-4719-9C82-00250ABF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5F6-1311-42D1-A5F3-616BDC09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AE0-ACF2-4B69-B6D8-DAC68058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02EF-E269-4B9F-9003-8927DB78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laring Variables – Mod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tr1 at each st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str1 = “Hello World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.toLow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 = str1.toUpp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 = “Goodbye World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riables where decla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objects were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an be garbage col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string1 after the following code has exec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1 = “HELLO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(string1.toLowerCas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variable is string1 (primitive or objec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string2 and string3 after the following code has exec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2 = “Mary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3 = “Clark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2 = string2 + string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variables for each of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kids in a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of a pair of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of a 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re of a 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rly wage of a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do you want insurance on a purc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 of your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you drive on a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es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n a lottery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does turtle1 refer to after the following co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my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tommy = new Turtle(myWor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mary = new Turtle(myWor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turtle1 = tom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.forwar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 = ma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.turnLef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will go fo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will turn le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statements will cause an error in the interactions pan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1 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2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3 = new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1 = new World1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5 = new Wor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2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my 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earth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lowed Types in 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for a variable declaration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mitive type: int, double, char, or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of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Java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, JFrame, BufferedImage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e name of a class created by you or someon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, Sound, FileCho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names start with an uppercase l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clare variables by specifying a type and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assign a value to the variable when you declar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variables reserve space based on th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variables reserve space for a reference to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can be garbage collected if there is no referenc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variables: what is allowed and what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variables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the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primitive and objec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orking with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declare a variable before you can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a variable once and only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get an error if you declare it more than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us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you have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80044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2880" y="4648320"/>
            <a:ext cx="249552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25243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laring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lare a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type and 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orld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tle turtle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assign a value to the variable when you declar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ullName = “Susan Dorda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orld1 = new Worl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tle turtle1 = new Turtle(world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bject and Primitive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variables allocate space based on thei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s of the space is set to the variable’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ype variables cause space allocation for a reference to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s of the space is a way to calculate the  address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ull if it isn’t referring to an object y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480" y="12193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34290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 =“Hi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1828800"/>
            <a:ext cx="2666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92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4038480"/>
            <a:ext cx="2666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403848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724280"/>
            <a:ext cx="3886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5000" y="4419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15720" y="40784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mory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memory used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 =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z = x +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memory used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ullName = nu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rstName = “Jam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lastName = “Clark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Name = firstName + last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s are Tempor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values 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;  // read ‘=‘ as takes on the valu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Java is ex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pane is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orce this by clicking the “Reset”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by right click and choose “Reset Intera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automatically when you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bjects can be Garbage Collect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objects that have been created have no more references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e memory they are using can be freed and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name1 = “Bill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name1 = new String(“Mary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ing object created by “Bill”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z at each st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z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x *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z +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z –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variables where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pace do they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3T17:07:07Z</dcterms:modified>
  <cp:revision>1478</cp:revision>
  <dc:subject/>
  <dc:title>Summer Institute for Computing Education</dc:title>
</cp:coreProperties>
</file>