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ulating Pictures, Arrays, and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 - </a:t>
            </a:r>
            <a:fld id="{85EC2B4B-8DF4-4B83-BEEB-02591D2DB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erage x numbers get the sum of all the numbers and then divide by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A08-4AFD-4B5C-93D7-44E5F9B5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91B-5588-411C-AE24-65B1316B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4031-EA37-4F8A-BC26-9DBCA508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5D0-0A8B-4595-A298-476039E9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217-EFB9-40D4-A893-1FD1D24F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207-5B26-4DDF-8119-DB4D2B00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B5F-F7D3-4005-AAD5-8D1FFA11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F5A-C06D-4BB0-8BC4-97840496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3A4-E167-413F-AD12-10AD1A76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D1B-5625-4D7E-80B2-0EFDE86E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81C-54C7-4D5F-A3B5-D0B1EC06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90E-CC21-4655-8DCC-2896E09A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34E5-D900-49FF-9780-C2BFC8061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nipulating Pictures, Arrays, and Loop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rt 6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yscale Resul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48280" y="2319480"/>
            <a:ext cx="3238560" cy="2705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57160" y="2319480"/>
            <a:ext cx="32385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umina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erceive blue to be darker than red, and gr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when the same amount of light is ref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tter grayscale model should take this into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green the highest (* 0.58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less (* 0.299)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the very least (* 0.1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yscale with Luminance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 metho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yscaleWithLu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new algorithm for calculating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 = (int) (red * 0.299 + green * 0.587 + blue * 0.1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209760" cy="1752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20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Grayscale with Lumina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/intro-prog-java/mediasources/caterpillar.jpg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ictureObj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yscaleWithLumi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hange all the colors in a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reating a new col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negate a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reating a new color with (255 - red, 255 - green, 255 - b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reate a grayscal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etting the red, green, and blue to the sam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improve this by weighting the colors based on how we percei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ange all the colors in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a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negate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urn a picture into gray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just the grayscale based on how we perceive co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gating an Im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turn a picture into a nega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hould become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5,255,255 becomes 0,0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should become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,0 becomes 255,255,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20976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20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gat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current value from 255 for red, green, and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array of pixels from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variables to hold the current pixel and the red, green, and blu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starting an index at 0 and incrementing by 1 and loop while the index is less than the length of the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pixel at the current index from the array of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red value to 255 – current r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blue value to 255 – current blu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green value to 255 – current gree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the index and go back to 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gat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ethod to negate th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neg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[] pixelArray = this.getPixel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redValue, blueValue, greenValue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loop through all the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i = 0; i &lt; pixelArray.length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 = pixelArra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et th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Value = pixelObj.getR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Valu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.getGre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Value = pixelObj.getB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et the pixel's color pixelObj.setColo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olor(255 - redVal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 - greenVal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 - blueValue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nging to Graysca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scale ranges from black to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d, green, and blue value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change any color to gr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umber can we use for all three val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sity of th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average the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d + green + blue) /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+ 25 + 230) / 3 =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44784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86400" y="5334120"/>
            <a:ext cx="41904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yscal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color values to the average of the origin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array of pixels from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variables to hold the current pixel and the red, green, and blu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starting an index at 0 and incrementing by 1 and loop while the index is less than the length of the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pixel at the current index from the array of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lculate the average of the curren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redValue + greenValue + blueValue )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red value to the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blue value to the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green value to the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the index and go to 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yscal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ethod to change the picture to gray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grayscal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[] pixelArray = this.getPixel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intensity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loop through all the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i = 0; i &lt; pixelArray.length;         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 = pixelArra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ompute the average 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sity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ixelObj.getRed()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.getGreen(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.getBlue()) /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et the pixel 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.setColor(new Color(intensity,intensity,intensity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Graysca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/intro-prog-java/mediasources/caterpillar.jpg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ictureObj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grayscal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4:57:11Z</dcterms:modified>
  <cp:revision>2132</cp:revision>
  <dc:subject/>
  <dc:title>Summer Institute for Computing Education</dc:title>
</cp:coreProperties>
</file>