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- </a:t>
            </a:r>
            <a:fld id="{5C5F1EBD-0204-4286-B57F-53C1EDDEB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entertainment.howstuffworks.com/blue-screen.htm for mor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picture is blue-mark.jpg.  The blue background is blue-empty.jpg.  The moon picture is moon-surface.jp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type all of the first bullet on one line in DrJava (it just didn’t fit on the slide 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picture was kid-in-frame.jpg in mediasources.  The old background was in bgframe.jpg.  The new background was in moon-surface.jp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714-747A-4BDA-9887-325A797B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715C-76FA-4C53-9587-93AEE113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3AA-ED7C-48E7-BB1B-9C014223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A72E-F263-4E67-9255-38A20F28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E5F6-C964-44E0-B73A-C2EA8BF4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8DE-3197-47DC-A7FD-DD141FC7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36B8-3E93-4D38-B1FA-E785B119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B66F-966E-4CC4-8D53-0FA67C6D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1D23-DBDE-4962-B3BE-9FAD6428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622-B767-4383-B3D5-5747054B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A7A4-E3D0-485C-854A-7065C828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74F-BCC4-4FFF-9EC1-36624943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3CB9-75F3-45BC-A051-E243053A1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s – part 4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roma Key – Blue Scree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V and movie special effects they use a blue or green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just a blue sheet wa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ly you need an evenly lit, bright, pure blue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othing blue in the sc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21574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roma Key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method chromakey that takes a new background picture as an input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loop through all the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pixel color is blue (red + green &lt; b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the pixel color with the color from the new background pixel (at the same lo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48320" y="21574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chromake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markP = new Picture(FileChooser.getMediaPath(“blue-mark.jpg”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newBack = new Picture(FileChooser.getMediaPath(“moon-surface.jpg”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P.chromakey(newBack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P.show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wap the background of a pi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picture with a person in the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 picture without the person in the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pixel color to the new background co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distance from the current pixel is within a distance to the old background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romak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picture of a person in front of a blue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pixel color to the new background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blue value is greater than the red + green (for blue scr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hange the background on a pi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o chroma k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ackground Replaceme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a picture of a person in front of some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 picture of the background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replace the pixel colors for the background to be from another im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83200" y="121932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81760" y="3747960"/>
            <a:ext cx="31701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place Backgroun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colors at all the pixels in the source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are within some range of the background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ixels from another background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83200" y="121932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081760" y="3747960"/>
            <a:ext cx="31701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place Background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on the source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 in the original background and the new background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through all the pixels in the sourc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if the distance from the source pixel color is within 15.0 of the background picture pixel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o replace it with the color at the new background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place Background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wapBackground(Picture oldBackgroun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newBackgr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curr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old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new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x=0; x&lt;this.getWidth(); 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y=0; y&lt;this.getHeight(); y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wap Background - Co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get the current pixel and old background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Pixel = this.getPixel(x,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Pixel = oldBackground.getPixel(x,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 if the distance between the current pixel c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and the old background pixel color is less than the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then swap in the new background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currPixel.colorDistance(oldPixel.getColor()) &lt; 15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Pixel = newBackground.getPixel(x,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Pixel.setColor(newPixel.getColor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swapBackgroun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p1 = new Picture(FileChooser.getMediaPath(“kid-in-frame.jpg”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oldBack = new Picture(FileChooser.getMediaPath(“bgframe.jpg”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newBack = new Picture(FileChooser.getMediaPath(“moon-surface.jpg”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.swapBackground(oldBack,newBack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.show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place Background Resul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ckground color was too close to the shirt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2-25T22:15:08Z</dcterms:modified>
  <cp:revision>1857</cp:revision>
  <dc:subject/>
  <dc:title>Summer Institute for Computing Education</dc:title>
</cp:coreProperties>
</file>