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0B6B252D-BFC4-4906-A9BF-4EFF4A68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have to enclose the pixelObj.setColor statement in a block since it is just one statement but it makes the good easier to read and mai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science.howstuffworks.com/question51.htm for more information on red-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entation to make your code easier for other people to read.  It doesn’t matter to the compi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a block of statements in Java is inside {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732-EC1F-4721-B94C-D2A43C14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82A-DAC8-47DE-9414-98DAB65A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E14-7B89-4A2D-8D2A-FE271AE2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02F-2FB3-4E4D-A260-E38A0936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628-B61C-40ED-BF35-055707B6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5B7-2B73-4F0F-B3C0-F7B99E5E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C33-9521-4749-A3B6-2890DF9E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5D0-688D-4A61-8AF3-378CCE62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CFC-96D4-4A9C-AFC4-30156EB3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856-F19B-4B64-82EC-3F50FE4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B31-1CC7-4FDD-8E42-D617488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4ED-7E52-490F-A6B7-5831FF6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BBF7-657B-4913-ADF4-8ECFBDFA1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- part 1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removeRedEye(int startX, int startY, int end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endY, Color new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pixels in the rectangle defined by the // startX, startY, and endX and e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startX; x &lt; endX; x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startY; y &lt; endY; y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if the color is near red then chang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xelObj.colorDistance(Color.red) &lt; 1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Color(new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removeRedEy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icture explorer to find the values for start x, start y, end x, and e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following to test removeRed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“jenny-red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removeRedEye(startX,startY,endX,endY, Color.awt.BLAC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picture of a fri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y to change their eye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change their hai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change their clothing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write one method to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l it several times with different param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f statement to conditionally execute another statement or a block of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boolean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boolean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statements to execute if the test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ditionally execute a statement or a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move red-eye from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eye is when the flash from the camera is reflected from the subject’s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change the red color in the eyes to anothe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change the red of her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37168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051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d Ey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find the area around the eyes to limit where we change the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ictureObj.explo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still just want to change the pixels that are “close to” r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ind the distance between the current color and our definition of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ange the color of the current pixel only if the current color is within some distance to the desire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tailed Red Ey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with x staring at some passed start value and while it is less than some passed e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y starting at some passed start value and while it is less than some passed en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at this x and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distance between the pixel color and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istance is less than some value (167) change the color to some passed new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c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 want a statement or block of statements executed only if some expression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the “if” statement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colorDistance &lt; valu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1676520"/>
            <a:ext cx="2514600" cy="15238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5053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7242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820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620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if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DrJava and try this in the interactions 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 &gt; 1) System.out.println(“X is &gt; 1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“X is “ + 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 &gt; 1) System.out.println(“X is &gt; 1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“X is “ + 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ocks of Stat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f statement will conditionally 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tatement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ck of stat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st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ditionally execute a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e them in ‘{‘ and ‘}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ollowing statement or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easier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good practice to always enclose conditional statements in a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likely to cause an error if the code is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lor Dist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points is comput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root of (( x1 – x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1 – y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colors can be comp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root of ((red1 – red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green1-green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blue1 – blue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method in the Pixel class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dist = pixelObj.colorDistance(color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5:19:02Z</dcterms:modified>
  <cp:revision>1867</cp:revision>
  <dc:subject/>
  <dc:title>Summer Institute for Computing Education</dc:title>
</cp:coreProperties>
</file>