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A8A8-1613-45B6-9E0F-4775D33CE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396C-3B23-4145-A6AA-A31EA18FA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8D91-7553-4DDD-9FB7-8A7487BDC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CDCE-1795-4017-99DF-B520D1D62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4F20-FB1D-437B-B0D9-3C88B7861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1B7A-7309-4A7B-8B1F-0CA6DB2DE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3DD0-F43B-4766-991C-60DE66C98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FD7B-3F98-4DE0-B785-4A3F3A0A7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D072-9975-43FF-A5B8-A7A265973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6B9B-F56A-4C47-9F5E-2648F5EA8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7871-82F6-4078-A47D-30A6AF60C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07A6-A11F-4721-ACA6-9205D43E8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69873-EE8D-4D0B-B848-17CDC50143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990720"/>
            <a:ext cx="800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wo-Dimensional Arrays and Nested Loops – part 5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b Eric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gust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esting Left Rotation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ng file = FileChooser.getMediaPath(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   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inX95in.jpg”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ture p = new Picture(fil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show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copyKatieLeftRotation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repaint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Right Rotation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4197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you copy one picture onto another so that the first picture is rotated to the right 90 degre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334120" y="1143000"/>
            <a:ext cx="1401480" cy="24382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334120" y="4038480"/>
            <a:ext cx="2514600" cy="14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Right Rotation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that each pixel holds on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the result of a right rotation on this 2-d arr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you create an algorithm for th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638680" y="1523880"/>
          <a:ext cx="2667240" cy="1538280"/>
        </p:xfrm>
        <a:graphic>
          <a:graphicData uri="http://schemas.openxmlformats.org/drawingml/2006/table">
            <a:tbl>
              <a:tblPr/>
              <a:tblGrid>
                <a:gridCol w="888840"/>
                <a:gridCol w="889200"/>
                <a:gridCol w="889200"/>
              </a:tblGrid>
              <a:tr h="76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6248520" y="3809880"/>
          <a:ext cx="2057400" cy="216396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5867280" y="1143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1143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20120" y="1143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181480" y="1752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81480" y="2438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553080" y="3352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791320" y="3962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20120" y="3352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4648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54100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Right Rotation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out your algorithm on another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it 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you translate it into co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952880" y="1676520"/>
          <a:ext cx="3556080" cy="1538280"/>
        </p:xfrm>
        <a:graphic>
          <a:graphicData uri="http://schemas.openxmlformats.org/drawingml/2006/table">
            <a:tbl>
              <a:tblPr/>
              <a:tblGrid>
                <a:gridCol w="889200"/>
                <a:gridCol w="888840"/>
                <a:gridCol w="889200"/>
                <a:gridCol w="888840"/>
              </a:tblGrid>
              <a:tr h="77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6172200" y="3657600"/>
          <a:ext cx="2057400" cy="288612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5105520" y="1295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43600" y="1295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1295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4832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48320" y="2590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53080" y="3276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91320" y="3886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20120" y="3276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9132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91320" y="5334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772400" y="1295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91320" y="6019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Right Rotation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rotate an image right 90 degrees still copy all the pix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hey go to different locations in the 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umn values become row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get y = source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get x = source height  – 1 – source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5638680" y="1523880"/>
          <a:ext cx="2667240" cy="1538280"/>
        </p:xfrm>
        <a:graphic>
          <a:graphicData uri="http://schemas.openxmlformats.org/drawingml/2006/table">
            <a:tbl>
              <a:tblPr/>
              <a:tblGrid>
                <a:gridCol w="888840"/>
                <a:gridCol w="889200"/>
                <a:gridCol w="889200"/>
              </a:tblGrid>
              <a:tr h="76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6248520" y="3809880"/>
          <a:ext cx="2057400" cy="216396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"/>
          <p:cNvSpPr/>
          <p:nvPr/>
        </p:nvSpPr>
        <p:spPr>
          <a:xfrm>
            <a:off x="5867280" y="1143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705720" y="1143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620120" y="1143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81480" y="1752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81480" y="2438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553080" y="3352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91320" y="3962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620120" y="3352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791320" y="4648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791320" y="54100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Right Rotation Exercis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0773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the method to rotate the picture of Katie to the right instead of to the 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out the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 file = FileChooser.getMediaPath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inX95in.jpg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ture p = new Picture(fil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.show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.copyKatieRIghtRotation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.repaint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you make the method more gener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work on any pic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opy one picture to another with the first picture rot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need to change the targetX and targ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should simplify a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try to solve it by h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come up with an algorithm for solving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then try it on another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earning Goal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at a conceptual and practical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copy one picture to another so that the first picture is rotated 90 degrees left or 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simplify a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come up with an algorithm to solve a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test the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eft Rotation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an you copy one picture onto another so that the first picture is rotated to the left 90 degre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267080" y="3200400"/>
            <a:ext cx="1401840" cy="2438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019920" y="2438280"/>
            <a:ext cx="2287440" cy="3105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eft Rotation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simplify the problem by thinking about how to copy when each pixel has a number at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you come up with an algorithm for th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5638680" y="1523880"/>
          <a:ext cx="2667240" cy="1538280"/>
        </p:xfrm>
        <a:graphic>
          <a:graphicData uri="http://schemas.openxmlformats.org/drawingml/2006/table">
            <a:tbl>
              <a:tblPr/>
              <a:tblGrid>
                <a:gridCol w="888840"/>
                <a:gridCol w="889200"/>
                <a:gridCol w="889200"/>
              </a:tblGrid>
              <a:tr h="76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6248520" y="3809880"/>
          <a:ext cx="2057400" cy="216396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5867280" y="1143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705720" y="1143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620120" y="1143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181480" y="1752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81480" y="2438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553080" y="3352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91320" y="3962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0120" y="3352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91320" y="4648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91320" y="54100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eft Rotation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out your algorithm on another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it 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you translate it into co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952880" y="1676520"/>
          <a:ext cx="3556080" cy="1538280"/>
        </p:xfrm>
        <a:graphic>
          <a:graphicData uri="http://schemas.openxmlformats.org/drawingml/2006/table">
            <a:tbl>
              <a:tblPr/>
              <a:tblGrid>
                <a:gridCol w="889200"/>
                <a:gridCol w="888840"/>
                <a:gridCol w="889200"/>
                <a:gridCol w="888840"/>
              </a:tblGrid>
              <a:tr h="77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6172200" y="3657600"/>
          <a:ext cx="2057400" cy="288612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"/>
          <p:cNvSpPr/>
          <p:nvPr/>
        </p:nvSpPr>
        <p:spPr>
          <a:xfrm>
            <a:off x="5105520" y="1295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943600" y="1295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58000" y="1295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4832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48320" y="2590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553080" y="3276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791320" y="3886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20120" y="3276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79132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91320" y="5334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1295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91320" y="6019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eft Rotation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rotate an image left 90 degrees still copy all the pix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hey go to different locations in the 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umn values become row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get x = source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get y = source width -1 – source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5638680" y="1523880"/>
          <a:ext cx="2667240" cy="1538280"/>
        </p:xfrm>
        <a:graphic>
          <a:graphicData uri="http://schemas.openxmlformats.org/drawingml/2006/table">
            <a:tbl>
              <a:tblPr/>
              <a:tblGrid>
                <a:gridCol w="888840"/>
                <a:gridCol w="889200"/>
                <a:gridCol w="889200"/>
              </a:tblGrid>
              <a:tr h="76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6248520" y="3809880"/>
          <a:ext cx="2057400" cy="216396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"/>
          <p:cNvSpPr/>
          <p:nvPr/>
        </p:nvSpPr>
        <p:spPr>
          <a:xfrm>
            <a:off x="5867280" y="1143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05720" y="1143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620120" y="1143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181480" y="1752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181480" y="2438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3352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91320" y="3962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20120" y="3352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791320" y="4648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91320" y="54100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eft Rotation Algorithm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the target picture obje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ke the method on the target pi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the source picture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 through the source 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 through the source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the source pixel at the x and y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the target pixel with the x equal the source y value and the y equal the source picture width – 1 minus the source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 the color from the source pixel to the target pix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eft Rotation Metho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copyKatieLeftRotatio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 sourceFile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Chooser.getMediaPath("KatieFancy.jpg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ture sourcePicture = new Picture(sourceFil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xel sourcePixel = nul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xel targetPixel = nul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targetX, targetY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loop through the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(int sourceX = 0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X &lt; sourcePicture.getWidth(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X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py Katie Left Rotation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loop through the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(int sourceY = 0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Y &lt; sourcePicture.getHeight(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Y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set the target pixel color to the source pixel co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Pixel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Picture.getPixel(sourceX,sourceY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getX = source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getY = sourcePicture.getWidth() – 1 – sourceX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getPixel = this.getPixel(targetX,targetY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getPixel.setColor(sourcePixel.getColor(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19:23:22Z</dcterms:created>
  <dc:creator>Barbara Jane Ericson</dc:creator>
  <dc:description/>
  <dc:language>en-US</dc:language>
  <cp:lastModifiedBy>Barbara J. Ericson</cp:lastModifiedBy>
  <dcterms:modified xsi:type="dcterms:W3CDTF">2006-06-27T13:07:41Z</dcterms:modified>
  <cp:revision>2174</cp:revision>
  <dc:subject/>
  <dc:title>Summer Institute for Computing Education</dc:title>
</cp:coreProperties>
</file>