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AB3-CBC2-4F33-A27B-2965308F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576-DF7A-4DA2-824D-36302798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E00-76B9-40B6-8D6E-635CAC4A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6F7-6821-4766-BD6F-2360CC08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35A-0316-4A32-906E-F0A28273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562-B2DD-489F-B023-C5F6EAB4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89A-47D4-4A58-8B6B-F59FB57F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BFC-88B4-470A-947C-C096D0B6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F65-5992-4EC6-8B2A-7896E92B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974-24F8-4962-B9D2-2187AF50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9E5-9032-4787-A928-4B6E45AC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F50-F7CD-4389-9702-B742C7E3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05AF-FFF9-445A-87DB-6481592E8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wo-Dimensional Arrays and Nested Loops – part 4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eral Copy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the x values between xStart and x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the y values between yStart and y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 pixel from the source picture for the current x and 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pixel from the target picture for the targetStartX + x and targetStartY + y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color in the target pixel to the color in the source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eral Copy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copy(Picture sourcePicture, int startX, int star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endX, int endY, int targetStartX, int targetSta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source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target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x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x = startX, tx = targetStart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&lt; end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+, t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y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y = startY, ty = targetStar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&lt; end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+, ty++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eral Copy Method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copy the source color to the target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Pixel = sourcePicture.getPixel(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 = this.getPixel(tx,t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.setColor(sourcePixel.getColor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write Methods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the copy method in Picture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ite copyKatie() and copyKatiesFace() methods to use the new cop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ethods to make sure they still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7480" y="1461960"/>
            <a:ext cx="2540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py part of one pictur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start and end conditions in the fo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method should do one and only one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arameters to make methods more reu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copy code from one method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general method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all the general method from other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py part of one picture to an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kes a good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write more general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adding parameters to th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rewrite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copi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opping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copy just part of a picture to a new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change the start and end source x and y values to the desire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ictureObj.explore() to find the x and y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x and y values to get the face of the girl in KatieFancy.jp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Fac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69608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copyKatiesFac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sourceFil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Chooser.getMediaPath("KatieFancy.jpg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sourcePicture = new Picture(source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source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target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X = 70, targetX = 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X &lt; 135; sourceX++, target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Y = 3, targetY = 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Y &lt; 80; sourceY++, targetY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Face Method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set the target pixel color to the source pixel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Pixel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Picture.getPixel(sourceX,source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 = this.getPixel(targetX,target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.setColor(sourcePixel.getColor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Copy Katie’s Fa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picture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1 = new Picture(FileChooser.getMediaPath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inX95in.jpg”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 the meth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copyKatiesFac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int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repa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24280" y="2590920"/>
            <a:ext cx="2552760" cy="345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makes a Good Method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should do one and only one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plish som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me should tell you what it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can call other methods to do some of th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al de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uldn’t copy code betwee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make general methods that are reus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should be in the class that has the data the method is work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he last two methods general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pecified the file to copy from in th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we would need to change the meth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make another meth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py a different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eral Copy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method that copies pixels from a passed source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ing a start x and y and end x and y for the sourc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rt x and y and end x and y cover the entire picture then the whole picture will be cop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rt x and y and end x and y are part of the picture then cropping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current picture object with a target start x and target start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rt x and y are 0 then it copies to the upper left co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08-16T20:25:11Z</dcterms:modified>
  <cp:revision>2161</cp:revision>
  <dc:subject/>
  <dc:title>Summer Institute for Computing Education</dc:title>
</cp:coreProperties>
</file>