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and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 </a:t>
            </a:r>
            <a:fld id="{89D8C144-CCD0-429E-BF30-FE523121D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hod is append(Shape shape, boolean connectFlag);  A Line2D.Double object is a Shape object.  Shape is an interface.  You want to pass true for the connect fla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AF3-5612-4587-93CC-0051D82F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FF8-0DAA-4AC6-A6AE-DEA1BF7A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3F3-152C-4D2F-AB4E-A5534757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180-93EA-4A9B-9135-8FFDC124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A39-83D5-4047-8BFC-C1291DFD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ED2-F19A-4DB6-80ED-CDBCAD80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AE2-0B19-4340-90A5-44875532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B6D-2AB1-494B-8349-E2C7246C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8E3-0DCF-4378-8925-B1DF2819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030-24A5-460C-9B0D-F323F3DA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748-4F79-4135-8979-EDD21441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FC5-DF74-4562-823E-D5C2DC07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4152-2EC5-484E-B9AC-C51788F27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in Java – part 3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int is an Interfac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up the API for Graphics2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etPain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at it takes a Paint object as a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me we can pass this method a java.awt.Color object or a java.awt.GradientPaint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oth implement the Pain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can be passed to a method that requires an object of an interfac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the object is from a class that implements tha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herits from a class that implements th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y Use an Interface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B interface lets you plug in differen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, disk drive, key driv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uter doesn’t care what the device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that it uses the USB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nterface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et you plug in different classes as long as they implement th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the implementing class must include all the methods defined in th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pping to a Shap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specify a shape to clip the image to when you dr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ipse2D.Double ellips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llipse2D.Double(0,0,width,heigh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.setClip(ellip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nly the portion of the image that is inside that shape will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.drawImage(this.getImage(),0,0,wid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pping to an Ellipse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Picture clipToEllips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width = this.getWidt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height = this.getHe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result = new Picture(width,heigh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et the graphics2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 g = result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2D g2 = (Graphics2D) 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19360" y="1219320"/>
            <a:ext cx="4724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reate an ellipse for cl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2D.Double ellips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llipse2D.Double(0,0,width,heigh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use the ellipse for cl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.setClip(ellip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raw th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.drawImage(this.getImag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0,wid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,nu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return th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sting clipToEllip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 creates a new picture and returns it so in order to see if we will need to save a reference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ile = FileChooser.getMediaPath(“beach.jpg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2 = p.clipToEllip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pping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that will clip a picture to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the java.awt.geom.GeneralPath class to create the path to cli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reate a new GeneralPath passing it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2D.Doubl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ppe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2D.Double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ance means that the child class gets all the fields and methods of the parent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is in the API for Graphics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a class to do general scaling and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.awt.geom.AffineTrans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raw with a gradient 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hanges from one color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of classes that implement an interface can be said to be of tha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an be passed as parameters to methods that take tha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lip a picture to a geometric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nheritance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o a general scale method using the java.awt.geom.AffineTransform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raw with a gradient 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 that changes from one color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n interface is us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lip a picture to a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Graphics2D inherits from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herits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has a drawImag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2D inherits this method from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I shows the paren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inherite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in package java.awt and then at the class Graphics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ava.sun.com/j2se/1.5.0/docs/api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neral Scaling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caled a picture up or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at if we want to scale to a specified s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hat if we want to scale up in x and down in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class AffineTransform in the java.awt.geom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object of the class Affine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the scaling using the method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AffineTransform  object when you draw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neral Scale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Picture scale(double xFactor, double yFa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set up the scale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ineTransform scaleTransform = new AffineTransfor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Transform.scale(xFactor,yFacto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create a new picture object that is the right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 result = new Picture((int) (getWidth() * xFactor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t) (getHeight() * yFactor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get the graphics 2d object to draw on the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graphics = result.getGraphic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2D g2 = (Graphics2D) graphic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draw the current image onto the result image sca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2.drawImage(this.getImage(),scaleTransform,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sting General Scale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at the general scale method creates and returns a new picture of the appropriat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 see the result we need to save a reference to it in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file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"mattDoor.jpg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p.scale(2.0,0.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with a Gradient Pain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filling with one color you can fill with a paint that changes from one color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.awt.Gradient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by specifying a point and the color at that point and then a second point and the color at that poi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ill be a change from one color to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2886120" cy="2124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43600" y="1600200"/>
            <a:ext cx="13716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6120" y="114300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1, Colo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3840" y="3124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2, Colo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62940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drawSun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drawSun(int x, int y, int width, int he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get the graphics2D object for this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g = this.getGraphic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2D g2 = (Graphics2D) 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create the gradient for painting from yellow to red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yellow at the top of the sun and red at the bot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 xMid = (float) (width / 0.5 + 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ientPaint gPaint = new GradientPaint(xMid, 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.yellow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id, y + heigh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.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set the gradient and draw the ellip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2.setPaint(gPa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2.fill(new Ellipse2D.Double(x,y,width,height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sting drawSu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ile = FileChooser.getMediaPath(“beach.jpg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drawSun(201,80,40,4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8-01T09:42:26Z</dcterms:modified>
  <cp:revision>1934</cp:revision>
  <dc:subject/>
  <dc:title>Summer Institute for Computing Education</dc:title>
</cp:coreProperties>
</file>