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2948EBE4-58FB-49DD-BC38-6434CDA0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itive types in Java are not objects.  Java left some simple data types as primitives to speed comp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oating-point type (float or double) stores both the digits and the ex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petebecker.com/js200006.html for more information on floating-point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tissa is stored in positive binary.  The exponent is stored as positive binary but with the addition of the stored value to -126 for float and -1023 for a double.  So an exponent value of 0 for a float is actually an exponent of -1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javaworld.com/javaworld/jw-10-1996/jw-10-hood.html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mbol ‘=‘ does not test for equal in Java.  It is used as an assignment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relational.html for the Java tutorial section on relational oper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 are represented as numbers with letters that we think of as coming first in alphabetizing schemes having lower numbers than the later le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rJava expressions entered into the interactions pane are evaluated and the result is displayed on the nex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DrJava see http://www.drjava.org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e that shows the code (on the right) is called the definitions p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e that allows you to type Java expressions and see the result is called the interactions p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interprets 3.0 as a double (floating point number) and 3 and 4 as integers.  The result of an operation is in the same type as the values being operated on so the result of 3 / 4 is 0 since and integer can’t represent 0.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arithmetic.html for arithmetic operators in the Java tuto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pen DrJava double click on the DrJava icon.   You will see a small window which will show while it loads.  It can take a few minutes to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point means that the number is stored in two parts.  The digits are stored (without the period) and the location of the period is stored as a power of 10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567-5E23-4735-962D-D50F307C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ACD-1151-4F7B-B82E-BC53599F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770-0666-44A3-BD60-4745BC64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E8C-70DD-4B25-AEE7-B6F66BBE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F3D-9588-44E8-A339-1EBE4506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ABF-40E6-4723-B454-506E1C01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675-24F2-454A-8799-494B3F27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D8E-79A9-485C-8453-ED99683A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BD0-A51E-4C1C-8234-4BFED702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6CF-AF35-4FC3-A976-50A694B4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C5C-18F8-45A6-BD3B-E841685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2B0-FAFA-40D2-9EB3-16C0D71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B3CB-AE4C-4352-8B0C-954589ADB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Java, and DrJava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Primitive Typ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s (numbers without fractional parts)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:  int or short or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5, -2, 33992093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point numbers (numbers with fractional parts)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: double or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33038983 -423.9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character is re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: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‘b’ ‘A’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and false values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: 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so Many Different Type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ake up different amounts of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different pr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 int, double, and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uses 8 bits (1 byte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uses 16 bits (2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uses 32 bits (4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uses 64 bits (8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uses 32 bits (4 bytes) IEEE 7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uses 64 bits (8 bytes) IEEE 7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uses 16 bits (2 bytes) Unicod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zes of Primitive Typ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447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1371600"/>
            <a:ext cx="838080" cy="457200"/>
            <a:chOff x="1371600" y="1371600"/>
            <a:chExt cx="838080" cy="457200"/>
          </a:xfrm>
        </p:grpSpPr>
        <p:sp>
          <p:nvSpPr>
            <p:cNvPr id="78" name=""/>
            <p:cNvSpPr/>
            <p:nvPr/>
          </p:nvSpPr>
          <p:spPr>
            <a:xfrm>
              <a:off x="1371600" y="1371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02920" y="1371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8600" y="2133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114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71600" y="2057400"/>
            <a:ext cx="838080" cy="457200"/>
            <a:chOff x="1371600" y="2057400"/>
            <a:chExt cx="838080" cy="457200"/>
          </a:xfrm>
        </p:grpSpPr>
        <p:sp>
          <p:nvSpPr>
            <p:cNvPr id="85" name=""/>
            <p:cNvSpPr/>
            <p:nvPr/>
          </p:nvSpPr>
          <p:spPr>
            <a:xfrm>
              <a:off x="1371600" y="2057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02920" y="2057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6000" y="2057400"/>
            <a:ext cx="838080" cy="457200"/>
            <a:chOff x="2286000" y="2057400"/>
            <a:chExt cx="838080" cy="457200"/>
          </a:xfrm>
        </p:grpSpPr>
        <p:sp>
          <p:nvSpPr>
            <p:cNvPr id="88" name=""/>
            <p:cNvSpPr/>
            <p:nvPr/>
          </p:nvSpPr>
          <p:spPr>
            <a:xfrm>
              <a:off x="2286000" y="2057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7320" y="2057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371600" y="2743200"/>
            <a:ext cx="838080" cy="457200"/>
            <a:chOff x="1371600" y="2743200"/>
            <a:chExt cx="838080" cy="457200"/>
          </a:xfrm>
        </p:grpSpPr>
        <p:sp>
          <p:nvSpPr>
            <p:cNvPr id="91" name=""/>
            <p:cNvSpPr/>
            <p:nvPr/>
          </p:nvSpPr>
          <p:spPr>
            <a:xfrm>
              <a:off x="13716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29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0" y="2743200"/>
            <a:ext cx="838080" cy="457200"/>
            <a:chOff x="2286000" y="2743200"/>
            <a:chExt cx="838080" cy="457200"/>
          </a:xfrm>
        </p:grpSpPr>
        <p:sp>
          <p:nvSpPr>
            <p:cNvPr id="94" name=""/>
            <p:cNvSpPr/>
            <p:nvPr/>
          </p:nvSpPr>
          <p:spPr>
            <a:xfrm>
              <a:off x="22860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173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00400" y="2743200"/>
            <a:ext cx="838080" cy="457200"/>
            <a:chOff x="3200400" y="2743200"/>
            <a:chExt cx="838080" cy="457200"/>
          </a:xfrm>
        </p:grpSpPr>
        <p:sp>
          <p:nvSpPr>
            <p:cNvPr id="97" name=""/>
            <p:cNvSpPr/>
            <p:nvPr/>
          </p:nvSpPr>
          <p:spPr>
            <a:xfrm>
              <a:off x="32004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317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14800" y="2743200"/>
            <a:ext cx="838080" cy="457200"/>
            <a:chOff x="4114800" y="2743200"/>
            <a:chExt cx="838080" cy="457200"/>
          </a:xfrm>
        </p:grpSpPr>
        <p:sp>
          <p:nvSpPr>
            <p:cNvPr id="100" name=""/>
            <p:cNvSpPr/>
            <p:nvPr/>
          </p:nvSpPr>
          <p:spPr>
            <a:xfrm>
              <a:off x="41148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461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71600" y="4114800"/>
            <a:ext cx="838080" cy="457200"/>
            <a:chOff x="1371600" y="4114800"/>
            <a:chExt cx="838080" cy="457200"/>
          </a:xfrm>
        </p:grpSpPr>
        <p:sp>
          <p:nvSpPr>
            <p:cNvPr id="103" name=""/>
            <p:cNvSpPr/>
            <p:nvPr/>
          </p:nvSpPr>
          <p:spPr>
            <a:xfrm>
              <a:off x="13716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29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86000" y="4114800"/>
            <a:ext cx="838080" cy="457200"/>
            <a:chOff x="2286000" y="4114800"/>
            <a:chExt cx="838080" cy="457200"/>
          </a:xfrm>
        </p:grpSpPr>
        <p:sp>
          <p:nvSpPr>
            <p:cNvPr id="106" name=""/>
            <p:cNvSpPr/>
            <p:nvPr/>
          </p:nvSpPr>
          <p:spPr>
            <a:xfrm>
              <a:off x="22860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173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200400" y="4114800"/>
            <a:ext cx="838080" cy="457200"/>
            <a:chOff x="3200400" y="4114800"/>
            <a:chExt cx="838080" cy="457200"/>
          </a:xfrm>
        </p:grpSpPr>
        <p:sp>
          <p:nvSpPr>
            <p:cNvPr id="109" name=""/>
            <p:cNvSpPr/>
            <p:nvPr/>
          </p:nvSpPr>
          <p:spPr>
            <a:xfrm>
              <a:off x="32004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17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14800" y="4114800"/>
            <a:ext cx="838080" cy="457200"/>
            <a:chOff x="4114800" y="4114800"/>
            <a:chExt cx="838080" cy="457200"/>
          </a:xfrm>
        </p:grpSpPr>
        <p:sp>
          <p:nvSpPr>
            <p:cNvPr id="112" name=""/>
            <p:cNvSpPr/>
            <p:nvPr/>
          </p:nvSpPr>
          <p:spPr>
            <a:xfrm>
              <a:off x="41148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461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371600" y="3429000"/>
            <a:ext cx="838080" cy="457200"/>
            <a:chOff x="1371600" y="3429000"/>
            <a:chExt cx="838080" cy="457200"/>
          </a:xfrm>
        </p:grpSpPr>
        <p:sp>
          <p:nvSpPr>
            <p:cNvPr id="115" name=""/>
            <p:cNvSpPr/>
            <p:nvPr/>
          </p:nvSpPr>
          <p:spPr>
            <a:xfrm>
              <a:off x="13716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29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86000" y="3429000"/>
            <a:ext cx="838080" cy="457200"/>
            <a:chOff x="2286000" y="3429000"/>
            <a:chExt cx="838080" cy="457200"/>
          </a:xfrm>
        </p:grpSpPr>
        <p:sp>
          <p:nvSpPr>
            <p:cNvPr id="118" name=""/>
            <p:cNvSpPr/>
            <p:nvPr/>
          </p:nvSpPr>
          <p:spPr>
            <a:xfrm>
              <a:off x="22860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173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0400" y="3429000"/>
            <a:ext cx="838080" cy="457200"/>
            <a:chOff x="3200400" y="3429000"/>
            <a:chExt cx="838080" cy="457200"/>
          </a:xfrm>
        </p:grpSpPr>
        <p:sp>
          <p:nvSpPr>
            <p:cNvPr id="121" name=""/>
            <p:cNvSpPr/>
            <p:nvPr/>
          </p:nvSpPr>
          <p:spPr>
            <a:xfrm>
              <a:off x="32004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317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14800" y="3429000"/>
            <a:ext cx="838080" cy="457200"/>
            <a:chOff x="4114800" y="3429000"/>
            <a:chExt cx="838080" cy="457200"/>
          </a:xfrm>
        </p:grpSpPr>
        <p:sp>
          <p:nvSpPr>
            <p:cNvPr id="124" name=""/>
            <p:cNvSpPr/>
            <p:nvPr/>
          </p:nvSpPr>
          <p:spPr>
            <a:xfrm>
              <a:off x="41148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61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29200" y="3429000"/>
            <a:ext cx="838080" cy="457200"/>
            <a:chOff x="5029200" y="3429000"/>
            <a:chExt cx="838080" cy="457200"/>
          </a:xfrm>
        </p:grpSpPr>
        <p:sp>
          <p:nvSpPr>
            <p:cNvPr id="127" name=""/>
            <p:cNvSpPr/>
            <p:nvPr/>
          </p:nvSpPr>
          <p:spPr>
            <a:xfrm>
              <a:off x="50292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5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29000"/>
            <a:ext cx="838080" cy="457200"/>
            <a:chOff x="5943600" y="3429000"/>
            <a:chExt cx="838080" cy="457200"/>
          </a:xfrm>
        </p:grpSpPr>
        <p:sp>
          <p:nvSpPr>
            <p:cNvPr id="130" name=""/>
            <p:cNvSpPr/>
            <p:nvPr/>
          </p:nvSpPr>
          <p:spPr>
            <a:xfrm>
              <a:off x="59436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749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858000" y="3429000"/>
            <a:ext cx="838080" cy="457200"/>
            <a:chOff x="6858000" y="3429000"/>
            <a:chExt cx="838080" cy="457200"/>
          </a:xfrm>
        </p:grpSpPr>
        <p:sp>
          <p:nvSpPr>
            <p:cNvPr id="133" name=""/>
            <p:cNvSpPr/>
            <p:nvPr/>
          </p:nvSpPr>
          <p:spPr>
            <a:xfrm>
              <a:off x="68580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893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772400" y="3429000"/>
            <a:ext cx="838080" cy="457200"/>
            <a:chOff x="7772400" y="3429000"/>
            <a:chExt cx="838080" cy="457200"/>
          </a:xfrm>
        </p:grpSpPr>
        <p:sp>
          <p:nvSpPr>
            <p:cNvPr id="136" name=""/>
            <p:cNvSpPr/>
            <p:nvPr/>
          </p:nvSpPr>
          <p:spPr>
            <a:xfrm>
              <a:off x="77724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7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4800600"/>
            <a:ext cx="838080" cy="457200"/>
            <a:chOff x="1371600" y="4800600"/>
            <a:chExt cx="838080" cy="457200"/>
          </a:xfrm>
        </p:grpSpPr>
        <p:sp>
          <p:nvSpPr>
            <p:cNvPr id="140" name=""/>
            <p:cNvSpPr/>
            <p:nvPr/>
          </p:nvSpPr>
          <p:spPr>
            <a:xfrm>
              <a:off x="13716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029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4800600"/>
            <a:ext cx="838080" cy="457200"/>
            <a:chOff x="2286000" y="4800600"/>
            <a:chExt cx="838080" cy="457200"/>
          </a:xfrm>
        </p:grpSpPr>
        <p:sp>
          <p:nvSpPr>
            <p:cNvPr id="143" name=""/>
            <p:cNvSpPr/>
            <p:nvPr/>
          </p:nvSpPr>
          <p:spPr>
            <a:xfrm>
              <a:off x="22860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173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00400" y="4800600"/>
            <a:ext cx="838080" cy="457200"/>
            <a:chOff x="3200400" y="4800600"/>
            <a:chExt cx="838080" cy="457200"/>
          </a:xfrm>
        </p:grpSpPr>
        <p:sp>
          <p:nvSpPr>
            <p:cNvPr id="146" name=""/>
            <p:cNvSpPr/>
            <p:nvPr/>
          </p:nvSpPr>
          <p:spPr>
            <a:xfrm>
              <a:off x="32004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17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14800" y="4800600"/>
            <a:ext cx="838080" cy="457200"/>
            <a:chOff x="4114800" y="4800600"/>
            <a:chExt cx="838080" cy="457200"/>
          </a:xfrm>
        </p:grpSpPr>
        <p:sp>
          <p:nvSpPr>
            <p:cNvPr id="149" name=""/>
            <p:cNvSpPr/>
            <p:nvPr/>
          </p:nvSpPr>
          <p:spPr>
            <a:xfrm>
              <a:off x="41148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461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029200" y="4800600"/>
            <a:ext cx="838080" cy="457200"/>
            <a:chOff x="5029200" y="4800600"/>
            <a:chExt cx="838080" cy="457200"/>
          </a:xfrm>
        </p:grpSpPr>
        <p:sp>
          <p:nvSpPr>
            <p:cNvPr id="152" name=""/>
            <p:cNvSpPr/>
            <p:nvPr/>
          </p:nvSpPr>
          <p:spPr>
            <a:xfrm>
              <a:off x="50292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605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943600" y="4800600"/>
            <a:ext cx="838080" cy="457200"/>
            <a:chOff x="5943600" y="4800600"/>
            <a:chExt cx="838080" cy="457200"/>
          </a:xfrm>
        </p:grpSpPr>
        <p:sp>
          <p:nvSpPr>
            <p:cNvPr id="155" name=""/>
            <p:cNvSpPr/>
            <p:nvPr/>
          </p:nvSpPr>
          <p:spPr>
            <a:xfrm>
              <a:off x="59436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749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858000" y="4800600"/>
            <a:ext cx="838080" cy="457200"/>
            <a:chOff x="6858000" y="4800600"/>
            <a:chExt cx="838080" cy="457200"/>
          </a:xfrm>
        </p:grpSpPr>
        <p:sp>
          <p:nvSpPr>
            <p:cNvPr id="158" name=""/>
            <p:cNvSpPr/>
            <p:nvPr/>
          </p:nvSpPr>
          <p:spPr>
            <a:xfrm>
              <a:off x="68580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893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772400" y="4800600"/>
            <a:ext cx="838080" cy="457200"/>
            <a:chOff x="7772400" y="4800600"/>
            <a:chExt cx="838080" cy="457200"/>
          </a:xfrm>
        </p:grpSpPr>
        <p:sp>
          <p:nvSpPr>
            <p:cNvPr id="161" name=""/>
            <p:cNvSpPr/>
            <p:nvPr/>
          </p:nvSpPr>
          <p:spPr>
            <a:xfrm>
              <a:off x="77724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037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28600" y="5562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5486400"/>
            <a:ext cx="838080" cy="457200"/>
            <a:chOff x="1371600" y="5486400"/>
            <a:chExt cx="838080" cy="457200"/>
          </a:xfrm>
        </p:grpSpPr>
        <p:sp>
          <p:nvSpPr>
            <p:cNvPr id="165" name=""/>
            <p:cNvSpPr/>
            <p:nvPr/>
          </p:nvSpPr>
          <p:spPr>
            <a:xfrm>
              <a:off x="1371600" y="5486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02920" y="5486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0" y="5486400"/>
            <a:ext cx="838080" cy="457200"/>
            <a:chOff x="2286000" y="5486400"/>
            <a:chExt cx="838080" cy="457200"/>
          </a:xfrm>
        </p:grpSpPr>
        <p:sp>
          <p:nvSpPr>
            <p:cNvPr id="168" name=""/>
            <p:cNvSpPr/>
            <p:nvPr/>
          </p:nvSpPr>
          <p:spPr>
            <a:xfrm>
              <a:off x="2286000" y="5486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17320" y="5486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ype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(s) take up the most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(s) take up the least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would you us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 people in you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ce of an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to do you have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you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loating Point Numb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with a fractional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70.20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as binary numbers in scientific notation -52.202 is -.5220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 (1 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gits in the number (mantis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onent (8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– 6-7 significant digits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– 14-15 significant digits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son (Relational) Opera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200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han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gt;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 3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 4 is fa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&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 3 is true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lt; 2 is 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= 4 is fa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qual !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!= 4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!= 3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733920" y="1219320"/>
            <a:ext cx="4952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han or equal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= 4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gt;= 4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or equal 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= 2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lt;= 2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son Operator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the comparison operators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lt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lt;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&lt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== 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haracters (single alphabet l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single quote around a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&lt; ‘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&lt;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=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perator Ord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evaluation order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o (remainder)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order can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pare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 + 4) * 2 versus 3 + 4 *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 Order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2 + 3 * 4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parentheses to make it clear what is happening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hange it so that 2 + 3 happens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hange it so that it multiplies the result of 2 + 3 and the result of 4 +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o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xecute billions of instruction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getting faster, smaller, and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has typical math and relational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is a strongly typ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lead to odd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division gives a 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casting to solv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has primitive types to represent integer and floating poin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operations have a default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pecify the order with paren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computer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J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do math and relational operations in J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asting and why might you ne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Java primitive types and how do they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order of math operations in Jav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chang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Can Computers Do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they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, subtract, multiply, 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mazingly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s to billions of instruction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store a huge amoun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movies, photo albums, dictionaries, encyclopedias, complex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keep getting faster, cheaper, and 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DrJava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Java is a free integrated development environment for doing Java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ritten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several window panes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reating programs (definition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ying out Java code (interaction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ing of open files (file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3429000" y="327636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380952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91120" y="2362320"/>
            <a:ext cx="5331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s in Java (+ * / - %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*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4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o (Remai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% 2 and 11 %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DrJava and do the following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7 from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7 t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3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4.6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5 by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emainder when you divide 10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101680"/>
            <a:ext cx="40384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is the result of 3 / 2 = 1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ly typ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alue has a type associated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the computer how to interpret th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n integer, floating point, letter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determines the type if it isn’t specified (liter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 is a floating point number (has a fractional p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of an operation is in the same type as the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nd 2 are integers so the answer is an integ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st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ways to solve the problem of 3 / 2 has a result of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one of the values floating point by adding 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type will then be float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you can cast one of the values to the primitive types: float or d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uble) 3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(float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sting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ting to get the values right for splitting up a bill for 3 people of 19 doll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first with a calc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in DrJava without ca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in DrJava with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27:55Z</dcterms:modified>
  <cp:revision>1465</cp:revision>
  <dc:subject/>
  <dc:title>Summer Institute for Computing Education</dc:title>
</cp:coreProperties>
</file>