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68DCDA50-BF31-4322-B7E7-C009F9925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have to enclose the pixelObj.setColor statement in a block since it is just one statement but it makes the good easier to read and mai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science.howstuffworks.com/question51.htm for more information on red-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entation to make your code easier for other people to read.  It doesn’t matter to the compi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a block of statements in Java is inside {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344-05AF-43AA-8D38-209B4236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A60-37CA-4DB0-9924-EF499637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F1F-5219-4743-9C3B-F4006872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1D2-EAE2-41D9-9012-CCB41B51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760-FC2E-42DE-9CA6-570529B1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AEC-5E53-4FD7-9BCE-78BC7692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EE2-663D-4AD6-9F17-7487A1A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A34-F00A-4A21-8232-28BD8E4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813-7486-483A-8641-127BDAC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25B-D1B0-4CBF-9B7C-051F04D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E3B-1CA6-4A7C-BCCE-3F2AA35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F0F-E941-4CFC-B833-CACD0C2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A8BE-AFD2-4990-A68D-C871BD03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- part 1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removeRedEye(int startX, int startY, int end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endY, Color new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pixels in the rectangle defined by the // startX, startY, and endX and e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startX; x &lt; endX; x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startY; y &lt; endY; y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if the color is near red then chang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xelObj.colorDistance(Color.red) &lt; 1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Color(new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removeRedEy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icture explorer to find the values for start x, start y, end x, and e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following to test removeRed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“jenny-red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removeRedEye(startX,startY,endX,endY, Color.awt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picture of a fri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y to change their ey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hange their hai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hange their clothing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one method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l it several times with different param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f statement to conditionally execute another statement or a block o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oolean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oolean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statements to execute if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ditionally execute a statement or a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move red-eye from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eye is when the flash from the camera is reflected from the subject’s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change the red color in the eyes to anothe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change the red of her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37168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051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d Ey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find the area around the eyes to limit where we change the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ictureObj.explo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still just want to change the pixels that are “close to” r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ind the distance between the current color and our definition of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ange the color of the current pixel only if the current color is within some distance to the desire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tailed Red Ey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with x staring at some passed start value and while it is less than some passed e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y starting at some passed start value and while it is less than some passed en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at this x and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distance between the pixel color and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istance is less than some value (167) change the color to some passed new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c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 want a statement or block of statements executed only if some expression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the “if” statement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colorDistance &lt; val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167652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505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7242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82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620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if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DrJava and try this in the interac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 &gt; 1) System.out.println(“X is &gt; 1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X is “ + 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 &gt; 1) System.out.println(“X is &gt; 1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X is “ + 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ocks of Stat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f statement will conditionally 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tatement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ck of 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ditionally execute a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e them in ‘{‘ and ‘}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ollowing statement or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easier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good practice to always enclose conditional statements in a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cause an error if the code is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lor Dist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points is comput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root of (( x1 – x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1 – y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colors can be comp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root of ((red1 – red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green1-green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blue1 – blue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method in the Pixel class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dist = pixelObj.colorDistance(color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5:19:02Z</dcterms:modified>
  <cp:revision>1867</cp:revision>
  <dc:subject/>
  <dc:title>Summer Institute for Computing Education</dc:title>
</cp:coreProperties>
</file>