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Arrays and Neste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6 - </a:t>
            </a:r>
            <a:fld id="{19FE2870-F377-44C3-9C27-D5A573376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x and y will need to be double variables.  Cast them to int to lose the fractional part to get the pixel x and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coweb.cc.gatech.edu/cs1315/916 for some examples from Georgia Tech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Y+= 2 means the same as sourceY = sourceY + 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add to source x and source y so that it is 0 twice, then 1 twice, then 2 twi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0.5 is 0 when you cast to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AF2-7C31-400F-A9B6-125F7678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000-8A0A-438E-B158-E95A27E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9DA-246B-4F36-BE76-7CC1316B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F98-41AC-4A9B-88EF-54F8EFA2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7D1-647F-45E7-8DA5-2C5010F0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B9B-FFCC-4C25-B13B-DC794C60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8C1-6B0D-48C6-A90A-5F6C972B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C23-EF92-4094-9DB7-BDADBD3D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A35-ED13-465D-A48D-9E488749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69B-12B6-49E3-A454-450DBB5F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66C-B53F-4FE2-B5BC-170FFF78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7FD-978E-475F-97EF-61BFEC3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1176-5B5E-4A35-88BD-C4FAE9F80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6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Up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sourc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ith source x starting at 0 and target x starting at 0 as long as &lt; source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x by 0.5 each time through the loop, increment the target x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with source y starting at 0 and target y starting at 0 as long as &lt; source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source y by 0.5 each time through the loop, increment the target y b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lor from the source to targe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Up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copyFlowerBigger to scale up the picture flower1.jpg when you copy it to 640x480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the result to a file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Obj.write(“fil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Coll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things that you can do with pictures is create a co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pictures of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ictures are 100 pixels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rget picture is created from file 640x48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48006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cture’s bottom left is at x = 0 y = height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647960" y="4419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4906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Collag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target pictur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640x480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flower pictur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flower1.jpg as source1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flower2.jpg as source2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argetBottomY to the targetPicture height –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pixels from bottom of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Collage Algorithm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1Picture to the current picture starting at x=0, y=targetBottomY – source1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2Picture to the current picture starting at x=100, y = targetBottomY – source2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e source1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1Picture to the current picture starting at x=200, y= targetBottomY – source1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the blue from source2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2Picture to the current picture starting at x=300, y= targetBottomY – source2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1Picture to the current picture starting at x=400, y=targetBottomY – source1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Flower Collag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createFlowerCollag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source1Picture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Picture(FileChooser.getMediaPath("flower1.jpg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source2Picture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Picture(FileChooser.getMediaPath("flower2.jpg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targetBottomY = this.getHeight() -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opy source1Picture to 0, targetBottomY - h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.copy(source1Picture,0,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1Picture.getWidth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1Picture.getHeight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targetBottomY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1Picture.getHeigh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opy source2Picture to 100, targetBottomY - h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.copy(source2Picture,0,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2Picture.getWidth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2Picture.getHeight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,targetBottomY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2Picture.getHeigh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Flower Collage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negate the source1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negat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py negated source1Picture to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.copy(source1Picture,0,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Width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,targetBottom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lear the blue from source 2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clearBlu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py source2Picture to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.copy(source2Picture,0,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getWidth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getHeight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,targetBottom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getHeight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py negated source1Picture to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.copy(source1Picture,0,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Width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,targetBottom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createFlowerColl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“640x480.jpg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createFlowerCollag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repa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Collag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creating a coll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4 copies of an image i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image and 3 changes to the original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, rotate, crop, change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mirror the whole picture horizo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your collage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Obj.write(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9280" y="1219320"/>
            <a:ext cx="36165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cale a picture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not copying all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index by a number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cale a pictur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pying the source pixels more than on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rement the source index by 0.5 and then cast it to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reate an image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methods we have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make a picture 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make a picture bi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it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create a coll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ake a picture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to download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x and y by a number larger th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use all the source pixels in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ake a picture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the same source x and y to more than one target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urce pixels more than once in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a Pi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onFlower.jpg is 640pixels wide and 480 pixel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opy every other pixel we will have a new picture with width (640 / 2 = 320) and height (480 / 2 = 2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0" y="3429000"/>
          <a:ext cx="2590920" cy="207000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238880" y="3733920"/>
          <a:ext cx="1371600" cy="1076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06668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sourc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ith source x starting at 0 and target x starting at 0 as long as &lt; source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x by 2 each time through the loop, increment the target x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with source y starting at 0 and target y starting at 0 as long as &lt; source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source y by 2 each time through the loop, increment the target y b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lor from the source to targe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copyFlowerSmal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flowerPi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ictur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passionFlower.jpg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X = 0, targetX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 &lt; flowerPicture.getWidt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+=2, target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Y=0, targetY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 &lt; flowerPicture.getHeigh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+=2, targetY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Picture.getPixel(sourceX,sourc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Copy Flower Small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icture half the size of the original picture (+ 1 if odd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1 = new Picture(320,24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he flower to the new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copyFlowerSmaller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e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nking Through Scaling U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419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each pixel in the source multiple times to th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 (0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(1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1,0) Target(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1,0) Target(3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2,0) Target(4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2,0) Target(5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4120" y="3429000"/>
          <a:ext cx="2895480" cy="223992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82760"/>
                <a:gridCol w="4824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715000" y="1752480"/>
          <a:ext cx="1981080" cy="1035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79132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2-25T21:53:33Z</dcterms:modified>
  <cp:revision>2165</cp:revision>
  <dc:subject/>
  <dc:title>Summer Institute for Computing Education</dc:title>
</cp:coreProperties>
</file>