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Media Computation Java, and 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 - </a:t>
            </a:r>
            <a:fld id="{76E62EEC-4C38-4262-BCE9-048E081AC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 methods do not change the current string.  They return a new string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don’t capitalize Tommy and Mary even though they are names.  This is because we don’t capitalize variable names in Jav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primitive types are all lowercase.  Class names start with an upper case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reated the classes Picture, Sound, and FileChooser.  These are not part of the Java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 JFrame is a main window in S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 BufferedImage is what really holds the pictur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www.javaranch.com/campfire/StoryCups.jsp for a discussion of the sizes of primitives and the differences between primitive variables and object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int type takes 4 bytes (32 bits) of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68B-6D91-4EB8-A9AA-8C2B9DB2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054-1268-4C02-B286-4FB5C97D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859-CF7A-473E-B979-D01335C4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D133-436C-4CDD-881D-3F0052C2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746-FA92-4237-9477-26984FC0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FBA-D172-46B4-A4B2-B9CF9B5B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04F8-C3B8-4AF1-B581-5A2B64BF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2FB-6F81-40AB-9376-E2FAA330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0452-B372-45EA-9AA9-94E98BA7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744-04C6-4635-9288-45C59A5F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C36-790D-4093-8FA3-0D2B143B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45A7-6D6E-4D0E-95AF-988AE41D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67ED-F9EE-4E76-8160-A3B58489A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claring Variables – Mod 4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ariable Practi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alue of str1 at each ste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str1 = “Hello World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1.toLowerCas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1 = str1.toUpperCas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1 = “Goodbye World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riables where decla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objects were cr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can be garbage coll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ariable Practi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value of string1 after the following code has execu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string1 = “HELLO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ln(string1.toLowerCase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variable is string1 (primitive or object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t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value of string2 and string3 after the following code has execu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string2 = “Mary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string3 = “Clark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2 = string2 + string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ariable Practi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variables for each of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kids in a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st of a pair of sh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me of a p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ore of a soccer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urly wage of a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do you want insurance on a purch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or of your 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we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ance you drive on a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test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n a lottery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ariable Practi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urtle does turtle1 refer to after the following cod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myWorld = new Worl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tle tommy = new Turtle(myWorl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tle mary = new Turtle(myWorl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tle turtle1 = tomm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tle1.forwar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tle1 = mar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tle1.turnLef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urtle will go forw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urtle will turn lef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ariable Practi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se statements will cause an error in the interactions pane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1 world = new Worl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world2 = new Worl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world3 = newWorl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world1 = new World1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world5 = new Worl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world2 = new Worl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my World = new Worl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earth = new Worl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llowed Types in 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ype for a variable declaration 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imitive type: int, double, char, or 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me of a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Java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, JFrame, BufferedImage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he name of a class created by you or someone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, Sound, FileCho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names start with an uppercase let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eclare variables by specifying a type and a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assign a value to the variable when you declar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itive variables reserve space based on th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variables reserve space for a reference to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 can be garbage collected if there is no reference 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ing variables: what is allowed and what is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variables can be garbage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hange the value of a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primitive and objec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orking with Variabl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declare a variable before you can u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a variable once and only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get an error if you declare it more than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reus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you have decl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2800440" cy="190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52880" y="4648320"/>
            <a:ext cx="2495520" cy="1361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952880" y="1143000"/>
            <a:ext cx="25243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claring Variabl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clare a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e type and a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 world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tle turtle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assign a value to the variable when you declar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fullName = “Susan Dorda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 world1 = new Worl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tle turtle1 = new Turtle(world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bject and Primitive Variabl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variables allocate space based on thei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s of the space is set to the variable’s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type variables cause space allocation for a reference to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s of the space is a way to calculate the  address of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null if it isn’t referring to an object y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4480" y="12193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342900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str =“Hi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1828800"/>
            <a:ext cx="26668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920" y="18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4038480"/>
            <a:ext cx="26668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4038480"/>
            <a:ext cx="6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724280"/>
            <a:ext cx="38862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15000" y="44197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15720" y="407844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mory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the memory used fo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x =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y = 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z = x +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the memory used fo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fullName = nu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firstName = “James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lastName = “Clark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Name = firstName + lastNa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ariables are Tempor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 values 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sig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x =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3;  // read ‘=‘ as takes on the valu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Java is ex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actions pane is re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force this by clicking the “Reset”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by right click and choose “Reset Interac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s automatically when you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bjects can be Garbage Collect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objects that have been created have no more references to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be garbage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ans the memory they are using can be freed and re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name1 = “Bill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name1 = new String(“Mary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ing object created by “Bill” can be garbage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ariable Practi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following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value of z at each ste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z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x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y =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x *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z +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z –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variables where decla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space do they t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3T17:07:07Z</dcterms:modified>
  <cp:revision>1478</cp:revision>
  <dc:subject/>
  <dc:title>Summer Institute for Computing Education</dc:title>
</cp:coreProperties>
</file>