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271D45E9-19FD-4ADA-BE30-2369E89F0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tertainment.howstuffworks.com/blue-screen.htm for mor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picture is blue-mark.jpg.  The blue background is blue-empty.jpg.  The moon picture is moon-surface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ype all of the first bullet on one line in DrJava (it just didn’t fit on the slide 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picture was kid-in-frame.jpg in mediasources.  The old background was in bgframe.jpg.  The new background was in moon-surface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ADD-5E02-4922-9F95-CC0C2244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361-BAD8-4889-96BC-4CE99D2C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8F7-800F-49AB-93E9-590867B2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380-1311-4D5C-B27E-90242CE1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FD4-503A-4013-8134-B1AFAA77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213-98EA-4597-9166-401FBD05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435-04DD-4826-9BA3-4A28D619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8B1-2F16-4941-BD02-E781746C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FF1-E6DD-4D7F-B65B-68B70E51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14A-246E-427A-BE26-87FB5B39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A5A-C52C-46C2-A01E-69ECBE39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571-F841-4E7C-8A15-78113DE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B945-C9E4-46EC-9A72-373BF371F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– part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roma Key – Blue Scree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V and movie special effects they use a blue or gree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just a blue sheet wa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ly you need an evenly lit, bright, pure blu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thing blue in the 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2157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roma Key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chromakey that takes a new background picture as an input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loop through all th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ixel color is blue (red + green &lt; 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the pixel color with the color from the new background pixel (at the same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2157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hromake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markP = new Picture(FileChooser.getMediaPath(“blue-mark.jpg”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newBack = new Picture(FileChooser.getMediaPath(“moon-surface.jpg”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P.chromakey(newBa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P.sh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wap the background of a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ture with a person in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picture without the person in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pixel color to the new background c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distance from the current pixel is within a distance to the old backgroun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romak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ture of a person in front of a blu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pixel color to the new background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lue value is greater than the red + green (for blue sc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ange the background on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chroma k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ackground Replace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 picture of a person in front of som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picture of the background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replace the pixel colors for the background to be from another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83200" y="12193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81760" y="3747960"/>
            <a:ext cx="3170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colors at all the pixels in the sourc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within some range of the background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ixels from another backgroun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83200" y="12193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81760" y="3747960"/>
            <a:ext cx="3170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the sourc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in the original background and the new background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all the pixels in the sourc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the distance from the source pixel color is within 15.0 of the background picture pixel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 replace it with the color at the new background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wapBackground(Picture oldBackgrou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newBackg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curr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old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new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=0; x&lt;this.getWidth()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=0; y&lt;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wap Backgroun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 and old background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Pixel = this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Pixel = oldBackground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if the distance between the current pixel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and the old background pixel color is less than the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en swap in the new background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currPixel.colorDistance(oldPixel.getColor()) &lt; 15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Pixel = newBackground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Pixel.setColor(new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swapBackgr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1 = new Picture(FileChooser.getMediaPath(“kid-in-frame.jpg”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oldBack = new Picture(FileChooser.getMediaPath(“bgframe.jpg”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newBack = new Picture(FileChooser.getMediaPath(“moon-surface.jpg”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wapBackground(oldBack,newBac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 Resul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ground color was too close to the shirt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2-25T22:15:08Z</dcterms:modified>
  <cp:revision>1857</cp:revision>
  <dc:subject/>
  <dc:title>Summer Institute for Computing Education</dc:title>
</cp:coreProperties>
</file>