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C968850E-8CAD-4E71-99CB-04405861E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fferent about this mehod with the for loop?  The index is now declared and initialized in the for loop not before the while loop.  The change of the index is shown in the for loop even though it happens at the end of the loop bod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often use a variable named i for inde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three parts of a for loop are optional.  However, the ‘;’s have to be there.  You can declare and initialize more than one variable in the initialization area, just separate them with comm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often use i as an index variable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variable i is declared and initialized in the for loop it actually only is declared before the test.  It is not repeated each time through the loo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increment is right after the continuation test in the for loop it doesn’t happen till after the last statement in the 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BAFD3-D75A-42FD-9B35-87FE3F5D5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3D424-33B1-40F6-8470-E2FB98E4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3500A-B8B9-41F9-8935-E611C46EF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A7EBD-738D-41D2-A448-E6A953F0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F0575-514E-449E-A7A8-2090080F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651F-A665-4B4A-95DF-81630B744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24223-F998-406F-88D2-A0A16CF8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AB256-8E28-41DF-8630-0363C50CD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A0F1-70EB-4DD9-A480-DCD2CFE3C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EB25-7966-4742-AF9C-13DBDFDA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E5EB-30F3-429C-A143-45676FC1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1D7C-02A3-41B8-9AD6-5FD62E5C5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F497-42E8-4C21-9EBA-D92815629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5</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e clearBlue() to use a For Loop</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thod to clear the blue (s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blue to 0 for all 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clearB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 pixelObj = nul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et the array of pixel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 pixelArray = this.get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oop through all the 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lt; pixelArray.leng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et the current pix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Obj = pixelArray[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 the blue on the pixel to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Obj.setBlue(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sing System.out.println() in a Loop</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check what is happening in your program is to ad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a:t>
            </a:r>
            <a:r>
              <a:rPr b="0" i="1" lang="en-US" sz="2800" spc="-1" strike="noStrike">
                <a:solidFill>
                  <a:srgbClr val="000000"/>
                </a:solidFill>
                <a:latin typeface="Arial"/>
              </a:rPr>
              <a:t>expres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add this to the loop to check the value of ‘i’ during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 verify that the increment happens after the last statement in the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e to For Loop Exercise</a:t>
            </a:r>
            <a:endParaRPr b="0" lang="en-US" sz="3600" spc="-1" strike="noStrike">
              <a:solidFill>
                <a:srgbClr val="333399"/>
              </a:solidFill>
              <a:latin typeface="Arial"/>
            </a:endParaRPr>
          </a:p>
        </p:txBody>
      </p:sp>
      <p:sp>
        <p:nvSpPr>
          <p:cNvPr id="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makeSunset() and change it from using a while loop to using a for lo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e declaration of the index to the for loop initialization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e index increment to the for loop change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the code to make sure it still 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more than one color in a metho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in make sunse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for loop to repeat a series of Java statements until a test is fals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itialization area; continuation test; change ar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s the same way a while loop do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less error prone when executing a loop at set number of tim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nvert code that uses a while loop into using a for loo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rint values in a loop using System.out.println(expr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hange more than one color in a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se a for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int out values in a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nvert a while loop into a for loo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an outdoor scene look like it happened during suns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ight want to increase the red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you can’t increase past 255</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idea is to reduce the blue and gree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mphasize the r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reduce the blue and green by 30% </a:t>
            </a:r>
            <a:endParaRPr b="0" lang="en-US" sz="1800" spc="-1" strike="noStrike">
              <a:solidFill>
                <a:srgbClr val="000000"/>
              </a:solidFill>
              <a:latin typeface="Arial"/>
            </a:endParaRPr>
          </a:p>
        </p:txBody>
      </p:sp>
      <p:pic>
        <p:nvPicPr>
          <p:cNvPr id="55" name="" descr=""/>
          <p:cNvPicPr/>
          <p:nvPr/>
        </p:nvPicPr>
        <p:blipFill>
          <a:blip r:embed="rId1"/>
          <a:stretch/>
        </p:blipFill>
        <p:spPr>
          <a:xfrm>
            <a:off x="4816440" y="1219320"/>
            <a:ext cx="3702240" cy="2376360"/>
          </a:xfrm>
          <a:prstGeom prst="rect">
            <a:avLst/>
          </a:prstGeom>
          <a:ln w="0">
            <a:noFill/>
          </a:ln>
        </p:spPr>
      </p:pic>
      <p:pic>
        <p:nvPicPr>
          <p:cNvPr id="56" name="" descr=""/>
          <p:cNvPicPr/>
          <p:nvPr/>
        </p:nvPicPr>
        <p:blipFill>
          <a:blip r:embed="rId2"/>
          <a:stretch/>
        </p:blipFill>
        <p:spPr>
          <a:xfrm>
            <a:off x="4819680" y="3747960"/>
            <a:ext cx="3695760" cy="237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 Algorithm</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blue and green by 30%</a:t>
            </a:r>
            <a:endParaRPr b="0" lang="en-US" sz="28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array of pixels from the picture</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n index to start at 0</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while the index is less than the length of the array</a:t>
            </a:r>
            <a:endParaRPr b="0" lang="en-US" sz="24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pixel at the current index from the array of pixels</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 the blue value at the pixel to 0.7 times the original value</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 the green value at the pixel to 0.7 times the original value</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the index and go back to step 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 Method</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simulate a sunset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creasing the gre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nd b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oid makeSuns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Array = this.get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Obj =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lue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op through all the 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 &lt; pixelArray.length)</a:t>
            </a:r>
            <a:endParaRPr b="0" lang="en-US" sz="1800" spc="-1" strike="noStrike">
              <a:solidFill>
                <a:srgbClr val="000000"/>
              </a:solidFill>
              <a:latin typeface="Arial"/>
            </a:endParaRPr>
          </a:p>
        </p:txBody>
      </p:sp>
      <p:sp>
        <p:nvSpPr>
          <p:cNvPr id="61" name="PlaceHolder 3"/>
          <p:cNvSpPr>
            <a:spLocks noGrp="1"/>
          </p:cNvSpPr>
          <p:nvPr>
            <p:ph/>
          </p:nvPr>
        </p:nvSpPr>
        <p:spPr>
          <a:xfrm>
            <a:off x="4343040" y="1219320"/>
            <a:ext cx="434340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current pix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 = pixelArray[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hange the blue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B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setBlue((int) (value * 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hange the green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Gre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setGreen((int) (value * 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ment the 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makeSunset</a:t>
            </a:r>
            <a:endParaRPr b="0" lang="en-US" sz="3600" spc="-1" strike="noStrike">
              <a:solidFill>
                <a:srgbClr val="333399"/>
              </a:solidFill>
              <a:latin typeface="Arial"/>
            </a:endParaRPr>
          </a:p>
        </p:txBody>
      </p:sp>
      <p:sp>
        <p:nvSpPr>
          <p:cNvPr id="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file =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intro-prog-java/mediasources/beach.jp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pictureObj = new Picture(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expl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makeSun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expl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Loops</a:t>
            </a:r>
            <a:endParaRPr b="0" lang="en-US" sz="3600" spc="-1" strike="noStrike">
              <a:solidFill>
                <a:srgbClr val="333399"/>
              </a:solidFill>
              <a:latin typeface="Arial"/>
            </a:endParaRPr>
          </a:p>
        </p:txBody>
      </p:sp>
      <p:sp>
        <p:nvSpPr>
          <p:cNvPr id="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like shortcu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those that reduce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ean less typ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been using a while loop with an index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to declare the index variable and initialize it before the loo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et this there will be a compiler erro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to increment the index in the loo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et this it will be an infinite loop</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ortcut for this is a For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Loop Syntax</a:t>
            </a:r>
            <a:endParaRPr b="0" lang="en-US" sz="3600" spc="-1" strike="noStrike">
              <a:solidFill>
                <a:srgbClr val="333399"/>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itialization area; continuation test; change ar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ation area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variables and initialize the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ation te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rue do body of lo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alse jump to next statement after the loo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re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loop variabl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or decremen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181480" y="1752480"/>
            <a:ext cx="350532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105520" y="2286000"/>
            <a:ext cx="1447560" cy="45720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80880" y="1752480"/>
            <a:ext cx="3353040" cy="7621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14400" y="4876920"/>
            <a:ext cx="1600200" cy="53316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334120" y="1295280"/>
            <a:ext cx="11430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04920" y="1219320"/>
            <a:ext cx="2666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arison of While and For Loop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index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dex &lt; pixelArray.leng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t i=0;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lt; pixelArray.length;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ement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
          <p:cNvSpPr/>
          <p:nvPr/>
        </p:nvSpPr>
        <p:spPr>
          <a:xfrm>
            <a:off x="2590920" y="1523880"/>
            <a:ext cx="2819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 name=""/>
          <p:cNvSpPr/>
          <p:nvPr/>
        </p:nvSpPr>
        <p:spPr>
          <a:xfrm flipV="1">
            <a:off x="2514600" y="2057400"/>
            <a:ext cx="579132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59Z</dcterms:modified>
  <cp:revision>2132</cp:revision>
  <dc:subject/>
  <dc:title>Summer Institute for Computing Education</dc:title>
</cp:coreProperties>
</file>