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and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 </a:t>
            </a:r>
            <a:fld id="{6F2830F1-6B46-4A38-B4D0-37257D018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more reusable method add parameters for the top left x, top left y, and width of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nt names are guaranteed to exi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ve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og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currStyle = g.getStyle(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get the current font style as 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currSize = g.getSize(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get the current font size as 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currName = g.getName(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get font name as a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currFamily = g.getFamily(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get font’s family name as a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ers often do this for copyright.  To make this method more reusable add the color, font, and y position as parameters to this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olygon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 currPolygon = new Polygo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Polygon.addPoint(x,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 currPolygon = new Polygon(xArray, yArray, numPoint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losed polygon make sure the first and last points ar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ixels that can be displayed is the resolution of the display.  Common resolutions are 1024 by 768, and 1280 by 10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835-5B3F-4B43-ADC3-D2576126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FCC-BA0F-493B-85D2-8E1C01FD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BCB-3DD2-42F9-A9C7-70EED5B7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571-127D-4D4C-ACAA-D0891AC3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7E1-4B38-4117-9FEA-3A7210DA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9B4-3979-4187-871E-CB9B85CA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957-CB83-4C76-A6F2-8D365790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CC7-927A-4C85-A7E6-4B5F781D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998-6C0D-4D97-9988-7E268BE9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D9F-EB39-4EB7-BE8A-6490D279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7EA-562D-4234-B51F-7612BF7F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970-7F6E-40BD-997E-3BA5FEEE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B52B-0DA3-4469-B077-FBBBF1CA0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in Java – part 1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 Circle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00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to add a yellow sun to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with beach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file = FileChooser.getMediaPath(“beach.jpg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drawSu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new image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ctureOb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writ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038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orking with Fon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font object with the font name, style, and poi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labelFont = new Font(“TimesRoman”, Font.BOLD, 2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normalFont = new Font(“Helvetica”,Font.PLAIN, 1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current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bj.setFont(labelFo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fo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bj.getStyle(), g.getSize(), g.getName(), g.get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orking with String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raw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bj.drawString(“test”,leftX,baselin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ontMetrics class for draw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Metrics currFontMetrics = g.getFontMetr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aselineY = currFontMetrics.getHeight(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FontMetrics.getDesc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width = currFontMetrics.stringWidth(“test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76400" y="51055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6400" y="5533920"/>
            <a:ext cx="5181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76400" y="564048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57680" y="499284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86280" y="45266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95520" y="4924440"/>
            <a:ext cx="3808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8520" y="56584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95520" y="553356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77880" y="50299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83520" y="4923360"/>
            <a:ext cx="260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05440" y="4973760"/>
            <a:ext cx="0" cy="66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14760" y="56584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654520" y="5579640"/>
            <a:ext cx="689040" cy="25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5440" y="43664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7400" y="4676760"/>
            <a:ext cx="244440" cy="63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1280" y="45108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555880" y="4632480"/>
            <a:ext cx="879480" cy="44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dd a String to a Picture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257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method drawString that will add some text to a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olor to draw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font to use when drawing the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string near the bottom left of th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time create another method that takes a string and y value and centers the string in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file = FileChooser.getMediaPath(“kitten2.jpg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drawString(“Barbara Ericso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26002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Lines and Polygon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drawLine(x1,y1,x2,y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d Poly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j.drawPolygon(xArray,yArray,numPoint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j.drawPolygon(currPolyg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Poly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j.fillPolygon(xArray, yArray, numPoint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j.fillPolygon(currPolyg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97640" y="1509840"/>
            <a:ext cx="157320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2666880"/>
            <a:ext cx="706320" cy="96696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4060800"/>
            <a:ext cx="706320" cy="9669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70520" y="15638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,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40680" y="19051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,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Lines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(drawX) for adding two crossed lines to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pass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one line at the top left corner of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t at the bottom right corner of the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the other line at the bottom left of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t at the top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test it with barbar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10240" y="2271600"/>
            <a:ext cx="2114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raw by changing the color of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you can use java.awt.Graphics to do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Graphics object from a Pictur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graphic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picture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etGraph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c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.setColor(Color.RE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some simple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.drawLine(x1,y1,x2,y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.drawOval(x1,y1,width,heigh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.drawString(“string to draw”,leftX,baseli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hange pixel colors to draw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the java.awt.Graphics class to do simple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draw simple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draw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on a Pictur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we want to draw something on a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drawing a grid of lines on top of the pictu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just set the pixels to black to make up the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uld add vertical lines every 2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x = 20, x &lt; width, x +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y= 0, y &lt; height, y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uld add horizontal lines every 2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y = 20, y &lt; height, y+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x=0, x &lt; width, x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Lines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5867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drawGrid to draw horizontal and vertical lines on the current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 every 20 pixels in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est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ile = FileChooser.getMediaPath(“barbara.jpg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drawGri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1143000"/>
            <a:ext cx="2114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Other Shap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draw a circle on a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draw a string of charac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till would need to set the pixel colors of certain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pix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a way of doing these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Graphic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knows how to draw and fill simple shapes and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raw on a pictur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etting the graphics object from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ctureO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WT Graphics Cla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of the Graphics class in the java.awt package let you pa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colo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ome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s, Rectangles, Lines, Polygons,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s drawn on top of other shapes will cove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font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some letters (str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5120" y="1219320"/>
            <a:ext cx="35845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orking with 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 new col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lor(redValue,greenValue,blue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predefined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, green, blue, black, yellow, gray, magenta, cyan, pink,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these do: Color.red or Color.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to import java.awt.*; or java.awt.Co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current drawing color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phics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setColor(colorOb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current drawing color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currColor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phics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etCol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aphics Environmen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2160" y="25902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124080"/>
            <a:ext cx="5562720" cy="259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0 is at the top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ncreases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increases going down th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0040" y="2851200"/>
            <a:ext cx="5264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57160" y="259020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28880" y="3110040"/>
            <a:ext cx="0" cy="230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960" y="540936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are often positioned by their top left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units are measured in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1320" y="56872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,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883120" y="1865160"/>
            <a:ext cx="1828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Circles and Ellips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drawOval(x,y,width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fillOval(x,y,wid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e x and y of the upper left corner of the enclosing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point on the circle or el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e width and height of the enclosing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a circle use the same value for the width and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83120" y="1865160"/>
            <a:ext cx="18288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39760" y="1371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2240" y="171288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3320" y="32734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78760" y="3465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883120" y="3465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1720" y="2438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349960" y="186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9960" y="2855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3886200"/>
            <a:ext cx="18288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6-03T12:18:21Z</dcterms:modified>
  <cp:revision>1932</cp:revision>
  <dc:subject/>
  <dc:title>Summer Institute for Computing Education</dc:title>
</cp:coreProperties>
</file>