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and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 </a:t>
            </a:r>
            <a:fld id="{0E8995F9-F7B7-4490-8FE0-5FDC3025B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java.sun.com/docs/books/tutorial/2d/ for the tutorial on 2d graphics from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d created a general copy method that copied a picture to a x and y location in the current picture but we had to copy all the pixels ourselves.  But, there is a method that will do this for us in both Graphics and Graphics2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d created a general copy method that copied a picture to a x and y location in the current picture but we had to copy all the pixels ourselves.  But, there is a method that will do this for us in both Graphics and Graphics2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690480" y="324000"/>
            <a:ext cx="5500800" cy="41256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35040" y="4865400"/>
            <a:ext cx="5602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left x and y in the ovals and arcs are for the top left corner of the bounding rectang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cAngle is the amount to add to the startAngle to get the end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690480" y="324000"/>
            <a:ext cx="5500800" cy="41256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35040" y="4865400"/>
            <a:ext cx="5602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LeftX and topLeftY are the coordinates of the top left point of the enclosing rectangle for the rounded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cWidth and arcHeight in the rounded rectangle are the width and height of the oval that creates the rounded part of the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raw a rectangle in the background color (clear the are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clearRect(topLeftX,topLeftY,width,heigh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raw a 3-d rectangle (looks like a but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draw3DRect(topLeftX, TopLeftY,width,height,isRaise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fill3DRect(topLeftX,TopLeftY,width,height,isRaise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is be a class method or object meth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drawing a series of filled ov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F209-085D-473C-AD52-52935F36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06F-4E3F-4864-AC50-47363F85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F34-580F-4BBC-AFB9-4F3EAF31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B5B-7B28-4499-BB79-30D4180F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FD5-4CCC-4378-BF36-56A1B940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DF51-65B3-4B9E-AA70-22B6710E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7CA-F1E1-4515-8F38-9FB62A15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0A8-DE14-48F4-A69A-F01C61E6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6CB-D48B-4FC7-95C4-BF224348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38F-0646-4182-B41E-9A9DDB35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8E5-07C1-41AE-9EF8-C9FA8B67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01E-45FA-437B-8730-1DB52E30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8D42-6839-4009-B25C-AC1326190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in Java – part 2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Java 2D Graphics – java.aw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drawing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object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drawOval() or fillOval() you create a Ellipse2D object and ask a 2d graphics object to draw or fill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metric shapes are in the java.awt.geom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different types of bru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thickness, dashed line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cubic curves and general 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of gradients and tex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, rotate, scale and shear text and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composite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Java 2D Demo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consol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directory to C:\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d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demo\jfc\Java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the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–jar Java2Demo.j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urce code is inC:\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d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demo\jfc\Java2D\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15424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ow To Use Java 2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t the Graphics class to Graphics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s2D g2 = (Graphics2D) gOb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the stroke if desired (type of 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setStroke(new BasicStroke(widthAsFloa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 Color, GradientPaint, or TexturePa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setPaint(Color.b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setPaint(blueToPurpleGradie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setPaint(textur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geometric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2D line2D = new Line2D.Double(0.0,0.0,100.0,100.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the outline of a geometric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draw(line2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a geometric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fill(rectangle2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raphics2D inherits from Graphic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029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s basic drawing ability from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more advanced drawing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1371600"/>
            <a:ext cx="12193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2209680"/>
            <a:ext cx="16765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722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01956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0199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2889360"/>
            <a:ext cx="64008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Lines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new method (drawWideX) for adding two wide crossed lines to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a passed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a passed line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the stroke to make the lines thi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setStroke(new BasicStroke(width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the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use redMotorcycle.jpg to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070000"/>
            <a:ext cx="40384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sing a Graphics Object to Copy an Imag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void copy(Picture source, int x, int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get the graphics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g = this.getGraphics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copy th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drawImage(source.getImage(),x,y,nul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sing Graphics2D to Copy an Imag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void copy2D(Picture source, int x, int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get the graphics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g = this.getGraphics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g2 = (Graphics2D) 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copy th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2.drawImage(source.getImage(),x,y,nul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esting the Copy Metho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1 = new Picture(FileChooser.getMediaPath("beach.jpg"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2 = new Picture(FileChooser.getMediaPath("turtle.jpg"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.copy2D(p2,194,30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00600" y="3505320"/>
            <a:ext cx="28764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the original Graphics class for simple 2d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, rectangles, ovals, polygons, strings,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the Graphics2D class for more advanced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of paint brush, paint geometric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2D inherits from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it can do the same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adds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raw more simple shapes with java.awt.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mapped pictures versus vector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a java.awt.Graphics2D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onvert the Graphics class to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et the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et the p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et the stroke (paint bru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reate the object to be pai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paint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Arc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d 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drawArc(topLeftX, topLeftY, width, height, startAngle, arcAng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d 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fillArc((topLeftX, topLeftY, width, height, startAngle, arcAng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58640" y="2743200"/>
            <a:ext cx="779760" cy="83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118200" y="3425040"/>
            <a:ext cx="86976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Rectangl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d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drawRect(topLeftX, topLeftY, width, heigh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d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fillRect(topLeftX,topLeftY,width,heigh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d Rounded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drawRoundRect(topLeftX,topLeftY,width,height,arcWidth,arcHeigh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d Rounded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fillRoundRect(topLeftX,topLeftY,width,height,arcWidth,arcHeigh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3920" y="1573200"/>
            <a:ext cx="1068480" cy="44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03920" y="2576520"/>
            <a:ext cx="1068480" cy="4478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03920" y="3622680"/>
            <a:ext cx="106848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3920" y="4656240"/>
            <a:ext cx="1068480" cy="447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on a Blank Pictur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make pictures from the “blank”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have all white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0x480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inX95in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create a “blank” picture with a width and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also have all white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blankPicture = new Picture(width,heigh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 a Picture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method that will draw a simpl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t least one rect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t least one poly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t least one 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t least one a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1981080"/>
            <a:ext cx="3124080" cy="2819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2743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2743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3429000"/>
            <a:ext cx="60984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238080" y="3809520"/>
            <a:ext cx="7606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1" y="8267"/>
                </a:moveTo>
                <a:arcTo wR="10800" hR="10800" stAng="-9986266" swAng="9986266"/>
                <a:lnTo>
                  <a:pt x="10800" y="10800"/>
                </a:lnTo>
                <a:close/>
              </a:path>
              <a:path fill="none" w="21600" h="21600">
                <a:moveTo>
                  <a:pt x="301" y="8267"/>
                </a:moveTo>
                <a:arcTo wR="10800" hR="10800" stAng="-9986266" swAng="998626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6520800">
            <a:off x="6224400" y="4748040"/>
            <a:ext cx="962280" cy="914400"/>
          </a:xfrm>
          <a:prstGeom prst="pentagon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itmapped Versus Vector Graphic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been doing bitmapped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ing the color of each pixel in th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just wrote a method that drew a simpl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smaller the program or the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pplications use vector graphics which are programs that produce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Postscript, Flash, and Auto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: smaller, easy to change, can be sca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cision Drawing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draw a stack of filled rectangles starting from the lightest one at the bottom right and the darkest one at the top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10 pixels between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asy with drawing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77040" y="248112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 Filled Rectangles Metho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drawFilledRectangle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 g = this.getGraphic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color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25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i = 25; i &gt; 0; i-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= new Color(i * 10, i * 5, 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setColor(col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fillRect(0,0,i*10,i*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6-28T03:30:05Z</dcterms:modified>
  <cp:revision>1935</cp:revision>
  <dc:subject/>
  <dc:title>Summer Institute for Computing Education</dc:title>
</cp:coreProperties>
</file>