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14600" y="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Media Computation Java, and DrJ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3 - </a:t>
            </a:r>
            <a:fld id="{93EC112D-6F86-4AA1-BE9B-933DCF6C1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get the class object that represents the class use object.getClass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check if an object is an instance of a class use instanceof(class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ctually an array of Method objects that holds the methods for a class.  There is also an array of Field objects which describes the fields in the c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vention is the usual way of doing something.  Java code will compile if you don’t follow these conventions but it will be hard for other programmers to understand you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erence between the two is that println will print the value of the variable or expression and then move to the next lin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.out is a way to access the class variable called “out” in the System c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.println() is sending the println() message to the “out”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does matter in Java.  System.out.println must start with an uppercase 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on the console tab and see the outp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same above with a semicolon at the end.  In Java a semicolon shows the end of a stat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compiler sees double quotes it recognizes the characters as part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 methods can also be invoked by sending them as a message to an object since an object has a link to its c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racter class is a wrapper class for char values.  It also contains some static (class) meth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80C1-0899-448A-A6E3-35D855A88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7B29-994C-4A0F-9244-711B78CEC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2DCC-B0DD-4A57-BDB9-BF72A3262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1A8B-CDB6-4501-BD1A-206E79880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B8E3-506C-4661-B7A5-0B558BCAA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C6F8-29DF-485C-9996-E6D8C97E8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C62D-6516-40B9-BB0D-BA27F4A40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3A40-77EA-4388-89A0-826ADC568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8520-B622-4239-92E4-36354A55C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4112-07D0-4CF8-A7C7-55B55E09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EFA0-607E-460A-8EE4-534C2D02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095D-47DC-4C7C-AE55-BF73BA08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7109-4104-4E0D-B8DD-DFC3AD0F4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990720"/>
            <a:ext cx="800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Introduction to Java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art 2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b Eric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essage Always Have Parenthesi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tell that out.println() is sending a mess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of the 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ssages always have (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if there are no parameters (argu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are sending data along with a message it goes inside the parenthe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d by com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h.min(3,4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mmon Error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d you make any mistakes when you typed in the examp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use the wrong case it won’t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math.abs(-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ror: Undefined class 'math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misspell something it won’t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Mat.abs(-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ror: Undefined class 'Mat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Math.ab(-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ror: No 'ab' method in 'java.lang.Math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up arrow key in DrJava to bring up the previous statement and fix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"Hi" is a String Objec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piler turns literal strings into string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s of the String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package java.l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 methods are invoked by sending a mess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the same name as the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me type, number, and order of input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the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PI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lasses defined as part of the Java language are documented in the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java.sun.com/j2se/1.5.0/docs/api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documentation for the following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 and M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documentation for the methods used in the previous exerc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out some other methods for these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Java Packag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groups related classes into pack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Pack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.l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s basic classes for the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, Math, Object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s classes for input and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.aw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s basic user interface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x.s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s more advanced user interface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ass Methods versus Object Method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API documentation how can you tell which are class methods and which are object metho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for the keywor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the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t has the keyword static then it is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re is no keyword static then it is an object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What do Objects Look Like?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s are created with space for thei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s have a reference to the object that represents the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 of the class “Clas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952880" y="3657600"/>
            <a:ext cx="3048120" cy="2133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24852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419720" y="1600200"/>
            <a:ext cx="213336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629400" y="1600200"/>
            <a:ext cx="213372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0" y="1219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143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3886200"/>
            <a:ext cx="28954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= Foo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lds = Name, 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s = getName, setName, getPrice, setPrice, getCal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32767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d :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190512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= “Fri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ce = 1.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48320" y="12193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s: 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81680" y="12193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ffles: 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05720" y="190512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=“Waffl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ce = 2.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Java is Case Sensitiv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programming languages are case sen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ing tha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n’t the same a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u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n’t the same a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Java primitive types are all lower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uble, float, in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names start with an uppercase l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String and System are the names of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Java Naming Convention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Jav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lass names start with an uppercase l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, BufferedImage,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other names start with lowercase letters but uppercase the first letter of each additional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ture, fileName, thisIsALong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Identifying Classes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0769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of these are primitive types, and which are the names of class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earning Goal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at a conceptual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you print outp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you represent tex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you invoke object and class metho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you know what methods a class h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print out things using System.out.println(expression);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.out.print(expressio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represent text using String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pairs of double quo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 is a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package java.l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look up methods in the 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invoke methods on a string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Hi".toLowerCas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methods can be executed using the class name “dot” method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h.min(3,4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ethod is a class method if it has keyword “static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rinting Output to the Consol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things you often want to do in a program is output the value of some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Java the way to print to the console is to u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.out.println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print out the value of the thing in the parentheses and a new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.out.print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rint just the thing in the parentheses without a new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 Semicolon (;) ends a Statemen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programs are made up of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sentences in Eng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statements end in a semicolon not a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eriod is used to send a message to an ob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.ou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printl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access data in the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printl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Java’s interaction pane prints the result of statements without a semicol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not the result of statements with a semicol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ystem.out.println(); to force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unctuation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urse was difficult it required five different tex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that is is that that is not is 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was so happy, I could have jumped for jo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louds were slowly gathering, the leaves were shaking as the wind blew strong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nsole Output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stem.out.println(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print the results of expression to the cons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.out.println(3 * 28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.out.println(14 – 7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.out.println(10 / 2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.out.println(128 + 234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.out.println("Hi" + "There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.out.println("128 + 234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us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stem.out.print(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st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differ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tring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has a type called: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ring is an object that has a sequence of characters in Uni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can have no characters (the null string ""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can have many charac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This is one long string with spaces in it. 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in a string will be printed out as it was ent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 math operations “128 + 234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knows how to add st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returns a new string with the characters of the second string after the characters of the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no added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ethod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es in Java define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ipes or functions f(x)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take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produce an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 as a message to an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icitly passed the current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 as a message to a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ethod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DrJava’s interaction pane try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HI".toLowerCas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This is a string".indexOf("is"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   This is ".trim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h.abs(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h.abs(-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h.min(3,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.getNumericValue('A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9:23:22Z</dcterms:created>
  <dc:creator>Barbara Jane Ericson</dc:creator>
  <dc:description/>
  <dc:language>en-US</dc:language>
  <cp:lastModifiedBy>Barbara J. Ericson</cp:lastModifiedBy>
  <dcterms:modified xsi:type="dcterms:W3CDTF">2006-05-25T14:27:36Z</dcterms:modified>
  <cp:revision>1485</cp:revision>
  <dc:subject/>
  <dc:title>Summer Institute for Computing Education</dc:title>
</cp:coreProperties>
</file>