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E65-FC5D-409A-8E0B-2546333F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1FB-BE07-46C7-B1DD-4B509622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96B-FA27-46A4-B58B-6C446498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B76-8FA8-4384-B8E5-93F79DE1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79B-1E2C-473E-AD8F-3A32D8F5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4BA-DB18-4289-8122-D9BC50AD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546-3D38-4854-8072-7C754799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719-EFC6-480D-AE20-6C5644B2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CCC-C37F-4AE8-B908-A89EE6E7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3C8-8E1B-4E73-870E-AFB85BB4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824-A73B-4863-A274-BA4D6F1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354-1823-4A28-9943-402E0556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6E04-2D77-440E-B6DE-B434810C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the Color with a 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lighte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lor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 (x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x &lt; this.getWidth(); x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y &lt; this.getHeight(); y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pixel at the x and y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Obj = pixelObj.getCol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a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Obj = colorObj.bright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pixel color to the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the Lighte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nteractions p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lighte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2895480" cy="235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895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o Nested Loop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method clearBlue() to use a nested for loop to loop through all the pix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thod again to check that it still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blue values are all 0 using pictureObj.explo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1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dimensional array has columns and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ested loops to work with 2-d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oop for the x direction and one for the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x = 0; x &lt; this.getWidth(); x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y = 0; y &lt; this.getHeight(); y+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two-dimensional ar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get the pixel for a x and y lo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use nested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vert a single for loop to a nested for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a two-dimensional array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xels in a picture are really stored in a two-dimensional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ixel has a x value (horizontal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ixel has a y value (vertical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Obj.getPixel(x,y) returns the pixel at tha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274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91120" y="194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712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352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 Two-Dimensional Array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treet is in D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or mi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 at a theater or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C seat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75440" y="3747960"/>
            <a:ext cx="278424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95840" y="1219320"/>
            <a:ext cx="214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get all the pixels in a picture using their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left to right and top to bot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0, x=1 and y=0, x=2 and y=0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1, x=1 and y=1, x=2 and y=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2, x=1 and y=2, x=2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have one loop insid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 loop counts y from 0 to height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ner loop counts x from 0 to width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ternative 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get all the pixels in a picture using their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op to bottom and left to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0, x=0 and y=1, x=0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1 and y=0, x=1 and y=1, x=1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 and y=0, x=2 and y=1, x=2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have one loop insid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 loop counts x to width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ner loop counts y from 0 to height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sted Loop Templ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o something to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ne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ternative Nested Loop Templ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 (x 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o something to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ne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the Color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x at 0 and loop while x &lt; the picture width (add 1 to x at the end of each lo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y at 0 and loop while y &lt; the picture height (add 1 to y at the end of each l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at this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olor at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en (brighten) th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for the pixel to the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18:18:08Z</dcterms:modified>
  <cp:revision>2163</cp:revision>
  <dc:subject/>
  <dc:title>Summer Institute for Computing Education</dc:title>
</cp:coreProperties>
</file>