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ulating Pictures, Arrays, and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 - </a:t>
            </a:r>
            <a:fld id="{0CB9A9B5-C9AE-4B9A-BBD0-4FDE0FD46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picture explorer to check that the red values where reduced by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clicking on an error in the Compiler Output pane will highlight the statement that caused the error and change the definitions pane to show you the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use x += y as a shortcut for x = x + y, x-=y for x = x – y, x*=y for x=x*y, and x/=y for x = x /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ems in blue are what is different from the for-each loop ve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clare items that we will need in the loop before the loop so that new ones don't get created each time through the lo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vadoc is a utility that comes with the JDK for creating html documentation from your source code (*.java fil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820-6BE1-47A7-98D8-091C3673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29F-FB85-43A5-A1A6-1E7C6FC1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B82-D700-482D-9461-4A79E8E2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314-6EDE-4AB7-9F12-259A70BA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845-3866-4162-9F63-F24EE5CE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F43-1959-4433-9D0C-224A14C8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696-11CE-44DD-A6A0-F87B28E9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2FD-47C2-4216-9219-DEF21437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FA9-1FDE-4AAF-A225-051569B1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479-71B6-40AA-9585-BAAE4271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8A7-A80A-48E5-AA9F-8B8EC627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AC3-4912-49DC-88B8-DA425B84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B4C8-8A6D-4BE4-9064-2D066F3BB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nipulating Pictures, Arrays, and Loop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rt 3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rease Red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method decreaseRed() to Picture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he last } which ends the class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th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ompile All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t by doing the following in the 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String fileName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C:/intro-prog-java/mediasources/caterpillar.jpg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Picture picture1 = new Picture(file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picture1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picture1.decreaseRe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picture1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reaseRed Method Resul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133800" cy="1428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4267080"/>
            <a:ext cx="3133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Multiplication by 0.5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have also multiplied the red value by 0.5 and then cast back to inte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= value * 0.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line that divided by 2 and try to compile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decreaseRe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oss of Precis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try the code on the previous slide you will get a compiler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loss of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mplaining about putting a double value into a int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fractional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8320" y="1857240"/>
            <a:ext cx="4038480" cy="1098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48320" y="4363920"/>
            <a:ext cx="403848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sting to Solve Loss of Precision Err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compile if we tell the compiler we know about the possible loss of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at it is inten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using a cast to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(int) (value * 0.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we cast the result of the multiplication back to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ing is forcing a value into 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ut Declarations Outside Loop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need a variable in a loop it is best to declare it before th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you are declaring a new variable each time through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 slower than just changing the value associated with the var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languages you must declare all variables at the beginning of a method (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ava you can declare variables anywhere in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you declare them before you us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known in the block they are declar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hortcuts for Common Oper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gramming you often need to add one to a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= index +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use the short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++; or ++inde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ed to subtract 1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= index –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--; or -- inde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gorithm is a description of how to solv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implements an algorithm in 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ent is an explanation of your code to help people understan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are ignored by the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multiply by a floating point number you can’t put this in an integer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ess you cast to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declare variables before the body of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you will need in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algorith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pro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ranslate an algorithm to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com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you multiply by 0.5 instead of divide by 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mprove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nging from For-each to Whi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or-each loop something needs to keep track of the current pix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hange each time through th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re that we have gone through all of the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loop through all elements in an array by starting with index 0, then index 1, and so on till index (length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get the pixel at the current index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duce Red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array of Pixel objects from the current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a variable to hold the r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clare the index variable and set it 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clare a variable to refer to the current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op while index is less than the length of the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t the pixel at the index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current red value from the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current red value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red for the current pixel to the chang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rement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oop Algorithm to Co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write (code) the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while loop with a counter for the index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variable to refer to the current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while the index is less than the length of the arr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index &lt; pixelArray.leng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current pixel from the array of pixels for the curren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 = pixelArray[index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oop Algorithm to Code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red value at the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= pixelObj.getRe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the red value b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= value /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pixel r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.setRed(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ne to (increment) the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= index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rease Red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648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decreaseRed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[] pixelArray = this.getPixel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valu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all the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(index &lt; pixelArray.leng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 = pixelArray[index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2520" y="1219320"/>
            <a:ext cx="3505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get the r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pixelObj.getRe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decrease the r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value /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he pixel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.setRed(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increment th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= index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thod Nam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add this new method to Picture.java and compile will we get an err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 two methods with the same name and both take no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have two methods with the same 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the parameter list is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name one of them 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me the first one to decreaseRedFo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are explanations of your code to help people understand your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ignored by the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kinds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a comment that lasts to the end of th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 a comment that can take up several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a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* a Javadoc comment that is used to cre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tml documentation of your code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4:56:31Z</dcterms:modified>
  <cp:revision>2173</cp:revision>
  <dc:subject/>
  <dc:title>Summer Institute for Computing Education</dc:title>
</cp:coreProperties>
</file>