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3"/>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
          <p:cNvSpPr/>
          <p:nvPr/>
        </p:nvSpPr>
        <p:spPr>
          <a:xfrm>
            <a:off x="2514600" y="0"/>
            <a:ext cx="43434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Media Computation Java, and DrJava</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 - </a:t>
            </a:r>
            <a:fld id="{40BFC49F-3352-458C-A6CF-FE9F3BF90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don’t need to declare a variable each time we use it.  We only need to give the type the first time we mention the name.  In fact, the code won’t compile if you try to declare two variables with the same nam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howing the picture tammy.jpg.  Tammy is a Computer Science student at Georgia Te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stem.out.println(expression) to see the value of the thing referred to by the vari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cyh.com/cyh/kids/detail.html?topic_id=1484 and http://library.thinkquest.org/C001464/cgi-bin/view.cgi?show_item=eye_function_slight for an explanation of vi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phys.ufl.edu/~avery/course/3400/vision/rod_cone_microscope.gif for a picture of rods and c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harmsy.freeuk.com/headless.html and http://www.exploratorium.edu/seeing/exhibits/index.html for some optical illu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library.thinkquest.org/C001464/cgi-bin/main.cgi? Fo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lite.bu.edu/lite1/color/mix/mixmac.html for an applet that lets you mix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sciencenetlinks.com/tools.cfm?DocID=41&amp;Grade=6-8 for an explanation of why paint primary colors are different that light primary col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gure out why the colors range from 0 to 255?  If I tell you that each color is stored in 8 bits does that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up a CD and change the angle of it with the light.  What colors do you s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pickAColor is an object method or a class method?  How can you t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on how digital camera work see http://travel.howstuffworks.com/digital-camera.ht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computer.howstuffworks.com/monitor.htm for more information on how computer monitors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ntertainment.howstuffworks.com/tv3.htm for information on CRT de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lectronics.howstuffworks.com/lcd.htm for information on LCD de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s are often digitized as 24 bits per pixel, 8 bits for red, 8 for green, and 8 for blue.  Thus the intensity of the red can be from 0 to 255 since 8 bits ar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BBA7D-621C-44BB-92E1-EB89C5736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44ABF-1B0A-42B0-8F01-677BBC95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2644E-5ECB-49E4-AA6C-5ABF07396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4A746-57A7-4D63-8940-B516F9A78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4BD30-268A-4639-AE97-8D37C312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1D3F-4B8A-4D60-9D70-309518C92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6D4B9-6311-44B5-AB95-CB17657F3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F8387-436E-4EA7-BAAB-7899BE33F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54F67-D223-496E-9595-E15173DF0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7C1E-8D8C-4ED6-B0B7-7A6BCBCB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AA1E1-3C09-447A-8D7D-775F56FDE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D207-DBBB-40D9-A64A-925A20E73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AE3A-7ACA-4E51-B68F-5E1F4B1C9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troduction to Media Computation</a:t>
            </a:r>
            <a:endParaRPr b="0" lang="en-US" sz="3600" spc="-1" strike="noStrike">
              <a:solidFill>
                <a:srgbClr val="333399"/>
              </a:solidFill>
              <a:latin typeface="Arial"/>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6</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gital Pictures</a:t>
            </a:r>
            <a:endParaRPr b="0" lang="en-US" sz="3600" spc="-1" strike="noStrike">
              <a:solidFill>
                <a:srgbClr val="333399"/>
              </a:solidFill>
              <a:latin typeface="Arial"/>
            </a:endParaRPr>
          </a:p>
        </p:txBody>
      </p:sp>
      <p:sp>
        <p:nvSpPr>
          <p:cNvPr id="79" name="PlaceHolder 2"/>
          <p:cNvSpPr>
            <a:spLocks noGrp="1"/>
          </p:cNvSpPr>
          <p:nvPr>
            <p:ph/>
          </p:nvPr>
        </p:nvSpPr>
        <p:spPr>
          <a:xfrm>
            <a:off x="456840" y="1219320"/>
            <a:ext cx="434340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 the intensity of the red, green, and blue colors at each pix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as a bunch of number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bits for red, 8 bits for green, 8 bits for blu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nearly 1 million bytes to store a 640 x 480 pictu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3 million bytes to store an image from a 1 megapixel (million pixel) camera</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ed as red, green, and blue colors on the computer displa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them close togeth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brain sees a smooth color image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 descr=""/>
          <p:cNvPicPr/>
          <p:nvPr/>
        </p:nvPicPr>
        <p:blipFill>
          <a:blip r:embed="rId1"/>
          <a:stretch/>
        </p:blipFill>
        <p:spPr>
          <a:xfrm>
            <a:off x="4881600" y="1219320"/>
            <a:ext cx="3570120" cy="2376360"/>
          </a:xfrm>
          <a:prstGeom prst="rect">
            <a:avLst/>
          </a:prstGeom>
          <a:ln w="0">
            <a:noFill/>
          </a:ln>
        </p:spPr>
      </p:pic>
      <p:pic>
        <p:nvPicPr>
          <p:cNvPr id="81" name="" descr=""/>
          <p:cNvPicPr/>
          <p:nvPr/>
        </p:nvPicPr>
        <p:blipFill>
          <a:blip r:embed="rId2"/>
          <a:stretch/>
        </p:blipFill>
        <p:spPr>
          <a:xfrm>
            <a:off x="5533920" y="3747960"/>
            <a:ext cx="2266920" cy="237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etting Started</a:t>
            </a:r>
            <a:endParaRPr b="0" lang="en-US" sz="3600" spc="-1" strike="noStrike">
              <a:solidFill>
                <a:srgbClr val="333399"/>
              </a:solidFill>
              <a:latin typeface="Arial"/>
            </a:endParaRPr>
          </a:p>
        </p:txBody>
      </p:sp>
      <p:sp>
        <p:nvSpPr>
          <p:cNvPr id="8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start with modifying and creating pic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colors in the pictu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ictures we will work with sou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ing volume, pitch, reversing, et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1219320" y="2971800"/>
            <a:ext cx="3209760" cy="1752480"/>
          </a:xfrm>
          <a:prstGeom prst="rect">
            <a:avLst/>
          </a:prstGeom>
          <a:ln w="0">
            <a:noFill/>
          </a:ln>
        </p:spPr>
      </p:pic>
      <p:pic>
        <p:nvPicPr>
          <p:cNvPr id="85" name="" descr=""/>
          <p:cNvPicPr/>
          <p:nvPr/>
        </p:nvPicPr>
        <p:blipFill>
          <a:blip r:embed="rId2"/>
          <a:stretch/>
        </p:blipFill>
        <p:spPr>
          <a:xfrm>
            <a:off x="4572000" y="2971800"/>
            <a:ext cx="320976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Picture Class</a:t>
            </a:r>
            <a:endParaRPr b="0" lang="en-US" sz="36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doing media manipulation easier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created a set of classes for you to us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ColorChooser, FileChooser, Pixel, etc</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not part of the Java langua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ere created at Georgia Tec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have added the directory that has these classes to your classpa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 when we worked with Turt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lls Java where to find the cl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 Picture Object</a:t>
            </a:r>
            <a:endParaRPr b="0" lang="en-US" sz="3600" spc="-1" strike="noStrike">
              <a:solidFill>
                <a:srgbClr val="333399"/>
              </a:solidFill>
              <a:latin typeface="Arial"/>
            </a:endParaRPr>
          </a:p>
        </p:txBody>
      </p:sp>
      <p:sp>
        <p:nvSpPr>
          <p:cNvPr id="8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picture object from a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he full name of the fi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use FilePicker.pickAFile() to get tha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method that returns the full file name as a String</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ask the Picture class to create the picture obje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data from the specified fil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icture(fileName)</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want to see the picture we have creat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ask the picture object to show itsel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Naming each Piece</a:t>
            </a:r>
            <a:endParaRPr b="0" lang="en-US" sz="3600" spc="-1" strike="noStrike">
              <a:solidFill>
                <a:srgbClr val="333399"/>
              </a:solidFill>
              <a:latin typeface="Arial"/>
            </a:endParaRPr>
          </a:p>
        </p:txBody>
      </p:sp>
      <p:sp>
        <p:nvSpPr>
          <p:cNvPr id="9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let’s pick a file name and save a reference to the resulting String object in a variable called fileNa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FileChooser.pickAFi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let’s create a Picture object and save a reference to it in a variable called pictureObj</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pictureObj = new Picture(fileNa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send the show() message to the picture obj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Obj.s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Naming Each Part</a:t>
            </a:r>
            <a:endParaRPr b="0" lang="en-US" sz="3600" spc="-1" strike="noStrike">
              <a:solidFill>
                <a:srgbClr val="333399"/>
              </a:solidFill>
              <a:latin typeface="Arial"/>
            </a:endParaRPr>
          </a:p>
        </p:txBody>
      </p:sp>
      <p:pic>
        <p:nvPicPr>
          <p:cNvPr id="93" name="" descr=""/>
          <p:cNvPicPr/>
          <p:nvPr/>
        </p:nvPicPr>
        <p:blipFill>
          <a:blip r:embed="rId1"/>
          <a:stretch/>
        </p:blipFill>
        <p:spPr>
          <a:xfrm>
            <a:off x="1300320" y="1219320"/>
            <a:ext cx="6543360" cy="490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ing it all at Once</a:t>
            </a:r>
            <a:endParaRPr b="0" lang="en-US" sz="3600" spc="-1" strike="noStrike">
              <a:solidFill>
                <a:srgbClr val="333399"/>
              </a:solidFill>
              <a:latin typeface="Arial"/>
            </a:endParaRPr>
          </a:p>
        </p:txBody>
      </p:sp>
      <p:sp>
        <p:nvSpPr>
          <p:cNvPr id="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reate a picture obje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assing it the result of using the FileChooser to pick a fi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n tell that picture object to show itsel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 one lin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icture(FileChooser.pickAFile()).sho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n you don’t have a way to refer to the file or picture agai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how Picture Exercise</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both ways of creating a picture object and showing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icture(FileChooser.pickAFile()).sh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do each piece one step at a time naming the result of each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FileChooser.pickAFi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fileNa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picture = new Picture(fileNa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pic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how();</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bstitution and Evaluation</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ogramming you c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literal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ame = “Barb”;</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variabl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myName = “Barb”;</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ame2 = myNam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expressio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3 = “Ba” + “rb”;</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ult of a method invoca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4 = student1.getNam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get substituted for variable names when expressions are evalu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computation can mean processing millions to billions of by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modern computers makes media computation possible even for beginn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ee combinations of red, green, and blue l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xel is a picture el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pictures store red, green, and blue values from 0 to 255 for each pixel in a pi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ick a file, create a picture object, and show it using:</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file = FileChooser.pickAFi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pictObj = new Picture(fi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Obj.sh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lev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edia comput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color vision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make colors with red, green, and blue ligh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digital cameras and computer displays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ix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show a picture from a file in Jav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Media Computation?</a:t>
            </a:r>
            <a:endParaRPr b="0" lang="en-US" sz="3600" spc="-1" strike="noStrike">
              <a:solidFill>
                <a:srgbClr val="333399"/>
              </a:solidFill>
              <a:latin typeface="Arial"/>
            </a:endParaRPr>
          </a:p>
        </p:txBody>
      </p:sp>
      <p:sp>
        <p:nvSpPr>
          <p:cNvPr id="5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el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frag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e fra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files and HTML pa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ed and storage capacity of modern computers makes this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for beginning students just learning to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es Color Vision Work?</a:t>
            </a:r>
            <a:endParaRPr b="0" lang="en-US" sz="3600" spc="-1" strike="noStrike">
              <a:solidFill>
                <a:srgbClr val="333399"/>
              </a:solidFill>
              <a:latin typeface="Arial"/>
            </a:endParaRPr>
          </a:p>
        </p:txBody>
      </p:sp>
      <p:sp>
        <p:nvSpPr>
          <p:cNvPr id="5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yes and brain work together to make sense of what we se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es in our eyes are what allow us to see in col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ods allow us to see black, white, and shades of gr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ones are sensitive to red, green, and blue ligh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ther colors are combinations of these</a:t>
            </a:r>
            <a:endParaRPr b="0" lang="en-US" sz="2000" spc="-1" strike="noStrike">
              <a:solidFill>
                <a:srgbClr val="000000"/>
              </a:solidFill>
              <a:latin typeface="Arial"/>
            </a:endParaRPr>
          </a:p>
        </p:txBody>
      </p:sp>
      <p:pic>
        <p:nvPicPr>
          <p:cNvPr id="56" name="" descr=""/>
          <p:cNvPicPr/>
          <p:nvPr/>
        </p:nvPicPr>
        <p:blipFill>
          <a:blip r:embed="rId1"/>
          <a:stretch/>
        </p:blipFill>
        <p:spPr>
          <a:xfrm>
            <a:off x="5715000" y="1219320"/>
            <a:ext cx="2070000" cy="1968480"/>
          </a:xfrm>
          <a:prstGeom prst="rect">
            <a:avLst/>
          </a:prstGeom>
          <a:ln w="0">
            <a:noFill/>
          </a:ln>
        </p:spPr>
      </p:pic>
      <p:pic>
        <p:nvPicPr>
          <p:cNvPr id="57" name="" descr=""/>
          <p:cNvPicPr/>
          <p:nvPr/>
        </p:nvPicPr>
        <p:blipFill>
          <a:blip r:embed="rId2"/>
          <a:stretch/>
        </p:blipFill>
        <p:spPr>
          <a:xfrm>
            <a:off x="5486400" y="3352680"/>
            <a:ext cx="2616120" cy="23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d, Green and Blue Light</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light is a combination of red, green, and bl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nsity red, green, and blue combin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is the absence of all ligh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d, green or blue l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ther colors are combina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red, green, and blu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ifferent intens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lor Exercise</a:t>
            </a:r>
            <a:endParaRPr b="0" lang="en-US" sz="3600" spc="-1" strike="noStrike">
              <a:solidFill>
                <a:srgbClr val="333399"/>
              </a:solidFill>
              <a:latin typeface="Arial"/>
            </a:endParaRPr>
          </a:p>
        </p:txBody>
      </p:sp>
      <p:sp>
        <p:nvSpPr>
          <p:cNvPr id="61" name="PlaceHolder 2"/>
          <p:cNvSpPr>
            <a:spLocks noGrp="1"/>
          </p:cNvSpPr>
          <p:nvPr>
            <p:ph/>
          </p:nvPr>
        </p:nvSpPr>
        <p:spPr>
          <a:xfrm>
            <a:off x="457200" y="1219320"/>
            <a:ext cx="4495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DrJav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eractions pane typ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Chooser.pickACol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RGB tab and move the sliders to change the intensity of red, green, and b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white, black, red, blue, green, yellow, violet, and orange</a:t>
            </a:r>
            <a:endParaRPr b="0" lang="en-US" sz="2400" spc="-1" strike="noStrike">
              <a:solidFill>
                <a:srgbClr val="000000"/>
              </a:solidFill>
              <a:latin typeface="Arial"/>
            </a:endParaRPr>
          </a:p>
        </p:txBody>
      </p:sp>
      <p:pic>
        <p:nvPicPr>
          <p:cNvPr id="62" name="" descr=""/>
          <p:cNvPicPr/>
          <p:nvPr/>
        </p:nvPicPr>
        <p:blipFill>
          <a:blip r:embed="rId1"/>
          <a:stretch/>
        </p:blipFill>
        <p:spPr>
          <a:xfrm>
            <a:off x="4952880" y="1523880"/>
            <a:ext cx="3581640" cy="33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 Digital Cameras Work?</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510552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red, green, and blue filters that capture the amount of each color at a pos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 of a gri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position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element or pix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0 x 480 is low resolu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 x 1200 is high resolu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pixels the better the pict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nlarge it without it looking grainy</a:t>
            </a:r>
            <a:endParaRPr b="0" lang="en-US" sz="2000" spc="-1" strike="noStrike">
              <a:solidFill>
                <a:srgbClr val="000000"/>
              </a:solidFill>
              <a:latin typeface="Arial"/>
            </a:endParaRPr>
          </a:p>
        </p:txBody>
      </p:sp>
      <p:pic>
        <p:nvPicPr>
          <p:cNvPr id="65" name="" descr=""/>
          <p:cNvPicPr/>
          <p:nvPr/>
        </p:nvPicPr>
        <p:blipFill>
          <a:blip r:embed="rId1"/>
          <a:stretch/>
        </p:blipFill>
        <p:spPr>
          <a:xfrm>
            <a:off x="6248520" y="1295280"/>
            <a:ext cx="1671480" cy="889200"/>
          </a:xfrm>
          <a:prstGeom prst="rect">
            <a:avLst/>
          </a:prstGeom>
          <a:ln w="0">
            <a:noFill/>
          </a:ln>
        </p:spPr>
      </p:pic>
      <p:pic>
        <p:nvPicPr>
          <p:cNvPr id="66" name="" descr=""/>
          <p:cNvPicPr/>
          <p:nvPr/>
        </p:nvPicPr>
        <p:blipFill>
          <a:blip r:embed="rId2"/>
          <a:stretch/>
        </p:blipFill>
        <p:spPr>
          <a:xfrm>
            <a:off x="6248520" y="4495680"/>
            <a:ext cx="1866960" cy="1228680"/>
          </a:xfrm>
          <a:prstGeom prst="rect">
            <a:avLst/>
          </a:prstGeom>
          <a:ln w="0">
            <a:noFill/>
          </a:ln>
        </p:spPr>
      </p:pic>
      <p:sp>
        <p:nvSpPr>
          <p:cNvPr id="67" name=""/>
          <p:cNvSpPr/>
          <p:nvPr/>
        </p:nvSpPr>
        <p:spPr>
          <a:xfrm>
            <a:off x="6172200" y="24382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391520" y="2438280"/>
            <a:ext cx="838080" cy="762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81680" y="3429000"/>
            <a:ext cx="838440" cy="762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 Computer Displays Work?</a:t>
            </a:r>
            <a:endParaRPr b="0" lang="en-US" sz="3600" spc="-1" strike="noStrike">
              <a:solidFill>
                <a:srgbClr val="333399"/>
              </a:solidFill>
              <a:latin typeface="Arial"/>
            </a:endParaRPr>
          </a:p>
        </p:txBody>
      </p:sp>
      <p:sp>
        <p:nvSpPr>
          <p:cNvPr id="7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play has pixels (picture ele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ixel has a red, green, and blue compon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 of red, green, and blue give the resulting col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is 0 red, 0 green and 0 bl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is 255 red, 255 green, 255 blu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5533920" y="1219320"/>
            <a:ext cx="2265480" cy="2376360"/>
          </a:xfrm>
          <a:prstGeom prst="rect">
            <a:avLst/>
          </a:prstGeom>
          <a:ln w="0">
            <a:noFill/>
          </a:ln>
        </p:spPr>
      </p:pic>
      <p:pic>
        <p:nvPicPr>
          <p:cNvPr id="73" name="" descr=""/>
          <p:cNvPicPr/>
          <p:nvPr/>
        </p:nvPicPr>
        <p:blipFill>
          <a:blip r:embed="rId2"/>
          <a:stretch/>
        </p:blipFill>
        <p:spPr>
          <a:xfrm>
            <a:off x="5499000" y="4056120"/>
            <a:ext cx="2335320" cy="17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s are made up of Pixels</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s record light at pix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s display pictures using pix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vision acuity helps us to see the discrete pixels as a smooth pi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blow up the picture we can see the pixel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 descr=""/>
          <p:cNvPicPr/>
          <p:nvPr/>
        </p:nvPicPr>
        <p:blipFill>
          <a:blip r:embed="rId1"/>
          <a:stretch/>
        </p:blipFill>
        <p:spPr>
          <a:xfrm>
            <a:off x="4648320" y="1704960"/>
            <a:ext cx="4038480" cy="1403280"/>
          </a:xfrm>
          <a:prstGeom prst="rect">
            <a:avLst/>
          </a:prstGeom>
          <a:ln w="0">
            <a:noFill/>
          </a:ln>
        </p:spPr>
      </p:pic>
      <p:pic>
        <p:nvPicPr>
          <p:cNvPr id="77" name="" descr=""/>
          <p:cNvPicPr/>
          <p:nvPr/>
        </p:nvPicPr>
        <p:blipFill>
          <a:blip r:embed="rId2"/>
          <a:stretch/>
        </p:blipFill>
        <p:spPr>
          <a:xfrm>
            <a:off x="5359320" y="3747960"/>
            <a:ext cx="2616120" cy="237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3T17:08:57Z</dcterms:modified>
  <cp:revision>1466</cp:revision>
  <dc:subject/>
  <dc:title>Summer Institute for Computing Education</dc:title>
</cp:coreProperties>
</file>