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B04-B023-454E-A898-4C071196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F7D-A5A2-463D-98D6-699899F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C70-DFD1-42DE-AB96-9E00DD50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1C4-5075-42E8-B31A-DC4E64B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2A8-6A9C-45C2-9CBA-44EE517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EFA-8D93-44C0-A8B5-02186B8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CF6-3529-464D-B901-F6CF39DC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2F9-6D31-4AFE-8CBE-ACBBF6A2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B93-3324-4CF4-9DEE-71A62F0D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A00-AE69-4D06-9F51-FE281AD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5BE-EC59-45C3-AAC4-626F9C2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C95-5529-4ED9-ABE7-2365FC4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B20-FE20-4C24-A124-0D3FED0B1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3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ult of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7051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copy the target to a different location in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startX and st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 that will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4122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872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87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503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2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0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7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28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240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240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2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4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to Posi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copyRobot to cop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 100 in 7inx95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7inx95in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copyRobo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593880" cy="48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rack of the sourceX, sourceY and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, initialize, and change more than one variable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 sourceX &lt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one picture to a location i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hange the start values for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clare, initialize and change several variables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 specified location in another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ck the source picture x and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target picture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a blank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targe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blank picture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Pictur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 picture to the 7 by 9.5 inch blank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pictur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source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+, target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+, targetY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 –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, targetY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using the 7inX95in.jpg file in the mediasources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“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is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12:31Z</dcterms:modified>
  <cp:revision>2163</cp:revision>
  <dc:subject/>
  <dc:title>Summer Institute for Computing Education</dc:title>
</cp:coreProperties>
</file>