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28E8F854-F5E8-43BD-B5D6-55671EA84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d conditional is only true when both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 conditional is true as long as either operand is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clusive or conditional is true only if one, but not both,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ditional operators &amp;&amp; and || are ‘short circuit’ operators.  They stop evaluation early when the result is obvious from evaluating the first oper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Sun’s tutorial on condi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.wikipedia.org/wiki/DeMorgan%27s_Law for information on DeMorgan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from foal.jpg in mediasources after doing edge detection with a limit of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4BB-7E4E-468D-9BBF-94D341DA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C48-F2D6-4EAF-8778-A91BF5D8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075-3817-41B7-BEF2-89C5098A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1EC-1EA6-4DF5-8364-96D71B38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367-21D0-4207-936D-382055A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747-737F-4E81-A24C-4AC13A6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641-310A-468C-A5E1-A25A182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EAE-3227-47A7-89CC-D047604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560-BDDF-40B7-BB31-6EBABBE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B9C-70F0-4F71-81BA-F0BFA00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C5B-B1E7-4C50-A2FF-F0B720C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DCF-5434-492A-A5D8-D7825CE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44E-6F30-425C-8481-596E3DE7A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eMorgan&apos;s_Law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2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And”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get soup, milk, bread, and yogurt at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items will you come home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clean your room and mop the floor in the kitchen and wash the di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asks do you need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a scoop of chocolate scoop and a scoop of van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coops of ice cream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Or”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help clean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lean the bathroom or the kitchen or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bs do you hav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get an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avors you can pick from are chocolate, vanilla, strawberry, or orange sher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lavors do you need to pick for a single sc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uth Tab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9320"/>
          <a:ext cx="8229600" cy="4906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re the following true?  When are they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either your room is clean or you did your home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t if both of these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several things are true -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&amp; (evaluation stops if the first item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at least one of several things are true -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| (evaluation stops if the first item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only one and only one of the things is true – Exclusiv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^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=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&amp;&amp; (And) and || (Or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a value is in a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ome value between 0 and 255 (inclu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alid pixel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lt;= 25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amp;&amp; x &lt;= 255 // in Java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gt;= 0 &amp;&amp; x &lt;= 255 //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f at least one of several things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black or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if either it is bla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two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simple edg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‘and’, ‘or’, ‘exclusive or’ and ‘not’ in a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e Morgan’s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t Conditional Opera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! To change the value to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true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false =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 conditional operator applied to a complex conditional chang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&amp;&amp; op2) = !op1 ||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|| op2) = !op1 &amp;&amp;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 Morgan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 Morgan’s Law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quivalent to the follo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&gt; 4 &amp;&amp; x &lt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&gt; 2 || y &lt;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2 &amp;&amp; y ==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!= 2 &amp;&amp; x !=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3 || x ==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== 2 || y &l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f and else if you have two possibilities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ondit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and’ to test for more than one thing being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or’ to test if at least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exclusive or’ to test that one and only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not’ to change the result from true to false and false to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pixels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average color for the current pixel and the pixel at the same x but y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distance between the two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stance is greater than some value turn the current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current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225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reas of high contr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loop from row = 0 to row = height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x = 0 to x =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y (top pix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(y + 1)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top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bottom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fference between the averages is over a pass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e if and else for two possibil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you want to do one thing if the expression is tr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different thing if it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2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&lt;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lt;128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gt;=128”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648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72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4160" y="2627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walk through a flowchart of a loop with a condit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666880"/>
            <a:ext cx="19051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unt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733920"/>
            <a:ext cx="2362320" cy="9144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&l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3840" y="4876920"/>
            <a:ext cx="1677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the 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2057400" cy="7617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e &l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581280"/>
            <a:ext cx="1904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p your hands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581280"/>
            <a:ext cx="17524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638680"/>
            <a:ext cx="17524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, "all done! And the value of 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9120" y="4800600"/>
            <a:ext cx="19468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76880" y="4456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8880" y="3809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440" y="6172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" y="3657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432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1840" y="316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91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638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edgeDetection that takes an input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black where the absolute value of the difference between that pixel and the below pixel is greater than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white where the absolute value of the difference between that pixel and the below pixel is less than or equal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has a getAverage() method that returns the average of the three colors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butterfly1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dgeDetection(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method for simple edg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compare the current pixel with the one to the right 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need to change the nested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get a different res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30:40Z</dcterms:modified>
  <cp:revision>1884</cp:revision>
  <dc:subject/>
  <dc:title>Summer Institute for Computing Education</dc:title>
</cp:coreProperties>
</file>