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A6E8C8D5-E749-4E82-8E22-D737D3AE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erage x numbers get the sum of all the numbers and then divide by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8E4-15A9-47FE-B0C2-F359860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989-4D3C-41C2-AC52-EF83036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048-D025-4AB4-A360-04206121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6AD-FF75-4665-B3C0-5A9830BE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742-E0D6-4E2C-A9F4-04177453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152-BAD0-4C9A-9440-482382B3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2A7-CF42-4F74-96FE-221552A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D2D-6E30-4888-B165-E4E170A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F33-EBA5-43DF-A177-E603546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BE5-4207-43D5-B91F-97EEE65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7C6-5686-4A29-B73A-1B9C3C7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345-31F1-4227-A331-931E67F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77D-7FE5-4FC8-8570-0CF70676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48280" y="2319480"/>
            <a:ext cx="323856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57160" y="2319480"/>
            <a:ext cx="32385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ceive blue to be darker than red, and 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when the same amount of light is ref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grayscale model should take this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green the highest (* 0.58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less (* 0.299)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the very least (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with Luminanc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meth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new algorithm for calculating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= (int) (red * 0.299 + green * 0.587 + blue 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 with 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all the colors in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egat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with (255 - red, 255 - green, 255 - 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 grayscal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tting the red, green, and blue to the sam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improve this by weighting the colors based on how we per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all the colors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negat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urn a picture in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just the grayscale based on how we perceive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ing an Im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turn a picture into a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hould become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,255,255 becomes 0,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hould become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,0 becomes 255,255,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urrent value from 255 for red, green, an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255 – current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255 – current blu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255 – current gree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back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negate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neg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dValue, blueValue, greenValu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Valu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's color pixelObj.setColo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lor(255 - red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green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blueValue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scale ranges from black to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, green, and blue valu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hange any color to gr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umber can we use for all three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verage th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 + green + blue)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+ 25 + 230) / 3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4478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5334120"/>
            <a:ext cx="4190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color values to the average of the origin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culate the average of the curre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redValue + greenValue + blueValue )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change the picture to gra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graysca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ntensity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        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mpute the average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ixelObj.getRed()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Blue()) /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 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setColor(new Color(intensity,intensity,intensity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grayscal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7:11Z</dcterms:modified>
  <cp:revision>2132</cp:revision>
  <dc:subject/>
  <dc:title>Summer Institute for Computing Education</dc:title>
</cp:coreProperties>
</file>