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1.wmf" ContentType="image/x-wmf"/>
  <Override PartName="/ppt/media/image26.png" ContentType="image/png"/>
  <Override PartName="/ppt/media/image16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0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4BB-E219-4D58-A0D0-1B0DEFB5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764-B0A2-4AAE-BC05-AF89EA86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F0C-3010-4253-B47F-E6D7F77E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861B-2491-41EB-81D5-D00E3239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30D0-5BC0-4D82-8199-953619EB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A7BA-1B0B-4168-A172-9DD352B8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89EE-3134-4D26-B2DF-360E6B46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5A8A-532E-424F-B360-F9AB8973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57A9-1538-4328-8672-C6851AE1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9013-93A3-434C-8483-AE5B820E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6E96-1F21-4568-88AF-0F894BD9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E889-5BB0-4432-B5BB-93310EE1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315F-374E-45CD-9E20-58F16DEC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E240-92F6-4FE1-B9AB-E24C2CB2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C8EA-D566-4FBF-A24B-64CC3A83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9AF0-CAAE-4405-9CA2-9E1CF0ED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D3A7-8A47-4231-9F06-394240EE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29F-B679-470C-A8BE-3329BDE5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B9FA-4B91-4ADE-8C7D-B891C807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A192-BADB-4F55-B3B7-55055D91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CBF-8015-432D-8FB7-7C65B782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859-8EA1-4821-8647-BB28A254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C62-F44B-4829-A36A-A229848C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70A8-4851-45AF-8272-B3CD8F8B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DCFB-A704-4B17-8657-20B30ABC108B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B83F-7764-4BE6-926D-5AA8D4938616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1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2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3" TargetMode="External"/><Relationship Id="rId2" Type="http://schemas.openxmlformats.org/officeDocument/2006/relationships/hyperlink" Target="file:///CodeSamples2.htm#Listing 5.4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199224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Defining Classes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and Methods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447192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ourier New"/>
                <a:ea typeface="Courier New"/>
              </a:rPr>
              <a:t>Dog</a:t>
            </a:r>
            <a:r>
              <a:rPr b="0" lang="en-US" sz="33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Instance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6560" y="157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5.1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D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class h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e pieces of data (instance variabl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behavi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instance of this type has its own copies of the data ite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of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restrictions on how variables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er will replace with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a Class and Its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5.2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Dog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1403280" y="3143160"/>
            <a:ext cx="5916600" cy="223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6431040" y="368316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use a method you "invoke" or "call" i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wo kinds of Java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urn a single 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form some other action – a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voked by the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by the application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method that returns a quant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nywhere a value can be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void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the invocation followed by a semicol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ing statement performs the action defined by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metho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writeOutpu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ro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efinitions appear inside class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used only with objects of that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903400" y="2457360"/>
            <a:ext cx="5181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ost method definitions we will see a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oes not return a val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ed as a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ading includes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dy enclosed in braces 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{  }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nk of method as defining an action to be tak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That Return a Valu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87080"/>
            <a:ext cx="8686800" cy="48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getAgeInHumanYears( 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ading declares type of value to be retur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ast statement executed i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2289240" y="1905120"/>
            <a:ext cx="3895560" cy="2828880"/>
          </a:xfrm>
          <a:prstGeom prst="rect">
            <a:avLst/>
          </a:prstGeom>
          <a:ln w="0">
            <a:noFill/>
          </a:ln>
        </p:spPr>
      </p:pic>
      <p:sp>
        <p:nvSpPr>
          <p:cNvPr id="128" name="Line 13"/>
          <p:cNvSpPr/>
          <p:nvPr/>
        </p:nvSpPr>
        <p:spPr>
          <a:xfrm flipV="1">
            <a:off x="1906560" y="2170080"/>
            <a:ext cx="827280" cy="256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 flipH="1" flipV="1">
            <a:off x="3620880" y="4506480"/>
            <a:ext cx="817560" cy="76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econd Example – Species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designed to hold records of endangered spec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the clas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3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peciesFirstT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e instance variables, three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expand this class in the rest of the chap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mo clas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4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peciesFirstTry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Keywor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ferring to instance variables outside the class – must u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an object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llowed by a d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instance vari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ide the class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name of variable al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bject (unnamed) is understood to be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Keywor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ide the class the unnamed object can be referred to with the nam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his.name = keyboard.nextLine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keywor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nds for the receiving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e will seem some situations later that require 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concepts of class, class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e class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 Java class, it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use of parameters in a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modifier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riv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ccessor, mutator clas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information hiding, encapsu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method pre- and postcondi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cal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79352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declared inside a method are calle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be used only inside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variables declared in method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local to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 having the same name and declared in different methods are different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cal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file, listing 5.5A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BankAcc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file, listing 5.5B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LocalVariablesDemo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wo different variable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newAm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ifferent values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028880" y="5126040"/>
            <a:ext cx="6424560" cy="1012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41" name="Text Box 7"/>
          <p:cNvSpPr/>
          <p:nvPr/>
        </p:nvSpPr>
        <p:spPr>
          <a:xfrm>
            <a:off x="7149960" y="477360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loc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compound state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closed in braces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declare a variable within a compound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mpound statement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cope of the variable is from its declaration to the end of the 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 declared outside the block usable both outside and inside the bloc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metho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claration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listing 5.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it only works for 10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an make it more versatile by giving the method a parameter to specify how many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sample program, listing 5.6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SpeciesSecondT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3776760" y="1397160"/>
            <a:ext cx="4938480" cy="1191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425240"/>
            <a:ext cx="86868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he declaration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public int predictPopulation(int year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m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ameter is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the method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int futurePopulation =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speciesOfTheMonth.predictPopulation(10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u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ameter is the integer 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7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SpeciesSecondClassDem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 names are local to the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method invok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parameter initialized to value in corresponding actual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itive actual parameter cannot be altered by invocation of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utomatic type conversion performed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byte -&gt; short -&gt; int -&gt; </a:t>
            </a:r>
            <a:br>
              <a:rPr sz="26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      long -&gt; float -&gt; dou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Information Hid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Encapsulation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01520" y="1600200"/>
            <a:ext cx="768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formation Hid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- and Postcondition Com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public and private Modifi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Calling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utomatic Documentation with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ML Class Dia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formation Hid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mer using a class method nee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know details of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ly needs to know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method do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formation hiding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ing a method so it can be used without knowing detai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referred to as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abstrac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esign should separat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93640" y="37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e- and Postcondition Comment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condition com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s conditions that must be true before method is inv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209600" y="3876840"/>
            <a:ext cx="7188120" cy="1755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18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e- and Postcondition Comment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tcondition com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ls what will be true after method execu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131840" y="3562200"/>
            <a:ext cx="7427880" cy="1690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4931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purpose of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raw simple UML dia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references, variables, parameter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boolean-valued methods such a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equ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applets use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abels,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init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0640" y="41076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an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rivate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Modifier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ype specified a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y other class can directly access that object by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es generally specified a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usually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ead specify a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riv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8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Third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monstration of need for private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ement such a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box.width = 6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illeg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ince width is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 privat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s remaining elements of the class consistent in this example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other implementation of a Rectangl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0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Rectangle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setDimension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the only way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y be altered outside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instance variables are private must provide methods to access values stored t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name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</a:t>
            </a:r>
            <a:r>
              <a:rPr b="1" i="1" lang="en-US" sz="3000" spc="-1" strike="noStrike">
                <a:solidFill>
                  <a:srgbClr val="ed7d31"/>
                </a:solidFill>
                <a:latin typeface="Courier New"/>
              </a:rPr>
              <a:t>Some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red to as an accessor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st also provide methods to change the values of the private instanc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name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</a:t>
            </a:r>
            <a:r>
              <a:rPr b="1" i="1" lang="en-US" sz="3000" spc="-1" strike="noStrike">
                <a:solidFill>
                  <a:srgbClr val="ed7d31"/>
                </a:solidFill>
                <a:latin typeface="Courier New"/>
              </a:rPr>
              <a:t>Some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red to as a mutator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an example class with accessor and mutat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1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SpeciesFourthTr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he mutator method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access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N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Popul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GrowthR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a mutator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12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SpeciesFourthTry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rcRect l="0" t="0" r="0" b="50729"/>
          <a:stretch/>
        </p:blipFill>
        <p:spPr>
          <a:xfrm>
            <a:off x="885960" y="3354480"/>
            <a:ext cx="7683480" cy="2909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74" name="Picture 5" descr=""/>
          <p:cNvPicPr/>
          <p:nvPr/>
        </p:nvPicPr>
        <p:blipFill>
          <a:blip r:embed="rId2"/>
          <a:srcRect l="0" t="50085" r="0" b="0"/>
          <a:stretch/>
        </p:blipFill>
        <p:spPr>
          <a:xfrm>
            <a:off x="835200" y="3290760"/>
            <a:ext cx="7683480" cy="2948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75" name="Text Box 7"/>
          <p:cNvSpPr/>
          <p:nvPr/>
        </p:nvSpPr>
        <p:spPr>
          <a:xfrm>
            <a:off x="7394400" y="432288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Purchas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3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urch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use of private 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also how mutator methods check for invalid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5.14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urchase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116000" y="1343160"/>
            <a:ext cx="7245360" cy="514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80" name="Text Box 7"/>
          <p:cNvSpPr/>
          <p:nvPr/>
        </p:nvSpPr>
        <p:spPr>
          <a:xfrm>
            <a:off x="7394400" y="432288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Call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 body may call any other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f the invoked method is within the sam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not use prefix of receiving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5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Orac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5.16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Oracle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Call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rcRect l="0" t="47188" r="0" b="0"/>
          <a:stretch/>
        </p:blipFill>
        <p:spPr>
          <a:xfrm>
            <a:off x="731880" y="1623960"/>
            <a:ext cx="7638840" cy="4367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85" name="Picture 6" descr=""/>
          <p:cNvPicPr/>
          <p:nvPr/>
        </p:nvPicPr>
        <p:blipFill>
          <a:blip r:embed="rId2"/>
          <a:srcRect l="0" t="0" r="0" b="52486"/>
          <a:stretch/>
        </p:blipFill>
        <p:spPr>
          <a:xfrm>
            <a:off x="738360" y="1871640"/>
            <a:ext cx="7638840" cy="3929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86" name="Text Box 7"/>
          <p:cNvSpPr/>
          <p:nvPr/>
        </p:nvSpPr>
        <p:spPr>
          <a:xfrm>
            <a:off x="7240680" y="36925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39840" y="317160"/>
            <a:ext cx="88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lass and Method Definition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1600" y="1600200"/>
            <a:ext cx="785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Files and Separate Compilatio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Keyword th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loc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s of a Primitive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example of driving a c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see and use break pedal, accelerator pedal, steering wheel – know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y 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d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ee mechanical details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y do their jo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capsulation divides class definition int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interf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l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class do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ves headings for public methods and comments about th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ains privat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definitions of public and private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2508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3  A well encapsulated class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541920" y="4068720"/>
            <a:ext cx="1636920" cy="520200"/>
          </a:xfrm>
          <a:prstGeom prst="rect">
            <a:avLst/>
          </a:prstGeom>
          <a:solidFill>
            <a:srgbClr val="ffe4c9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grammer who uses the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743440" y="4352760"/>
            <a:ext cx="735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1"/>
          <a:stretch/>
        </p:blipFill>
        <p:spPr>
          <a:xfrm>
            <a:off x="1058760" y="2265480"/>
            <a:ext cx="4515120" cy="3990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face class definition with comment on how to use cla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lare all instance variables in the class as priva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public accessor methods to retrieve data Provide public methods manipulating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ch methods could include public mutator metho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ce a comment before each public method heading that fully specifies how to use metho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any helping methods priva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rite comments within class definition to describe implementation detai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4640" y="337680"/>
            <a:ext cx="873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Automatic Documentation 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Generates documentation for class interf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ments in source code must be enclosed in  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/**  *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tility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will inclu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com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dings of public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utput of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s HTML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Figure 5.2  A class outline as a UML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1808280" y="2855880"/>
            <a:ext cx="5686200" cy="2684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5" descr=""/>
          <p:cNvPicPr/>
          <p:nvPr/>
        </p:nvPicPr>
        <p:blipFill>
          <a:blip r:embed="rId1"/>
          <a:stretch/>
        </p:blipFill>
        <p:spPr>
          <a:xfrm>
            <a:off x="3521160" y="1347840"/>
            <a:ext cx="5346720" cy="412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4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the 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urchase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Group 11"/>
          <p:cNvGrpSpPr/>
          <p:nvPr/>
        </p:nvGrpSpPr>
        <p:grpSpPr>
          <a:xfrm>
            <a:off x="990720" y="3276720"/>
            <a:ext cx="2971800" cy="1965240"/>
            <a:chOff x="990720" y="3276720"/>
            <a:chExt cx="2971800" cy="1965240"/>
          </a:xfrm>
        </p:grpSpPr>
        <p:sp>
          <p:nvSpPr>
            <p:cNvPr id="207" name="Rounded Rectangle 5"/>
            <p:cNvSpPr/>
            <p:nvPr/>
          </p:nvSpPr>
          <p:spPr>
            <a:xfrm>
              <a:off x="3581640" y="3276720"/>
              <a:ext cx="380880" cy="196524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1965240"/>
                <a:gd name="textAreaBottom" fmla="*/ 1946880 h 1965240"/>
              </a:gdLst>
              <a:ahLst/>
              <a:rect l="textAreaLeft" t="textAreaTop" r="textAreaRight" b="textAreaBottom"/>
              <a:pathLst>
                <a:path w="21600" h="111365">
                  <a:moveTo>
                    <a:pt x="3600" y="0"/>
                  </a:moveTo>
                  <a:arcTo wR="3600" hR="3600" stAng="16200000" swAng="-5400000"/>
                  <a:lnTo>
                    <a:pt x="0" y="107765"/>
                  </a:lnTo>
                  <a:arcTo wR="3600" hR="3600" stAng="10800000" swAng="-5400000"/>
                  <a:lnTo>
                    <a:pt x="18000" y="1113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6"/>
            <p:cNvSpPr/>
            <p:nvPr/>
          </p:nvSpPr>
          <p:spPr>
            <a:xfrm>
              <a:off x="990720" y="4586400"/>
              <a:ext cx="2027160" cy="642600"/>
            </a:xfrm>
            <a:prstGeom prst="rect">
              <a:avLst/>
            </a:prstGeom>
            <a:solidFill>
              <a:srgbClr val="d3ebe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us signs imply public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Straight Arrow Connector 10"/>
            <p:cNvCxnSpPr/>
            <p:nvPr/>
          </p:nvCxnSpPr>
          <p:spPr>
            <a:xfrm flipV="1">
              <a:off x="2544840" y="3869640"/>
              <a:ext cx="991440" cy="6721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10" name="Group 16"/>
          <p:cNvGrpSpPr/>
          <p:nvPr/>
        </p:nvGrpSpPr>
        <p:grpSpPr>
          <a:xfrm>
            <a:off x="3611520" y="2103480"/>
            <a:ext cx="4998960" cy="1206000"/>
            <a:chOff x="3611520" y="2103480"/>
            <a:chExt cx="4998960" cy="1206000"/>
          </a:xfrm>
        </p:grpSpPr>
        <p:sp>
          <p:nvSpPr>
            <p:cNvPr id="211" name="Rounded Rectangle 12"/>
            <p:cNvSpPr/>
            <p:nvPr/>
          </p:nvSpPr>
          <p:spPr>
            <a:xfrm>
              <a:off x="3611520" y="2103480"/>
              <a:ext cx="350640" cy="822240"/>
            </a:xfrm>
            <a:custGeom>
              <a:avLst/>
              <a:gdLst>
                <a:gd name="textAreaLeft" fmla="*/ 16920 w 350640"/>
                <a:gd name="textAreaRight" fmla="*/ 333720 w 350640"/>
                <a:gd name="textAreaTop" fmla="*/ 16920 h 822240"/>
                <a:gd name="textAreaBottom" fmla="*/ 805320 h 822240"/>
              </a:gdLst>
              <a:ahLst/>
              <a:rect l="textAreaLeft" t="textAreaTop" r="textAreaRight" b="textAreaBottom"/>
              <a:pathLst>
                <a:path w="21600" h="50622">
                  <a:moveTo>
                    <a:pt x="3600" y="0"/>
                  </a:moveTo>
                  <a:arcTo wR="3600" hR="3600" stAng="16200000" swAng="-5400000"/>
                  <a:lnTo>
                    <a:pt x="0" y="47022"/>
                  </a:lnTo>
                  <a:arcTo wR="3600" hR="3600" stAng="10800000" swAng="-5400000"/>
                  <a:lnTo>
                    <a:pt x="18000" y="506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13"/>
            <p:cNvSpPr/>
            <p:nvPr/>
          </p:nvSpPr>
          <p:spPr>
            <a:xfrm>
              <a:off x="6583320" y="2666880"/>
              <a:ext cx="2027160" cy="642600"/>
            </a:xfrm>
            <a:prstGeom prst="rect">
              <a:avLst/>
            </a:prstGeom>
            <a:solidFill>
              <a:srgbClr val="d3ebe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us signs imply private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3" name="Straight Arrow Connector 15"/>
            <p:cNvCxnSpPr>
              <a:endCxn id="211" idx="3"/>
            </p:cNvCxnSpPr>
            <p:nvPr/>
          </p:nvCxnSpPr>
          <p:spPr>
            <a:xfrm flipH="1" flipV="1">
              <a:off x="3961440" y="2514240"/>
              <a:ext cx="2607480" cy="3355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s more than interface, less than full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ually written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is defi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d by the programmer defining th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ast with the interface used by programmer who uses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7720" y="628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Objects and Reference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3360" y="2160360"/>
            <a:ext cx="808344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ing an equals Method for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olean-Value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 variables are implemented as a memory loc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ta of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rimitive typ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ored in the memory location assigned to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 of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typ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s memory address of object named by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rogram consists of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of class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that interact with one an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 objects can repres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in real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bject itself not stored in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red elsewhere in mem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contains address of where it is sto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ress called th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referenc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to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reference typ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 holds references (memory addresses)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makes memory management of class types more effici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1"/>
          <a:stretch/>
        </p:blipFill>
        <p:spPr>
          <a:xfrm>
            <a:off x="2962440" y="1419120"/>
            <a:ext cx="5321160" cy="4676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b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8" descr=""/>
          <p:cNvPicPr/>
          <p:nvPr/>
        </p:nvPicPr>
        <p:blipFill>
          <a:blip r:embed="rId1"/>
          <a:stretch/>
        </p:blipFill>
        <p:spPr>
          <a:xfrm>
            <a:off x="3187800" y="1744560"/>
            <a:ext cx="5479920" cy="4178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c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8" descr=""/>
          <p:cNvPicPr/>
          <p:nvPr/>
        </p:nvPicPr>
        <p:blipFill>
          <a:blip r:embed="rId1"/>
          <a:stretch/>
        </p:blipFill>
        <p:spPr>
          <a:xfrm>
            <a:off x="2703600" y="1870200"/>
            <a:ext cx="6008760" cy="3735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1"/>
          <a:stretch/>
        </p:blipFill>
        <p:spPr>
          <a:xfrm>
            <a:off x="2801880" y="1855800"/>
            <a:ext cx="5919840" cy="3817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6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ngers of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tretch/>
        </p:blipFill>
        <p:spPr>
          <a:xfrm>
            <a:off x="3097080" y="1855800"/>
            <a:ext cx="5742000" cy="3465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6b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ngers of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3244680" y="1241280"/>
            <a:ext cx="5516640" cy="4938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an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s demonstrated by previous figur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annot use == to compare two ob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must write a method for a given class which will make the comparison as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7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or this class method used same way a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for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tr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Demonstrating an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18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Equals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difference in the two comparison method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ersus 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.equals(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1547640" y="4203720"/>
            <a:ext cx="5835960" cy="155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45" name="Text Box 7"/>
          <p:cNvSpPr/>
          <p:nvPr/>
        </p:nvSpPr>
        <p:spPr>
          <a:xfrm>
            <a:off x="6770520" y="391644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lete 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85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9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7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Diagra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the class 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pecie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listing 5.1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tretch/>
        </p:blipFill>
        <p:spPr>
          <a:xfrm>
            <a:off x="3760920" y="2529000"/>
            <a:ext cx="5114880" cy="36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1  A class as a bluepri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2343240" y="2577960"/>
            <a:ext cx="4581360" cy="2962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oolean-Valued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can return a value of typ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boole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a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boolea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lue in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retur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method from listing 5.1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646280" y="3922560"/>
            <a:ext cx="6234120" cy="2021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nit Tes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4425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ology to test correctness of individual units of co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methods, cla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llection of unit tests is the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test sui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process of running tests repeatedly after changes are make sure everything still works is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regression tes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50880" y="5322960"/>
            <a:ext cx="675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 sample code, listing 5.2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pecies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ssignment operator used with objects of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memory address is cop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use of parameter of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y address of actual parameter passed to formal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 parameter may access public elements of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parameter thus can be  changed by class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21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Demo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ifferent parameter types and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2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s of a class type versus parameters of a primitive type</a:t>
            </a:r>
            <a:br>
              <a:rPr sz="18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arameters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1"/>
          <a:srcRect l="0" t="1433" r="1446" b="2676"/>
          <a:stretch/>
        </p:blipFill>
        <p:spPr>
          <a:xfrm>
            <a:off x="1500120" y="1405080"/>
            <a:ext cx="6429600" cy="472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61" name="Text Box 7"/>
          <p:cNvSpPr/>
          <p:nvPr/>
        </p:nvSpPr>
        <p:spPr>
          <a:xfrm>
            <a:off x="6770520" y="391644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884240" y="2292120"/>
            <a:ext cx="680256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Graphics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ing Labels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object of th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represents an area of the scre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specify area of screen represent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run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itabl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bject created automatica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object used as an argument in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8a  Some methods in clas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1135080" y="2984400"/>
            <a:ext cx="710388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8b  Some methods in clas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1077840" y="2725560"/>
            <a:ext cx="7365960" cy="3443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ltiple faces – using a Helping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23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MultipleFa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2678040" y="3203640"/>
            <a:ext cx="3797280" cy="29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75" name="Text Box 7"/>
          <p:cNvSpPr/>
          <p:nvPr/>
        </p:nvSpPr>
        <p:spPr>
          <a:xfrm>
            <a:off x="5718240" y="391644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366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1 ct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29280" y="4897440"/>
            <a:ext cx="3328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that are instantiations of the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utomo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360360" y="4362480"/>
            <a:ext cx="3600360" cy="1450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03" name="Picture 12" descr=""/>
          <p:cNvPicPr/>
          <p:nvPr/>
        </p:nvPicPr>
        <p:blipFill>
          <a:blip r:embed="rId2"/>
          <a:stretch/>
        </p:blipFill>
        <p:spPr>
          <a:xfrm>
            <a:off x="2978280" y="3179880"/>
            <a:ext cx="3247920" cy="1554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04" name="Picture 11" descr=""/>
          <p:cNvPicPr/>
          <p:nvPr/>
        </p:nvPicPr>
        <p:blipFill>
          <a:blip r:embed="rId3"/>
          <a:stretch/>
        </p:blipFill>
        <p:spPr>
          <a:xfrm>
            <a:off x="4983120" y="1760400"/>
            <a:ext cx="3699000" cy="1648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Graphics2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includes a Graphics2D class with more functionality than the Graphics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ds AW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 for more geometric sha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nt and shape proper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t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si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for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eatures that would be useful for rich media applications or video gam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24, for reading an image file and drawing it with transparenc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ay be defined for any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k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n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alled automatically when applet is ru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imilar to 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n an application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Labels to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vides a way to add text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component (such as a label) added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n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use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Labels to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applet, listing 5.25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Label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538280" y="3384720"/>
            <a:ext cx="5568840" cy="2373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85" name="Text Box 7"/>
          <p:cNvSpPr/>
          <p:nvPr/>
        </p:nvSpPr>
        <p:spPr>
          <a:xfrm>
            <a:off x="6195960" y="441324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es hav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nce variables to store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 definitions to perform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should be priv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needs accessor, mutat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may b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lue returning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id methods that do not return a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Keyword this used within method definition represents invoking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 defined within method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mal arguments must match actual parameters with respect to number, order, and data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mal parameters act like local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primitive type initialized with value of actual par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of actual parameter not altered by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class type initialized with address of actual parameter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of actual parameter may be altered by method c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ethod definition can include call to another method in same or differen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ondition comment states conditions that must be true before method invok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condition comment describes resulting effects of method exec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ty program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reates doc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designers use UML notation to describe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or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have differently with objects of class types (vs. primitive typ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er of class should include an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drawn by applet normally done from within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applet instructions placed in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in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f typ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Backgrou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ts color of applet p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els added to content pane within the init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2  A class outline as a UML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1808280" y="2855880"/>
            <a:ext cx="5686200" cy="2684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9520" y="3027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ass Files and Separate Compilatio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ava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definition usually in a file by itsel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begins with name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s with .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can be compiled separate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lpful to keep all class files used by a program in the same directo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0:21:45Z</dcterms:created>
  <dc:creator>Steve Armstrong</dc:creator>
  <dc:description/>
  <dc:language>en-US</dc:language>
  <cp:lastModifiedBy>Kenrick Mock</cp:lastModifiedBy>
  <cp:lastPrinted>2009-02-22T23:27:07Z</cp:lastPrinted>
  <dcterms:modified xsi:type="dcterms:W3CDTF">2014-04-06T10:52:56Z</dcterms:modified>
  <cp:revision>88</cp:revision>
  <dc:subject/>
  <dc:title>Defining Classes and Methods</dc:title>
</cp:coreProperties>
</file>