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3333-6974-44E4-9678-41D26265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656D-5E9B-421A-B74A-CE2DE7CC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4370-D2A9-4BBD-AB30-8E2F37F9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F7E9-4421-42FF-934B-CD232624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EEE2-EDC8-4B58-9BB8-07C81E3D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318C-0F3B-4EE2-9E43-4E38124E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5F47-CEB2-45ED-BF42-A833C769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31C1-79DB-4E51-9C10-AC792085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DC6C-C745-4E33-B98A-775DF404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058D-CF6B-4073-9B28-ADE1B608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8BA1-128F-43B3-97A6-AC407AE5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C91-04FD-4C19-A11E-8155FA96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8BCB-381E-439F-B78D-2E0FD286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42E8-DECB-40A8-8B0E-2857D38C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70D4-A7D4-470D-A714-5C459183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1312-EA57-4344-A66A-B2675C786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37A6-B854-44CE-97EB-8AF9DA95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27E5-01D1-4034-B1AD-F1886DC8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448-084B-4EF0-B338-E96E2772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CC7C-9C9C-49C4-B582-B891D594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503C-E318-4D63-86AD-F7D1F38A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DC0A-4BB6-4659-8000-D876AFF4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CF6D-1CC5-4306-B407-C7B57499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4E81-EED7-4914-BB53-E02F2EB3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6C63-B80D-4BAC-A32A-79921F6E8DC6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195640" y="525600"/>
            <a:ext cx="450504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5653080" y="2313000"/>
            <a:ext cx="16095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B12C-F538-4189-B363-BB26A1301701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odeSamples3.htm#Listing 6.3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odeSamples3.htm#Listing 6.4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CodeSamples3.htm#Listing 6.5" TargetMode="External"/><Relationship Id="rId2" Type="http://schemas.openxmlformats.org/officeDocument/2006/relationships/hyperlink" Target="file:///CodeSamples3.htm#Listing 6.6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CodeSamples3.htm#Listing 6.7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odeSamples3.htm#Listing 6.1" TargetMode="External"/><Relationship Id="rId2" Type="http://schemas.openxmlformats.org/officeDocument/2006/relationships/hyperlink" Target="file:///CodeSamples3.htm#Listing 6.2" TargetMode="External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015640"/>
            <a:ext cx="6858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More About Objects and Methods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3000" y="449568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pter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600200"/>
            <a:ext cx="296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2 A constructor returning a referen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3451320" y="1878120"/>
            <a:ext cx="5437080" cy="427824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48240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alling Methods from Other Constructor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tructor can call other class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cod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3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Pet2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metho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s from repeating c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1841400" y="2473200"/>
            <a:ext cx="5564160" cy="126072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</p:pic>
      <p:cxnSp>
        <p:nvCxnSpPr>
          <p:cNvPr id="112" name="Straight Arrow Connector 5"/>
          <p:cNvCxnSpPr>
            <a:endCxn id="113" idx="7"/>
          </p:cNvCxnSpPr>
          <p:nvPr/>
        </p:nvCxnSpPr>
        <p:spPr>
          <a:xfrm flipH="1">
            <a:off x="3090600" y="2133720"/>
            <a:ext cx="2472480" cy="9939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3" name="Oval 6"/>
          <p:cNvSpPr/>
          <p:nvPr/>
        </p:nvSpPr>
        <p:spPr>
          <a:xfrm>
            <a:off x="2270160" y="3063960"/>
            <a:ext cx="960480" cy="4413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6320" y="50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alling Constructor from Other Constructors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rom listing 6.3 we have the initial constructor and method s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the other constructors use the this reference to call initial constru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revised 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4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Pet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calls to initial constru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5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Static Variables &amp; Method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65280" y="1600200"/>
            <a:ext cx="802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ic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ic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ividing the Task of a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 into Subtas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ing a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 to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t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apper Clas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atic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328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ic variables are shared by all objects of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declare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atic fina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e considered constants – value cannot be chang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 declared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tati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(without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fina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 can be chang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ly one instance of the variable exi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can be accessed by all instances of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atic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ic variables also called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rast with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o not confuse class variables with variable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th static variables and instance variables are sometimes called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field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data memb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atic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me methods may have no relation to any type of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 max of two integ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vert character from upper- to lower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ic method declared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invok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ithou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using an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ead use the class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atic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5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DimensionConvert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demonstration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6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DimensionConverter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3"/>
          <a:stretch/>
        </p:blipFill>
        <p:spPr>
          <a:xfrm>
            <a:off x="1446120" y="4313160"/>
            <a:ext cx="6534360" cy="163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27" name="Text Box 7"/>
          <p:cNvSpPr/>
          <p:nvPr/>
        </p:nvSpPr>
        <p:spPr>
          <a:xfrm>
            <a:off x="7005600" y="456876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90160"/>
            <a:ext cx="848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Mixing Static and Nonstatic Method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7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SavingsAccou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6.8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SavingsAccount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1444680" y="3895560"/>
            <a:ext cx="6505560" cy="2257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31" name="Text Box 7"/>
          <p:cNvSpPr/>
          <p:nvPr/>
        </p:nvSpPr>
        <p:spPr>
          <a:xfrm>
            <a:off x="7005600" y="456876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asks of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in Subtask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5200" y="1457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 may hav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icated log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etitive c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reate static methods to accomplish subtask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example code, listing 6.9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 with repetitive co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alternative code, listing 6.10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s helping method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95120" y="1600200"/>
            <a:ext cx="75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nd use constru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and use static variables an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methods from clas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predefined wrapper clas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stubs, drivers to test classes and progra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Metho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to a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main used so far in its own class within a separate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useful to include method main within class 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create objects in other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be run as a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example code, listing 6.1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edefine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Spe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used as ordinary class, method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gno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Math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many standard mathematical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omatically provided, no import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methods, figure 6.3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297080" y="3063960"/>
            <a:ext cx="6966000" cy="3027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Math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 methods, figure 6.3b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Group 9"/>
          <p:cNvGrpSpPr/>
          <p:nvPr/>
        </p:nvGrpSpPr>
        <p:grpSpPr>
          <a:xfrm>
            <a:off x="1347840" y="2424240"/>
            <a:ext cx="6421320" cy="3733560"/>
            <a:chOff x="1347840" y="2424240"/>
            <a:chExt cx="6421320" cy="3733560"/>
          </a:xfrm>
        </p:grpSpPr>
        <p:pic>
          <p:nvPicPr>
            <p:cNvPr id="142" name="Picture 8" descr=""/>
            <p:cNvPicPr/>
            <p:nvPr/>
          </p:nvPicPr>
          <p:blipFill>
            <a:blip r:embed="rId1"/>
            <a:srcRect l="0" t="0" r="0" b="90429"/>
            <a:stretch/>
          </p:blipFill>
          <p:spPr>
            <a:xfrm>
              <a:off x="1349280" y="2424240"/>
              <a:ext cx="6419880" cy="5778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  <p:pic>
          <p:nvPicPr>
            <p:cNvPr id="143" name="Picture 8" descr=""/>
            <p:cNvPicPr/>
            <p:nvPr/>
          </p:nvPicPr>
          <p:blipFill>
            <a:blip r:embed="rId2"/>
            <a:srcRect l="0" t="47421" r="0" b="0"/>
            <a:stretch/>
          </p:blipFill>
          <p:spPr>
            <a:xfrm>
              <a:off x="1347840" y="2987640"/>
              <a:ext cx="6419880" cy="31701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Random Numb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Courier New"/>
                <a:ea typeface="Courier New"/>
              </a:rPr>
              <a:t>Math.random()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turns a random double that is greater than or equal to zero and less than 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also has a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  <a:ea typeface="Courier New"/>
              </a:rPr>
              <a:t>Random</a:t>
            </a: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to generate random numb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scale using addition and multiplication; the following simulates rolling a six sided di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ie = (int) (6.0 * Math.random()) + 1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rapper Cla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that arguments of primitive type treated differently from those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need to treat primitive value as an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provides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wrapper classe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each primitive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s provided to act on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rapper Cla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programmer to have an object that corresponds to value of primitive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tain useful predefined constants an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apper classes have no default constru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er must specify an initializing value when creating new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apper classes have no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e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rapper Cla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55680" y="1600200"/>
            <a:ext cx="878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6.4a Static methods in 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768240" y="2444760"/>
            <a:ext cx="7847280" cy="2565360"/>
          </a:xfrm>
          <a:prstGeom prst="rect">
            <a:avLst/>
          </a:prstGeom>
          <a:ln w="12600">
            <a:solidFill>
              <a:srgbClr val="e7e6e6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rapper Cla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5680" y="1600200"/>
            <a:ext cx="878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6.4b Static methods in 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704880" y="2397240"/>
            <a:ext cx="8096400" cy="3827520"/>
            <a:chOff x="704880" y="2397240"/>
            <a:chExt cx="8096400" cy="3827520"/>
          </a:xfrm>
        </p:grpSpPr>
        <p:pic>
          <p:nvPicPr>
            <p:cNvPr id="156" name="Picture 7" descr=""/>
            <p:cNvPicPr/>
            <p:nvPr/>
          </p:nvPicPr>
          <p:blipFill>
            <a:blip r:embed="rId1"/>
            <a:srcRect l="0" t="0" r="0" b="86204"/>
            <a:stretch/>
          </p:blipFill>
          <p:spPr>
            <a:xfrm>
              <a:off x="704880" y="2397240"/>
              <a:ext cx="8096400" cy="796680"/>
            </a:xfrm>
            <a:prstGeom prst="rect">
              <a:avLst/>
            </a:prstGeom>
            <a:ln w="12600">
              <a:solidFill>
                <a:srgbClr val="e7e6e6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  <p:pic>
          <p:nvPicPr>
            <p:cNvPr id="157" name="Picture 8" descr=""/>
            <p:cNvPicPr/>
            <p:nvPr/>
          </p:nvPicPr>
          <p:blipFill>
            <a:blip r:embed="rId2"/>
            <a:srcRect l="0" t="46825" r="0" b="0"/>
            <a:stretch/>
          </p:blipFill>
          <p:spPr>
            <a:xfrm>
              <a:off x="704880" y="3154320"/>
              <a:ext cx="8096400" cy="3070440"/>
            </a:xfrm>
            <a:prstGeom prst="rect">
              <a:avLst/>
            </a:prstGeom>
            <a:ln w="12600">
              <a:solidFill>
                <a:srgbClr val="e7e6e6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riting Methods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76320" y="1932120"/>
            <a:ext cx="77104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se Study: Formatting Outpu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ressing Compiler Concer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esting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ormatting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gorithm to display a double amount as dollars and c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lla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the number of whole dollars in amou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the number of cents in amount. Round if there are more than two digits after the decimal p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Display a dollar sign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lla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a decimal p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Display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a two-digit integ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ction Button: Return 3">
            <a:hlinkClick r:id="" action="ppaction://hlinkshowjump?jump=previousslide"/>
          </p:cNvPr>
          <p:cNvSpPr/>
          <p:nvPr/>
        </p:nvSpPr>
        <p:spPr>
          <a:xfrm>
            <a:off x="8050320" y="5432400"/>
            <a:ext cx="645840" cy="501840"/>
          </a:xfrm>
          <a:custGeom>
            <a:avLst/>
            <a:gdLst>
              <a:gd name="textAreaLeft" fmla="*/ 32400 w 645840"/>
              <a:gd name="textAreaRight" fmla="*/ 613440 w 645840"/>
              <a:gd name="textAreaTop" fmla="*/ 32400 h 501840"/>
              <a:gd name="textAreaBottom" fmla="*/ 469440 h 501840"/>
            </a:gdLst>
            <a:ahLst/>
            <a:rect l="textAreaLeft" t="textAreaTop" r="textAreaRight" b="textAreaBottom"/>
            <a:pathLst>
              <a:path w="27794" h="21600">
                <a:moveTo>
                  <a:pt x="0" y="0"/>
                </a:moveTo>
                <a:lnTo>
                  <a:pt x="27794" y="0"/>
                </a:lnTo>
                <a:lnTo>
                  <a:pt x="27794" y="21600"/>
                </a:lnTo>
                <a:lnTo>
                  <a:pt x="0" y="21600"/>
                </a:lnTo>
                <a:close/>
              </a:path>
              <a:path fill="lightenLess" w="27794" h="21600">
                <a:moveTo>
                  <a:pt x="0" y="0"/>
                </a:moveTo>
                <a:lnTo>
                  <a:pt x="27794" y="0"/>
                </a:lnTo>
                <a:lnTo>
                  <a:pt x="26394" y="1400"/>
                </a:lnTo>
                <a:lnTo>
                  <a:pt x="1400" y="1400"/>
                </a:lnTo>
                <a:close/>
              </a:path>
              <a:path fill="darken" w="27794" h="21600">
                <a:moveTo>
                  <a:pt x="27794" y="0"/>
                </a:moveTo>
                <a:lnTo>
                  <a:pt x="27794" y="21600"/>
                </a:lnTo>
                <a:lnTo>
                  <a:pt x="26394" y="20200"/>
                </a:lnTo>
                <a:lnTo>
                  <a:pt x="26394" y="1400"/>
                </a:lnTo>
                <a:close/>
              </a:path>
              <a:path fill="darkenLess" w="27794" h="21600">
                <a:moveTo>
                  <a:pt x="2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4" y="20200"/>
                </a:lnTo>
                <a:close/>
              </a:path>
              <a:path fill="lighten" w="2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4" h="21600">
                <a:moveTo>
                  <a:pt x="6890" y="7493"/>
                </a:moveTo>
                <a:lnTo>
                  <a:pt x="10398" y="7493"/>
                </a:lnTo>
                <a:lnTo>
                  <a:pt x="10398" y="12828"/>
                </a:lnTo>
                <a:cubicBezTo>
                  <a:pt x="10398" y="13751"/>
                  <a:pt x="11199" y="14482"/>
                  <a:pt x="12234" y="14482"/>
                </a:cubicBezTo>
                <a:lnTo>
                  <a:pt x="13897" y="14482"/>
                </a:lnTo>
                <a:cubicBezTo>
                  <a:pt x="14933" y="14482"/>
                  <a:pt x="15733" y="13751"/>
                  <a:pt x="15733" y="12828"/>
                </a:cubicBezTo>
                <a:lnTo>
                  <a:pt x="15733" y="7493"/>
                </a:lnTo>
                <a:lnTo>
                  <a:pt x="13897" y="7493"/>
                </a:lnTo>
                <a:lnTo>
                  <a:pt x="17404" y="3985"/>
                </a:lnTo>
                <a:lnTo>
                  <a:pt x="21077" y="7493"/>
                </a:lnTo>
                <a:lnTo>
                  <a:pt x="19241" y="7493"/>
                </a:lnTo>
                <a:lnTo>
                  <a:pt x="19241" y="12828"/>
                </a:lnTo>
                <a:cubicBezTo>
                  <a:pt x="19241" y="15596"/>
                  <a:pt x="16665" y="18155"/>
                  <a:pt x="13897" y="18155"/>
                </a:cubicBezTo>
                <a:lnTo>
                  <a:pt x="12234" y="18155"/>
                </a:lnTo>
                <a:cubicBezTo>
                  <a:pt x="9467" y="18155"/>
                  <a:pt x="6890" y="15596"/>
                  <a:pt x="6890" y="12828"/>
                </a:cubicBezTo>
                <a:close/>
              </a:path>
            </a:pathLst>
          </a:custGeom>
          <a:gradFill rotWithShape="0">
            <a:gsLst>
              <a:gs pos="0">
                <a:srgbClr val="b5d5a7"/>
              </a:gs>
              <a:gs pos="100000">
                <a:srgbClr val="9cca86"/>
              </a:gs>
            </a:gsLst>
            <a:lin ang="5400000"/>
          </a:gradFill>
          <a:ln w="64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98480" y="1600200"/>
            <a:ext cx="788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and use overloade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nd use enumeration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nd use packages an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impor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 buttons and icons to apple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event-driven programming in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ormatting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6.12</a:t>
            </a: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DollarFormatFirst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code to separate dollars and c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if-else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6.13</a:t>
            </a: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DollarFormatFirstTryDr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call to th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ormatting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239840" y="1682640"/>
            <a:ext cx="6634080" cy="4492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67" name="Text Box 7"/>
          <p:cNvSpPr/>
          <p:nvPr/>
        </p:nvSpPr>
        <p:spPr>
          <a:xfrm>
            <a:off x="7005600" y="417528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ormatting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79200" y="1816200"/>
            <a:ext cx="770724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corrected code, listing 6.14</a:t>
            </a: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Dollar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code to handle negative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 in listing 6.13 will now print values correct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composi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pseudocode from previous sli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this pseudocode w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decompos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the task into subtas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solve each subta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bine code of sub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ce in a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ressing Compiler Concer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piler ensures necessary tasks are don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itializ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ule of thumb: believe the compil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nge the code as requested by compil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most likely corr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est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o test a method use a driver 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 – code in listing 6.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very method in a class should be test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ttom-up tes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code at end of sequence of method calls fir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a stub – simplified version of a method for testing purpo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verloading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verloading Basic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verloading and Automatic Type Convers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verloading and the Return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ming Example: A Class for Mon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verloading Basic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two or more methods have same name within the sam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distinguishes the methods by number and types of paramet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it cannot match a call with a definition, it attempts to do type co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method's name and number and type of parameters is called th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signatu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verloading Basic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example program, listing 6.15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Overloa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overloaded method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getAverag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Group 5"/>
          <p:cNvGrpSpPr/>
          <p:nvPr/>
        </p:nvGrpSpPr>
        <p:grpSpPr>
          <a:xfrm>
            <a:off x="2122560" y="3782880"/>
            <a:ext cx="4540320" cy="1616040"/>
            <a:chOff x="2122560" y="3782880"/>
            <a:chExt cx="4540320" cy="1616040"/>
          </a:xfrm>
        </p:grpSpPr>
        <p:pic>
          <p:nvPicPr>
            <p:cNvPr id="183" name="Picture 2" descr=""/>
            <p:cNvPicPr/>
            <p:nvPr/>
          </p:nvPicPr>
          <p:blipFill>
            <a:blip r:embed="rId1"/>
            <a:srcRect l="0" t="0" r="60855" b="0"/>
            <a:stretch/>
          </p:blipFill>
          <p:spPr>
            <a:xfrm>
              <a:off x="2122560" y="3782880"/>
              <a:ext cx="3506760" cy="16066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  <p:pic>
          <p:nvPicPr>
            <p:cNvPr id="184" name="Picture 2" descr=""/>
            <p:cNvPicPr/>
            <p:nvPr/>
          </p:nvPicPr>
          <p:blipFill>
            <a:blip r:embed="rId2"/>
            <a:srcRect l="88478" t="0" r="0" b="0"/>
            <a:stretch/>
          </p:blipFill>
          <p:spPr>
            <a:xfrm>
              <a:off x="5629320" y="3792240"/>
              <a:ext cx="1033560" cy="16066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</p:grpSp>
      <p:sp>
        <p:nvSpPr>
          <p:cNvPr id="185" name="Text Box 7"/>
          <p:cNvSpPr/>
          <p:nvPr/>
        </p:nvSpPr>
        <p:spPr>
          <a:xfrm>
            <a:off x="5983200" y="462276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Overloading and Type Conversio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loading and automatic type conversion can confl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 definition of Pet class of listing 6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we pass an integer to the constructor we get the constructor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even if we intended the constructor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 the compiler attempts to overload before it does type con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descriptive method names, avoid overloa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nstructors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46320" y="1870200"/>
            <a:ext cx="744048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ing Constru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Methods from Constru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a Constructor from Other Constru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verloading and Return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You must not overload a method where the only difference is the type of value return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2187720" y="3389400"/>
            <a:ext cx="4124160" cy="2085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91" name="&quot;No&quot; Symbol 4"/>
          <p:cNvSpPr/>
          <p:nvPr/>
        </p:nvSpPr>
        <p:spPr>
          <a:xfrm>
            <a:off x="3335400" y="3441600"/>
            <a:ext cx="2008080" cy="2008440"/>
          </a:xfrm>
          <a:custGeom>
            <a:avLst/>
            <a:gdLst/>
            <a:ahLst/>
            <a:rect l="l" t="t" r="r" b="b"/>
            <a:pathLst>
              <a:path w="2008187" h="2008188">
                <a:moveTo>
                  <a:pt x="0" y="1004094"/>
                </a:moveTo>
                <a:cubicBezTo>
                  <a:pt x="0" y="449548"/>
                  <a:pt x="449548" y="0"/>
                  <a:pt x="1004094" y="0"/>
                </a:cubicBezTo>
                <a:cubicBezTo>
                  <a:pt x="1558640" y="0"/>
                  <a:pt x="2008188" y="449548"/>
                  <a:pt x="2008188" y="1004094"/>
                </a:cubicBezTo>
                <a:cubicBezTo>
                  <a:pt x="2008188" y="1558640"/>
                  <a:pt x="1558640" y="2008188"/>
                  <a:pt x="1004094" y="2008188"/>
                </a:cubicBezTo>
                <a:cubicBezTo>
                  <a:pt x="449548" y="2008188"/>
                  <a:pt x="0" y="1558640"/>
                  <a:pt x="0" y="1004094"/>
                </a:cubicBezTo>
                <a:close/>
                <a:moveTo>
                  <a:pt x="1556641" y="1301620"/>
                </a:moveTo>
                <a:cubicBezTo>
                  <a:pt x="1688030" y="1057611"/>
                  <a:pt x="1643809" y="756308"/>
                  <a:pt x="1447845" y="560344"/>
                </a:cubicBezTo>
                <a:cubicBezTo>
                  <a:pt x="1251881" y="364379"/>
                  <a:pt x="950578" y="320157"/>
                  <a:pt x="706569" y="451547"/>
                </a:cubicBezTo>
                <a:lnTo>
                  <a:pt x="1556641" y="1301620"/>
                </a:lnTo>
                <a:close/>
                <a:moveTo>
                  <a:pt x="451546" y="706568"/>
                </a:moveTo>
                <a:cubicBezTo>
                  <a:pt x="320157" y="950577"/>
                  <a:pt x="364378" y="1251880"/>
                  <a:pt x="560342" y="1447844"/>
                </a:cubicBezTo>
                <a:cubicBezTo>
                  <a:pt x="756306" y="1643809"/>
                  <a:pt x="1057609" y="1688031"/>
                  <a:pt x="1301618" y="1556641"/>
                </a:cubicBezTo>
                <a:lnTo>
                  <a:pt x="451546" y="706568"/>
                </a:lnTo>
                <a:close/>
              </a:path>
            </a:pathLst>
          </a:custGeom>
          <a:solidFill>
            <a:srgbClr val="ff00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class for mon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lass, listing 6.16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Mon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use of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vate 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s to set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s for doing arithmetic ope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6.17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Money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146240" y="3030480"/>
            <a:ext cx="6867360" cy="253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97" name="Text Box 7"/>
          <p:cNvSpPr/>
          <p:nvPr/>
        </p:nvSpPr>
        <p:spPr>
          <a:xfrm>
            <a:off x="6969240" y="482112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formation Hiding Revisite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Lea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ance variable of a class type contain address where that object is sto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 of class variables results in two variables pointing to same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f method to chang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ith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riable, changes the actual object itsel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insecure class, listing 6.18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petP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formation Hiding Revisite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0840" y="1511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,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6.19</a:t>
            </a: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Hac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4211640" y="1327320"/>
            <a:ext cx="3133800" cy="4879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203" name="Picture 4" descr=""/>
          <p:cNvPicPr/>
          <p:nvPr/>
        </p:nvPicPr>
        <p:blipFill>
          <a:blip r:embed="rId2"/>
          <a:stretch/>
        </p:blipFill>
        <p:spPr>
          <a:xfrm>
            <a:off x="6807240" y="3873600"/>
            <a:ext cx="2057400" cy="761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04" name="Text Box 7"/>
          <p:cNvSpPr/>
          <p:nvPr/>
        </p:nvSpPr>
        <p:spPr>
          <a:xfrm>
            <a:off x="6916680" y="191628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umeration as a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defining an enumeration for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uits of cards</a:t>
            </a:r>
            <a:br>
              <a:rPr sz="21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enum Suit {CLUBS, DIAMONDS, HEARTS, SPADES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piler creates a class with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equ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compare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ord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to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value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umeration as a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77680" y="2079720"/>
            <a:ext cx="8049960" cy="40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enhanced enumeration, listing 6.20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enum Sui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itional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ru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ckages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599840" y="1787400"/>
            <a:ext cx="708660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ckages and Impor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ckage Names and Director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ame Clash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ckages and Impor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ackage is a collection of classes grouped together into a fol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 of folder is name of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d in a separate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this line at the beginning of the 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ckag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ackage_Nam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es use packages by use of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impo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ckage Names and Directori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ckage name tells compiler path name for directory containing classes of packag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arch for package begins in class path base directo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ckage name uses dots in place of / or \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ame of package uses relative path name starting from any directory in class path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98240" y="14749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special method called when instance of an object created with new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ob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itialize values of 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have paramet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pecify initial values if desi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ay have multiple defini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with different numbers or types of parame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34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ckage Names and Directori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5 A package na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2048040" y="2378160"/>
            <a:ext cx="5241600" cy="3774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ame Clash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ckages help in dealing with name clash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two classes have sam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ifferent programmers may give same name to two clas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biguity resolved by using the packag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Graphics Supplement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ng But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-Driven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But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Example:  A Complete Applet with But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ng Ic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ing Vi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Example: An Example of Changing Vi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reate object of type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Jbutt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add to content p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ssible to associate an action with a butt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applet example, listing 6.21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reliminaryButton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pplet Outpu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Group 6"/>
          <p:cNvGrpSpPr/>
          <p:nvPr/>
        </p:nvGrpSpPr>
        <p:grpSpPr>
          <a:xfrm>
            <a:off x="1862280" y="2770200"/>
            <a:ext cx="5964120" cy="2419200"/>
            <a:chOff x="1862280" y="2770200"/>
            <a:chExt cx="5964120" cy="2419200"/>
          </a:xfrm>
        </p:grpSpPr>
        <p:pic>
          <p:nvPicPr>
            <p:cNvPr id="227" name="Picture 2" descr=""/>
            <p:cNvPicPr/>
            <p:nvPr/>
          </p:nvPicPr>
          <p:blipFill>
            <a:blip r:embed="rId1"/>
            <a:srcRect l="0" t="0" r="0" b="51098"/>
            <a:stretch/>
          </p:blipFill>
          <p:spPr>
            <a:xfrm>
              <a:off x="1862280" y="2770200"/>
              <a:ext cx="5962680" cy="181296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  <p:pic>
          <p:nvPicPr>
            <p:cNvPr id="228" name="Picture 2" descr=""/>
            <p:cNvPicPr/>
            <p:nvPr/>
          </p:nvPicPr>
          <p:blipFill>
            <a:blip r:embed="rId2"/>
            <a:srcRect l="0" t="83599" r="0" b="0"/>
            <a:stretch/>
          </p:blipFill>
          <p:spPr>
            <a:xfrm>
              <a:off x="1863720" y="4581360"/>
              <a:ext cx="5962680" cy="6080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</p:grpSp>
      <p:sp>
        <p:nvSpPr>
          <p:cNvPr id="229" name="Text Box 7"/>
          <p:cNvSpPr/>
          <p:nvPr/>
        </p:nvSpPr>
        <p:spPr>
          <a:xfrm>
            <a:off x="3354480" y="4626000"/>
            <a:ext cx="339552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user clicks either of these buttons, nothing happ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vent-Driven Programm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pplets use events and event handl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ev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object that represents some user action which elicits a respo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 clicking on button with mo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Listener object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re specified to receive the ev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ener objects hav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vent handl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0"/>
          <p:cNvSpPr/>
          <p:nvPr/>
        </p:nvSpPr>
        <p:spPr>
          <a:xfrm>
            <a:off x="1365120" y="2846520"/>
            <a:ext cx="6670800" cy="1352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vent-Driven Programm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6  Event firing and an event listen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266840" y="4826160"/>
            <a:ext cx="3395520" cy="131364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event object is the result of a button click. The event object goes from the button to the liste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5148360" y="4859280"/>
            <a:ext cx="3682800" cy="131364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listener object performs some action, such as making text visible in the applet, when it receives the event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Straight Arrow Connector 7"/>
          <p:cNvCxnSpPr/>
          <p:nvPr/>
        </p:nvCxnSpPr>
        <p:spPr>
          <a:xfrm flipV="1">
            <a:off x="3756600" y="4053960"/>
            <a:ext cx="516600" cy="7963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8" name="Straight Arrow Connector 9"/>
          <p:cNvCxnSpPr/>
          <p:nvPr/>
        </p:nvCxnSpPr>
        <p:spPr>
          <a:xfrm flipH="1" flipV="1">
            <a:off x="7016040" y="4035240"/>
            <a:ext cx="656280" cy="8150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1681200" y="3103560"/>
            <a:ext cx="606888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an event is "sent" to the listener object …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ethod of the listener object is invok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event object is given to the listener object method as the argu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each butt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the listener object (register the listen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s to be invoked must be def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7  Buttons and an action listen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861840" y="2405160"/>
            <a:ext cx="7780680" cy="3300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tons fire events as objects of clas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ActionEv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 objects handled by action liste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make a class an action liste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phras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mplements ActionListen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heading of class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er the action listener by invoking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ddActionListe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definition name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Perform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 class to represent pe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1  Class Diagram for Clas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1822320" y="2870280"/>
            <a:ext cx="5531040" cy="3386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o be an action listener, a class must hav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ethod name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Perform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ethod has a parameter of typ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Ev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the only method required by th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Listen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2679840" y="4870440"/>
            <a:ext cx="5203800" cy="1052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Complete Applet with Butt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applet code, listing 6.22</a:t>
            </a:r>
            <a:br>
              <a:rPr sz="2100"/>
            </a:b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class ButtonDe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featur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ication implements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Liste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vocation of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ddActionListe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Perform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itial applet outpu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2190600" y="2462040"/>
            <a:ext cx="4762800" cy="3086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pplet output after clicking Sunn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2151000" y="2505240"/>
            <a:ext cx="4911840" cy="3182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pplet output after clicking Cloud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2170080" y="2422440"/>
            <a:ext cx="4762440" cy="3086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Ic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icon is a pictu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ually small (but not necessaril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ten a .GIF or .JPEG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cture file stored in same folder as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con can be added to a label, button, or other compon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ImageIco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used to convert digital image to ico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Ic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applet, listing 6.23</a:t>
            </a:r>
            <a:br>
              <a:rPr sz="2100"/>
            </a:b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IconDe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ion of ic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tach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 to 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4421160" y="2927520"/>
            <a:ext cx="4000680" cy="2752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66" name="Text Box 7"/>
          <p:cNvSpPr/>
          <p:nvPr/>
        </p:nvSpPr>
        <p:spPr>
          <a:xfrm>
            <a:off x="7234200" y="507672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Ic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8  A button containing an ic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2652840" y="2475000"/>
            <a:ext cx="4952880" cy="3181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hanging Visibilit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ponents have a method named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etVisi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nges component from visible to invisible (or the other wa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invisible component is considered not th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s an invisible button would be inoper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Example of Changing Visibili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applet, listing 6.24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Visibliity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558720" y="3575160"/>
            <a:ext cx="3834000" cy="2485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2"/>
          <a:stretch/>
        </p:blipFill>
        <p:spPr>
          <a:xfrm>
            <a:off x="4932360" y="3570120"/>
            <a:ext cx="387360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634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cod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1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P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different constru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3 parame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String parame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double parame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sample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2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Pet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tructor method creates, initializes object of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ault constructor has no paramet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in a constructor use this as name for another constructor in sam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tati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 shared by all objects of th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imitive type has wrapper class to allow treatment as an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performs automatic type cast between primitive type and object of wrapper class as need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ivide method tasks into subtas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est all methods individual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with same name, different signatures are overloade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enumeration is a class – can have instance variables, constructors,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package of class definitions grouped together in same folder, contain a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ackag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 at beginning of each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81120" y="1706400"/>
            <a:ext cx="6265800" cy="405468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3" name="Text Box 7"/>
          <p:cNvSpPr/>
          <p:nvPr/>
        </p:nvSpPr>
        <p:spPr>
          <a:xfrm>
            <a:off x="6689880" y="362268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tructor without parameters is the default constru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va will define this automatically if the class designer does not define any constru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efine a constructor, Java wil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utomatically define a default constru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ually default constructors not included in class dia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6:21:33Z</dcterms:created>
  <dc:creator>SteveArmstrong</dc:creator>
  <dc:description/>
  <dc:language>en-US</dc:language>
  <cp:lastModifiedBy>Kenrick Mock</cp:lastModifiedBy>
  <dcterms:modified xsi:type="dcterms:W3CDTF">2014-04-06T10:54:46Z</dcterms:modified>
  <cp:revision>104</cp:revision>
  <dc:subject/>
  <dc:title>More About Objects and Methods</dc:title>
</cp:coreProperties>
</file>