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FE8-753C-4F35-88A6-E83C8577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F82-086D-4D6B-90B3-E6AD0D74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162-70C5-4CA4-8726-BBD330D0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523-CF65-49EE-B80C-92E2DF4F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2BDB-19F4-4499-9539-61C3B52D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255F-B729-40C6-90D7-86F9E9D5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F759-589E-4A1F-A5FE-A4114382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2D35-1916-465F-B5C9-C20B8FFB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B1D6-21D2-4098-94F7-626B4C57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64D7-0FC7-4504-97AB-F14B2071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2F98-CB17-4817-A86E-81F51B7B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3CA-0CAD-4C55-B024-D2E9A22A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F2AE-A6DA-441F-B46D-86464B62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B9B8-700E-4167-9001-CFBF6AA1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DA57-8833-4C08-906A-F487CFCD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6371-71EC-458E-BA5C-BC035596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9FA4-698C-4D51-B98A-B2965A48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FE1-A3FE-40C8-939C-B24E2A31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3B3-CFB0-4825-851B-6D69AA0D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ECF-7B5D-4B07-B394-1B93EDC8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E0E-95EC-46A3-9F2B-8FD03F50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37F-47FC-40B4-874A-623AF184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3A8-5942-4B0F-8070-8DBB02C9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DA6-96E8-457F-8D01-F36D698B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CAC2-323C-464B-B2C1-F5CEF1AD5A2D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E25D-0424-4C14-BD24-5B6D4145FCF5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1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2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3" TargetMode="External"/><Relationship Id="rId2" Type="http://schemas.openxmlformats.org/officeDocument/2006/relationships/hyperlink" Target="file:///CodeSamples2.htm#Listing 5.4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99224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Defining Classes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719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Dog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Instanc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656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class h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pieces of data (instance variab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behavi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instance of this type has its own copies of the data ite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strictions on how variable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r will replace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a Class and It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g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403280" y="3143160"/>
            <a:ext cx="591660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6431040" y="36831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use a method you "invoke" or "call" 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wo kinds of Java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 single 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 some other action –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ked by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by the application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method that returns a quant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nywhere a value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void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the invocation followed by a semico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ing statement performs the action defined by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writeOutpu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finitions appear inside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only with objects of that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903400" y="2457360"/>
            <a:ext cx="5181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method definitions we will see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oes not return a val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d as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includes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dy enclosed in braces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{  }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nk of method as defining an action to be tak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That Return a Valu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87080"/>
            <a:ext cx="8686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getAgeInHumanYears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declares type of value to b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t statement executed i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2289240" y="1905120"/>
            <a:ext cx="3895560" cy="2828880"/>
          </a:xfrm>
          <a:prstGeom prst="rect">
            <a:avLst/>
          </a:prstGeom>
          <a:ln w="0">
            <a:noFill/>
          </a:ln>
        </p:spPr>
      </p:pic>
      <p:sp>
        <p:nvSpPr>
          <p:cNvPr id="128" name="Line 13"/>
          <p:cNvSpPr/>
          <p:nvPr/>
        </p:nvSpPr>
        <p:spPr>
          <a:xfrm flipV="1">
            <a:off x="1906560" y="2170080"/>
            <a:ext cx="827280" cy="25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 flipV="1">
            <a:off x="3620880" y="4506480"/>
            <a:ext cx="8175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econd Example – Species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esigned to hold records of endangered spec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the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instance variables, thre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expand this class in the rest of the ch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ferring to instance variables outside the class – must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an object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lowed by a d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instance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name of variable al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bject (unnamed) is understood to be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 the unnamed object can be referred to with the nam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his.name = keyboard.nextLine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nds for the receiv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seem some situations later that require 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concepts of class, class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class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 Java class, it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use of parameters in a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odifier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ccessor, mutato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information hiding, 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thod pre- and post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935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inside a method are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used only inside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variables declared in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ocal to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having the same name and declared in different methods are different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A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Bank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B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LocalVariablesDemo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wo different variable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wAm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values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28880" y="5126040"/>
            <a:ext cx="6424560" cy="1012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1" name="Text Box 7"/>
          <p:cNvSpPr/>
          <p:nvPr/>
        </p:nvSpPr>
        <p:spPr>
          <a:xfrm>
            <a:off x="7149960" y="477360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lo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compound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losed in braces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declare a variable within a compound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ound statement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ope of the variable is from its declaration to the end of the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declared outside the block usable both outside and inside the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metho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larat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t only works for 10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 make it more versatile by giving the method a parameter to specify how many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sample program, listing 5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peciesSecond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76760" y="1397160"/>
            <a:ext cx="4938480" cy="119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25240"/>
            <a:ext cx="86868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declaration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public int predictPopulation(int yea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the metho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t futurePopulation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speciesOfTheMonth.predictPopulation(10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the integer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7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SecondClassDem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 names are local to the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method invok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arameter initialized to value in corresponding actual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itive actual parameter cannot be altered by invocation of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type conversion performe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byte -&gt; short -&gt; int -&gt; </a:t>
            </a:r>
            <a:br>
              <a:rPr sz="26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      long -&gt; float -&gt; do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formation Hid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ncapsulation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1520" y="1600200"/>
            <a:ext cx="768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- and Postcondition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ublic and private Modifi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ll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Documentation with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er using a class method ne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know details of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needs to know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method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ing a method so it can be used without knowing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referred to a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abstra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sign should separat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364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 conditions that must be true before method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09600" y="3876840"/>
            <a:ext cx="7188120" cy="1755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t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what will be true after method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131840" y="3562200"/>
            <a:ext cx="7427880" cy="1690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493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purpose of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raw simple UML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references, variables, 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boolean-valued methods such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applets us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abels,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nit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rivat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odifier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ype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other class can directly access that object by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generally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usuall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specif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Third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monstration of need for private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ement such a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box.width = 6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lleg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nce width is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 priv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remaining elements of the class consistent in this example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other implementation of a Rectangl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0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Rectangle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setDimension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way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altered outside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instance variables are private must provide methods to access values stored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n access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st also provide methods to change the values of the private instanc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 mutat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n example class with accessor and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1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FourthT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mutator metho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ccess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Popu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Growth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a mutato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2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SpeciesFourthTry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50729"/>
          <a:stretch/>
        </p:blipFill>
        <p:spPr>
          <a:xfrm>
            <a:off x="885960" y="3354480"/>
            <a:ext cx="7683480" cy="29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74" name="Picture 5" descr=""/>
          <p:cNvPicPr/>
          <p:nvPr/>
        </p:nvPicPr>
        <p:blipFill>
          <a:blip r:embed="rId2"/>
          <a:srcRect l="0" t="50085" r="0" b="0"/>
          <a:stretch/>
        </p:blipFill>
        <p:spPr>
          <a:xfrm>
            <a:off x="835200" y="3290760"/>
            <a:ext cx="7683480" cy="294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75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urchas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use of 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also how mutator methods check for invalid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4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1343160"/>
            <a:ext cx="7245360" cy="514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0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 body may call any othe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the invoked method is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not use prefix of receiving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5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6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rcRect l="0" t="47188" r="0" b="0"/>
          <a:stretch/>
        </p:blipFill>
        <p:spPr>
          <a:xfrm>
            <a:off x="731880" y="1623960"/>
            <a:ext cx="7638840" cy="436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85" name="Picture 6" descr=""/>
          <p:cNvPicPr/>
          <p:nvPr/>
        </p:nvPicPr>
        <p:blipFill>
          <a:blip r:embed="rId2"/>
          <a:srcRect l="0" t="0" r="0" b="52486"/>
          <a:stretch/>
        </p:blipFill>
        <p:spPr>
          <a:xfrm>
            <a:off x="738360" y="1871640"/>
            <a:ext cx="7638840" cy="39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6" name="Text Box 7"/>
          <p:cNvSpPr/>
          <p:nvPr/>
        </p:nvSpPr>
        <p:spPr>
          <a:xfrm>
            <a:off x="7240680" y="36925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840" y="317160"/>
            <a:ext cx="88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ass and Method Definit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1600" y="1600200"/>
            <a:ext cx="785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Files and Separate Compila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th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of driving a c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see and use break pedal, accelerator pedal, steering wheel – kn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e mechanical details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 their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 divides class definition in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class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s headings for public methods and comments about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ins privat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definitions of public and privat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250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3  A well encapsulated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541920" y="4068720"/>
            <a:ext cx="1636920" cy="520200"/>
          </a:xfrm>
          <a:prstGeom prst="rect">
            <a:avLst/>
          </a:prstGeom>
          <a:solidFill>
            <a:srgbClr val="ffe4c9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grammer who uses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743440" y="4352760"/>
            <a:ext cx="73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1058760" y="2265480"/>
            <a:ext cx="4515120" cy="39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face class definition with comment on how to use cl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are all instance variables in the class a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public accessor methods to retrieve data Provide public methods manipulat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methods could include public mutator metho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ce a comment before each public method heading that fully specifies how to use metho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any helping method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comments within class definition to describe implementation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337680"/>
            <a:ext cx="873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Automatic Documentation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enerates documentation for 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ents in source code must be enclosed in 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/**  *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tility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will inclu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ings of public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tput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HTML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5" descr=""/>
          <p:cNvPicPr/>
          <p:nvPr/>
        </p:nvPicPr>
        <p:blipFill>
          <a:blip r:embed="rId1"/>
          <a:stretch/>
        </p:blipFill>
        <p:spPr>
          <a:xfrm>
            <a:off x="3521160" y="1347840"/>
            <a:ext cx="5346720" cy="41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4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urchase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990720" y="3276720"/>
            <a:ext cx="2971800" cy="1965240"/>
            <a:chOff x="990720" y="3276720"/>
            <a:chExt cx="2971800" cy="1965240"/>
          </a:xfrm>
        </p:grpSpPr>
        <p:sp>
          <p:nvSpPr>
            <p:cNvPr id="207" name="Rounded Rectangle 5"/>
            <p:cNvSpPr/>
            <p:nvPr/>
          </p:nvSpPr>
          <p:spPr>
            <a:xfrm>
              <a:off x="3581640" y="3276720"/>
              <a:ext cx="380880" cy="196524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965240"/>
                <a:gd name="textAreaBottom" fmla="*/ 1946880 h 1965240"/>
              </a:gdLst>
              <a:ahLst/>
              <a:rect l="textAreaLeft" t="textAreaTop" r="textAreaRight" b="textAreaBottom"/>
              <a:pathLst>
                <a:path w="21600" h="111365">
                  <a:moveTo>
                    <a:pt x="3600" y="0"/>
                  </a:moveTo>
                  <a:arcTo wR="3600" hR="3600" stAng="16200000" swAng="-5400000"/>
                  <a:lnTo>
                    <a:pt x="0" y="107765"/>
                  </a:lnTo>
                  <a:arcTo wR="3600" hR="3600" stAng="10800000" swAng="-5400000"/>
                  <a:lnTo>
                    <a:pt x="18000" y="111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990720" y="458640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us signs imply public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Straight Arrow Connector 10"/>
            <p:cNvCxnSpPr/>
            <p:nvPr/>
          </p:nvCxnSpPr>
          <p:spPr>
            <a:xfrm flipV="1">
              <a:off x="2544840" y="3869640"/>
              <a:ext cx="991440" cy="6721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10" name="Group 16"/>
          <p:cNvGrpSpPr/>
          <p:nvPr/>
        </p:nvGrpSpPr>
        <p:grpSpPr>
          <a:xfrm>
            <a:off x="3611520" y="2103480"/>
            <a:ext cx="4998960" cy="1206000"/>
            <a:chOff x="3611520" y="2103480"/>
            <a:chExt cx="4998960" cy="1206000"/>
          </a:xfrm>
        </p:grpSpPr>
        <p:sp>
          <p:nvSpPr>
            <p:cNvPr id="211" name="Rounded Rectangle 12"/>
            <p:cNvSpPr/>
            <p:nvPr/>
          </p:nvSpPr>
          <p:spPr>
            <a:xfrm>
              <a:off x="3611520" y="2103480"/>
              <a:ext cx="350640" cy="822240"/>
            </a:xfrm>
            <a:custGeom>
              <a:avLst/>
              <a:gdLst>
                <a:gd name="textAreaLeft" fmla="*/ 16920 w 350640"/>
                <a:gd name="textAreaRight" fmla="*/ 333720 w 350640"/>
                <a:gd name="textAreaTop" fmla="*/ 16920 h 822240"/>
                <a:gd name="textAreaBottom" fmla="*/ 805320 h 822240"/>
              </a:gdLst>
              <a:ahLst/>
              <a:rect l="textAreaLeft" t="textAreaTop" r="textAreaRight" b="textAreaBottom"/>
              <a:pathLst>
                <a:path w="21600" h="50622">
                  <a:moveTo>
                    <a:pt x="3600" y="0"/>
                  </a:moveTo>
                  <a:arcTo wR="3600" hR="3600" stAng="16200000" swAng="-5400000"/>
                  <a:lnTo>
                    <a:pt x="0" y="47022"/>
                  </a:lnTo>
                  <a:arcTo wR="3600" hR="3600" stAng="10800000" swAng="-5400000"/>
                  <a:lnTo>
                    <a:pt x="18000" y="50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3"/>
            <p:cNvSpPr/>
            <p:nvPr/>
          </p:nvSpPr>
          <p:spPr>
            <a:xfrm>
              <a:off x="6583320" y="266688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us signs imply private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Straight Arrow Connector 15"/>
            <p:cNvCxnSpPr>
              <a:endCxn id="211" idx="3"/>
            </p:cNvCxnSpPr>
            <p:nvPr/>
          </p:nvCxnSpPr>
          <p:spPr>
            <a:xfrm flipH="1" flipV="1">
              <a:off x="3961440" y="2514240"/>
              <a:ext cx="2607480" cy="3355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ore than interface, less than full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writte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is defi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d by the programmer defining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the interface used by programmer who uses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7720" y="62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bjects and Reference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3360" y="2160360"/>
            <a:ext cx="80834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an equals Method for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olean-Valu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 variables are implemented as a memory lo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ta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imitive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ored in the memory location assigned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emory address of object named by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gram consists of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of class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that interact with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objects can repres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in real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 itself not stored in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d elsewhere 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contains address of where it is sto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 typ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holds references (memory addresses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makes memory management of class types more effic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2962440" y="1419120"/>
            <a:ext cx="5321160" cy="467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187800" y="1744560"/>
            <a:ext cx="5479920" cy="417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tretch/>
        </p:blipFill>
        <p:spPr>
          <a:xfrm>
            <a:off x="2703600" y="1870200"/>
            <a:ext cx="6008760" cy="373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2801880" y="1855800"/>
            <a:ext cx="5919840" cy="3817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3097080" y="1855800"/>
            <a:ext cx="5742000" cy="346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3244680" y="1241280"/>
            <a:ext cx="5516640" cy="4938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an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 demonstrated by previous fig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not use == to compare two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must write a method for a given class which will make the comparison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7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this class method used same wa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Demonstrating an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Equal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ce in the two comparison method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ersus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.equals(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547640" y="4203720"/>
            <a:ext cx="5835960" cy="155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45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lete 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7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class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3760920" y="2529000"/>
            <a:ext cx="511488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 A class as a bluepr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343240" y="2577960"/>
            <a:ext cx="45813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-Value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n return a value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lue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method from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646280" y="3922560"/>
            <a:ext cx="6234120" cy="2021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nit Te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42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ology to test correctness of individual units of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methods,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llection of unit tests is th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est sui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rocess of running tests repeatedly after changes are make sure everything still works is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regression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50880" y="5322960"/>
            <a:ext cx="67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ample code, listing 5.2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cies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ssignment operator used with objects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memory address is cop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use of parameter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 address of actual parameter passed to formal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parameter may access public elements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parameter thus can be  changed by clas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1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Demo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parameter types and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s of a class type versus parameters of a primitive type</a:t>
            </a:r>
            <a:br>
              <a:rPr sz="18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arameter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rcRect l="0" t="1433" r="1446" b="2676"/>
          <a:stretch/>
        </p:blipFill>
        <p:spPr>
          <a:xfrm>
            <a:off x="1500120" y="1405080"/>
            <a:ext cx="6429600" cy="472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1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884240" y="2292120"/>
            <a:ext cx="68025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Labels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represents an area of the scre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pecify area of screen represen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ru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itabl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 created automatic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object used as an argument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a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135080" y="2984400"/>
            <a:ext cx="71038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b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077840" y="2725560"/>
            <a:ext cx="7365960" cy="34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ple faces – using a Helping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MultipleFa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2678040" y="3203640"/>
            <a:ext cx="3797280" cy="29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75" name="Text Box 7"/>
          <p:cNvSpPr/>
          <p:nvPr/>
        </p:nvSpPr>
        <p:spPr>
          <a:xfrm>
            <a:off x="5718240" y="39164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66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ct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29280" y="4897440"/>
            <a:ext cx="332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that are instantiations of 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uto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360360" y="4362480"/>
            <a:ext cx="3600360" cy="145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2978280" y="3179880"/>
            <a:ext cx="3247920" cy="15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4983120" y="1760400"/>
            <a:ext cx="3699000" cy="16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Graphics2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includes a Graphics2D class with more functionality than 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s AW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for more geometric sh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nt and shape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for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eatures that would be useful for rich media applications or video ga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4, for reading an image file and drawing it with transparen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ay be defined for any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k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alled automatically when applet is ru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milar to 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an application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vides a way to add text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component (such as a label) added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5.25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Label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38280" y="3384720"/>
            <a:ext cx="5568840" cy="237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5" name="Text Box 7"/>
          <p:cNvSpPr/>
          <p:nvPr/>
        </p:nvSpPr>
        <p:spPr>
          <a:xfrm>
            <a:off x="6195960" y="44132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hav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 to stor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definitions to perform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hould be 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needs accessor,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may b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ue returning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methods that do not return a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eyword this used within method definition represents invok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defined within method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arguments must match actual parameters with respect to number, order, and data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parameters act like 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primitive type initialized with value of actual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not altered by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class type initialized with address of actual paramet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may be altered by metho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hod definition can include call to another method in same or differ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dition comment states conditions that must be true before method invo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condition comment describes resulting effects of method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ty program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eates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designers use UML notation to describ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have differently with objects of class types (vs. primitive typ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r of class should include a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drawn by applet normally done from withi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applet instructions placed in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Backgrou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s color of applet 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 added to content pane within the init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9520" y="3027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ass Files and Separate Compila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ava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definition usually in a file by itsel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begins with name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s with .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can be compiled separ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ful to keep all class files used by a program in the sam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0:21:45Z</dcterms:created>
  <dc:creator>Steve Armstrong</dc:creator>
  <dc:description/>
  <dc:language>en-US</dc:language>
  <cp:lastModifiedBy>Kenrick Mock</cp:lastModifiedBy>
  <cp:lastPrinted>2009-02-22T23:27:07Z</cp:lastPrinted>
  <dcterms:modified xsi:type="dcterms:W3CDTF">2014-04-06T10:52:56Z</dcterms:modified>
  <cp:revision>88</cp:revision>
  <dc:subject/>
  <dc:title>Defining Classes and Methods</dc:title>
</cp:coreProperties>
</file>