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314880" y="0"/>
            <a:ext cx="37875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Ja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x B - </a:t>
            </a:r>
            <a:fld id="{52054AB0-FFE1-4D5D-8BAB-3A5B06106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hyperlink" Target="http://junit.sourceforge.net/doc/cookbook/cookbook.htm" TargetMode="External"/><Relationship Id="rId2" Type="http://schemas.openxmlformats.org/officeDocument/2006/relationships/hyperlink" Target="http://junit.sourceforge.net/doc/cookbook/cookbook.htm" TargetMode="External"/><Relationship Id="rId3" Type="http://schemas.openxmlformats.org/officeDocument/2006/relationships/slide" Target="../slides/slide17.xml"/><Relationship Id="rId4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unit.sourceforge.net/doc/cookbook/cookbook.ht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for more information on creating tests with J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ssertTrue to check that the result of the boolean expression is true.  If it fails the passed string will be print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ssertEquals to check if the two passed int values are equal.  If they are not it will print the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il(String) method will automatically fail and print the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ression testing is to make sure that things that used to work still work after a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Extreme Programming you write the test cases first before you write the code.  That way you will know when the code wo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ing on “Apply” save the information but doesn’t exit the window.  Clicking on “Ok” saves the information and closes the wind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lasspath is where the Java compiler and run-time will look for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202A-295F-4F72-8DC3-5EDF2A04B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CD86-23AB-45FB-AF7E-116E4C3E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54D7-639D-498A-B545-855D404C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C5D7-0F08-4DAD-B9CD-2BB9E8A2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451A-C559-41FC-9D88-870A6EE4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885E-A678-4CE2-B99E-5518DE37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0AF2-C889-48D2-BE96-8B6046B7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08C1-7AEE-4D3A-B4AC-3C571998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E876-4F31-4C0E-B7B1-1B66F8F4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0CFC-BDBF-4B7F-8EEE-AE444FD8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79B7-2CE2-47F7-8FE5-FF4F4898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B38F-D596-44AD-B136-215161AA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467C-D3DB-4376-9CDB-CDD3B4F0E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990720"/>
            <a:ext cx="800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drjava.org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ndix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b Eric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rgia Institute of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mpiler output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 errors are shown in the compiler output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error will be highlighted and the line of code that caused the problem will be highligh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lso click on an error to go to the line that contains the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definitions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in the definitions pane to add code to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automatically indent for you when you hit 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use ta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highlight all code in a block when you click to the right of a closing parenthe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indent selected lines using the Edi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comment out and uncomment lines in the Edit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compile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Compile All to compile all files in the file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Tools-&gt;Compile All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compile just the shown file by u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-&gt;Compile Curren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870880" y="2743200"/>
            <a:ext cx="23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 to compi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pen fi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315200" y="2437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execute program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ure that the file that you want to run the main method from is selected in the files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ools-&gt;Run Document’s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 will be shown in the interactions and console p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generate Javadoc documen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Javadoc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ill generate the Javadoc documentation for all files in the folder and all subfolders for all open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javadoc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** commen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0" y="1447920"/>
            <a:ext cx="403848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debugger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Debugger-&gt;Debug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a line of code to stop at “breakpoi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 click and Toggle Break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have several break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 the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he interactions pane to explore th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4038480" cy="3006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V="1">
            <a:off x="4114800" y="4952880"/>
            <a:ext cx="2895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ebug Stepping and Resum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I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ee each piece of the current line being exec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es into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the current line without seeing the execution and stop before the next line is exec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p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the rest of the current method and stop before the next line in the calling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es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ntinue execution still the next breakpoint or the end of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2168640"/>
            <a:ext cx="4038480" cy="3006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V="1">
            <a:off x="8381880" y="4495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404040" y="54864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ping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create JUnit tes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“Edit” then "New JUnit Test Case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one or more tes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True(Str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l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Equals(String,int,i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il(St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2122560"/>
            <a:ext cx="403848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run JUnit test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he Test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shown in the Test Output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failures will be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nit tests are very useful for initial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regression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495680" y="1447920"/>
            <a:ext cx="40388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Java is a free, lightweight, development enviro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create, compile, debug and execute Java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generate Javadoc 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use it to create and run J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Learning Goal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at practic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to get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start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 Java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add items to the classpath for Dr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the p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ompile and run the main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generate Javadoc html p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use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reate and run JUnit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Where to get 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Java is a free development environment for Java aimed at stu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Rice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downloaded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drjava.org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equires Ja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commend using 1.5 (5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Java first from java.su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Start DrJava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the DrJava icon on your desk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 while DrJava l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ill display the splash screen while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you see the full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ay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291360" y="1944720"/>
            <a:ext cx="752400" cy="923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648320" y="3733920"/>
            <a:ext cx="403848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DrJava Featur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with multipl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 coded ed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pretation of Jav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ions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0" y="1219320"/>
            <a:ext cx="4038480" cy="3098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344840" y="213372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421160" y="4495680"/>
            <a:ext cx="20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actions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400800" y="3886200"/>
            <a:ext cx="457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6600" y="5029200"/>
            <a:ext cx="19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s p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7696080" y="3276720"/>
            <a:ext cx="22860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4648320" y="2666880"/>
            <a:ext cx="838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elp Window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Help in the menu and then again on Help to bring up the help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F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ble of contents is on the le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a topic to see the help on the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add to the classpath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ng up the preferences win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Edit and then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he add 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select all jar files that you want to add to the 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add directories that have classes that you wish to add to the class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ou are done click on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interactions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n’t end a statement with a semicolon ‘;’ it will be interpreted and the result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end a statement with a semicolon it will be interpreted but the result won’t be pri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ystem.out.println(expression) to pr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nter multiple line statements use Shift + 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How to use the console pane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click on the console 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ill see the console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ws just the items that you have printed to the cons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System.out.println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.out.pr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495680" y="2590920"/>
            <a:ext cx="35337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5T19:23:22Z</dcterms:created>
  <dc:creator>Barbara Jane Ericson</dc:creator>
  <dc:description/>
  <dc:language>en-US</dc:language>
  <cp:lastModifiedBy>Barbara J. Ericson</cp:lastModifiedBy>
  <dcterms:modified xsi:type="dcterms:W3CDTF">2006-05-25T17:13:22Z</dcterms:modified>
  <cp:revision>1717</cp:revision>
  <dc:subject/>
  <dc:title>Summer Institute for Computing Education</dc:title>
</cp:coreProperties>
</file>