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E4C-9971-4E24-AC40-461AA9BF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835-2359-45A1-9D19-3D120B3C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F2A-2878-467F-911D-9698DC97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C64-8039-4E88-8434-36B6EC49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A0B-C93A-4C03-8D98-B17F4D5D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C94-4E7B-43B2-A678-998CC1C5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857-973E-46FC-B64E-F2275208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432-7235-4723-BC13-5155C16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023-6D08-4307-B5CE-54CFD764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829-1A6C-4D87-9C24-4FA5535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7E0-BE4F-473E-96BB-F8BC9FE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08F-BA3F-4C2E-9615-1123C14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2E63-366A-402A-853A-2DC00A51E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040" y="351144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0574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362320"/>
            <a:ext cx="838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66688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81080" y="2063880"/>
            <a:ext cx="1828800" cy="304560"/>
            <a:chOff x="1981080" y="2063880"/>
            <a:chExt cx="1828800" cy="304560"/>
          </a:xfrm>
        </p:grpSpPr>
        <p:sp>
          <p:nvSpPr>
            <p:cNvPr id="46" name=""/>
            <p:cNvSpPr/>
            <p:nvPr/>
          </p:nvSpPr>
          <p:spPr>
            <a:xfrm>
              <a:off x="1981080" y="2063880"/>
              <a:ext cx="609480" cy="3045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90560" y="2063880"/>
              <a:ext cx="609480" cy="3045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040" y="2063880"/>
              <a:ext cx="609840" cy="3045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2368440"/>
            <a:ext cx="1828800" cy="304920"/>
            <a:chOff x="2590920" y="2368440"/>
            <a:chExt cx="1828800" cy="304920"/>
          </a:xfrm>
        </p:grpSpPr>
        <p:sp>
          <p:nvSpPr>
            <p:cNvPr id="50" name=""/>
            <p:cNvSpPr/>
            <p:nvPr/>
          </p:nvSpPr>
          <p:spPr>
            <a:xfrm>
              <a:off x="2590920" y="236844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00400" y="236844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236844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200400" y="2673360"/>
            <a:ext cx="1828800" cy="304920"/>
            <a:chOff x="3200400" y="2673360"/>
            <a:chExt cx="1828800" cy="304920"/>
          </a:xfrm>
        </p:grpSpPr>
        <p:sp>
          <p:nvSpPr>
            <p:cNvPr id="54" name=""/>
            <p:cNvSpPr/>
            <p:nvPr/>
          </p:nvSpPr>
          <p:spPr>
            <a:xfrm>
              <a:off x="3200400" y="2673360"/>
              <a:ext cx="609480" cy="304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9880" y="2673360"/>
              <a:ext cx="609480" cy="304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19360" y="2673360"/>
              <a:ext cx="609840" cy="304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981080" y="3130560"/>
            <a:ext cx="3047760" cy="152280"/>
            <a:chOff x="1981080" y="3130560"/>
            <a:chExt cx="3047760" cy="152280"/>
          </a:xfrm>
        </p:grpSpPr>
        <p:sp>
          <p:nvSpPr>
            <p:cNvPr id="58" name=""/>
            <p:cNvSpPr/>
            <p:nvPr/>
          </p:nvSpPr>
          <p:spPr>
            <a:xfrm>
              <a:off x="1981080" y="32065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108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56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004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988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2884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752480" y="3282840"/>
            <a:ext cx="3581640" cy="307080"/>
            <a:chOff x="1752480" y="3282840"/>
            <a:chExt cx="3581640" cy="307080"/>
          </a:xfrm>
        </p:grpSpPr>
        <p:sp>
          <p:nvSpPr>
            <p:cNvPr id="66" name=""/>
            <p:cNvSpPr/>
            <p:nvPr/>
          </p:nvSpPr>
          <p:spPr>
            <a:xfrm>
              <a:off x="1752480" y="32828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2320" y="328284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1800" y="32828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1280" y="32828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328284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00600" y="32828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81080" y="1676520"/>
            <a:ext cx="3171960" cy="228600"/>
          </a:xfrm>
          <a:custGeom>
            <a:avLst/>
            <a:gdLst/>
            <a:ahLst/>
            <a:rect l="l" t="t" r="r" b="b"/>
            <a:pathLst>
              <a:path w="1998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  <a:lnTo>
                  <a:pt x="384" y="192"/>
                </a:lnTo>
                <a:lnTo>
                  <a:pt x="384" y="0"/>
                </a:lnTo>
                <a:lnTo>
                  <a:pt x="576" y="0"/>
                </a:lnTo>
                <a:lnTo>
                  <a:pt x="576" y="192"/>
                </a:lnTo>
                <a:lnTo>
                  <a:pt x="768" y="192"/>
                </a:lnTo>
                <a:lnTo>
                  <a:pt x="768" y="0"/>
                </a:lnTo>
                <a:lnTo>
                  <a:pt x="960" y="0"/>
                </a:lnTo>
                <a:lnTo>
                  <a:pt x="960" y="192"/>
                </a:lnTo>
                <a:lnTo>
                  <a:pt x="1152" y="192"/>
                </a:lnTo>
                <a:lnTo>
                  <a:pt x="1152" y="0"/>
                </a:lnTo>
                <a:lnTo>
                  <a:pt x="1344" y="0"/>
                </a:lnTo>
                <a:lnTo>
                  <a:pt x="1344" y="192"/>
                </a:lnTo>
                <a:lnTo>
                  <a:pt x="1536" y="192"/>
                </a:lnTo>
                <a:lnTo>
                  <a:pt x="1536" y="0"/>
                </a:lnTo>
                <a:lnTo>
                  <a:pt x="1728" y="0"/>
                </a:lnTo>
                <a:lnTo>
                  <a:pt x="1728" y="192"/>
                </a:lnTo>
                <a:lnTo>
                  <a:pt x="1920" y="192"/>
                </a:lnTo>
                <a:cubicBezTo>
                  <a:pt x="1920" y="128"/>
                  <a:pt x="1920" y="64"/>
                  <a:pt x="1920" y="0"/>
                </a:cubicBezTo>
                <a:cubicBezTo>
                  <a:pt x="1992" y="0"/>
                  <a:pt x="1982" y="0"/>
                  <a:pt x="199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676520"/>
            <a:ext cx="838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21:42:46Z</dcterms:created>
  <dc:creator>Randal E. Bryant</dc:creator>
  <dc:description/>
  <dc:language>en-US</dc:language>
  <cp:lastModifiedBy>Randal E. Bryant</cp:lastModifiedBy>
  <dcterms:modified xsi:type="dcterms:W3CDTF">2003-05-27T13:16:54Z</dcterms:modified>
  <cp:revision>6</cp:revision>
  <dc:subject/>
  <dc:title>PowerPoint Presentation</dc:title>
</cp:coreProperties>
</file>