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3F4-5DC5-4A39-9855-72E22E65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1B6-8753-455C-B4B6-A64B82FD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260-8D92-44E3-B406-33584EB8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2E8-7A63-4E60-95A0-D2EF5AC6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007-21E0-4DB4-8939-F9151C3F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F57-A87A-42F9-BCD9-24377B63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110-FC1D-4A8A-B463-4625C093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5E6-66D3-4AB0-943B-DEF43277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3DA-D0F9-411E-99CA-27B692DE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302-DA47-42D6-83CF-7859B05E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31B-CD33-4A84-BAB6-A4371D2E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B38-60CF-4567-BD3F-2E58FD53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FE97-2C2C-4468-8D25-D3C377B9F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1447812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447812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5715000"/>
            <a:ext cx="304560" cy="81532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138682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38682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9296280"/>
            <a:ext cx="53316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486400" y="9372600"/>
            <a:ext cx="1295280" cy="45720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6781680"/>
            <a:ext cx="10666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10080" y="94489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6040" y="139446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5320" y="12039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5320" y="93726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4600" y="70102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6760" y="53341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31382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ode, if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, 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67280" y="12099960"/>
            <a:ext cx="1066680" cy="719280"/>
            <a:chOff x="5867280" y="12099960"/>
            <a:chExt cx="1066680" cy="719280"/>
          </a:xfrm>
        </p:grpSpPr>
        <p:sp>
          <p:nvSpPr>
            <p:cNvPr id="57" name=""/>
            <p:cNvSpPr/>
            <p:nvPr/>
          </p:nvSpPr>
          <p:spPr>
            <a:xfrm>
              <a:off x="5867280" y="12115800"/>
              <a:ext cx="9903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1956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0044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040" y="121921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29040" y="12573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733920" y="152398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85640" y="9448920"/>
            <a:ext cx="2590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13335120"/>
            <a:ext cx="152640" cy="5331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29200" y="12724920"/>
            <a:ext cx="152280" cy="13716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4190760" y="132584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3030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4876560" y="11810520"/>
            <a:ext cx="152280" cy="13716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5486400" y="1234440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1887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cA, sr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tA, ds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11506320"/>
            <a:ext cx="152280" cy="6094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5410080" y="10667520"/>
            <a:ext cx="152280" cy="18288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190760" y="114296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1125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A, va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5143320" y="9410400"/>
            <a:ext cx="152280" cy="19051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10134720"/>
            <a:ext cx="15228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982980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9906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A, al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90676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8839080"/>
            <a:ext cx="152280" cy="5335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5257440" y="8076960"/>
            <a:ext cx="152640" cy="16765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190760" y="876276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8458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7620120" y="11963160"/>
            <a:ext cx="152280" cy="1066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81680" y="123440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5791320"/>
            <a:ext cx="304920" cy="678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095880" y="3352320"/>
            <a:ext cx="304920" cy="4572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2971440" y="15163200"/>
            <a:ext cx="304920" cy="2286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15925680"/>
            <a:ext cx="304560" cy="304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15621120"/>
            <a:ext cx="60984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4914720" y="7353000"/>
            <a:ext cx="152280" cy="1447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7772400"/>
            <a:ext cx="152280" cy="304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746748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7620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,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6248520"/>
            <a:ext cx="152280" cy="5331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5067360" y="5752800"/>
            <a:ext cx="152280" cy="114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90760" y="61718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5867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7086600"/>
            <a:ext cx="914400" cy="304920"/>
            <a:chOff x="3657600" y="7086600"/>
            <a:chExt cx="914400" cy="304920"/>
          </a:xfrm>
        </p:grpSpPr>
        <p:sp>
          <p:nvSpPr>
            <p:cNvPr id="100" name=""/>
            <p:cNvSpPr/>
            <p:nvPr/>
          </p:nvSpPr>
          <p:spPr>
            <a:xfrm>
              <a:off x="3657600" y="708660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708660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924680" y="8534520"/>
            <a:ext cx="914400" cy="304560"/>
            <a:chOff x="7924680" y="8534520"/>
            <a:chExt cx="914400" cy="304560"/>
          </a:xfrm>
        </p:grpSpPr>
        <p:sp>
          <p:nvSpPr>
            <p:cNvPr id="103" name=""/>
            <p:cNvSpPr/>
            <p:nvPr/>
          </p:nvSpPr>
          <p:spPr>
            <a:xfrm flipV="1">
              <a:off x="7924680" y="8534520"/>
              <a:ext cx="609480" cy="30456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229600" y="8534520"/>
              <a:ext cx="609480" cy="30456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038480" y="14782680"/>
            <a:ext cx="152640" cy="457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914360" y="14287320"/>
            <a:ext cx="152640" cy="160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14782680"/>
            <a:ext cx="152640" cy="38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600" y="152398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1055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E, v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6019920"/>
            <a:ext cx="304920" cy="10210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76520" y="9981720"/>
            <a:ext cx="914400" cy="304920"/>
            <a:chOff x="1676520" y="9981720"/>
            <a:chExt cx="914400" cy="304920"/>
          </a:xfrm>
        </p:grpSpPr>
        <p:sp>
          <p:nvSpPr>
            <p:cNvPr id="112" name=""/>
            <p:cNvSpPr/>
            <p:nvPr/>
          </p:nvSpPr>
          <p:spPr>
            <a:xfrm flipV="1">
              <a:off x="1676520" y="99813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981440" y="99813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rot="16200000">
            <a:off x="2933640" y="5067000"/>
            <a:ext cx="152280" cy="20574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57150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314880" y="12077280"/>
            <a:ext cx="152280" cy="160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2209680" y="1272528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220796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ode, v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48590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17720" y="4044960"/>
            <a:ext cx="35557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3-11T17:12:34Z</dcterms:modified>
  <cp:revision>40</cp:revision>
  <dc:subject/>
  <dc:title>PowerPoint Presentation</dc:title>
</cp:coreProperties>
</file>