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004-93B4-4014-98C5-5B1A1933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EB7-5697-45B6-8961-12414949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902-C0ED-4D5E-8BE4-DA8304D9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332-0B68-4E05-BC12-A88606B4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041-50EC-4C9E-B4DF-3B0BEF87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F59-310D-49A6-A81D-635ED3E5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8F4-FE74-4D73-BF31-687CD39A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17C-CDF9-4C53-9D4E-28C294C8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3A4-ACF8-47F1-8E25-0EE013D8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A7A-F65D-44E3-B8B7-F80E67D3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B71-A021-4D1E-AB8F-40CF2ACC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2AB8-52CB-4929-A2BB-8BA24E93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A930-A739-4AF7-A623-7B643431D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0292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38080" y="472428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80376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10832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41324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4840" y="76212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. Hardware: Three-stage pipeline, nonuniform stage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160" y="32148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. Pipeline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11240" y="1552680"/>
            <a:ext cx="2160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155680"/>
            <a:ext cx="4572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2155680"/>
            <a:ext cx="4572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2841480"/>
            <a:ext cx="0" cy="20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5280" y="3200400"/>
            <a:ext cx="69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25840" y="1552680"/>
            <a:ext cx="2160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2155680"/>
            <a:ext cx="4572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2155680"/>
            <a:ext cx="4572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841480"/>
            <a:ext cx="0" cy="20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1552680"/>
            <a:ext cx="136512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3240" y="1552680"/>
            <a:ext cx="2160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2155680"/>
            <a:ext cx="4572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2155680"/>
            <a:ext cx="4572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2841480"/>
            <a:ext cx="0" cy="43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11640" y="1552680"/>
            <a:ext cx="90180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143000"/>
            <a:ext cx="762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62120" y="114300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1143000"/>
            <a:ext cx="116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76720" y="114300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6520" y="114300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34120" y="114300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0481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70880" y="1905120"/>
            <a:ext cx="2485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 = 51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put = 5.88 G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1523880"/>
            <a:ext cx="45720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219320" y="3809880"/>
            <a:ext cx="2743200" cy="304920"/>
            <a:chOff x="1219320" y="3809880"/>
            <a:chExt cx="2743200" cy="304920"/>
          </a:xfrm>
        </p:grpSpPr>
        <p:sp>
          <p:nvSpPr>
            <p:cNvPr id="73" name=""/>
            <p:cNvSpPr/>
            <p:nvPr/>
          </p:nvSpPr>
          <p:spPr>
            <a:xfrm>
              <a:off x="1219320" y="3809880"/>
              <a:ext cx="30456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33720" y="3809880"/>
              <a:ext cx="91440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8120" y="380988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9320" y="3809880"/>
              <a:ext cx="9144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3809880"/>
              <a:ext cx="9144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133720" y="4114800"/>
            <a:ext cx="2743200" cy="304920"/>
            <a:chOff x="2133720" y="4114800"/>
            <a:chExt cx="2743200" cy="304920"/>
          </a:xfrm>
        </p:grpSpPr>
        <p:sp>
          <p:nvSpPr>
            <p:cNvPr id="79" name=""/>
            <p:cNvSpPr/>
            <p:nvPr/>
          </p:nvSpPr>
          <p:spPr>
            <a:xfrm>
              <a:off x="2133720" y="4114800"/>
              <a:ext cx="30456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8120" y="4114800"/>
              <a:ext cx="91440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2520" y="411480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3720" y="4114800"/>
              <a:ext cx="9144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62520" y="4114800"/>
              <a:ext cx="9144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048120" y="4419720"/>
            <a:ext cx="2743200" cy="304560"/>
            <a:chOff x="3048120" y="4419720"/>
            <a:chExt cx="2743200" cy="304560"/>
          </a:xfrm>
        </p:grpSpPr>
        <p:sp>
          <p:nvSpPr>
            <p:cNvPr id="85" name=""/>
            <p:cNvSpPr/>
            <p:nvPr/>
          </p:nvSpPr>
          <p:spPr>
            <a:xfrm>
              <a:off x="3048120" y="4419720"/>
              <a:ext cx="30456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4419720"/>
              <a:ext cx="91440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920" y="4419720"/>
              <a:ext cx="60948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8120" y="4419720"/>
              <a:ext cx="9144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76920" y="4419720"/>
              <a:ext cx="9144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3:45:25Z</dcterms:created>
  <dc:creator>Randal E. Bryant</dc:creator>
  <dc:description/>
  <dc:language>en-US</dc:language>
  <cp:lastModifiedBy>Randal E. Bryant</cp:lastModifiedBy>
  <dcterms:modified xsi:type="dcterms:W3CDTF">2002-03-03T19:54:25Z</dcterms:modified>
  <cp:revision>11</cp:revision>
  <dc:subject/>
  <dc:title>PowerPoint Presentation</dc:title>
</cp:coreProperties>
</file>