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8BE-6A1F-4D12-A9C7-E9E8682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6B2-D367-4FA6-B8CF-A036679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9F5-126E-44A0-A522-61D93FC2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34D-09C2-42D4-BDEF-1B9E7EF1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83F-0ABE-4D54-818E-18262CCE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DD2-CDA9-4F62-A6F3-756679A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309-EBF7-41EF-A2C6-23530A8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3F5-1D04-4D37-AB38-7D5BE99F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897-35E8-4A07-9E53-F5D605C3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2FA-5334-483E-A642-3AB5A51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622-20FF-45A8-8245-51A45AA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B88-5BFA-45D5-AC25-CFE0BFA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8DD5-77A6-4CCC-865A-0C9B47B8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42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487044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3880" y="454356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803760"/>
            <a:ext cx="175248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108320"/>
            <a:ext cx="175284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413240"/>
            <a:ext cx="17524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7320" y="76212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Unpipe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69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39:15Z</dcterms:modified>
  <cp:revision>6</cp:revision>
  <dc:subject/>
  <dc:title>PowerPoint Presentation</dc:title>
</cp:coreProperties>
</file>