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234-57A8-490C-873D-7BEA20E0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77F-9198-4AA0-9040-394AFC0E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D196-77F6-42F9-8CBC-94A51FC9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36FF-54C3-494A-9351-E37C902F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5AE-0A47-40AE-8781-4EDB1CD9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0ED5-90BF-4F17-B4CA-B81D4848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A63-56FD-4247-9158-C5778597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29A-CD04-4883-9C80-1A62A76E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25760"/>
            <a:ext cx="7772400" cy="14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4AA-46BA-4CD0-B7E2-F4A9EB98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B84-77A9-4C39-A0C0-E9732DAC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7D9-1C8D-4D58-9567-B1A6B613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BD4-FEBC-4889-ABC9-AE7677B4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66188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4901-61EE-4F25-8F77-E1618A8B4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4495680" y="8229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7600" y="6629400"/>
            <a:ext cx="10666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3809880" y="8229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886200" y="74671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8229600"/>
            <a:ext cx="457200" cy="380880"/>
          </a:xfrm>
          <a:custGeom>
            <a:avLst/>
            <a:gdLst/>
            <a:ahLst/>
            <a:rect l="l" t="t" r="r" b="b"/>
            <a:pathLst>
              <a:path w="384" h="48">
                <a:moveTo>
                  <a:pt x="384" y="48"/>
                </a:move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655308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91120" y="6248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08960" y="8229600"/>
            <a:ext cx="2133720" cy="228600"/>
          </a:xfrm>
          <a:custGeom>
            <a:avLst/>
            <a:gdLst/>
            <a:ahLst/>
            <a:rect l="l" t="t" r="r" b="b"/>
            <a:pathLst>
              <a:path w="384" h="48">
                <a:moveTo>
                  <a:pt x="384" y="48"/>
                </a:move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200400" y="67816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200400" y="7315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7772400"/>
            <a:ext cx="60984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65530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729936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63849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419720" y="8534520"/>
            <a:ext cx="152280" cy="152280"/>
            <a:chOff x="4419720" y="8534520"/>
            <a:chExt cx="152280" cy="152280"/>
          </a:xfrm>
        </p:grpSpPr>
        <p:sp>
          <p:nvSpPr>
            <p:cNvPr id="56" name=""/>
            <p:cNvSpPr/>
            <p:nvPr/>
          </p:nvSpPr>
          <p:spPr>
            <a:xfrm>
              <a:off x="4457880" y="8572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19720" y="85345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267080" y="7772400"/>
            <a:ext cx="60984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868680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594360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868680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868680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572000" y="74671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708660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7467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868680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6781680"/>
            <a:ext cx="304920" cy="1981440"/>
          </a:xfrm>
          <a:custGeom>
            <a:avLst/>
            <a:gdLst/>
            <a:ahLst/>
            <a:rect l="l" t="t" r="r" b="b"/>
            <a:pathLst>
              <a:path w="192" h="1248">
                <a:moveTo>
                  <a:pt x="0" y="1248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7315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57600" y="822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24280" y="8229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581280" y="8381880"/>
            <a:ext cx="152640" cy="152640"/>
            <a:chOff x="3581280" y="8381880"/>
            <a:chExt cx="152640" cy="152640"/>
          </a:xfrm>
        </p:grpSpPr>
        <p:sp>
          <p:nvSpPr>
            <p:cNvPr id="72" name=""/>
            <p:cNvSpPr/>
            <p:nvPr/>
          </p:nvSpPr>
          <p:spPr>
            <a:xfrm>
              <a:off x="3619440" y="8420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81280" y="838188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133720" y="7238880"/>
            <a:ext cx="152280" cy="152640"/>
            <a:chOff x="2133720" y="7238880"/>
            <a:chExt cx="152280" cy="152640"/>
          </a:xfrm>
        </p:grpSpPr>
        <p:sp>
          <p:nvSpPr>
            <p:cNvPr id="75" name=""/>
            <p:cNvSpPr/>
            <p:nvPr/>
          </p:nvSpPr>
          <p:spPr>
            <a:xfrm>
              <a:off x="2171880" y="7277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723888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133720" y="8381880"/>
            <a:ext cx="152280" cy="152640"/>
            <a:chOff x="2133720" y="8381880"/>
            <a:chExt cx="152280" cy="152640"/>
          </a:xfrm>
        </p:grpSpPr>
        <p:sp>
          <p:nvSpPr>
            <p:cNvPr id="78" name=""/>
            <p:cNvSpPr/>
            <p:nvPr/>
          </p:nvSpPr>
          <p:spPr>
            <a:xfrm>
              <a:off x="2171880" y="8420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33720" y="838188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5:11:49Z</dcterms:created>
  <dc:creator>Randal E. Bryant</dc:creator>
  <dc:description/>
  <dc:language>en-US</dc:language>
  <cp:lastModifiedBy>Randal E. Bryant</cp:lastModifiedBy>
  <dcterms:modified xsi:type="dcterms:W3CDTF">2002-05-13T12:44:20Z</dcterms:modified>
  <cp:revision>31</cp:revision>
  <dc:subject/>
  <dc:title>PowerPoint Presentation</dc:title>
</cp:coreProperties>
</file>