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F4F-C911-4E46-BD97-95FF3865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959-C0A6-4ABA-BC21-D58ED744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936-568E-4D47-924C-C8E165A7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3FB-E00F-48B9-876B-1A3058B5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078-10A8-427D-9630-188059CB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430-EC63-48E3-AF8B-EBB939F6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D25-5D87-416D-BB78-9B7472CF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FCD-8B3A-484D-AB5A-C118D57C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D41-5720-40A1-8EC9-DA92EF9C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EA3-6352-473B-9C6B-0289A3B5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4E5-47C0-4C38-A770-3A03A546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C08-6074-4172-B07F-58584484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CC22-7686-4E76-9837-00E47CA1D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27880" y="3124080"/>
            <a:ext cx="4072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 = 420 ps, Throughput = 14.29 G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61800" y="1173240"/>
            <a:ext cx="8447760" cy="2283120"/>
            <a:chOff x="361800" y="1173240"/>
            <a:chExt cx="8447760" cy="2283120"/>
          </a:xfrm>
        </p:grpSpPr>
        <p:sp>
          <p:nvSpPr>
            <p:cNvPr id="43" name=""/>
            <p:cNvSpPr/>
            <p:nvPr/>
          </p:nvSpPr>
          <p:spPr>
            <a:xfrm>
              <a:off x="1670040" y="2084040"/>
              <a:ext cx="4129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1800" y="2084040"/>
              <a:ext cx="41148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2248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164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9408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1324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6568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8484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3728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5644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0888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78680" y="2084040"/>
              <a:ext cx="4129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06800" y="312408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39720" y="1541160"/>
              <a:ext cx="193680" cy="11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0040" y="270180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7480" y="1541160"/>
              <a:ext cx="466920" cy="1153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33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891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11320" y="1541160"/>
              <a:ext cx="192240" cy="11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1640" y="270180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89080" y="1541160"/>
              <a:ext cx="466920" cy="1153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49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07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82920" y="1541160"/>
              <a:ext cx="192240" cy="11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3240" y="270180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59240" y="1541160"/>
              <a:ext cx="468360" cy="1153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465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05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4520" y="1541160"/>
              <a:ext cx="192240" cy="11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84840" y="270180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30840" y="1541160"/>
              <a:ext cx="468360" cy="1153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181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039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26120" y="1541160"/>
              <a:ext cx="192240" cy="11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56440" y="270180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02440" y="1541160"/>
              <a:ext cx="468360" cy="1153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897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755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97720" y="1541160"/>
              <a:ext cx="192240" cy="11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528040" y="270180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4040" y="1541160"/>
              <a:ext cx="468360" cy="1153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613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471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0040" y="2976480"/>
              <a:ext cx="687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3:45:25Z</dcterms:created>
  <dc:creator>Randal E. Bryant</dc:creator>
  <dc:description/>
  <dc:language>en-US</dc:language>
  <cp:lastModifiedBy>Randal E. Bryant</cp:lastModifiedBy>
  <dcterms:modified xsi:type="dcterms:W3CDTF">2002-03-03T19:57:06Z</dcterms:modified>
  <cp:revision>10</cp:revision>
  <dc:subject/>
  <dc:title>PowerPoint Presentation</dc:title>
</cp:coreProperties>
</file>