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45DE-6582-4D1F-8112-E51296F01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809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6917-5438-4ED3-A515-AE7BB4C3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809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A1CD-72C7-4727-9EF4-4E471EBDD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809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79E6-C129-4ED4-B0A9-A4A341F83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809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DCFC-595C-4972-B18F-673E5220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809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5F4B-041D-417F-917F-59B4231B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809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7C11-CF67-47D4-B362-A04AC7C6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809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F486-6384-4AD8-A0FA-7B3D777A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304920"/>
            <a:ext cx="380988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3F97-8920-4383-9CD1-6DDC038B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809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15D1-EB50-4D93-B0DF-378188C7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809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488D-BDA5-4359-8913-BBC24B9D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809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4D6F-9889-4F35-83F0-8DB665BA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809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B622-0DDC-471C-BEED-0E5BE55AD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219320"/>
            <a:ext cx="19051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438280" y="1219320"/>
            <a:ext cx="609480" cy="304560"/>
            <a:chOff x="2438280" y="1219320"/>
            <a:chExt cx="609480" cy="304560"/>
          </a:xfrm>
        </p:grpSpPr>
        <p:sp>
          <p:nvSpPr>
            <p:cNvPr id="43" name=""/>
            <p:cNvSpPr/>
            <p:nvPr/>
          </p:nvSpPr>
          <p:spPr>
            <a:xfrm>
              <a:off x="2438280" y="1219320"/>
              <a:ext cx="30492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3200" y="1219320"/>
              <a:ext cx="30456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438280" y="1219320"/>
              <a:ext cx="609480" cy="304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2480" y="1676520"/>
            <a:ext cx="19051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438280" y="1676520"/>
            <a:ext cx="609480" cy="304560"/>
            <a:chOff x="2438280" y="1676520"/>
            <a:chExt cx="609480" cy="304560"/>
          </a:xfrm>
        </p:grpSpPr>
        <p:sp>
          <p:nvSpPr>
            <p:cNvPr id="48" name=""/>
            <p:cNvSpPr/>
            <p:nvPr/>
          </p:nvSpPr>
          <p:spPr>
            <a:xfrm>
              <a:off x="2438280" y="1676520"/>
              <a:ext cx="30492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43200" y="1676520"/>
              <a:ext cx="30456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38280" y="1676520"/>
              <a:ext cx="609480" cy="304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752480" y="2133720"/>
            <a:ext cx="19051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n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438280" y="2133720"/>
            <a:ext cx="609480" cy="304560"/>
            <a:chOff x="2438280" y="2133720"/>
            <a:chExt cx="609480" cy="304560"/>
          </a:xfrm>
        </p:grpSpPr>
        <p:sp>
          <p:nvSpPr>
            <p:cNvPr id="53" name=""/>
            <p:cNvSpPr/>
            <p:nvPr/>
          </p:nvSpPr>
          <p:spPr>
            <a:xfrm>
              <a:off x="2438280" y="2133720"/>
              <a:ext cx="30492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3200" y="2133720"/>
              <a:ext cx="30456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2133720"/>
              <a:ext cx="609480" cy="304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752480" y="2590920"/>
            <a:ext cx="19051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or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438280" y="2590920"/>
            <a:ext cx="609480" cy="304560"/>
            <a:chOff x="2438280" y="2590920"/>
            <a:chExt cx="609480" cy="304560"/>
          </a:xfrm>
        </p:grpSpPr>
        <p:sp>
          <p:nvSpPr>
            <p:cNvPr id="58" name=""/>
            <p:cNvSpPr/>
            <p:nvPr/>
          </p:nvSpPr>
          <p:spPr>
            <a:xfrm>
              <a:off x="2438280" y="2590920"/>
              <a:ext cx="30492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43200" y="2590920"/>
              <a:ext cx="30456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438280" y="2590920"/>
              <a:ext cx="609480" cy="304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4114800" y="1219320"/>
            <a:ext cx="19051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800600" y="1219320"/>
            <a:ext cx="609480" cy="304560"/>
            <a:chOff x="4800600" y="1219320"/>
            <a:chExt cx="609480" cy="304560"/>
          </a:xfrm>
        </p:grpSpPr>
        <p:sp>
          <p:nvSpPr>
            <p:cNvPr id="63" name=""/>
            <p:cNvSpPr/>
            <p:nvPr/>
          </p:nvSpPr>
          <p:spPr>
            <a:xfrm>
              <a:off x="4800600" y="1219320"/>
              <a:ext cx="30492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105520" y="1219320"/>
              <a:ext cx="30456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1219320"/>
              <a:ext cx="609480" cy="304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4114800" y="1676520"/>
            <a:ext cx="19051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800600" y="1676520"/>
            <a:ext cx="609480" cy="304560"/>
            <a:chOff x="4800600" y="1676520"/>
            <a:chExt cx="609480" cy="304560"/>
          </a:xfrm>
        </p:grpSpPr>
        <p:sp>
          <p:nvSpPr>
            <p:cNvPr id="68" name=""/>
            <p:cNvSpPr/>
            <p:nvPr/>
          </p:nvSpPr>
          <p:spPr>
            <a:xfrm>
              <a:off x="4800600" y="1676520"/>
              <a:ext cx="30492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05520" y="1676520"/>
              <a:ext cx="30456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00600" y="1676520"/>
              <a:ext cx="609480" cy="304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4114800" y="2133720"/>
            <a:ext cx="19051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800600" y="2133720"/>
            <a:ext cx="609480" cy="304560"/>
            <a:chOff x="4800600" y="2133720"/>
            <a:chExt cx="609480" cy="304560"/>
          </a:xfrm>
        </p:grpSpPr>
        <p:sp>
          <p:nvSpPr>
            <p:cNvPr id="73" name=""/>
            <p:cNvSpPr/>
            <p:nvPr/>
          </p:nvSpPr>
          <p:spPr>
            <a:xfrm>
              <a:off x="4800600" y="2133720"/>
              <a:ext cx="30492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105520" y="2133720"/>
              <a:ext cx="30456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00600" y="2133720"/>
              <a:ext cx="609480" cy="304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4114800" y="2590920"/>
            <a:ext cx="19051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800600" y="2590920"/>
            <a:ext cx="609480" cy="304560"/>
            <a:chOff x="4800600" y="2590920"/>
            <a:chExt cx="609480" cy="304560"/>
          </a:xfrm>
        </p:grpSpPr>
        <p:sp>
          <p:nvSpPr>
            <p:cNvPr id="78" name=""/>
            <p:cNvSpPr/>
            <p:nvPr/>
          </p:nvSpPr>
          <p:spPr>
            <a:xfrm>
              <a:off x="4800600" y="2590920"/>
              <a:ext cx="30492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05520" y="2590920"/>
              <a:ext cx="30456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00600" y="2590920"/>
              <a:ext cx="609480" cy="304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5791320" y="1219320"/>
            <a:ext cx="19047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477120" y="1219320"/>
            <a:ext cx="609480" cy="304560"/>
            <a:chOff x="6477120" y="1219320"/>
            <a:chExt cx="609480" cy="304560"/>
          </a:xfrm>
        </p:grpSpPr>
        <p:sp>
          <p:nvSpPr>
            <p:cNvPr id="83" name=""/>
            <p:cNvSpPr/>
            <p:nvPr/>
          </p:nvSpPr>
          <p:spPr>
            <a:xfrm>
              <a:off x="6477120" y="1219320"/>
              <a:ext cx="30492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82040" y="1219320"/>
              <a:ext cx="30456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7120" y="1219320"/>
              <a:ext cx="609480" cy="304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5791320" y="1676520"/>
            <a:ext cx="19047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477120" y="1676520"/>
            <a:ext cx="609480" cy="304560"/>
            <a:chOff x="6477120" y="1676520"/>
            <a:chExt cx="609480" cy="304560"/>
          </a:xfrm>
        </p:grpSpPr>
        <p:sp>
          <p:nvSpPr>
            <p:cNvPr id="88" name=""/>
            <p:cNvSpPr/>
            <p:nvPr/>
          </p:nvSpPr>
          <p:spPr>
            <a:xfrm>
              <a:off x="6477120" y="1676520"/>
              <a:ext cx="30492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82040" y="1676520"/>
              <a:ext cx="30456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77120" y="1676520"/>
              <a:ext cx="609480" cy="304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5791320" y="2133720"/>
            <a:ext cx="19047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477120" y="2133720"/>
            <a:ext cx="609480" cy="304560"/>
            <a:chOff x="6477120" y="2133720"/>
            <a:chExt cx="609480" cy="304560"/>
          </a:xfrm>
        </p:grpSpPr>
        <p:sp>
          <p:nvSpPr>
            <p:cNvPr id="93" name=""/>
            <p:cNvSpPr/>
            <p:nvPr/>
          </p:nvSpPr>
          <p:spPr>
            <a:xfrm>
              <a:off x="6477120" y="2133720"/>
              <a:ext cx="30492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82040" y="2133720"/>
              <a:ext cx="30456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477120" y="2133720"/>
              <a:ext cx="609480" cy="304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681560" y="685800"/>
            <a:ext cx="194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er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3120" y="6858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an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02:02:01Z</dcterms:created>
  <dc:creator>Randal E. Bryant</dc:creator>
  <dc:description/>
  <dc:language>en-US</dc:language>
  <cp:lastModifiedBy>Randal E. Bryant</cp:lastModifiedBy>
  <dcterms:modified xsi:type="dcterms:W3CDTF">2002-01-11T20:40:22Z</dcterms:modified>
  <cp:revision>33</cp:revision>
  <dc:subject/>
  <dc:title>PowerPoint Presentation</dc:title>
</cp:coreProperties>
</file>