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3A1-BD64-4C2E-B30A-88EB00E4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C3F-E081-46A6-87AA-2571A289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98E-0E2C-4AD3-981B-B1207CB9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8C2-DA59-495E-AD99-14E44468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79E-B239-4845-9D6B-B448BADF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7EB-3019-4654-9E1E-0C162CEC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EFD-BB3A-4070-BEAF-2C067A77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0F8-7B5C-4811-902C-83CAF9AF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36D-02E3-49EC-91D8-3724F1BD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B4E-E2D5-48E5-86A5-235CEDB9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E05-96F7-4D71-B0F3-50E07F5B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7BD-AB05-4D3B-A408-7554530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29B9-2855-41F5-A5F5-378BC211F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00400" y="1073160"/>
            <a:ext cx="825480" cy="439560"/>
            <a:chOff x="3200400" y="1073160"/>
            <a:chExt cx="825480" cy="439560"/>
          </a:xfrm>
        </p:grpSpPr>
        <p:sp>
          <p:nvSpPr>
            <p:cNvPr id="42" name=""/>
            <p:cNvSpPr/>
            <p:nvPr/>
          </p:nvSpPr>
          <p:spPr>
            <a:xfrm>
              <a:off x="3875040" y="12952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00400" y="144144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00400" y="114948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73480" y="107316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3480" y="107316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181480" y="1143000"/>
            <a:ext cx="603000" cy="291960"/>
            <a:chOff x="5181480" y="1143000"/>
            <a:chExt cx="603000" cy="291960"/>
          </a:xfrm>
        </p:grpSpPr>
        <p:sp>
          <p:nvSpPr>
            <p:cNvPr id="48" name=""/>
            <p:cNvSpPr/>
            <p:nvPr/>
          </p:nvSpPr>
          <p:spPr>
            <a:xfrm>
              <a:off x="5633640" y="1289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2320" y="11430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2320" y="11430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40120" y="12477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40120" y="12477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81480" y="1289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447920" y="1073160"/>
            <a:ext cx="907920" cy="439560"/>
            <a:chOff x="1447920" y="1073160"/>
            <a:chExt cx="907920" cy="439560"/>
          </a:xfrm>
        </p:grpSpPr>
        <p:sp>
          <p:nvSpPr>
            <p:cNvPr id="55" name=""/>
            <p:cNvSpPr/>
            <p:nvPr/>
          </p:nvSpPr>
          <p:spPr>
            <a:xfrm>
              <a:off x="1447920" y="114948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7920" y="144144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05000" y="12952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98760" y="107316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98760" y="107316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144800" y="95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480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4120" y="111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7280" y="92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7280" y="1187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6600" y="1079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8360" y="1066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3120" y="106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=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=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1523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609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609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6094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15T16:25:42Z</dcterms:modified>
  <cp:revision>2</cp:revision>
  <dc:subject/>
  <dc:title>PowerPoint Presentation</dc:title>
</cp:coreProperties>
</file>