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821-D546-45F0-ACAF-C1063D70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B82-B5C3-4A5D-A10C-340A974A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CBB-F3BF-4AA2-AC08-DB296FC4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C0C-BC72-40F8-8D07-2B72D12B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093-CF97-42E0-8939-ADB55201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EB5-D26D-4D2F-AAB1-110E13EC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E90-AA2C-4AC5-8CF5-280D4393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639-ACAA-4A37-8361-0B5CDF0D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C0C-2136-4BE6-ADC3-EB3A75E7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6CB-A35D-4460-8C1B-FC2C6D72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5BB-BF18-49BD-99F0-F823EF1E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1A3-FDCB-4C11-992C-B188B1F5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84C6-BF07-45AA-A2AE-F8B955C5D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29200" y="14249520"/>
            <a:ext cx="4572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3886200" y="1279656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13335120"/>
            <a:ext cx="457200" cy="3045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3335120"/>
            <a:ext cx="457200" cy="3045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181480" y="115819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3335120"/>
            <a:ext cx="457200" cy="3045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13335120"/>
            <a:ext cx="457200" cy="3045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11963520"/>
            <a:ext cx="18288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19476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119476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12039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124207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124966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124966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24966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124966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4249520"/>
            <a:ext cx="4572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424952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12014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962520" y="115819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112014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11582280"/>
            <a:ext cx="1143000" cy="914400"/>
          </a:xfrm>
          <a:custGeom>
            <a:avLst/>
            <a:gdLst/>
            <a:ahLst/>
            <a:rect l="l" t="t" r="r" b="b"/>
            <a:pathLst>
              <a:path w="1152" h="2736">
                <a:moveTo>
                  <a:pt x="1152" y="0"/>
                </a:moveTo>
                <a:lnTo>
                  <a:pt x="1152" y="2736"/>
                </a:lnTo>
                <a:lnTo>
                  <a:pt x="0" y="27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11582280"/>
            <a:ext cx="685800" cy="533520"/>
          </a:xfrm>
          <a:custGeom>
            <a:avLst/>
            <a:gdLst/>
            <a:ahLst/>
            <a:rect l="l" t="t" r="r" b="b"/>
            <a:pathLst>
              <a:path w="1248" h="3936">
                <a:moveTo>
                  <a:pt x="1248" y="0"/>
                </a:moveTo>
                <a:lnTo>
                  <a:pt x="1248" y="3936"/>
                </a:lnTo>
                <a:lnTo>
                  <a:pt x="0" y="39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343400" y="1279656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800600" y="1279656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257800" y="1279656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800600" y="13639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257800" y="13639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13639680"/>
            <a:ext cx="457200" cy="38124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288" y="240"/>
                </a:move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3639680"/>
            <a:ext cx="1371600" cy="533520"/>
          </a:xfrm>
          <a:custGeom>
            <a:avLst/>
            <a:gdLst/>
            <a:ahLst/>
            <a:rect l="l" t="t" r="r" b="b"/>
            <a:pathLst>
              <a:path w="864" h="192">
                <a:moveTo>
                  <a:pt x="864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724280" y="13944600"/>
            <a:ext cx="152640" cy="152280"/>
            <a:chOff x="4724280" y="13944600"/>
            <a:chExt cx="152640" cy="152280"/>
          </a:xfrm>
        </p:grpSpPr>
        <p:sp>
          <p:nvSpPr>
            <p:cNvPr id="72" name=""/>
            <p:cNvSpPr/>
            <p:nvPr/>
          </p:nvSpPr>
          <p:spPr>
            <a:xfrm>
              <a:off x="4762440" y="13982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280" y="1394460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181480" y="14096880"/>
            <a:ext cx="152640" cy="152640"/>
            <a:chOff x="5181480" y="14096880"/>
            <a:chExt cx="152640" cy="152640"/>
          </a:xfrm>
        </p:grpSpPr>
        <p:sp>
          <p:nvSpPr>
            <p:cNvPr id="75" name=""/>
            <p:cNvSpPr/>
            <p:nvPr/>
          </p:nvSpPr>
          <p:spPr>
            <a:xfrm>
              <a:off x="5219640" y="14135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81480" y="140968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200400" y="13639680"/>
            <a:ext cx="1905120" cy="685800"/>
          </a:xfrm>
          <a:custGeom>
            <a:avLst/>
            <a:gdLst/>
            <a:ahLst/>
            <a:rect l="l" t="t" r="r" b="b"/>
            <a:pathLst>
              <a:path w="1200" h="432">
                <a:moveTo>
                  <a:pt x="0" y="432"/>
                </a:moveTo>
                <a:lnTo>
                  <a:pt x="0" y="144"/>
                </a:lnTo>
                <a:lnTo>
                  <a:pt x="1200" y="144"/>
                </a:lnTo>
                <a:lnTo>
                  <a:pt x="120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648320" y="1363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72000" y="13792320"/>
            <a:ext cx="152280" cy="152280"/>
            <a:chOff x="4572000" y="13792320"/>
            <a:chExt cx="152280" cy="152280"/>
          </a:xfrm>
        </p:grpSpPr>
        <p:sp>
          <p:nvSpPr>
            <p:cNvPr id="80" name=""/>
            <p:cNvSpPr/>
            <p:nvPr/>
          </p:nvSpPr>
          <p:spPr>
            <a:xfrm>
              <a:off x="4610160" y="13830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137923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4191120" y="1363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14800" y="13792320"/>
            <a:ext cx="152280" cy="152280"/>
            <a:chOff x="4114800" y="13792320"/>
            <a:chExt cx="152280" cy="152280"/>
          </a:xfrm>
        </p:grpSpPr>
        <p:sp>
          <p:nvSpPr>
            <p:cNvPr id="84" name=""/>
            <p:cNvSpPr/>
            <p:nvPr/>
          </p:nvSpPr>
          <p:spPr>
            <a:xfrm>
              <a:off x="4152960" y="13830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14800" y="137923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 flipV="1">
            <a:off x="3733920" y="1363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657600" y="13792320"/>
            <a:ext cx="152280" cy="152280"/>
            <a:chOff x="3657600" y="13792320"/>
            <a:chExt cx="152280" cy="152280"/>
          </a:xfrm>
        </p:grpSpPr>
        <p:sp>
          <p:nvSpPr>
            <p:cNvPr id="88" name=""/>
            <p:cNvSpPr/>
            <p:nvPr/>
          </p:nvSpPr>
          <p:spPr>
            <a:xfrm>
              <a:off x="3695760" y="13830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7600" y="137923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400800" y="112014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112014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5-13T12:40:23Z</dcterms:modified>
  <cp:revision>31</cp:revision>
  <dc:subject/>
  <dc:title>PowerPoint Presentation</dc:title>
</cp:coreProperties>
</file>