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E02-51DF-4CA3-8F0F-4446C3DF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323-CED3-43FE-8B6C-79DAC11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976-6481-4DE3-ABD8-BDF044E5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D7B-B869-4650-A520-467C973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E90-FBC1-4891-8A0B-4D5AADD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A88-0175-42BC-B4B8-37A7470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9E2-9EDF-41F3-8582-27B66AC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609-703B-461D-BD9B-138F211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247-960D-4B69-9E5B-43B4192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AF8-BAC6-49C8-8644-75DD5CA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353-2C64-4285-80B5-8B9975E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E18-A1E3-4D27-9E53-67AE12C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AAC-24F3-458D-94D9-07BF1CEB6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539800" y="92203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9067680"/>
            <a:ext cx="4827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97534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97534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29000" y="8305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71800" y="9448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83059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43200" y="10363320"/>
            <a:ext cx="152280" cy="152280"/>
            <a:chOff x="2743200" y="10363320"/>
            <a:chExt cx="152280" cy="152280"/>
          </a:xfrm>
        </p:grpSpPr>
        <p:sp>
          <p:nvSpPr>
            <p:cNvPr id="50" name=""/>
            <p:cNvSpPr/>
            <p:nvPr/>
          </p:nvSpPr>
          <p:spPr>
            <a:xfrm>
              <a:off x="278136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10363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419720" y="8915400"/>
            <a:ext cx="76176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86200" y="9144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7924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28800" y="5486040"/>
            <a:ext cx="0" cy="762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7924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57600" y="10363320"/>
            <a:ext cx="152280" cy="152280"/>
            <a:chOff x="3657600" y="10363320"/>
            <a:chExt cx="152280" cy="152280"/>
          </a:xfrm>
        </p:grpSpPr>
        <p:sp>
          <p:nvSpPr>
            <p:cNvPr id="63" name=""/>
            <p:cNvSpPr/>
            <p:nvPr/>
          </p:nvSpPr>
          <p:spPr>
            <a:xfrm>
              <a:off x="369576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10363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327672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9448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71600" y="8991360"/>
            <a:ext cx="380880" cy="1752120"/>
            <a:chOff x="1371600" y="8991360"/>
            <a:chExt cx="380880" cy="1752120"/>
          </a:xfrm>
        </p:grpSpPr>
        <p:sp>
          <p:nvSpPr>
            <p:cNvPr id="70" name=""/>
            <p:cNvSpPr/>
            <p:nvPr/>
          </p:nvSpPr>
          <p:spPr>
            <a:xfrm flipV="1">
              <a:off x="1371600" y="899136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52480" y="899136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373392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95280" y="10363320"/>
            <a:ext cx="152640" cy="152280"/>
            <a:chOff x="1295280" y="10363320"/>
            <a:chExt cx="152640" cy="152280"/>
          </a:xfrm>
        </p:grpSpPr>
        <p:sp>
          <p:nvSpPr>
            <p:cNvPr id="74" name=""/>
            <p:cNvSpPr/>
            <p:nvPr/>
          </p:nvSpPr>
          <p:spPr>
            <a:xfrm>
              <a:off x="133344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03633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1371600" y="9448920"/>
            <a:ext cx="3276720" cy="99036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158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09680" y="10363320"/>
            <a:ext cx="152640" cy="152280"/>
            <a:chOff x="2209680" y="10363320"/>
            <a:chExt cx="152640" cy="152280"/>
          </a:xfrm>
        </p:grpSpPr>
        <p:sp>
          <p:nvSpPr>
            <p:cNvPr id="78" name=""/>
            <p:cNvSpPr/>
            <p:nvPr/>
          </p:nvSpPr>
          <p:spPr>
            <a:xfrm>
              <a:off x="224784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09680" y="103633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057400" y="9753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86000" y="94489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8610480"/>
            <a:ext cx="6094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76520" y="10526760"/>
            <a:ext cx="149040" cy="141120"/>
            <a:chOff x="1676520" y="10526760"/>
            <a:chExt cx="149040" cy="141120"/>
          </a:xfrm>
        </p:grpSpPr>
        <p:sp>
          <p:nvSpPr>
            <p:cNvPr id="84" name=""/>
            <p:cNvSpPr/>
            <p:nvPr/>
          </p:nvSpPr>
          <p:spPr>
            <a:xfrm>
              <a:off x="1713600" y="10562040"/>
              <a:ext cx="74520" cy="70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6520" y="10526760"/>
              <a:ext cx="1490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1752480" y="9448920"/>
            <a:ext cx="3200400" cy="11430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158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28600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88390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2:10Z</dcterms:modified>
  <cp:revision>32</cp:revision>
  <dc:subject/>
  <dc:title>PowerPoint Presentation</dc:title>
</cp:coreProperties>
</file>