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315200" cy="10972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0B34-1055-4127-B9BA-B5DB9E47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974880"/>
            <a:ext cx="6216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3169800"/>
            <a:ext cx="62164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6608520"/>
            <a:ext cx="62164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6769-5E63-4D8F-8F0F-23AEC633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974880"/>
            <a:ext cx="6216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3169800"/>
            <a:ext cx="30333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4640" y="3169800"/>
            <a:ext cx="30333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6608520"/>
            <a:ext cx="30333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4640" y="6608520"/>
            <a:ext cx="30333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FD08-BC4C-4D56-BE57-BBB18387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974880"/>
            <a:ext cx="6216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3169800"/>
            <a:ext cx="200160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51400" y="3169800"/>
            <a:ext cx="200160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53440" y="3169800"/>
            <a:ext cx="200160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6608520"/>
            <a:ext cx="200160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51400" y="6608520"/>
            <a:ext cx="200160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53440" y="6608520"/>
            <a:ext cx="200160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D2EA-DC55-4747-98AA-F2A7FEEE0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974880"/>
            <a:ext cx="6216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3169800"/>
            <a:ext cx="6216480" cy="65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E631-0849-4D1C-BB62-FB1C2645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974880"/>
            <a:ext cx="6216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3169800"/>
            <a:ext cx="621648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2FC0-8E96-439E-9BE2-7A161597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974880"/>
            <a:ext cx="6216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3169800"/>
            <a:ext cx="303336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4640" y="3169800"/>
            <a:ext cx="303336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10FF-23AF-4D56-A8BE-6EBFD9A2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974880"/>
            <a:ext cx="6216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1230-6141-4687-B3D4-A892B3B6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974880"/>
            <a:ext cx="621648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45F6-308C-4D7E-A752-BC0DDB61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974880"/>
            <a:ext cx="6216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3169800"/>
            <a:ext cx="30333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4640" y="3169800"/>
            <a:ext cx="303336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6608520"/>
            <a:ext cx="30333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03F7-FB52-46F5-B142-9A7D0367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974880"/>
            <a:ext cx="6216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3169800"/>
            <a:ext cx="303336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4640" y="3169800"/>
            <a:ext cx="30333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4640" y="6608520"/>
            <a:ext cx="30333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A95E-70AA-4F1A-A3B4-7AA15CAE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974880"/>
            <a:ext cx="6216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3169800"/>
            <a:ext cx="30333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4640" y="3169800"/>
            <a:ext cx="30333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6608520"/>
            <a:ext cx="62164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9550-4DB8-45BB-BBF6-932B696E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974880"/>
            <a:ext cx="6216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3169800"/>
            <a:ext cx="621648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000" y="9997560"/>
            <a:ext cx="152388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98760" y="9997560"/>
            <a:ext cx="231768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41600" y="9997560"/>
            <a:ext cx="152388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47F8-E55F-4583-830C-4AC1CEE4A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02726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9968040"/>
            <a:ext cx="63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8742240"/>
            <a:ext cx="838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047160"/>
            <a:ext cx="838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352080"/>
            <a:ext cx="8380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9240" y="5486400"/>
            <a:ext cx="52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. Hardware: Three-stage pipeline with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5200" y="8153280"/>
            <a:ext cx="224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). Pipeline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92480" y="6491160"/>
            <a:ext cx="21564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709452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709452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7780320"/>
            <a:ext cx="0" cy="20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69320" y="8139240"/>
            <a:ext cx="690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20880" y="6491160"/>
            <a:ext cx="901440" cy="1282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9880" y="6491160"/>
            <a:ext cx="21564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709452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709452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7780320"/>
            <a:ext cx="0" cy="20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78280" y="6491160"/>
            <a:ext cx="901440" cy="1282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07280" y="6491160"/>
            <a:ext cx="21564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709452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709452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7780320"/>
            <a:ext cx="0" cy="43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35680" y="6491160"/>
            <a:ext cx="901440" cy="1282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798660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143000" y="8748720"/>
            <a:ext cx="1828800" cy="304920"/>
            <a:chOff x="1143000" y="8748720"/>
            <a:chExt cx="1828800" cy="304920"/>
          </a:xfrm>
        </p:grpSpPr>
        <p:sp>
          <p:nvSpPr>
            <p:cNvPr id="66" name=""/>
            <p:cNvSpPr/>
            <p:nvPr/>
          </p:nvSpPr>
          <p:spPr>
            <a:xfrm>
              <a:off x="1143000" y="8748720"/>
              <a:ext cx="60948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52480" y="8748720"/>
              <a:ext cx="60948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61960" y="8748720"/>
              <a:ext cx="60984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752480" y="9053640"/>
            <a:ext cx="1828800" cy="304560"/>
            <a:chOff x="1752480" y="9053640"/>
            <a:chExt cx="1828800" cy="304560"/>
          </a:xfrm>
        </p:grpSpPr>
        <p:sp>
          <p:nvSpPr>
            <p:cNvPr id="70" name=""/>
            <p:cNvSpPr/>
            <p:nvPr/>
          </p:nvSpPr>
          <p:spPr>
            <a:xfrm>
              <a:off x="1752480" y="9053640"/>
              <a:ext cx="60948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61960" y="9053640"/>
              <a:ext cx="60948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71440" y="9053640"/>
              <a:ext cx="60984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362320" y="9358200"/>
            <a:ext cx="1828800" cy="304920"/>
            <a:chOff x="2362320" y="9358200"/>
            <a:chExt cx="1828800" cy="304920"/>
          </a:xfrm>
        </p:grpSpPr>
        <p:sp>
          <p:nvSpPr>
            <p:cNvPr id="74" name=""/>
            <p:cNvSpPr/>
            <p:nvPr/>
          </p:nvSpPr>
          <p:spPr>
            <a:xfrm>
              <a:off x="2362320" y="9358200"/>
              <a:ext cx="60948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71800" y="9358200"/>
              <a:ext cx="60948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81280" y="9358200"/>
              <a:ext cx="60984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33520" y="5929200"/>
            <a:ext cx="6553080" cy="762120"/>
          </a:xfrm>
          <a:custGeom>
            <a:avLst/>
            <a:gdLst/>
            <a:ahLst/>
            <a:rect l="l" t="t" r="r" b="b"/>
            <a:pathLst>
              <a:path w="4128" h="480">
                <a:moveTo>
                  <a:pt x="3840" y="480"/>
                </a:moveTo>
                <a:lnTo>
                  <a:pt x="4128" y="480"/>
                </a:lnTo>
                <a:lnTo>
                  <a:pt x="4128" y="0"/>
                </a:lnTo>
                <a:lnTo>
                  <a:pt x="0" y="0"/>
                </a:lnTo>
                <a:lnTo>
                  <a:pt x="0" y="480"/>
                </a:lnTo>
                <a:lnTo>
                  <a:pt x="240" y="48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9656640"/>
            <a:ext cx="838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971800" y="9663120"/>
            <a:ext cx="1828800" cy="304920"/>
            <a:chOff x="2971800" y="9663120"/>
            <a:chExt cx="1828800" cy="304920"/>
          </a:xfrm>
        </p:grpSpPr>
        <p:sp>
          <p:nvSpPr>
            <p:cNvPr id="80" name=""/>
            <p:cNvSpPr/>
            <p:nvPr/>
          </p:nvSpPr>
          <p:spPr>
            <a:xfrm>
              <a:off x="2971800" y="9663120"/>
              <a:ext cx="60948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81280" y="9663120"/>
              <a:ext cx="60948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90760" y="9663120"/>
              <a:ext cx="60984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738520" y="8886960"/>
            <a:ext cx="419040" cy="952200"/>
          </a:xfrm>
          <a:custGeom>
            <a:avLst/>
            <a:gdLst/>
            <a:ahLst/>
            <a:rect l="l" t="t" r="r" b="b"/>
            <a:pathLst>
              <a:path w="264" h="600">
                <a:moveTo>
                  <a:pt x="144" y="0"/>
                </a:moveTo>
                <a:cubicBezTo>
                  <a:pt x="185" y="5"/>
                  <a:pt x="169" y="8"/>
                  <a:pt x="198" y="18"/>
                </a:cubicBezTo>
                <a:cubicBezTo>
                  <a:pt x="240" y="30"/>
                  <a:pt x="252" y="62"/>
                  <a:pt x="264" y="99"/>
                </a:cubicBezTo>
                <a:cubicBezTo>
                  <a:pt x="260" y="139"/>
                  <a:pt x="192" y="230"/>
                  <a:pt x="171" y="261"/>
                </a:cubicBezTo>
                <a:cubicBezTo>
                  <a:pt x="162" y="274"/>
                  <a:pt x="142" y="287"/>
                  <a:pt x="129" y="297"/>
                </a:cubicBezTo>
                <a:cubicBezTo>
                  <a:pt x="113" y="311"/>
                  <a:pt x="97" y="317"/>
                  <a:pt x="78" y="342"/>
                </a:cubicBezTo>
                <a:cubicBezTo>
                  <a:pt x="59" y="363"/>
                  <a:pt x="31" y="400"/>
                  <a:pt x="15" y="423"/>
                </a:cubicBezTo>
                <a:cubicBezTo>
                  <a:pt x="3" y="445"/>
                  <a:pt x="0" y="459"/>
                  <a:pt x="3" y="477"/>
                </a:cubicBezTo>
                <a:cubicBezTo>
                  <a:pt x="6" y="495"/>
                  <a:pt x="11" y="511"/>
                  <a:pt x="33" y="531"/>
                </a:cubicBezTo>
                <a:cubicBezTo>
                  <a:pt x="55" y="551"/>
                  <a:pt x="117" y="589"/>
                  <a:pt x="135" y="600"/>
                </a:cubicBezTo>
                <a:cubicBezTo>
                  <a:pt x="145" y="597"/>
                  <a:pt x="144" y="594"/>
                  <a:pt x="144" y="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4876920"/>
            <a:ext cx="5562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14040" y="4557600"/>
            <a:ext cx="63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3637080"/>
            <a:ext cx="8380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3941640"/>
            <a:ext cx="838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4246560"/>
            <a:ext cx="838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240" y="380880"/>
            <a:ext cx="43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. Hardware: Unpipelined with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4840" y="304812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. Pipeline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98900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05440" y="3019320"/>
            <a:ext cx="690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9480" y="1386000"/>
            <a:ext cx="2736720" cy="1282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371600"/>
            <a:ext cx="21600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79720" y="197496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89560" y="2660760"/>
            <a:ext cx="0" cy="43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3643200"/>
            <a:ext cx="182880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38520" y="3781440"/>
            <a:ext cx="419040" cy="333360"/>
          </a:xfrm>
          <a:custGeom>
            <a:avLst/>
            <a:gdLst/>
            <a:ahLst/>
            <a:rect l="l" t="t" r="r" b="b"/>
            <a:pathLst>
              <a:path w="264" h="600">
                <a:moveTo>
                  <a:pt x="144" y="0"/>
                </a:moveTo>
                <a:cubicBezTo>
                  <a:pt x="185" y="5"/>
                  <a:pt x="169" y="8"/>
                  <a:pt x="198" y="18"/>
                </a:cubicBezTo>
                <a:cubicBezTo>
                  <a:pt x="240" y="30"/>
                  <a:pt x="252" y="62"/>
                  <a:pt x="264" y="99"/>
                </a:cubicBezTo>
                <a:cubicBezTo>
                  <a:pt x="260" y="139"/>
                  <a:pt x="192" y="230"/>
                  <a:pt x="171" y="261"/>
                </a:cubicBezTo>
                <a:cubicBezTo>
                  <a:pt x="162" y="274"/>
                  <a:pt x="142" y="287"/>
                  <a:pt x="129" y="297"/>
                </a:cubicBezTo>
                <a:cubicBezTo>
                  <a:pt x="113" y="311"/>
                  <a:pt x="97" y="317"/>
                  <a:pt x="78" y="342"/>
                </a:cubicBezTo>
                <a:cubicBezTo>
                  <a:pt x="59" y="363"/>
                  <a:pt x="31" y="400"/>
                  <a:pt x="15" y="423"/>
                </a:cubicBezTo>
                <a:cubicBezTo>
                  <a:pt x="3" y="445"/>
                  <a:pt x="0" y="459"/>
                  <a:pt x="3" y="477"/>
                </a:cubicBezTo>
                <a:cubicBezTo>
                  <a:pt x="6" y="495"/>
                  <a:pt x="11" y="511"/>
                  <a:pt x="33" y="531"/>
                </a:cubicBezTo>
                <a:cubicBezTo>
                  <a:pt x="55" y="551"/>
                  <a:pt x="117" y="589"/>
                  <a:pt x="135" y="600"/>
                </a:cubicBezTo>
                <a:cubicBezTo>
                  <a:pt x="145" y="597"/>
                  <a:pt x="144" y="594"/>
                  <a:pt x="144" y="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838080"/>
            <a:ext cx="4267440" cy="762120"/>
          </a:xfrm>
          <a:custGeom>
            <a:avLst/>
            <a:gdLst/>
            <a:ahLst/>
            <a:rect l="l" t="t" r="r" b="b"/>
            <a:pathLst>
              <a:path w="2688" h="480">
                <a:moveTo>
                  <a:pt x="2496" y="432"/>
                </a:moveTo>
                <a:lnTo>
                  <a:pt x="2688" y="432"/>
                </a:lnTo>
                <a:lnTo>
                  <a:pt x="2688" y="0"/>
                </a:lnTo>
                <a:lnTo>
                  <a:pt x="0" y="0"/>
                </a:lnTo>
                <a:lnTo>
                  <a:pt x="0" y="480"/>
                </a:lnTo>
                <a:lnTo>
                  <a:pt x="336" y="480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3962520"/>
            <a:ext cx="1828800" cy="3045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81480"/>
            <a:ext cx="182880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4114800"/>
            <a:ext cx="419040" cy="333360"/>
          </a:xfrm>
          <a:custGeom>
            <a:avLst/>
            <a:gdLst/>
            <a:ahLst/>
            <a:rect l="l" t="t" r="r" b="b"/>
            <a:pathLst>
              <a:path w="264" h="600">
                <a:moveTo>
                  <a:pt x="144" y="0"/>
                </a:moveTo>
                <a:cubicBezTo>
                  <a:pt x="185" y="5"/>
                  <a:pt x="169" y="8"/>
                  <a:pt x="198" y="18"/>
                </a:cubicBezTo>
                <a:cubicBezTo>
                  <a:pt x="240" y="30"/>
                  <a:pt x="252" y="62"/>
                  <a:pt x="264" y="99"/>
                </a:cubicBezTo>
                <a:cubicBezTo>
                  <a:pt x="260" y="139"/>
                  <a:pt x="192" y="230"/>
                  <a:pt x="171" y="261"/>
                </a:cubicBezTo>
                <a:cubicBezTo>
                  <a:pt x="162" y="274"/>
                  <a:pt x="142" y="287"/>
                  <a:pt x="129" y="297"/>
                </a:cubicBezTo>
                <a:cubicBezTo>
                  <a:pt x="113" y="311"/>
                  <a:pt x="97" y="317"/>
                  <a:pt x="78" y="342"/>
                </a:cubicBezTo>
                <a:cubicBezTo>
                  <a:pt x="59" y="363"/>
                  <a:pt x="31" y="400"/>
                  <a:pt x="15" y="423"/>
                </a:cubicBezTo>
                <a:cubicBezTo>
                  <a:pt x="3" y="445"/>
                  <a:pt x="0" y="459"/>
                  <a:pt x="3" y="477"/>
                </a:cubicBezTo>
                <a:cubicBezTo>
                  <a:pt x="6" y="495"/>
                  <a:pt x="11" y="511"/>
                  <a:pt x="33" y="531"/>
                </a:cubicBezTo>
                <a:cubicBezTo>
                  <a:pt x="55" y="551"/>
                  <a:pt x="117" y="589"/>
                  <a:pt x="135" y="600"/>
                </a:cubicBezTo>
                <a:cubicBezTo>
                  <a:pt x="145" y="597"/>
                  <a:pt x="144" y="594"/>
                  <a:pt x="144" y="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02:51:24Z</dcterms:created>
  <dc:creator>Randal E. Bryant</dc:creator>
  <dc:description/>
  <dc:language>en-US</dc:language>
  <cp:lastModifiedBy>Randal E. Bryant</cp:lastModifiedBy>
  <dcterms:modified xsi:type="dcterms:W3CDTF">2002-03-03T20:55:28Z</dcterms:modified>
  <cp:revision>2</cp:revision>
  <dc:subject/>
  <dc:title>PowerPoint Presentation</dc:title>
</cp:coreProperties>
</file>