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55F-642E-432D-8EED-6C1C57F3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C33-4261-49A8-A9DC-53282C5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355-DA1E-4EC3-BE57-2DD6A44F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24C-953C-491F-9347-660F8BC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798-1950-49DB-83D2-991A19C0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B57-8008-4224-9D1E-5BBB1766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908-074E-429A-A4C5-B1DAD85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16C-AC43-415E-B7B1-BFC598A7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852-A91D-4725-B327-87AA4425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9B7-50EB-4EE1-90EA-A32762F5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0CB-BF67-4BBD-B8AF-D798FCE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4A6-1AFC-4DF8-B100-98D339D4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E9D-0EA9-4B55-829C-5B989389C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9680" y="914400"/>
            <a:ext cx="2058120" cy="1752120"/>
            <a:chOff x="229680" y="914400"/>
            <a:chExt cx="2058120" cy="1752120"/>
          </a:xfrm>
        </p:grpSpPr>
        <p:grpSp>
          <p:nvGrpSpPr>
            <p:cNvPr id="42" name=""/>
            <p:cNvGrpSpPr/>
            <p:nvPr/>
          </p:nvGrpSpPr>
          <p:grpSpPr>
            <a:xfrm>
              <a:off x="533160" y="1219320"/>
              <a:ext cx="1066680" cy="1447200"/>
              <a:chOff x="533160" y="1219320"/>
              <a:chExt cx="1066680" cy="1447200"/>
            </a:xfrm>
          </p:grpSpPr>
          <p:sp>
            <p:nvSpPr>
              <p:cNvPr id="43" name=""/>
              <p:cNvSpPr/>
              <p:nvPr/>
            </p:nvSpPr>
            <p:spPr>
              <a:xfrm>
                <a:off x="53316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32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837720" y="1371240"/>
                <a:ext cx="457200" cy="1295280"/>
                <a:chOff x="837720" y="1371240"/>
                <a:chExt cx="457200" cy="12952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3772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91404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53316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9492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22968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68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128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84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360160" y="914400"/>
            <a:ext cx="2058120" cy="1752120"/>
            <a:chOff x="2360160" y="914400"/>
            <a:chExt cx="2058120" cy="1752120"/>
          </a:xfrm>
        </p:grpSpPr>
        <p:grpSp>
          <p:nvGrpSpPr>
            <p:cNvPr id="55" name=""/>
            <p:cNvGrpSpPr/>
            <p:nvPr/>
          </p:nvGrpSpPr>
          <p:grpSpPr>
            <a:xfrm>
              <a:off x="2663640" y="1219320"/>
              <a:ext cx="1066680" cy="1447200"/>
              <a:chOff x="2663640" y="1219320"/>
              <a:chExt cx="1066680" cy="1447200"/>
            </a:xfrm>
          </p:grpSpPr>
          <p:sp>
            <p:nvSpPr>
              <p:cNvPr id="56" name=""/>
              <p:cNvSpPr/>
              <p:nvPr/>
            </p:nvSpPr>
            <p:spPr>
              <a:xfrm>
                <a:off x="266364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9680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2968200" y="1371240"/>
                <a:ext cx="457200" cy="1295280"/>
                <a:chOff x="2968200" y="1371240"/>
                <a:chExt cx="457200" cy="12952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96820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04452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66364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2540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36016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016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176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632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490640" y="914400"/>
            <a:ext cx="2058120" cy="1752120"/>
            <a:chOff x="4490640" y="914400"/>
            <a:chExt cx="2058120" cy="1752120"/>
          </a:xfrm>
        </p:grpSpPr>
        <p:grpSp>
          <p:nvGrpSpPr>
            <p:cNvPr id="68" name=""/>
            <p:cNvGrpSpPr/>
            <p:nvPr/>
          </p:nvGrpSpPr>
          <p:grpSpPr>
            <a:xfrm>
              <a:off x="4794120" y="1219320"/>
              <a:ext cx="1066680" cy="1447200"/>
              <a:chOff x="4794120" y="1219320"/>
              <a:chExt cx="1066680" cy="1447200"/>
            </a:xfrm>
          </p:grpSpPr>
          <p:sp>
            <p:nvSpPr>
              <p:cNvPr id="69" name=""/>
              <p:cNvSpPr/>
              <p:nvPr/>
            </p:nvSpPr>
            <p:spPr>
              <a:xfrm>
                <a:off x="479412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2728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5098680" y="1371240"/>
                <a:ext cx="457200" cy="1295280"/>
                <a:chOff x="5098680" y="1371240"/>
                <a:chExt cx="457200" cy="12952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09868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17500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479412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5588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49064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064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224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680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621120" y="914400"/>
            <a:ext cx="2058120" cy="1752120"/>
            <a:chOff x="6621120" y="914400"/>
            <a:chExt cx="2058120" cy="1752120"/>
          </a:xfrm>
        </p:grpSpPr>
        <p:grpSp>
          <p:nvGrpSpPr>
            <p:cNvPr id="81" name=""/>
            <p:cNvGrpSpPr/>
            <p:nvPr/>
          </p:nvGrpSpPr>
          <p:grpSpPr>
            <a:xfrm>
              <a:off x="6924600" y="1219320"/>
              <a:ext cx="1066680" cy="1447200"/>
              <a:chOff x="6924600" y="1219320"/>
              <a:chExt cx="1066680" cy="1447200"/>
            </a:xfrm>
          </p:grpSpPr>
          <p:sp>
            <p:nvSpPr>
              <p:cNvPr id="82" name=""/>
              <p:cNvSpPr/>
              <p:nvPr/>
            </p:nvSpPr>
            <p:spPr>
              <a:xfrm>
                <a:off x="692460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776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229160" y="1371240"/>
                <a:ext cx="457200" cy="1295280"/>
                <a:chOff x="7229160" y="1371240"/>
                <a:chExt cx="457200" cy="1295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22916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0548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92460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8636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62112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112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9272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728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01000" y="1523880"/>
            <a:ext cx="264600" cy="1068840"/>
            <a:chOff x="801000" y="1523880"/>
            <a:chExt cx="264600" cy="1068840"/>
          </a:xfrm>
        </p:grpSpPr>
        <p:sp>
          <p:nvSpPr>
            <p:cNvPr id="94" name=""/>
            <p:cNvSpPr/>
            <p:nvPr/>
          </p:nvSpPr>
          <p:spPr>
            <a:xfrm>
              <a:off x="80100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100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934360" y="1523880"/>
            <a:ext cx="264600" cy="1068840"/>
            <a:chOff x="2934360" y="1523880"/>
            <a:chExt cx="264600" cy="1068840"/>
          </a:xfrm>
        </p:grpSpPr>
        <p:sp>
          <p:nvSpPr>
            <p:cNvPr id="97" name=""/>
            <p:cNvSpPr/>
            <p:nvPr/>
          </p:nvSpPr>
          <p:spPr>
            <a:xfrm>
              <a:off x="293436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436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068080" y="1523880"/>
            <a:ext cx="264600" cy="1068840"/>
            <a:chOff x="5068080" y="1523880"/>
            <a:chExt cx="264600" cy="1068840"/>
          </a:xfrm>
        </p:grpSpPr>
        <p:sp>
          <p:nvSpPr>
            <p:cNvPr id="100" name=""/>
            <p:cNvSpPr/>
            <p:nvPr/>
          </p:nvSpPr>
          <p:spPr>
            <a:xfrm>
              <a:off x="506808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808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201800" y="1523880"/>
            <a:ext cx="264600" cy="1068840"/>
            <a:chOff x="7201800" y="1523880"/>
            <a:chExt cx="264600" cy="1068840"/>
          </a:xfrm>
        </p:grpSpPr>
        <p:sp>
          <p:nvSpPr>
            <p:cNvPr id="103" name=""/>
            <p:cNvSpPr/>
            <p:nvPr/>
          </p:nvSpPr>
          <p:spPr>
            <a:xfrm>
              <a:off x="720180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180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22:59:26Z</dcterms:created>
  <dc:creator>Randal E. Bryant</dc:creator>
  <dc:description/>
  <dc:language>en-US</dc:language>
  <cp:lastModifiedBy>Randal E. Bryant</cp:lastModifiedBy>
  <dcterms:modified xsi:type="dcterms:W3CDTF">2002-02-17T03:57:23Z</dcterms:modified>
  <cp:revision>2</cp:revision>
  <dc:subject/>
  <dc:title>PowerPoint Presentation</dc:title>
</cp:coreProperties>
</file>