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FF2-6A92-448E-A85F-63387AF9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D43-373E-4681-92AD-BB20E9C4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1C9-E481-4C1A-8D79-8D402B3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3A6-6C2F-4E9D-95C6-6F72F36E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DAB-0BE3-40A7-A9AE-355B2AA9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783-2A29-488E-933E-78B50531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525-7DDF-4B95-A55E-83E7E0C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1FC-0C49-41B0-A19B-920F68D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90B-5B0C-41AB-BF5D-3EA1A038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784-AB41-44C3-822E-FC040C3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D22-0C1B-45B4-BB05-E5970EF0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213-9D9A-405C-9450-02191EA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F1A-C0BF-4CE8-9210-4388078E2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692440" y="92203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4191120"/>
            <a:ext cx="4876920" cy="11201400"/>
          </a:xfrm>
          <a:custGeom>
            <a:avLst/>
            <a:gdLst/>
            <a:ahLst/>
            <a:rect l="l" t="t" r="r" b="b"/>
            <a:pathLst>
              <a:path w="3072" h="7056">
                <a:moveTo>
                  <a:pt x="240" y="144"/>
                </a:moveTo>
                <a:lnTo>
                  <a:pt x="240" y="0"/>
                </a:lnTo>
                <a:lnTo>
                  <a:pt x="3072" y="0"/>
                </a:lnTo>
                <a:lnTo>
                  <a:pt x="3072" y="7056"/>
                </a:lnTo>
                <a:lnTo>
                  <a:pt x="0" y="7056"/>
                </a:lnTo>
                <a:lnTo>
                  <a:pt x="0" y="68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419720" y="7467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58920" y="9067680"/>
            <a:ext cx="533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899172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058400"/>
            <a:ext cx="1218960" cy="91440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96"/>
                </a:lnTo>
                <a:lnTo>
                  <a:pt x="576" y="96"/>
                </a:lnTo>
                <a:lnTo>
                  <a:pt x="576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952880"/>
            <a:ext cx="396216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860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432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1972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58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814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8762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7180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6252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8763120"/>
            <a:ext cx="0" cy="3045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62520" y="7467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8001000"/>
            <a:ext cx="685800" cy="1522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68580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655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29000" y="8001000"/>
            <a:ext cx="380880" cy="3049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00400" y="7010280"/>
            <a:ext cx="457200" cy="228600"/>
            <a:chOff x="3200400" y="7010280"/>
            <a:chExt cx="457200" cy="228600"/>
          </a:xfrm>
        </p:grpSpPr>
        <p:sp>
          <p:nvSpPr>
            <p:cNvPr id="74" name=""/>
            <p:cNvSpPr/>
            <p:nvPr/>
          </p:nvSpPr>
          <p:spPr>
            <a:xfrm flipH="1">
              <a:off x="3200400" y="7010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200400" y="7238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65760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102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5530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48320" y="8077320"/>
            <a:ext cx="152280" cy="152280"/>
            <a:chOff x="4648320" y="8077320"/>
            <a:chExt cx="152280" cy="152280"/>
          </a:xfrm>
        </p:grpSpPr>
        <p:sp>
          <p:nvSpPr>
            <p:cNvPr id="82" name=""/>
            <p:cNvSpPr/>
            <p:nvPr/>
          </p:nvSpPr>
          <p:spPr>
            <a:xfrm>
              <a:off x="4686480" y="8115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8320" y="8077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591920"/>
            <a:ext cx="152280" cy="152280"/>
            <a:chOff x="4648320" y="10591920"/>
            <a:chExt cx="152280" cy="152280"/>
          </a:xfrm>
        </p:grpSpPr>
        <p:sp>
          <p:nvSpPr>
            <p:cNvPr id="85" name=""/>
            <p:cNvSpPr/>
            <p:nvPr/>
          </p:nvSpPr>
          <p:spPr>
            <a:xfrm>
              <a:off x="4686480" y="10630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105919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200400" y="6781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7238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89154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86200" y="9144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13944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120" y="12065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120" y="9067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6840" y="127252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65372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95680" y="12099960"/>
            <a:ext cx="1066680" cy="719280"/>
            <a:chOff x="4495680" y="12099960"/>
            <a:chExt cx="1066680" cy="719280"/>
          </a:xfrm>
        </p:grpSpPr>
        <p:sp>
          <p:nvSpPr>
            <p:cNvPr id="98" name=""/>
            <p:cNvSpPr/>
            <p:nvPr/>
          </p:nvSpPr>
          <p:spPr>
            <a:xfrm>
              <a:off x="44956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79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88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74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0968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8229600"/>
            <a:ext cx="152280" cy="152280"/>
            <a:chOff x="3733920" y="8229600"/>
            <a:chExt cx="152280" cy="152280"/>
          </a:xfrm>
        </p:grpSpPr>
        <p:sp>
          <p:nvSpPr>
            <p:cNvPr id="112" name=""/>
            <p:cNvSpPr/>
            <p:nvPr/>
          </p:nvSpPr>
          <p:spPr>
            <a:xfrm>
              <a:off x="3772080" y="826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3920" y="82296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2743200" y="14477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14478120"/>
            <a:ext cx="16765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96"/>
                </a:moveTo>
                <a:lnTo>
                  <a:pt x="1200" y="96"/>
                </a:lnTo>
                <a:lnTo>
                  <a:pt x="12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66880" y="14554080"/>
            <a:ext cx="152640" cy="152640"/>
            <a:chOff x="2666880" y="14554080"/>
            <a:chExt cx="152640" cy="152640"/>
          </a:xfrm>
        </p:grpSpPr>
        <p:sp>
          <p:nvSpPr>
            <p:cNvPr id="117" name=""/>
            <p:cNvSpPr/>
            <p:nvPr/>
          </p:nvSpPr>
          <p:spPr>
            <a:xfrm>
              <a:off x="2705040" y="1459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145540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4343400" y="54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28800" y="5486040"/>
            <a:ext cx="0" cy="762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4706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65760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242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724280" y="80006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19720" y="8001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8305920"/>
            <a:ext cx="3886200" cy="4343400"/>
          </a:xfrm>
          <a:custGeom>
            <a:avLst/>
            <a:gdLst/>
            <a:ahLst/>
            <a:rect l="l" t="t" r="r" b="b"/>
            <a:pathLst>
              <a:path w="2448" h="2736">
                <a:moveTo>
                  <a:pt x="0" y="48"/>
                </a:moveTo>
                <a:lnTo>
                  <a:pt x="0" y="0"/>
                </a:lnTo>
                <a:lnTo>
                  <a:pt x="2448" y="0"/>
                </a:lnTo>
                <a:lnTo>
                  <a:pt x="2448" y="2736"/>
                </a:lnTo>
                <a:lnTo>
                  <a:pt x="1296" y="27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0058400"/>
            <a:ext cx="1523880" cy="6094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61722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0" y="5073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6019920"/>
            <a:ext cx="3124080" cy="6248160"/>
          </a:xfrm>
          <a:custGeom>
            <a:avLst/>
            <a:gdLst/>
            <a:ahLst/>
            <a:rect l="l" t="t" r="r" b="b"/>
            <a:pathLst>
              <a:path w="1968" h="3936">
                <a:moveTo>
                  <a:pt x="0" y="0"/>
                </a:moveTo>
                <a:lnTo>
                  <a:pt x="1968" y="0"/>
                </a:lnTo>
                <a:lnTo>
                  <a:pt x="1968" y="3936"/>
                </a:lnTo>
                <a:lnTo>
                  <a:pt x="720" y="39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438280" y="5486040"/>
            <a:ext cx="0" cy="28954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5486400"/>
            <a:ext cx="1600200" cy="7620120"/>
          </a:xfrm>
          <a:custGeom>
            <a:avLst/>
            <a:gdLst/>
            <a:ahLst/>
            <a:rect l="l" t="t" r="r" b="b"/>
            <a:pathLst>
              <a:path w="1056" h="4800">
                <a:moveTo>
                  <a:pt x="1056" y="4800"/>
                </a:moveTo>
                <a:lnTo>
                  <a:pt x="1056" y="3408"/>
                </a:lnTo>
                <a:lnTo>
                  <a:pt x="0" y="340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19520" y="10820520"/>
            <a:ext cx="152280" cy="152280"/>
            <a:chOff x="2819520" y="10820520"/>
            <a:chExt cx="152280" cy="152280"/>
          </a:xfrm>
        </p:grpSpPr>
        <p:sp>
          <p:nvSpPr>
            <p:cNvPr id="140" name=""/>
            <p:cNvSpPr/>
            <p:nvPr/>
          </p:nvSpPr>
          <p:spPr>
            <a:xfrm>
              <a:off x="2857680" y="10858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520" y="10820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V="1">
            <a:off x="2895480" y="10058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267080" y="5943600"/>
            <a:ext cx="152640" cy="152280"/>
            <a:chOff x="4267080" y="5943600"/>
            <a:chExt cx="152640" cy="152280"/>
          </a:xfrm>
        </p:grpSpPr>
        <p:sp>
          <p:nvSpPr>
            <p:cNvPr id="144" name=""/>
            <p:cNvSpPr/>
            <p:nvPr/>
          </p:nvSpPr>
          <p:spPr>
            <a:xfrm>
              <a:off x="4305240" y="5981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67080" y="59436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419720" y="5486400"/>
            <a:ext cx="609480" cy="3124080"/>
          </a:xfrm>
          <a:custGeom>
            <a:avLst/>
            <a:gdLst/>
            <a:ahLst/>
            <a:rect l="l" t="t" r="r" b="b"/>
            <a:pathLst>
              <a:path w="384" h="1968">
                <a:moveTo>
                  <a:pt x="0" y="1968"/>
                </a:moveTo>
                <a:lnTo>
                  <a:pt x="384" y="1968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343400" y="8534520"/>
            <a:ext cx="152280" cy="152280"/>
            <a:chOff x="4343400" y="8534520"/>
            <a:chExt cx="152280" cy="152280"/>
          </a:xfrm>
        </p:grpSpPr>
        <p:sp>
          <p:nvSpPr>
            <p:cNvPr id="148" name=""/>
            <p:cNvSpPr/>
            <p:nvPr/>
          </p:nvSpPr>
          <p:spPr>
            <a:xfrm>
              <a:off x="4381560" y="8572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8534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743200" y="43434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24080" y="4723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06:08Z</dcterms:modified>
  <cp:revision>32</cp:revision>
  <dc:subject/>
  <dc:title>PowerPoint Presentation</dc:title>
</cp:coreProperties>
</file>