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E4C-96FE-4E8A-9059-4656C45B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F4E-5770-4DB5-A5DA-62C0271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CCB-636F-4492-9412-D5D9A78D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EAC-90C7-4290-A0EE-970E57F6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628-CD0F-4EE5-A094-45452ED3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7DA-56B5-45FD-BF10-FF8BD93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798-C382-4F9C-ACA7-41C2057A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7D1-3713-44EE-A8FB-9342E2F5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79A-67C0-45C4-87FF-FB7F54A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743-78DA-4370-A3E9-EBA77D22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37D-F42F-4EF8-8FB8-68E820F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888-0698-43F9-BB7F-1292F90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2B2F-431F-45CA-95FF-AAE41D6D9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45540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1287792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410080" y="124963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51635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3792320"/>
            <a:ext cx="2666880" cy="167616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96"/>
                </a:moveTo>
                <a:lnTo>
                  <a:pt x="1200" y="96"/>
                </a:lnTo>
                <a:lnTo>
                  <a:pt x="12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52480" y="13563720"/>
            <a:ext cx="152640" cy="152280"/>
            <a:chOff x="1752480" y="13563720"/>
            <a:chExt cx="152640" cy="152280"/>
          </a:xfrm>
        </p:grpSpPr>
        <p:sp>
          <p:nvSpPr>
            <p:cNvPr id="51" name=""/>
            <p:cNvSpPr/>
            <p:nvPr/>
          </p:nvSpPr>
          <p:spPr>
            <a:xfrm>
              <a:off x="1790640" y="136018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52480" y="135637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362320" y="15773400"/>
            <a:ext cx="761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57600" y="1249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860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004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288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3335120"/>
            <a:ext cx="685800" cy="5331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1272528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3639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52480" y="12953880"/>
            <a:ext cx="152640" cy="152640"/>
            <a:chOff x="1752480" y="12953880"/>
            <a:chExt cx="152640" cy="152640"/>
          </a:xfrm>
        </p:grpSpPr>
        <p:sp>
          <p:nvSpPr>
            <p:cNvPr id="65" name=""/>
            <p:cNvSpPr/>
            <p:nvPr/>
          </p:nvSpPr>
          <p:spPr>
            <a:xfrm>
              <a:off x="1790640" y="12992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52480" y="12953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828800" y="13030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3030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3639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15392520"/>
            <a:ext cx="152640" cy="152280"/>
            <a:chOff x="2666880" y="15392520"/>
            <a:chExt cx="152640" cy="152280"/>
          </a:xfrm>
        </p:grpSpPr>
        <p:sp>
          <p:nvSpPr>
            <p:cNvPr id="71" name=""/>
            <p:cNvSpPr/>
            <p:nvPr/>
          </p:nvSpPr>
          <p:spPr>
            <a:xfrm>
              <a:off x="2705040" y="15430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153925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2120" y="130302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447920" y="1333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13258800"/>
            <a:ext cx="152640" cy="152280"/>
            <a:chOff x="1752480" y="13258800"/>
            <a:chExt cx="152640" cy="152280"/>
          </a:xfrm>
        </p:grpSpPr>
        <p:sp>
          <p:nvSpPr>
            <p:cNvPr id="76" name=""/>
            <p:cNvSpPr/>
            <p:nvPr/>
          </p:nvSpPr>
          <p:spPr>
            <a:xfrm>
              <a:off x="1790640" y="132969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2480" y="132588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>
            <a:off x="456840" y="1333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3868280"/>
            <a:ext cx="10670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13639680"/>
            <a:ext cx="990360" cy="45720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720" y="0"/>
                </a:moveTo>
                <a:lnTo>
                  <a:pt x="720" y="240"/>
                </a:lnTo>
                <a:lnTo>
                  <a:pt x="0" y="24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48320" y="13563720"/>
            <a:ext cx="152280" cy="152280"/>
            <a:chOff x="4648320" y="13563720"/>
            <a:chExt cx="152280" cy="152280"/>
          </a:xfrm>
        </p:grpSpPr>
        <p:sp>
          <p:nvSpPr>
            <p:cNvPr id="82" name=""/>
            <p:cNvSpPr/>
            <p:nvPr/>
          </p:nvSpPr>
          <p:spPr>
            <a:xfrm>
              <a:off x="4686480" y="136018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8320" y="13563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3200400" y="1424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3868280"/>
            <a:ext cx="6098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057400" y="1424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99680" y="1427940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te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9640" y="142794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39:48Z</dcterms:modified>
  <cp:revision>32</cp:revision>
  <dc:subject/>
  <dc:title>PowerPoint Presentation</dc:title>
</cp:coreProperties>
</file>