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C9B-B872-417B-86AA-7BC11E88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A22-9A7B-4AE4-8B37-97E1F9B3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5DC-34D9-4A67-8422-C0469653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872-A563-434A-B930-F317E323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4BC-19DB-4AB5-9ACA-DF0BAA01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A7D-0286-4799-877D-2AA30B93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997-C3F0-453A-89DC-F4F25498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956-6BAC-4C6B-B0FD-A8622911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E1C-C241-4A29-A75A-AAE40A96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3DB-1564-4F2C-B8B0-63DFD0D6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CEC-D167-4690-B782-30453FCA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0BB-956B-4359-8ECC-FEFE7050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CED5-E548-40B2-9F64-8284A92D2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1447812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1447812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4800600"/>
            <a:ext cx="304560" cy="9067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138682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138682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9296280"/>
            <a:ext cx="53316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14800" y="9372600"/>
            <a:ext cx="1295280" cy="45720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6781680"/>
            <a:ext cx="10666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038480" y="94489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000" y="1409688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2039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640" y="94489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0560" y="70102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2720" y="5562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30302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ode, if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, 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495680" y="12099960"/>
            <a:ext cx="1066680" cy="719280"/>
            <a:chOff x="4495680" y="12099960"/>
            <a:chExt cx="1066680" cy="719280"/>
          </a:xfrm>
        </p:grpSpPr>
        <p:sp>
          <p:nvSpPr>
            <p:cNvPr id="57" name=""/>
            <p:cNvSpPr/>
            <p:nvPr/>
          </p:nvSpPr>
          <p:spPr>
            <a:xfrm>
              <a:off x="4495680" y="12115800"/>
              <a:ext cx="9903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4796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2884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7440" y="121921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57440" y="12573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362320" y="152398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95480" y="9448920"/>
            <a:ext cx="6098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3335120"/>
            <a:ext cx="152640" cy="5331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3657600" y="12724920"/>
            <a:ext cx="152280" cy="13716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2819160" y="132584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3030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3504960" y="11810520"/>
            <a:ext cx="152280" cy="13716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4114800" y="1234440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11887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cA, sr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tA, ds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1506320"/>
            <a:ext cx="152280" cy="6094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038480" y="10667520"/>
            <a:ext cx="152280" cy="18288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2819160" y="114296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1125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A, va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3771720" y="9410400"/>
            <a:ext cx="152280" cy="19051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0134720"/>
            <a:ext cx="15228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982980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9906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A, al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9524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8839080"/>
            <a:ext cx="152280" cy="5335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3885840" y="8076960"/>
            <a:ext cx="152640" cy="16765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2819160" y="876276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8458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6134040" y="12077280"/>
            <a:ext cx="152280" cy="8380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5410080" y="123440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5791320"/>
            <a:ext cx="304920" cy="678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4457880" y="3695760"/>
            <a:ext cx="304560" cy="40384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4876920" y="13944240"/>
            <a:ext cx="152280" cy="44197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15925680"/>
            <a:ext cx="152640" cy="304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562112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543120" y="7353000"/>
            <a:ext cx="152280" cy="1447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7772400"/>
            <a:ext cx="152280" cy="304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746748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7620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,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6248520"/>
            <a:ext cx="152280" cy="5331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3695760" y="5752800"/>
            <a:ext cx="152280" cy="114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2819160" y="61718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5867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800600"/>
            <a:ext cx="152640" cy="11430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0" y="7086600"/>
            <a:ext cx="914400" cy="304920"/>
            <a:chOff x="2286000" y="7086600"/>
            <a:chExt cx="914400" cy="304920"/>
          </a:xfrm>
        </p:grpSpPr>
        <p:sp>
          <p:nvSpPr>
            <p:cNvPr id="101" name=""/>
            <p:cNvSpPr/>
            <p:nvPr/>
          </p:nvSpPr>
          <p:spPr>
            <a:xfrm>
              <a:off x="2286000" y="708660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90920" y="708660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19920" y="8534520"/>
            <a:ext cx="914400" cy="304560"/>
            <a:chOff x="6019920" y="8534520"/>
            <a:chExt cx="914400" cy="304560"/>
          </a:xfrm>
        </p:grpSpPr>
        <p:sp>
          <p:nvSpPr>
            <p:cNvPr id="104" name=""/>
            <p:cNvSpPr/>
            <p:nvPr/>
          </p:nvSpPr>
          <p:spPr>
            <a:xfrm flipV="1">
              <a:off x="6019920" y="8534520"/>
              <a:ext cx="609480" cy="30456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324840" y="8534520"/>
              <a:ext cx="609480" cy="30456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666880" y="14782680"/>
            <a:ext cx="152640" cy="457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542760" y="14287320"/>
            <a:ext cx="152640" cy="160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14782680"/>
            <a:ext cx="152640" cy="38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4648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2578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E, v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800600" y="2590200"/>
            <a:ext cx="152280" cy="4572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781680" y="1066752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934320" y="1066752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49568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3-08T03:45:55Z</dcterms:modified>
  <cp:revision>40</cp:revision>
  <dc:subject/>
  <dc:title>PowerPoint Presentation</dc:title>
</cp:coreProperties>
</file>