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E34-5781-4586-B834-44BFB817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745-1A22-4CB3-A8C2-CF5D85A2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8F4-708A-4B8C-8AC1-AB1A674E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A67-32FE-4546-8D2B-7915CC23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F80-D42F-4EF1-9539-C041BBCA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992-ADD5-4B13-B7EE-8BAB76C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B0B-E0C0-45E2-8559-196F2F22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AC2-6855-45AE-AC8D-A5654B75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304920"/>
            <a:ext cx="3809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CB5-A450-467C-BE2B-A546479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A1B-9BA1-45FD-A0EE-DAD8E40F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B2D-7FEE-4590-A3C6-5C323C1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ED9-BA67-4A76-A1B6-8BE0A41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B7B5-43EC-49A4-8B6E-5B73BDA60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2480" y="838080"/>
            <a:ext cx="5562720" cy="304920"/>
            <a:chOff x="1752480" y="838080"/>
            <a:chExt cx="5562720" cy="304920"/>
          </a:xfrm>
        </p:grpSpPr>
        <p:sp>
          <p:nvSpPr>
            <p:cNvPr id="42" name=""/>
            <p:cNvSpPr/>
            <p:nvPr/>
          </p:nvSpPr>
          <p:spPr>
            <a:xfrm>
              <a:off x="1752480" y="838080"/>
              <a:ext cx="1905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657600" y="838080"/>
              <a:ext cx="3657600" cy="304920"/>
              <a:chOff x="3657600" y="838080"/>
              <a:chExt cx="3657600" cy="304920"/>
            </a:xfrm>
          </p:grpSpPr>
          <p:sp>
            <p:nvSpPr>
              <p:cNvPr id="44" name=""/>
              <p:cNvSpPr/>
              <p:nvPr/>
            </p:nvSpPr>
            <p:spPr>
              <a:xfrm>
                <a:off x="36576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2670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8769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864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58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057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1752480" y="5791320"/>
            <a:ext cx="3124440" cy="304560"/>
            <a:chOff x="1752480" y="5791320"/>
            <a:chExt cx="3124440" cy="304560"/>
          </a:xfrm>
        </p:grpSpPr>
        <p:sp>
          <p:nvSpPr>
            <p:cNvPr id="51" name=""/>
            <p:cNvSpPr/>
            <p:nvPr/>
          </p:nvSpPr>
          <p:spPr>
            <a:xfrm>
              <a:off x="1752480" y="57913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sh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657600" y="5791320"/>
              <a:ext cx="609480" cy="304560"/>
              <a:chOff x="3657600" y="5791320"/>
              <a:chExt cx="60948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3657600" y="5791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62520" y="5791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57600" y="5791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267080" y="5791320"/>
              <a:ext cx="609840" cy="304560"/>
              <a:chOff x="4267080" y="5791320"/>
              <a:chExt cx="609840" cy="304560"/>
            </a:xfrm>
          </p:grpSpPr>
          <p:sp>
            <p:nvSpPr>
              <p:cNvPr id="57" name=""/>
              <p:cNvSpPr/>
              <p:nvPr/>
            </p:nvSpPr>
            <p:spPr>
              <a:xfrm>
                <a:off x="4267080" y="5791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0" y="5791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67080" y="5791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1752480" y="4419720"/>
            <a:ext cx="4953240" cy="304560"/>
            <a:chOff x="1752480" y="4419720"/>
            <a:chExt cx="4953240" cy="304560"/>
          </a:xfrm>
        </p:grpSpPr>
        <p:sp>
          <p:nvSpPr>
            <p:cNvPr id="61" name=""/>
            <p:cNvSpPr/>
            <p:nvPr/>
          </p:nvSpPr>
          <p:spPr>
            <a:xfrm>
              <a:off x="1752480" y="44197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jXX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657600" y="4419720"/>
              <a:ext cx="609480" cy="304560"/>
              <a:chOff x="3657600" y="4419720"/>
              <a:chExt cx="609480" cy="304560"/>
            </a:xfrm>
          </p:grpSpPr>
          <p:sp>
            <p:nvSpPr>
              <p:cNvPr id="63" name=""/>
              <p:cNvSpPr/>
              <p:nvPr/>
            </p:nvSpPr>
            <p:spPr>
              <a:xfrm>
                <a:off x="3657600" y="4419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62520" y="44197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57600" y="4419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267080" y="4419720"/>
              <a:ext cx="243864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52480" y="6248520"/>
            <a:ext cx="3124440" cy="304560"/>
            <a:chOff x="1752480" y="6248520"/>
            <a:chExt cx="3124440" cy="30456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op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657600" y="6248520"/>
              <a:ext cx="609480" cy="304560"/>
              <a:chOff x="3657600" y="6248520"/>
              <a:chExt cx="609480" cy="304560"/>
            </a:xfrm>
          </p:grpSpPr>
          <p:sp>
            <p:nvSpPr>
              <p:cNvPr id="70" name=""/>
              <p:cNvSpPr/>
              <p:nvPr/>
            </p:nvSpPr>
            <p:spPr>
              <a:xfrm>
                <a:off x="3657600" y="6248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62520" y="6248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57600" y="6248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4267080" y="6248520"/>
              <a:ext cx="609840" cy="304560"/>
              <a:chOff x="4267080" y="6248520"/>
              <a:chExt cx="609840" cy="304560"/>
            </a:xfrm>
          </p:grpSpPr>
          <p:sp>
            <p:nvSpPr>
              <p:cNvPr id="74" name=""/>
              <p:cNvSpPr/>
              <p:nvPr/>
            </p:nvSpPr>
            <p:spPr>
              <a:xfrm>
                <a:off x="4267080" y="6248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72000" y="6248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67080" y="6248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752480" y="4876920"/>
            <a:ext cx="4953240" cy="304560"/>
            <a:chOff x="1752480" y="4876920"/>
            <a:chExt cx="4953240" cy="304560"/>
          </a:xfrm>
        </p:grpSpPr>
        <p:sp>
          <p:nvSpPr>
            <p:cNvPr id="78" name=""/>
            <p:cNvSpPr/>
            <p:nvPr/>
          </p:nvSpPr>
          <p:spPr>
            <a:xfrm>
              <a:off x="1752480" y="48769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l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657600" y="4876920"/>
              <a:ext cx="609480" cy="304560"/>
              <a:chOff x="3657600" y="4876920"/>
              <a:chExt cx="609480" cy="304560"/>
            </a:xfrm>
          </p:grpSpPr>
          <p:sp>
            <p:nvSpPr>
              <p:cNvPr id="80" name=""/>
              <p:cNvSpPr/>
              <p:nvPr/>
            </p:nvSpPr>
            <p:spPr>
              <a:xfrm>
                <a:off x="3657600" y="4876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62520" y="4876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57600" y="4876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267080" y="4876920"/>
              <a:ext cx="243864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52480" y="2133720"/>
            <a:ext cx="3124440" cy="304560"/>
            <a:chOff x="1752480" y="2133720"/>
            <a:chExt cx="3124440" cy="304560"/>
          </a:xfrm>
        </p:grpSpPr>
        <p:sp>
          <p:nvSpPr>
            <p:cNvPr id="85" name=""/>
            <p:cNvSpPr/>
            <p:nvPr/>
          </p:nvSpPr>
          <p:spPr>
            <a:xfrm>
              <a:off x="1752480" y="21337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r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657600" y="2133720"/>
              <a:ext cx="609480" cy="304560"/>
              <a:chOff x="3657600" y="2133720"/>
              <a:chExt cx="609480" cy="304560"/>
            </a:xfrm>
          </p:grpSpPr>
          <p:sp>
            <p:nvSpPr>
              <p:cNvPr id="87" name=""/>
              <p:cNvSpPr/>
              <p:nvPr/>
            </p:nvSpPr>
            <p:spPr>
              <a:xfrm>
                <a:off x="3657600" y="2133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62520" y="21337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57600" y="2133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267080" y="2133720"/>
              <a:ext cx="609840" cy="304560"/>
              <a:chOff x="4267080" y="2133720"/>
              <a:chExt cx="609840" cy="304560"/>
            </a:xfrm>
          </p:grpSpPr>
          <p:sp>
            <p:nvSpPr>
              <p:cNvPr id="91" name=""/>
              <p:cNvSpPr/>
              <p:nvPr/>
            </p:nvSpPr>
            <p:spPr>
              <a:xfrm>
                <a:off x="4267080" y="2133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72000" y="2133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267080" y="2133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752480" y="2590920"/>
            <a:ext cx="5562720" cy="304560"/>
            <a:chOff x="1752480" y="2590920"/>
            <a:chExt cx="5562720" cy="304560"/>
          </a:xfrm>
        </p:grpSpPr>
        <p:sp>
          <p:nvSpPr>
            <p:cNvPr id="95" name=""/>
            <p:cNvSpPr/>
            <p:nvPr/>
          </p:nvSpPr>
          <p:spPr>
            <a:xfrm>
              <a:off x="1752480" y="25909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657600" y="2590920"/>
              <a:ext cx="609480" cy="304560"/>
              <a:chOff x="3657600" y="2590920"/>
              <a:chExt cx="609480" cy="304560"/>
            </a:xfrm>
          </p:grpSpPr>
          <p:sp>
            <p:nvSpPr>
              <p:cNvPr id="97" name=""/>
              <p:cNvSpPr/>
              <p:nvPr/>
            </p:nvSpPr>
            <p:spPr>
              <a:xfrm>
                <a:off x="3657600" y="2590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962520" y="2590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57600" y="2590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267080" y="2590920"/>
              <a:ext cx="609840" cy="304560"/>
              <a:chOff x="4267080" y="2590920"/>
              <a:chExt cx="609840" cy="3045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67080" y="2590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2590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2590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876920" y="2590920"/>
              <a:ext cx="24382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2480" y="3048120"/>
            <a:ext cx="5562720" cy="304560"/>
            <a:chOff x="1752480" y="3048120"/>
            <a:chExt cx="5562720" cy="304560"/>
          </a:xfrm>
        </p:grpSpPr>
        <p:sp>
          <p:nvSpPr>
            <p:cNvPr id="106" name=""/>
            <p:cNvSpPr/>
            <p:nvPr/>
          </p:nvSpPr>
          <p:spPr>
            <a:xfrm>
              <a:off x="1752480" y="30481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m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657600" y="3048120"/>
              <a:ext cx="609480" cy="304560"/>
              <a:chOff x="3657600" y="3048120"/>
              <a:chExt cx="609480" cy="304560"/>
            </a:xfrm>
          </p:grpSpPr>
          <p:sp>
            <p:nvSpPr>
              <p:cNvPr id="108" name=""/>
              <p:cNvSpPr/>
              <p:nvPr/>
            </p:nvSpPr>
            <p:spPr>
              <a:xfrm>
                <a:off x="3657600" y="3048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30481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57600" y="3048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267080" y="3048120"/>
              <a:ext cx="609840" cy="304560"/>
              <a:chOff x="4267080" y="3048120"/>
              <a:chExt cx="609840" cy="304560"/>
            </a:xfrm>
          </p:grpSpPr>
          <p:sp>
            <p:nvSpPr>
              <p:cNvPr id="112" name=""/>
              <p:cNvSpPr/>
              <p:nvPr/>
            </p:nvSpPr>
            <p:spPr>
              <a:xfrm>
                <a:off x="4267080" y="3048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72000" y="3048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67080" y="3048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876920" y="3048120"/>
              <a:ext cx="24382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52480" y="3505320"/>
            <a:ext cx="5562720" cy="304560"/>
            <a:chOff x="1752480" y="3505320"/>
            <a:chExt cx="5562720" cy="304560"/>
          </a:xfrm>
        </p:grpSpPr>
        <p:sp>
          <p:nvSpPr>
            <p:cNvPr id="117" name=""/>
            <p:cNvSpPr/>
            <p:nvPr/>
          </p:nvSpPr>
          <p:spPr>
            <a:xfrm>
              <a:off x="1752480" y="35053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r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657600" y="3505320"/>
              <a:ext cx="609480" cy="304560"/>
              <a:chOff x="3657600" y="3505320"/>
              <a:chExt cx="6094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6252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5760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267080" y="3505320"/>
              <a:ext cx="609840" cy="304560"/>
              <a:chOff x="4267080" y="3505320"/>
              <a:chExt cx="609840" cy="304560"/>
            </a:xfrm>
          </p:grpSpPr>
          <p:sp>
            <p:nvSpPr>
              <p:cNvPr id="123" name=""/>
              <p:cNvSpPr/>
              <p:nvPr/>
            </p:nvSpPr>
            <p:spPr>
              <a:xfrm>
                <a:off x="426708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7200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67080" y="3505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876920" y="3505320"/>
              <a:ext cx="24382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752480" y="3962520"/>
            <a:ext cx="3124440" cy="304560"/>
            <a:chOff x="1752480" y="3962520"/>
            <a:chExt cx="3124440" cy="304560"/>
          </a:xfrm>
        </p:grpSpPr>
        <p:sp>
          <p:nvSpPr>
            <p:cNvPr id="128" name=""/>
            <p:cNvSpPr/>
            <p:nvPr/>
          </p:nvSpPr>
          <p:spPr>
            <a:xfrm>
              <a:off x="1752480" y="39625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P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657600" y="3962520"/>
              <a:ext cx="609480" cy="304560"/>
              <a:chOff x="3657600" y="3962520"/>
              <a:chExt cx="60948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3657600" y="3962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62520" y="3962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657600" y="3962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267080" y="3962520"/>
              <a:ext cx="609840" cy="304560"/>
              <a:chOff x="4267080" y="3962520"/>
              <a:chExt cx="60984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4267080" y="3962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72000" y="3962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962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752480" y="5334120"/>
            <a:ext cx="2514600" cy="304560"/>
            <a:chOff x="1752480" y="5334120"/>
            <a:chExt cx="2514600" cy="304560"/>
          </a:xfrm>
        </p:grpSpPr>
        <p:sp>
          <p:nvSpPr>
            <p:cNvPr id="138" name=""/>
            <p:cNvSpPr/>
            <p:nvPr/>
          </p:nvSpPr>
          <p:spPr>
            <a:xfrm>
              <a:off x="1752480" y="53341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657600" y="5334120"/>
              <a:ext cx="609480" cy="304560"/>
              <a:chOff x="3657600" y="5334120"/>
              <a:chExt cx="609480" cy="304560"/>
            </a:xfrm>
          </p:grpSpPr>
          <p:sp>
            <p:nvSpPr>
              <p:cNvPr id="140" name=""/>
              <p:cNvSpPr/>
              <p:nvPr/>
            </p:nvSpPr>
            <p:spPr>
              <a:xfrm>
                <a:off x="3657600" y="5334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62520" y="53341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57600" y="5334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752480" y="1219320"/>
            <a:ext cx="2514600" cy="304560"/>
            <a:chOff x="1752480" y="1219320"/>
            <a:chExt cx="2514600" cy="304560"/>
          </a:xfrm>
        </p:grpSpPr>
        <p:sp>
          <p:nvSpPr>
            <p:cNvPr id="144" name=""/>
            <p:cNvSpPr/>
            <p:nvPr/>
          </p:nvSpPr>
          <p:spPr>
            <a:xfrm>
              <a:off x="1752480" y="12193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657600" y="1219320"/>
              <a:ext cx="609480" cy="304560"/>
              <a:chOff x="3657600" y="1219320"/>
              <a:chExt cx="609480" cy="304560"/>
            </a:xfrm>
          </p:grpSpPr>
          <p:sp>
            <p:nvSpPr>
              <p:cNvPr id="146" name=""/>
              <p:cNvSpPr/>
              <p:nvPr/>
            </p:nvSpPr>
            <p:spPr>
              <a:xfrm>
                <a:off x="365760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6252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5760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1752480" y="1676520"/>
            <a:ext cx="2514600" cy="304560"/>
            <a:chOff x="1752480" y="1676520"/>
            <a:chExt cx="2514600" cy="304560"/>
          </a:xfrm>
        </p:grpSpPr>
        <p:sp>
          <p:nvSpPr>
            <p:cNvPr id="150" name=""/>
            <p:cNvSpPr/>
            <p:nvPr/>
          </p:nvSpPr>
          <p:spPr>
            <a:xfrm>
              <a:off x="1752480" y="16765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657600" y="1676520"/>
              <a:ext cx="609480" cy="304560"/>
              <a:chOff x="3657600" y="1676520"/>
              <a:chExt cx="609480" cy="304560"/>
            </a:xfrm>
          </p:grpSpPr>
          <p:sp>
            <p:nvSpPr>
              <p:cNvPr id="152" name=""/>
              <p:cNvSpPr/>
              <p:nvPr/>
            </p:nvSpPr>
            <p:spPr>
              <a:xfrm>
                <a:off x="3657600" y="1676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62520" y="1676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57600" y="1676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2:02:01Z</dcterms:created>
  <dc:creator>Randal E. Bryant</dc:creator>
  <dc:description/>
  <dc:language>en-US</dc:language>
  <cp:lastModifiedBy>Randal E. Bryant</cp:lastModifiedBy>
  <dcterms:modified xsi:type="dcterms:W3CDTF">2002-02-04T01:55:46Z</dcterms:modified>
  <cp:revision>32</cp:revision>
  <dc:subject/>
  <dc:title>PowerPoint Presentation</dc:title>
</cp:coreProperties>
</file>