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1B1-5BD5-4EDE-BE4C-9D71C27C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8C8-C702-4B8C-9D9E-756075A5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58E-6F84-441B-A94E-976F4014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CEA-6531-4420-82DC-E92995AB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6C3-F76F-4406-A768-09CF21F5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0D5-BAFC-4E3F-A9E4-D6058E94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076-13D6-492A-904A-3EE7761F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112-8DD3-483F-9159-EA260B6D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EE3-2B21-4141-960D-A286D441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6C1-76FE-4324-8417-53B9DF52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C8A-E9E2-4F63-998E-669771DF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35F-1364-4A9B-B083-F421AEEF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5C19-A408-4803-A243-D327C251C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62320" y="2057400"/>
            <a:ext cx="1676160" cy="914400"/>
            <a:chOff x="2362320" y="2057400"/>
            <a:chExt cx="1676160" cy="914400"/>
          </a:xfrm>
        </p:grpSpPr>
        <p:sp>
          <p:nvSpPr>
            <p:cNvPr id="42" name=""/>
            <p:cNvSpPr/>
            <p:nvPr/>
          </p:nvSpPr>
          <p:spPr>
            <a:xfrm>
              <a:off x="2362320" y="20574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62320" y="22860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%ec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62320" y="25146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%ed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2320" y="27432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00400" y="20574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%e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2860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%e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25146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00400" y="27432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62320" y="2057400"/>
              <a:ext cx="167616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2362320" y="17827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343400" y="2255760"/>
            <a:ext cx="685800" cy="228600"/>
            <a:chOff x="4343400" y="2255760"/>
            <a:chExt cx="685800" cy="228600"/>
          </a:xfrm>
        </p:grpSpPr>
        <p:sp>
          <p:nvSpPr>
            <p:cNvPr id="53" name=""/>
            <p:cNvSpPr/>
            <p:nvPr/>
          </p:nvSpPr>
          <p:spPr>
            <a:xfrm>
              <a:off x="4343400" y="225576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Z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72000" y="225576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S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225576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255760"/>
              <a:ext cx="6858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267080" y="182880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27432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24685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057400"/>
            <a:ext cx="167616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17827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21:13:07Z</dcterms:created>
  <dc:creator>Randal E. Bryant</dc:creator>
  <dc:description/>
  <dc:language>en-US</dc:language>
  <cp:lastModifiedBy>Randal E. Bryant</cp:lastModifiedBy>
  <dcterms:modified xsi:type="dcterms:W3CDTF">2002-07-02T17:51:15Z</dcterms:modified>
  <cp:revision>2</cp:revision>
  <dc:subject/>
  <dc:title>PowerPoint Presentation</dc:title>
</cp:coreProperties>
</file>