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1828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28DC-E76D-4D18-9A2C-FA159208C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77724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11014560"/>
            <a:ext cx="77724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3321-3C11-495D-8E83-652E17C02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52833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110145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110145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5EDD-E669-49C5-A647-421AC2617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250236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5283360"/>
            <a:ext cx="250236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5283360"/>
            <a:ext cx="250236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11014560"/>
            <a:ext cx="250236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11014560"/>
            <a:ext cx="250236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11014560"/>
            <a:ext cx="250236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D8E9-EB9D-4F25-816A-51AADD233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5283360"/>
            <a:ext cx="7772400" cy="1097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CDAC-6B7E-4A84-9FB2-9FA7CCDDA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7772400" cy="1097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4D76-B409-4E17-BD24-D6469673C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3792600" cy="1097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5283360"/>
            <a:ext cx="3792600" cy="1097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D25E-DF0A-4817-9379-3D2CD5696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E410-B890-43AF-B392-C77461FBD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25760"/>
            <a:ext cx="7772400" cy="14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26C4-4754-44F2-AFFD-11CB1CCD7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5283360"/>
            <a:ext cx="3792600" cy="1097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110145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0246-ABAF-47E3-91A9-686BD2ED7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3792600" cy="1097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52833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110145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F486-1C14-4749-87F7-3F04FAFE2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52833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11014560"/>
            <a:ext cx="77724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73AF-EF7D-4508-999D-CEED8A33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5283360"/>
            <a:ext cx="7772400" cy="1097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16661880"/>
            <a:ext cx="1905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16661880"/>
            <a:ext cx="28958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16661880"/>
            <a:ext cx="1905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A029B-8575-4DD9-808E-FF0F126A93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4952880"/>
            <a:ext cx="2819520" cy="53352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09680" y="5791320"/>
            <a:ext cx="457200" cy="380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00200" y="5791320"/>
            <a:ext cx="457200" cy="380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4267080" y="548604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19520" y="5791320"/>
            <a:ext cx="457200" cy="380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38480" y="5791320"/>
            <a:ext cx="457200" cy="380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5791320"/>
            <a:ext cx="457200" cy="380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438280" y="5486040"/>
            <a:ext cx="0" cy="30492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3124080" y="46483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3657600" y="548604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048120" y="548604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828800" y="54860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95480" y="4267080"/>
            <a:ext cx="4572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0T15:11:49Z</dcterms:created>
  <dc:creator>Randal E. Bryant</dc:creator>
  <dc:description/>
  <dc:language>en-US</dc:language>
  <cp:lastModifiedBy>Randal E. Bryant</cp:lastModifiedBy>
  <dcterms:modified xsi:type="dcterms:W3CDTF">2002-05-13T12:46:19Z</dcterms:modified>
  <cp:revision>30</cp:revision>
  <dc:subject/>
  <dc:title>PowerPoint Presentation</dc:title>
</cp:coreProperties>
</file>