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7DC-1597-40F3-9DB3-FE86E915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CDC5-8E40-4A86-A13A-287DA6FD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5BE-A08F-4532-B095-CB87D187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ADA-A640-4DD5-B8A6-9C2A9DB1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B46-CFAD-4214-912E-9155D06E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DE72-E233-4953-8404-AF5FA282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3316-2145-47BF-8C2C-5984DC39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E210-AF72-4AA2-90C2-AB8D1AD1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2F24-7AB4-4D74-B781-D0F69EEC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3936-C192-4562-823A-C63E228B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B025-2793-437B-A461-221F2B2F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20A1-DF63-45BE-B5F2-FDAA53EA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A1CE-810D-4579-9104-688EFDF54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600200"/>
            <a:ext cx="2819160" cy="2133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2819520" y="2666880"/>
            <a:ext cx="533160" cy="15264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124080"/>
            <a:ext cx="533160" cy="15264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75040" y="2965320"/>
            <a:ext cx="39204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3480" y="274320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3480" y="274320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752480" y="1752480"/>
            <a:ext cx="292320" cy="609840"/>
            <a:chOff x="1752480" y="1752480"/>
            <a:chExt cx="292320" cy="609840"/>
          </a:xfrm>
        </p:grpSpPr>
        <p:sp>
          <p:nvSpPr>
            <p:cNvPr id="48" name=""/>
            <p:cNvSpPr/>
            <p:nvPr/>
          </p:nvSpPr>
          <p:spPr>
            <a:xfrm flipH="1">
              <a:off x="1905120" y="2211480"/>
              <a:ext cx="144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5400000">
              <a:off x="1747800" y="1909440"/>
              <a:ext cx="30132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5400000">
              <a:off x="1747800" y="1909440"/>
              <a:ext cx="30132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5400000">
              <a:off x="1860840" y="2212200"/>
              <a:ext cx="7776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1860840" y="2212200"/>
              <a:ext cx="7776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893960" y="1752480"/>
              <a:ext cx="144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057400" y="251460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819520"/>
            <a:ext cx="1293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8240" y="243828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08240" y="243828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2720" y="2590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920" y="1600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312408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914400" y="3417480"/>
            <a:ext cx="12938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8240" y="30481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8240" y="30481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2720" y="3244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1752480"/>
            <a:ext cx="533520" cy="1371600"/>
          </a:xfrm>
          <a:custGeom>
            <a:avLst/>
            <a:gdLst/>
            <a:ahLst/>
            <a:rect l="l" t="t" r="r" b="b"/>
            <a:pathLst>
              <a:path w="336" h="1056">
                <a:moveTo>
                  <a:pt x="336" y="1056"/>
                </a:moveTo>
                <a:lnTo>
                  <a:pt x="0" y="10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7524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2362320"/>
            <a:ext cx="152280" cy="152280"/>
          </a:xfrm>
          <a:custGeom>
            <a:avLst/>
            <a:gdLst/>
            <a:ahLst/>
            <a:rect l="l" t="t" r="r" b="b"/>
            <a:pathLst>
              <a:path w="336" h="1056">
                <a:moveTo>
                  <a:pt x="336" y="1056"/>
                </a:moveTo>
                <a:lnTo>
                  <a:pt x="0" y="10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2819520"/>
            <a:ext cx="6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447920" y="1676520"/>
            <a:ext cx="152280" cy="152280"/>
            <a:chOff x="1447920" y="1676520"/>
            <a:chExt cx="152280" cy="152280"/>
          </a:xfrm>
        </p:grpSpPr>
        <p:sp>
          <p:nvSpPr>
            <p:cNvPr id="70" name=""/>
            <p:cNvSpPr/>
            <p:nvPr/>
          </p:nvSpPr>
          <p:spPr>
            <a:xfrm>
              <a:off x="1486080" y="17146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47920" y="16765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5:59:25Z</dcterms:created>
  <dc:creator>Randal E. Bryant</dc:creator>
  <dc:description/>
  <dc:language>en-US</dc:language>
  <cp:lastModifiedBy>Randal E. Bryant</cp:lastModifiedBy>
  <dcterms:modified xsi:type="dcterms:W3CDTF">2002-02-15T20:25:20Z</dcterms:modified>
  <cp:revision>5</cp:revision>
  <dc:subject/>
  <dc:title>PowerPoint Presentation</dc:title>
</cp:coreProperties>
</file>