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6CF-9649-477E-AF7D-D8D3FFA4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093-CEFE-40FB-95C2-F405901E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F4C-43BD-47B2-9495-EC406434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7E5-CEE3-402F-9F1C-79D4DBC3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A80-88F5-41D6-8B78-5482CDF2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F85-1E2A-4E0C-9B1D-0EB9F47E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157-6CB5-49D1-9C16-338BC075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592-182A-46F4-85DC-BAB6985E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4A6-9C0A-4B84-BF63-E7D027C8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90F-464B-4FCD-AC4B-652F462B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2A4-B450-4337-8E2A-21131953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0C5-8580-48B0-82AD-32B6AD67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0F00-57AA-4586-9E8B-864203017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676520"/>
            <a:ext cx="228600" cy="1295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10280" y="1676520"/>
            <a:ext cx="228600" cy="1295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3200" y="12193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419720" y="1600200"/>
            <a:ext cx="1371600" cy="1143000"/>
            <a:chOff x="4419720" y="1600200"/>
            <a:chExt cx="1371600" cy="1143000"/>
          </a:xfrm>
        </p:grpSpPr>
        <p:sp>
          <p:nvSpPr>
            <p:cNvPr id="45" name=""/>
            <p:cNvSpPr/>
            <p:nvPr/>
          </p:nvSpPr>
          <p:spPr>
            <a:xfrm>
              <a:off x="4724640" y="2286000"/>
              <a:ext cx="685800" cy="4572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288"/>
                  </a:moveTo>
                  <a:lnTo>
                    <a:pt x="240" y="288"/>
                  </a:lnTo>
                  <a:lnTo>
                    <a:pt x="240" y="0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19720" y="16002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014360" y="1797120"/>
            <a:ext cx="3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Wingdings 3"/>
                <a:ea typeface="Wingdings 3"/>
              </a:rPr>
              <a:t>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19120" y="1797120"/>
            <a:ext cx="3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Wingdings 3"/>
                <a:ea typeface="Wingdings 3"/>
              </a:rPr>
              <a:t>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89760" y="17524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6600" y="17524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1640" y="12193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88200" y="17524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22096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2096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22096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22096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21:42:46Z</dcterms:created>
  <dc:creator>Randal E. Bryant</dc:creator>
  <dc:description/>
  <dc:language>en-US</dc:language>
  <cp:lastModifiedBy>Randal E. Bryant</cp:lastModifiedBy>
  <dcterms:modified xsi:type="dcterms:W3CDTF">2002-03-14T21:36:06Z</dcterms:modified>
  <cp:revision>10</cp:revision>
  <dc:subject/>
  <dc:title>PowerPoint Presentation</dc:title>
</cp:coreProperties>
</file>