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554-9235-4936-8EFA-3C1330E2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549-2CAE-4684-94CF-4048E946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460-E13E-494F-9EC0-EDC76651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78E-5EDA-4E64-81AD-FCF3756E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BF0-F8EB-4F34-A7B9-6315CC71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AA6-6318-45DD-873B-CD053FC9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860-69CE-4522-9387-34A60362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947-150A-44A1-92EA-C72D7991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DBC-E167-4E7D-B0D4-F0A7721F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463-ED49-4EA1-BDA8-17F595F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2DB-0581-4C75-B73C-17A3428A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B98-502A-4DE8-A3DE-0DFC2EC1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74A3-58D9-4E70-B225-AE7BDFD3A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50292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360" y="472428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80376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10832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41324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200" y="76212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. Hardware: Three-stage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160" y="32148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. Pipelin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8440" y="155268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1556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556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841480"/>
            <a:ext cx="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5280" y="320040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6840" y="1552680"/>
            <a:ext cx="90180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25840" y="155268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21556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1556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841480"/>
            <a:ext cx="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54240" y="1552680"/>
            <a:ext cx="90180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3240" y="155268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1556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21556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2841480"/>
            <a:ext cx="0" cy="43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11640" y="1552680"/>
            <a:ext cx="90180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71720" y="11430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9320" y="11430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9120" y="11430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76720" y="11430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6520" y="11430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34120" y="11430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04812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70880" y="1905120"/>
            <a:ext cx="2485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 = 36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 = 8.33 G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19320" y="3809880"/>
            <a:ext cx="1828800" cy="304920"/>
            <a:chOff x="1219320" y="3809880"/>
            <a:chExt cx="1828800" cy="304920"/>
          </a:xfrm>
        </p:grpSpPr>
        <p:sp>
          <p:nvSpPr>
            <p:cNvPr id="73" name=""/>
            <p:cNvSpPr/>
            <p:nvPr/>
          </p:nvSpPr>
          <p:spPr>
            <a:xfrm>
              <a:off x="1219320" y="380988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8800" y="380988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280" y="3809880"/>
              <a:ext cx="609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828800" y="4114800"/>
            <a:ext cx="1828800" cy="304920"/>
            <a:chOff x="1828800" y="4114800"/>
            <a:chExt cx="1828800" cy="304920"/>
          </a:xfrm>
        </p:grpSpPr>
        <p:sp>
          <p:nvSpPr>
            <p:cNvPr id="77" name=""/>
            <p:cNvSpPr/>
            <p:nvPr/>
          </p:nvSpPr>
          <p:spPr>
            <a:xfrm>
              <a:off x="1828800" y="411480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11480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7760" y="4114800"/>
              <a:ext cx="609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438280" y="4419720"/>
            <a:ext cx="1828800" cy="304560"/>
            <a:chOff x="2438280" y="4419720"/>
            <a:chExt cx="1828800" cy="304560"/>
          </a:xfrm>
        </p:grpSpPr>
        <p:sp>
          <p:nvSpPr>
            <p:cNvPr id="81" name=""/>
            <p:cNvSpPr/>
            <p:nvPr/>
          </p:nvSpPr>
          <p:spPr>
            <a:xfrm>
              <a:off x="2438280" y="4419720"/>
              <a:ext cx="609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7760" y="4419720"/>
              <a:ext cx="609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57240" y="4419720"/>
              <a:ext cx="60984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3:45:25Z</dcterms:created>
  <dc:creator>Randal E. Bryant</dc:creator>
  <dc:description/>
  <dc:language>en-US</dc:language>
  <cp:lastModifiedBy>Randal E. Bryant</cp:lastModifiedBy>
  <dcterms:modified xsi:type="dcterms:W3CDTF">2002-03-10T20:01:33Z</dcterms:modified>
  <cp:revision>11</cp:revision>
  <dc:subject/>
  <dc:title>PowerPoint Presentation</dc:title>
</cp:coreProperties>
</file>