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10-B1B7-44D6-994B-84739FEF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5E3-316C-4DF4-BC78-13C75D0D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6B-2B2A-41F0-8013-CFE881E2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3E5-9165-4063-B19C-45A8F552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B53-B9E9-4277-B655-26498205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F12-A5F1-4476-86F6-C4B6AF08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479-9C88-4E18-ADB8-2ACE3B5B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836-8795-4BC0-B455-F713A7A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09E-0A91-4E59-A877-97E16D0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4DE-76B5-46E6-94BB-C8E3EC1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01A-A6FE-4724-B0F2-4D0CDADC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C59-C490-44C0-8C03-4970ABA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ADA-430F-4EED-B65E-1C679564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98108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95480" y="228528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7432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1360" y="25844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980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980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440" y="1371600"/>
            <a:ext cx="291960" cy="609120"/>
            <a:chOff x="1828440" y="1371600"/>
            <a:chExt cx="291960" cy="609120"/>
          </a:xfrm>
        </p:grpSpPr>
        <p:sp>
          <p:nvSpPr>
            <p:cNvPr id="48" name=""/>
            <p:cNvSpPr/>
            <p:nvPr/>
          </p:nvSpPr>
          <p:spPr>
            <a:xfrm flipH="1">
              <a:off x="1980720" y="1830240"/>
              <a:ext cx="108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1823760" y="1528200"/>
              <a:ext cx="30096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1823760" y="1528200"/>
              <a:ext cx="30096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1937160" y="1830960"/>
              <a:ext cx="77400" cy="75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1937160" y="1830960"/>
              <a:ext cx="77400" cy="75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969560" y="1371600"/>
              <a:ext cx="108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213372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4382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4560" y="20574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4560" y="20574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5760" y="220968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114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743200"/>
            <a:ext cx="6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0481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4560" y="26668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26668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5760" y="28638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371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981080"/>
            <a:ext cx="152640" cy="15264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4382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35046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96252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1360" y="3803760"/>
            <a:ext cx="39204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9800" y="35812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9800" y="35812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3526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65760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4560" y="3276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4560" y="3276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5760" y="34290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962520"/>
            <a:ext cx="6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4560" y="38862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4560" y="38862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760" y="408312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200400"/>
            <a:ext cx="15264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57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63868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95480" y="594288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4008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1360" y="62420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9800" y="60199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9800" y="60199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79132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0958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4560" y="57150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4560" y="57150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400" y="586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64008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67057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4560" y="63244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560" y="63244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521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133720"/>
            <a:ext cx="228600" cy="3657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095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371600"/>
            <a:ext cx="533520" cy="50292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05120" y="2057400"/>
            <a:ext cx="152280" cy="152280"/>
            <a:chOff x="1905120" y="2057400"/>
            <a:chExt cx="152280" cy="152280"/>
          </a:xfrm>
        </p:grpSpPr>
        <p:sp>
          <p:nvSpPr>
            <p:cNvPr id="106" name=""/>
            <p:cNvSpPr/>
            <p:nvPr/>
          </p:nvSpPr>
          <p:spPr>
            <a:xfrm>
              <a:off x="1943280" y="2095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057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05120" y="3276720"/>
            <a:ext cx="152280" cy="152280"/>
            <a:chOff x="1905120" y="3276720"/>
            <a:chExt cx="152280" cy="152280"/>
          </a:xfrm>
        </p:grpSpPr>
        <p:sp>
          <p:nvSpPr>
            <p:cNvPr id="109" name=""/>
            <p:cNvSpPr/>
            <p:nvPr/>
          </p:nvSpPr>
          <p:spPr>
            <a:xfrm>
              <a:off x="1943280" y="3314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512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3880" y="2666880"/>
            <a:ext cx="152640" cy="152640"/>
            <a:chOff x="1523880" y="2666880"/>
            <a:chExt cx="152640" cy="152640"/>
          </a:xfrm>
        </p:grpSpPr>
        <p:sp>
          <p:nvSpPr>
            <p:cNvPr id="112" name=""/>
            <p:cNvSpPr/>
            <p:nvPr/>
          </p:nvSpPr>
          <p:spPr>
            <a:xfrm>
              <a:off x="1562040" y="270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2666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3886200"/>
            <a:ext cx="152640" cy="152280"/>
            <a:chOff x="1523880" y="3886200"/>
            <a:chExt cx="152640" cy="152280"/>
          </a:xfrm>
        </p:grpSpPr>
        <p:sp>
          <p:nvSpPr>
            <p:cNvPr id="115" name=""/>
            <p:cNvSpPr/>
            <p:nvPr/>
          </p:nvSpPr>
          <p:spPr>
            <a:xfrm>
              <a:off x="1562040" y="3924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38862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14600" y="4724280"/>
            <a:ext cx="152280" cy="609840"/>
            <a:chOff x="2514600" y="4724280"/>
            <a:chExt cx="152280" cy="609840"/>
          </a:xfrm>
        </p:grpSpPr>
        <p:grpSp>
          <p:nvGrpSpPr>
            <p:cNvPr id="118" name=""/>
            <p:cNvGrpSpPr/>
            <p:nvPr/>
          </p:nvGrpSpPr>
          <p:grpSpPr>
            <a:xfrm>
              <a:off x="2514600" y="4724280"/>
              <a:ext cx="152280" cy="152640"/>
              <a:chOff x="2514600" y="4724280"/>
              <a:chExt cx="152280" cy="152640"/>
            </a:xfrm>
          </p:grpSpPr>
          <p:sp>
            <p:nvSpPr>
              <p:cNvPr id="119" name=""/>
              <p:cNvSpPr/>
              <p:nvPr/>
            </p:nvSpPr>
            <p:spPr>
              <a:xfrm>
                <a:off x="2552760" y="4762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14600" y="47242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4952880"/>
              <a:ext cx="152280" cy="152640"/>
              <a:chOff x="2514600" y="4952880"/>
              <a:chExt cx="152280" cy="1526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52760" y="4991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49528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514600" y="5181480"/>
              <a:ext cx="152280" cy="152640"/>
              <a:chOff x="2514600" y="5181480"/>
              <a:chExt cx="152280" cy="1526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52760" y="5219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4600" y="51814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5867280" y="3962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343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3800" y="377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380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1760" y="3946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9480" y="4648320"/>
            <a:ext cx="152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ut =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 :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: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380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0800" y="8524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Bit-leve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360" y="85248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Word-leve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3880" y="1295280"/>
            <a:ext cx="152640" cy="152640"/>
            <a:chOff x="1523880" y="1295280"/>
            <a:chExt cx="152640" cy="152640"/>
          </a:xfrm>
        </p:grpSpPr>
        <p:sp>
          <p:nvSpPr>
            <p:cNvPr id="138" name=""/>
            <p:cNvSpPr/>
            <p:nvPr/>
          </p:nvSpPr>
          <p:spPr>
            <a:xfrm>
              <a:off x="1562040" y="13334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12952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867280" y="35053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432" y="144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695760"/>
            <a:ext cx="671400" cy="838080"/>
          </a:xfrm>
          <a:custGeom>
            <a:avLst/>
            <a:gdLst>
              <a:gd name="textAreaLeft" fmla="*/ 32760 w 671400"/>
              <a:gd name="textAreaRight" fmla="*/ 638640 w 67140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26959">
                <a:moveTo>
                  <a:pt x="3600" y="0"/>
                </a:moveTo>
                <a:arcTo wR="3600" hR="3600" stAng="16200000" swAng="-5400000"/>
                <a:lnTo>
                  <a:pt x="0" y="23359"/>
                </a:lnTo>
                <a:arcTo wR="3600" hR="3600" stAng="10800000" swAng="-5400000"/>
                <a:lnTo>
                  <a:pt x="18000" y="26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4:05:09Z</dcterms:modified>
  <cp:revision>5</cp:revision>
  <dc:subject/>
  <dc:title>PowerPoint Presentation</dc:title>
</cp:coreProperties>
</file>