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4EC-6FCC-4BE5-BCC2-00651C37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CE4-F28D-45E8-9551-6700D405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8A6-6A6B-4A35-B75C-A1310FB5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643-530D-45F8-8A37-C559212A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D43-2E27-454C-A11A-C01CFE0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644-110D-4EF2-B0AF-B5E2560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480-A1CC-45BB-B631-995E185C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23F-E9E2-4357-AEF2-71B95042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6E6-A936-4843-9F02-97F7CF9B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073-2838-4102-B510-C28B5FC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6CB-DAE1-49AE-BA86-A2E4CF6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E83-7804-4838-88F4-7E86B31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A016-9A35-469D-83BB-AF3E760EF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743200" y="91440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419720" y="7467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8991720"/>
            <a:ext cx="533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899172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0058400"/>
            <a:ext cx="1218960" cy="91440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96"/>
                </a:lnTo>
                <a:lnTo>
                  <a:pt x="576" y="96"/>
                </a:lnTo>
                <a:lnTo>
                  <a:pt x="576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5316200"/>
            <a:ext cx="36576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43200" y="15087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860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432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1972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58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814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8762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7180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6252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8762760"/>
            <a:ext cx="0" cy="228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62520" y="7467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8001000"/>
            <a:ext cx="685800" cy="1522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68580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655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29000" y="8001000"/>
            <a:ext cx="380880" cy="3049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971440" y="70102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971440" y="7238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0102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530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040" y="12268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48320" y="8077320"/>
            <a:ext cx="152280" cy="152280"/>
            <a:chOff x="4648320" y="8077320"/>
            <a:chExt cx="152280" cy="152280"/>
          </a:xfrm>
        </p:grpSpPr>
        <p:sp>
          <p:nvSpPr>
            <p:cNvPr id="82" name=""/>
            <p:cNvSpPr/>
            <p:nvPr/>
          </p:nvSpPr>
          <p:spPr>
            <a:xfrm>
              <a:off x="4686480" y="8115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8320" y="8077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744200"/>
            <a:ext cx="152280" cy="152280"/>
            <a:chOff x="4648320" y="10744200"/>
            <a:chExt cx="152280" cy="152280"/>
          </a:xfrm>
        </p:grpSpPr>
        <p:sp>
          <p:nvSpPr>
            <p:cNvPr id="85" name=""/>
            <p:cNvSpPr/>
            <p:nvPr/>
          </p:nvSpPr>
          <p:spPr>
            <a:xfrm>
              <a:off x="4686480" y="10782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107442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391520" y="12192120"/>
            <a:ext cx="152280" cy="152280"/>
            <a:chOff x="7391520" y="12192120"/>
            <a:chExt cx="152280" cy="152280"/>
          </a:xfrm>
        </p:grpSpPr>
        <p:sp>
          <p:nvSpPr>
            <p:cNvPr id="88" name=""/>
            <p:cNvSpPr/>
            <p:nvPr/>
          </p:nvSpPr>
          <p:spPr>
            <a:xfrm>
              <a:off x="7429680" y="12230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91520" y="121921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971800" y="6781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7238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89154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9144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48120" y="158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800" y="13944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080" y="12065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440" y="9067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336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6840" y="127252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65372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5680" y="12099960"/>
            <a:ext cx="1066680" cy="719280"/>
            <a:chOff x="4495680" y="12099960"/>
            <a:chExt cx="1066680" cy="719280"/>
          </a:xfrm>
        </p:grpSpPr>
        <p:sp>
          <p:nvSpPr>
            <p:cNvPr id="102" name=""/>
            <p:cNvSpPr/>
            <p:nvPr/>
          </p:nvSpPr>
          <p:spPr>
            <a:xfrm>
              <a:off x="44956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79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88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4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574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0968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607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733920" y="8229600"/>
            <a:ext cx="152280" cy="152280"/>
            <a:chOff x="3733920" y="8229600"/>
            <a:chExt cx="152280" cy="152280"/>
          </a:xfrm>
        </p:grpSpPr>
        <p:sp>
          <p:nvSpPr>
            <p:cNvPr id="117" name=""/>
            <p:cNvSpPr/>
            <p:nvPr/>
          </p:nvSpPr>
          <p:spPr>
            <a:xfrm>
              <a:off x="3772080" y="826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82296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1607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607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07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607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43200" y="14477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4478120"/>
            <a:ext cx="16765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96"/>
                </a:moveTo>
                <a:lnTo>
                  <a:pt x="1200" y="96"/>
                </a:lnTo>
                <a:lnTo>
                  <a:pt x="12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666880" y="14554080"/>
            <a:ext cx="152640" cy="152640"/>
            <a:chOff x="2666880" y="14554080"/>
            <a:chExt cx="152640" cy="152640"/>
          </a:xfrm>
        </p:grpSpPr>
        <p:sp>
          <p:nvSpPr>
            <p:cNvPr id="126" name=""/>
            <p:cNvSpPr/>
            <p:nvPr/>
          </p:nvSpPr>
          <p:spPr>
            <a:xfrm>
              <a:off x="2705040" y="1459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145540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886200" y="158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724280" y="158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05120" y="158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362320" y="15849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47067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7242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80006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9720" y="8001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8305920"/>
            <a:ext cx="3886200" cy="4343400"/>
          </a:xfrm>
          <a:custGeom>
            <a:avLst/>
            <a:gdLst/>
            <a:ahLst/>
            <a:rect l="l" t="t" r="r" b="b"/>
            <a:pathLst>
              <a:path w="2448" h="2736">
                <a:moveTo>
                  <a:pt x="0" y="48"/>
                </a:moveTo>
                <a:lnTo>
                  <a:pt x="0" y="0"/>
                </a:lnTo>
                <a:lnTo>
                  <a:pt x="2448" y="0"/>
                </a:lnTo>
                <a:lnTo>
                  <a:pt x="2448" y="2736"/>
                </a:lnTo>
                <a:lnTo>
                  <a:pt x="1296" y="27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10058400"/>
            <a:ext cx="1523880" cy="7621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61722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3030200"/>
            <a:ext cx="1066680" cy="3581280"/>
          </a:xfrm>
          <a:custGeom>
            <a:avLst/>
            <a:gdLst/>
            <a:ahLst/>
            <a:rect l="l" t="t" r="r" b="b"/>
            <a:pathLst>
              <a:path w="672" h="2256">
                <a:moveTo>
                  <a:pt x="0" y="0"/>
                </a:moveTo>
                <a:lnTo>
                  <a:pt x="672" y="0"/>
                </a:lnTo>
                <a:lnTo>
                  <a:pt x="672" y="2256"/>
                </a:lnTo>
                <a:lnTo>
                  <a:pt x="192" y="2256"/>
                </a:lnTo>
                <a:lnTo>
                  <a:pt x="192" y="2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343400" y="12953880"/>
            <a:ext cx="152280" cy="152640"/>
            <a:chOff x="4343400" y="12953880"/>
            <a:chExt cx="152280" cy="152640"/>
          </a:xfrm>
        </p:grpSpPr>
        <p:sp>
          <p:nvSpPr>
            <p:cNvPr id="148" name=""/>
            <p:cNvSpPr/>
            <p:nvPr/>
          </p:nvSpPr>
          <p:spPr>
            <a:xfrm>
              <a:off x="4381560" y="12992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129538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895480" y="10058400"/>
            <a:ext cx="762120" cy="2895480"/>
          </a:xfrm>
          <a:custGeom>
            <a:avLst/>
            <a:gdLst/>
            <a:ahLst/>
            <a:rect l="l" t="t" r="r" b="b"/>
            <a:pathLst>
              <a:path w="480" h="1824">
                <a:moveTo>
                  <a:pt x="480" y="1824"/>
                </a:moveTo>
                <a:lnTo>
                  <a:pt x="0" y="182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12877920"/>
            <a:ext cx="152640" cy="152280"/>
            <a:chOff x="3581280" y="12877920"/>
            <a:chExt cx="152640" cy="152280"/>
          </a:xfrm>
        </p:grpSpPr>
        <p:sp>
          <p:nvSpPr>
            <p:cNvPr id="152" name=""/>
            <p:cNvSpPr/>
            <p:nvPr/>
          </p:nvSpPr>
          <p:spPr>
            <a:xfrm>
              <a:off x="3619440" y="12916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1280" y="128779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53360" y="15436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2877920"/>
            <a:ext cx="533520" cy="3809880"/>
          </a:xfrm>
          <a:custGeom>
            <a:avLst/>
            <a:gdLst/>
            <a:ahLst/>
            <a:rect l="l" t="t" r="r" b="b"/>
            <a:pathLst>
              <a:path w="336" h="2400">
                <a:moveTo>
                  <a:pt x="288" y="144"/>
                </a:moveTo>
                <a:lnTo>
                  <a:pt x="288" y="0"/>
                </a:lnTo>
                <a:lnTo>
                  <a:pt x="0" y="0"/>
                </a:lnTo>
                <a:lnTo>
                  <a:pt x="0" y="2400"/>
                </a:lnTo>
                <a:lnTo>
                  <a:pt x="336" y="2400"/>
                </a:lnTo>
                <a:lnTo>
                  <a:pt x="336" y="2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2953880"/>
            <a:ext cx="1905120" cy="3810240"/>
          </a:xfrm>
          <a:custGeom>
            <a:avLst/>
            <a:gdLst/>
            <a:ahLst/>
            <a:rect l="l" t="t" r="r" b="b"/>
            <a:pathLst>
              <a:path w="1200" h="2400">
                <a:moveTo>
                  <a:pt x="0" y="96"/>
                </a:moveTo>
                <a:lnTo>
                  <a:pt x="0" y="0"/>
                </a:lnTo>
                <a:lnTo>
                  <a:pt x="1200" y="0"/>
                </a:lnTo>
                <a:lnTo>
                  <a:pt x="1200" y="2400"/>
                </a:lnTo>
                <a:lnTo>
                  <a:pt x="144" y="2400"/>
                </a:lnTo>
                <a:lnTo>
                  <a:pt x="144" y="22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6019920"/>
            <a:ext cx="4419360" cy="10896480"/>
          </a:xfrm>
          <a:custGeom>
            <a:avLst/>
            <a:gdLst/>
            <a:ahLst/>
            <a:rect l="l" t="t" r="r" b="b"/>
            <a:pathLst>
              <a:path w="2784" h="6864">
                <a:moveTo>
                  <a:pt x="816" y="96"/>
                </a:moveTo>
                <a:lnTo>
                  <a:pt x="816" y="0"/>
                </a:lnTo>
                <a:lnTo>
                  <a:pt x="2784" y="0"/>
                </a:lnTo>
                <a:lnTo>
                  <a:pt x="2784" y="6864"/>
                </a:lnTo>
                <a:lnTo>
                  <a:pt x="0" y="6864"/>
                </a:lnTo>
                <a:lnTo>
                  <a:pt x="0" y="6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8229600"/>
            <a:ext cx="1295280" cy="8610480"/>
          </a:xfrm>
          <a:custGeom>
            <a:avLst/>
            <a:gdLst/>
            <a:ahLst/>
            <a:rect l="l" t="t" r="r" b="b"/>
            <a:pathLst>
              <a:path w="816" h="5424">
                <a:moveTo>
                  <a:pt x="816" y="96"/>
                </a:moveTo>
                <a:lnTo>
                  <a:pt x="816" y="0"/>
                </a:lnTo>
                <a:lnTo>
                  <a:pt x="0" y="0"/>
                </a:lnTo>
                <a:lnTo>
                  <a:pt x="0" y="5424"/>
                </a:lnTo>
                <a:lnTo>
                  <a:pt x="768" y="5424"/>
                </a:lnTo>
                <a:lnTo>
                  <a:pt x="768" y="5184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3:03:47Z</dcterms:modified>
  <cp:revision>31</cp:revision>
  <dc:subject/>
  <dc:title>PowerPoint Presentation</dc:title>
</cp:coreProperties>
</file>