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B80-97D1-4E46-827C-9EC1809D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81F-3D02-4A09-8A55-0367116B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BB7-7E9F-42A7-AF3A-14B6500D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97F-4B77-4366-8122-895A6064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2B8-F496-44E0-8A48-E447222E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6F2-E408-473E-8108-D8302C3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573-F1E8-49FA-BD7E-F9D6F77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189-C97E-441F-97C7-8DDF57E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616-341C-4016-8F10-9B38E96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9D3-82FA-4E2C-AD1F-9B3E1F9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1ED-15ED-4E3B-8A9C-5F29151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37D-B8D2-4385-ACC9-B552C3E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285-DBCD-4AEF-AB85-A93D6B369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343400"/>
            <a:ext cx="1600200" cy="30481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8120"/>
              <a:gd name="textAreaBottom" fmla="*/ 2970000 h 3048120"/>
            </a:gdLst>
            <a:ahLst/>
            <a:rect l="textAreaLeft" t="textAreaTop" r="textAreaRight" b="textAreaBottom"/>
            <a:pathLst>
              <a:path w="21600" h="41140">
                <a:moveTo>
                  <a:pt x="3600" y="0"/>
                </a:moveTo>
                <a:arcTo wR="3600" hR="3600" stAng="16200000" swAng="-5400000"/>
                <a:lnTo>
                  <a:pt x="0" y="37540"/>
                </a:lnTo>
                <a:arcTo wR="3600" hR="3600" stAng="10800000" swAng="-5400000"/>
                <a:lnTo>
                  <a:pt x="18000" y="4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410080"/>
            <a:ext cx="990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5400000">
            <a:off x="3656160" y="632196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67816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208960" y="64008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3341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08960" y="49528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rot="5400000">
            <a:off x="1218960" y="60955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rot="5400000">
            <a:off x="1218960" y="54097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1294560" y="7391160"/>
            <a:ext cx="30456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572000"/>
            <a:ext cx="2209680" cy="350532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952880"/>
            <a:ext cx="1066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6416640"/>
            <a:ext cx="9907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7696080"/>
            <a:ext cx="76212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15000"/>
            <a:ext cx="60984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6019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3680" y="601992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8763120"/>
            <a:ext cx="1600200" cy="3047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7760"/>
              <a:gd name="textAreaBottom" fmla="*/ 2969640 h 3047760"/>
            </a:gdLst>
            <a:ahLst/>
            <a:rect l="textAreaLeft" t="textAreaTop" r="textAreaRight" b="textAreaBottom"/>
            <a:pathLst>
              <a:path w="21600" h="41135">
                <a:moveTo>
                  <a:pt x="3600" y="0"/>
                </a:moveTo>
                <a:arcTo wR="3600" hR="3600" stAng="16200000" swAng="-5400000"/>
                <a:lnTo>
                  <a:pt x="0" y="37535"/>
                </a:lnTo>
                <a:arcTo wR="3600" hR="3600" stAng="10800000" swAng="-5400000"/>
                <a:lnTo>
                  <a:pt x="18000" y="411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9829800"/>
            <a:ext cx="990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3656160" y="1074168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12014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8960" y="108205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97534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8960" y="93726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1218960" y="1051524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5400000">
            <a:off x="1218960" y="982944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1294560" y="118105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8991720"/>
            <a:ext cx="2209680" cy="350496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372600"/>
            <a:ext cx="10666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0836360"/>
            <a:ext cx="9907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2115800"/>
            <a:ext cx="76212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0134720"/>
            <a:ext cx="60984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480" y="1043928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3680" y="1043928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640" y="391176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of cyc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2160" y="39117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cyc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7120" y="83311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of cyc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800600" y="8763120"/>
            <a:ext cx="3429000" cy="3733200"/>
            <a:chOff x="4800600" y="8763120"/>
            <a:chExt cx="3429000" cy="3733200"/>
          </a:xfrm>
        </p:grpSpPr>
        <p:sp>
          <p:nvSpPr>
            <p:cNvPr id="79" name=""/>
            <p:cNvSpPr/>
            <p:nvPr/>
          </p:nvSpPr>
          <p:spPr>
            <a:xfrm>
              <a:off x="4800600" y="8763120"/>
              <a:ext cx="1600200" cy="304776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3047760"/>
                <a:gd name="textAreaBottom" fmla="*/ 2969640 h 3047760"/>
              </a:gdLst>
              <a:ahLst/>
              <a:rect l="textAreaLeft" t="textAreaTop" r="textAreaRight" b="textAreaBottom"/>
              <a:pathLst>
                <a:path w="21600" h="41135">
                  <a:moveTo>
                    <a:pt x="3600" y="0"/>
                  </a:moveTo>
                  <a:arcTo wR="3600" hR="3600" stAng="16200000" swAng="-5400000"/>
                  <a:lnTo>
                    <a:pt x="0" y="37535"/>
                  </a:lnTo>
                  <a:arcTo wR="3600" hR="3600" stAng="10800000" swAng="-5400000"/>
                  <a:lnTo>
                    <a:pt x="18000" y="41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72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bin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5520" y="9829440"/>
              <a:ext cx="99036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5400000">
              <a:off x="7847280" y="10742040"/>
              <a:ext cx="60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1120104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400080" y="1082016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9753480"/>
              <a:ext cx="304920" cy="304200"/>
            </a:xfrm>
            <a:prstGeom prst="rightArrow">
              <a:avLst>
                <a:gd name="adj1" fmla="val 37500"/>
                <a:gd name="adj2" fmla="val 58471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400080" y="937224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5409360" y="10514880"/>
              <a:ext cx="30456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5409360" y="9829080"/>
              <a:ext cx="30456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400000">
              <a:off x="5486040" y="11810160"/>
              <a:ext cx="30420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8991360"/>
              <a:ext cx="2209680" cy="3504960"/>
            </a:xfrm>
            <a:custGeom>
              <a:avLst/>
              <a:gdLst/>
              <a:ahLst/>
              <a:rect l="l" t="t" r="r" b="b"/>
              <a:pathLst>
                <a:path w="1392" h="2208">
                  <a:moveTo>
                    <a:pt x="240" y="0"/>
                  </a:moveTo>
                  <a:lnTo>
                    <a:pt x="1392" y="0"/>
                  </a:lnTo>
                  <a:lnTo>
                    <a:pt x="1392" y="2160"/>
                  </a:lnTo>
                  <a:lnTo>
                    <a:pt x="144" y="2160"/>
                  </a:lnTo>
                  <a:lnTo>
                    <a:pt x="144" y="2208"/>
                  </a:lnTo>
                  <a:lnTo>
                    <a:pt x="0" y="2112"/>
                  </a:lnTo>
                  <a:lnTo>
                    <a:pt x="144" y="2016"/>
                  </a:lnTo>
                  <a:lnTo>
                    <a:pt x="144" y="2064"/>
                  </a:lnTo>
                  <a:lnTo>
                    <a:pt x="1296" y="2064"/>
                  </a:lnTo>
                  <a:lnTo>
                    <a:pt x="1296" y="1440"/>
                  </a:lnTo>
                  <a:lnTo>
                    <a:pt x="1200" y="1440"/>
                  </a:lnTo>
                  <a:lnTo>
                    <a:pt x="1200" y="1488"/>
                  </a:lnTo>
                  <a:lnTo>
                    <a:pt x="1056" y="1392"/>
                  </a:lnTo>
                  <a:lnTo>
                    <a:pt x="1200" y="1296"/>
                  </a:lnTo>
                  <a:lnTo>
                    <a:pt x="1200" y="1344"/>
                  </a:lnTo>
                  <a:lnTo>
                    <a:pt x="1296" y="1344"/>
                  </a:lnTo>
                  <a:lnTo>
                    <a:pt x="1296" y="480"/>
                  </a:lnTo>
                  <a:lnTo>
                    <a:pt x="1248" y="480"/>
                  </a:lnTo>
                  <a:lnTo>
                    <a:pt x="1248" y="528"/>
                  </a:lnTo>
                  <a:lnTo>
                    <a:pt x="1104" y="432"/>
                  </a:lnTo>
                  <a:lnTo>
                    <a:pt x="1248" y="336"/>
                  </a:lnTo>
                  <a:lnTo>
                    <a:pt x="1248" y="384"/>
                  </a:lnTo>
                  <a:lnTo>
                    <a:pt x="1296" y="384"/>
                  </a:lnTo>
                  <a:lnTo>
                    <a:pt x="1296" y="96"/>
                  </a:lnTo>
                  <a:lnTo>
                    <a:pt x="240" y="96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77777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5720" y="9372240"/>
              <a:ext cx="1066680" cy="685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0836000"/>
              <a:ext cx="990360" cy="685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%ebx = 0x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12115440"/>
              <a:ext cx="762120" cy="380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x00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10134360"/>
              <a:ext cx="609480" cy="380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2240" y="1043928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4800" y="10439280"/>
              <a:ext cx="47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3160" y="119170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x0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680720" y="83311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cyc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4343400"/>
            <a:ext cx="1600200" cy="30481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8120"/>
              <a:gd name="textAreaBottom" fmla="*/ 2970000 h 3048120"/>
            </a:gdLst>
            <a:ahLst/>
            <a:rect l="textAreaLeft" t="textAreaTop" r="textAreaRight" b="textAreaBottom"/>
            <a:pathLst>
              <a:path w="21600" h="41140">
                <a:moveTo>
                  <a:pt x="3600" y="0"/>
                </a:moveTo>
                <a:arcTo wR="3600" hR="3600" stAng="16200000" swAng="-5400000"/>
                <a:lnTo>
                  <a:pt x="0" y="37540"/>
                </a:lnTo>
                <a:arcTo wR="3600" hR="3600" stAng="10800000" swAng="-5400000"/>
                <a:lnTo>
                  <a:pt x="18000" y="4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5410080"/>
            <a:ext cx="990360" cy="9907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990720"/>
              <a:gd name="textAreaBottom" fmla="*/ 942480 h 99072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5400000">
            <a:off x="7846920" y="632160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7816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400080" y="64008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53341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00080" y="49528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5400000">
            <a:off x="5409360" y="60955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rot="5400000">
            <a:off x="5409360" y="54097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5485680" y="7391160"/>
            <a:ext cx="30456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4572000"/>
            <a:ext cx="2209680" cy="350532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99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952880"/>
            <a:ext cx="1066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6416640"/>
            <a:ext cx="99036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7696080"/>
            <a:ext cx="76212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5715000"/>
            <a:ext cx="6094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2240" y="6019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4800" y="601992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23160" y="7497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0000" y="6095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94680" y="64468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666880"/>
            <a:ext cx="6248160" cy="3812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c:   addl %edx,%ebx      # %ebx &lt;-- 0x300 CC &lt;--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048120"/>
            <a:ext cx="6248160" cy="3808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e:   je dest             # Not ta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429000"/>
            <a:ext cx="6248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13:   rmmovl %ebx,0(%edx) # M[0x200] &lt;-- 0x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200" y="266688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" y="30481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5200" y="34290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286000"/>
            <a:ext cx="624816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6:   irmovl $0x200,%edx  # %edx &lt;-- 0x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5200" y="22860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6248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0:   irmovl $0x100,%ebx  # %ebx &lt;-- 0x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200" y="19051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2240" y="4724280"/>
            <a:ext cx="1698120" cy="246240"/>
            <a:chOff x="6402240" y="4724280"/>
            <a:chExt cx="1698120" cy="246240"/>
          </a:xfrm>
        </p:grpSpPr>
        <p:sp>
          <p:nvSpPr>
            <p:cNvPr id="129" name=""/>
            <p:cNvSpPr/>
            <p:nvPr/>
          </p:nvSpPr>
          <p:spPr>
            <a:xfrm>
              <a:off x="6402240" y="472428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5520" y="472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11120" y="4724280"/>
            <a:ext cx="1698120" cy="246240"/>
            <a:chOff x="2211120" y="4724280"/>
            <a:chExt cx="1698120" cy="246240"/>
          </a:xfrm>
        </p:grpSpPr>
        <p:sp>
          <p:nvSpPr>
            <p:cNvPr id="132" name=""/>
            <p:cNvSpPr/>
            <p:nvPr/>
          </p:nvSpPr>
          <p:spPr>
            <a:xfrm>
              <a:off x="2211120" y="472428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34400" y="472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02240" y="9128160"/>
            <a:ext cx="1698120" cy="246240"/>
            <a:chOff x="6402240" y="9128160"/>
            <a:chExt cx="1698120" cy="246240"/>
          </a:xfrm>
        </p:grpSpPr>
        <p:sp>
          <p:nvSpPr>
            <p:cNvPr id="135" name=""/>
            <p:cNvSpPr/>
            <p:nvPr/>
          </p:nvSpPr>
          <p:spPr>
            <a:xfrm>
              <a:off x="6402240" y="9128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5520" y="91281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11120" y="9128160"/>
            <a:ext cx="1698120" cy="246240"/>
            <a:chOff x="2211120" y="9128160"/>
            <a:chExt cx="1698120" cy="246240"/>
          </a:xfrm>
        </p:grpSpPr>
        <p:sp>
          <p:nvSpPr>
            <p:cNvPr id="138" name=""/>
            <p:cNvSpPr/>
            <p:nvPr/>
          </p:nvSpPr>
          <p:spPr>
            <a:xfrm>
              <a:off x="2211120" y="9128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34400" y="91281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62120" y="115740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0810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8920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20800" y="153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0204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1480" y="1538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480" y="1538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8640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9600" y="153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928800"/>
            <a:ext cx="761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81080" y="1004760"/>
            <a:ext cx="4876920" cy="595440"/>
            <a:chOff x="1981080" y="1004760"/>
            <a:chExt cx="4876920" cy="595440"/>
          </a:xfrm>
        </p:grpSpPr>
        <p:sp>
          <p:nvSpPr>
            <p:cNvPr id="158" name=""/>
            <p:cNvSpPr/>
            <p:nvPr/>
          </p:nvSpPr>
          <p:spPr>
            <a:xfrm flipV="1">
              <a:off x="198108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20040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41972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63868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85800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7652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4-10T17:15:23Z</dcterms:modified>
  <cp:revision>43</cp:revision>
  <dc:subject/>
  <dc:title>PowerPoint Presentation</dc:title>
</cp:coreProperties>
</file>