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EA7-5020-4E33-AD03-F2F3195B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48B-17EE-440E-99C8-C6D1FFFC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F78-80C2-4016-BA6E-4C79F2AC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BDE-ED46-4F7B-BABF-51381A21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20D-65CC-47A8-960E-778F9712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BBB-3FD5-4F49-9DF5-15A1BD08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328-42B3-4443-A7CB-29203474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3E5-316C-4361-992A-865B6CD1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54B-64AB-4B2C-AA47-25006B4A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586-6997-4DDC-831B-1D97922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D86-72E9-4B84-9757-5454822E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0BD-DAC5-4C31-BB70-7E54BAE2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C4E7-FC81-44EE-A15D-A4735236D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28440" y="1371600"/>
            <a:ext cx="4551480" cy="4180680"/>
            <a:chOff x="928440" y="1371600"/>
            <a:chExt cx="4551480" cy="4180680"/>
          </a:xfrm>
        </p:grpSpPr>
        <p:sp>
          <p:nvSpPr>
            <p:cNvPr id="42" name=""/>
            <p:cNvSpPr/>
            <p:nvPr/>
          </p:nvSpPr>
          <p:spPr>
            <a:xfrm>
              <a:off x="2670120" y="3581280"/>
              <a:ext cx="1371600" cy="152352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28440" y="13716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9400" y="137160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74840" y="1523880"/>
              <a:ext cx="3031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4840" y="198108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8440" y="182844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6440" y="13716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31320" y="213336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9400" y="213336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74840" y="228564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4840" y="274284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31320" y="259056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9320" y="213336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2960" y="396216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9400" y="396216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74840" y="411444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4840" y="45716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02960" y="441936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9320" y="396216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02960" y="47242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9400" y="4724280"/>
              <a:ext cx="990720" cy="761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4840" y="4876560"/>
              <a:ext cx="3031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4840" y="533376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02960" y="51814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9320" y="472428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060640" y="3124080"/>
              <a:ext cx="152280" cy="608760"/>
              <a:chOff x="2060640" y="3124080"/>
              <a:chExt cx="152280" cy="60876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2060640" y="3124080"/>
                <a:ext cx="152280" cy="151920"/>
                <a:chOff x="2060640" y="3124080"/>
                <a:chExt cx="152280" cy="1519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2098800" y="316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060640" y="312408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2060640" y="3352320"/>
                <a:ext cx="152280" cy="151920"/>
                <a:chOff x="2060640" y="3352320"/>
                <a:chExt cx="152280" cy="1519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098800" y="3390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060640" y="335232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060640" y="3580920"/>
                <a:ext cx="152280" cy="151920"/>
                <a:chOff x="2060640" y="3580920"/>
                <a:chExt cx="152280" cy="151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098800" y="361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060640" y="358092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>
              <a:off x="4653000" y="3422520"/>
              <a:ext cx="1508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46400" y="3200040"/>
              <a:ext cx="60660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6400" y="3200040"/>
              <a:ext cx="60660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000" y="1752480"/>
              <a:ext cx="838440" cy="1523520"/>
            </a:xfrm>
            <a:custGeom>
              <a:avLst/>
              <a:gdLst/>
              <a:ahLst/>
              <a:rect l="l" t="t" r="r" b="b"/>
              <a:pathLst>
                <a:path w="528" h="960">
                  <a:moveTo>
                    <a:pt x="0" y="0"/>
                  </a:moveTo>
                  <a:lnTo>
                    <a:pt x="432" y="0"/>
                  </a:lnTo>
                  <a:lnTo>
                    <a:pt x="432" y="960"/>
                  </a:lnTo>
                  <a:lnTo>
                    <a:pt x="528" y="9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670120" y="1752480"/>
              <a:ext cx="1371600" cy="152352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70120" y="2514240"/>
              <a:ext cx="1371600" cy="83808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670120" y="3504240"/>
              <a:ext cx="1371600" cy="83772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279600" y="3124080"/>
              <a:ext cx="152280" cy="608760"/>
              <a:chOff x="3279600" y="3124080"/>
              <a:chExt cx="152280" cy="6087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3279600" y="3124080"/>
                <a:ext cx="152280" cy="151920"/>
                <a:chOff x="3279600" y="3124080"/>
                <a:chExt cx="152280" cy="1519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317760" y="316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279600" y="312408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279600" y="3352320"/>
                <a:ext cx="152280" cy="151920"/>
                <a:chOff x="3279600" y="3352320"/>
                <a:chExt cx="152280" cy="1519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317760" y="3390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279600" y="335232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79600" y="3580920"/>
                <a:ext cx="152280" cy="151920"/>
                <a:chOff x="3279600" y="3580920"/>
                <a:chExt cx="152280" cy="1519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17760" y="361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79600" y="358092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4879800" y="327636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87120" y="91440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Bit-level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320" y="91440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. Word-level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64160" y="2971800"/>
            <a:ext cx="2899440" cy="1029960"/>
            <a:chOff x="5564160" y="2971800"/>
            <a:chExt cx="2899440" cy="1029960"/>
          </a:xfrm>
        </p:grpSpPr>
        <p:sp>
          <p:nvSpPr>
            <p:cNvPr id="98" name=""/>
            <p:cNvSpPr/>
            <p:nvPr/>
          </p:nvSpPr>
          <p:spPr>
            <a:xfrm>
              <a:off x="6340320" y="3009600"/>
              <a:ext cx="11430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83120" y="3162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83120" y="3771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83320" y="3466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4160" y="2971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80360" y="3633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13000" y="310032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21T04:04:12Z</dcterms:modified>
  <cp:revision>8</cp:revision>
  <dc:subject/>
  <dc:title>PowerPoint Presentation</dc:title>
</cp:coreProperties>
</file>