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00D-DBDD-42E6-A000-FA4B6F54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77724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7710840"/>
            <a:ext cx="77724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A6B-4CEB-4473-9C51-84330676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69900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771084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771084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AF0-B689-4F51-B24A-3673B2AC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250236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699000"/>
            <a:ext cx="250236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699000"/>
            <a:ext cx="250236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7710840"/>
            <a:ext cx="250236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7710840"/>
            <a:ext cx="250236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7710840"/>
            <a:ext cx="250236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B20-6509-4D7E-848D-F9B69F2A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699000"/>
            <a:ext cx="777240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7CE-A5E0-4972-9099-BA8D4571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7772400" cy="76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D3C-BF36-4468-9875-DBE422C5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3792600" cy="76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699000"/>
            <a:ext cx="3792600" cy="76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28E-B019-4412-BC7C-D19057F8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588-E3DB-4A65-8178-EDD8820A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138320"/>
            <a:ext cx="777240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A9D-A2F7-4CC3-8507-FCCA3B9D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699000"/>
            <a:ext cx="3792600" cy="76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771084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465-685C-4553-AC74-ABA80999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3792600" cy="76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69900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771084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4D7-AC59-4E92-A7A7-EF8706A1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69900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7710840"/>
            <a:ext cx="77724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1C9-EDE0-45D9-803E-2119A05E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699000"/>
            <a:ext cx="7772400" cy="76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1662920"/>
            <a:ext cx="190512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1662920"/>
            <a:ext cx="2895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1662920"/>
            <a:ext cx="190512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5FD1-67C7-4344-AA02-56C9967A4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0515600"/>
            <a:ext cx="228600" cy="1295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3276720"/>
            <a:ext cx="228600" cy="1295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6200" y="243828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2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327672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78800" y="487692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76720"/>
            <a:ext cx="901800" cy="12826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327672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901800" cy="12826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327672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4572000"/>
            <a:ext cx="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3276720"/>
            <a:ext cx="9018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4880" y="281952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52840" y="281952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2280" y="281952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10240" y="281952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9680" y="281952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67640" y="281952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480060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686560"/>
            <a:ext cx="228600" cy="1295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5686560"/>
            <a:ext cx="228600" cy="1295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6200" y="484812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568656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698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8800" y="728676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5686560"/>
            <a:ext cx="9018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68656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698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5686560"/>
            <a:ext cx="9018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568656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6981840"/>
            <a:ext cx="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686560"/>
            <a:ext cx="9018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4880" y="522936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52840" y="522936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62280" y="522936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10240" y="522936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9680" y="522936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67640" y="522936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721044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8077320"/>
            <a:ext cx="228600" cy="1295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8077320"/>
            <a:ext cx="228600" cy="1295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6200" y="725796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807732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939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807732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939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809640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9391680"/>
            <a:ext cx="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76392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52840" y="76392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62280" y="76392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0240" y="76392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9680" y="76392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67640" y="76392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8077320"/>
            <a:ext cx="9018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8077320"/>
            <a:ext cx="609840" cy="1295280"/>
          </a:xfrm>
          <a:custGeom>
            <a:avLst/>
            <a:gdLst/>
            <a:ahLst/>
            <a:rect l="l" t="t" r="r" b="b"/>
            <a:pathLst>
              <a:path w="464" h="816">
                <a:moveTo>
                  <a:pt x="0" y="0"/>
                </a:moveTo>
                <a:lnTo>
                  <a:pt x="0" y="816"/>
                </a:lnTo>
                <a:lnTo>
                  <a:pt x="240" y="816"/>
                </a:lnTo>
                <a:cubicBezTo>
                  <a:pt x="312" y="776"/>
                  <a:pt x="400" y="672"/>
                  <a:pt x="432" y="576"/>
                </a:cubicBezTo>
                <a:cubicBezTo>
                  <a:pt x="464" y="480"/>
                  <a:pt x="464" y="336"/>
                  <a:pt x="432" y="240"/>
                </a:cubicBezTo>
                <a:cubicBezTo>
                  <a:pt x="400" y="144"/>
                  <a:pt x="312" y="40"/>
                  <a:pt x="24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8077320"/>
            <a:ext cx="9018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8077320"/>
            <a:ext cx="9018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8077320"/>
            <a:ext cx="698760" cy="1295280"/>
          </a:xfrm>
          <a:custGeom>
            <a:avLst/>
            <a:gdLst/>
            <a:ahLst/>
            <a:rect l="l" t="t" r="r" b="b"/>
            <a:pathLst>
              <a:path w="440" h="816">
                <a:moveTo>
                  <a:pt x="0" y="0"/>
                </a:moveTo>
                <a:lnTo>
                  <a:pt x="0" y="816"/>
                </a:lnTo>
                <a:lnTo>
                  <a:pt x="199" y="816"/>
                </a:lnTo>
                <a:cubicBezTo>
                  <a:pt x="260" y="783"/>
                  <a:pt x="332" y="726"/>
                  <a:pt x="368" y="617"/>
                </a:cubicBezTo>
                <a:cubicBezTo>
                  <a:pt x="394" y="521"/>
                  <a:pt x="440" y="256"/>
                  <a:pt x="414" y="160"/>
                </a:cubicBezTo>
                <a:cubicBezTo>
                  <a:pt x="387" y="64"/>
                  <a:pt x="258" y="40"/>
                  <a:pt x="19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8077320"/>
            <a:ext cx="9018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8077320"/>
            <a:ext cx="90144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8077320"/>
            <a:ext cx="609480" cy="1295280"/>
          </a:xfrm>
          <a:custGeom>
            <a:avLst/>
            <a:gdLst/>
            <a:ahLst/>
            <a:rect l="l" t="t" r="r" b="b"/>
            <a:pathLst>
              <a:path w="384" h="816">
                <a:moveTo>
                  <a:pt x="0" y="0"/>
                </a:moveTo>
                <a:lnTo>
                  <a:pt x="0" y="816"/>
                </a:lnTo>
                <a:lnTo>
                  <a:pt x="199" y="816"/>
                </a:lnTo>
                <a:cubicBezTo>
                  <a:pt x="258" y="776"/>
                  <a:pt x="349" y="667"/>
                  <a:pt x="358" y="576"/>
                </a:cubicBezTo>
                <a:cubicBezTo>
                  <a:pt x="384" y="480"/>
                  <a:pt x="279" y="366"/>
                  <a:pt x="253" y="270"/>
                </a:cubicBezTo>
                <a:cubicBezTo>
                  <a:pt x="226" y="174"/>
                  <a:pt x="258" y="40"/>
                  <a:pt x="19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8077320"/>
            <a:ext cx="90144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78800" y="969660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96202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0515600"/>
            <a:ext cx="228600" cy="1295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0515600"/>
            <a:ext cx="228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6200" y="96678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3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050624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1180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78800" y="1210644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0506240"/>
            <a:ext cx="901800" cy="1282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0506240"/>
            <a:ext cx="216000" cy="130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180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0506240"/>
            <a:ext cx="901800" cy="12826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10506240"/>
            <a:ext cx="216000" cy="130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11801520"/>
            <a:ext cx="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0506240"/>
            <a:ext cx="901800" cy="12826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4880" y="1004904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51040" y="1004904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62280" y="1004904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10240" y="1004904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9680" y="1004904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67640" y="1004904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1203012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15960"/>
            <a:ext cx="121896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920880"/>
            <a:ext cx="121896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615960"/>
            <a:ext cx="121932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920880"/>
            <a:ext cx="12193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1225440"/>
            <a:ext cx="12193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175248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1682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1682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1835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835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228600"/>
            <a:ext cx="1828800" cy="22860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lnTo>
                  <a:pt x="96" y="144"/>
                </a:lnTo>
                <a:lnTo>
                  <a:pt x="96" y="0"/>
                </a:lnTo>
                <a:lnTo>
                  <a:pt x="288" y="0"/>
                </a:lnTo>
                <a:lnTo>
                  <a:pt x="288" y="144"/>
                </a:lnTo>
                <a:lnTo>
                  <a:pt x="480" y="144"/>
                </a:lnTo>
                <a:lnTo>
                  <a:pt x="480" y="0"/>
                </a:lnTo>
                <a:lnTo>
                  <a:pt x="5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61596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920880"/>
            <a:ext cx="838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122544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81280" y="175896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885840" y="175896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800600" y="175896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419720" y="1758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3760" y="21337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1520" y="21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213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182880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18288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3640" y="24526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3640" y="48769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640" y="72532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640" y="96915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2860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8098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8098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8098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38098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8098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098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624852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624852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624852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624852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624852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86104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86104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86104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86104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86104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86104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09728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109728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109728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09728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109728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09728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21:18:43Z</dcterms:created>
  <dc:creator>Randal E. Bryant</dc:creator>
  <dc:description/>
  <dc:language>en-US</dc:language>
  <cp:lastModifiedBy>Randal E. Bryant</cp:lastModifiedBy>
  <dcterms:modified xsi:type="dcterms:W3CDTF">2002-03-14T21:49:51Z</dcterms:modified>
  <cp:revision>6</cp:revision>
  <dc:subject/>
  <dc:title>PowerPoint Presentation</dc:title>
</cp:coreProperties>
</file>