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942BA803-53AE-4E86-907E-A9AA73D95FF3}"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120D5DD4-7821-4E90-BB1C-4EAE3E997FD4}" type="datetime2">
              <a:rPr b="0" lang="en-US" sz="1900" spc="-1" strike="noStrike">
                <a:solidFill>
                  <a:srgbClr val="000000"/>
                </a:solidFill>
                <a:latin typeface="Times New Roman"/>
              </a:rPr>
              <a:t>Friday, July 31, 2026</a:t>
            </a:fld>
            <a:r>
              <a:rPr b="0" lang="en-US" sz="1900" spc="-1" strike="noStrike">
                <a:solidFill>
                  <a:srgbClr val="000000"/>
                </a:solidFill>
                <a:latin typeface="Times New Roman"/>
              </a:rPr>
              <a:t> at </a:t>
            </a:r>
            <a:fld id="{5EB507CD-2D35-43F3-9128-BDE60FE8DBC7}" type="datetime12">
              <a:rPr b="0" lang="en-US" sz="1900" spc="-1" strike="noStrike">
                <a:solidFill>
                  <a:srgbClr val="000000"/>
                </a:solidFill>
                <a:latin typeface="Times New Roman"/>
              </a:rPr>
              <a:t>08:18 A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087C-D7AB-4314-8EE8-4AACCC665CA9}"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