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9F2-C46D-4961-8927-4C4980B9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1CB-E894-488D-B51C-445CAC13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3F0-86A7-41CA-9632-68C4CD1C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42B-533C-430C-B97F-977A62BB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3E9-DEF4-4BC8-8283-BBDDA452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C69-8130-457E-99E6-18E2B5B7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289-5249-4725-B399-125C156F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C45-FB64-4A1C-BD16-D32AC76D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635-E434-4E87-B9FF-F04E3C73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7A1-0E00-489C-8109-6F4B600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E1D-490F-4EB1-8AD0-0C16914F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41C-FECA-4602-839A-DA774EAF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EB7F-32A4-4FE5-9BD5-09B50E7A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gular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80536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ings that End with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a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06668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s with the patte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556272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2 – One Character Mi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05084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4280" y="3522600"/>
            <a:ext cx="41547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152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Gram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0666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ular gramma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quadrupl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),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ule alphabet, which contains nonterminals   and termina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set of terminals) is a sub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set of rules) is a finite set of rules of th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start symbol) is a non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152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Gram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06668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regular grammar, all rul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left hand side that is a single non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right hand side tha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terminal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terminal followed by a single non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legal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152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Grammar Examp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05084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s even}     (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46483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1522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Grammar Examp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05084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s even}     (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46483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ular Languages and Regular Gramm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05084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class of languages that can be defined with regular grammars is exactly the regular langu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of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y two co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ular Languages and Regular Gramm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05084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r gramma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FS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mmartof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)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eat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eparate state for each nonterminal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art state is the state corresponding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f there are any rul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reate a new state labeled 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or each rule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d a transition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e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For each rule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d a transition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# labe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For each rule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k st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ark state # as accep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SM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egular gramma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imilar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52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1 - Even Length String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05084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ings that End with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a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06668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*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s with the patte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0:38:26Z</dcterms:created>
  <dc:creator>oih</dc:creator>
  <dc:description/>
  <dc:language>en-US</dc:language>
  <cp:lastModifiedBy>Elaine A. Rich</cp:lastModifiedBy>
  <dcterms:modified xsi:type="dcterms:W3CDTF">2007-10-07T01:11:39Z</dcterms:modified>
  <cp:revision>105</cp:revision>
  <dc:subject/>
  <dc:title>Slide 1</dc:title>
</cp:coreProperties>
</file>