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C10-F475-4DB3-9626-5C94E67D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F3A-7C8F-40BC-8683-7C3D9395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60C-700C-4808-A2AA-D15AC268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0D0-A379-4B78-85D6-56808EDB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0B4-79DD-4486-A5A2-D59C3020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1EC-4209-41A8-BE0C-C221C20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1AB-3FEC-4A8D-B2DE-1D0FFC3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411-98BD-4C7F-9C04-70CA2B0B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EDB-8801-4473-AA39-49106C3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4D3-D780-4F15-BD1F-1FA58FA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714-5DB8-4FEC-B06E-11CE524F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DAB-B0EF-4D1E-9395-CB3C1E5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065D-E3A3-4EBD-9345-0475A77C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724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ndix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plicated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828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b([A-Za-z]+)\s+\1\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143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581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ng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text =~ s/\b([A-Za-z]+)\s+\1\b/\1/g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imple Chatb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219320"/>
            <a:ext cx="7467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ever the user types an expression of the for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is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our chatbot to reply with the expres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ase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on input, “The food there is awful,” our chatbot would reply, “Why is the food there awful?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ex to do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text =~ s/^([A-Za-z]+)\sis\s([A-Za-z]+)\.?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Why is \1 \2?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1066680"/>
          <a:ext cx="7924680" cy="3681360"/>
        </p:xfrm>
        <a:graphic>
          <a:graphicData uri="http://schemas.openxmlformats.org/drawingml/2006/table">
            <a:tbl>
              <a:tblPr/>
              <a:tblGrid>
                <a:gridCol w="1068120"/>
                <a:gridCol w="1598760"/>
                <a:gridCol w="525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ate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he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he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n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e any regex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|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|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on (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n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e any regex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eene s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0 or mo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least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1 or mo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0 or 1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t leas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ut no more tha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1219320"/>
          <a:ext cx="7925040" cy="2981160"/>
        </p:xfrm>
        <a:graphic>
          <a:graphicData uri="http://schemas.openxmlformats.org/drawingml/2006/table">
            <a:tbl>
              <a:tblPr/>
              <a:tblGrid>
                <a:gridCol w="1067040"/>
                <a:gridCol w="1763640"/>
                <a:gridCol w="5094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simon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ns off greedy matching so the shortest match is sel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d 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except new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ft 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s the match to the beginning of a line or 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 anch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s the match to the end of a line or str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1143000"/>
          <a:ext cx="8076960" cy="5386320"/>
        </p:xfrm>
        <a:graphic>
          <a:graphicData uri="http://schemas.openxmlformats.org/drawingml/2006/table">
            <a:tbl>
              <a:tblPr/>
              <a:tblGrid>
                <a:gridCol w="1009440"/>
                <a:gridCol w="1864080"/>
                <a:gridCol w="5203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ming a collating sequence, matches any single character in ran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^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ming a collating sequence, matches any single character not in ran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single digit, i.e., string in 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di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single nondigit character, i.e.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^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phanume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single “word” character, i.e.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alphanume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in [^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ite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in [space, tab, newline, etc.]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white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y character not matched by 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914400"/>
          <a:ext cx="8001000" cy="5657760"/>
        </p:xfrm>
        <a:graphic>
          <a:graphicData uri="http://schemas.openxmlformats.org/drawingml/2006/table">
            <a:tbl>
              <a:tblPr/>
              <a:tblGrid>
                <a:gridCol w="1076400"/>
                <a:gridCol w="1616040"/>
                <a:gridCol w="530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new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re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t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form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backspace inside [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d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 word boundary outside [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word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 non-word 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 null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 ASCII character with octal valu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xa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 ASCII character with hexadecimal valu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an ASCII control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152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Expressions in Per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1143000"/>
          <a:ext cx="8001000" cy="3591000"/>
        </p:xfrm>
        <a:graphic>
          <a:graphicData uri="http://schemas.openxmlformats.org/drawingml/2006/table">
            <a:tbl>
              <a:tblPr/>
              <a:tblGrid>
                <a:gridCol w="1076400"/>
                <a:gridCol w="1616040"/>
                <a:gridCol w="530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used to quote symbols such as . and 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any regex, and stores the matched string in the next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whatever the first parenthesized expression matc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ches whatever the second parenthesized expression matc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all remaining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m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badv\(?ert\)?\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ail Ad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b[A-Za-z0-9_%-]+@[A-Za-z0-9_%-]+(\.[A-Za-z]+){1,4}\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523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([ab]*)\1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35:37Z</dcterms:created>
  <dc:creator>oih</dc:creator>
  <dc:description/>
  <dc:language>en-US</dc:language>
  <cp:lastModifiedBy>Elaine A. Rich</cp:lastModifiedBy>
  <dcterms:modified xsi:type="dcterms:W3CDTF">2007-11-09T02:57:01Z</dcterms:modified>
  <cp:revision>165</cp:revision>
  <dc:subject/>
  <dc:title>Slide 1</dc:title>
</cp:coreProperties>
</file>