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673-63A7-4A82-A2B6-1A00701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344-AFAE-46F7-B859-6BC0768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40B-3203-4001-952F-D0C27C8A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DE2-6805-4E33-AE9C-873C78AD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6B1-86A9-4722-907D-6948F6B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989-4562-47C9-89BA-4F7A4018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1ED-A939-4B44-970E-5508BE1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E31-AC9B-48E1-9D19-FE669DD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627-B543-40DB-B1B0-53F1660A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048-B10D-4AFD-B0A7-A344585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3A7-AFEA-4EB7-944B-7DE7294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89-5FA8-4ABA-8E84-D602362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8952-126F-4CCE-87B2-03400F98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8305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and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0536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1143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= 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11430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(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n even number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241280"/>
            <a:ext cx="7772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in each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me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w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143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yz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1143000"/>
            <a:ext cx="7238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1143000"/>
            <a:ext cx="77724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: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106668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ime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guages and 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8672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43000"/>
            <a:ext cx="76960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uncountably many non-regular languages                                 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)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Every infinite language is the complement of a fini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14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on of an infinite number of regular langu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cessarily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The intersection of an infinite number of regula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is necessarily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ue or Fal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1143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langua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define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x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,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necessarily reg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1066680"/>
            <a:ext cx="7848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y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oth languages over the alphab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0,1}.  We say that func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places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(leav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unchang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1430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hanging ever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imultane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by app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nd of every string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language form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rowing aw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deleting the first positions of all oth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 these Functions Nice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83628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I'm back at work again. I passed your class with a B. I was glad it was over. Than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oday at work, I decided I was going to teach myself how to use a new performance monitoring tool. So the first thing to do is go read the documentation on the tool, right? You'll never believe what the FIRST paragraph sai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...In order to understand the complexities of (the tool), imagine a finite state machine. The vertices are the possible states in which a thread can exist. Edges between the vertices represent (functions) to change from one state to another. Now this FSM will have to be non- deterministic because..." blah, blah, blah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n't believe it! But thanks to you, I could visualize it and understood completely. My sincere thanks!!! See you around. 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egular Expre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95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following DFS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regular express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5668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2193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at least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at most tw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natural number whose digits appear in a non-decreasing order without leading zero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219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if there are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is at least on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if there are an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, then there is at leas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14300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refi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0 - 9, *, =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-9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gula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0:38:26Z</dcterms:created>
  <dc:creator>oih</dc:creator>
  <dc:description/>
  <dc:language>en-US</dc:language>
  <cp:lastModifiedBy>Elaine A. Rich</cp:lastModifiedBy>
  <dcterms:modified xsi:type="dcterms:W3CDTF">2007-10-08T19:12:12Z</dcterms:modified>
  <cp:revision>199</cp:revision>
  <dc:subject/>
  <dc:title>Slide 1</dc:title>
</cp:coreProperties>
</file>