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D904-2366-4DF3-87F0-3C4C7F554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4711-ECC7-4B08-841A-401111C77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8F15-EEB8-45AD-8723-8F3087FA3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8826-990C-4474-A640-17CDC71969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986EB-9AF6-41AE-9DE9-99B45B690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84D9-BFCB-4004-B5C1-AE8DCEF626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33049-CBDD-46CA-9EAB-42AD00D98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BB1E0-5B27-4786-88FE-950E9A6B5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62485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C4333-6D60-4F97-895E-A8092631D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7D6BC-6585-4DD7-961E-D06703104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372F-6E1A-43D0-BE4C-0925B491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E44E-553C-4963-A32B-553037925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774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77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7320" y="6324120"/>
            <a:ext cx="380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266E-8041-4C62-B3AF-B3D6B916CA3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1447920"/>
            <a:ext cx="6172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152280" y="228600"/>
          <a:ext cx="13716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28600"/>
                    <a:ext cx="13716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00440"/>
            <a:ext cx="563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9AB1-442D-4977-AB31-4D5FD47B2EF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d Ang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or of Computer Science, Electrical and Computer Engineering, and Media Ar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0A14-9651-4D75-86CD-7D92316ECA17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ditive and Subtractive Color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dditive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a color by adding amounts of three prim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Ts, projection systems, positiv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ies are Red (R), Green (G), Blue (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tractive col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a color by filtering white light with cyan (C), Magenta (M), and Yellow (Y) fil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ght-material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ative fi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F996-2F54-4000-B70A-B8B3BB08D5D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Pinhole Camera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0" name="Picture 5" descr="ftp://ftp.cs.unm.edu/pub/angel/BOOK/SECOND_EDITION/FIGURES/JPEG/an01f14.jpg"/>
          <p:cNvPicPr/>
          <p:nvPr/>
        </p:nvPicPr>
        <p:blipFill>
          <a:blip r:embed="rId1"/>
          <a:stretch/>
        </p:blipFill>
        <p:spPr>
          <a:xfrm>
            <a:off x="2514600" y="1600200"/>
            <a:ext cx="4054320" cy="21319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1530360" y="4648320"/>
            <a:ext cx="136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-x/z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359160" y="4648320"/>
            <a:ext cx="1366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-y/z/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29440" y="4038480"/>
            <a:ext cx="67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rigonometry to find projection of point at 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059840" y="5486400"/>
            <a:ext cx="529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equations of simple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66440" y="4648320"/>
            <a:ext cx="82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81A6-3888-42D6-BB2F-90FA2B743C0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ynthetic Camera Model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9" name="Picture 5" descr="ftp://ftp.cs.unm.edu/pub/angel/BOOK/SECOND_EDITION/FIGURES/JPEG/an01f19.jpg"/>
          <p:cNvPicPr/>
          <p:nvPr/>
        </p:nvPicPr>
        <p:blipFill>
          <a:blip r:embed="rId1"/>
          <a:stretch/>
        </p:blipFill>
        <p:spPr>
          <a:xfrm>
            <a:off x="2286000" y="1676520"/>
            <a:ext cx="4467240" cy="3475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3502080" y="44197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 of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46880" y="3733920"/>
            <a:ext cx="16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751760" y="1905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2666880" y="2362320"/>
            <a:ext cx="609840" cy="106668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"/>
          <p:cNvSpPr/>
          <p:nvPr/>
        </p:nvSpPr>
        <p:spPr>
          <a:xfrm flipH="1" flipV="1">
            <a:off x="4191120" y="3352680"/>
            <a:ext cx="838080" cy="60984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 flipH="1" flipV="1">
            <a:off x="3200400" y="4191120"/>
            <a:ext cx="38088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548820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3"/>
          <p:cNvSpPr/>
          <p:nvPr/>
        </p:nvSpPr>
        <p:spPr>
          <a:xfrm flipH="1" flipV="1">
            <a:off x="5181120" y="3276720"/>
            <a:ext cx="381240" cy="38088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807800" y="4114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ion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5"/>
          <p:cNvSpPr/>
          <p:nvPr/>
        </p:nvSpPr>
        <p:spPr>
          <a:xfrm flipH="1" flipV="1">
            <a:off x="4038120" y="3580920"/>
            <a:ext cx="685800" cy="762120"/>
          </a:xfrm>
          <a:prstGeom prst="line">
            <a:avLst/>
          </a:prstGeom>
          <a:ln w="12600">
            <a:solidFill>
              <a:srgbClr val="ff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1F54-0052-45D9-BC44-B91B0D91174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Advant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paration of objects, viewer, ligh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-dimensional graphics is a special case of three-dimensional graph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simple software AP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y objects, lights, camera, attrib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 implementation determine im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s to fast hardware implementa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A176-7145-47DB-AA35-390FDB73B520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Global vs Local Lighting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nnot compute color or shade of each object independent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bjects are blocked from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can reflect from object to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bjects might be transluc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ftp://ftp.cs.unm.edu/pub/angel/BOOK/SECOND_EDITION/FIGURES/JPEG/an01f09.jpg"/>
          <p:cNvPicPr/>
          <p:nvPr/>
        </p:nvPicPr>
        <p:blipFill>
          <a:blip r:embed="rId1"/>
          <a:stretch/>
        </p:blipFill>
        <p:spPr>
          <a:xfrm>
            <a:off x="2514600" y="3962520"/>
            <a:ext cx="298620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E22D-3DE1-4764-89C3-52F65AFB6CFA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Why not ray tracing?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tracing seems more physically based so why don’t we use it to design a graphics syste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ssible and is actually simple for simple objects such as polygons and quadrics with simple point sour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principle, can produce global lighting effects such as shadows and multiple reflections but ray tracing is slow and not well-suited for interactive applic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656D-7036-4833-B14D-2667A0C3AF5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248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Objectiv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undamental imaging no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ysical basis for image 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cep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ynthetic camera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mod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BB91-9112-449C-A07D-D5FBB51B76B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 computer graphics, we form images which are generally two dimensional using a process analogous to how images are formed by physical imaging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escop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visual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8FB3-3FDD-478A-AB83-E7AF8789A5E4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Elements of Image Formation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ew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ght source(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tributes that govern how light interacts with the materials in the sc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e the independence of the objects, the viewer, and the light source(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tp://ftp.cs.unm.edu/pub/angel/BOOK/SECOND_EDITION/FIGURES/JPEG/an01f07.jpg"/>
          <p:cNvPicPr/>
          <p:nvPr/>
        </p:nvPicPr>
        <p:blipFill>
          <a:blip r:embed="rId1"/>
          <a:stretch/>
        </p:blipFill>
        <p:spPr>
          <a:xfrm>
            <a:off x="4800600" y="1523880"/>
            <a:ext cx="24717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45C3-7CFC-4169-B21F-84753AD3E16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igh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Light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is the part of the electromagnetic spectrum that causes a reaction in our visual syst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ly these are wavelengths in the range of about 350-750 nm (nanometer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ng wavelengths appear as reds and short wavelengths as b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EBBC-5C56-4845-8375-047B9C35A235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an01f10"/>
          <p:cNvPicPr/>
          <p:nvPr/>
        </p:nvPicPr>
        <p:blipFill>
          <a:blip r:embed="rId1"/>
          <a:stretch/>
        </p:blipFill>
        <p:spPr>
          <a:xfrm>
            <a:off x="5715000" y="1890720"/>
            <a:ext cx="2948040" cy="307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4496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Ray Tracing and Geometric Optic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way to form an image is 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llow rays of light from 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int source finding whic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s enter the lens of t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mera. However, each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y of light may hav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ultiple interactions with objec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fore being absorbed or going to infin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1D7E-AD9C-41D8-A5AE-CE31CBC7D80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Luminance and Color Images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uminance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ochroma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lues are gray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ogous to working with black and white film or tele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lor Ima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perceptional attributes of hue, saturation, and light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we have to match every frequency in visible spectrum? No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D081-540D-4E26-ABE4-FB57F109C78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ftp://ftp.cs.unm.edu/pub/angel/BOOK/SECOND_EDITION/FIGURES/JPEG/an01f11.jpg"/>
          <p:cNvPicPr/>
          <p:nvPr/>
        </p:nvPicPr>
        <p:blipFill>
          <a:blip r:embed="rId1"/>
          <a:stretch/>
        </p:blipFill>
        <p:spPr>
          <a:xfrm>
            <a:off x="6172200" y="2743200"/>
            <a:ext cx="2457360" cy="19749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Three-Color Theory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uman visual system has two types of sens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ds: monochromatic, night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or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types of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buClr>
                <a:srgbClr val="96969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three values 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istimul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) are sent to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ed only match these three valu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649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 only thre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l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807732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40B2-E7B4-448A-AF7E-E2249B936B3B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457200" y="6400800"/>
            <a:ext cx="563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gel: Interactive Computer Graphics5E © Addison-Wesle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248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33cc"/>
                </a:solidFill>
                <a:latin typeface="Arial"/>
              </a:rPr>
              <a:t>Shadow Mask CRT</a:t>
            </a:r>
            <a:endParaRPr b="1" lang="en-US" sz="37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29" descr="ftp://ftp.cs.unm.edu/pub/angel/BOOK/SECOND_EDITION/FIGURES/JPEG/an01f04.jpg"/>
          <p:cNvPicPr/>
          <p:nvPr/>
        </p:nvPicPr>
        <p:blipFill>
          <a:blip r:embed="rId1"/>
          <a:stretch/>
        </p:blipFill>
        <p:spPr>
          <a:xfrm>
            <a:off x="1676520" y="2073240"/>
            <a:ext cx="6019560" cy="35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2T19:17:07Z</dcterms:created>
  <dc:creator>Ed Angel</dc:creator>
  <dc:description/>
  <dc:language>en-US</dc:language>
  <cp:lastModifiedBy>Ed Angel</cp:lastModifiedBy>
  <dcterms:modified xsi:type="dcterms:W3CDTF">2008-04-28T23:42:19Z</dcterms:modified>
  <cp:revision>20</cp:revision>
  <dc:subject/>
  <dc:title>PowerPoint Presentation</dc:title>
</cp:coreProperties>
</file>