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B73F5-D510-485F-B193-50D5051EE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31B9B-173D-4397-A03D-F0C287D935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F9903-9DEC-45A4-A2DD-E848BF9649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37B21-642D-4CBE-8205-1D45C0D829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A1A1A-2874-4489-9A56-C65A756F83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522ED-41F2-464B-BBB0-48213EACA0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AC799-AE80-4AAB-B964-DA199E0F9E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58B3E-4713-459D-BCA1-215B43E0F9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E5D68-0BFE-45D3-8DBD-FD0A019359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E92ED-490D-4DEE-B1B4-FDEB73056C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807F4-9B6D-4917-9D1D-5FAD70A8DD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F8950-7DC8-40D4-9D1B-B7B7C3C5C7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AF54-DB93-4A3B-92AF-B1BB6308A57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0044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14B1-2323-4491-9157-6A12EFB7903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Models and Architectur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of Computer Science, Electrical and Computer Engineering, and Media Ar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06BC-80C3-4E31-B457-0B2AF56EB80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asteriz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an object is not clipped out, the appropriate pixels in the frame buffer must be assigned colo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asterizer produces a set of fragments for each objec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ragments are “potential pixels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location in frame bufff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or and depth attrib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ertex attributes are interpolated over objects by the rasteriz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838080" y="5638680"/>
            <a:ext cx="6885000" cy="4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B87A-F95B-431A-8A42-EA7F86B2217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Arial"/>
              </a:rPr>
              <a:t>Fragment Processing</a:t>
            </a:r>
            <a:endParaRPr b="1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ragments are processed to determine the color of the corresponding pixel in the frame buff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lors can be determined by texture mapping or interpolation of vertex colo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ragments may be blocked by other fragments closer to the camera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dden-surface remov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762120" y="5715000"/>
            <a:ext cx="688500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277D-53EA-497B-99F9-F9E265B5954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he Programmer’s Interfac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grammer sees the graphics system through a software interface: the Application Programmer Interface (API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29" descr="ftp://ftp.cs.unm.edu/pub/angel/BOOK/SECOND_EDITION/FIGURES/JPEG/an01f22.jpg"/>
          <p:cNvPicPr/>
          <p:nvPr/>
        </p:nvPicPr>
        <p:blipFill>
          <a:blip r:embed="rId1"/>
          <a:stretch/>
        </p:blipFill>
        <p:spPr>
          <a:xfrm>
            <a:off x="990720" y="3733920"/>
            <a:ext cx="634032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828F-8D0C-4698-BBEB-4834868EBD1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PI Content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unctions that specify what we need to form an im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e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ght Source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inform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put from devices such as mouse and keybo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pabilities of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47D3-364F-41D9-8445-D9D56B42FF6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 Specific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ost APIs support a limited set of primitives includ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ints (0D objec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e segments (1D objec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gons (2D objec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curves and su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d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etric polynom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l are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fined through locations in space or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verti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3CE7-9701-42B7-AB1E-7AD0EECC1F72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xample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819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Begin(GL_POLYG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Vertex3f(0.0, 0.0, 0.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Vertex3f(0.0, 1.0, 0.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Vertex3f(0.0, 0.0, 1.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lEnd(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870720" y="179388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ype of objec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" name="Line 7"/>
          <p:cNvSpPr/>
          <p:nvPr/>
        </p:nvSpPr>
        <p:spPr>
          <a:xfrm flipH="1">
            <a:off x="3352320" y="2286000"/>
            <a:ext cx="1143000" cy="4572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" name="Line 8"/>
          <p:cNvSpPr/>
          <p:nvPr/>
        </p:nvSpPr>
        <p:spPr>
          <a:xfrm flipH="1">
            <a:off x="4648320" y="2590920"/>
            <a:ext cx="1295280" cy="6858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5004360" y="2251080"/>
            <a:ext cx="23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ocation of vertex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1680480" y="5222880"/>
            <a:ext cx="30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nd of object definition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" name="Line 11"/>
          <p:cNvSpPr/>
          <p:nvPr/>
        </p:nvSpPr>
        <p:spPr>
          <a:xfrm flipH="1" flipV="1">
            <a:off x="1904760" y="4723920"/>
            <a:ext cx="9903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14F8-555E-4897-BB53-AA0A0591DCB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amera Specification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 degrees of freedo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ition of center of le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lm siz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rientation of film pla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ftp://ftp.cs.unm.edu/pub/angel/BOOK/SECOND_EDITION/FIGURES/JPEG/an01f23.jpg"/>
          <p:cNvPicPr/>
          <p:nvPr/>
        </p:nvPicPr>
        <p:blipFill>
          <a:blip r:embed="rId1"/>
          <a:stretch/>
        </p:blipFill>
        <p:spPr>
          <a:xfrm>
            <a:off x="5181480" y="1828800"/>
            <a:ext cx="337824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F23B-1F70-48B9-A2EF-402F2C96A26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Lights and Materials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ypes of ligh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int sources vs distributed 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t ligh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ar and far 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or proper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terial propert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orption: color proper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31A6-820A-41DA-BB31-9CA213A77B5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248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arn the basic design of a graphics syst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roduce pipeline archite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amine software components for an interactive graphics syst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8A7C-7F89-4220-92AC-E7F8F1623E8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mage Formation Revisited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n we mimic the synthetic camera model to design graphics hardware software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pplication Programmer Interface (API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 only specif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ut how is the API implemented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7458-5B0F-42D6-BEFE-06D67131249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7" name="Picture 5" descr="an06f44"/>
          <p:cNvPicPr/>
          <p:nvPr/>
        </p:nvPicPr>
        <p:blipFill>
          <a:blip r:embed="rId1"/>
          <a:stretch/>
        </p:blipFill>
        <p:spPr>
          <a:xfrm>
            <a:off x="5562720" y="2514600"/>
            <a:ext cx="2835000" cy="26208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hysical Approach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y trac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ollow rays of light from center of projection until they either are absorbed by objects or go off to infi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handle global eff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refl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ucent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have whole data 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ailable at all tim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dios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Energy based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y s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61E8-D599-4178-B7F1-2B84BEBA929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ractical Approach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cess objects one at a time in the order they are generated by the applic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consider only local ligh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ipeline architec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l steps can be implemented in hardware on the graphics car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455400" y="4191120"/>
            <a:ext cx="15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7544160" y="43434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1"/>
          <a:stretch/>
        </p:blipFill>
        <p:spPr>
          <a:xfrm>
            <a:off x="533520" y="3505320"/>
            <a:ext cx="8153280" cy="57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5EE5-0136-4F2E-9328-0ABF144E39F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Vertex Process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uch of the work in the pipeline is in converting object representations from one coordinate system to anoth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coordin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mera (eye) coordin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55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reen coordin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very change of coordinates is equivalent to a matrix transformatio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ertex processor also computes vertex colo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685800" y="5638680"/>
            <a:ext cx="73152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1737-3F62-449C-A7B9-A33FA92B58F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rojec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Projection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s the process that combines the 3D viewer with the 3D objects to produce the 2D im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pective projections: all projectors meet at the center of proj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llel projection: projectors are parallel, center of projection is replaced by a direction of proj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1066680" y="5410080"/>
            <a:ext cx="708660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2D5E-6701-4EF4-A007-19B3A7E618A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rimitive Assembly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ertices must be collected into geometric objects before clipping and rasterization can take pla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e seg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g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ves and surf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914400" y="5562720"/>
            <a:ext cx="688500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AEB1-8235-42C6-B365-27BCAA3C8A6E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 5E © Addison-Wesley 2009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pp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Just as a real camera cannot “see” the whole world, the virtual camera can only see part of the world or object spa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cts that are not within this volume are said to b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lipp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ut of the sce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an05f24"/>
          <p:cNvPicPr/>
          <p:nvPr/>
        </p:nvPicPr>
        <p:blipFill>
          <a:blip r:embed="rId1"/>
          <a:stretch/>
        </p:blipFill>
        <p:spPr>
          <a:xfrm>
            <a:off x="1447920" y="3886200"/>
            <a:ext cx="2849400" cy="2527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an05f25"/>
          <p:cNvPicPr/>
          <p:nvPr/>
        </p:nvPicPr>
        <p:blipFill>
          <a:blip r:embed="rId2"/>
          <a:stretch/>
        </p:blipFill>
        <p:spPr>
          <a:xfrm>
            <a:off x="4648320" y="4038480"/>
            <a:ext cx="388620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2T19:17:07Z</dcterms:created>
  <dc:creator>Ed Angel</dc:creator>
  <dc:description/>
  <dc:language>en-US</dc:language>
  <cp:lastModifiedBy>Ed Angel</cp:lastModifiedBy>
  <dcterms:modified xsi:type="dcterms:W3CDTF">2008-04-29T20:23:40Z</dcterms:modified>
  <cp:revision>29</cp:revision>
  <dc:subject/>
  <dc:title>PowerPoint Presentation</dc:title>
</cp:coreProperties>
</file>