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4.png" ContentType="image/png"/>
  <Override PartName="/ppt/media/image1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2.png" ContentType="image/png"/>
  <Override PartName="/ppt/media/image10.wmf" ContentType="image/x-wmf"/>
  <Override PartName="/ppt/media/image11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3887-4462-4D96-8032-5904338A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5568-BD83-4AEE-9F0B-9E0C7EE1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7906-3233-458C-ACB1-8BEC1D74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CEB-D333-4D7F-B460-CDEBD1B5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A8C7-B935-47CE-97BF-B0399DA4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B11-8194-43C0-AEF7-60CC5CD0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3C48-9749-4420-8833-581E3BB5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9295-559A-40A1-AAB8-8E85ED30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BBC-4EE0-454A-8402-407D26D0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B3C-1586-4728-B28B-874FDE90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511-8B67-420D-9155-1B797982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7D3-BD38-4DC4-A95A-6C4811C5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F40F-CE98-4832-9523-F1E1B13C2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uter Graphics using OpenGL, 3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Edition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. S. Hill, Jr. and S. K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352680" y="259056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5.1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formations of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M. 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orth Carolina at Greensb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 2007, Prentice 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175248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s Pipelin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plication sends the pipeline a sequence of poin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... using commands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Begin(GL_LINE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Vertex3f(...); // send P1 through the pip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Vertex3f(...); // send P2 through the pip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End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points first encounter a transformation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urrent trans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T), which alters their values into a different set of points,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s Pipeline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s the original poi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cribe some geometric object, the poi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cribe the transformed version of the sam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oints are then sent through additional steps, and ultimately are used to draw the final image on the displ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s Pipeline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to OpenGL 2.0 the pipeline wa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xed-functional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ge had to perform a specific operation in a particular mann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OpenGL 2.0 and the Shading Language (GLSL), the application programmer could not only change the order in which some operations were performed, but in addition could make the operatio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m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s hardware and software developers to take advantage of new algorithms and rendering techniques and still comply with OpenGL version 2.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s change 2D or 3D points and vectors, or change coordinate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transformation alters the coordinates of each point on the object according to the same rule, leaving the underlying coordinate system fix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ordinate transformation defines a new coordinate system in terms of the old one, then represents all of the object’s points in this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transformations are easier to understand, so we will do them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ormation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(2D or 3D) transforma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) alters each point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a new point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sing a specific formula or algorithm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6858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rbitrary poi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pla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mapp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transform an object by transforming each of its points, using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) for each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i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or instance, consists of the imag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individual points of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mappings of interest are continuous, so the image of a straight line is still a connected curve of some shape, although it’s not necessarily a straight 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ine transformations, however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erve lines: the image und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of a straight line is also a straight 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use an explicit coordinate frame when performing transform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ordinate frame consists of a point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all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some mutually perpendicular vectors (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2D case;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3D case) that serve as the axes of the coordinate fr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86000" y="5181480"/>
                <a:ext cx="266688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hat this means that point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t location  =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and similarly for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Q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e coordinates of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from the origin to point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amount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ong ax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mount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ong ax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 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at transforma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perates on any point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roduce point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Q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may be any transformation: e.g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90720" y="2590920"/>
                <a:ext cx="198108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95280" y="4419720"/>
                <a:ext cx="3581640" cy="23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sup>
                              </m:sSup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n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sSub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d the window to viewport transformation to scale and translate objects in the world window to their size and position in the viewpo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o build on this idea, and gain more flexible control over the size, orientation, and position of objects of inter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 so, we will use the powerfu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fine trans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 (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formations we restrict ourselves to much simpler families of functions, those that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ine transformations make it easy to scale, rotate, and reposition fig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ive affine transformations can be combined into a single overall affine trans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ine transformations have a compact matrix representa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trix associated with an affine transformation operating on 2D vectors or points must be a three-by-three matrix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direct consequence of representing the vectors and points in homogeneous coordin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Transforma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ine transformations have a simple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 coordinates of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lin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binations of those of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transformed point  may be written in the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133720" y="4267080"/>
                <a:ext cx="4724280" cy="18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Transformation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ix given constants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ordina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sts of portions of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so do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bi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mponents also gives rise to rotations and sh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Transformation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form of the affine transformation in 2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2D affine transformation the third row of the matrix is always (0, 0, 1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981080" y="2209680"/>
                <a:ext cx="441972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Transformations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eople prefer to use row matrices to represent points and vectors rather than column matrices: e.g., P =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case,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 mu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e-multip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matrix, and the transpose of the matrix must be used: Q = P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819520" y="4724280"/>
                <a:ext cx="3809880" cy="202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Transformations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s can be transformed as well as poi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2D ve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coordinat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n its coordinate frame representation is a column vector with third component 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Transformations 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ve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ransformed by the same affine transformation as point P, the resul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o transform a poi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a poi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t-multiply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Q = M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752480" y="2666880"/>
                <a:ext cx="5105520" cy="19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Transformations (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find the image Q of point P = (1, 2, 1) using the affine trans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90720" y="2819520"/>
                <a:ext cx="7162560" cy="18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;</m:t>
                    </m:r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metric Effects of Affine Transfor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s of four elementary transformations: (a) a translation, (b) a scaling, (c) a rotation, and (d) a shear (all shown below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66294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Affine Transfor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use has been scaled, rotated and translated, in both 2D and 3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82296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anslated does not depend on P’s posi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meaningless to translate v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ranslate a point P by a in the x direction and b in the y direction use the matri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using homogeneous coordinates allow us to include translation as an affine trans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362320" y="3581280"/>
                <a:ext cx="472428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ing is about the origin. If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caling is uniform; otherwise it distorts the imag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, the image is reflected across the x or y 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trix form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95680" y="3886200"/>
                <a:ext cx="381024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Sc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aling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) = (-1, 2) is applied to a collection of points. Each point is both reflected abou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xis and scaled by 2 i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dir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46483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Sc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e reflections, for which each of the scale factors is  +1 or  -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form sca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a magnification about the origin: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agnification |S|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 also occurs if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eg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&lt; 1, the points will be moved closer to the origin, producing a reduced im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scale factors are not the same, the scaling is called 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ifferential sca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erclockwise around origin by angl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85800" y="2743200"/>
                <a:ext cx="502920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d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d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d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d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19920" y="2209680"/>
            <a:ext cx="26668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iving the Rota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t distan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origin, at angl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st be at the same distance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at angl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(R cos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, R sin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R" sz="3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s-PR" sz="3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s-PR" sz="3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i="1" lang="es-PR" sz="3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s-PR" sz="3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i="1" lang="es-PR" sz="3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)  = </a:t>
            </a:r>
            <a:r>
              <a:rPr b="0" i="1" lang="es-PR" sz="3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s-PR" sz="3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s-PR" sz="3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s-PR" sz="3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H about origin: x depends linearly on y in the fig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along x: 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 0, and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pends on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for exampl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a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ette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ar along y: g 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 and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s on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7800" y="3429000"/>
            <a:ext cx="3124080" cy="2819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952880" y="1676520"/>
                <a:ext cx="3581640" cy="16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rses of Affine Transfor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(M) =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WP MathA"/>
                <a:ea typeface="WP MathA"/>
              </a:rPr>
              <a:t>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 means that the inverse of a transformation ex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the transformation can be "undone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I, the identity matrix (ones down the major diagonal and zeroes elsewher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Translation and Sc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e of translation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e of sca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572000" y="1752480"/>
                <a:ext cx="396252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191120" y="4114800"/>
                <a:ext cx="457200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S</m:t>
                                      </m:r>
                                    </m:den>
                                  </m:f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S</m:t>
                                      </m:r>
                                    </m:den>
                                  </m:f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rse Rotation and Sh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e of rotation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R(-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verse of shear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generally h=0 or g=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219320" y="2133720"/>
                <a:ext cx="6172200" cy="19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d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d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d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d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981080" y="4648320"/>
                <a:ext cx="55627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h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g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f>
                      <m:num>
                        <m:sSub>
                          <m:e>
                            <m:r>
                              <m:t xml:space="preserve">1</m:t>
                            </m:r>
                          </m:e>
                          <m:sub/>
                        </m:sSub>
                      </m:num>
                      <m:den>
                        <m:sSub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e>
                          <m:sub/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ch is designed in its own coordinate syst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ene is drawn by placing a number of instances of the arch at different places and with different siz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60195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sing Affine Transfor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, we want to apply several affine transformations in a particular order to the figures in a scene: for exam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by (3,  - 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rotate by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scale by (2,  - 1)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ing successive affine transformations i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fine transform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sing Affine Transformation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) map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) map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po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aff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ere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appropriate matr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=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)) =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P =MP by associ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M =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product of 2 matrices (in reverse order of application), which is aff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495680" y="3502080"/>
            <a:ext cx="441972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sing Affine Transformations: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otate around an arbitrary point: translate P to the origin, rotate, translate P back to original position.  Q =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ar around an arbitrary point:               Q =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about an arbitrary poi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=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sing Affine Transformations (Examp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across an arbitrary line through the origin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Q = R(θ) S R(-θ)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tation transforms the axis to the x-axis, the reflection is a scaling, and the last rotation transforms back to the original 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-viewport: Translate by -w.l, -w.b, scale by A, B, translate by v.l, v.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erties of 2D and 3D Affine Transfor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ine transforma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r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fine combinations of poi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affine comb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W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ine transformations preserve lines and pla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ne through A and B i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(t) = (1-t)A + tB, an affine combination of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ne can also be written as an affine combination of points: P(s, a) = sA + tB +(1 – s – t)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erties of Transformation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ism of lines and planes is preser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ing dire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s to the line given in homogeneous coordinates by  M(A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, which has direction vector 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 on poi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us two different lin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have the same direction will transform into two lines both having the direction, so the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ll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mportant consequence of this property is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allelograms map into other parallelo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erties of Transformations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irection vectors for a plane also transform into new direction vectors independent of the location of the pla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a consequence, parallelepipeds map into other parallelepiped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erties of Transformations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umns of the matrix reveal the transformed coordinate fr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forms into colum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 colum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the orig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 poin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ordinate fram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ransforms into the coordinate fram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and these new objects are precisely the columns of the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4428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666880" y="4952880"/>
                <a:ext cx="525780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erties of Transformations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xes of the new coordinate frame are not necessarily perpendicular, nor must they be unit leng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still perpendicular if the transformation involves only rotations and uniform scaling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poi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forms in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erties of Transformations (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5820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ransforma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3D, many cubes make a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38098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erties of Transformations (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ratios are preserved: consider po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ying a  fra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way between two given point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ee figur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affine transform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)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nsformed point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lie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a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way between imag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38862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erties of Transformations (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e area of a figure affected by an affine transform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lear that neither translations nor rotations have any effect on the area of a figure, but scalings certainly do, and shearing m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 is simple: When the 2D transformation with matrix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pplied to an object, its area is multiplied by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gnitude of the determin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962520" y="5638680"/>
            <a:ext cx="4647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erties of Transformations (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D the determinant of the matrix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pure scaling, the new area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s the original area, whereas for a shear alo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 the new area is the same as the original ar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3D similar arguments apply, and we can conclude that the volume of a 3D object is scaled by |d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when the object is transformed by the 3D transformation based on matrix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erties of Transformations (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affine transformation is composed of elementary oper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trix  may be factored into a product of elementary matrices in various ways. One particular way of factoring the matrix associated with a 2D affine transformation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= (shear)(scaling)(rotation)(transla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any 3 x 3 matrix  that represents a 2D affine transformation can be written as the product of (reading right to left) a translation matrix, a rotation matrix, a scaling matrix, and a shear matri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ransformation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nowflake exhibits symme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esign a sing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draw the whole shape using appropriate reflections, rotations, and translations of the moti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594360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ransformation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signer may want to view an object from different vantag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oning and reorienting a camera can be carried out through the use of 3D affine transform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0200" y="4114800"/>
            <a:ext cx="670572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ransformations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computer animation, objects m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ake them move by translating and rotating their local coordinate systems as the animation procee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umber of graphics platforms, including OpenGL, provide a graphics pipeline: a sequence of operations which are applied to all points that are sent through i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rawing is produced by processing each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penGL Graphics Pip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ersion is simpl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822960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4:22:17Z</dcterms:created>
  <dc:creator>Mathematical Sciences</dc:creator>
  <dc:description/>
  <dc:language>en-US</dc:language>
  <cp:lastModifiedBy>umessan</cp:lastModifiedBy>
  <dcterms:modified xsi:type="dcterms:W3CDTF">2006-07-28T21:28:30Z</dcterms:modified>
  <cp:revision>34</cp:revision>
  <dc:subject/>
  <dc:title>Computer Graphics Using   Open-GL  F. S. Hill, Jr.</dc:title>
</cp:coreProperties>
</file>