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E02-AFA5-4DD8-B872-AE0D0B05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BCD-C7F5-4F7B-B942-9B109EBA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847-BF04-4D82-9B3E-5027ABB0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D29-39BB-4B9E-B961-6544BA26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343-0D24-4A10-B23E-AF5B0BB0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5DC4-E9CA-49A1-AEBB-C04E7B1E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1B6-2F66-49EE-94B2-F0464590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B77-57C9-40DD-98ED-537F0356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6D6-A74F-4410-98D4-566E72EC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39E2-CE0A-48EA-A889-76E90537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59C-D658-4845-B17C-F7D0296F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37C-D231-41E0-8F84-29504C76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D7F6-6027-4FC4-9E1D-3BED1CB4A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GL Matrix S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on Tee Te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11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Modeling a C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35440" y="1295280"/>
            <a:ext cx="6889320" cy="538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// draws a cuboid with the lower left front corner at (0,0,0) and with dimensions (length,height,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d DrawCuboid(float length, float height, float widt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// draw a chair with legs of height 10, length and width 1, with corner at (0,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d DrawChair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Cuboid(1,10,1);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// draw l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Translatef(9,0,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Cuboid(1,10,1);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// draw l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PopMatrix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Translatef(9,0,9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Cuboid(1,10,1);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// draw l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PopMatrix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Translatef(0,0,9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Cuboid(1,10,1);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// draw l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PopMatrix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Translatef(0,9,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Cuboid(10,1,10);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// draw s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PopMatr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: Put three chairs in the 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87960" y="2873520"/>
            <a:ext cx="22860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87960" y="4854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87960" y="2187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69040" y="496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1919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8840" y="40924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7280" y="4321080"/>
            <a:ext cx="533160" cy="5335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68840" y="477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50080" y="477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30960" y="477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11840" y="477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477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73960" y="477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83040" y="447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83040" y="4092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32440" y="5116680"/>
            <a:ext cx="265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 10     20     30     40     50    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360" y="3962520"/>
            <a:ext cx="351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87960" y="477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83040" y="485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57280" y="1752480"/>
            <a:ext cx="2221200" cy="447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DrawRoom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Chai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PopMatri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Translatef(10,0,1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Chai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PopMatri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Translatef(40,0,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Rotatef(45.0,0,1,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Chai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PopMatri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4737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GL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8000" y="2209680"/>
            <a:ext cx="652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Translatef(0.0,1.0,32.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Translatei(3,1,8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Rotatef(90.0,1.0,0.0,0.0); // rotate about x axis by 90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Rot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Scalef(5.0,2.0,-1.0); // performs stretch, shrink, ref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GL transforma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905120"/>
            <a:ext cx="510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MatrixMode (GL_MODELVIE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Translatef(5.0,0.0,2.0); // third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Scalef(2.0,1.0,3.8); // second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Rotatef(32.0,0.0,0.0,1.0); // first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Begin(GL_QUA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4191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intention is to first rotate the quad, then scale it, then translat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everse order? Because every time OpenGL sees a command, it will post-multiply the current matrix by the trans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GL maintains some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before glMatrixMode(GL_PROJETION) and glMatrixMode(GL_MODELVI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ts the current matrix that will be mod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re some modification 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LoadIdentity(); // set the current matrix to be identity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LoadMatrixf(m_array); // set the current matrix to be m_array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Translatef(1.0,0.3,0.5); // multiply the current matrix by a translate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8600" y="4724280"/>
            <a:ext cx="719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m_array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 m_array[16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the elements of the 4x4 matrix are listed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umn-maj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GL Matrix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multiply the current matri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MultMatrix(m_array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 matrix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t-multipl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the specified matri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920" y="2590920"/>
            <a:ext cx="48852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 m_array[16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 m_array2[16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up the arrays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MatrixMode(GL_MODELVIEW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LoadIdentity(); // sets the current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MultMatrixf(m_array); // adjusts the current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MultMatrixf(m_array2); // adjusts the current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Begin(GL_QUAD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Vertex3f(1.0,0.0,0.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3276720"/>
            <a:ext cx="990360" cy="7617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3276720"/>
            <a:ext cx="990720" cy="7617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276720"/>
            <a:ext cx="990360" cy="7617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6440" y="335268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16080" y="34434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8520" y="33894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_array     m_arra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72040" y="4724280"/>
            <a:ext cx="30492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54360" y="4952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4724280"/>
            <a:ext cx="990720" cy="762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12640" y="48006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58000" y="4913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24680" y="4724280"/>
            <a:ext cx="30492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10280" y="4913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45040" y="6248520"/>
            <a:ext cx="64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is means that you are transforming by m_array2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876920" y="4191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GL Matrix S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sted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 of modeling: Table, room, building, 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transformations matr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5562720"/>
            <a:ext cx="7315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4572000"/>
            <a:ext cx="2209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457200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4572000"/>
            <a:ext cx="3124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3581280"/>
            <a:ext cx="990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3581280"/>
            <a:ext cx="990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3581280"/>
            <a:ext cx="990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3581280"/>
            <a:ext cx="990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3581280"/>
            <a:ext cx="990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3581280"/>
            <a:ext cx="990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32004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32004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32004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32004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32004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2004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32004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32004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0120" y="32004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01000" y="32004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GL Matrix S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is able to maintain a matrix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perations: glPushMatrix() and glPopMatrix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lPushMatrix(), OpenGL copies the current matrix to the top of the stack and stores the copy in the second stack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lPopMatrix(), OpenGL destroys the top (current) matrix on the stack, and the next matrix on the stack becomes the current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GL Matrix Stack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03320" y="1143000"/>
            <a:ext cx="206892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MatrixMode(GL_MODELVIEW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LoadIdentity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Translatef(100.0,100.0,0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Translatef(100.0,100.0,0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otatef(90.0,0.0,0.0,1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Begin(GL_POINT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Vertex3f(0.0,0.0,0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d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PopMatrix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Translatef(200.0,200.0,0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Begin(GL_POINT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Vertex3f(0.0,0.0,0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d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Translatef(200.0,200.0,0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Begin(GL_POINT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Vertex3f(0.0,0.0,0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d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PopMatrix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PopMatrix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167652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280" y="160020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 Building A to desired location on cam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225576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217980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 Room A to desired location wrt. Building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06760" y="28656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925720"/>
            <a:ext cx="18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oo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06760" y="3886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380988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 Room B to desired location wrt. Building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06760" y="449568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4556160"/>
            <a:ext cx="18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oom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06760" y="5105520"/>
            <a:ext cx="74520" cy="380880"/>
          </a:xfrm>
          <a:custGeom>
            <a:avLst/>
            <a:gdLst>
              <a:gd name="textAreaLeft" fmla="*/ 47520 w 74520"/>
              <a:gd name="textAreaRight" fmla="*/ 74880 w 745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495288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 Chair B to desired location wrt. Room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06760" y="556272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5622840"/>
            <a:ext cx="18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Chair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49440" y="1523880"/>
            <a:ext cx="4537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oat M[16] = { 1.0,0.0,0.0,0.0, 0.0,1.0,0.0,0.0, 0.0,0.0,1.0,0.0, 2.0,5.0,1.0,1.0 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MatrixMode(GL_MODELVIEW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LoadIdentity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Translatef(1.0,0.0,0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MultMatrixf(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Scalef(3.0,2.0,1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Translatef(1.0,1.0,0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LoadMatrixf(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ometry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PopMatrix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Translatef(1.0,2.0,3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2743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19680" y="2550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82720" y="3468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5520" y="327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168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19680" y="397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440" y="4824360"/>
            <a:ext cx="84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matrix at the top of the OpenGL matrix stack at point 1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point 2? At point 3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effective model view transformation that the geometry at point 2 is subjected 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on Tee Teoh</cp:lastModifiedBy>
  <dcterms:modified xsi:type="dcterms:W3CDTF">2006-11-08T01:51:36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