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424-8DE0-4978-8F5D-A02ACBCF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6725-1523-43EB-994C-3F1DB451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72E-FEA3-4394-90AF-0ABD0746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2958-1107-49F3-A213-3D212D9A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6ED-2490-4A2A-ACEA-DBD55D54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F52-EC76-4144-A331-E5C04658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F93-8C75-4E04-BC14-22A52492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6F79-430A-45BD-B64D-63C23AA3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F7D-8D25-4D7C-AB6F-E2B88874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407A-EB55-4B7F-9419-552B5F04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87B-56D9-4C4E-ACF3-F5C88E9E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BC7-EB82-41C8-9817-32115C60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3864-7DD1-4366-BF54-486F826B6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uter Graphics using OpenGL, 3</a:t>
            </a:r>
            <a:r>
              <a:rPr b="0" lang="en-US" sz="36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F. S. Hill, Jr. and S.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90560" y="2361960"/>
            <a:ext cx="5638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7.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-dimensional Vie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M. 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orth Carolina at Greensb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© 2007, Prentice 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17524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 Projection (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4495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arallel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Projections: all points are projected along lines parallel to a vect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47242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and Oblique Parallel Proj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iqu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parallel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ef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graphic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parallel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822960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raphic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ding lines are foreshortened; the projection preserves the exact shape of one face of th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579132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Orthographic Pro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L uses the projection matrix to describe the view volume of the cam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ally, the projection matrix specifies how to transform vertices to squash them into the canonical view volum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V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the actual view volume extend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hor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hor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hor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Orthographic Projec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ransform this parallelepiped into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V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must translate and scale so tha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V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ends from -1 to 1 in each dimen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rix at right maps the view volume into the CVV. This is the one formed by a call to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lOrtho(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48320" y="1676520"/>
                <a:ext cx="3962160" cy="26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r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b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f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n</m:t>
                                  </m:r>
                                </m:num>
                                <m:den>
                                  <m:r>
                                    <m:t xml:space="preserve">f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GL Orthographic Projection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multiply it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xpressed in homogeneous coordinates), you get the actual po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enGL submits for clipping and mapping to the viewp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GL does not se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onent to 0 as in our formulation above. It performs a transformation, not a proj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ltimately does the actual projection by separating of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onent at the very end, using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mponents in screen coordinates for drawing,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omponent for depth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Axono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Iso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3 principal axes foreshortened equ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09624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Di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principal axes foreshortened equ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8305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ying Planar 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hographic Projection: Trimetr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3 principal axes is foreshortened unequ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3333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qu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is sheared to make additional sides visible. Preserves exact shape of one face. (Not support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GL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5720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qu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rojections depending on direction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61976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que Projec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alier: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inet: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: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3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981080" y="3429000"/>
                <a:ext cx="4496040" cy="30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erspective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l Planes and Principal Ax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1722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point Projection: exactly one axis has a vanishing point.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 is perpendicular to a principal plane, and the camera is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4038480"/>
            <a:ext cx="64008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Projection: exactly 2 axes have a vanishing point.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xis is perpendicular to a principal axis, usually the y-axis (up)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in the x-z plan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used for drawings of buildings.  The camera is level and is looking at an ed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≤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57200" y="1600200"/>
            <a:ext cx="8229600" cy="3048120"/>
            <a:chOff x="457200" y="1600200"/>
            <a:chExt cx="8229600" cy="304812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 txBox="1"/>
            <p:nvPr/>
          </p:nvSpPr>
          <p:spPr>
            <a:xfrm>
              <a:off x="457200" y="1600200"/>
              <a:ext cx="8229600" cy="30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point projection of a plane gr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705720" cy="42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-point Projection: all 3 axes have a vanishing point.  None of the component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  The camera is looking up or down at the corner of an obj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would be standing looking at the corner of a rectangular skyscr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Perspective Projection (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19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21:10:55Z</dcterms:created>
  <dc:creator>Mathematical Sciences</dc:creator>
  <dc:description/>
  <dc:language>en-US</dc:language>
  <cp:lastModifiedBy>umessan</cp:lastModifiedBy>
  <dcterms:modified xsi:type="dcterms:W3CDTF">2006-07-30T22:24:34Z</dcterms:modified>
  <cp:revision>41</cp:revision>
  <dc:subject/>
  <dc:title>Computer Graphics Using   Open-GL  F. S. Hill, Jr.</dc:title>
</cp:coreProperties>
</file>