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739-67B3-4F45-A07A-9C337407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871-4374-4622-A773-FABA7A87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2D1-1E3B-47A3-8FCE-FE5496B4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C25-5B93-4052-9AC8-59669F6D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BB0-4D7B-43DA-848F-6DF2EF53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D59-2C0E-4860-8B8C-02A6CF51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C3F-7B83-4B2F-8BC8-1B90F7D0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3A1-628D-4603-8783-5EEAAD6F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25B-3B1C-43E3-8611-58D1F99D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3B1-BC25-4A7B-970E-C0CEADF5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5A9-ED96-4E61-93E2-EB7D5758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F22-C85A-4B08-8131-F13E4776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A3C0-87EC-42DF-83B9-5E94F561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2361960"/>
            <a:ext cx="5638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8.2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dering Faces for Visual Re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Raster 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convex polygon, screen pixels are colored from bottom to top and left to right across the poly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play actu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 from top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, but we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it as wor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bottom to to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Raster Fil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e polygon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v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illing only convex polygons can be made highly efficient, since at each scan-line there is a single unbroken run of pixels inside the polyg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lementations of OpenGL exploit this and always fill convex polygons correctly, but do not guarantee to f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vex polygons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shows an example where the face is a convex quadrilater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3434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reen coordinates of each vertex are noted. The lowest and highest points on the face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o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pective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ler first fills in the row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o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this case a single pixel), then the one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o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can-line,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figure, there is a leftmost pixel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rightmost pixel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ler moves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lacing the desired color in each pixel. So the tiler is implemented as a simple double loop, looking in pseudo code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2): Tiler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(int y = ybott; y &lt;= ytop; y++)      // for each sca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ind xleft and xr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(int x = xleft; x &lt;= xright; x++)// for each relevant  pixel across this sca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 find the color c for this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 put c into the pixel at (x, 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surface removal is also easily accomplished within this double lo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Flat Sh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calculate the correct color c for each pixel from the vertex col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Shading: Use the same color for every pixel in a face - usually the color of the first verte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48006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Flat Shading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s appear more pronounced than they would on a real object because of a phenomenon in the eye known as lateral inhibi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continuity in intensity across a boundary causes the eye to manufacture a Mach band (named after the discoverer, Ernst Mach); edges are shar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 implements this type of coloring using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ShadeModel(GL_FLA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Flat Shading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ular highlights are rendered poorly with flat sh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happens to be a large specular component at the representative vertex, that brightness is drawn uniformly over the entire f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pecular highlight doesn’t fall on the representative point, it is missed entire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, we usually do not include the specular reflection component in the shading compu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(Gouraud) Sh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 to de-emphasize edges between fa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54100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shading uses linear interpolation of colors between ver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at left edge (or right edge) is linear interpolation between colors at top and bottom of left (right) edge (interpolation in 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has color c4 and bottom has color c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as color c2 = lerp (c1, c4, f), where f =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, the color c3 at the right edge is a linear interpolation of the top and bottom colors of the right ed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along a scanline is a linear interpolation (in x) of colors at left (c2) and right (c3) ed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s must be made separately for R, G, and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i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is defined by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f for each of the R, G, B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. 8.17 contains a table of coefficients for various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your own material properties, create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ray of reflectiv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ne each for R, G, and 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A reflectivity to 1.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, for faster execution, the incremental difference in the color between 2 adjacent pixels in the line is calculated and used across the line: cdiff = (c3 – c2)/(x3 - x2), and c(x+1) = c(x) + cdi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L implements this coloring with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ShadeModel(GL_SMOOTH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he edges disappear with this techniqu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ndering F, the colo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re used, and when rendering F’ the colo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’ are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 there is no abrupt change in color at the edge along the scanline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re calculated using normals that are found by averaging the face normals of all the faces that abut the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7619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colors are formed by interpolating rather than computing colors at every pixel, Gouraud shading does not render highlights w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ly, we usually do not include the specular reflection component in the shading comp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g Sh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good, but very time-consuming!  Takes 6 to 8 times longer than Gouraud sh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mplemented by OpenG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es to f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vector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ixel and uses 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ed valu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lo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3075120"/>
            <a:ext cx="35812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g Shad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ong interpolation for normal vectors simply substitutes the 3 components of a normal vector for the 3 components of a color in the Gouraud interp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son of Phong and Gouraud Sh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aud (left) and Phong (right): notice presence of specular reflection in Phong ver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46828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er's Algorithm: uses depth buffer to remove hidden su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limita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quires a large amount of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ften renders an object that is later obscured by a nearer object (so time spent rendering the first object is was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shows a depth buffer associated with the frame buffer. For every pix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on the display the depth buffer stor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quant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in the range of 12 to 30 b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rendering, depth buffer contains pseudodepth of closest object encountered so far at pixel (i, j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57913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tiler proceeds pixel by pixel across a scan-line filling the current face, it tests whether the pseudodepth of the current face is less than the dep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stored in the depth buffer at that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, the color of the closer surface replaces the col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and this smaller pseudodepth replaces the old value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s can be drawn in any order. If a remote face is drawn first, the color of some of the pixels in the face will later be replaced by the colors of a nearer f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this algorithm works for objects of any shape including curved surfaces, because it finds the closest surface based on a point-by-point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in OpenG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ll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Materialfv (arg1, arg2, array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1 can b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FRONT, GL_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FRONT_AND_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2 can b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DIFFUSE, GL_AMBIENT, GL_SPECULAR, GL_AMBIENT_AND_DIFFUS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GL_E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E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rface may be emissive (glow) like the sun. We give it an intensity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of 4 values for the emissive color. The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dded to the other light inten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the depth buffer to 1.0 and frame buffer to background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rendering the scene (drawing the pixels of the face), if the face has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, j) &gt; d(i, j), do not draw it (it is hidden).  Or else draw it and set d(i, j) =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, j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depth d is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onent of a projected point: (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)/(-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a and b are chosen so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d ≤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peed, pseudodepth d may be calculated by interpo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343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and Hidden Surface Remo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GL supports a depth buffer and uses the algorithm described to do hidden surface remo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instruct OpenGL to create a depth buffer when it initializes the display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utInitDisplayMode(GLUT_DEPTH | GLUT_RG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nable depth test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Enable(GL_DEPTH_TE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each time a new picture is to be created the depth buffer must be initialized 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Clear(GL_COLOR_BUFFER_BIT | GL_DEPTH_BUFFER_BIT); // clear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Texture to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s surfaces look more realistic: e.g., brick texture or wood textur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ure is painted on or wrapped around surfa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3679920"/>
            <a:ext cx="556272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Texture to Fac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 is a function tex (s, t) which sets a color or intensity value for each value of s and t between 0 and 1.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function tex is between 0 and 1 (dark and ligh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Texture to Fac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mage texture (left) and procedural texture (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964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al Tex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duce the procedural texture shown, we implement the following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loat fakeSphere (float s, float t) 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loat r = sqrt((s - 0.5)*(s - 0.5) + (t - 0.5)*(t - 0.5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(r &gt; 0.3) return 1 - r/0.3; else return 0.2; }// 0.2 is the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varies from white at center to black at edges of sp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unction that can be computed for each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provide a tex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ex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s are often formed from bitmap representations of images (such as a digitized photo, digital camera image, clip art, or an image previously generated in some program)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 texture consists of a 2D array, say txtr[r][c], of color values (often called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xel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extur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textures usually have integer coordinates. They are transformed into values between 0 and 1 by dividing by the size of the image: s = x/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 = y/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, the value tex of a texture image is transformed to values between 0 and 1 by dividing by the maximum value in the image: tex = c/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extur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ode: Given a texture imag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xtr [c][r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here c is column number and r is row number) we 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lor3 tex (float s, float t) {return txtr [(int) s*C] [(int) t*R];}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 and R are the maximum number of columns and r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in OpenG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adds together the contributions of emissive sources, ambient light, and light from sources to find the total light in a scene for each of red, green, and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ributions from each light (spot or regular) are calculated separately before ad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does not allow the total light intensity to be more than 1.0; it is set to 1.0 if the sum exceeds 1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Tex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an be used in a variety of wa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used as the color of the face itself as if the face were glowing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used as the ambient, diffuse, or specular reflection coefficients to modulate the amount of light reflected from the f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used to alter the normal vector to the surface to give the object a bumpy appea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Texel to Screen Pix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texture function in hand, the next step is to map it properly onto the desired surface, and then to view it with a cam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texture is mapped onto two different objects: a planar polygon and a cyli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761976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Texel to Screen Pixe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object, there is some transformation,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texture to world) that maps textur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alues to point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n the object’s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mera takes a snapshot of the scene from some angle, producing the view shown. We call the transformation from points in 3D to points on the scr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world to screen), so a poi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n a surface is seen at pixel loc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) on the texture finally arrives at pixel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Screen Pixel to Tex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ndering process actually goes the other way: for each pixel a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re is a sequence of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losest surface seen a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 To answer this requires solving the hidden surface removal problem, at least for this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at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n this surface do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resp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ich texture coordinate pai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oes this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resp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e need the inverse transformation, something lik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w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, that report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ordinates given pixel coordinates. This inverse transformation can be hard to obtain or easy to obtain, depending on the surface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rst examine the most important case: mapping texture onto a flat surface. This is a modeling tas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77240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associate points on the flat surface with points in the texture. We do so by assigning a texture coordinate to each vertex. In OpenG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Begin(GL_QUADS); // define a quadrilateral and position textur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0, 0.0); glVertex3f(1.0, 2.5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0, 0.6); glVertex3f(1.0, 3.7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8, 0.6); glVertex3f(2.0, 3.7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8, 0.0); glVertex3f(2.0, 2.5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End(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s,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s the current texture coordinates to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nd they are attached to subsequently defined ve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each call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Vertex3f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eceded by a call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using each vertex to get a new pair of texture coordin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quivalent to prescribing a polyg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exture space that has the same number of vertices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the same shape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well; then the portion of the texture that lies insi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ted without distortion onto the whol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he same shape the mapping is clearly affine; it is a scaling, possibly accompanied by a rotation and a trans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shows a common case where the four corners of a texture rectangle are associated with the four corners of a face in the 3D scene. (The texture coordinat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ssociated with each corner are noted on the 3D fac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7391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example, the texture is a 640 by 480 pixel bitmap, and it is pasted onto a rectangle with aspect ratio 640/480, so it appears without distor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the texture coordinate valu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ill vary from 0 t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Using S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light x y z R G B ! Gets next unused light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background R G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obalAmbient R G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mbient R G B ! </a:t>
            </a:r>
            <a:r>
              <a:rPr b="0" lang="el-GR" sz="26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iffuse R G B ! </a:t>
            </a:r>
            <a:r>
              <a:rPr b="0" lang="el-GR" sz="26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pecular R G B ! </a:t>
            </a:r>
            <a:r>
              <a:rPr b="0" lang="el-GR" sz="26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values: R = G = B us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pecularExponent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emissive R G B ! 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o enable ligh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r particular light(s) in your main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ing a 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shows the use of texture coordinate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exture, making it rep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010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ing a Textur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s and t values that are larger than 1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 value of 2.67, for example, causes the renderer to use s = 0.6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er part is the current number of repeats of the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nd t values are sent down the graphics pipeline along with each vertex of the fa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ectangle is larger than the texture, OpenGL automatically tiles, although you may choose to clamp the texture (stretch it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exture Coordinates to Mesh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h objects have 3 lists: vertex, normal, face. Add a list of texture coord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ure coordinate list stores the coordinate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be associated with various vertices. We add an array of elements, each of which has th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ss TxtrCoord { public: float s, t;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old all of the coordinate pairs of interest for the me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exture Coordinates to Mesh Object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different ways to treat texture for an object. The two most important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he mesh object consists of a small number of flat faces, and a different texture is to be applied to each face. Here each face has only a single normal vector but its own list of texture coordinates. So the data associated with each face would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vertices in the 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ex of the normal vector to the 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indices of the vert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indices of the texture coordina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exture Coordinates to Mesh Object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he mesh represents a smooth underlying object, and a single texture is to be wrapped around it (or a portion of it). Here each vertex has associated with it a specific normal vector and a particular texture coordinate pair. A single index into the vertex, normal, and texture lists is used for each vertex. The data associated with each face would the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vertices in the f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st of indices of the vert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ght 3 4 5 .8 .8 .8 ! bright white light at (3, 4,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ckground 1 1 1 ! white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obalAmbient .2 .2 .2 ! a dark gray global ambien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bient .2 .6 0 !material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use .8 .2. 1 ! red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ular 1 1 1 ! bright specular spots – the color of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onent 20 !set the Phong ex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le 4 4 4 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Using SD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material properties are loaded into each object’s mtrl field at the time it is created (see the end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ene :: getObjec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ource exampl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ape.c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ppendix 3 and onlin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draws itself using i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rawOpenG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, it first passes its material properties to OpenGL (se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ape:: tellMaterialsG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so that at the moment it is actually drawn OpenGL has these properties in its curren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Calculating the Color for Each Screen Pix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me objects, we want to see the faces (e.g., the barn); for others, we want to see the underlying surface (e.g., the toru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face should appear as a separate surface (barn), we attach the same normal to all its ve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face approximates an underlying surface (torus), we attach the normal to the underlying surface at each vert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vectors determine the shading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shading emphasizes individual polygons (bar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(Gouraud or Phong) shading emphasizes the underlying surface (tor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oth kinds of shading, the vertices are passed down the graphics pipeline, shading calculations attach a color to each vertex, and ultimately the vertices are converted to screen coordinates and the face is painted pixel by pixel with the appropriate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7:19:33Z</dcterms:created>
  <dc:creator>Mathematical Sciences</dc:creator>
  <dc:description/>
  <dc:language>en-US</dc:language>
  <cp:lastModifiedBy>umessan</cp:lastModifiedBy>
  <dcterms:modified xsi:type="dcterms:W3CDTF">2006-07-31T00:45:02Z</dcterms:modified>
  <cp:revision>25</cp:revision>
  <dc:subject/>
  <dc:title>Computer Graphics Using   Open-GL  F. S. Hill, Jr</dc:title>
</cp:coreProperties>
</file>