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BF3-D5CC-4683-A1D8-7FE2E14B1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4CBC-99D8-456F-ABA2-247B264D4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3E55-A3C9-44BE-912A-D32AA141C15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5A38-F001-410A-AA4A-CCEEBB82288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A5D6-E160-4EAD-9B4B-4AC9024BF7A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EBA0-FB09-4CDB-AD82-DC6CF45AC1C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7EED-DB7F-426E-ACEB-34B0680326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0C4E-CD24-4D1F-8417-07F36376B1D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0B30-102A-46EC-A860-FE915D6E28B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5022-B316-47EA-8C04-9E388BFBA77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3379-99B7-4007-A3E2-5C660DB349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16CE-13D5-42B0-A9AA-C1F2F27BFAA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8A0B-6AD9-46AB-A7A6-69EC58F81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E39E-338F-4DFA-B277-8961EDA456F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7A4-D193-4690-B768-D9F670C5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416-A235-46A2-9F28-B640478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BDE-36E1-4D14-9802-9FE0C400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A95-38A3-41AD-94F7-9B20A45C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FC8-B210-42BE-A7CD-8D56D092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885-6A53-45C1-A6F0-8B0B3C3B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BB2-1156-4E92-A0CB-42BB3134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DF8-A295-4FAF-A23E-27C1D791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224-9282-413F-8E36-3207576F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2E6-AE28-404D-A3A7-FA859FF0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485-38E1-406A-9AE2-8E935A7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495-99CB-445C-A272-4E969B74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10E1-5CC3-47BE-848C-97C1118AC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gmu.edu/~jchen/graphics/setup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clipse.org/downloads/" TargetMode="External"/><Relationship Id="rId2" Type="http://schemas.openxmlformats.org/officeDocument/2006/relationships/hyperlink" Target="http://jogamp.org/wiki/index.php/Downloading_and_installing_JOGL#Downloading_the_latest_stable_version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gmu.edu/~jchen/graphics/jogl/notes/joglSetup.html" TargetMode="External"/><Relationship Id="rId2" Type="http://schemas.openxmlformats.org/officeDocument/2006/relationships/hyperlink" Target="http://www.cs.gmu.edu/~jchen/graphics/jogl/notes/jogl-1.1.0-macosx-ppc.zip" TargetMode="External"/><Relationship Id="rId3" Type="http://schemas.openxmlformats.org/officeDocument/2006/relationships/hyperlink" Target="http://www.cs.gmu.edu/~jchen/graphics/jogl/notes/jogl-1.1.0-macosx-universal.zip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jogamp.org/" TargetMode="External"/><Relationship Id="rId2" Type="http://schemas.openxmlformats.org/officeDocument/2006/relationships/hyperlink" Target="http://jogamp.org/wiki/index.php/Jogl_Tutoria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pplication_programming_interface" TargetMode="External"/><Relationship Id="rId2" Type="http://schemas.openxmlformats.org/officeDocument/2006/relationships/hyperlink" Target="http://en.wikipedia.org/wiki/OpenG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eterogeneous_computing" TargetMode="External"/><Relationship Id="rId2" Type="http://schemas.openxmlformats.org/officeDocument/2006/relationships/hyperlink" Target="http://en.wikipedia.org/wiki/Central_processing_unit" TargetMode="External"/><Relationship Id="rId3" Type="http://schemas.openxmlformats.org/officeDocument/2006/relationships/hyperlink" Target="http://en.wikipedia.org/wiki/Graphics_processing_unit" TargetMode="External"/><Relationship Id="rId4" Type="http://schemas.openxmlformats.org/officeDocument/2006/relationships/hyperlink" Target="http://en.wikipedia.org/wiki/Digital_signal_processor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52BA-00B1-4E68-AFFA-6E3D892A6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72"/>
          <p:cNvGrpSpPr/>
          <p:nvPr/>
        </p:nvGrpSpPr>
        <p:grpSpPr>
          <a:xfrm>
            <a:off x="2359800" y="3124080"/>
            <a:ext cx="4440240" cy="1261440"/>
            <a:chOff x="2359800" y="3124080"/>
            <a:chExt cx="4440240" cy="1261440"/>
          </a:xfrm>
        </p:grpSpPr>
        <p:sp>
          <p:nvSpPr>
            <p:cNvPr id="51" name="Rectangle 43"/>
            <p:cNvSpPr/>
            <p:nvPr/>
          </p:nvSpPr>
          <p:spPr>
            <a:xfrm>
              <a:off x="3091320" y="3124080"/>
              <a:ext cx="294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essor Jim X. C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4"/>
            <p:cNvSpPr/>
            <p:nvPr/>
          </p:nvSpPr>
          <p:spPr>
            <a:xfrm>
              <a:off x="2359800" y="3423600"/>
              <a:ext cx="44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partment of Computer Scie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5"/>
            <p:cNvSpPr/>
            <p:nvPr/>
          </p:nvSpPr>
          <p:spPr>
            <a:xfrm>
              <a:off x="2856240" y="3721680"/>
              <a:ext cx="333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orge Mason Univer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46"/>
            <p:cNvSpPr/>
            <p:nvPr/>
          </p:nvSpPr>
          <p:spPr>
            <a:xfrm>
              <a:off x="3341160" y="4019400"/>
              <a:ext cx="239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irfax, VA 220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WordArt 71"/>
          <p:cNvSpPr txBox="1"/>
          <p:nvPr/>
        </p:nvSpPr>
        <p:spPr>
          <a:xfrm>
            <a:off x="762120" y="1371600"/>
            <a:ext cx="7391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et up OpenGL Programming Environment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Jim X. Chen, Ph.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Director of Computer Graphics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George Ma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1828800" y="2133720"/>
            <a:ext cx="59054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mputer Graphic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4D9-E087-4190-93C2-964D08FEA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. Scott Gordon and John L. Clevenger, Computer Graphics Programming in OpenGL with Java, January 201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im. X Chen and Chunyang Chen,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  <a:ea typeface="SimSun"/>
              </a:rPr>
              <a:t>Foundations of 3D Graphics Programm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Springer Verlag, Second Edi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im. X Chen,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  <a:ea typeface="SimSun"/>
              </a:rPr>
              <a:t>Guide to 3D Graphics Too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Second Edition, Springer Verlag, companion in C with a survey of graphics too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ason Woo, Jackie Neider, and Tom Davi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SimSun"/>
              </a:rPr>
              <a:t>OpenGL Programming Gu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Addison Wesley. Programming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ames D. Foley, Andries van Dam, Steven K. Feiner and John F. Hughe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SimSun"/>
              </a:rPr>
              <a:t>Computer Graphics: Principles and Pract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Addison Wesley. Detailed theory in dep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onald Hearn and M. Pauline Baker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SimSun"/>
              </a:rPr>
              <a:t>Computer Graph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Printice-Hall. Easy to read textbook for undergraduates. Contains more than enoug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752480" y="1066680"/>
            <a:ext cx="5600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BE3C-2663-4DF2-B529-4BACD7CAC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Objectives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ntroduce basic graphics concep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bject, model, image, graphics library, frame buffer, scan-conversion, clipping, and anti-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et up OpenGL programm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Understand simple OpenGL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1676520" y="914400"/>
            <a:ext cx="56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bjects and Model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5937-825B-4EB3-833D-75448F21C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Computer Graph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1532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C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displays or animates real or imagin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o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from their computer-ba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ode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creating and modifying 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image proce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treats the inverse process: the analysis of images, pattern recognition, or the reconstruction of 2D or 3D objects from ima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98C-AFA9-4CC8-9D25-165B8B30E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143000" y="1981080"/>
            <a:ext cx="9907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666880" y="1981080"/>
            <a:ext cx="9907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781680" y="1981080"/>
            <a:ext cx="106704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5680" y="1981080"/>
            <a:ext cx="152424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y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22400" y="1600200"/>
            <a:ext cx="766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graphic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a drawing area comprised of an array of fine points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pix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(picture element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t the heart of a graphics system there is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magic 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ove at lightning speed to a specific pix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raw the pixel with a specific color — a red, green, and blue (RGB) vector val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mputer graphics is about using this pen automatically through programm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990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6C17-D776-4941-9921-5168F63A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real or imaginar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represented in a computer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and is displayed a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SimSu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an abstract description of the object’s shape (vertices) and attributes (color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which can be used to find all the points on the object corresponding to the pixels in the drawing are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a model, the application program will control the pen through a graphics library to generate the corresponding im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n 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  <a:ea typeface="SimSun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simply a 2D array of pixe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87240" y="7621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bject, Model, and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84C5-2754-40F0-BC83-3344A83E9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162920" y="762120"/>
            <a:ext cx="106668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8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8153280" y="57913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8507-80BB-4503-830D-6515A2C1B38A}" type="slidenum"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990720" y="2209680"/>
            <a:ext cx="69357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ser controls the creation, modification, and animation of the models through input devices (keyboard &amp; mo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3657600" y="3962520"/>
            <a:ext cx="152388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838080" y="11430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Inter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D416-4F60-4655-8DB7-EBD0878E1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SimSun"/>
              </a:rPr>
              <a:t>graphics 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rovides a set of graphics commands or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oun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or other programming languages on different platfor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specify primitive 2D and 3D geometric models to be digitized and display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SimSun"/>
              </a:rPr>
              <a:t>Primitive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r simply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prim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tand for some simple shapes (such as points, lines, and polygo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Open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a graphics library; 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  <a:ea typeface="SimSun"/>
              </a:rPr>
              <a:t>Direct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ncludes a graphics library 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  <a:ea typeface="SimSun"/>
              </a:rPr>
              <a:t>Direct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85800" y="762120"/>
            <a:ext cx="47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rimitive and Graphics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83E0-CE72-4EB8-B9F9-CBB777DC9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943600" y="533520"/>
            <a:ext cx="1523880" cy="82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itive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penGL is the most widely used graphics library (GL) or application programming interface (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SimSun"/>
              </a:rPr>
              <a:t>AP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mpile and run Examp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J1_0_Point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o change the font size in Eclipes: Window-&gt;Preferences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eneral-&gt;Colors and Fonts-&gt;Basic-&gt;Text Font, then sel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inks to all the example programs, and setting up working environments on different platfor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ff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Courier New"/>
                <a:ea typeface="SimSun"/>
              </a:rPr>
              <a:t>http://www.cs.gmu.edu/~jchen/graphic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838080"/>
            <a:ext cx="7162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33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Old OpenGL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8104-DE30-4407-9D93-78079C925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37268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Set up working environ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mpile and ru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JOGL1_0_Frame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SimSun"/>
              </a:rPr>
              <a:t>For effici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under Run-&gt;Run configurations, select applica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JOGL1_0_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Select Arguments folder 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under “VM arguments: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jogamp.gluegen.UseTempJarCache=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sun.java2d.d3d=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588960"/>
            <a:ext cx="7162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33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OpenGL 4.x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4F7E-FA09-4888-BE6F-D53DD6946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https://www.khronos.org/opengl/wiki_opengl/images/RenderingPipeline.png"/>
          <p:cNvPicPr/>
          <p:nvPr/>
        </p:nvPicPr>
        <p:blipFill>
          <a:blip r:embed="rId1"/>
          <a:stretch/>
        </p:blipFill>
        <p:spPr>
          <a:xfrm>
            <a:off x="6172200" y="1219320"/>
            <a:ext cx="21002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3BD6-FB0A-4373-8B88-E83DB8550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tting Up Working Environ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JOG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cs.gmu.edu/~jchen/graphics/setup.htm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sall JD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stall Java first; download JDK and install Java JDK (32 or 64 bits, consistent with IDE and JO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ing a Java 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clip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GRASP, Netbeans, or JBuil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ing JOG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1554120" y="4038480"/>
            <a:ext cx="7167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khronos.org/opengl/wiki/History_of_OpenGL#Deprecation_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GL has evolved over the years dramatically, but the graphics theory rem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learn the theory and use the new OpenGL platform to exercise for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7D35-AD99-485A-810C-91261589A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80880" y="1143000"/>
            <a:ext cx="8382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Set up your programmin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(due before next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Set up your programming environment, and run the first sample program that draws a point (or randomly generated point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If you failed, schedule a time to come to my office or bring your computer to the next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SimSun"/>
              </a:rPr>
              <a:t>You don’t have to let me know if you succeed in setting up your working environ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You have to let me know if you cannot get the sample programs to run within a week. Please come to my office during my office hours or make an appointment with me or my 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F483-C1B3-4E5C-B3AA-B80440858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: Eclipse simplified JOGL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Eclipse for Ja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eclipse.org/downloads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the new JOGL libraries that matches your platfor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jogamp.org/wiki/index.php/Downloading_and_installing_JOGL#Downloading_the_latest_stable_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the following two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ogamp-all-platforms.7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ogl-javadoc.7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simplified 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 Eclipse using a working directory other than the sample programs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project corresponding to the directory: cs551 (or whatever you want to ca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Unzip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gamp-all-platforms.7z and jogl-javadoc.7z into this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In Eclipse under “Project-&gt;Properties-&gt;</a:t>
            </a: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SimSu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SimSun"/>
              </a:rPr>
              <a:t>(Java Build Path) -&gt;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Libraries”, you can use “Add External JARs” to add “gluegen-rt.jar” and “jogl-all.jar” under cs552/jogamp-all-platforms/jar/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Click the triangle at the beginning of “gluegen-rt.jar” and “jogl-all.jar”; you have Native library location; add the directory of “cs552/jogamp-all-platforms/lib/windows-xxx/”, which allows access to the “*.dll” fil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Click the triangle at the beginning of “jogl-all.jar”; you have Javadoc location; add the directory of “cs552/jogamp-all-platforms/jogl/javadoc/”, which allows JOGL commands’ tool tips in Eclip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 a sample JOGL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default you may create a directory “src” under cs551, and put the first sample program from the new textbook he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eclipse you can click on the project cs551, and find src and under default pac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5890-613C-436C-83EA-EC8E55266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ample joglExamples20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cl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 the old examples and unzip them: joglExamples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 Eclipse using a working directory other than the sample programs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project corresponding to the directory: joglExamples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13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Under “Project-&gt;Properties-&gt;</a:t>
            </a:r>
            <a:r>
              <a:rPr b="0" lang="zh-CN" sz="1400" spc="-1" strike="noStrike">
                <a:solidFill>
                  <a:srgbClr val="0000ff"/>
                </a:solidFill>
                <a:latin typeface="Times New Roman"/>
                <a:ea typeface="SimSu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SimSun"/>
              </a:rPr>
              <a:t>(Java Build Path) -&gt;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Libraries”, you can use “Add External JARs” to add “gluegen-rt.jar.jar” and “jogl.jar” under “joglExamples2013/jogl-1.1.1-windows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Click the triangle at the beginning of “gluegen-rt.jar” and “jogl.jar”, you have Native Library Location, add the directory of your “*.jar” files, which allows access to the “*.dll” fil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the two dead "*.jar" file names if you see them. They are created when I compile my program under my specific directo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jGR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project under "Settings-&gt;PATH/CLASSPATH-&gt;Workspace", you can add the directory of the “*.dll” files to the system PATH window, and add "*.jar" files with full path to the CLASSPATH wind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15CA-55BB-4F2E-9ACB-E029B61E4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OS (Obselet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www.cs.gmu.edu/~jchen/graphics/jogl/notes/joglSetup.ht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 Eclips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Download Mac OS X: *.jar and *.jnili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which are packaged in the jar file: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SimSun"/>
                <a:hlinkClick r:id="rId2"/>
              </a:rPr>
              <a:t>jogl-1.1.1a-macosx-ppc.zi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jogl-1.1.1a-macosx-universal.z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pending on your platfor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opy all downloaded files into directory  /System/Library/Java/Extensions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Download the examples and unzip them: joglExamples20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Start Eclipse, create a project corresponding to the directory: joglExamples20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In eclipse, you can add "*.jar" (the two file names) under "Project-&gt;Properties-&gt;Libraries". Remove the two dead "*.jar" file names if you see them. They are created when I compile my program under my specific director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Try the examples. They should run from h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1A7D-89AB-41C3-A16A-A69524D1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://jogamp.org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GL’s new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jogamp.org/wiki/index.php/Jogl_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follow this page for the la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C78C-605A-4F7A-98EB-248B3D56C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i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rary) is a cross-platform audio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application programming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PI). It is designed for efficient rendering of multichannel three dimensional positional audio. Its API style and conventions deliberately resemble those of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OpenG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E1C3-1081-4318-BBB1-057D38BEB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Computing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C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framework for writing programs that execute across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tforms consisting of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central processing un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PUs),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graphics processing un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GPUs), digital signal processors (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DS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other processo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3"/>
          <p:cNvSpPr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@2017  by Jim X. Chen: jchen@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5448-A609-4550-93E5-8E25CB1A7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9T20:02:11Z</dcterms:created>
  <dc:creator>Prof. Jim X. Chen</dc:creator>
  <dc:description/>
  <dc:language>en-US</dc:language>
  <cp:lastModifiedBy>user</cp:lastModifiedBy>
  <dcterms:modified xsi:type="dcterms:W3CDTF">2017-09-06T20:21:21Z</dcterms:modified>
  <cp:revision>118</cp:revision>
  <dc:subject/>
  <dc:title>Setup OpenGL Programming Environment</dc:title>
</cp:coreProperties>
</file>