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2.jpeg" ContentType="image/jpeg"/>
  <Override PartName="/ppt/media/image30.png" ContentType="image/png"/>
  <Override PartName="/ppt/media/image49.png" ContentType="image/png"/>
  <Override PartName="/ppt/media/image25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74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31.png" ContentType="image/png"/>
  <Override PartName="/ppt/media/image68.png" ContentType="image/png"/>
  <Override PartName="/ppt/media/image29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24.png" ContentType="image/png"/>
  <Override PartName="/ppt/media/image79.png" ContentType="image/png"/>
  <Override PartName="/ppt/media/image67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19.png" ContentType="image/png"/>
  <Override PartName="/ppt/media/image62.jpeg" ContentType="image/jpeg"/>
  <Override PartName="/ppt/media/image73.png" ContentType="image/png"/>
  <Override PartName="/ppt/media/image69.png" ContentType="image/png"/>
  <Override PartName="/ppt/media/image70.png" ContentType="image/png"/>
  <Override PartName="/ppt/media/image72.jpeg" ContentType="image/jpeg"/>
  <Override PartName="/ppt/media/image2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8.png" ContentType="image/png"/>
  <Override PartName="/ppt/media/image38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39.jpeg" ContentType="image/jpeg"/>
  <Override PartName="/ppt/media/image5.png" ContentType="image/png"/>
  <Override PartName="/ppt/media/image82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9.png" ContentType="image/pn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BD1DF-3DA9-488D-AC51-BDA78A151C8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2F1D4-1842-423C-A3CB-41E69784E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BADB1-C1A6-42FE-97BC-A4DB30626FB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DF9E6-6ADF-4B66-A73A-C160EFC3C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38166-E10C-4C13-850E-E9736957304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4D2D7-1958-4B3B-9F68-6AD7F8ADC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7E386-559D-4861-AB18-C92E710EBAA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BB3A2-4306-44B9-8D53-857D078E2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8054D-092F-4E2E-B6D6-5B2CD4E0988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5A5A2-D34B-45B4-918E-CAAA52E73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DAF22-1008-44C4-86CD-3A5B3130C03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90E66-6F54-4E3E-869B-105F48944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084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732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36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8084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732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10920" y="113760"/>
            <a:ext cx="82818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084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7732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8084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27732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10920" y="113760"/>
            <a:ext cx="82818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630864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1042560" y="6381360"/>
            <a:ext cx="7272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5" name="Picture 11" descr="MK_logo2"/>
          <p:cNvPicPr/>
          <p:nvPr/>
        </p:nvPicPr>
        <p:blipFill>
          <a:blip r:embed="rId2"/>
          <a:stretch/>
        </p:blipFill>
        <p:spPr>
          <a:xfrm>
            <a:off x="179280" y="6381720"/>
            <a:ext cx="792360" cy="4604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4"/>
          <p:cNvSpPr/>
          <p:nvPr/>
        </p:nvSpPr>
        <p:spPr>
          <a:xfrm>
            <a:off x="8388360" y="6497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E04B-DF4B-4D96-8805-01856C5FF5F5}" type="slidenum">
              <a:rPr b="1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52360" y="44280"/>
            <a:ext cx="36720" cy="3816360"/>
          </a:xfrm>
          <a:prstGeom prst="rect">
            <a:avLst/>
          </a:prstGeom>
          <a:gradFill rotWithShape="0">
            <a:gsLst>
              <a:gs pos="0">
                <a:srgbClr val="767d7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34920" y="693720"/>
            <a:ext cx="856944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76500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17" descr="MK_logo2"/>
          <p:cNvPicPr/>
          <p:nvPr/>
        </p:nvPicPr>
        <p:blipFill>
          <a:blip r:embed="rId2"/>
          <a:stretch/>
        </p:blipFill>
        <p:spPr>
          <a:xfrm>
            <a:off x="108000" y="50760"/>
            <a:ext cx="122868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2197080" y="765000"/>
            <a:ext cx="46080" cy="5732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2558880" y="1195560"/>
            <a:ext cx="46080" cy="3816000"/>
          </a:xfrm>
          <a:prstGeom prst="rect">
            <a:avLst/>
          </a:prstGeom>
          <a:gradFill rotWithShape="0">
            <a:gsLst>
              <a:gs pos="0">
                <a:srgbClr val="767d7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2341440" y="1916280"/>
            <a:ext cx="6623280" cy="457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630864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41" descr="MK_logo2"/>
          <p:cNvPicPr/>
          <p:nvPr/>
        </p:nvPicPr>
        <p:blipFill>
          <a:blip r:embed="rId3"/>
          <a:stretch/>
        </p:blipFill>
        <p:spPr>
          <a:xfrm>
            <a:off x="179280" y="6381720"/>
            <a:ext cx="792360" cy="460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2"/>
          <p:cNvSpPr/>
          <p:nvPr/>
        </p:nvSpPr>
        <p:spPr>
          <a:xfrm>
            <a:off x="8388360" y="6497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1EC-09AE-471E-A775-958207643A52}" type="slidenum">
              <a:rPr b="1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11" descr="9780123742605.jpg"/>
          <p:cNvPicPr/>
          <p:nvPr/>
        </p:nvPicPr>
        <p:blipFill>
          <a:blip r:embed="rId4"/>
          <a:stretch/>
        </p:blipFill>
        <p:spPr>
          <a:xfrm>
            <a:off x="66600" y="1054080"/>
            <a:ext cx="2086200" cy="2517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1042560" y="6381360"/>
            <a:ext cx="7272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0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852640" y="1254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843280" y="206064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Shared Memory Programming with OpenM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214720" y="-71280"/>
            <a:ext cx="67863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troduction to Parallel Programm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ter Pachec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xt that modifies a directiv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num_threads clause can be added to a parallel directiv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t allows the programmer to specify the number of threads that should execute the following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486900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# pragma omp parallel num_threads ( thread_count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note…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re may be system-defined limitations on the number of threads that a program can start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OpenMP standard doesn’t guarantee that this will actually start thread_count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st current systems can start hundreds or even thousands of threads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less we’re trying to start a lot of threads, we will almost always get the desired number of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me termi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 parlance the collection of threads executing the parallel block — the original thread and the new threads — is called 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the original thread is called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the additional threads are called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2" descr="cartoons,cooperation,households,keys,people,persons,Screen Beans®,synergy,team efforts,teamwork"/>
          <p:cNvPicPr/>
          <p:nvPr/>
        </p:nvPicPr>
        <p:blipFill>
          <a:blip r:embed="rId1"/>
          <a:stretch/>
        </p:blipFill>
        <p:spPr>
          <a:xfrm>
            <a:off x="5364000" y="3645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 case the compiler doesn’t support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349280" y="191628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nclude &lt;omp.h&gt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276720" y="3284640"/>
            <a:ext cx="4572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fdef _OPENM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nclude &lt;omp.h&gt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57" name="Straight Arrow Connector 6"/>
          <p:cNvCxnSpPr/>
          <p:nvPr/>
        </p:nvCxnSpPr>
        <p:spPr>
          <a:xfrm>
            <a:off x="3131640" y="2492280"/>
            <a:ext cx="1008720" cy="65016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 case the compiler doesn’t support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4360" y="1844640"/>
            <a:ext cx="806436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fdef _OPENM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y_rank = omp_get_thread_num ( )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hread_count = omp_get_num_threads ( )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e l s 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y_rank = 0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hread_count = 1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end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academic,cartoons,children,classes,courses,education,females,geometric shapes,geometry,girls,kids,mathematics,people,persons,schools,students,trapezoids"/>
          <p:cNvPicPr/>
          <p:nvPr/>
        </p:nvPicPr>
        <p:blipFill>
          <a:blip r:embed="rId1"/>
          <a:stretch/>
        </p:blipFill>
        <p:spPr>
          <a:xfrm>
            <a:off x="3924360" y="2060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TRAPEZOIDAL RUL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trapezoidal rul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49360" y="1844640"/>
            <a:ext cx="8199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ial algorith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86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First OpenMP Ver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) We identified two types of task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) computation of the areas of individual trapezoids, an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) adding the areas of trapezoid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2) There is no communication among the tasks in the first collection, but each task in the first collection communicates with task 1b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First OpenMP Ver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3) We assumed that there would be many more trapezoids than cores. 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 we aggregated tasks by assigning a contiguous block of trapezoids to each thread (and a single thread to each core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oadma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riting programs that use OpenMP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OpenMP to parallelize many serial for loops with only small changes to the source cod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ask parallelism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plicit thread synchronizatio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andard problems in shared-memory programming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 rot="5400000">
            <a:off x="7956000" y="822240"/>
            <a:ext cx="2006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# Chapter Subtit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Assignment of trapezoids to threads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5390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259640" y="3141720"/>
            <a:ext cx="695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le results when two (or mor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 attempt to simultaneously execu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lobal_result += my_result 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94840" cy="2038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3440160" y="5084640"/>
            <a:ext cx="2592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utual exclu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187280" y="1628640"/>
            <a:ext cx="6175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pragma omp cri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_result += my_result ;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492360" y="3860640"/>
            <a:ext cx="457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nly one thread can execu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e following structured block at a tim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Freeform 6"/>
          <p:cNvSpPr/>
          <p:nvPr/>
        </p:nvSpPr>
        <p:spPr>
          <a:xfrm>
            <a:off x="5342040" y="1758960"/>
            <a:ext cx="2992320" cy="218916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4876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702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 OF VARIABL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Picture 2" descr="optical viewing devices,science,scopes,technology,telescopes,tripods"/>
          <p:cNvPicPr/>
          <p:nvPr/>
        </p:nvPicPr>
        <p:blipFill>
          <a:blip r:embed="rId1"/>
          <a:stretch/>
        </p:blipFill>
        <p:spPr>
          <a:xfrm>
            <a:off x="539640" y="1052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serial programming, the scope of a variable consists of those parts of a program in which the variable can be use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, the scope of a variable refers to the set of threads that can access the variable in a parallel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optical viewing devices,science,scopes,technology,telescopes,tripods"/>
          <p:cNvPicPr/>
          <p:nvPr/>
        </p:nvPicPr>
        <p:blipFill>
          <a:blip r:embed="rId1"/>
          <a:stretch/>
        </p:blipFill>
        <p:spPr>
          <a:xfrm>
            <a:off x="6480000" y="3645000"/>
            <a:ext cx="2664000" cy="2663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 in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variable that can be accessed by all the threads in the team ha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co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variable that can only be accessed by a single thread ha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rivat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co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default scope for variables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clared before a parallel block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REDUCTION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2" descr="businesses,computer keys,concepts,keyboard keys,Photographs,reduce,text"/>
          <p:cNvPicPr/>
          <p:nvPr/>
        </p:nvPicPr>
        <p:blipFill>
          <a:blip r:embed="rId1"/>
          <a:stretch/>
        </p:blipFill>
        <p:spPr>
          <a:xfrm>
            <a:off x="395280" y="1125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11280" y="112536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need this more complex version to add each thread’s local calculation to get 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global_result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905600" cy="369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5060880" cy="432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611280" y="3357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lthough we’d prefer thi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266920" y="5157720"/>
            <a:ext cx="4343400" cy="43200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10"/>
          <p:cNvCxnSpPr/>
          <p:nvPr/>
        </p:nvCxnSpPr>
        <p:spPr>
          <a:xfrm>
            <a:off x="3132000" y="4508640"/>
            <a:ext cx="64836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API for shared-memory parallel programm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P = multiprocess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signed for systems in which each thread or process can potentially have access to all available memor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stem is viewed as a collection of cores or CPU’s, all of which have access to main memor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999120" cy="433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826920" y="1125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f we use this, there’s no critical section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826920" y="2781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f we fix it like this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7189560" cy="1638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826920" y="5157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force the threads to execute sequentiall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826920" y="1125360"/>
            <a:ext cx="6840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can avoid this problem by declaring a private variable inside the parallel block and mov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he critical section after the function call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971640" y="2708280"/>
            <a:ext cx="7488000" cy="2665440"/>
            <a:chOff x="971640" y="2708280"/>
            <a:chExt cx="7488000" cy="2665440"/>
          </a:xfrm>
        </p:grpSpPr>
        <p:pic>
          <p:nvPicPr>
            <p:cNvPr id="221" name="Picture 2" descr=""/>
            <p:cNvPicPr/>
            <p:nvPr/>
          </p:nvPicPr>
          <p:blipFill>
            <a:blip r:embed="rId1"/>
            <a:stretch/>
          </p:blipFill>
          <p:spPr>
            <a:xfrm>
              <a:off x="971640" y="2708280"/>
              <a:ext cx="6388200" cy="13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" descr=""/>
            <p:cNvPicPr/>
            <p:nvPr/>
          </p:nvPicPr>
          <p:blipFill>
            <a:blip r:embed="rId2"/>
            <a:stretch/>
          </p:blipFill>
          <p:spPr>
            <a:xfrm>
              <a:off x="971640" y="3957480"/>
              <a:ext cx="7488000" cy="14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826920" y="811080"/>
            <a:ext cx="8317080" cy="5537160"/>
          </a:xfrm>
          <a:prstGeom prst="rect">
            <a:avLst/>
          </a:prstGeom>
          <a:ln w="0">
            <a:noFill/>
          </a:ln>
        </p:spPr>
      </p:pic>
      <p:sp>
        <p:nvSpPr>
          <p:cNvPr id="225" name="Rounded Rectangular Callout 4"/>
          <p:cNvSpPr/>
          <p:nvPr/>
        </p:nvSpPr>
        <p:spPr>
          <a:xfrm>
            <a:off x="3059280" y="3789360"/>
            <a:ext cx="1368360" cy="1022760"/>
          </a:xfrm>
          <a:prstGeom prst="wedgeRoundRectCallout">
            <a:avLst>
              <a:gd name="adj1" fmla="val 47050"/>
              <a:gd name="adj2" fmla="val 71777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like i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Rounded Rectangular Callout 5"/>
          <p:cNvSpPr/>
          <p:nvPr/>
        </p:nvSpPr>
        <p:spPr>
          <a:xfrm>
            <a:off x="4500720" y="2637000"/>
            <a:ext cx="1584000" cy="1022760"/>
          </a:xfrm>
          <a:prstGeom prst="wedgeRoundRectCallout">
            <a:avLst>
              <a:gd name="adj1" fmla="val 47087"/>
              <a:gd name="adj2" fmla="val 6470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do I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Rounded Rectangular Callout 6"/>
          <p:cNvSpPr/>
          <p:nvPr/>
        </p:nvSpPr>
        <p:spPr>
          <a:xfrm>
            <a:off x="6588000" y="1125360"/>
            <a:ext cx="2087640" cy="1483200"/>
          </a:xfrm>
          <a:prstGeom prst="wedgeRoundRectCallout">
            <a:avLst>
              <a:gd name="adj1" fmla="val 9412"/>
              <a:gd name="adj2" fmla="val 80597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we can do bett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duction operator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duction operator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a binary operation (such as addition or multiplication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duct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is a computation that repeatedly applies the same reduction operator to a sequence of operands in order to get a single result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l of the intermediate results of the operation should be stored in the same variable: the reduction variab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826920" y="1125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 reduction clause can be added to a parallel directiv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8532720" cy="144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986440" cy="503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4506840" y="3068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+, *, -, &amp;, |, ˆ, &amp;&amp;, ||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3357720" y="2655720"/>
            <a:ext cx="982440" cy="8496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“PARALLEL FOR” DIRECTIV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Picture 2" descr="cartoons,competitions,gymnastics,handstands,leisure,parallel bars,people,recreation,sports"/>
          <p:cNvPicPr/>
          <p:nvPr/>
        </p:nvPicPr>
        <p:blipFill>
          <a:blip r:embed="rId1"/>
          <a:stretch/>
        </p:blipFill>
        <p:spPr>
          <a:xfrm>
            <a:off x="1042920" y="981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arallel for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ks a team of threads to execute the following structured block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ever, the structured block following the parallel for directive must be a for loop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rthermore, with the parallel for directive the system parallelizes the for loop by dividing the iterations of the loop among the thread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371760" cy="1400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1979640" y="3716280"/>
            <a:ext cx="6399360" cy="1790640"/>
          </a:xfrm>
          <a:prstGeom prst="rect">
            <a:avLst/>
          </a:prstGeom>
          <a:ln w="0">
            <a:noFill/>
          </a:ln>
        </p:spPr>
      </p:pic>
      <p:cxnSp>
        <p:nvCxnSpPr>
          <p:cNvPr id="246" name="Straight Arrow Connector 5"/>
          <p:cNvCxnSpPr/>
          <p:nvPr/>
        </p:nvCxnSpPr>
        <p:spPr>
          <a:xfrm>
            <a:off x="2727720" y="2741760"/>
            <a:ext cx="691560" cy="8323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47" name="Trapezoid 7"/>
          <p:cNvSpPr/>
          <p:nvPr/>
        </p:nvSpPr>
        <p:spPr>
          <a:xfrm>
            <a:off x="5292720" y="2421000"/>
            <a:ext cx="1079640" cy="7920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egal forms for parallelizable for statemen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variable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integer or pointer type (e.g., it can’t be a float)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expressions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en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a compatible type. For example, if index is a pointer, then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integer ty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shared memory syste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56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expressions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en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not change during execution of the loop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uring execution of the loop, the variable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can only be modified by the “increment expression” in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tatement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Data dependenc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59" name="Straight Arrow Connector 6"/>
          <p:cNvCxnSpPr/>
          <p:nvPr/>
        </p:nvCxnSpPr>
        <p:spPr>
          <a:xfrm flipH="1">
            <a:off x="3850560" y="2133720"/>
            <a:ext cx="1080" cy="721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0" name="Rectangle 8"/>
          <p:cNvSpPr/>
          <p:nvPr/>
        </p:nvSpPr>
        <p:spPr>
          <a:xfrm>
            <a:off x="684360" y="508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 2 3 5 8 13 21 34 5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4512240" y="55897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 2 3 5 8 0 0 0 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62" name="Straight Arrow Connector 10"/>
          <p:cNvCxnSpPr/>
          <p:nvPr/>
        </p:nvCxnSpPr>
        <p:spPr>
          <a:xfrm flipH="1">
            <a:off x="2699640" y="4365720"/>
            <a:ext cx="1080" cy="721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63" name="Straight Arrow Connector 11"/>
          <p:cNvCxnSpPr/>
          <p:nvPr/>
        </p:nvCxnSpPr>
        <p:spPr>
          <a:xfrm flipH="1">
            <a:off x="5723640" y="4365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4" name="TextBox 14"/>
          <p:cNvSpPr/>
          <p:nvPr/>
        </p:nvSpPr>
        <p:spPr>
          <a:xfrm>
            <a:off x="1768680" y="551664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is is correc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TextBox 15"/>
          <p:cNvSpPr/>
          <p:nvPr/>
        </p:nvSpPr>
        <p:spPr>
          <a:xfrm>
            <a:off x="6026760" y="4581360"/>
            <a:ext cx="18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but sometimes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e get thi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1736280" y="981000"/>
            <a:ext cx="4867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0 ]  =  fibo[ 1 ]  =  1;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(i  =  2;  i  &lt;  n;  i++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i ]  =  fibo[ i – 1 ] + fibo[ i – 2 ];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1154520" y="2781360"/>
            <a:ext cx="6037920" cy="15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0 ]  =  fibo[ 1 ]  =  1;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# 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pragma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omp  parallel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num_threads(2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(i  =  2;  i  &lt;  n;  i++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i ]  =  fibo[ i – 1 ] + fibo[ i – 2 ];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68" name="Straight Arrow Connector 16"/>
          <p:cNvCxnSpPr/>
          <p:nvPr/>
        </p:nvCxnSpPr>
        <p:spPr>
          <a:xfrm flipH="1">
            <a:off x="6658920" y="2492280"/>
            <a:ext cx="577080" cy="6501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9" name="TextBox 18"/>
          <p:cNvSpPr/>
          <p:nvPr/>
        </p:nvSpPr>
        <p:spPr>
          <a:xfrm>
            <a:off x="6885720" y="2060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note 2 thread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hat happened?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779640" y="1125360"/>
            <a:ext cx="517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enMP compilers don’t check for dependences among iterations in a loop that’s being parallelized with a parallel for directiv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loop in which the results of one or more iterations depend on other iterations cannot, in general, be correctly parallelized by OpenMP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3" name="Picture 2" descr="bewilderment,businesses,businessmen,confused,confusion,emotions,men,metaphors,persons,vanishing,vanishing into thin air,wonders"/>
          <p:cNvPicPr/>
          <p:nvPr/>
        </p:nvPicPr>
        <p:blipFill>
          <a:blip r:embed="rId1"/>
          <a:stretch/>
        </p:blipFill>
        <p:spPr>
          <a:xfrm>
            <a:off x="468360" y="2349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NimbusRomNo9L-Medi"/>
              </a:rPr>
              <a:t>Estimating </a:t>
            </a:r>
            <a:r>
              <a:rPr b="1" lang="el-GR" sz="4000" spc="-1" strike="noStrike">
                <a:solidFill>
                  <a:srgbClr val="0066ff"/>
                </a:solidFill>
                <a:latin typeface="Arial"/>
                <a:ea typeface="Arial"/>
              </a:rPr>
              <a:t>π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114960" cy="130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124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solution #1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76200" y="1990800"/>
            <a:ext cx="8389800" cy="287640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4"/>
          <p:cNvSpPr/>
          <p:nvPr/>
        </p:nvSpPr>
        <p:spPr>
          <a:xfrm>
            <a:off x="160200" y="1514520"/>
            <a:ext cx="4221360" cy="300204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4219560" y="148428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op dependenc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85200" cy="3067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solution #2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5946840" y="292428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nsures factor has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ivate scop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Freeform 7"/>
          <p:cNvSpPr/>
          <p:nvPr/>
        </p:nvSpPr>
        <p:spPr>
          <a:xfrm>
            <a:off x="5102280" y="2249640"/>
            <a:ext cx="1492200" cy="68256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efault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s the programmer specify the scope of each variable in a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ith this clause the compiler will require that we specify the scope of each variable we use in the block and that has been declared outside the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272448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efault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440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ORE ABOUT LOOPS IN OPENMP: SORT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7" name="Picture 2" descr="coils,connections,curling,electronics,loops,networks,reflections,Veer Images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Bubble Sor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37200" cy="2190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backgrounds,bubbles,clear,colorful,fizz,floating,Fotolia,transparent,wallpapers,waters"/>
          <p:cNvPicPr/>
          <p:nvPr/>
        </p:nvPicPr>
        <p:blipFill>
          <a:blip r:embed="rId2"/>
          <a:stretch/>
        </p:blipFill>
        <p:spPr>
          <a:xfrm>
            <a:off x="5292720" y="2708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ragma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1125360"/>
            <a:ext cx="8270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pecial preprocessor instruc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ically added to a system to allow behaviors that aren’t part of the basic C specifica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ilers that don’t support the pragmas ignore them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717360" y="443700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pragm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Serial Odd-Even Transposition Sor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134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Serial Odd-Even Transposition Sor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543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First OpenMP Odd-Even Sort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014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0920" y="232920"/>
            <a:ext cx="82818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econd OpenMP Odd-Even Sort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427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7086600" y="3500280"/>
            <a:ext cx="2057400" cy="2810160"/>
          </a:xfrm>
          <a:prstGeom prst="rect">
            <a:avLst/>
          </a:prstGeom>
          <a:ln w="0">
            <a:noFill/>
          </a:ln>
        </p:spPr>
      </p:pic>
      <p:sp>
        <p:nvSpPr>
          <p:cNvPr id="315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780480" y="1125360"/>
            <a:ext cx="7808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-even sort with two parallel for directives and two for directiv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imes are in seconds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70088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ables,coils,connections,curling,electronics,loops,networks,reflections,Veer Images"/>
          <p:cNvPicPr/>
          <p:nvPr/>
        </p:nvPicPr>
        <p:blipFill>
          <a:blip r:embed="rId1"/>
          <a:stretch/>
        </p:blipFill>
        <p:spPr>
          <a:xfrm>
            <a:off x="826920" y="9795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HEDULING LOOP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3724200" cy="11242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1051920" y="1125360"/>
            <a:ext cx="267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e want to paralleliz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is loop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5076720" cy="18856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5"/>
          <p:cNvSpPr/>
          <p:nvPr/>
        </p:nvSpPr>
        <p:spPr>
          <a:xfrm>
            <a:off x="3862800" y="4869000"/>
            <a:ext cx="287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ssignment of work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using cyclic partitioning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047000" cy="27813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3221640" y="40053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Our definition of function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(i) calls the sin function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im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ume the time to execute f(2i) requires approximately twice as much time as the time to execute f(i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threa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un-time = 3.67 second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11280" y="98100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hrea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fault assignment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un-time = 2.76 secon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peedup = 1.3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hrea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yclic assignment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un-time = 1.84 secon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peedup = 1.9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5" name="Picture 4" descr="awards,cartoons,persons,prizes,Screen Beans®,special occasions,trophies,winners,winnings"/>
          <p:cNvPicPr/>
          <p:nvPr/>
        </p:nvPicPr>
        <p:blipFill>
          <a:blip r:embed="rId1"/>
          <a:stretch/>
        </p:blipFill>
        <p:spPr>
          <a:xfrm>
            <a:off x="622764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694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chedule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fault schedule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yclic schedul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332920" cy="1571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8313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hedule ( type , chunksize 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e can b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iterations can be assigned to the threads before the loop is execute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uided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iterations are assigned to the threads while the loop is executing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u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compiler and/or the run-time system determine the schedul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untim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schedule is determined at run-tim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chunksize is a positive integer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48280" cy="447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2933640" y="2614680"/>
            <a:ext cx="3276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57640" cy="428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2914560" y="2590920"/>
            <a:ext cx="3314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29200" cy="352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2881440" y="2657520"/>
            <a:ext cx="3381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8216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ynam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052640"/>
            <a:ext cx="827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iterations are also broken up into chunks of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consecutive iterations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thread executes a chunk, and when a thread finishes a chunk, it requests another one from the run-time system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continues until all the iterations are completed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can be omitted. When it is omitted, a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1 is use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Guided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ach thread also executes a chunk, and when a thread finishes a chunk, it requests another one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wever, in a guided schedule, as chunks are completed the size of the new chunks decrease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is specified, the size of the chunks decreases down to 1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is specified, it decreases down t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with the exception that the very last chunk can be smaller than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539640" y="522936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ssignment of trapezoidal rule iterations 1–9999 using a guided schedule with two thread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87520" y="876240"/>
            <a:ext cx="58212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Runtime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system uses the environment variabl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MP_SCHEDULE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determine at run-time how to schedule the loop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MP_SCHEDUL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environment variable can take on any of the values that can be used for a static, dynamic, or guided schedu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RODUCERS AND CONSUMER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3" name="Picture 2" descr="business,people,retail shops,shoppers,shopping,carts,supermarkets,commercial,supermarkets"/>
          <p:cNvPicPr/>
          <p:nvPr/>
        </p:nvPicPr>
        <p:blipFill>
          <a:blip r:embed="rId1"/>
          <a:stretch/>
        </p:blipFill>
        <p:spPr>
          <a:xfrm>
            <a:off x="900000" y="1268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9640" y="1052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  −g  −Wall  −fopenmp  −o  omp_hello  omp_hello . 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3160" y="177336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/  omp_hello  4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6383160" y="22050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574720" y="26370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unning with 4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Freeform 7"/>
          <p:cNvSpPr/>
          <p:nvPr/>
        </p:nvSpPr>
        <p:spPr>
          <a:xfrm rot="1780200">
            <a:off x="1834920" y="2344680"/>
            <a:ext cx="726840" cy="584280"/>
          </a:xfrm>
          <a:prstGeom prst="pie">
            <a:avLst/>
          </a:prstGeom>
          <a:noFill/>
          <a:ln w="936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24000" y="3716280"/>
            <a:ext cx="30956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59280" y="4797360"/>
            <a:ext cx="2862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940360" y="3860640"/>
            <a:ext cx="2646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713040" y="37162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possible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32" name="Straight Arrow Connector 13"/>
          <p:cNvCxnSpPr>
            <a:stCxn id="131" idx="1"/>
          </p:cNvCxnSpPr>
          <p:nvPr/>
        </p:nvCxnSpPr>
        <p:spPr>
          <a:xfrm flipH="1">
            <a:off x="3131280" y="4069440"/>
            <a:ext cx="577080" cy="2228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33" name="Straight Arrow Connector 14"/>
          <p:cNvCxnSpPr/>
          <p:nvPr/>
        </p:nvCxnSpPr>
        <p:spPr>
          <a:xfrm>
            <a:off x="5002560" y="4004280"/>
            <a:ext cx="577080" cy="2228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34" name="Straight Arrow Connector 16"/>
          <p:cNvCxnSpPr>
            <a:stCxn id="131" idx="2"/>
          </p:cNvCxnSpPr>
          <p:nvPr/>
        </p:nvCxnSpPr>
        <p:spPr>
          <a:xfrm>
            <a:off x="4354920" y="4424400"/>
            <a:ext cx="1080" cy="37368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sp>
        <p:nvSpPr>
          <p:cNvPr id="135" name="Freeform 18"/>
          <p:cNvSpPr/>
          <p:nvPr/>
        </p:nvSpPr>
        <p:spPr>
          <a:xfrm rot="1780200">
            <a:off x="5749920" y="1842840"/>
            <a:ext cx="727200" cy="583920"/>
          </a:xfrm>
          <a:prstGeom prst="pie">
            <a:avLst/>
          </a:prstGeom>
          <a:noFill/>
          <a:ln w="936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Queu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n be viewed as an abstraction of a line of customers waiting to pay for their groceries in a supermarket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natural data structure to use in many multithreaded applications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example, suppose we have several “producer” threads and several “consumer”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ducer threads might “produce” requests for data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sumer threads might “consume” the request by finding or generating the requested data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ssage-Pa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ach thread could have a shared message queue, and when one thread wants to “send a message” to another thread, it could enqueue the message in the destination thread’s queu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thread could receive a message by dequeuing the message at the head of its message queu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ssage-Pa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27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nding Messag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181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ceiving Messag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8277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rmination Detec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23320" cy="17622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3492360" y="364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ach thread increments this after completing its for loo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4091040" y="2308320"/>
            <a:ext cx="1182600" cy="12762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tartup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the program begins execution, a single thread, the master thread, will get command line arguments and allocate an array of message queues: one for each thread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array needs to be shared among the threads, since any thread can send to any other thread, and hence any thread can enqueue a message in any of the queu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tartup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or more threads may finish allocating their queues before some other thread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e need an explicit barrier so that when a thread encounters the barrier, it blocks until all the threads in the team have reached the barrier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fter all the threads have reached the barrier all the threads in the team can procee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3851280" y="5373720"/>
            <a:ext cx="4048200" cy="676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Atomic Directive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like the critical directive, it can only protect critical sections that consist of a single C assignment statement.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rther, the statement must have one of the following form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3953160" cy="533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3743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Atomic Directive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re &lt;op&gt; can be one of the binary operator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processors provide a special load-modify-store instruction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critical section that only does a load-modify-store can be protected much more efficiently by using this special instruction rather than the constructs that are used to protect more general critical section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9338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pragma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360"/>
            <a:ext cx="6953040" cy="29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# pragma omp parallel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ost basic parallel directiv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number of threads that run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ollowing structured block of code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 determined by the run-time system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ritical Section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4360" y="1052280"/>
            <a:ext cx="8270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vides the option of adding a name to a critical directiv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we do this, two blocks protected with critical directives with different names can be executed simultaneousl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ever, the names are set during compilation, and we want a different critical section for each thread’s queu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46768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oc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lock consists of a data structure and functions that allow the programmer to explicitly enforce mutual exclusion in a critical sec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7" name="Picture 2" descr="combination locks,households,locks,padlocks,securities"/>
          <p:cNvPicPr/>
          <p:nvPr/>
        </p:nvPicPr>
        <p:blipFill>
          <a:blip r:embed="rId1"/>
          <a:stretch/>
        </p:blipFill>
        <p:spPr>
          <a:xfrm>
            <a:off x="0" y="3068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oc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198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Using Locks in the Message-Passing Progra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6220080" cy="1485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5705640" cy="1771920"/>
          </a:xfrm>
          <a:prstGeom prst="rect">
            <a:avLst/>
          </a:prstGeom>
          <a:ln w="0">
            <a:noFill/>
          </a:ln>
        </p:spPr>
      </p:pic>
      <p:sp>
        <p:nvSpPr>
          <p:cNvPr id="425" name="Straight Connector 6"/>
          <p:cNvSpPr/>
          <p:nvPr/>
        </p:nvSpPr>
        <p:spPr>
          <a:xfrm flipH="1">
            <a:off x="539280" y="1627920"/>
            <a:ext cx="5545080" cy="1513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Using Locks in the Message-Passing Progra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2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751440" cy="1400040"/>
          </a:xfrm>
          <a:prstGeom prst="rect">
            <a:avLst/>
          </a:prstGeom>
          <a:ln w="0">
            <a:noFill/>
          </a:ln>
        </p:spPr>
      </p:pic>
      <p:sp>
        <p:nvSpPr>
          <p:cNvPr id="429" name="Straight Connector 4"/>
          <p:cNvSpPr/>
          <p:nvPr/>
        </p:nvSpPr>
        <p:spPr>
          <a:xfrm flipH="1">
            <a:off x="539280" y="1627920"/>
            <a:ext cx="5545080" cy="1513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6238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me 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shouldn’t mix the different types of mutual exclusion for a single critical sec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e is no guarantee of fairness in mutual exclusion construct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t can be dangerous to “nest” mutual exclusion construct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atrix-vector multiplica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13640" cy="237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3800520" cy="390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3981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atrix-vector multiplica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85240" cy="22287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6637320" cy="21909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5454000" y="2637000"/>
            <a:ext cx="319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Run-times and efficiencies 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of matrix-vector multiplication 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(times are in second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37280" cy="60087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5760360" y="26028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Thread-Safe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is a standard for programming shared-memory system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uses both special functions and preprocessor directives called pragma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grams start multiple threads rather than multiple process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y OpenMP directives can be modified by claus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process forking and joining two thread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038240" y="2295360"/>
            <a:ext cx="706608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major problem in the development of shared memory programs is the possibility of race condi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vides several mechanisms for insuring mutual exclusion in critical sec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ritical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amed critical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tomic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mple loc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3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y default most systems use a block-partitioning of the iterations in a parallelized for loop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offers a variety of scheduling op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 the scope of a variable is the collection of threads to which the variable is accessib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4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reduction is a computation that repeatedly applies the same reduction operator to a sequence of operands in order to get a single result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22:34:41Z</dcterms:created>
  <dc:creator>Kathy J. Liszka</dc:creator>
  <dc:description/>
  <dc:language>en-US</dc:language>
  <cp:lastModifiedBy>Elsevier</cp:lastModifiedBy>
  <dcterms:modified xsi:type="dcterms:W3CDTF">2011-02-08T09:24:00Z</dcterms:modified>
  <cp:revision>203</cp:revision>
  <dc:subject/>
  <dc:title>Slide 1</dc:title>
</cp:coreProperties>
</file>